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990-0B6F-4F01-BEA0-5AEC0B86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BAD-9EA5-429F-93A9-43DC4FB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F41-C215-4448-8DAA-CD3EEC2C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DA9-6FFE-4FAA-9ED8-6222DBF2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91E-58C9-40AC-B721-5D92945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548-B08C-493A-BE32-B5C8FE63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CF1-83C8-47DF-86D8-FAD9B12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8D1-A6E4-42E4-B05A-42F70CE3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3DA-9343-453D-A7AD-19714BF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E04-9142-4884-8D5E-F22BA87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161-073A-4BE1-84B6-08344D8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D3F-F509-436E-B055-C02D124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4443-CECE-4893-B7D6-476CF387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405880" y="176184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现在手机非常普及，你有手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的手机是如何收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家里有几台手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知道各个手机的收费标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173240" y="1109520"/>
            <a:ext cx="7003800" cy="25513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8d58PICYaW_1024"/>
          <p:cNvPicPr/>
          <p:nvPr/>
        </p:nvPicPr>
        <p:blipFill>
          <a:blip r:embed="rId1"/>
          <a:stretch/>
        </p:blipFill>
        <p:spPr>
          <a:xfrm>
            <a:off x="1150920" y="3825720"/>
            <a:ext cx="2058840" cy="288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4725151_082605865460_2"/>
          <p:cNvPicPr/>
          <p:nvPr/>
        </p:nvPicPr>
        <p:blipFill>
          <a:blip r:embed="rId2"/>
          <a:stretch/>
        </p:blipFill>
        <p:spPr>
          <a:xfrm>
            <a:off x="4849920" y="3922560"/>
            <a:ext cx="3071880" cy="270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2991343288197"/>
          <p:cNvPicPr/>
          <p:nvPr/>
        </p:nvPicPr>
        <p:blipFill>
          <a:blip r:embed="rId3"/>
          <a:stretch/>
        </p:blipFill>
        <p:spPr>
          <a:xfrm>
            <a:off x="2684520" y="4278240"/>
            <a:ext cx="2589120" cy="21225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4808520" y="6410160"/>
            <a:ext cx="3222720" cy="216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838080" y="838080"/>
            <a:ext cx="639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实际问题与一元一次方程（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28880" y="2457360"/>
            <a:ext cx="7081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经常不断地学习，你就什么都知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知道得越多，你就越有力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——— 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5" descr=""/>
          <p:cNvPicPr/>
          <p:nvPr/>
        </p:nvPicPr>
        <p:blipFill>
          <a:blip r:embed="rId1"/>
          <a:stretch/>
        </p:blipFill>
        <p:spPr>
          <a:xfrm>
            <a:off x="2919240" y="5983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1266840" y="1125360"/>
            <a:ext cx="7058160" cy="124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285920" y="2890800"/>
            <a:ext cx="7128000" cy="302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8"/>
          <p:cNvSpPr/>
          <p:nvPr/>
        </p:nvSpPr>
        <p:spPr>
          <a:xfrm>
            <a:off x="1501920" y="447516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057400" y="152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探究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下表中有两种移动电话计费方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685800"/>
          <a:ext cx="8001000" cy="3263760"/>
        </p:xfrm>
        <a:graphic>
          <a:graphicData uri="http://schemas.openxmlformats.org/drawingml/2006/table">
            <a:tbl>
              <a:tblPr/>
              <a:tblGrid>
                <a:gridCol w="1602000"/>
                <a:gridCol w="1598400"/>
                <a:gridCol w="1600200"/>
                <a:gridCol w="1600200"/>
                <a:gridCol w="1600200"/>
              </a:tblGrid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月使用费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主叫限定时间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主叫超时费（元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/min</a:t>
                      </a: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被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式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免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式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免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</a:tr>
            </a:tbl>
          </a:graphicData>
        </a:graphic>
      </p:graphicFrame>
      <p:sp>
        <p:nvSpPr>
          <p:cNvPr id="53" name="WordArt 33"/>
          <p:cNvSpPr txBox="1"/>
          <p:nvPr/>
        </p:nvSpPr>
        <p:spPr>
          <a:xfrm>
            <a:off x="76320" y="7632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研读课文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0" y="461448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一个月内用移动电话主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正整数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上表，列表说明：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不同时间范围内取值时，按方式一和方式二如何计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由上表可知，计费与主叫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相关，计费时首先要看主叫是否限定时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因此，考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取值时，两个主叫限定时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0min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0min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是不同时间范围的划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334120" y="51814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omic Sans MS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7"/>
          <p:cNvSpPr/>
          <p:nvPr/>
        </p:nvSpPr>
        <p:spPr>
          <a:xfrm>
            <a:off x="1677960" y="1042920"/>
            <a:ext cx="6985080" cy="273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755720" y="4051440"/>
            <a:ext cx="7058160" cy="25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971720" y="520236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80880" y="990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1)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观察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中的表，可以发现：主叫时间超出限定时间越长，计费越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随着主叫时间的变化，可以选择省钱的计费方式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80880" y="28954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你的列表，你能从中发现如何根据主叫时间选择省钱的计费方式吗？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研读课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7"/>
          <p:cNvSpPr/>
          <p:nvPr/>
        </p:nvSpPr>
        <p:spPr>
          <a:xfrm>
            <a:off x="1835280" y="844560"/>
            <a:ext cx="6984720" cy="107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906480" y="502920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2057400" y="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不同时间范围内取值时，方式一和方式二的计费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996840"/>
          <a:ext cx="9144000" cy="5632560"/>
        </p:xfrm>
        <a:graphic>
          <a:graphicData uri="http://schemas.openxmlformats.org/drawingml/2006/table">
            <a:tbl>
              <a:tblPr/>
              <a:tblGrid>
                <a:gridCol w="2552760"/>
                <a:gridCol w="3790800"/>
                <a:gridCol w="2800440"/>
              </a:tblGrid>
              <a:tr h="69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主叫时间</a:t>
                      </a:r>
                      <a:r>
                        <a:rPr b="1" lang="en-US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t/mi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方式一计费</a:t>
                      </a:r>
                      <a:r>
                        <a:rPr b="1" lang="en-US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元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方式二计费</a:t>
                      </a:r>
                      <a:r>
                        <a:rPr b="1" lang="en-US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元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=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且小于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=3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</a:tbl>
          </a:graphicData>
        </a:graphic>
      </p:graphicFrame>
      <p:sp>
        <p:nvSpPr>
          <p:cNvPr id="67" name="Text Box 35"/>
          <p:cNvSpPr/>
          <p:nvPr/>
        </p:nvSpPr>
        <p:spPr>
          <a:xfrm>
            <a:off x="2666880" y="510552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8+0.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-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3200400" y="579132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+0.25(t-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6400800" y="6095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8+0.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-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8"/>
          <p:cNvSpPr txBox="1"/>
          <p:nvPr/>
        </p:nvSpPr>
        <p:spPr>
          <a:xfrm>
            <a:off x="152280" y="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研读课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2819520" y="6248520"/>
            <a:ext cx="24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8+0.25(t-3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048120" y="3886200"/>
            <a:ext cx="24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+0.25(t-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7"/>
          <p:cNvSpPr/>
          <p:nvPr/>
        </p:nvSpPr>
        <p:spPr>
          <a:xfrm>
            <a:off x="1373040" y="911160"/>
            <a:ext cx="7058160" cy="93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1373040" y="2062080"/>
            <a:ext cx="7056720" cy="180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1373040" y="3935520"/>
            <a:ext cx="7058160" cy="25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1517760" y="50864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09480" y="53352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小于或等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时，按方式一的计费少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609480" y="94464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增加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时，按方式一的计费由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增加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，而方式二的计费一直是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609480" y="18288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试想：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并且小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时，可能在某主叫时间按方式一和方式二的计费相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列方程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解得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因此，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270min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时，两种方式的计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219320" y="1295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609480" y="25146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58+0.25(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-150)=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1676520" y="2971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=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48520" y="3200400"/>
            <a:ext cx="10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omic Sans MS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304920" y="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研读课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04920" y="3657600"/>
            <a:ext cx="75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min&lt;t&lt;270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费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min&lt;t&lt;350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费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3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费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费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综合上述分析，可以发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选择方式一省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选择方式二省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952880" y="36576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微软雅黑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952880" y="41148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微软雅黑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429000" y="44956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微软雅黑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86200" y="49528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微软雅黑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62120" y="572940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&lt;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62120" y="6172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＞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1062000" y="941400"/>
            <a:ext cx="7810560" cy="376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050840" y="4778280"/>
            <a:ext cx="7964640" cy="181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57200" y="1523880"/>
            <a:ext cx="76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归纳：在现实生活中，我们经常遇到一些问题，如通话方式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为了达到最佳的经济效益，我们要用数学的眼光透视世界，用数学的思想思考问题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研读课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>
            <a:off x="1204920" y="1027080"/>
            <a:ext cx="7308720" cy="56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1492200" y="520236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0" y="7621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、下表是某校七至九年级某月课外兴趣小组活动时间统计表，其中各年级同一兴趣小组每次活动时间相同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1676520"/>
          <a:ext cx="6807240" cy="3236760"/>
        </p:xfrm>
        <a:graphic>
          <a:graphicData uri="http://schemas.openxmlformats.org/drawingml/2006/table">
            <a:tbl>
              <a:tblPr/>
              <a:tblGrid>
                <a:gridCol w="1987560"/>
                <a:gridCol w="1606680"/>
                <a:gridCol w="1606320"/>
                <a:gridCol w="1606680"/>
              </a:tblGrid>
              <a:tr h="140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课外小组活动总时间</a:t>
                      </a:r>
                      <a:r>
                        <a:rPr b="1" lang="en-US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/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文艺小组活动次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科技小组活动次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七年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年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bf7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九年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4ef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11"/>
          <p:cNvSpPr/>
          <p:nvPr/>
        </p:nvSpPr>
        <p:spPr>
          <a:xfrm>
            <a:off x="380880" y="5029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931a"/>
                </a:solidFill>
                <a:latin typeface="Comic Sans MS"/>
              </a:rPr>
              <a:t>观察表格，你能看出来文艺小组和科技小组每次活动的时间是多少吗？如何计算九年级课外兴趣小组活动次数？将结果填入上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105520" y="43434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62940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5"/>
          <p:cNvSpPr txBox="1"/>
          <p:nvPr/>
        </p:nvSpPr>
        <p:spPr>
          <a:xfrm>
            <a:off x="228600" y="7632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练一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1165320" y="876240"/>
            <a:ext cx="7980120" cy="586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1979640" y="53006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380880" y="8380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、用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4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纸在某誊印社复印文件，复印页数不超过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时，每页收费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0.12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元；复印页数超过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时，超过部分每页收费降为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0.09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元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在某图书馆复印同样的文件，不论复印多少页，每页收费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0.1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元，复印张数为多少时，两处的收费相同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380880" y="30481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解：设复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的时候两处的收费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990720" y="3733920"/>
            <a:ext cx="62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.12+0.09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—2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）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  0.1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133720" y="44956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解得：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304920" y="5105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答：复印张数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时，两处的收费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练一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71640" y="1503360"/>
            <a:ext cx="7777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回顾电话计费问题的探究过程，并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话计费问题的核心问题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探究解题的过程大致包含哪几个步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我们在探究过程中用到了哪些方法，你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些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/>
  <dc:description/>
  <dc:language>en-US</dc:language>
  <cp:lastModifiedBy/>
  <dcterms:modified xsi:type="dcterms:W3CDTF">2016-11-17T02:15:1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