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8.jpeg" ContentType="image/jpeg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14B-CAB6-4BE1-9D18-A9F3C51A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99E-64AE-4527-B3ED-CA451D6D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D40E8-8A43-461F-AF72-62380D6F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D2D54-5C1A-4E9E-8546-BC1A9C76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B4C89-4075-4D2B-9272-74595569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F55D3-0F9B-47FC-B505-AD70953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09A6E-87FC-4FA2-A69E-D86748A7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2BEE9-AC6F-4871-A9D5-51D9C23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E51C0-B657-43E6-99CB-CE8E2D61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4A770-CFBF-46E2-B90A-59F5E513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BC6F3-D1E9-444C-BBC2-62BC684E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EC3CA-3940-483A-88DB-455ED16A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750-16E9-49E6-AD28-5169CFC9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CF331-7FA2-4A70-B458-F6497F2E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DFD06-5F77-4B45-BEC5-9E052256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1E505-4E29-4378-B2CE-EF8A82C7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833B7-4579-4817-862B-CC57870D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12D73-EC2B-401C-B93C-2A5CA511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85F7B-1AE8-41F7-B6EE-A595470D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D51FC-8943-4578-9F54-FE2DEA35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BF7DD-BA43-4D75-9A9A-C4139D1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99F8F-0E8E-49BB-A018-4036A248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B3791-AF63-4629-B75D-61A5D212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7DD-B777-40F7-9EB0-6533FA5E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1B159-DCCB-470F-84CE-E2E28F57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CA4F1-C177-4504-AB34-6CBD0BBA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968CD-99C6-46DE-964D-9C662196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E1EFA-9838-468C-BE50-456DA89F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FCDFB-5577-4A72-9AF7-AB58DC97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83D25-00C5-447A-81DB-37EA475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79FD0-87EE-4789-B40E-CE0A3612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08C0B-3BD8-45C6-B5A9-70A5573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8D206-F134-420F-AD62-BB1790B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82C1D-8F0C-44C2-B635-F45181A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B7CF-2DEA-4103-B4AB-EB5C85FC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6D418-716A-466D-8F82-2C7451AF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A4C4C-FD99-4933-8791-D67D9EE8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AFEFF-EF40-42CC-9CA5-46BD9007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BB67-EFDC-4FEF-BF5E-22AAA7DC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A9E3-DFA4-4F65-B328-27432B1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F27E-1BD9-4FBE-BFC8-ADC238A3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E6B9-1C11-4898-BAAB-8C92480D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A45-225B-499F-A4EA-80ACE549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BA1E-E546-4EC0-A2DA-D290F994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D06-6BB7-4C3C-AD56-606B893B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CBFB-D140-410B-8DFC-23EAE48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82C5-5272-4F7C-BD35-F74E73B3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93CC-8FB6-4020-A536-22E9F8D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24B5-5C18-4967-A65D-9FA45749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2808-8D28-44D6-B4DD-11FAB30B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BBB1-3D3E-4227-8E32-501501FA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E272-4904-4F61-89A3-9BD453A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6CF9-051B-4C3D-A85C-AC4D011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49FD-345E-4813-B77C-31CE0FB8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76DE-D2CE-49B3-AC6B-CBEF571F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188-BA61-4C72-87AF-C3CB516C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C64E3-1228-4D13-A677-E0F32EB1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294B-A905-4D75-9EF0-C9FE1B1D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5DC4-497A-49A7-8910-BC5FC298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1C18-1B39-4500-9EFE-10B7C5B4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0B72-B58E-4993-932B-87B6E22A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CF8A-2FE1-44C2-A159-B16FD66A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CE8A-7FE5-4E0A-A277-0C35D37E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D4F6-E379-4C8A-B8D3-912EC6F0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A094-C943-4383-856D-E7A40662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0A37-AA69-489F-9059-6F852BCD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AA5-71EE-41B4-85D0-CCEAE0DE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6FF7-D338-4B11-83A1-17478884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BEE72-7CC4-4258-8E86-0A40DB91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F933-5F16-4B9B-B1B5-84928171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90691-1896-48C3-AE90-2078C46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19C1-9FD0-4D6C-8788-EA89A942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C6DE-05E4-4DB3-B992-82CB05E0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0E5E7-2313-4A25-B0DE-9BAEDA9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A9CE7-B101-492E-BC36-BFAB1444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A0BFC-DD8D-4C97-AADD-0D882356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80F0-59F6-4D85-A959-0799CE5A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579-2174-46B0-BA70-0C692F2E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12915-73BD-4298-A301-A1EA0A5B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2830-E834-406A-A210-CF2844F7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6127D-8734-446B-B8A8-B02477DE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BAF26-0334-4E49-A221-DA416CDD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9C404-CFBF-4C73-AE93-EBD916F7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405F-9DE8-4E42-8167-EB1A2B6E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D4F2-D191-4B33-9272-F8994508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3CEC5-1B44-4175-A8C6-AF59729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4CF3-1D74-495C-8EA5-3D551116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36A16-A7BD-4B50-B3AA-CF425578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E98-54E3-4B93-9DB0-5C8B7784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87E6C-70B8-4538-A902-F11983D4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8A91D-9C59-4BA2-B7CA-1D1DBEA0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3CA73-0AC1-4825-A0AB-DBB54552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C6678-D7A2-4857-986C-0FE8D7C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3BC22-ED1B-44AA-9814-1CA401F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16EEE-1157-4512-A1DC-FCB35885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29861-17AE-4277-A806-53CCF102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3A635-E871-4AD2-B312-CB8C4FF2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4F894-825D-488F-A6B0-61424CC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2FD1B-EC59-4EE1-8783-14771759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92E-F560-4C36-A334-E3930811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B19B0-F6AE-4DC2-B7B0-A21ACEB0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C81B0-FC5B-48FB-B546-E7A03F03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811D8-736A-4B16-9810-ACD6F87E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309C0-5321-4D74-851F-3866C3D4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CC037-B082-4D88-A431-2DFF9EBB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C7E63-42FD-40D9-9881-82CD950F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83FD-D720-486B-973A-747F2F6D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2EBA7-6162-4EB3-BD23-CB88387A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59440-2BB9-4FC0-A387-0DA28F72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6DDC1-E182-43E2-B20C-8C6CDDC6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6B6-C2AE-4A47-8215-A4C8C1D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CB146-FE16-44F8-BB01-B3A47F6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0DA68-C312-435D-8B01-2BB44BF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36302-0CEE-4010-A435-84D6BFAC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80519-EAF0-456E-82E1-A60AAFFD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A53DE-3F7F-4C6A-BF45-95E0A1C4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BF229-EE45-4179-8CBC-2690DD97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F490E-7EF0-43C7-8C0E-FBDFD75E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514C7-B732-4B71-B259-6EDB4D19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9A584-48EC-477E-91A0-2B8FAA40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A23DC-0DA2-4943-BCEE-0EEBA71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3D5-0AFD-4795-BDE9-88B9830C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6397A-D7A1-466A-9428-2AB2807B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ACD1F-BFC1-4564-B32F-3B0F457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2549B-2C66-4881-8B3E-5F3BB235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968FB-0338-465D-9EE6-EAD8A8DF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7BC53-A393-4A8F-8C7B-671ECC8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F0D0D-E8D2-42B7-AB4B-FE3FCE50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8C73F-90B8-49E9-8363-E71C91B8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ED4EB-F68B-4A86-96DF-978565BD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9AE13-D205-4668-AE47-2EF66797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DD987-D876-430F-A781-B23D4064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42A9-6D3F-46B1-AE97-2CB62421C30F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413A-4D1D-42D8-8387-9A2B2FE2A602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DAD1-0BCF-4BB7-BAC7-D4F97C942520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A69E-53BC-40E5-BDC7-93604C7718F8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F08F-ACE5-4B31-AC99-13D6C43C92FA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08A5-E179-49F0-8EFD-5B221A66A87C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E16A-66B0-40D1-816E-92B484977409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A74E-FA28-4FB9-B1D4-8EB8C3A0B752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99A2-281E-44E3-87E6-443A8917A580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883A-438F-42B7-89D1-6D6CE68B9465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61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AEC5-24A2-4FDC-B4F8-24E86EF9C6A0}" type="slidenum">
              <a:rPr b="0" lang="en-US" sz="1200" spc="-1" strike="noStrike">
                <a:solidFill>
                  <a:srgbClr val="0c61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5" descr="E:\李燃\教师教学用书\人民教育电子音像出版社 社标字.png"/>
          <p:cNvPicPr/>
          <p:nvPr/>
        </p:nvPicPr>
        <p:blipFill>
          <a:blip r:embed="rId2"/>
          <a:stretch/>
        </p:blipFill>
        <p:spPr>
          <a:xfrm>
            <a:off x="6750000" y="6253200"/>
            <a:ext cx="2173320" cy="477720"/>
          </a:xfrm>
          <a:prstGeom prst="rect">
            <a:avLst/>
          </a:prstGeom>
          <a:ln w="0">
            <a:noFill/>
          </a:ln>
        </p:spPr>
      </p:pic>
      <p:sp>
        <p:nvSpPr>
          <p:cNvPr id="458" name="矩形 14343"/>
          <p:cNvSpPr/>
          <p:nvPr/>
        </p:nvSpPr>
        <p:spPr>
          <a:xfrm>
            <a:off x="0" y="1125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.3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角（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课时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.3.2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角的比较与运算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14344"/>
          <p:cNvSpPr/>
          <p:nvPr/>
        </p:nvSpPr>
        <p:spPr>
          <a:xfrm>
            <a:off x="108000" y="2952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义务教育教科书  数学  七年级  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4"/>
          <p:cNvSpPr/>
          <p:nvPr/>
        </p:nvSpPr>
        <p:spPr>
          <a:xfrm>
            <a:off x="1150920" y="830160"/>
            <a:ext cx="8278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如果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落在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O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的外部，那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E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大于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O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记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E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＞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5"/>
          <p:cNvGrpSpPr/>
          <p:nvPr/>
        </p:nvGrpSpPr>
        <p:grpSpPr>
          <a:xfrm>
            <a:off x="5069520" y="2878200"/>
            <a:ext cx="3008520" cy="2423880"/>
            <a:chOff x="5069520" y="2878200"/>
            <a:chExt cx="3008520" cy="2423880"/>
          </a:xfrm>
        </p:grpSpPr>
        <p:sp>
          <p:nvSpPr>
            <p:cNvPr id="544" name="Line 6"/>
            <p:cNvSpPr/>
            <p:nvPr/>
          </p:nvSpPr>
          <p:spPr>
            <a:xfrm flipH="1">
              <a:off x="5211360" y="3341520"/>
              <a:ext cx="1728360" cy="1439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7"/>
            <p:cNvSpPr/>
            <p:nvPr/>
          </p:nvSpPr>
          <p:spPr>
            <a:xfrm>
              <a:off x="5211720" y="4781520"/>
              <a:ext cx="2808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8"/>
            <p:cNvSpPr/>
            <p:nvPr/>
          </p:nvSpPr>
          <p:spPr>
            <a:xfrm>
              <a:off x="5069520" y="4709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9"/>
            <p:cNvSpPr/>
            <p:nvPr/>
          </p:nvSpPr>
          <p:spPr>
            <a:xfrm>
              <a:off x="7661160" y="4781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0"/>
            <p:cNvSpPr/>
            <p:nvPr/>
          </p:nvSpPr>
          <p:spPr>
            <a:xfrm>
              <a:off x="6561720" y="2878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8"/>
          <p:cNvGrpSpPr/>
          <p:nvPr/>
        </p:nvGrpSpPr>
        <p:grpSpPr>
          <a:xfrm>
            <a:off x="901800" y="2190600"/>
            <a:ext cx="3461760" cy="3095280"/>
            <a:chOff x="901800" y="2190600"/>
            <a:chExt cx="3461760" cy="3095280"/>
          </a:xfrm>
        </p:grpSpPr>
        <p:grpSp>
          <p:nvGrpSpPr>
            <p:cNvPr id="550" name="Group 17"/>
            <p:cNvGrpSpPr/>
            <p:nvPr/>
          </p:nvGrpSpPr>
          <p:grpSpPr>
            <a:xfrm>
              <a:off x="901800" y="2349360"/>
              <a:ext cx="3461760" cy="2936520"/>
              <a:chOff x="901800" y="2349360"/>
              <a:chExt cx="3461760" cy="2936520"/>
            </a:xfrm>
          </p:grpSpPr>
          <p:sp>
            <p:nvSpPr>
              <p:cNvPr id="551" name="Line 12"/>
              <p:cNvSpPr/>
              <p:nvPr/>
            </p:nvSpPr>
            <p:spPr>
              <a:xfrm>
                <a:off x="992160" y="4797360"/>
                <a:ext cx="324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13"/>
              <p:cNvSpPr/>
              <p:nvPr/>
            </p:nvSpPr>
            <p:spPr>
              <a:xfrm flipV="1">
                <a:off x="992160" y="2349360"/>
                <a:ext cx="792000" cy="244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14"/>
              <p:cNvSpPr/>
              <p:nvPr/>
            </p:nvSpPr>
            <p:spPr>
              <a:xfrm>
                <a:off x="901800" y="47653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Text Box 15"/>
              <p:cNvSpPr/>
              <p:nvPr/>
            </p:nvSpPr>
            <p:spPr>
              <a:xfrm>
                <a:off x="3946680" y="47242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Text Box 16"/>
            <p:cNvSpPr/>
            <p:nvPr/>
          </p:nvSpPr>
          <p:spPr>
            <a:xfrm>
              <a:off x="1333800" y="2190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波形 16"/>
          <p:cNvSpPr/>
          <p:nvPr/>
        </p:nvSpPr>
        <p:spPr>
          <a:xfrm>
            <a:off x="785880" y="2857680"/>
            <a:ext cx="3571920" cy="1857240"/>
          </a:xfrm>
          <a:custGeom>
            <a:avLst/>
            <a:gdLst>
              <a:gd name="textAreaLeft" fmla="*/ 0 w 3571920"/>
              <a:gd name="textAreaRight" fmla="*/ 3572280 w 35719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030a0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你能总结出两个角的大小关系有几种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371 L 0.46302 -0.00232 E">
                                      <p:cBhvr>
                                        <p:cTn id="139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179280" y="163008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图中共有几个角？它们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图片 3" descr=""/>
          <p:cNvPicPr/>
          <p:nvPr/>
        </p:nvPicPr>
        <p:blipFill>
          <a:blip r:embed="rId2"/>
          <a:stretch/>
        </p:blipFill>
        <p:spPr>
          <a:xfrm>
            <a:off x="179280" y="2638440"/>
            <a:ext cx="3062520" cy="238428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3"/>
          <p:cNvSpPr/>
          <p:nvPr/>
        </p:nvSpPr>
        <p:spPr>
          <a:xfrm>
            <a:off x="262080" y="195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3492360" y="26384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：有三个角，关系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3274920" y="5219640"/>
            <a:ext cx="56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 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与 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差，记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2"/>
          <p:cNvSpPr/>
          <p:nvPr/>
        </p:nvSpPr>
        <p:spPr>
          <a:xfrm>
            <a:off x="3203640" y="321300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与 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和，记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3"/>
          <p:cNvSpPr/>
          <p:nvPr/>
        </p:nvSpPr>
        <p:spPr>
          <a:xfrm>
            <a:off x="3276720" y="422100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 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与 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差，记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500040" y="532800"/>
            <a:ext cx="60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宋体"/>
              </a:rPr>
              <a:t>观察思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"/>
          <p:cNvSpPr/>
          <p:nvPr/>
        </p:nvSpPr>
        <p:spPr>
          <a:xfrm>
            <a:off x="500040" y="190836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利用一副三角板，你能画出哪些度数的角？这些角有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6"/>
          <p:cNvSpPr/>
          <p:nvPr/>
        </p:nvSpPr>
        <p:spPr>
          <a:xfrm>
            <a:off x="1446120" y="535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宋体"/>
              </a:rPr>
              <a:t>观察思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70" name="图片 25606" descr=""/>
          <p:cNvPicPr/>
          <p:nvPr/>
        </p:nvPicPr>
        <p:blipFill>
          <a:blip r:embed="rId3"/>
          <a:stretch/>
        </p:blipFill>
        <p:spPr>
          <a:xfrm>
            <a:off x="1763640" y="3068640"/>
            <a:ext cx="5545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对象 26637" descr=""/>
          <p:cNvPicPr/>
          <p:nvPr/>
        </p:nvPicPr>
        <p:blipFill>
          <a:blip r:embed="rId2"/>
          <a:stretch/>
        </p:blipFill>
        <p:spPr>
          <a:xfrm>
            <a:off x="5141880" y="2924280"/>
            <a:ext cx="366840" cy="9856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"/>
          <p:cNvSpPr/>
          <p:nvPr/>
        </p:nvSpPr>
        <p:spPr>
          <a:xfrm>
            <a:off x="826920" y="1468440"/>
            <a:ext cx="1000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如图，如果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＝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OC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   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   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＝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O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＝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2"/>
          <p:cNvSpPr/>
          <p:nvPr/>
        </p:nvSpPr>
        <p:spPr>
          <a:xfrm flipV="1" rot="10800000">
            <a:off x="5435280" y="3141720"/>
            <a:ext cx="17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1"/>
          <p:cNvSpPr/>
          <p:nvPr/>
        </p:nvSpPr>
        <p:spPr>
          <a:xfrm>
            <a:off x="5627160" y="2286000"/>
            <a:ext cx="12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140" descr=""/>
          <p:cNvPicPr/>
          <p:nvPr/>
        </p:nvPicPr>
        <p:blipFill>
          <a:blip r:embed="rId3"/>
          <a:stretch/>
        </p:blipFill>
        <p:spPr>
          <a:xfrm>
            <a:off x="857160" y="4292640"/>
            <a:ext cx="2857680" cy="2514600"/>
          </a:xfrm>
          <a:prstGeom prst="rect">
            <a:avLst/>
          </a:prstGeom>
          <a:ln w="0">
            <a:noFill/>
          </a:ln>
        </p:spPr>
      </p:pic>
      <p:sp>
        <p:nvSpPr>
          <p:cNvPr id="576" name="TextBox 7"/>
          <p:cNvSpPr/>
          <p:nvPr/>
        </p:nvSpPr>
        <p:spPr>
          <a:xfrm>
            <a:off x="785880" y="40147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我们把射线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叫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角平分线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云形标注 8"/>
          <p:cNvSpPr/>
          <p:nvPr/>
        </p:nvSpPr>
        <p:spPr>
          <a:xfrm>
            <a:off x="2374920" y="-55440"/>
            <a:ext cx="6357960" cy="1935000"/>
          </a:xfrm>
          <a:prstGeom prst="cloudCallout">
            <a:avLst>
              <a:gd name="adj1" fmla="val -40439"/>
              <a:gd name="adj2" fmla="val 163023"/>
            </a:avLst>
          </a:prstGeom>
          <a:gradFill rotWithShape="0">
            <a:gsLst>
              <a:gs pos="0">
                <a:srgbClr val="c8ffe8"/>
              </a:gs>
              <a:gs pos="100000">
                <a:srgbClr val="33ffbd"/>
              </a:gs>
            </a:gsLst>
            <a:lin ang="5400000"/>
          </a:gradFill>
          <a:ln w="10080">
            <a:solidFill>
              <a:srgbClr val="10cf9b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3114720" y="633960"/>
            <a:ext cx="542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00ff"/>
                </a:solidFill>
                <a:latin typeface="华文楷体"/>
                <a:ea typeface="华文楷体"/>
              </a:rPr>
              <a:t>类比线段中点的定义，你能给角平分线下定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3529080" y="4965480"/>
            <a:ext cx="55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从一个角的顶点出发，把这个角分成相等的两个角的射线，叫这个角的平分线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996840" y="4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宋体"/>
              </a:rPr>
              <a:t>观察思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6" descr="tb.png"/>
          <p:cNvPicPr/>
          <p:nvPr/>
        </p:nvPicPr>
        <p:blipFill>
          <a:blip r:embed="rId4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2677320" y="1800360"/>
            <a:ext cx="4037760" cy="3263040"/>
            <a:chOff x="2677320" y="1800360"/>
            <a:chExt cx="4037760" cy="3263040"/>
          </a:xfrm>
        </p:grpSpPr>
        <p:grpSp>
          <p:nvGrpSpPr>
            <p:cNvPr id="583" name="Group 3"/>
            <p:cNvGrpSpPr/>
            <p:nvPr/>
          </p:nvGrpSpPr>
          <p:grpSpPr>
            <a:xfrm>
              <a:off x="2677320" y="1800360"/>
              <a:ext cx="4037760" cy="3175560"/>
              <a:chOff x="2677320" y="1800360"/>
              <a:chExt cx="4037760" cy="3175560"/>
            </a:xfrm>
          </p:grpSpPr>
          <p:grpSp>
            <p:nvGrpSpPr>
              <p:cNvPr id="584" name="Group 4"/>
              <p:cNvGrpSpPr/>
              <p:nvPr/>
            </p:nvGrpSpPr>
            <p:grpSpPr>
              <a:xfrm>
                <a:off x="2702520" y="3688200"/>
                <a:ext cx="4012560" cy="1247040"/>
                <a:chOff x="2702520" y="3688200"/>
                <a:chExt cx="4012560" cy="1247040"/>
              </a:xfrm>
            </p:grpSpPr>
            <p:sp>
              <p:nvSpPr>
                <p:cNvPr id="585" name="Line 5"/>
                <p:cNvSpPr/>
                <p:nvPr/>
              </p:nvSpPr>
              <p:spPr>
                <a:xfrm>
                  <a:off x="2702520" y="4935240"/>
                  <a:ext cx="401256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"/>
                <p:cNvSpPr/>
                <p:nvPr/>
              </p:nvSpPr>
              <p:spPr>
                <a:xfrm flipV="1">
                  <a:off x="2702520" y="3688200"/>
                  <a:ext cx="3420720" cy="1246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7"/>
              <p:cNvGrpSpPr/>
              <p:nvPr/>
            </p:nvGrpSpPr>
            <p:grpSpPr>
              <a:xfrm>
                <a:off x="2684880" y="2591280"/>
                <a:ext cx="3761640" cy="2359800"/>
                <a:chOff x="2684880" y="2591280"/>
                <a:chExt cx="3761640" cy="2359800"/>
              </a:xfrm>
            </p:grpSpPr>
            <p:sp>
              <p:nvSpPr>
                <p:cNvPr id="588" name="Line 8"/>
                <p:cNvSpPr/>
                <p:nvPr/>
              </p:nvSpPr>
              <p:spPr>
                <a:xfrm flipV="1">
                  <a:off x="2684880" y="3554280"/>
                  <a:ext cx="3761640" cy="139680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"/>
                <p:cNvSpPr/>
                <p:nvPr/>
              </p:nvSpPr>
              <p:spPr>
                <a:xfrm flipV="1">
                  <a:off x="2684880" y="2591280"/>
                  <a:ext cx="2772720" cy="2359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Group 10"/>
              <p:cNvGrpSpPr/>
              <p:nvPr/>
            </p:nvGrpSpPr>
            <p:grpSpPr>
              <a:xfrm>
                <a:off x="2677320" y="1800360"/>
                <a:ext cx="3042720" cy="3175560"/>
                <a:chOff x="2677320" y="1800360"/>
                <a:chExt cx="3042720" cy="3175560"/>
              </a:xfrm>
            </p:grpSpPr>
            <p:sp>
              <p:nvSpPr>
                <p:cNvPr id="591" name="Line 11"/>
                <p:cNvSpPr/>
                <p:nvPr/>
              </p:nvSpPr>
              <p:spPr>
                <a:xfrm flipV="1">
                  <a:off x="2677320" y="2360520"/>
                  <a:ext cx="3042720" cy="261540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"/>
                <p:cNvSpPr/>
                <p:nvPr/>
              </p:nvSpPr>
              <p:spPr>
                <a:xfrm flipV="1">
                  <a:off x="2677320" y="1800360"/>
                  <a:ext cx="1781280" cy="31755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3" name="Arc 13"/>
            <p:cNvSpPr/>
            <p:nvPr/>
          </p:nvSpPr>
          <p:spPr>
            <a:xfrm>
              <a:off x="3425760" y="3621960"/>
              <a:ext cx="394560" cy="524880"/>
            </a:xfrm>
            <a:custGeom>
              <a:avLst/>
              <a:gdLst/>
              <a:ahLst/>
              <a:rect l="l" t="t" r="r" b="b"/>
              <a:pathLst>
                <a:path fill="none" w="20166" h="21600">
                  <a:moveTo>
                    <a:pt x="-1" y="0"/>
                  </a:moveTo>
                  <a:cubicBezTo>
                    <a:pt x="8943" y="0"/>
                    <a:pt x="16962" y="5511"/>
                    <a:pt x="20166" y="13861"/>
                  </a:cubicBezTo>
                </a:path>
                <a:path stroke="0" w="20166" h="21600">
                  <a:moveTo>
                    <a:pt x="-1" y="0"/>
                  </a:moveTo>
                  <a:cubicBezTo>
                    <a:pt x="8943" y="0"/>
                    <a:pt x="16962" y="5511"/>
                    <a:pt x="20166" y="1386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rc 14"/>
            <p:cNvSpPr/>
            <p:nvPr/>
          </p:nvSpPr>
          <p:spPr>
            <a:xfrm rot="855600">
              <a:off x="3821400" y="4015440"/>
              <a:ext cx="394200" cy="524880"/>
            </a:xfrm>
            <a:custGeom>
              <a:avLst/>
              <a:gdLst/>
              <a:ahLst/>
              <a:rect l="l" t="t" r="r" b="b"/>
              <a:pathLst>
                <a:path fill="none" w="20166" h="21600">
                  <a:moveTo>
                    <a:pt x="-1" y="0"/>
                  </a:moveTo>
                  <a:cubicBezTo>
                    <a:pt x="8943" y="0"/>
                    <a:pt x="16962" y="5511"/>
                    <a:pt x="20166" y="13861"/>
                  </a:cubicBezTo>
                </a:path>
                <a:path stroke="0" w="20166" h="21600">
                  <a:moveTo>
                    <a:pt x="-1" y="0"/>
                  </a:moveTo>
                  <a:cubicBezTo>
                    <a:pt x="8943" y="0"/>
                    <a:pt x="16962" y="5511"/>
                    <a:pt x="20166" y="1386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rc 15"/>
            <p:cNvSpPr/>
            <p:nvPr/>
          </p:nvSpPr>
          <p:spPr>
            <a:xfrm rot="1729800">
              <a:off x="4083840" y="4475520"/>
              <a:ext cx="394560" cy="524880"/>
            </a:xfrm>
            <a:custGeom>
              <a:avLst/>
              <a:gdLst/>
              <a:ahLst/>
              <a:rect l="l" t="t" r="r" b="b"/>
              <a:pathLst>
                <a:path fill="none" w="20166" h="21600">
                  <a:moveTo>
                    <a:pt x="-1" y="0"/>
                  </a:moveTo>
                  <a:cubicBezTo>
                    <a:pt x="8943" y="0"/>
                    <a:pt x="16962" y="5511"/>
                    <a:pt x="20166" y="13861"/>
                  </a:cubicBezTo>
                </a:path>
                <a:path stroke="0" w="20166" h="21600">
                  <a:moveTo>
                    <a:pt x="-1" y="0"/>
                  </a:moveTo>
                  <a:cubicBezTo>
                    <a:pt x="8943" y="0"/>
                    <a:pt x="16962" y="5511"/>
                    <a:pt x="20166" y="1386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6"/>
            <p:cNvSpPr/>
            <p:nvPr/>
          </p:nvSpPr>
          <p:spPr>
            <a:xfrm>
              <a:off x="3557880" y="3096720"/>
              <a:ext cx="59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7"/>
            <p:cNvSpPr/>
            <p:nvPr/>
          </p:nvSpPr>
          <p:spPr>
            <a:xfrm>
              <a:off x="4092120" y="3556800"/>
              <a:ext cx="517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8"/>
            <p:cNvSpPr/>
            <p:nvPr/>
          </p:nvSpPr>
          <p:spPr>
            <a:xfrm>
              <a:off x="4552560" y="4147200"/>
              <a:ext cx="517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19"/>
          <p:cNvSpPr/>
          <p:nvPr/>
        </p:nvSpPr>
        <p:spPr>
          <a:xfrm>
            <a:off x="3040200" y="7142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楷体"/>
                <a:ea typeface="华文楷体"/>
              </a:rPr>
              <a:t>角的三等分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组合 16"/>
          <p:cNvGrpSpPr/>
          <p:nvPr/>
        </p:nvGrpSpPr>
        <p:grpSpPr>
          <a:xfrm>
            <a:off x="2569680" y="1791360"/>
            <a:ext cx="3717000" cy="3458520"/>
            <a:chOff x="2569680" y="1791360"/>
            <a:chExt cx="3717000" cy="3458520"/>
          </a:xfrm>
        </p:grpSpPr>
        <p:sp>
          <p:nvSpPr>
            <p:cNvPr id="602" name="Line 20"/>
            <p:cNvSpPr/>
            <p:nvPr/>
          </p:nvSpPr>
          <p:spPr>
            <a:xfrm flipV="1">
              <a:off x="2569680" y="1791360"/>
              <a:ext cx="580320" cy="331848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组合 15"/>
            <p:cNvGrpSpPr/>
            <p:nvPr/>
          </p:nvGrpSpPr>
          <p:grpSpPr>
            <a:xfrm>
              <a:off x="2569680" y="1888920"/>
              <a:ext cx="3717000" cy="3360960"/>
              <a:chOff x="2569680" y="1888920"/>
              <a:chExt cx="3717000" cy="3360960"/>
            </a:xfrm>
          </p:grpSpPr>
          <p:sp>
            <p:nvSpPr>
              <p:cNvPr id="604" name="Line 19"/>
              <p:cNvSpPr/>
              <p:nvPr/>
            </p:nvSpPr>
            <p:spPr>
              <a:xfrm flipV="1">
                <a:off x="2569680" y="1888920"/>
                <a:ext cx="1847880" cy="322236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3"/>
              <p:cNvSpPr/>
              <p:nvPr/>
            </p:nvSpPr>
            <p:spPr>
              <a:xfrm>
                <a:off x="2602800" y="5131080"/>
                <a:ext cx="36838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6"/>
              <p:cNvSpPr/>
              <p:nvPr/>
            </p:nvSpPr>
            <p:spPr>
              <a:xfrm flipV="1">
                <a:off x="2583360" y="3857760"/>
                <a:ext cx="3453480" cy="128232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7"/>
              <p:cNvSpPr/>
              <p:nvPr/>
            </p:nvSpPr>
            <p:spPr>
              <a:xfrm flipV="1">
                <a:off x="2585520" y="2962800"/>
                <a:ext cx="2541600" cy="217728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Text Box 14"/>
              <p:cNvSpPr/>
              <p:nvPr/>
            </p:nvSpPr>
            <p:spPr>
              <a:xfrm>
                <a:off x="3454200" y="3365640"/>
                <a:ext cx="544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ff"/>
                    </a:solidFill>
                    <a:latin typeface="Times New Roman"/>
                  </a:rPr>
                  <a:t>α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5"/>
              <p:cNvSpPr/>
              <p:nvPr/>
            </p:nvSpPr>
            <p:spPr>
              <a:xfrm>
                <a:off x="4044600" y="3853080"/>
                <a:ext cx="517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ff"/>
                    </a:solidFill>
                    <a:latin typeface="Times New Roman"/>
                  </a:rPr>
                  <a:t>α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6"/>
              <p:cNvSpPr/>
              <p:nvPr/>
            </p:nvSpPr>
            <p:spPr>
              <a:xfrm>
                <a:off x="4343040" y="4400640"/>
                <a:ext cx="517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ff"/>
                    </a:solidFill>
                    <a:latin typeface="Times New Roman"/>
                  </a:rPr>
                  <a:t>α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21"/>
              <p:cNvSpPr/>
              <p:nvPr/>
            </p:nvSpPr>
            <p:spPr>
              <a:xfrm>
                <a:off x="2903400" y="2851200"/>
                <a:ext cx="544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ff"/>
                    </a:solidFill>
                    <a:latin typeface="Times New Roman"/>
                  </a:rPr>
                  <a:t>α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rc 11"/>
              <p:cNvSpPr/>
              <p:nvPr/>
            </p:nvSpPr>
            <p:spPr>
              <a:xfrm>
                <a:off x="3263040" y="3913200"/>
                <a:ext cx="361800" cy="487080"/>
              </a:xfrm>
              <a:custGeom>
                <a:avLst/>
                <a:gdLst/>
                <a:ahLst/>
                <a:rect l="l" t="t" r="r" b="b"/>
                <a:pathLst>
                  <a:path fill="none" w="20166" h="21600">
                    <a:moveTo>
                      <a:pt x="-1" y="0"/>
                    </a:moveTo>
                    <a:cubicBezTo>
                      <a:pt x="8943" y="0"/>
                      <a:pt x="16962" y="5511"/>
                      <a:pt x="20166" y="13861"/>
                    </a:cubicBezTo>
                  </a:path>
                  <a:path stroke="0" w="20166" h="21600">
                    <a:moveTo>
                      <a:pt x="-1" y="0"/>
                    </a:moveTo>
                    <a:cubicBezTo>
                      <a:pt x="8943" y="0"/>
                      <a:pt x="16962" y="5511"/>
                      <a:pt x="20166" y="13861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rc 12"/>
              <p:cNvSpPr/>
              <p:nvPr/>
            </p:nvSpPr>
            <p:spPr>
              <a:xfrm rot="855600">
                <a:off x="3626280" y="4278240"/>
                <a:ext cx="361800" cy="487080"/>
              </a:xfrm>
              <a:custGeom>
                <a:avLst/>
                <a:gdLst/>
                <a:ahLst/>
                <a:rect l="l" t="t" r="r" b="b"/>
                <a:pathLst>
                  <a:path fill="none" w="20166" h="21600">
                    <a:moveTo>
                      <a:pt x="-1" y="0"/>
                    </a:moveTo>
                    <a:cubicBezTo>
                      <a:pt x="8943" y="0"/>
                      <a:pt x="16962" y="5511"/>
                      <a:pt x="20166" y="13861"/>
                    </a:cubicBezTo>
                  </a:path>
                  <a:path stroke="0" w="20166" h="21600">
                    <a:moveTo>
                      <a:pt x="-1" y="0"/>
                    </a:moveTo>
                    <a:cubicBezTo>
                      <a:pt x="8943" y="0"/>
                      <a:pt x="16962" y="5511"/>
                      <a:pt x="20166" y="13861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rc 13"/>
              <p:cNvSpPr/>
              <p:nvPr/>
            </p:nvSpPr>
            <p:spPr>
              <a:xfrm rot="1729800">
                <a:off x="3867120" y="4705560"/>
                <a:ext cx="361800" cy="487080"/>
              </a:xfrm>
              <a:custGeom>
                <a:avLst/>
                <a:gdLst/>
                <a:ahLst/>
                <a:rect l="l" t="t" r="r" b="b"/>
                <a:pathLst>
                  <a:path fill="none" w="20166" h="21600">
                    <a:moveTo>
                      <a:pt x="-1" y="0"/>
                    </a:moveTo>
                    <a:cubicBezTo>
                      <a:pt x="8943" y="0"/>
                      <a:pt x="16962" y="5511"/>
                      <a:pt x="20166" y="13861"/>
                    </a:cubicBezTo>
                  </a:path>
                  <a:path stroke="0" w="20166" h="21600">
                    <a:moveTo>
                      <a:pt x="-1" y="0"/>
                    </a:moveTo>
                    <a:cubicBezTo>
                      <a:pt x="8943" y="0"/>
                      <a:pt x="16962" y="5511"/>
                      <a:pt x="20166" y="13861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rc 22"/>
              <p:cNvSpPr/>
              <p:nvPr/>
            </p:nvSpPr>
            <p:spPr>
              <a:xfrm rot="21146400">
                <a:off x="2843280" y="3538800"/>
                <a:ext cx="432720" cy="487080"/>
              </a:xfrm>
              <a:custGeom>
                <a:avLst/>
                <a:gdLst/>
                <a:ahLst/>
                <a:rect l="l" t="t" r="r" b="b"/>
                <a:pathLst>
                  <a:path fill="none" w="20693" h="21600">
                    <a:moveTo>
                      <a:pt x="-1" y="0"/>
                    </a:moveTo>
                    <a:cubicBezTo>
                      <a:pt x="9543" y="0"/>
                      <a:pt x="17955" y="6262"/>
                      <a:pt x="20692" y="15405"/>
                    </a:cubicBezTo>
                  </a:path>
                  <a:path stroke="0" w="20693" h="21600">
                    <a:moveTo>
                      <a:pt x="-1" y="0"/>
                    </a:moveTo>
                    <a:cubicBezTo>
                      <a:pt x="9543" y="0"/>
                      <a:pt x="17955" y="6262"/>
                      <a:pt x="20692" y="15405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7"/>
          <p:cNvSpPr/>
          <p:nvPr/>
        </p:nvSpPr>
        <p:spPr>
          <a:xfrm>
            <a:off x="2897280" y="500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楷体"/>
                <a:ea typeface="华文楷体"/>
              </a:rPr>
              <a:t>角的四等分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1071720" y="1472760"/>
            <a:ext cx="678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问题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如何作一个角的平分线？你能想到什么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2"/>
          <p:cNvSpPr/>
          <p:nvPr/>
        </p:nvSpPr>
        <p:spPr>
          <a:xfrm>
            <a:off x="1924200" y="320976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度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"/>
          <p:cNvSpPr/>
          <p:nvPr/>
        </p:nvSpPr>
        <p:spPr>
          <a:xfrm>
            <a:off x="1928880" y="42861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折纸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22" name="图片 140" descr=""/>
          <p:cNvPicPr/>
          <p:nvPr/>
        </p:nvPicPr>
        <p:blipFill>
          <a:blip r:embed="rId2"/>
          <a:stretch/>
        </p:blipFill>
        <p:spPr>
          <a:xfrm>
            <a:off x="4389480" y="2792520"/>
            <a:ext cx="285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3"/>
          <p:cNvSpPr/>
          <p:nvPr/>
        </p:nvSpPr>
        <p:spPr>
          <a:xfrm>
            <a:off x="2582280" y="1773360"/>
            <a:ext cx="315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计图中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大小关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用适当的方法验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1427760" y="50004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练习巩固，应用新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26" name="图片 30727" descr=""/>
          <p:cNvPicPr/>
          <p:nvPr/>
        </p:nvPicPr>
        <p:blipFill>
          <a:blip r:embed="rId3"/>
          <a:stretch/>
        </p:blipFill>
        <p:spPr>
          <a:xfrm>
            <a:off x="900000" y="2852640"/>
            <a:ext cx="7201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15"/>
          <p:cNvSpPr/>
          <p:nvPr/>
        </p:nvSpPr>
        <p:spPr>
          <a:xfrm>
            <a:off x="684360" y="119916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如图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分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分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若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O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考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OC=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3"/>
          <p:cNvSpPr/>
          <p:nvPr/>
        </p:nvSpPr>
        <p:spPr>
          <a:xfrm>
            <a:off x="1906560" y="4284000"/>
            <a:ext cx="21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3"/>
          <p:cNvSpPr/>
          <p:nvPr/>
        </p:nvSpPr>
        <p:spPr>
          <a:xfrm>
            <a:off x="1427760" y="50004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练习巩固，应用新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5" descr=""/>
          <p:cNvPicPr/>
          <p:nvPr/>
        </p:nvPicPr>
        <p:blipFill>
          <a:blip r:embed="rId2"/>
          <a:stretch/>
        </p:blipFill>
        <p:spPr>
          <a:xfrm>
            <a:off x="2357280" y="3000240"/>
            <a:ext cx="3876840" cy="3016440"/>
          </a:xfrm>
          <a:prstGeom prst="rect">
            <a:avLst/>
          </a:prstGeom>
          <a:ln w="0">
            <a:noFill/>
          </a:ln>
        </p:spPr>
      </p:pic>
      <p:sp>
        <p:nvSpPr>
          <p:cNvPr id="631" name="TextBox 5"/>
          <p:cNvSpPr/>
          <p:nvPr/>
        </p:nvSpPr>
        <p:spPr>
          <a:xfrm>
            <a:off x="6421320" y="15620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5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6"/>
          <p:cNvSpPr/>
          <p:nvPr/>
        </p:nvSpPr>
        <p:spPr>
          <a:xfrm>
            <a:off x="2254320" y="19605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7"/>
          <p:cNvSpPr/>
          <p:nvPr/>
        </p:nvSpPr>
        <p:spPr>
          <a:xfrm>
            <a:off x="5226120" y="20210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3"/>
          <p:cNvSpPr/>
          <p:nvPr/>
        </p:nvSpPr>
        <p:spPr>
          <a:xfrm>
            <a:off x="1427760" y="28584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练习巩固，应用新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357120" y="181152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哪两个角的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哪两个角的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O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D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OD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果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大小关系如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857680" y="4230720"/>
            <a:ext cx="3114360" cy="2583000"/>
          </a:xfrm>
          <a:prstGeom prst="rect">
            <a:avLst/>
          </a:prstGeom>
          <a:ln w="0">
            <a:noFill/>
          </a:ln>
        </p:spPr>
      </p:pic>
      <p:sp>
        <p:nvSpPr>
          <p:cNvPr id="638" name="TextBox 8"/>
          <p:cNvSpPr/>
          <p:nvPr/>
        </p:nvSpPr>
        <p:spPr>
          <a:xfrm>
            <a:off x="1554840" y="380196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501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501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501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501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50181"/>
          <p:cNvSpPr/>
          <p:nvPr/>
        </p:nvSpPr>
        <p:spPr>
          <a:xfrm>
            <a:off x="250920" y="63972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件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50184"/>
          <p:cNvSpPr/>
          <p:nvPr/>
        </p:nvSpPr>
        <p:spPr>
          <a:xfrm>
            <a:off x="468360" y="1557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本节课主要学习角的比较，角的和差，角平分线．角的比较，角的和差，角平分线是本章重要的几何基础知识，也是后续学习图形与几何必备的知识基础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50185"/>
          <p:cNvSpPr/>
          <p:nvPr/>
        </p:nvSpPr>
        <p:spPr>
          <a:xfrm>
            <a:off x="539640" y="3699000"/>
            <a:ext cx="77774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习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理解角的大小、和差、角平分线的几何意义及数量关系，并会用文字语言、图形语言、符号语言进行综合描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历类比线段的长短、和差、中点学习角的大小、和差、角平分线等过程，体会类比思想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矩形 4" descr=""/>
          <p:cNvPicPr/>
          <p:nvPr/>
        </p:nvPicPr>
        <p:blipFill>
          <a:blip r:embed="rId2"/>
          <a:stretch/>
        </p:blipFill>
        <p:spPr>
          <a:xfrm>
            <a:off x="425520" y="1714680"/>
            <a:ext cx="8718480" cy="2974680"/>
          </a:xfrm>
          <a:prstGeom prst="rect">
            <a:avLst/>
          </a:prstGeom>
          <a:ln w="0">
            <a:noFill/>
          </a:ln>
        </p:spPr>
      </p:pic>
      <p:sp>
        <p:nvSpPr>
          <p:cNvPr id="641" name="TextBox 2"/>
          <p:cNvSpPr/>
          <p:nvPr/>
        </p:nvSpPr>
        <p:spPr>
          <a:xfrm>
            <a:off x="1071720" y="785880"/>
            <a:ext cx="42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宋体"/>
              </a:rPr>
              <a:t>小结与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34818"/>
          <p:cNvSpPr/>
          <p:nvPr/>
        </p:nvSpPr>
        <p:spPr>
          <a:xfrm>
            <a:off x="179280" y="692280"/>
            <a:ext cx="821556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华文行楷"/>
                <a:ea typeface="华文行楷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教科书习题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.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题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53249"/>
          <p:cNvSpPr txBox="1"/>
          <p:nvPr/>
        </p:nvSpPr>
        <p:spPr>
          <a:xfrm>
            <a:off x="900000" y="162864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节课我们继续学习！再见</a:t>
            </a:r>
            <a:endParaRPr b="1" i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512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120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5120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5120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1205"/>
          <p:cNvSpPr/>
          <p:nvPr/>
        </p:nvSpPr>
        <p:spPr>
          <a:xfrm>
            <a:off x="250920" y="63972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件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"/>
          <p:cNvSpPr/>
          <p:nvPr/>
        </p:nvSpPr>
        <p:spPr>
          <a:xfrm>
            <a:off x="468360" y="220500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习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角的大小、和差、角平分线的几何意义及数量关系；感受学习过程中的类比思想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本课件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主要呈现形式，让学生直观形象地理解本节知识．多媒体教学资源光盘中的几何画板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a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画可辅助本课件使用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6"/>
          <p:cNvSpPr/>
          <p:nvPr/>
        </p:nvSpPr>
        <p:spPr>
          <a:xfrm>
            <a:off x="255600" y="38988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宋体"/>
              </a:rPr>
              <a:t>温故知新，引入课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4"/>
          <p:cNvSpPr/>
          <p:nvPr/>
        </p:nvSpPr>
        <p:spPr>
          <a:xfrm>
            <a:off x="1500120" y="150012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角是怎样形成的图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5"/>
          <p:cNvSpPr/>
          <p:nvPr/>
        </p:nvSpPr>
        <p:spPr>
          <a:xfrm>
            <a:off x="1530360" y="264312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请同学们回忆一下，前面我们学习了线段的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1357200" y="1571760"/>
            <a:ext cx="667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已知线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有哪些办法比较它们的大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1908000" y="3284640"/>
            <a:ext cx="5472360" cy="69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9" name=""/>
          <p:cNvGraphicFramePr/>
          <p:nvPr/>
        </p:nvGraphicFramePr>
        <p:xfrm>
          <a:off x="0" y="3170160"/>
          <a:ext cx="208080" cy="517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0" name="Rectangle 16"/>
          <p:cNvSpPr/>
          <p:nvPr/>
        </p:nvSpPr>
        <p:spPr>
          <a:xfrm>
            <a:off x="255600" y="389880"/>
            <a:ext cx="59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  <a:ea typeface="宋体"/>
              </a:rPr>
              <a:t>温故知新，引入课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2585520" y="4581360"/>
            <a:ext cx="11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叠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"/>
          <p:cNvSpPr/>
          <p:nvPr/>
        </p:nvSpPr>
        <p:spPr>
          <a:xfrm>
            <a:off x="5389200" y="4572000"/>
            <a:ext cx="11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度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5"/>
          <p:cNvSpPr/>
          <p:nvPr/>
        </p:nvSpPr>
        <p:spPr>
          <a:xfrm>
            <a:off x="611280" y="1413000"/>
            <a:ext cx="82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类比线段大小的比较，你认为该如何比较两个角的大小？试着画图来解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6"/>
          <p:cNvSpPr/>
          <p:nvPr/>
        </p:nvSpPr>
        <p:spPr>
          <a:xfrm>
            <a:off x="500040" y="532800"/>
            <a:ext cx="630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观察思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071720" y="25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度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4"/>
          <p:cNvSpPr/>
          <p:nvPr/>
        </p:nvSpPr>
        <p:spPr>
          <a:xfrm>
            <a:off x="3419640" y="25002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C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＞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量角器"/>
          <p:cNvPicPr/>
          <p:nvPr/>
        </p:nvPicPr>
        <p:blipFill>
          <a:blip r:embed="rId2"/>
          <a:stretch/>
        </p:blipFill>
        <p:spPr>
          <a:xfrm>
            <a:off x="34920" y="3112920"/>
            <a:ext cx="4824360" cy="2887920"/>
          </a:xfrm>
          <a:prstGeom prst="rect">
            <a:avLst/>
          </a:prstGeom>
          <a:ln w="0">
            <a:noFill/>
          </a:ln>
        </p:spPr>
      </p:pic>
      <p:sp>
        <p:nvSpPr>
          <p:cNvPr id="489" name="Line 9"/>
          <p:cNvSpPr/>
          <p:nvPr/>
        </p:nvSpPr>
        <p:spPr>
          <a:xfrm>
            <a:off x="2453040" y="5556240"/>
            <a:ext cx="2148840" cy="212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0"/>
          <p:cNvSpPr/>
          <p:nvPr/>
        </p:nvSpPr>
        <p:spPr>
          <a:xfrm flipV="1">
            <a:off x="2443680" y="3562200"/>
            <a:ext cx="726120" cy="19828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1835280" y="5243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4572000" y="555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 rot="21433200">
            <a:off x="3057480" y="30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4"/>
          <p:cNvGrpSpPr/>
          <p:nvPr/>
        </p:nvGrpSpPr>
        <p:grpSpPr>
          <a:xfrm>
            <a:off x="5508720" y="4371840"/>
            <a:ext cx="2566440" cy="1591560"/>
            <a:chOff x="5508720" y="4371840"/>
            <a:chExt cx="2566440" cy="1591560"/>
          </a:xfrm>
        </p:grpSpPr>
        <p:sp>
          <p:nvSpPr>
            <p:cNvPr id="495" name="Text Box 15"/>
            <p:cNvSpPr/>
            <p:nvPr/>
          </p:nvSpPr>
          <p:spPr>
            <a:xfrm>
              <a:off x="7643520" y="5500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6"/>
            <p:cNvSpPr/>
            <p:nvPr/>
          </p:nvSpPr>
          <p:spPr>
            <a:xfrm>
              <a:off x="5508720" y="5503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7"/>
            <p:cNvSpPr/>
            <p:nvPr/>
          </p:nvSpPr>
          <p:spPr>
            <a:xfrm>
              <a:off x="7091280" y="437184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8"/>
            <p:cNvSpPr/>
            <p:nvPr/>
          </p:nvSpPr>
          <p:spPr>
            <a:xfrm>
              <a:off x="5940360" y="5574960"/>
              <a:ext cx="175212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9"/>
            <p:cNvSpPr/>
            <p:nvPr/>
          </p:nvSpPr>
          <p:spPr>
            <a:xfrm flipV="1">
              <a:off x="5940360" y="4637880"/>
              <a:ext cx="1655280" cy="9032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Freeform 20"/>
          <p:cNvSpPr/>
          <p:nvPr/>
        </p:nvSpPr>
        <p:spPr>
          <a:xfrm>
            <a:off x="2556000" y="5243400"/>
            <a:ext cx="215640" cy="289080"/>
          </a:xfrm>
          <a:custGeom>
            <a:avLst/>
            <a:gdLst/>
            <a:ahLst/>
            <a:rect l="l" t="t" r="r" b="b"/>
            <a:pathLst>
              <a:path w="84" h="120">
                <a:moveTo>
                  <a:pt x="0" y="0"/>
                </a:moveTo>
                <a:cubicBezTo>
                  <a:pt x="30" y="20"/>
                  <a:pt x="39" y="36"/>
                  <a:pt x="66" y="54"/>
                </a:cubicBezTo>
                <a:cubicBezTo>
                  <a:pt x="73" y="76"/>
                  <a:pt x="84" y="97"/>
                  <a:pt x="84" y="12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2843280" y="48798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2"/>
          <p:cNvSpPr/>
          <p:nvPr/>
        </p:nvSpPr>
        <p:spPr>
          <a:xfrm>
            <a:off x="6516720" y="5214960"/>
            <a:ext cx="142920" cy="360360"/>
          </a:xfrm>
          <a:custGeom>
            <a:avLst/>
            <a:gdLst/>
            <a:ahLst/>
            <a:rect l="l" t="t" r="r" b="b"/>
            <a:pathLst>
              <a:path w="84" h="120">
                <a:moveTo>
                  <a:pt x="0" y="0"/>
                </a:moveTo>
                <a:cubicBezTo>
                  <a:pt x="30" y="20"/>
                  <a:pt x="39" y="36"/>
                  <a:pt x="66" y="54"/>
                </a:cubicBezTo>
                <a:cubicBezTo>
                  <a:pt x="73" y="76"/>
                  <a:pt x="84" y="97"/>
                  <a:pt x="84" y="12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5"/>
          <p:cNvSpPr/>
          <p:nvPr/>
        </p:nvSpPr>
        <p:spPr>
          <a:xfrm>
            <a:off x="6786720" y="507060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04046E-006 L 0.38577 1.04046E-006 E">
                                      <p:cBhvr>
                                        <p:cTn id="73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1116000" y="1481040"/>
            <a:ext cx="22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叠合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416240" y="5328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观察思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919080" y="2203560"/>
            <a:ext cx="8151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将两个角的顶点及一边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重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1633680" y="3414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两个角的另一边落在重合一边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同侧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1643040" y="3924360"/>
            <a:ext cx="822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由两个角的另一边的位置确定两个角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大小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4"/>
          <p:cNvSpPr/>
          <p:nvPr/>
        </p:nvSpPr>
        <p:spPr>
          <a:xfrm>
            <a:off x="1214280" y="10717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如果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重合，那么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E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等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O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记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E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0" y="35002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7"/>
          <p:cNvGrpSpPr/>
          <p:nvPr/>
        </p:nvGrpSpPr>
        <p:grpSpPr>
          <a:xfrm>
            <a:off x="828720" y="2965320"/>
            <a:ext cx="3009600" cy="2424240"/>
            <a:chOff x="828720" y="2965320"/>
            <a:chExt cx="3009600" cy="2424240"/>
          </a:xfrm>
        </p:grpSpPr>
        <p:sp>
          <p:nvSpPr>
            <p:cNvPr id="514" name="Line 8"/>
            <p:cNvSpPr/>
            <p:nvPr/>
          </p:nvSpPr>
          <p:spPr>
            <a:xfrm flipH="1">
              <a:off x="971640" y="3429000"/>
              <a:ext cx="1728720" cy="1440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9"/>
            <p:cNvSpPr/>
            <p:nvPr/>
          </p:nvSpPr>
          <p:spPr>
            <a:xfrm>
              <a:off x="971640" y="486900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828720" y="4797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3421440" y="486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2321280" y="2965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9"/>
          <p:cNvGrpSpPr/>
          <p:nvPr/>
        </p:nvGrpSpPr>
        <p:grpSpPr>
          <a:xfrm>
            <a:off x="4790160" y="2997360"/>
            <a:ext cx="3008880" cy="2423880"/>
            <a:chOff x="4790160" y="2997360"/>
            <a:chExt cx="3008880" cy="2423880"/>
          </a:xfrm>
        </p:grpSpPr>
        <p:sp>
          <p:nvSpPr>
            <p:cNvPr id="520" name="Line 14"/>
            <p:cNvSpPr/>
            <p:nvPr/>
          </p:nvSpPr>
          <p:spPr>
            <a:xfrm flipH="1">
              <a:off x="4932360" y="3460680"/>
              <a:ext cx="1728720" cy="1440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>
              <a:off x="4932360" y="4900680"/>
              <a:ext cx="2808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6"/>
            <p:cNvSpPr/>
            <p:nvPr/>
          </p:nvSpPr>
          <p:spPr>
            <a:xfrm>
              <a:off x="4790160" y="4829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7"/>
            <p:cNvSpPr/>
            <p:nvPr/>
          </p:nvSpPr>
          <p:spPr>
            <a:xfrm>
              <a:off x="7382160" y="4900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8"/>
            <p:cNvSpPr/>
            <p:nvPr/>
          </p:nvSpPr>
          <p:spPr>
            <a:xfrm>
              <a:off x="6282360" y="299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0.00555 L 0.43316 0.00555 E">
                                      <p:cBhvr>
                                        <p:cTn id="113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14240" y="9730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如果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落在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O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的内部，那么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E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于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O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记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E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228600" y="4648320"/>
            <a:ext cx="845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4"/>
          <p:cNvGrpSpPr/>
          <p:nvPr/>
        </p:nvGrpSpPr>
        <p:grpSpPr>
          <a:xfrm>
            <a:off x="828720" y="2965320"/>
            <a:ext cx="3009600" cy="2424240"/>
            <a:chOff x="828720" y="2965320"/>
            <a:chExt cx="3009600" cy="2424240"/>
          </a:xfrm>
        </p:grpSpPr>
        <p:sp>
          <p:nvSpPr>
            <p:cNvPr id="529" name="Line 5"/>
            <p:cNvSpPr/>
            <p:nvPr/>
          </p:nvSpPr>
          <p:spPr>
            <a:xfrm flipH="1">
              <a:off x="971640" y="3429000"/>
              <a:ext cx="1728720" cy="1440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971640" y="486900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828720" y="4797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8"/>
            <p:cNvSpPr/>
            <p:nvPr/>
          </p:nvSpPr>
          <p:spPr>
            <a:xfrm>
              <a:off x="3421440" y="486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321280" y="2965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26"/>
          <p:cNvGrpSpPr/>
          <p:nvPr/>
        </p:nvGrpSpPr>
        <p:grpSpPr>
          <a:xfrm>
            <a:off x="4790160" y="2220840"/>
            <a:ext cx="3461400" cy="3081240"/>
            <a:chOff x="4790160" y="2220840"/>
            <a:chExt cx="3461400" cy="3081240"/>
          </a:xfrm>
        </p:grpSpPr>
        <p:sp>
          <p:nvSpPr>
            <p:cNvPr id="535" name="Line 27"/>
            <p:cNvSpPr/>
            <p:nvPr/>
          </p:nvSpPr>
          <p:spPr>
            <a:xfrm flipV="1">
              <a:off x="4859280" y="2365200"/>
              <a:ext cx="792360" cy="244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8"/>
            <p:cNvGrpSpPr/>
            <p:nvPr/>
          </p:nvGrpSpPr>
          <p:grpSpPr>
            <a:xfrm>
              <a:off x="4790160" y="2220840"/>
              <a:ext cx="3461400" cy="3081240"/>
              <a:chOff x="4790160" y="2220840"/>
              <a:chExt cx="3461400" cy="3081240"/>
            </a:xfrm>
          </p:grpSpPr>
          <p:sp>
            <p:nvSpPr>
              <p:cNvPr id="537" name="Line 29"/>
              <p:cNvSpPr/>
              <p:nvPr/>
            </p:nvSpPr>
            <p:spPr>
              <a:xfrm>
                <a:off x="4859280" y="4813200"/>
                <a:ext cx="324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30"/>
              <p:cNvSpPr/>
              <p:nvPr/>
            </p:nvSpPr>
            <p:spPr>
              <a:xfrm>
                <a:off x="4790160" y="4781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31"/>
              <p:cNvSpPr/>
              <p:nvPr/>
            </p:nvSpPr>
            <p:spPr>
              <a:xfrm>
                <a:off x="7834680" y="47401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32"/>
              <p:cNvSpPr/>
              <p:nvPr/>
            </p:nvSpPr>
            <p:spPr>
              <a:xfrm>
                <a:off x="5242320" y="22208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41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37 L 0.42483 -0.00764 E">
                                      <p:cBhvr>
                                        <p:cTn id="129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2:41:38Z</dcterms:created>
  <dc:creator/>
  <dc:description/>
  <dc:language>en-US</dc:language>
  <cp:lastModifiedBy/>
  <dcterms:modified xsi:type="dcterms:W3CDTF">2018-01-04T00:53:49Z</dcterms:modified>
  <cp:revision>1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