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70B-C8A3-4E2C-892F-E831479B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725-CC0B-409C-8CB5-37E53204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7F2-68E1-44D4-AE7D-F05F42F5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184-8ECF-46D8-AB6A-140A7745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E5B6-B159-46FF-87CA-1B400EE35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34C5-18F0-4DE1-AAB5-89298D6A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DED8-5E9C-45F2-B938-457880FA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1C6F-431B-4CAF-BCA9-DD4FBF1A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BB99-3DC4-49E1-B146-96B85FEB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CAE9-1E63-4D4E-BDBF-0711890C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1174-FC7F-4771-A2C9-5E8E2C4C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772-5BB6-48E2-A732-1ECBA863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EB3A-522E-4222-89BA-5A30F9E6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EA54-9559-436E-A28B-4CBE2AFD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EBA9-0D1E-452D-AE8E-286ADF62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C289-910D-4919-AAEA-1DD031E8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D08A-29B7-4265-9DBF-6E9FC394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0C6-959C-440C-B67C-DED18F97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4A8-3020-4A2A-8239-3182DE53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8A4-5037-4A14-99AB-B2FAF226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7CB-6E56-4754-A40F-C152BF8F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1C8-7939-4C6D-AC3A-694AF697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F20-C54E-45FE-8047-5AA32A55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E7F-E5F1-453B-A60D-A07FCCD5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DED7-692E-47FE-AFB2-178DE977D3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5353-CB12-445E-8F26-C7D0D473B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7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bj1017"/>
          <p:cNvPicPr/>
          <p:nvPr/>
        </p:nvPicPr>
        <p:blipFill>
          <a:blip r:embed="rId1"/>
          <a:stretch/>
        </p:blipFill>
        <p:spPr>
          <a:xfrm>
            <a:off x="-304920" y="-609480"/>
            <a:ext cx="9534600" cy="746748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7"/>
          <p:cNvGrpSpPr/>
          <p:nvPr/>
        </p:nvGrpSpPr>
        <p:grpSpPr>
          <a:xfrm>
            <a:off x="1523880" y="457200"/>
            <a:ext cx="6096240" cy="4438440"/>
            <a:chOff x="1523880" y="457200"/>
            <a:chExt cx="6096240" cy="4438440"/>
          </a:xfrm>
        </p:grpSpPr>
        <p:sp>
          <p:nvSpPr>
            <p:cNvPr id="84" name="WordArt 3"/>
            <p:cNvSpPr txBox="1"/>
            <p:nvPr/>
          </p:nvSpPr>
          <p:spPr>
            <a:xfrm>
              <a:off x="1523880" y="457200"/>
              <a:ext cx="6096240" cy="291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+mn-ea"/>
                </a:rPr>
                <a:t>合并同类项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+mn-ea"/>
                <a:ea typeface="+mn-ea"/>
              </a:endParaRPr>
            </a:p>
          </p:txBody>
        </p:sp>
        <p:sp>
          <p:nvSpPr>
            <p:cNvPr id="85" name="Text Box 6"/>
            <p:cNvSpPr/>
            <p:nvPr/>
          </p:nvSpPr>
          <p:spPr>
            <a:xfrm>
              <a:off x="3886200" y="3155760"/>
              <a:ext cx="160020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66cc"/>
                  </a:solidFill>
                  <a:latin typeface="华文行楷"/>
                  <a:ea typeface="华文行楷"/>
                </a:rPr>
                <a:t>(</a:t>
              </a:r>
              <a:r>
                <a:rPr b="1" lang="zh-CN" sz="5400" spc="-1" strike="noStrike">
                  <a:solidFill>
                    <a:srgbClr val="ff66cc"/>
                  </a:solidFill>
                  <a:latin typeface="华文行楷"/>
                  <a:ea typeface="华文行楷"/>
                </a:rPr>
                <a:t>一</a:t>
              </a:r>
              <a:r>
                <a:rPr b="1" lang="en-US" sz="5400" spc="-1" strike="noStrike">
                  <a:solidFill>
                    <a:srgbClr val="ff66cc"/>
                  </a:solidFill>
                  <a:latin typeface="华文行楷"/>
                  <a:ea typeface="华文行楷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533520" y="471600"/>
            <a:ext cx="70866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变式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 合并同类项：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               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1" lang="en-US" sz="3200" spc="-1" strike="noStrike">
                <a:solidFill>
                  <a:srgbClr val="cc6600"/>
                </a:solidFill>
                <a:latin typeface="隶书"/>
                <a:ea typeface="隶书"/>
              </a:rPr>
              <a:t>(a-b)</a:t>
            </a:r>
            <a:r>
              <a:rPr b="1" lang="en-US" sz="3200" spc="-1" strike="noStrike" baseline="30000">
                <a:solidFill>
                  <a:srgbClr val="cc6600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cc6600"/>
                </a:solidFill>
                <a:latin typeface="隶书"/>
                <a:ea typeface="隶书"/>
              </a:rPr>
              <a:t>-3(a-b)-2(a-b)</a:t>
            </a:r>
            <a:r>
              <a:rPr b="1" lang="en-US" sz="3200" spc="-1" strike="noStrike" baseline="30000">
                <a:solidFill>
                  <a:srgbClr val="cc6600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cc6600"/>
                </a:solidFill>
                <a:latin typeface="隶书"/>
                <a:ea typeface="隶书"/>
              </a:rPr>
              <a:t>+7(a-b)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685800" y="4572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华文行楷"/>
              </a:rPr>
              <a:t>引  伸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up 30"/>
          <p:cNvGrpSpPr/>
          <p:nvPr/>
        </p:nvGrpSpPr>
        <p:grpSpPr>
          <a:xfrm>
            <a:off x="685800" y="1143000"/>
            <a:ext cx="7086600" cy="1570680"/>
            <a:chOff x="685800" y="1143000"/>
            <a:chExt cx="7086600" cy="1570680"/>
          </a:xfrm>
        </p:grpSpPr>
        <p:sp>
          <p:nvSpPr>
            <p:cNvPr id="171" name="Text Box 4"/>
            <p:cNvSpPr/>
            <p:nvPr/>
          </p:nvSpPr>
          <p:spPr>
            <a:xfrm>
              <a:off x="685800" y="1390680"/>
              <a:ext cx="70866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已知：                  与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                    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是同类项，求</a:t>
              </a: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200" spc="-1" strike="noStrike">
                  <a:solidFill>
                    <a:srgbClr val="cc6600"/>
                  </a:solidFill>
                  <a:latin typeface="Calibri"/>
                </a:rPr>
                <a:t>5m+3n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3200" spc="-1" strike="noStrike">
                  <a:solidFill>
                    <a:srgbClr val="0000ff"/>
                  </a:solidFill>
                  <a:latin typeface="Calibri"/>
                </a:rPr>
                <a:t>的值 </a:t>
              </a:r>
              <a:r>
                <a:rPr b="1" lang="en-US" sz="3200" spc="-1" strike="noStrike">
                  <a:solidFill>
                    <a:srgbClr val="0000ff"/>
                  </a:solidFill>
                  <a:latin typeface="Calibri"/>
                </a:rPr>
                <a:t>.   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2" name="Group 17"/>
            <p:cNvGrpSpPr/>
            <p:nvPr/>
          </p:nvGrpSpPr>
          <p:grpSpPr>
            <a:xfrm>
              <a:off x="1981080" y="1191960"/>
              <a:ext cx="2286000" cy="1095480"/>
              <a:chOff x="1981080" y="1191960"/>
              <a:chExt cx="2286000" cy="1095480"/>
            </a:xfrm>
          </p:grpSpPr>
          <p:sp>
            <p:nvSpPr>
              <p:cNvPr id="173" name="Text Box 5"/>
              <p:cNvSpPr/>
              <p:nvPr/>
            </p:nvSpPr>
            <p:spPr>
              <a:xfrm>
                <a:off x="2000160" y="119196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6600"/>
                    </a:solidFill>
                    <a:latin typeface="Calibri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Text Box 6"/>
              <p:cNvSpPr/>
              <p:nvPr/>
            </p:nvSpPr>
            <p:spPr>
              <a:xfrm>
                <a:off x="1981080" y="12538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6600"/>
                    </a:solidFill>
                    <a:latin typeface="Calibri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Text Box 7"/>
              <p:cNvSpPr/>
              <p:nvPr/>
            </p:nvSpPr>
            <p:spPr>
              <a:xfrm>
                <a:off x="1981080" y="17060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6600"/>
                    </a:solidFill>
                    <a:latin typeface="Calibri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286000" y="1420560"/>
                <a:ext cx="19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6600"/>
                    </a:solidFill>
                    <a:latin typeface="Calibri"/>
                  </a:rPr>
                  <a:t>x</a:t>
                </a:r>
                <a:r>
                  <a:rPr b="1" lang="en-US" sz="3200" spc="-1" strike="noStrike" baseline="30000">
                    <a:solidFill>
                      <a:srgbClr val="cc6600"/>
                    </a:solidFill>
                    <a:latin typeface="Calibri"/>
                  </a:rPr>
                  <a:t>(3m-1)</a:t>
                </a:r>
                <a:r>
                  <a:rPr b="1" lang="en-US" sz="3200" spc="-1" strike="noStrike">
                    <a:solidFill>
                      <a:srgbClr val="cc6600"/>
                    </a:solidFill>
                    <a:latin typeface="Calibri"/>
                  </a:rPr>
                  <a:t>y</a:t>
                </a:r>
                <a:r>
                  <a:rPr b="1" lang="en-US" sz="3200" spc="-1" strike="noStrike" baseline="30000">
                    <a:solidFill>
                      <a:srgbClr val="cc6600"/>
                    </a:solidFill>
                    <a:latin typeface="Calibri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Group 16"/>
            <p:cNvGrpSpPr/>
            <p:nvPr/>
          </p:nvGrpSpPr>
          <p:grpSpPr>
            <a:xfrm>
              <a:off x="4362480" y="1143000"/>
              <a:ext cx="2571840" cy="1068840"/>
              <a:chOff x="4362480" y="1143000"/>
              <a:chExt cx="2571840" cy="1068840"/>
            </a:xfrm>
          </p:grpSpPr>
          <p:sp>
            <p:nvSpPr>
              <p:cNvPr id="178" name="Text Box 10"/>
              <p:cNvSpPr/>
              <p:nvPr/>
            </p:nvSpPr>
            <p:spPr>
              <a:xfrm>
                <a:off x="4362480" y="1382760"/>
                <a:ext cx="30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66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Text Box 11"/>
              <p:cNvSpPr/>
              <p:nvPr/>
            </p:nvSpPr>
            <p:spPr>
              <a:xfrm>
                <a:off x="4629240" y="114300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6600"/>
                    </a:solidFill>
                    <a:latin typeface="Calibri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Text Box 12"/>
              <p:cNvSpPr/>
              <p:nvPr/>
            </p:nvSpPr>
            <p:spPr>
              <a:xfrm>
                <a:off x="4629240" y="118116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6600"/>
                    </a:solidFill>
                    <a:latin typeface="Calibri"/>
                  </a:rPr>
                  <a:t>_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14"/>
              <p:cNvSpPr/>
              <p:nvPr/>
            </p:nvSpPr>
            <p:spPr>
              <a:xfrm>
                <a:off x="4629240" y="163044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6600"/>
                    </a:solidFill>
                    <a:latin typeface="Calibri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15"/>
              <p:cNvSpPr/>
              <p:nvPr/>
            </p:nvSpPr>
            <p:spPr>
              <a:xfrm>
                <a:off x="4953240" y="1390680"/>
                <a:ext cx="198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6600"/>
                    </a:solidFill>
                    <a:latin typeface="Calibri"/>
                  </a:rPr>
                  <a:t>x</a:t>
                </a:r>
                <a:r>
                  <a:rPr b="1" lang="en-US" sz="3200" spc="-1" strike="noStrike" baseline="30000">
                    <a:solidFill>
                      <a:srgbClr val="cc6600"/>
                    </a:solidFill>
                    <a:latin typeface="Calibri"/>
                  </a:rPr>
                  <a:t>5</a:t>
                </a:r>
                <a:r>
                  <a:rPr b="1" lang="en-US" sz="3200" spc="-1" strike="noStrike">
                    <a:solidFill>
                      <a:srgbClr val="cc6600"/>
                    </a:solidFill>
                    <a:latin typeface="Calibri"/>
                  </a:rPr>
                  <a:t>y</a:t>
                </a:r>
                <a:r>
                  <a:rPr b="1" lang="en-US" sz="3200" spc="-1" strike="noStrike" baseline="30000">
                    <a:solidFill>
                      <a:srgbClr val="cc6600"/>
                    </a:solidFill>
                    <a:latin typeface="Calibri"/>
                  </a:rPr>
                  <a:t>(2n+1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3" name="Group 33"/>
          <p:cNvGrpSpPr/>
          <p:nvPr/>
        </p:nvGrpSpPr>
        <p:grpSpPr>
          <a:xfrm>
            <a:off x="533520" y="2685960"/>
            <a:ext cx="7467480" cy="1053720"/>
            <a:chOff x="533520" y="2685960"/>
            <a:chExt cx="7467480" cy="1053720"/>
          </a:xfrm>
        </p:grpSpPr>
        <p:grpSp>
          <p:nvGrpSpPr>
            <p:cNvPr id="184" name="Group 19"/>
            <p:cNvGrpSpPr/>
            <p:nvPr/>
          </p:nvGrpSpPr>
          <p:grpSpPr>
            <a:xfrm>
              <a:off x="1828800" y="2705040"/>
              <a:ext cx="2286000" cy="1034640"/>
              <a:chOff x="1828800" y="2705040"/>
              <a:chExt cx="2286000" cy="1034640"/>
            </a:xfrm>
          </p:grpSpPr>
          <p:sp>
            <p:nvSpPr>
              <p:cNvPr id="185" name="Text Box 20"/>
              <p:cNvSpPr/>
              <p:nvPr/>
            </p:nvSpPr>
            <p:spPr>
              <a:xfrm>
                <a:off x="1847880" y="270504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66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Text Box 21"/>
              <p:cNvSpPr/>
              <p:nvPr/>
            </p:nvSpPr>
            <p:spPr>
              <a:xfrm>
                <a:off x="1828800" y="276696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6600"/>
                    </a:solidFill>
                    <a:latin typeface="Calibri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Text Box 22"/>
              <p:cNvSpPr/>
              <p:nvPr/>
            </p:nvSpPr>
            <p:spPr>
              <a:xfrm>
                <a:off x="1828800" y="321912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66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Text Box 23"/>
              <p:cNvSpPr/>
              <p:nvPr/>
            </p:nvSpPr>
            <p:spPr>
              <a:xfrm>
                <a:off x="2133720" y="293364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6600"/>
                    </a:solidFill>
                    <a:latin typeface="Calibri"/>
                  </a:rPr>
                  <a:t>x</a:t>
                </a:r>
                <a:r>
                  <a:rPr b="1" lang="en-US" sz="2800" spc="-1" strike="noStrike" baseline="30000">
                    <a:solidFill>
                      <a:srgbClr val="cc6600"/>
                    </a:solidFill>
                    <a:latin typeface="Calibri"/>
                  </a:rPr>
                  <a:t>(3m-1)</a:t>
                </a:r>
                <a:r>
                  <a:rPr b="1" lang="en-US" sz="2800" spc="-1" strike="noStrike">
                    <a:solidFill>
                      <a:srgbClr val="cc6600"/>
                    </a:solidFill>
                    <a:latin typeface="Calibri"/>
                  </a:rPr>
                  <a:t>y</a:t>
                </a:r>
                <a:r>
                  <a:rPr b="1" lang="en-US" sz="2800" spc="-1" strike="noStrike" baseline="30000">
                    <a:solidFill>
                      <a:srgbClr val="cc66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oup 24"/>
            <p:cNvGrpSpPr/>
            <p:nvPr/>
          </p:nvGrpSpPr>
          <p:grpSpPr>
            <a:xfrm>
              <a:off x="4000680" y="2685960"/>
              <a:ext cx="2571120" cy="1008000"/>
              <a:chOff x="4000680" y="2685960"/>
              <a:chExt cx="2571120" cy="1008000"/>
            </a:xfrm>
          </p:grpSpPr>
          <p:sp>
            <p:nvSpPr>
              <p:cNvPr id="190" name="Text Box 25"/>
              <p:cNvSpPr/>
              <p:nvPr/>
            </p:nvSpPr>
            <p:spPr>
              <a:xfrm>
                <a:off x="4000680" y="2925720"/>
                <a:ext cx="30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6600"/>
                    </a:solidFill>
                    <a:latin typeface="Calibri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Text Box 26"/>
              <p:cNvSpPr/>
              <p:nvPr/>
            </p:nvSpPr>
            <p:spPr>
              <a:xfrm>
                <a:off x="4267080" y="2685960"/>
                <a:ext cx="456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66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Text Box 27"/>
              <p:cNvSpPr/>
              <p:nvPr/>
            </p:nvSpPr>
            <p:spPr>
              <a:xfrm>
                <a:off x="4267080" y="2724120"/>
                <a:ext cx="609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6600"/>
                    </a:solidFill>
                    <a:latin typeface="Calibri"/>
                  </a:rPr>
                  <a:t>_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Text Box 28"/>
              <p:cNvSpPr/>
              <p:nvPr/>
            </p:nvSpPr>
            <p:spPr>
              <a:xfrm>
                <a:off x="4267080" y="31734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66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29"/>
              <p:cNvSpPr/>
              <p:nvPr/>
            </p:nvSpPr>
            <p:spPr>
              <a:xfrm>
                <a:off x="4591080" y="2933640"/>
                <a:ext cx="198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6600"/>
                    </a:solidFill>
                    <a:latin typeface="Calibri"/>
                  </a:rPr>
                  <a:t>x</a:t>
                </a:r>
                <a:r>
                  <a:rPr b="1" lang="en-US" sz="2800" spc="-1" strike="noStrike" baseline="30000">
                    <a:solidFill>
                      <a:srgbClr val="cc6600"/>
                    </a:solidFill>
                    <a:latin typeface="Calibri"/>
                  </a:rPr>
                  <a:t>5</a:t>
                </a:r>
                <a:r>
                  <a:rPr b="1" lang="en-US" sz="2800" spc="-1" strike="noStrike">
                    <a:solidFill>
                      <a:srgbClr val="cc6600"/>
                    </a:solidFill>
                    <a:latin typeface="Calibri"/>
                  </a:rPr>
                  <a:t>y</a:t>
                </a:r>
                <a:r>
                  <a:rPr b="1" lang="en-US" sz="2800" spc="-1" strike="noStrike" baseline="30000">
                    <a:solidFill>
                      <a:srgbClr val="cc6600"/>
                    </a:solidFill>
                    <a:latin typeface="Calibri"/>
                  </a:rPr>
                  <a:t>(2n+1)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Text Box 31"/>
            <p:cNvSpPr/>
            <p:nvPr/>
          </p:nvSpPr>
          <p:spPr>
            <a:xfrm>
              <a:off x="533520" y="3132000"/>
              <a:ext cx="746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解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：</a:t>
              </a: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∵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              与                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是同类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Rectangle 32"/>
          <p:cNvSpPr/>
          <p:nvPr/>
        </p:nvSpPr>
        <p:spPr>
          <a:xfrm>
            <a:off x="1219320" y="3733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∴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m-1=5 ,    2n+1=3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1219320" y="41911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∴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=2  ,         n=1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35"/>
          <p:cNvSpPr/>
          <p:nvPr/>
        </p:nvSpPr>
        <p:spPr>
          <a:xfrm>
            <a:off x="1219320" y="46483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∴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5m+3n=5×2+3×1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36">
            <a:hlinkClick r:id="rId1"/>
          </p:cNvPr>
          <p:cNvSpPr/>
          <p:nvPr/>
        </p:nvSpPr>
        <p:spPr>
          <a:xfrm>
            <a:off x="1258920" y="522936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=10+3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=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804960" y="685800"/>
            <a:ext cx="592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随堂练习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755640" y="18874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隶书"/>
                <a:ea typeface="隶书"/>
              </a:rPr>
              <a:t>课本</a:t>
            </a:r>
            <a:r>
              <a:rPr b="1" lang="en-US" sz="3600" spc="-1" strike="noStrike">
                <a:solidFill>
                  <a:srgbClr val="660033"/>
                </a:solidFill>
                <a:latin typeface="隶书"/>
                <a:ea typeface="隶书"/>
              </a:rPr>
              <a:t>P65</a:t>
            </a:r>
            <a:r>
              <a:rPr b="1" lang="zh-CN" sz="3600" spc="-1" strike="noStrike">
                <a:solidFill>
                  <a:srgbClr val="660033"/>
                </a:solidFill>
                <a:latin typeface="隶书"/>
                <a:ea typeface="隶书"/>
              </a:rPr>
              <a:t>页随堂练习第</a:t>
            </a:r>
            <a:r>
              <a:rPr b="1" lang="en-US" sz="3600" spc="-1" strike="noStrike">
                <a:solidFill>
                  <a:srgbClr val="660033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660033"/>
                </a:solidFill>
                <a:latin typeface="隶书"/>
                <a:ea typeface="隶书"/>
              </a:rPr>
              <a:t>题</a:t>
            </a:r>
            <a:br>
              <a:rPr sz="3600"/>
            </a:br>
            <a:r>
              <a:rPr b="1" lang="zh-CN" sz="3600" spc="-1" strike="noStrike">
                <a:solidFill>
                  <a:srgbClr val="660033"/>
                </a:solidFill>
                <a:latin typeface="隶书"/>
                <a:ea typeface="隶书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5"/>
          <p:cNvGrpSpPr/>
          <p:nvPr/>
        </p:nvGrpSpPr>
        <p:grpSpPr>
          <a:xfrm>
            <a:off x="457200" y="380880"/>
            <a:ext cx="3393720" cy="798120"/>
            <a:chOff x="457200" y="380880"/>
            <a:chExt cx="3393720" cy="798120"/>
          </a:xfrm>
        </p:grpSpPr>
        <p:sp>
          <p:nvSpPr>
            <p:cNvPr id="203" name="AutoShape 3"/>
            <p:cNvSpPr/>
            <p:nvPr/>
          </p:nvSpPr>
          <p:spPr>
            <a:xfrm>
              <a:off x="540000" y="380880"/>
              <a:ext cx="2897280" cy="798120"/>
            </a:xfrm>
            <a:prstGeom prst="flowChart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 Box 4"/>
            <p:cNvSpPr/>
            <p:nvPr/>
          </p:nvSpPr>
          <p:spPr>
            <a:xfrm>
              <a:off x="457200" y="380880"/>
              <a:ext cx="3393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四、小 结：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Text Box 6"/>
          <p:cNvSpPr/>
          <p:nvPr/>
        </p:nvSpPr>
        <p:spPr>
          <a:xfrm>
            <a:off x="287280" y="1268280"/>
            <a:ext cx="75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本节课主要学习了同类项的概念和合并同类项的方法，分清哪些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是同类项是合并同类项的关键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383076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同类项合并过程字母和字母的指     数不变。不是同类项不可以合并　。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cc6600"/>
                </a:solidFill>
                <a:latin typeface="隶书"/>
                <a:ea typeface="隶书"/>
              </a:rPr>
              <a:t>在求代数式的值时，可先合并同类项将代数式化简，然后再代入数值计算，这样往往会简化运算过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743120" y="3068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华文行楷"/>
              </a:rPr>
              <a:t>合并同类项时注意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609480" y="609480"/>
            <a:ext cx="3746160" cy="838080"/>
            <a:chOff x="609480" y="609480"/>
            <a:chExt cx="3746160" cy="838080"/>
          </a:xfrm>
        </p:grpSpPr>
        <p:sp>
          <p:nvSpPr>
            <p:cNvPr id="209" name="AutoShape 2"/>
            <p:cNvSpPr/>
            <p:nvPr/>
          </p:nvSpPr>
          <p:spPr>
            <a:xfrm>
              <a:off x="609480" y="609480"/>
              <a:ext cx="3472200" cy="838080"/>
            </a:xfrm>
            <a:prstGeom prst="flowChart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 Box 3"/>
            <p:cNvSpPr/>
            <p:nvPr/>
          </p:nvSpPr>
          <p:spPr>
            <a:xfrm>
              <a:off x="609480" y="668160"/>
              <a:ext cx="374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五、作  业：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Text Box 5"/>
          <p:cNvSpPr/>
          <p:nvPr/>
        </p:nvSpPr>
        <p:spPr>
          <a:xfrm>
            <a:off x="611280" y="2637000"/>
            <a:ext cx="734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课本  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P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隶书"/>
                <a:ea typeface="隶书"/>
              </a:rPr>
              <a:t>69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习题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2.2  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39640" y="1628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、什么是多项式的项和系数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84360" y="3141720"/>
            <a:ext cx="279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00000" y="23623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隶书"/>
              </a:rPr>
              <a:t>例如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：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-3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b+3ab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-b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; -15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b ;  -2x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y+3y-x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228600" y="304920"/>
            <a:ext cx="3695400" cy="825120"/>
            <a:chOff x="228600" y="304920"/>
            <a:chExt cx="3695400" cy="825120"/>
          </a:xfrm>
        </p:grpSpPr>
        <p:sp>
          <p:nvSpPr>
            <p:cNvPr id="90" name="AutoShape 11"/>
            <p:cNvSpPr/>
            <p:nvPr/>
          </p:nvSpPr>
          <p:spPr>
            <a:xfrm>
              <a:off x="316080" y="304920"/>
              <a:ext cx="3431520" cy="761760"/>
            </a:xfrm>
            <a:prstGeom prst="flowChart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 Box 12"/>
            <p:cNvSpPr/>
            <p:nvPr/>
          </p:nvSpPr>
          <p:spPr>
            <a:xfrm>
              <a:off x="228600" y="304920"/>
              <a:ext cx="3695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ff"/>
                  </a:solidFill>
                  <a:latin typeface="Calibri"/>
                  <a:ea typeface="华文行楷"/>
                </a:rPr>
                <a:t>一、复 习：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oup 29"/>
          <p:cNvGrpSpPr/>
          <p:nvPr/>
        </p:nvGrpSpPr>
        <p:grpSpPr>
          <a:xfrm>
            <a:off x="3809880" y="2743200"/>
            <a:ext cx="3744720" cy="2087640"/>
            <a:chOff x="3809880" y="2743200"/>
            <a:chExt cx="3744720" cy="2087640"/>
          </a:xfrm>
        </p:grpSpPr>
        <p:sp>
          <p:nvSpPr>
            <p:cNvPr id="93" name="Rectangle 13"/>
            <p:cNvSpPr/>
            <p:nvPr/>
          </p:nvSpPr>
          <p:spPr>
            <a:xfrm>
              <a:off x="4314600" y="3390840"/>
              <a:ext cx="2303640" cy="14400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6618240" y="3390840"/>
              <a:ext cx="936360" cy="1440000"/>
            </a:xfrm>
            <a:prstGeom prst="rect">
              <a:avLst/>
            </a:prstGeom>
            <a:solidFill>
              <a:srgbClr val="b4fa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15"/>
            <p:cNvSpPr/>
            <p:nvPr/>
          </p:nvSpPr>
          <p:spPr>
            <a:xfrm>
              <a:off x="4314600" y="28861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16"/>
            <p:cNvSpPr/>
            <p:nvPr/>
          </p:nvSpPr>
          <p:spPr>
            <a:xfrm>
              <a:off x="6618240" y="28861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17"/>
            <p:cNvSpPr/>
            <p:nvPr/>
          </p:nvSpPr>
          <p:spPr>
            <a:xfrm>
              <a:off x="5898960" y="31021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 flipH="1">
              <a:off x="4314240" y="310212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 flipH="1">
              <a:off x="6618240" y="31021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>
              <a:off x="7554600" y="29592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>
              <a:off x="7338960" y="310212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>
              <a:off x="3882960" y="339084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23"/>
            <p:cNvSpPr/>
            <p:nvPr/>
          </p:nvSpPr>
          <p:spPr>
            <a:xfrm>
              <a:off x="3882960" y="483084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 flipV="1">
              <a:off x="4025520" y="339084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4025520" y="42544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 Box 26"/>
            <p:cNvSpPr/>
            <p:nvPr/>
          </p:nvSpPr>
          <p:spPr>
            <a:xfrm>
              <a:off x="5394240" y="28148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 Box 27"/>
            <p:cNvSpPr/>
            <p:nvPr/>
          </p:nvSpPr>
          <p:spPr>
            <a:xfrm>
              <a:off x="6906960" y="27432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28"/>
            <p:cNvSpPr/>
            <p:nvPr/>
          </p:nvSpPr>
          <p:spPr>
            <a:xfrm>
              <a:off x="3809880" y="38228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Text Box 30"/>
          <p:cNvSpPr/>
          <p:nvPr/>
        </p:nvSpPr>
        <p:spPr>
          <a:xfrm>
            <a:off x="539640" y="3357720"/>
            <a:ext cx="31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隶书"/>
              </a:rPr>
              <a:t>右图的长方形由两个小长方形组成，求这个长方形的面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611280" y="50292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隶书"/>
                <a:ea typeface="隶书"/>
              </a:rPr>
              <a:t>有两种表示方法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8n+5n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 </a:t>
            </a: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(8+5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620280"/>
            <a:ext cx="70801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36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95280" y="5373720"/>
            <a:ext cx="70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上述运算有什么共同特点，你能从中得出什么规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468360" y="3716280"/>
                <a:ext cx="63370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395280" y="1628640"/>
                <a:ext cx="561672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2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)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" name="Group 13"/>
          <p:cNvGrpSpPr/>
          <p:nvPr/>
        </p:nvGrpSpPr>
        <p:grpSpPr>
          <a:xfrm>
            <a:off x="468360" y="2205000"/>
            <a:ext cx="5256000" cy="1427040"/>
            <a:chOff x="468360" y="2205000"/>
            <a:chExt cx="5256000" cy="1427040"/>
          </a:xfrm>
        </p:grpSpPr>
        <p:sp>
          <p:nvSpPr>
            <p:cNvPr id="116" name="AutoShape 12"/>
            <p:cNvSpPr/>
            <p:nvPr/>
          </p:nvSpPr>
          <p:spPr>
            <a:xfrm>
              <a:off x="468360" y="2205000"/>
              <a:ext cx="5256000" cy="14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347800" y="2550960"/>
              <a:ext cx="232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3299760" y="2550960"/>
              <a:ext cx="232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4404600" y="2614320"/>
              <a:ext cx="47016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100" spc="-1" strike="noStrike">
                  <a:solidFill>
                    <a:srgbClr val="000000"/>
                  </a:solidFill>
                  <a:latin typeface="Calibri"/>
                </a:rPr>
                <a:t>()</a:t>
              </a:r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2465640" y="2614320"/>
              <a:ext cx="39240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559080" y="2614320"/>
              <a:ext cx="39240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1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1445760" y="2325600"/>
              <a:ext cx="144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20"/>
            <p:cNvSpPr/>
            <p:nvPr/>
          </p:nvSpPr>
          <p:spPr>
            <a:xfrm>
              <a:off x="4958280" y="2614320"/>
              <a:ext cx="33588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1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2908800" y="2614320"/>
              <a:ext cx="33588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1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22"/>
            <p:cNvSpPr/>
            <p:nvPr/>
          </p:nvSpPr>
          <p:spPr>
            <a:xfrm>
              <a:off x="994320" y="2614320"/>
              <a:ext cx="56448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1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i="1" lang="en-US" sz="61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23"/>
            <p:cNvSpPr/>
            <p:nvPr/>
          </p:nvSpPr>
          <p:spPr>
            <a:xfrm>
              <a:off x="3690360" y="2525400"/>
              <a:ext cx="6163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24"/>
            <p:cNvSpPr/>
            <p:nvPr/>
          </p:nvSpPr>
          <p:spPr>
            <a:xfrm>
              <a:off x="1881000" y="2525400"/>
              <a:ext cx="45324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6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9"/>
          <p:cNvGrpSpPr/>
          <p:nvPr/>
        </p:nvGrpSpPr>
        <p:grpSpPr>
          <a:xfrm>
            <a:off x="304920" y="260280"/>
            <a:ext cx="3403080" cy="777960"/>
            <a:chOff x="304920" y="260280"/>
            <a:chExt cx="3403080" cy="777960"/>
          </a:xfrm>
        </p:grpSpPr>
        <p:sp>
          <p:nvSpPr>
            <p:cNvPr id="129" name="AutoShape 7"/>
            <p:cNvSpPr/>
            <p:nvPr/>
          </p:nvSpPr>
          <p:spPr>
            <a:xfrm>
              <a:off x="304920" y="276120"/>
              <a:ext cx="3403080" cy="762120"/>
            </a:xfrm>
            <a:prstGeom prst="flowChartProcess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394200" y="260280"/>
              <a:ext cx="3134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Calibri"/>
                  <a:ea typeface="华文行楷"/>
                </a:rPr>
                <a:t>二、新 课：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Text Box 10"/>
          <p:cNvSpPr/>
          <p:nvPr/>
        </p:nvSpPr>
        <p:spPr>
          <a:xfrm>
            <a:off x="468360" y="105264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、同类项的概念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57200" y="1700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概念：所含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华文行楷"/>
              </a:rPr>
              <a:t>字母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相同，并且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隶书"/>
              </a:rPr>
              <a:t>相同字母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华文行楷"/>
              </a:rPr>
              <a:t>指数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也相同的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隶书"/>
              </a:rPr>
              <a:t>项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，叫做同类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4920" y="2781360"/>
            <a:ext cx="762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c0504d"/>
                </a:solidFill>
                <a:latin typeface="Calibri"/>
                <a:ea typeface="隶书"/>
              </a:rPr>
              <a:t>注意：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判断是否同类项具有两个条件，二者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                              缺一不可；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523880" y="3716280"/>
            <a:ext cx="636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同类项与系数无关，与字母的排列也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          无关；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2612880" y="44370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几个常数项也是同类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95280" y="5075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504d"/>
                </a:solidFill>
                <a:latin typeface="Calibri"/>
                <a:ea typeface="华文行楷"/>
              </a:rPr>
              <a:t>例如</a:t>
            </a:r>
            <a:r>
              <a:rPr b="1" lang="zh-CN" sz="1800" spc="-1" strike="noStrike">
                <a:solidFill>
                  <a:srgbClr val="c0504d"/>
                </a:solidFill>
                <a:latin typeface="Calibri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）</a:t>
            </a: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2x</a:t>
            </a:r>
            <a:r>
              <a:rPr b="1" lang="en-US" sz="1800" spc="-1" strike="noStrike" baseline="30000">
                <a:solidFill>
                  <a:srgbClr val="9933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y </a:t>
            </a: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与 </a:t>
            </a: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5x</a:t>
            </a:r>
            <a:r>
              <a:rPr b="1" lang="en-US" sz="1800" spc="-1" strike="noStrike" baseline="30000">
                <a:solidFill>
                  <a:srgbClr val="9933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y               (2)  2ab</a:t>
            </a:r>
            <a:r>
              <a:rPr b="1" lang="en-US" sz="1800" spc="-1" strike="noStrike" baseline="30000">
                <a:solidFill>
                  <a:srgbClr val="9933ff"/>
                </a:solidFill>
                <a:latin typeface="Calibri"/>
              </a:rPr>
              <a:t>3</a:t>
            </a: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与 </a:t>
            </a: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2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b         </a:t>
            </a:r>
            <a:br>
              <a:rPr sz="1800"/>
            </a:b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               (3)   4abc</a:t>
            </a: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与</a:t>
            </a: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2ab                  (4) 3mn </a:t>
            </a: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与 </a:t>
            </a: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-nm          </a:t>
            </a:r>
            <a:br>
              <a:rPr sz="1800"/>
            </a:b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               (5)   5</a:t>
            </a:r>
            <a:r>
              <a:rPr b="1" lang="en-US" sz="1800" spc="-1" strike="noStrike" baseline="30000">
                <a:solidFill>
                  <a:srgbClr val="9933ff"/>
                </a:solidFill>
                <a:latin typeface="Calibri"/>
              </a:rPr>
              <a:t>3 </a:t>
            </a: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与 </a:t>
            </a: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a</a:t>
            </a:r>
            <a:r>
              <a:rPr b="1" lang="en-US" sz="1800" spc="-1" strike="noStrike" baseline="30000">
                <a:solidFill>
                  <a:srgbClr val="9933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                        (6)   -5 </a:t>
            </a: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与 </a:t>
            </a: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746748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因为多项式中的字母表示的是数，所以可以运用交换律，结合律，分配律把多项式中的同类项进行合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98"/>
          <p:cNvSpPr/>
          <p:nvPr/>
        </p:nvSpPr>
        <p:spPr>
          <a:xfrm>
            <a:off x="826920" y="220500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2x + 7 + 3x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8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685800" y="22860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合并同类项：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1219320" y="9907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华文行楷"/>
                <a:ea typeface="华文行楷"/>
              </a:rPr>
              <a:t>(1)</a:t>
            </a:r>
            <a:r>
              <a:rPr b="1" lang="zh-CN" sz="2800" spc="-1" strike="noStrike">
                <a:solidFill>
                  <a:srgbClr val="c0504d"/>
                </a:solidFill>
                <a:latin typeface="华文行楷"/>
                <a:ea typeface="华文行楷"/>
              </a:rPr>
              <a:t>合并同类项的概念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57200" y="1484280"/>
            <a:ext cx="74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把代数式中的同类项合并成一项，叫做合并同类项。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914400" y="206064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华文行楷"/>
                <a:ea typeface="华文行楷"/>
              </a:rPr>
              <a:t>（</a:t>
            </a:r>
            <a:r>
              <a:rPr b="1" lang="en-US" sz="2800" spc="-1" strike="noStrike">
                <a:solidFill>
                  <a:srgbClr val="c0504d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c0504d"/>
                </a:solidFill>
                <a:latin typeface="华文行楷"/>
                <a:ea typeface="华文行楷"/>
              </a:rPr>
              <a:t>）合并同类项的法则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80880" y="26370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Calibri"/>
              </a:rPr>
              <a:t>         </a:t>
            </a: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同类项的系数相加，所得的结果作为系数，字母和字母的指数不变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04920" y="304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合并同类项：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-xy</a:t>
            </a:r>
            <a:r>
              <a:rPr b="1" lang="en-US" sz="32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+3xy</a:t>
            </a:r>
            <a:r>
              <a:rPr b="1" lang="en-US" sz="32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,  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2)7a+3a</a:t>
            </a:r>
            <a:r>
              <a:rPr b="1" lang="en-US" sz="32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+2a-a</a:t>
            </a:r>
            <a:r>
              <a:rPr b="1" lang="en-US" sz="32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+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170640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原式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=(-1+3)xy</a:t>
            </a:r>
            <a:r>
              <a:rPr b="1" lang="en-US" sz="32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762120" y="28494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原式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=(7+2)a+(3-1)a</a:t>
            </a:r>
            <a:r>
              <a:rPr b="1" lang="en-US" sz="32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5"/>
          <p:cNvGrpSpPr/>
          <p:nvPr/>
        </p:nvGrpSpPr>
        <p:grpSpPr>
          <a:xfrm>
            <a:off x="1752480" y="1447920"/>
            <a:ext cx="1752840" cy="0"/>
            <a:chOff x="1752480" y="1447920"/>
            <a:chExt cx="1752840" cy="0"/>
          </a:xfrm>
        </p:grpSpPr>
        <p:sp>
          <p:nvSpPr>
            <p:cNvPr id="148" name="Line 7"/>
            <p:cNvSpPr/>
            <p:nvPr/>
          </p:nvSpPr>
          <p:spPr>
            <a:xfrm>
              <a:off x="1752480" y="1447920"/>
              <a:ext cx="60984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2666880" y="1447920"/>
              <a:ext cx="83844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16"/>
          <p:cNvGrpSpPr/>
          <p:nvPr/>
        </p:nvGrpSpPr>
        <p:grpSpPr>
          <a:xfrm>
            <a:off x="4800600" y="1447920"/>
            <a:ext cx="1905120" cy="0"/>
            <a:chOff x="4800600" y="1447920"/>
            <a:chExt cx="1905120" cy="0"/>
          </a:xfrm>
        </p:grpSpPr>
        <p:sp>
          <p:nvSpPr>
            <p:cNvPr id="151" name="Line 9"/>
            <p:cNvSpPr/>
            <p:nvPr/>
          </p:nvSpPr>
          <p:spPr>
            <a:xfrm>
              <a:off x="4800600" y="1447920"/>
              <a:ext cx="4572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6172200" y="1447920"/>
              <a:ext cx="53352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7"/>
          <p:cNvGrpSpPr/>
          <p:nvPr/>
        </p:nvGrpSpPr>
        <p:grpSpPr>
          <a:xfrm>
            <a:off x="5410080" y="1371600"/>
            <a:ext cx="1905120" cy="82440"/>
            <a:chOff x="5410080" y="1371600"/>
            <a:chExt cx="1905120" cy="82440"/>
          </a:xfrm>
        </p:grpSpPr>
        <p:sp>
          <p:nvSpPr>
            <p:cNvPr id="154" name="Line 11"/>
            <p:cNvSpPr/>
            <p:nvPr/>
          </p:nvSpPr>
          <p:spPr>
            <a:xfrm>
              <a:off x="5410080" y="1371600"/>
              <a:ext cx="60984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5410080" y="1454040"/>
              <a:ext cx="60984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6840360" y="1371600"/>
              <a:ext cx="4572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6858000" y="1454040"/>
              <a:ext cx="457200" cy="0"/>
            </a:xfrm>
            <a:prstGeom prst="line">
              <a:avLst/>
            </a:prstGeom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Rectangle 18"/>
          <p:cNvSpPr/>
          <p:nvPr/>
        </p:nvSpPr>
        <p:spPr>
          <a:xfrm>
            <a:off x="2878560" y="223992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=2xy</a:t>
            </a:r>
            <a:r>
              <a:rPr b="1" lang="en-US" sz="32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2865960" y="345924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=9a+2a</a:t>
            </a:r>
            <a:r>
              <a:rPr b="1" lang="en-US" sz="32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304920" y="426708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注意： 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合并同类项只是系数相加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字母与字母的指数不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2854080" y="5592600"/>
            <a:ext cx="34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）不是同类项的不能合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合并同类项的步骤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95280" y="29973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第一步   准确找出同类项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（用下划线）</a:t>
            </a: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24000" y="3789360"/>
            <a:ext cx="7126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第二步   逆用分配律，把同类项的系数加在一起      </a:t>
            </a:r>
            <a:br>
              <a:rPr sz="1800"/>
            </a:b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（用小括号）</a:t>
            </a: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，字母和字母的指数不变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95280" y="494172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33ff"/>
                </a:solidFill>
                <a:latin typeface="Calibri"/>
              </a:rPr>
              <a:t>第三步   写出合并后的结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04920" y="136440"/>
            <a:ext cx="792468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合并同类项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3a+2b-5a-b,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-4ab+8-2b</a:t>
            </a:r>
            <a:r>
              <a:rPr b="1" lang="en-US" sz="32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-9ab-8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      </a:t>
            </a: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c66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5yx</a:t>
            </a:r>
            <a:r>
              <a:rPr b="1" lang="en-US" sz="32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+2xy+6x</a:t>
            </a:r>
            <a:r>
              <a:rPr b="1" lang="en-US" sz="32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y-2xy+4xy</a:t>
            </a:r>
            <a:r>
              <a:rPr b="1" lang="en-US" sz="32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3T00:59:33Z</dcterms:created>
  <dc:creator>Administrator</dc:creator>
  <dc:description/>
  <dc:language>en-US</dc:language>
  <cp:lastModifiedBy>Administrator</cp:lastModifiedBy>
  <dcterms:modified xsi:type="dcterms:W3CDTF">2018-03-13T08:04:59Z</dcterms:modified>
  <cp:revision>2</cp:revision>
  <dc:subject/>
  <dc:title>幻灯片 1</dc:title>
</cp:coreProperties>
</file>