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0.png" ContentType="image/png"/>
  <Override PartName="/ppt/media/image2.jpeg" ContentType="image/jpeg"/>
  <Override PartName="/ppt/media/hammer.wav" ContentType="audio/x-wav"/>
  <Override PartName="/ppt/media/image21.png" ContentType="image/png"/>
  <Override PartName="/ppt/media/image19.png" ContentType="image/png"/>
  <Override PartName="/ppt/media/image22.wmf" ContentType="image/x-wmf"/>
  <Override PartName="/ppt/media/image18.jpeg" ContentType="image/jpeg"/>
  <Override PartName="/ppt/media/image15.wmf" ContentType="image/x-wmf"/>
  <Override PartName="/ppt/media/image14.wmf" ContentType="image/x-wmf"/>
  <Override PartName="/ppt/media/image17.jpeg" ContentType="image/jpeg"/>
  <Override PartName="/ppt/media/image11.wmf" ContentType="image/x-wmf"/>
  <Override PartName="/ppt/media/explode.wav" ContentType="audio/x-wav"/>
  <Override PartName="/ppt/media/image50.png" ContentType="image/png"/>
  <Override PartName="/ppt/media/image10.wmf" ContentType="image/x-wmf"/>
  <Override PartName="/ppt/media/image1.png" ContentType="image/png"/>
  <Override PartName="/ppt/media/image29.wmf" ContentType="image/x-wmf"/>
  <Override PartName="/ppt/media/WHOOSH.WAV" ContentType="audio/x-wav"/>
  <Override PartName="/ppt/media/image3.jpeg" ContentType="image/jpeg"/>
  <Override PartName="/ppt/media/image28.wmf" ContentType="image/x-wmf"/>
  <Override PartName="/ppt/media/camera.wav" ContentType="audio/x-wav"/>
  <Override PartName="/ppt/media/image46.png" ContentType="image/png"/>
  <Override PartName="/ppt/media/image16.png" ContentType="image/png"/>
  <Override PartName="/ppt/media/chimes.wav" ContentType="audio/x-wav"/>
  <Override PartName="/ppt/media/image32.wmf" ContentType="image/x-wmf"/>
  <Override PartName="/ppt/media/image7.wmf" ContentType="image/x-wmf"/>
  <Override PartName="/ppt/media/image37.wmf" ContentType="image/x-wmf"/>
  <Override PartName="/ppt/media/type.wav" ContentType="audio/x-wav"/>
  <Override PartName="/ppt/media/image12.wmf" ContentType="image/x-wmf"/>
  <Override PartName="/ppt/media/image27.wmf" ContentType="image/x-wmf"/>
  <Override PartName="/ppt/media/image33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48.png" ContentType="image/png"/>
  <Override PartName="/ppt/media/coin.wav" ContentType="audio/x-wav"/>
  <Override PartName="/ppt/media/image44.wmf" ContentType="image/x-wmf"/>
  <Override PartName="/ppt/media/image34.wmf" ContentType="image/x-wmf"/>
  <Override PartName="/ppt/media/image49.png" ContentType="image/png"/>
  <Override PartName="/ppt/media/image39.wmf" ContentType="image/x-wmf"/>
  <Override PartName="/ppt/media/image9.wmf" ContentType="image/x-wmf"/>
  <Override PartName="/ppt/media/image47.png" ContentType="image/png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6.wmf" ContentType="image/x-wmf"/>
  <Override PartName="/ppt/media/image36.wmf" ContentType="image/x-wmf"/>
  <Override PartName="/ppt/media/image5.png" ContentType="image/png"/>
  <Override PartName="/ppt/media/image13.wmf" ContentType="image/x-wmf"/>
  <Override PartName="/ppt/media/image4.png" ContentType="image/png"/>
  <Override PartName="/ppt/media/laser.wav" ContentType="audio/x-wav"/>
  <Override PartName="/ppt/media/image35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0FCB1-53FE-4982-966B-3EB2D6CF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86A7B-3B62-49BF-BA35-4026F6D6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1D0BB-7CC7-4503-9268-6DE025C7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4BC82-B647-4F0A-861D-D490D696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362B2-F3C4-4686-8867-E35C7DB8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9D3AB-3963-4C71-9458-E8BADE72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64F3-A4F0-40CD-9DFE-EF4D582B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D219C-B795-4D31-A0EE-E3B3CAD1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0579F-EBF9-47EC-8361-CD733F07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61DA7-75CD-48FF-9879-986E0D0F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2E2B2-F34F-4DA2-AB6B-F607E3CB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424BC-C445-4763-A891-EC495B07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22150-6A17-415D-BFE1-3D51159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6E7AD-FCDB-4733-B7AF-BC7C30D1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A6F3D-55D9-42FA-8E87-23D16B05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B7E99-248A-4876-8BE7-A14904C2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74574-363B-45A9-8B37-E1017832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3E218-1810-4A57-9E1C-C0B2A0E6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08F25-D200-4CF2-9E71-936E6C8F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B4AF4-E930-4EA6-B2E8-0EF25273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1D0AF-B374-44AD-ACED-BCEB1E8A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E6A95-5656-4495-862B-75A42A71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C5F6D-BE69-4A91-B220-AE016681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089E1-DAB4-4F2B-AEAF-4077AA4F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E17CB-EE66-40B3-9AA4-368EBB6F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CDC7A-8A03-4358-AB89-CCC917EE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CA11D-363E-4272-B764-2C19C5B2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02222-0A6A-4F57-B888-73961CA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3C673-91EA-41DB-9FD3-6A10EE29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D3A52-AC18-4DFC-AC31-43C82D27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FA9-3E30-488F-9418-A9351271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9E15D-7653-4D72-B1DE-3D656948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84FBA-3D78-47A4-B6E2-63794BF9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DFF07-FE8B-4998-879E-65348740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1A9DC-1CBA-4F9D-8ED0-5BED4F5B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8F53B-07D1-4C65-8B17-96DBE15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A0F3A-0584-4482-BE7E-5AB6968D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917D7-E160-4CFC-A1EB-447CD565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E3F1E-55A8-4427-9115-FAD4068A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A3F19-EF3C-4B36-B5BC-A681971D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88E43-51A0-454C-B935-BBAF6D54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62D-A989-4DBE-B49C-575959B5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67E22-09A4-46E4-8ABE-876A255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9C1E0-9EE8-4696-8797-356161BD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7E105-1850-4D65-900B-7388CBC1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57C3F-EF75-4633-8A98-9CE90C07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38DB2-ED2B-4555-A736-BFEE9EA9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C3A83-FAF8-43C0-8139-9EC375AF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EDFD6-8D42-4E6B-B58B-1B8519B5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5B53D-4476-47F8-B22A-524E9293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DD9A0-6DE2-439E-9A26-8B5A386E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D13E0-D8A2-4281-ADB0-23DC4FC0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1EF-36DF-4B67-8D5C-A472185F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7E7D9-CE4B-47F9-BF27-B24304E4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9C1BA-382E-460A-946E-DB879E36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DD746-3E82-419C-BD52-C7137738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6426D-2345-4DFD-B24E-793F69DA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399D7-5707-4B8C-BDED-01AF3A9F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E50D8-E838-4EAD-9097-26E313E6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F7CB1-3B6D-4FAB-B198-1F2D4F80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37BD7-FFA7-4B09-8E86-80B59BDD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E8EC2-2717-4812-A23D-9FBA7451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0C090-1407-4830-9CA4-BD2D796E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975-AA3E-40A0-BD88-17CEFD96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80BA3-09D3-4831-9E37-49A634CE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F69A8-9B20-4239-9BE9-F1F90EE7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26FAF-7496-4C4A-A270-11D6BE95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BC954-08CA-47E1-8CCB-9F7742D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A750B-26EB-4136-96EC-F9BF0E18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D0701-2469-4DAB-9EAD-43871051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C8F8B-1B06-4389-B82C-2D849EEA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79AB4-B4BB-4C5B-80F5-E44F1C16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EF518-70E1-46EE-A868-03959749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17283-8C50-4EA4-B707-7D6F087E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624-08FC-44D9-8C93-04158ECD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1DA96-3398-4CB2-B5E1-047B64EB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FCEE4-761E-448F-9812-E86EF945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518B9-3A71-4A21-8E9E-E46072F2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08A73-C250-426E-A504-CB162ED3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84AE1-46F4-4930-B91E-18EA6852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5FF9A-4FFD-4ABB-AE47-6306FE15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6B740-DD71-40AD-B7B6-2B67B01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8D3CB-07D9-4CA1-A3C0-929530D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92C41-54FE-4DF3-A455-377046E5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B3294-9DD4-4975-9ED2-7AB30944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77E-A7FB-4E4A-AB46-46B90F33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66C83-C6F1-4366-B073-C1190BE7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5B4C2-F597-4BFF-9167-8A9E0C1B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99576-AEF7-45BD-A79D-7FD46BC4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956EE-629D-412D-AE32-19874B79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B6C32-0DB0-416B-9955-26767F3E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75464-313E-46BC-81E2-85108162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7B11B-20D1-4418-86DC-110F0520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8BF6E-D384-4A2B-ADEF-0184E18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23DAF-33A4-4EC6-931B-2AC6E253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2E98D-B211-492A-BBB7-4E44AA3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CFC-71AA-4C29-9E31-C7C8072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2223E-6F38-465E-AED8-DD33B4B3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14C5F-127C-4B5C-B0DA-E1A895EE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FCB81-7B21-4299-A333-BCF948EA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F82-C1F9-4F0D-B0AA-1AE0076C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A09-E468-477E-B082-A8C83987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669-8F9D-4D13-81F0-90B5C3F6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39A-DC2E-42CA-B25B-8ECFC90E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8DE-27FF-4E58-9203-843FD688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9A3D-A6D4-447E-B99D-A56361D7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E10E-75E6-4204-8100-2CA97D04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94C5-D52B-42B7-98DA-4CC922DE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7AE2-1AA1-4DB6-96E6-C7C48276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C96F-9A22-4258-BACD-1D7A034C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E692-146B-4CFC-A5CB-0CEDF12A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055D-853D-4F62-A9DF-6F801A2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8BA5-D57F-46A8-9DA3-E0C3050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84B1-4BA2-4D6E-8224-9FB01CA1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29D7-9347-48E7-9564-05088773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1B14-855E-4ED7-B3F4-2A93D3EE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6DC6-A98B-417B-B96C-06EE77C5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9EFE-BCC6-4976-8436-E883D2BF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B857-ACF6-43FB-9C96-DE59F71E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1269-70AB-4705-B1B9-6F5A08E7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C9BB-D157-4076-918C-D01FEC53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1644-F601-4527-B092-146E6179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13DC-3EC6-4376-8830-E7752090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1517-7161-4B7D-897D-3153CCEB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5EDC1-D318-48A4-8F12-59E53AA2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1D93-62B7-4EE9-B7B9-1189F1F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5255-C8A8-4BB0-8885-DCCB8F6E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9830-9632-43AD-8F5A-21001918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79A9-018B-44AD-83CF-6DBAA7EE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7F56A-F5BE-44A1-9EC1-A7F677DF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2E23-42DE-4BB8-B053-5EE172FC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F401-91B8-4A74-B6E1-B871F7F8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89B71-5D9A-428B-B010-146C0423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0D62-00EC-47F8-890B-F20C5FB3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C6C6B-4DE0-497E-B829-3DC5D09C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5189-521D-49CB-BB1F-1703A718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01DBD-655A-4C2E-826E-E274E4E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1788-95D7-4AB4-9221-5B873301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7400-8D75-4FF8-BDBB-4CAEB4F4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E0FD-B4CF-4FA8-9E40-CBA5E5A2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BADD5-485B-4977-B94E-2F48DC4D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4EBF4-CA53-4F53-B2E0-7D5B9D75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68D48-2A54-43C1-BB40-0EC6F8F4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16F7-E1F2-4466-A5D4-8E3361D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B977-2DAA-430D-B880-B7EB6CC4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837F5-6F9B-4774-868A-DDC70264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7D30-25EB-4DC6-A960-0C6CD2FB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EFB0-9762-4531-9FE1-EAE0B7A4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A593-96AB-419B-A7B1-EB4AD2B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C6722-4213-46C7-94DE-1DEB78D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3DD05-0E13-4D00-A539-3577E4DE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E45F0-52F1-4DCF-8EB1-6769FD3A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BB6CA-FDA5-41B7-B3F6-23D47B10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FF7C6-BB23-423E-A4BF-FBE3DDCD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CB623-3FF4-461D-835C-FA75826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65093-0CD4-4FE1-B316-ADC736CF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3309C-C143-4F7C-A785-7D46A848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363F-2661-473F-BFE1-9B1FD506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67FF5-AB68-44D9-949C-37B9D7F2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A791-1143-436F-AA95-43AC18C7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76CF6-4DFB-411E-979E-5073DDC5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7B4D3-D925-4D0E-BA66-23A850EB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B3136-0BD9-4153-B219-48CE0DD2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56382-76F2-4EC0-BE69-BE86B354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900B-A59B-408B-B69E-F908B893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EDD49-E813-4485-AD1B-C7145151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4C258-743E-4A0E-935A-573099A1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E72CB-EB06-4164-967F-A8BE301E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DCB75-EAF9-466D-B1CF-7B883C16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F0183-FEAE-48D9-A79D-C8120853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1CA77-2F75-4FDE-B15E-36BDAE9E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B88F6-54DD-4F03-81AC-44DFE7B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FA299-837A-431E-AC2A-1881C0F2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6DC33-5CAA-4D16-A07A-F0FB91DA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4BE64-8B33-471C-9E98-DB96F9D0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A6E3F-B2B4-4E67-ABEF-74EEAFEC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2E349-9806-40FD-BE53-FFFDB712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B89B3-BF7C-41E6-AFC4-0B838426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385E6-4ECD-41E7-8702-82D63EFE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DC20C-2CDD-42A9-83F7-05F7590B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7579-7028-4CF4-8B44-68DC98299A2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3B18-AADF-42D3-92BC-6AFA451A26C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29A9-1656-4C24-ACEC-9CEA2E29E5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DE38-D788-4036-AC6A-EF3B828512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532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3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97D5-3F91-4733-A1FE-BFEDB08D75A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E4EE-C50B-45F8-9FE2-1FA27F8C7488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4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4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4DE5-36EB-4D23-95F0-FDF15579D408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39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E2FA-5323-444C-A010-B05A52C1AB2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78C4-3067-4C1C-8B71-39D162C9AF8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29B7-6960-4104-A0C5-683BAAD76C1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57E5-9259-4F5C-A48E-6C5AF07F10F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8B0D-9B3B-489E-A373-F40C12120B8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7106-BA68-410D-A400-22DE64AB621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A8D0-9251-460D-8EA9-446108A981F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9842-5410-411D-AADE-0AC49806765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zwz.com/cpmanage/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6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slideLayout" Target="../slideLayouts/slideLayout16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6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6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wm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explode.wav"/><Relationship Id="rId4" Type="http://schemas.openxmlformats.org/officeDocument/2006/relationships/audio" Target="../media/hammer.wav"/><Relationship Id="rId5" Type="http://schemas.openxmlformats.org/officeDocument/2006/relationships/audio" Target="../media/type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audio" Target="../media/type.wav"/><Relationship Id="rId10" Type="http://schemas.openxmlformats.org/officeDocument/2006/relationships/audio" Target="../media/laser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5"/>
          <p:cNvSpPr/>
          <p:nvPr/>
        </p:nvSpPr>
        <p:spPr>
          <a:xfrm>
            <a:off x="639720" y="2708280"/>
            <a:ext cx="78660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3.3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解一元一次方程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      ——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去括号与去分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6"/>
          <p:cNvSpPr/>
          <p:nvPr/>
        </p:nvSpPr>
        <p:spPr>
          <a:xfrm>
            <a:off x="250920" y="446040"/>
            <a:ext cx="7696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例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一艘船从甲码头到乙码头顺流行驶，用了</a:t>
            </a:r>
            <a:r>
              <a:rPr b="1" lang="en-US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小时；从乙码头返回甲码头逆流行驶，用了</a:t>
            </a:r>
            <a:r>
              <a:rPr b="1" lang="en-US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2.5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小时．已知水流的速度是</a:t>
            </a:r>
            <a:r>
              <a:rPr b="1" lang="en-US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千米／时，求船在静水中的平均速度．</a:t>
            </a:r>
            <a:r>
              <a:rPr b="0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15"/>
          <p:cNvGrpSpPr/>
          <p:nvPr/>
        </p:nvGrpSpPr>
        <p:grpSpPr>
          <a:xfrm>
            <a:off x="393840" y="2867040"/>
            <a:ext cx="7885080" cy="2127600"/>
            <a:chOff x="393840" y="2867040"/>
            <a:chExt cx="7885080" cy="2127600"/>
          </a:xfrm>
        </p:grpSpPr>
        <p:grpSp>
          <p:nvGrpSpPr>
            <p:cNvPr id="752" name="Group 14"/>
            <p:cNvGrpSpPr/>
            <p:nvPr/>
          </p:nvGrpSpPr>
          <p:grpSpPr>
            <a:xfrm>
              <a:off x="393840" y="2867040"/>
              <a:ext cx="7885080" cy="1637280"/>
              <a:chOff x="393840" y="2867040"/>
              <a:chExt cx="7885080" cy="1637280"/>
            </a:xfrm>
          </p:grpSpPr>
          <p:sp>
            <p:nvSpPr>
              <p:cNvPr id="753" name="Text Box 7"/>
              <p:cNvSpPr/>
              <p:nvPr/>
            </p:nvSpPr>
            <p:spPr>
              <a:xfrm>
                <a:off x="393840" y="2867040"/>
                <a:ext cx="590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分析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: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问题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1: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此题已知什么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? 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求什么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1114560" y="3154320"/>
                <a:ext cx="7164360" cy="13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问题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2: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如果设船在静水中的平均速度为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x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千米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/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小时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,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那么船在顺水时的速度为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______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千米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/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小时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,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在逆流的速度为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______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千米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/</a:t>
                </a:r>
                <a:r>
                  <a:rPr b="1" lang="zh-CN" sz="2000" spc="-1" strike="noStrike">
                    <a:solidFill>
                      <a:srgbClr val="0033cc"/>
                    </a:solidFill>
                    <a:latin typeface="Times New Roman"/>
                  </a:rPr>
                  <a:t>小时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114560" y="4595760"/>
              <a:ext cx="71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imes New Roman"/>
                </a:rPr>
                <a:t>问题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3:</a:t>
              </a:r>
              <a:r>
                <a:rPr b="1" lang="zh-CN" sz="2000" spc="-1" strike="noStrike">
                  <a:solidFill>
                    <a:srgbClr val="0033cc"/>
                  </a:solidFill>
                  <a:latin typeface="Times New Roman"/>
                </a:rPr>
                <a:t>此题中的相等关系是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_____________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Text Box 10"/>
          <p:cNvSpPr/>
          <p:nvPr/>
        </p:nvSpPr>
        <p:spPr>
          <a:xfrm>
            <a:off x="4211640" y="45226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往返的路程相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1"/>
          <p:cNvSpPr/>
          <p:nvPr/>
        </p:nvSpPr>
        <p:spPr>
          <a:xfrm>
            <a:off x="2771640" y="35323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x+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2"/>
          <p:cNvSpPr/>
          <p:nvPr/>
        </p:nvSpPr>
        <p:spPr>
          <a:xfrm>
            <a:off x="6516720" y="35323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x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3"/>
          <p:cNvSpPr/>
          <p:nvPr/>
        </p:nvSpPr>
        <p:spPr>
          <a:xfrm>
            <a:off x="682560" y="5170320"/>
            <a:ext cx="69850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解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设船在静水中的平均速度为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千米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小时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那么船在顺水时的速度为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x+3)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千米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小时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在逆流的速度为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x-3)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千米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小时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 (x+3)=2.5 (x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7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14"/>
          <p:cNvGrpSpPr/>
          <p:nvPr/>
        </p:nvGrpSpPr>
        <p:grpSpPr>
          <a:xfrm>
            <a:off x="1332000" y="2421000"/>
            <a:ext cx="7811640" cy="3326400"/>
            <a:chOff x="1332000" y="2421000"/>
            <a:chExt cx="7811640" cy="3326400"/>
          </a:xfrm>
        </p:grpSpPr>
        <p:sp>
          <p:nvSpPr>
            <p:cNvPr id="761" name="Text Box 5"/>
            <p:cNvSpPr/>
            <p:nvPr/>
          </p:nvSpPr>
          <p:spPr>
            <a:xfrm>
              <a:off x="1332000" y="2421000"/>
              <a:ext cx="690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1. 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顺流行驶的路程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逆流行驶的路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7"/>
            <p:cNvSpPr/>
            <p:nvPr/>
          </p:nvSpPr>
          <p:spPr>
            <a:xfrm>
              <a:off x="1332000" y="3449520"/>
              <a:ext cx="781164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2. 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顺水的速度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静水中的速度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+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水流的速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逆水的速度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静水中的速度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–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水流的速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AutoShape 12"/>
          <p:cNvSpPr/>
          <p:nvPr/>
        </p:nvSpPr>
        <p:spPr>
          <a:xfrm>
            <a:off x="395280" y="692280"/>
            <a:ext cx="2160720" cy="1366560"/>
          </a:xfrm>
          <a:prstGeom prst="cloudCallout">
            <a:avLst>
              <a:gd name="adj1" fmla="val 115629"/>
              <a:gd name="adj2" fmla="val 78995"/>
            </a:avLst>
          </a:prstGeom>
          <a:solidFill>
            <a:srgbClr val="0000ff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3"/>
          <p:cNvSpPr/>
          <p:nvPr/>
        </p:nvSpPr>
        <p:spPr>
          <a:xfrm>
            <a:off x="755640" y="9874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总结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15"/>
          <p:cNvSpPr/>
          <p:nvPr/>
        </p:nvSpPr>
        <p:spPr>
          <a:xfrm>
            <a:off x="539640" y="884160"/>
            <a:ext cx="777744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探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某车间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名工人生产螺钉和螺母，每人每天平均生产螺钉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20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个或螺母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个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个螺钉要配两个螺母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。为了使每天的产品刚好配套，应该分配多少名工人生产螺钉，多少名工人生产螺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23"/>
          <p:cNvGrpSpPr/>
          <p:nvPr/>
        </p:nvGrpSpPr>
        <p:grpSpPr>
          <a:xfrm>
            <a:off x="324000" y="2540160"/>
            <a:ext cx="8243280" cy="1950840"/>
            <a:chOff x="324000" y="2540160"/>
            <a:chExt cx="8243280" cy="1950840"/>
          </a:xfrm>
        </p:grpSpPr>
        <p:pic>
          <p:nvPicPr>
            <p:cNvPr id="767" name="Picture 16" descr="5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058920" y="2540160"/>
              <a:ext cx="2808000" cy="19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17" descr="j0227598"/>
            <p:cNvPicPr/>
            <p:nvPr/>
          </p:nvPicPr>
          <p:blipFill>
            <a:blip r:embed="rId4"/>
            <a:stretch/>
          </p:blipFill>
          <p:spPr>
            <a:xfrm>
              <a:off x="5867280" y="2540160"/>
              <a:ext cx="270000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18" descr="PH02286J"/>
            <p:cNvPicPr/>
            <p:nvPr/>
          </p:nvPicPr>
          <p:blipFill>
            <a:blip r:embed="rId5"/>
            <a:stretch/>
          </p:blipFill>
          <p:spPr>
            <a:xfrm>
              <a:off x="324000" y="2540160"/>
              <a:ext cx="2734920" cy="19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0" name="Group 24"/>
          <p:cNvGrpSpPr/>
          <p:nvPr/>
        </p:nvGrpSpPr>
        <p:grpSpPr>
          <a:xfrm>
            <a:off x="466560" y="4629240"/>
            <a:ext cx="7848720" cy="1467720"/>
            <a:chOff x="466560" y="4629240"/>
            <a:chExt cx="7848720" cy="1467720"/>
          </a:xfrm>
        </p:grpSpPr>
        <p:sp>
          <p:nvSpPr>
            <p:cNvPr id="771" name="Text Box 19"/>
            <p:cNvSpPr/>
            <p:nvPr/>
          </p:nvSpPr>
          <p:spPr>
            <a:xfrm>
              <a:off x="466560" y="4629240"/>
              <a:ext cx="78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分析</a:t>
              </a:r>
              <a:r>
                <a:rPr b="1" lang="en-US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: </a:t>
              </a:r>
              <a:r>
                <a:rPr b="1" lang="zh-CN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问题</a:t>
              </a:r>
              <a:r>
                <a:rPr b="1" lang="en-US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1</a:t>
              </a:r>
              <a:r>
                <a:rPr b="1" lang="zh-CN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：你能从题目中获取哪些信息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20"/>
            <p:cNvSpPr/>
            <p:nvPr/>
          </p:nvSpPr>
          <p:spPr>
            <a:xfrm>
              <a:off x="1403280" y="5132520"/>
              <a:ext cx="41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问题</a:t>
              </a:r>
              <a:r>
                <a:rPr b="1" lang="en-US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：刚好配套什么意思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21"/>
            <p:cNvSpPr/>
            <p:nvPr/>
          </p:nvSpPr>
          <p:spPr>
            <a:xfrm>
              <a:off x="1403280" y="563724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问题</a:t>
              </a:r>
              <a:r>
                <a:rPr b="1" lang="en-US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3</a:t>
              </a:r>
              <a:r>
                <a:rPr b="1" lang="zh-CN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：设什么为</a:t>
              </a:r>
              <a:r>
                <a:rPr b="1" lang="en-US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x</a:t>
              </a:r>
              <a:r>
                <a:rPr b="1" lang="zh-CN" sz="24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？相等关系是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22"/>
          <p:cNvSpPr/>
          <p:nvPr/>
        </p:nvSpPr>
        <p:spPr>
          <a:xfrm>
            <a:off x="1474920" y="6165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螺母的数量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螺钉的数量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73"/>
          <p:cNvSpPr/>
          <p:nvPr/>
        </p:nvSpPr>
        <p:spPr>
          <a:xfrm>
            <a:off x="785880" y="2214720"/>
            <a:ext cx="81010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设生产螺母的人数为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则生产螺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人数为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22-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000x= 1200 (22-x) ×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生产螺钉人数为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2- x=22-12=1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答：应分配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名工人生产螺钉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名工人生产螺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74"/>
          <p:cNvSpPr/>
          <p:nvPr/>
        </p:nvSpPr>
        <p:spPr>
          <a:xfrm>
            <a:off x="2916360" y="741240"/>
            <a:ext cx="6048360" cy="94716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相等关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螺母的数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螺钉的数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75"/>
          <p:cNvSpPr/>
          <p:nvPr/>
        </p:nvSpPr>
        <p:spPr>
          <a:xfrm>
            <a:off x="1042920" y="353880"/>
            <a:ext cx="1657440" cy="1009800"/>
          </a:xfrm>
          <a:prstGeom prst="cloudCallout">
            <a:avLst>
              <a:gd name="adj1" fmla="val 14124"/>
              <a:gd name="adj2" fmla="val 143069"/>
            </a:avLst>
          </a:prstGeom>
          <a:solidFill>
            <a:srgbClr val="ff0000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6"/>
          <p:cNvSpPr/>
          <p:nvPr/>
        </p:nvSpPr>
        <p:spPr>
          <a:xfrm>
            <a:off x="1116000" y="54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你做对了吗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8"/>
          <p:cNvSpPr/>
          <p:nvPr/>
        </p:nvSpPr>
        <p:spPr>
          <a:xfrm>
            <a:off x="857160" y="485784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能想到另外一种解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假设设生产螺钉的人数为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，那么列方程是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17"/>
          <p:cNvSpPr/>
          <p:nvPr/>
        </p:nvSpPr>
        <p:spPr>
          <a:xfrm>
            <a:off x="539640" y="20034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探究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一个两位数，个位上的数是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十位上的数是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把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对调，新两位数的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倍还比原两位数小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8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你能想出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是几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5"/>
          <p:cNvSpPr/>
          <p:nvPr/>
        </p:nvSpPr>
        <p:spPr>
          <a:xfrm>
            <a:off x="539640" y="2205000"/>
            <a:ext cx="800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某水利工地派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48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人去挖土和运土，如果每人每天平均挖土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方或运土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方，那么应怎样安排人员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好能使挖出的土及时运走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1908000" y="4724280"/>
            <a:ext cx="60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挖出的土方数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运走的土方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0"/>
          <p:cNvSpPr/>
          <p:nvPr/>
        </p:nvSpPr>
        <p:spPr>
          <a:xfrm>
            <a:off x="1835280" y="40622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相等关系是什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WordArt 2"/>
          <p:cNvSpPr txBox="1"/>
          <p:nvPr/>
        </p:nvSpPr>
        <p:spPr>
          <a:xfrm>
            <a:off x="684360" y="1268280"/>
            <a:ext cx="308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558ed5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小试牛刀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solidFill>
                <a:srgbClr val="558ed5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5"/>
          <p:cNvSpPr/>
          <p:nvPr/>
        </p:nvSpPr>
        <p:spPr>
          <a:xfrm>
            <a:off x="969840" y="1341360"/>
            <a:ext cx="7620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用白铁皮做罐头盒，每张铁片可制盒身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个或制盒底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个。一个盒身与两个盒底配成一套罐头盒。现有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张白铁皮，用多少张制盒身，多少张制盒底，可以既使做出的盒身和盒底配套，又能充分利用白铁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1792440" y="4149720"/>
            <a:ext cx="54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盒身的个数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×2=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盒底的个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WordArt 11"/>
          <p:cNvSpPr txBox="1"/>
          <p:nvPr/>
        </p:nvSpPr>
        <p:spPr>
          <a:xfrm>
            <a:off x="942840" y="7398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558ed5"/>
                </a:solidFill>
                <a:latin typeface="黑体"/>
              </a:rPr>
              <a:t>挑战自我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558ed5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285840" y="857160"/>
            <a:ext cx="795816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58ed5"/>
                </a:solidFill>
                <a:latin typeface="宋体"/>
              </a:rPr>
              <a:t>二、去分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58ed5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558ed5"/>
                </a:solidFill>
                <a:latin typeface="宋体"/>
              </a:rPr>
              <a:t>问题</a:t>
            </a:r>
            <a:r>
              <a:rPr b="1" lang="en-US" sz="2800" spc="-1" strike="noStrike">
                <a:solidFill>
                  <a:srgbClr val="558ed5"/>
                </a:solidFill>
                <a:latin typeface="宋体"/>
              </a:rPr>
              <a:t>1 </a:t>
            </a:r>
            <a:r>
              <a:rPr b="1" lang="zh-CN" sz="2000" spc="-1" strike="noStrike">
                <a:solidFill>
                  <a:srgbClr val="558ed5"/>
                </a:solidFill>
                <a:latin typeface="宋体"/>
              </a:rPr>
              <a:t>英国伦敦博物馆保存着一部极其珍贵的文物</a:t>
            </a:r>
            <a:r>
              <a:rPr b="1" lang="en-US" sz="2000" spc="-1" strike="noStrike">
                <a:solidFill>
                  <a:srgbClr val="558ed5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558ed5"/>
                </a:solidFill>
                <a:latin typeface="宋体"/>
              </a:rPr>
              <a:t>纸莎草文书</a:t>
            </a:r>
            <a:r>
              <a:rPr b="1" lang="en-US" sz="2000" spc="-1" strike="noStrike">
                <a:solidFill>
                  <a:srgbClr val="558ed5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558ed5"/>
                </a:solidFill>
                <a:latin typeface="宋体"/>
              </a:rPr>
              <a:t>这是古代埃及人用象形文字写在一种特殊的草上的著作，它于公元前</a:t>
            </a:r>
            <a:r>
              <a:rPr b="1" lang="en-US" sz="2000" spc="-1" strike="noStrike">
                <a:solidFill>
                  <a:srgbClr val="558ed5"/>
                </a:solidFill>
                <a:latin typeface="宋体"/>
              </a:rPr>
              <a:t>1700</a:t>
            </a:r>
            <a:r>
              <a:rPr b="1" lang="zh-CN" sz="2000" spc="-1" strike="noStrike">
                <a:solidFill>
                  <a:srgbClr val="558ed5"/>
                </a:solidFill>
                <a:latin typeface="宋体"/>
              </a:rPr>
              <a:t>年左右写成，至今已有三千七百多年</a:t>
            </a:r>
            <a:r>
              <a:rPr b="1" lang="en-US" sz="2000" spc="-1" strike="noStrike">
                <a:solidFill>
                  <a:srgbClr val="558ed5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558ed5"/>
                </a:solidFill>
                <a:latin typeface="宋体"/>
              </a:rPr>
              <a:t>这部书中记载了许多有关数学的问题，其中有如下一道著名的求未知数的问题</a:t>
            </a:r>
            <a:r>
              <a:rPr b="1" lang="en-US" sz="2000" spc="-1" strike="noStrike">
                <a:solidFill>
                  <a:srgbClr val="558ed5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500040" y="3573360"/>
            <a:ext cx="7940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问题：一个数，它的三分之二，它的一半，它的七分之一，它的全部，加起来总共是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33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求这个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465120" y="3124080"/>
            <a:ext cx="764064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能解出这道方程吗？把你的解法与其他同学交流一下，看谁的解法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762120" y="44928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Comic Sans MS"/>
              </a:rPr>
              <a:t>总结：像上面这样的方程中有些系数是分数，如果能化去分母，把系数化为整数，则可以使解方程中的计算更方便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Rectangle 20" descr=""/>
          <p:cNvPicPr/>
          <p:nvPr/>
        </p:nvPicPr>
        <p:blipFill>
          <a:blip r:embed="rId2"/>
          <a:stretch/>
        </p:blipFill>
        <p:spPr>
          <a:xfrm>
            <a:off x="2266920" y="1596960"/>
            <a:ext cx="425628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3394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58ed5"/>
                </a:solidFill>
                <a:latin typeface="Arial"/>
              </a:rPr>
              <a:t>去分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9080" y="162864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方法</a:t>
            </a:r>
            <a:br>
              <a:rPr sz="3000"/>
            </a:b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　　等式两边同时乘以分母的最小公倍数</a:t>
            </a:r>
            <a:r>
              <a:rPr b="0" lang="zh-CN" sz="3000" spc="-1" strike="noStrike">
                <a:solidFill>
                  <a:srgbClr val="e709cd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去分母的关键是在于：方程的两边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同时乘以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各分母的最小公倍数，化为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整系数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方程</a:t>
            </a:r>
            <a:br>
              <a:rPr sz="3000"/>
            </a:b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5076720" y="1646280"/>
            <a:ext cx="40672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根据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等式的性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：等式两边同时乘同一个数，或除以同一个不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的数，结果仍相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900000" y="17938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、一元一次方程的解法我们学了哪几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3708360" y="3666960"/>
            <a:ext cx="10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3984840" y="2801880"/>
            <a:ext cx="790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移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3059280" y="4386240"/>
            <a:ext cx="2732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合并同类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3551040" y="5970600"/>
            <a:ext cx="1803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系数化为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4356000" y="4314960"/>
            <a:ext cx="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4211640" y="37386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4284720" y="5251320"/>
            <a:ext cx="358560" cy="574920"/>
          </a:xfrm>
          <a:prstGeom prst="downArrow">
            <a:avLst>
              <a:gd name="adj1" fmla="val 50000"/>
              <a:gd name="adj2" fmla="val 40085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标题 1"/>
          <p:cNvSpPr/>
          <p:nvPr/>
        </p:nvSpPr>
        <p:spPr>
          <a:xfrm>
            <a:off x="966960" y="835200"/>
            <a:ext cx="28890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58ed5"/>
                </a:solidFill>
                <a:latin typeface="Calibri"/>
              </a:rPr>
              <a:t>复习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4"/>
          <p:cNvSpPr/>
          <p:nvPr/>
        </p:nvSpPr>
        <p:spPr>
          <a:xfrm>
            <a:off x="1676520" y="3625920"/>
            <a:ext cx="44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去分母时要 注意什么问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609480" y="464832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方程两边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每一项都要乘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以各分母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最小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6"/>
          <p:cNvSpPr/>
          <p:nvPr/>
        </p:nvSpPr>
        <p:spPr>
          <a:xfrm>
            <a:off x="60948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去分母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如分子中含有两项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应将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该分子添上括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Object 2"/>
          <p:cNvGraphicFramePr/>
          <p:nvPr/>
        </p:nvGraphicFramePr>
        <p:xfrm>
          <a:off x="0" y="1219320"/>
          <a:ext cx="7159680" cy="103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715968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2"/>
          <p:cNvSpPr/>
          <p:nvPr/>
        </p:nvSpPr>
        <p:spPr>
          <a:xfrm>
            <a:off x="1258920" y="236232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若是方程的系数变成整系数方程，方程两边应该同乘以什么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Group 2"/>
          <p:cNvGrpSpPr/>
          <p:nvPr/>
        </p:nvGrpSpPr>
        <p:grpSpPr>
          <a:xfrm>
            <a:off x="1752480" y="531720"/>
            <a:ext cx="4343400" cy="888840"/>
            <a:chOff x="1752480" y="531720"/>
            <a:chExt cx="4343400" cy="888840"/>
          </a:xfrm>
        </p:grpSpPr>
        <p:sp>
          <p:nvSpPr>
            <p:cNvPr id="803" name="Text Box 3"/>
            <p:cNvSpPr/>
            <p:nvPr/>
          </p:nvSpPr>
          <p:spPr>
            <a:xfrm>
              <a:off x="1752480" y="608040"/>
              <a:ext cx="4343400" cy="7696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4" name="Object 3"/>
                <p:cNvSpPr txBox="1"/>
                <p:nvPr/>
              </p:nvSpPr>
              <p:spPr>
                <a:xfrm>
                  <a:off x="2039760" y="531720"/>
                  <a:ext cx="375624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Group 5"/>
          <p:cNvGrpSpPr/>
          <p:nvPr/>
        </p:nvGrpSpPr>
        <p:grpSpPr>
          <a:xfrm>
            <a:off x="838080" y="1522440"/>
            <a:ext cx="6248520" cy="856080"/>
            <a:chOff x="838080" y="1522440"/>
            <a:chExt cx="6248520" cy="856080"/>
          </a:xfrm>
        </p:grpSpPr>
        <p:sp>
          <p:nvSpPr>
            <p:cNvPr id="806" name="Text Box 6"/>
            <p:cNvSpPr/>
            <p:nvPr/>
          </p:nvSpPr>
          <p:spPr>
            <a:xfrm>
              <a:off x="838080" y="1979640"/>
              <a:ext cx="6248520" cy="398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5(3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+ 1) - 10×2 = (3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– 2) – 2(2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+ 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7"/>
            <p:cNvSpPr/>
            <p:nvPr/>
          </p:nvSpPr>
          <p:spPr>
            <a:xfrm>
              <a:off x="3886200" y="152244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"/>
          <p:cNvGrpSpPr/>
          <p:nvPr/>
        </p:nvGrpSpPr>
        <p:grpSpPr>
          <a:xfrm>
            <a:off x="1828800" y="2513160"/>
            <a:ext cx="4572000" cy="932400"/>
            <a:chOff x="1828800" y="2513160"/>
            <a:chExt cx="4572000" cy="932400"/>
          </a:xfrm>
        </p:grpSpPr>
        <p:sp>
          <p:nvSpPr>
            <p:cNvPr id="809" name="Text Box 9"/>
            <p:cNvSpPr/>
            <p:nvPr/>
          </p:nvSpPr>
          <p:spPr>
            <a:xfrm>
              <a:off x="1828800" y="3046680"/>
              <a:ext cx="4572000" cy="398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15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+ 5 – 20 = 3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– 2 – 4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– 6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0"/>
            <p:cNvSpPr/>
            <p:nvPr/>
          </p:nvSpPr>
          <p:spPr>
            <a:xfrm>
              <a:off x="3886200" y="251316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1"/>
          <p:cNvGrpSpPr/>
          <p:nvPr/>
        </p:nvGrpSpPr>
        <p:grpSpPr>
          <a:xfrm>
            <a:off x="1828800" y="3579840"/>
            <a:ext cx="4952880" cy="1008360"/>
            <a:chOff x="1828800" y="3579840"/>
            <a:chExt cx="4952880" cy="1008360"/>
          </a:xfrm>
        </p:grpSpPr>
        <p:sp>
          <p:nvSpPr>
            <p:cNvPr id="812" name="Text Box 12"/>
            <p:cNvSpPr/>
            <p:nvPr/>
          </p:nvSpPr>
          <p:spPr>
            <a:xfrm>
              <a:off x="1828800" y="4189320"/>
              <a:ext cx="4952880" cy="398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15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– 3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+ 4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= - 2 – 6 – 5 + 2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3"/>
            <p:cNvSpPr/>
            <p:nvPr/>
          </p:nvSpPr>
          <p:spPr>
            <a:xfrm>
              <a:off x="3886200" y="3579840"/>
              <a:ext cx="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4"/>
          <p:cNvGrpSpPr/>
          <p:nvPr/>
        </p:nvGrpSpPr>
        <p:grpSpPr>
          <a:xfrm>
            <a:off x="2743200" y="4722840"/>
            <a:ext cx="2438280" cy="856080"/>
            <a:chOff x="2743200" y="4722840"/>
            <a:chExt cx="2438280" cy="856080"/>
          </a:xfrm>
        </p:grpSpPr>
        <p:sp>
          <p:nvSpPr>
            <p:cNvPr id="815" name="Text Box 15"/>
            <p:cNvSpPr/>
            <p:nvPr/>
          </p:nvSpPr>
          <p:spPr>
            <a:xfrm>
              <a:off x="2743200" y="5180040"/>
              <a:ext cx="2438280" cy="398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16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 = 7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6"/>
            <p:cNvSpPr/>
            <p:nvPr/>
          </p:nvSpPr>
          <p:spPr>
            <a:xfrm>
              <a:off x="3886200" y="472284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17"/>
          <p:cNvGrpSpPr/>
          <p:nvPr/>
        </p:nvGrpSpPr>
        <p:grpSpPr>
          <a:xfrm>
            <a:off x="2819520" y="5713560"/>
            <a:ext cx="2438280" cy="1027080"/>
            <a:chOff x="2819520" y="5713560"/>
            <a:chExt cx="2438280" cy="1027080"/>
          </a:xfrm>
        </p:grpSpPr>
        <p:grpSp>
          <p:nvGrpSpPr>
            <p:cNvPr id="818" name="Group 18"/>
            <p:cNvGrpSpPr/>
            <p:nvPr/>
          </p:nvGrpSpPr>
          <p:grpSpPr>
            <a:xfrm>
              <a:off x="2819520" y="6042240"/>
              <a:ext cx="2438280" cy="698400"/>
              <a:chOff x="2819520" y="6042240"/>
              <a:chExt cx="2438280" cy="698400"/>
            </a:xfrm>
          </p:grpSpPr>
          <p:sp>
            <p:nvSpPr>
              <p:cNvPr id="819" name="Text Box 19"/>
              <p:cNvSpPr/>
              <p:nvPr/>
            </p:nvSpPr>
            <p:spPr>
              <a:xfrm>
                <a:off x="2819520" y="6094440"/>
                <a:ext cx="2438280" cy="64260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0" name="Object 2"/>
                  <p:cNvSpPr txBox="1"/>
                  <p:nvPr/>
                </p:nvSpPr>
                <p:spPr>
                  <a:xfrm>
                    <a:off x="3497040" y="6042240"/>
                    <a:ext cx="787320" cy="698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21" name="Line 21"/>
            <p:cNvSpPr/>
            <p:nvPr/>
          </p:nvSpPr>
          <p:spPr>
            <a:xfrm>
              <a:off x="3886200" y="5713560"/>
              <a:ext cx="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Text Box 22"/>
          <p:cNvSpPr/>
          <p:nvPr/>
        </p:nvSpPr>
        <p:spPr>
          <a:xfrm>
            <a:off x="6248520" y="561960"/>
            <a:ext cx="19047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去分母（方程两边同乘以各分母的最小公倍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23"/>
          <p:cNvSpPr/>
          <p:nvPr/>
        </p:nvSpPr>
        <p:spPr>
          <a:xfrm>
            <a:off x="6477120" y="2589120"/>
            <a:ext cx="190476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去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4"/>
          <p:cNvSpPr/>
          <p:nvPr/>
        </p:nvSpPr>
        <p:spPr>
          <a:xfrm>
            <a:off x="6400800" y="3656160"/>
            <a:ext cx="190512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移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5"/>
          <p:cNvSpPr/>
          <p:nvPr/>
        </p:nvSpPr>
        <p:spPr>
          <a:xfrm>
            <a:off x="6400800" y="4875120"/>
            <a:ext cx="190512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合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6400800" y="5637240"/>
            <a:ext cx="190512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系数化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Object 2"/>
          <p:cNvGraphicFramePr/>
          <p:nvPr/>
        </p:nvGraphicFramePr>
        <p:xfrm>
          <a:off x="271440" y="1052640"/>
          <a:ext cx="6931080" cy="100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40" y="1052640"/>
                    <a:ext cx="6931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Text Box 3"/>
          <p:cNvSpPr/>
          <p:nvPr/>
        </p:nvSpPr>
        <p:spPr>
          <a:xfrm>
            <a:off x="1035000" y="244332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分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边同乘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×2 =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括号，得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= 3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移项  ，得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同类项，得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数化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Object 3"/>
          <p:cNvGraphicFramePr/>
          <p:nvPr/>
        </p:nvGraphicFramePr>
        <p:xfrm>
          <a:off x="3905280" y="5210280"/>
          <a:ext cx="811080" cy="70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5280" y="5210280"/>
                    <a:ext cx="811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1262160" y="981000"/>
            <a:ext cx="2309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58ed5"/>
                </a:solidFill>
                <a:latin typeface="黑体"/>
                <a:ea typeface="黑体"/>
              </a:rPr>
              <a:t>练一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3" name="Object 2"/>
          <p:cNvGraphicFramePr/>
          <p:nvPr/>
        </p:nvGraphicFramePr>
        <p:xfrm>
          <a:off x="558720" y="1571760"/>
          <a:ext cx="8585280" cy="19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720" y="1571760"/>
                    <a:ext cx="858528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3"/>
          <p:cNvGraphicFramePr/>
          <p:nvPr/>
        </p:nvGraphicFramePr>
        <p:xfrm>
          <a:off x="701640" y="3376440"/>
          <a:ext cx="7740720" cy="247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640" y="3376440"/>
                    <a:ext cx="774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2"/>
          <p:cNvSpPr/>
          <p:nvPr/>
        </p:nvSpPr>
        <p:spPr>
          <a:xfrm>
            <a:off x="698040" y="4689360"/>
            <a:ext cx="56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8" name="Object 2"/>
          <p:cNvGraphicFramePr/>
          <p:nvPr/>
        </p:nvGraphicFramePr>
        <p:xfrm>
          <a:off x="468360" y="2852640"/>
          <a:ext cx="7740720" cy="30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852640"/>
                    <a:ext cx="774072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4"/>
          <p:cNvGraphicFramePr/>
          <p:nvPr/>
        </p:nvGraphicFramePr>
        <p:xfrm>
          <a:off x="558720" y="1077840"/>
          <a:ext cx="8585280" cy="190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8720" y="1077840"/>
                    <a:ext cx="858528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3"/>
          <p:cNvSpPr/>
          <p:nvPr/>
        </p:nvSpPr>
        <p:spPr>
          <a:xfrm>
            <a:off x="1476360" y="1066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、去分母时，应在方程的左右两边乘以分母的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楷体"/>
                <a:ea typeface="楷体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1552680" y="25909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、去分母的依据是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楷体"/>
                <a:ea typeface="楷体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，去分母时不能漏乘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楷体"/>
                <a:ea typeface="楷体"/>
              </a:rPr>
              <a:t>              </a:t>
            </a:r>
            <a:r>
              <a:rPr b="0" lang="zh-CN" sz="2800" spc="-1" strike="noStrike">
                <a:solidFill>
                  <a:srgbClr val="007572"/>
                </a:solidFill>
                <a:latin typeface="楷体"/>
                <a:ea typeface="楷体"/>
              </a:rPr>
              <a:t>；</a:t>
            </a: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1552680" y="4191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、去分母与去括号这两步分开写，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不要跳步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，防止忘记变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7"/>
          <p:cNvSpPr/>
          <p:nvPr/>
        </p:nvSpPr>
        <p:spPr>
          <a:xfrm>
            <a:off x="4078440" y="162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最小公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8"/>
          <p:cNvSpPr/>
          <p:nvPr/>
        </p:nvSpPr>
        <p:spPr>
          <a:xfrm>
            <a:off x="5518080" y="2565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等式性质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9"/>
          <p:cNvSpPr/>
          <p:nvPr/>
        </p:nvSpPr>
        <p:spPr>
          <a:xfrm>
            <a:off x="5018760" y="3141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没有分母的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Group 21"/>
          <p:cNvGrpSpPr/>
          <p:nvPr/>
        </p:nvGrpSpPr>
        <p:grpSpPr>
          <a:xfrm>
            <a:off x="1283040" y="620640"/>
            <a:ext cx="7267320" cy="1496880"/>
            <a:chOff x="1283040" y="620640"/>
            <a:chExt cx="7267320" cy="1496880"/>
          </a:xfrm>
        </p:grpSpPr>
        <p:sp>
          <p:nvSpPr>
            <p:cNvPr id="849" name="Text Box 6"/>
            <p:cNvSpPr/>
            <p:nvPr/>
          </p:nvSpPr>
          <p:spPr>
            <a:xfrm>
              <a:off x="1797480" y="8762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黑体"/>
                  <a:ea typeface="黑体"/>
                </a:rPr>
                <a:t>指出解方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17"/>
            <p:cNvGrpSpPr/>
            <p:nvPr/>
          </p:nvGrpSpPr>
          <p:grpSpPr>
            <a:xfrm>
              <a:off x="3483720" y="620640"/>
              <a:ext cx="3911760" cy="1004760"/>
              <a:chOff x="3483720" y="620640"/>
              <a:chExt cx="3911760" cy="1004760"/>
            </a:xfrm>
          </p:grpSpPr>
          <p:grpSp>
            <p:nvGrpSpPr>
              <p:cNvPr id="851" name="Group 10"/>
              <p:cNvGrpSpPr/>
              <p:nvPr/>
            </p:nvGrpSpPr>
            <p:grpSpPr>
              <a:xfrm>
                <a:off x="3483720" y="620640"/>
                <a:ext cx="1123920" cy="988920"/>
                <a:chOff x="3483720" y="620640"/>
                <a:chExt cx="1123920" cy="988920"/>
              </a:xfrm>
            </p:grpSpPr>
            <p:sp>
              <p:nvSpPr>
                <p:cNvPr id="852" name="Line 7"/>
                <p:cNvSpPr/>
                <p:nvPr/>
              </p:nvSpPr>
              <p:spPr>
                <a:xfrm>
                  <a:off x="3483720" y="1160280"/>
                  <a:ext cx="1123920" cy="0"/>
                </a:xfrm>
                <a:prstGeom prst="line">
                  <a:avLst/>
                </a:prstGeom>
                <a:ln w="381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8"/>
                <p:cNvSpPr/>
                <p:nvPr/>
              </p:nvSpPr>
              <p:spPr>
                <a:xfrm>
                  <a:off x="3784320" y="108900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572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9"/>
                <p:cNvSpPr/>
                <p:nvPr/>
              </p:nvSpPr>
              <p:spPr>
                <a:xfrm>
                  <a:off x="3632040" y="620640"/>
                  <a:ext cx="752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572"/>
                      </a:solidFill>
                      <a:latin typeface="Times New Roman"/>
                      <a:ea typeface="黑体"/>
                    </a:rPr>
                    <a:t>x</a:t>
                  </a:r>
                  <a:r>
                    <a:rPr b="1" lang="en-US" sz="2800" spc="-1" strike="noStrike">
                      <a:solidFill>
                        <a:srgbClr val="007572"/>
                      </a:solidFill>
                      <a:latin typeface="黑体"/>
                      <a:ea typeface="黑体"/>
                    </a:rPr>
                    <a:t>-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11"/>
              <p:cNvGrpSpPr/>
              <p:nvPr/>
            </p:nvGrpSpPr>
            <p:grpSpPr>
              <a:xfrm>
                <a:off x="4985280" y="657000"/>
                <a:ext cx="1123920" cy="968400"/>
                <a:chOff x="4985280" y="657000"/>
                <a:chExt cx="1123920" cy="968400"/>
              </a:xfrm>
            </p:grpSpPr>
            <p:sp>
              <p:nvSpPr>
                <p:cNvPr id="856" name="Line 12"/>
                <p:cNvSpPr/>
                <p:nvPr/>
              </p:nvSpPr>
              <p:spPr>
                <a:xfrm>
                  <a:off x="4985280" y="1176120"/>
                  <a:ext cx="1123920" cy="0"/>
                </a:xfrm>
                <a:prstGeom prst="line">
                  <a:avLst/>
                </a:prstGeom>
                <a:ln w="381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Text Box 13"/>
                <p:cNvSpPr/>
                <p:nvPr/>
              </p:nvSpPr>
              <p:spPr>
                <a:xfrm>
                  <a:off x="5285880" y="110484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572"/>
                      </a:solidFill>
                      <a:latin typeface="Arial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14"/>
                <p:cNvSpPr/>
                <p:nvPr/>
              </p:nvSpPr>
              <p:spPr>
                <a:xfrm>
                  <a:off x="5138640" y="657000"/>
                  <a:ext cx="96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572"/>
                      </a:solidFill>
                      <a:latin typeface="Arial"/>
                    </a:rPr>
                    <a:t>4</a:t>
                  </a:r>
                  <a:r>
                    <a:rPr b="1" i="1" lang="en-US" sz="2800" spc="-1" strike="noStrike">
                      <a:solidFill>
                        <a:srgbClr val="007572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007572"/>
                      </a:solidFill>
                      <a:latin typeface="Arial"/>
                    </a:rPr>
                    <a:t>+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Text Box 15"/>
              <p:cNvSpPr/>
              <p:nvPr/>
            </p:nvSpPr>
            <p:spPr>
              <a:xfrm>
                <a:off x="4590000" y="84132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572"/>
                    </a:solidFill>
                    <a:latin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Text Box 16"/>
              <p:cNvSpPr/>
              <p:nvPr/>
            </p:nvSpPr>
            <p:spPr>
              <a:xfrm>
                <a:off x="6164640" y="873000"/>
                <a:ext cx="123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572"/>
                    </a:solidFill>
                    <a:latin typeface="Arial"/>
                  </a:rPr>
                  <a:t>-2(</a:t>
                </a:r>
                <a:r>
                  <a:rPr b="1" i="1" lang="en-US" sz="2800" spc="-1" strike="noStrike">
                    <a:solidFill>
                      <a:srgbClr val="007572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7572"/>
                    </a:solidFill>
                    <a:latin typeface="Arial"/>
                  </a:rPr>
                  <a:t>-1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Text Box 18"/>
            <p:cNvSpPr/>
            <p:nvPr/>
          </p:nvSpPr>
          <p:spPr>
            <a:xfrm>
              <a:off x="7729560" y="914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黑体"/>
                  <a:ea typeface="黑体"/>
                </a:rPr>
                <a:t>过程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19"/>
            <p:cNvSpPr/>
            <p:nvPr/>
          </p:nvSpPr>
          <p:spPr>
            <a:xfrm>
              <a:off x="1283040" y="1596960"/>
              <a:ext cx="277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黑体"/>
                  <a:ea typeface="黑体"/>
                </a:rPr>
                <a:t>所有的错误</a:t>
              </a:r>
              <a:r>
                <a:rPr b="1" lang="en-US" sz="2800" spc="-1" strike="noStrike">
                  <a:solidFill>
                    <a:srgbClr val="007572"/>
                  </a:solidFill>
                  <a:latin typeface="黑体"/>
                  <a:ea typeface="黑体"/>
                </a:rPr>
                <a:t>,</a:t>
              </a:r>
              <a:r>
                <a:rPr b="1" lang="zh-CN" sz="2800" spc="-1" strike="noStrike">
                  <a:solidFill>
                    <a:srgbClr val="007572"/>
                  </a:solidFill>
                  <a:latin typeface="黑体"/>
                  <a:ea typeface="黑体"/>
                </a:rPr>
                <a:t>并加以改正</a:t>
              </a:r>
              <a:r>
                <a:rPr b="1" lang="en-US" sz="2800" spc="-1" strike="noStrike">
                  <a:solidFill>
                    <a:srgbClr val="007572"/>
                  </a:solidFill>
                  <a:latin typeface="黑体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0"/>
          <p:cNvSpPr/>
          <p:nvPr/>
        </p:nvSpPr>
        <p:spPr>
          <a:xfrm>
            <a:off x="555120" y="2517840"/>
            <a:ext cx="5981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去分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1=8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4-2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去括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1=8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4-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移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4-2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合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系数化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=5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WordArt 23"/>
          <p:cNvSpPr txBox="1"/>
          <p:nvPr/>
        </p:nvSpPr>
        <p:spPr>
          <a:xfrm>
            <a:off x="6516720" y="544500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错在哪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5" name="Text Box 27"/>
          <p:cNvSpPr/>
          <p:nvPr/>
        </p:nvSpPr>
        <p:spPr>
          <a:xfrm>
            <a:off x="8058600" y="1562040"/>
            <a:ext cx="72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隶书"/>
                <a:ea typeface="隶书"/>
              </a:rPr>
              <a:t>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隶书"/>
                <a:ea typeface="隶书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隶书"/>
                <a:ea typeface="隶书"/>
              </a:rPr>
              <a:t>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隶书"/>
                <a:ea typeface="隶书"/>
              </a:rPr>
              <a:t>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隶书"/>
                <a:ea typeface="隶书"/>
              </a:rPr>
              <a:t> </a:t>
            </a:r>
            <a:r>
              <a:rPr b="1" lang="en-US" sz="3600" spc="-1" strike="noStrike">
                <a:solidFill>
                  <a:srgbClr val="00ff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Rectangle 2" descr=""/>
          <p:cNvPicPr/>
          <p:nvPr/>
        </p:nvPicPr>
        <p:blipFill>
          <a:blip r:embed="rId2"/>
          <a:stretch/>
        </p:blipFill>
        <p:spPr>
          <a:xfrm>
            <a:off x="0" y="334800"/>
            <a:ext cx="8540640" cy="126864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-360" y="1533240"/>
            <a:ext cx="823284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解：分别将分子分母扩大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倍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得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约分，得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去括号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得                   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移项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得              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合并同类项，得             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系数化为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，得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3827520" y="2066760"/>
          <a:ext cx="28400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7520" y="2066760"/>
                    <a:ext cx="2840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4"/>
          <p:cNvGraphicFramePr/>
          <p:nvPr/>
        </p:nvGraphicFramePr>
        <p:xfrm>
          <a:off x="2259000" y="2747880"/>
          <a:ext cx="324972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59000" y="2747880"/>
                    <a:ext cx="324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3"/>
          <p:cNvGraphicFramePr/>
          <p:nvPr/>
        </p:nvGraphicFramePr>
        <p:xfrm>
          <a:off x="4140360" y="476280"/>
          <a:ext cx="313200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3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76280"/>
                    <a:ext cx="31320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5"/>
          <p:cNvGraphicFramePr/>
          <p:nvPr/>
        </p:nvGraphicFramePr>
        <p:xfrm>
          <a:off x="2411280" y="3357720"/>
          <a:ext cx="314964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5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11280" y="3357720"/>
                    <a:ext cx="31496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Object 6"/>
          <p:cNvGraphicFramePr/>
          <p:nvPr/>
        </p:nvGraphicFramePr>
        <p:xfrm>
          <a:off x="2050920" y="4292640"/>
          <a:ext cx="3224520" cy="48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7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4292640"/>
                    <a:ext cx="32245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7"/>
          <p:cNvGraphicFramePr/>
          <p:nvPr/>
        </p:nvGraphicFramePr>
        <p:xfrm>
          <a:off x="3132000" y="5084640"/>
          <a:ext cx="128268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9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2000" y="5084640"/>
                    <a:ext cx="12826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8"/>
          <p:cNvGraphicFramePr/>
          <p:nvPr/>
        </p:nvGraphicFramePr>
        <p:xfrm>
          <a:off x="2987640" y="6021360"/>
          <a:ext cx="117144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1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87640" y="6021360"/>
                    <a:ext cx="1171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矩形 1"/>
          <p:cNvSpPr/>
          <p:nvPr/>
        </p:nvSpPr>
        <p:spPr>
          <a:xfrm>
            <a:off x="285840" y="876240"/>
            <a:ext cx="8072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．星光服装厂生产一些某种型号的学生服的订单，已知每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3 m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长的某种布料可做上衣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件或裤子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3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件，一件上衣和一条裤子为一套，计划用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750 m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长的这种布料生产学生服，应分别用多少布料生产上衣和裤子恰好配套？共能生产多少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3" name="Object 2"/>
          <p:cNvGraphicFramePr/>
          <p:nvPr/>
        </p:nvGraphicFramePr>
        <p:xfrm>
          <a:off x="971640" y="2205000"/>
          <a:ext cx="6086520" cy="43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205000"/>
                    <a:ext cx="608652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398160" y="2705040"/>
            <a:ext cx="7986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把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去分母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得到的方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___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解方程    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去分母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正确的结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   )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4x+1-10x+1=1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4x+2-10x-1=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4x+2-10x-1=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4x+2-10x+1=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886" name="Object 2"/>
          <p:cNvGraphicFramePr/>
          <p:nvPr/>
        </p:nvGraphicFramePr>
        <p:xfrm>
          <a:off x="1401840" y="2765520"/>
          <a:ext cx="892080" cy="58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1840" y="2765520"/>
                    <a:ext cx="8920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3"/>
          <p:cNvGraphicFramePr/>
          <p:nvPr/>
        </p:nvGraphicFramePr>
        <p:xfrm>
          <a:off x="2104920" y="3213000"/>
          <a:ext cx="153828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04920" y="3213000"/>
                    <a:ext cx="1538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Text Box 27"/>
          <p:cNvSpPr/>
          <p:nvPr/>
        </p:nvSpPr>
        <p:spPr>
          <a:xfrm>
            <a:off x="5840280" y="25131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x-2(x-3)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28"/>
          <p:cNvSpPr/>
          <p:nvPr/>
        </p:nvSpPr>
        <p:spPr>
          <a:xfrm>
            <a:off x="1303200" y="39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标题 1"/>
          <p:cNvSpPr/>
          <p:nvPr/>
        </p:nvSpPr>
        <p:spPr>
          <a:xfrm>
            <a:off x="900000" y="1197000"/>
            <a:ext cx="26640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58ed5"/>
                </a:solidFill>
                <a:latin typeface="Calibri"/>
              </a:rPr>
              <a:t>随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539640" y="12096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移项，合并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同类项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，系数为化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，　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466560" y="3863880"/>
            <a:ext cx="79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315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合并同类项时，</a:t>
            </a:r>
            <a:r>
              <a:rPr b="0" lang="zh-CN" sz="3200" spc="-1" strike="noStrike">
                <a:solidFill>
                  <a:srgbClr val="080315"/>
                </a:solidFill>
                <a:latin typeface="Arial"/>
                <a:ea typeface="黑体"/>
              </a:rPr>
              <a:t>只是把同类项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系数相加</a:t>
            </a:r>
            <a:r>
              <a:rPr b="1" lang="zh-CN" sz="3200" spc="-1" strike="noStrike">
                <a:solidFill>
                  <a:srgbClr val="080315"/>
                </a:solidFill>
                <a:latin typeface="Arial"/>
                <a:ea typeface="黑体"/>
              </a:rPr>
              <a:t>作为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所得项的系数</a:t>
            </a:r>
            <a:r>
              <a:rPr b="1" lang="zh-CN" sz="3200" spc="-1" strike="noStrike">
                <a:solidFill>
                  <a:srgbClr val="080315"/>
                </a:solidFill>
                <a:latin typeface="Arial"/>
                <a:ea typeface="黑体"/>
              </a:rPr>
              <a:t>，</a:t>
            </a:r>
            <a:r>
              <a:rPr b="0" lang="zh-CN" sz="3200" spc="-1" strike="noStrike">
                <a:solidFill>
                  <a:srgbClr val="080315"/>
                </a:solidFill>
                <a:latin typeface="Arial"/>
                <a:ea typeface="黑体"/>
              </a:rPr>
              <a:t>字母部分不变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539640" y="538632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315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80315"/>
                </a:solidFill>
                <a:latin typeface="黑体"/>
                <a:ea typeface="黑体"/>
              </a:rPr>
              <a:t>系数化为</a:t>
            </a:r>
            <a:r>
              <a:rPr b="1" lang="en-US" sz="3200" spc="-1" strike="noStrike">
                <a:solidFill>
                  <a:srgbClr val="080315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80315"/>
                </a:solidFill>
                <a:latin typeface="黑体"/>
                <a:ea typeface="黑体"/>
              </a:rPr>
              <a:t>，要方程两边同时除以未知数前面的系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466560" y="272268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315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80315"/>
                </a:solidFill>
                <a:latin typeface="黑体"/>
                <a:ea typeface="黑体"/>
              </a:rPr>
              <a:t>移项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变号</a:t>
            </a:r>
            <a:r>
              <a:rPr b="1" lang="zh-CN" sz="3200" spc="-1" strike="noStrike">
                <a:solidFill>
                  <a:srgbClr val="080315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75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91920" y="121428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解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=-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方程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10920" y="112212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2x-6=0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B.3(x-2)-2(x-3)=5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=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D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若式子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x-1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与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x+2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值相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则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值是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7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8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-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895" name="Object 2"/>
          <p:cNvGraphicFramePr/>
          <p:nvPr/>
        </p:nvGraphicFramePr>
        <p:xfrm>
          <a:off x="1370160" y="3056040"/>
          <a:ext cx="696600" cy="53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0160" y="3056040"/>
                    <a:ext cx="696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Object 3"/>
          <p:cNvGraphicFramePr/>
          <p:nvPr/>
        </p:nvGraphicFramePr>
        <p:xfrm>
          <a:off x="4883040" y="2995560"/>
          <a:ext cx="187812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83040" y="2995560"/>
                    <a:ext cx="1878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Object 4"/>
          <p:cNvGraphicFramePr/>
          <p:nvPr/>
        </p:nvGraphicFramePr>
        <p:xfrm>
          <a:off x="2060640" y="4078440"/>
          <a:ext cx="230040" cy="69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60640" y="4078440"/>
                    <a:ext cx="2300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Object 5"/>
          <p:cNvGraphicFramePr/>
          <p:nvPr/>
        </p:nvGraphicFramePr>
        <p:xfrm>
          <a:off x="3500280" y="4014720"/>
          <a:ext cx="216000" cy="69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00280" y="4014720"/>
                    <a:ext cx="21600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Text Box 36"/>
          <p:cNvSpPr/>
          <p:nvPr/>
        </p:nvSpPr>
        <p:spPr>
          <a:xfrm>
            <a:off x="3787920" y="121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7"/>
          <p:cNvSpPr/>
          <p:nvPr/>
        </p:nvSpPr>
        <p:spPr>
          <a:xfrm>
            <a:off x="7497720" y="413244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指出下列解方程哪步变形是错误的，并指出错误的原因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727200" y="2282760"/>
            <a:ext cx="7775280" cy="27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        =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(2)      —          =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x+3x-3=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3-2x+6=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x=4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-2x=-9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=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x=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07" name="Group 29"/>
          <p:cNvGrpSpPr/>
          <p:nvPr/>
        </p:nvGrpSpPr>
        <p:grpSpPr>
          <a:xfrm>
            <a:off x="1440000" y="2232000"/>
            <a:ext cx="651960" cy="1038240"/>
            <a:chOff x="1440000" y="2232000"/>
            <a:chExt cx="651960" cy="1038240"/>
          </a:xfrm>
        </p:grpSpPr>
        <p:sp>
          <p:nvSpPr>
            <p:cNvPr id="908" name="Text Box 4"/>
            <p:cNvSpPr/>
            <p:nvPr/>
          </p:nvSpPr>
          <p:spPr>
            <a:xfrm>
              <a:off x="1460520" y="223200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5"/>
            <p:cNvSpPr/>
            <p:nvPr/>
          </p:nvSpPr>
          <p:spPr>
            <a:xfrm>
              <a:off x="1482840" y="274968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12"/>
            <p:cNvSpPr/>
            <p:nvPr/>
          </p:nvSpPr>
          <p:spPr>
            <a:xfrm>
              <a:off x="1440000" y="2766960"/>
              <a:ext cx="456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30"/>
          <p:cNvGrpSpPr/>
          <p:nvPr/>
        </p:nvGrpSpPr>
        <p:grpSpPr>
          <a:xfrm>
            <a:off x="2327400" y="2187720"/>
            <a:ext cx="990360" cy="1053000"/>
            <a:chOff x="2327400" y="2187720"/>
            <a:chExt cx="990360" cy="1053000"/>
          </a:xfrm>
        </p:grpSpPr>
        <p:sp>
          <p:nvSpPr>
            <p:cNvPr id="912" name="Text Box 6"/>
            <p:cNvSpPr/>
            <p:nvPr/>
          </p:nvSpPr>
          <p:spPr>
            <a:xfrm>
              <a:off x="2327400" y="21877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x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7"/>
            <p:cNvSpPr/>
            <p:nvPr/>
          </p:nvSpPr>
          <p:spPr>
            <a:xfrm>
              <a:off x="2479680" y="272016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13"/>
            <p:cNvSpPr/>
            <p:nvPr/>
          </p:nvSpPr>
          <p:spPr>
            <a:xfrm>
              <a:off x="2371680" y="2737800"/>
              <a:ext cx="680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34"/>
          <p:cNvGrpSpPr/>
          <p:nvPr/>
        </p:nvGrpSpPr>
        <p:grpSpPr>
          <a:xfrm>
            <a:off x="4643280" y="2224080"/>
            <a:ext cx="620640" cy="1045800"/>
            <a:chOff x="4643280" y="2224080"/>
            <a:chExt cx="620640" cy="1045800"/>
          </a:xfrm>
        </p:grpSpPr>
        <p:sp>
          <p:nvSpPr>
            <p:cNvPr id="916" name="Text Box 8"/>
            <p:cNvSpPr/>
            <p:nvPr/>
          </p:nvSpPr>
          <p:spPr>
            <a:xfrm>
              <a:off x="4654440" y="2224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9"/>
            <p:cNvSpPr/>
            <p:nvPr/>
          </p:nvSpPr>
          <p:spPr>
            <a:xfrm>
              <a:off x="4643280" y="2749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4"/>
            <p:cNvSpPr/>
            <p:nvPr/>
          </p:nvSpPr>
          <p:spPr>
            <a:xfrm>
              <a:off x="4643280" y="274932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Text Box 16"/>
          <p:cNvSpPr/>
          <p:nvPr/>
        </p:nvSpPr>
        <p:spPr>
          <a:xfrm>
            <a:off x="2093760" y="4365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7"/>
          <p:cNvSpPr/>
          <p:nvPr/>
        </p:nvSpPr>
        <p:spPr>
          <a:xfrm>
            <a:off x="2075040" y="4835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20"/>
          <p:cNvSpPr/>
          <p:nvPr/>
        </p:nvSpPr>
        <p:spPr>
          <a:xfrm>
            <a:off x="2050920" y="485604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28"/>
          <p:cNvGrpSpPr/>
          <p:nvPr/>
        </p:nvGrpSpPr>
        <p:grpSpPr>
          <a:xfrm>
            <a:off x="5548320" y="4410000"/>
            <a:ext cx="609480" cy="988920"/>
            <a:chOff x="5548320" y="4410000"/>
            <a:chExt cx="609480" cy="988920"/>
          </a:xfrm>
        </p:grpSpPr>
        <p:sp>
          <p:nvSpPr>
            <p:cNvPr id="923" name="Text Box 18"/>
            <p:cNvSpPr/>
            <p:nvPr/>
          </p:nvSpPr>
          <p:spPr>
            <a:xfrm>
              <a:off x="5548320" y="4410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548320" y="4878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21"/>
            <p:cNvSpPr/>
            <p:nvPr/>
          </p:nvSpPr>
          <p:spPr>
            <a:xfrm>
              <a:off x="5548320" y="4900680"/>
              <a:ext cx="456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Freeform 24"/>
          <p:cNvSpPr/>
          <p:nvPr/>
        </p:nvSpPr>
        <p:spPr>
          <a:xfrm>
            <a:off x="2676600" y="3405240"/>
            <a:ext cx="788760" cy="776160"/>
          </a:xfrm>
          <a:custGeom>
            <a:avLst/>
            <a:gdLst>
              <a:gd name="textAreaLeft" fmla="*/ 0 w 788760"/>
              <a:gd name="textAreaRight" fmla="*/ 789120 w 78876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497" h="489">
                <a:moveTo>
                  <a:pt x="270" y="25"/>
                </a:moveTo>
                <a:cubicBezTo>
                  <a:pt x="222" y="16"/>
                  <a:pt x="175" y="16"/>
                  <a:pt x="128" y="33"/>
                </a:cubicBezTo>
                <a:cubicBezTo>
                  <a:pt x="106" y="54"/>
                  <a:pt x="93" y="75"/>
                  <a:pt x="68" y="92"/>
                </a:cubicBezTo>
                <a:cubicBezTo>
                  <a:pt x="43" y="130"/>
                  <a:pt x="24" y="168"/>
                  <a:pt x="0" y="205"/>
                </a:cubicBezTo>
                <a:cubicBezTo>
                  <a:pt x="3" y="252"/>
                  <a:pt x="2" y="300"/>
                  <a:pt x="8" y="347"/>
                </a:cubicBezTo>
                <a:cubicBezTo>
                  <a:pt x="22" y="463"/>
                  <a:pt x="95" y="474"/>
                  <a:pt x="195" y="489"/>
                </a:cubicBezTo>
                <a:cubicBezTo>
                  <a:pt x="333" y="480"/>
                  <a:pt x="288" y="484"/>
                  <a:pt x="367" y="459"/>
                </a:cubicBezTo>
                <a:cubicBezTo>
                  <a:pt x="385" y="431"/>
                  <a:pt x="400" y="432"/>
                  <a:pt x="427" y="414"/>
                </a:cubicBezTo>
                <a:cubicBezTo>
                  <a:pt x="497" y="309"/>
                  <a:pt x="491" y="136"/>
                  <a:pt x="382" y="62"/>
                </a:cubicBezTo>
                <a:cubicBezTo>
                  <a:pt x="364" y="36"/>
                  <a:pt x="352" y="20"/>
                  <a:pt x="322" y="10"/>
                </a:cubicBezTo>
                <a:cubicBezTo>
                  <a:pt x="268" y="18"/>
                  <a:pt x="270" y="0"/>
                  <a:pt x="270" y="25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5"/>
          <p:cNvSpPr/>
          <p:nvPr/>
        </p:nvSpPr>
        <p:spPr>
          <a:xfrm>
            <a:off x="3317760" y="3952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漏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26"/>
          <p:cNvSpPr/>
          <p:nvPr/>
        </p:nvSpPr>
        <p:spPr>
          <a:xfrm>
            <a:off x="5648400" y="3405240"/>
            <a:ext cx="269640" cy="728640"/>
          </a:xfrm>
          <a:custGeom>
            <a:avLst/>
            <a:gdLst>
              <a:gd name="textAreaLeft" fmla="*/ 0 w 269640"/>
              <a:gd name="textAreaRight" fmla="*/ 270000 w 269640"/>
              <a:gd name="textAreaTop" fmla="*/ 0 h 728640"/>
              <a:gd name="textAreaBottom" fmla="*/ 728640 h 728640"/>
            </a:gdLst>
            <a:ahLst/>
            <a:rect l="textAreaLeft" t="textAreaTop" r="textAreaRight" b="textAreaBottom"/>
            <a:pathLst>
              <a:path w="497" h="489">
                <a:moveTo>
                  <a:pt x="270" y="25"/>
                </a:moveTo>
                <a:cubicBezTo>
                  <a:pt x="222" y="16"/>
                  <a:pt x="175" y="16"/>
                  <a:pt x="128" y="33"/>
                </a:cubicBezTo>
                <a:cubicBezTo>
                  <a:pt x="106" y="54"/>
                  <a:pt x="93" y="75"/>
                  <a:pt x="68" y="92"/>
                </a:cubicBezTo>
                <a:cubicBezTo>
                  <a:pt x="43" y="130"/>
                  <a:pt x="24" y="168"/>
                  <a:pt x="0" y="205"/>
                </a:cubicBezTo>
                <a:cubicBezTo>
                  <a:pt x="3" y="252"/>
                  <a:pt x="2" y="300"/>
                  <a:pt x="8" y="347"/>
                </a:cubicBezTo>
                <a:cubicBezTo>
                  <a:pt x="22" y="463"/>
                  <a:pt x="95" y="474"/>
                  <a:pt x="195" y="489"/>
                </a:cubicBezTo>
                <a:cubicBezTo>
                  <a:pt x="333" y="480"/>
                  <a:pt x="288" y="484"/>
                  <a:pt x="367" y="459"/>
                </a:cubicBezTo>
                <a:cubicBezTo>
                  <a:pt x="385" y="431"/>
                  <a:pt x="400" y="432"/>
                  <a:pt x="427" y="414"/>
                </a:cubicBezTo>
                <a:cubicBezTo>
                  <a:pt x="497" y="309"/>
                  <a:pt x="491" y="136"/>
                  <a:pt x="382" y="62"/>
                </a:cubicBezTo>
                <a:cubicBezTo>
                  <a:pt x="364" y="36"/>
                  <a:pt x="352" y="20"/>
                  <a:pt x="322" y="10"/>
                </a:cubicBezTo>
                <a:cubicBezTo>
                  <a:pt x="268" y="18"/>
                  <a:pt x="270" y="0"/>
                  <a:pt x="270" y="25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7"/>
          <p:cNvSpPr/>
          <p:nvPr/>
        </p:nvSpPr>
        <p:spPr>
          <a:xfrm>
            <a:off x="6605640" y="37688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没变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Group 33"/>
          <p:cNvGrpSpPr/>
          <p:nvPr/>
        </p:nvGrpSpPr>
        <p:grpSpPr>
          <a:xfrm>
            <a:off x="5537160" y="2187720"/>
            <a:ext cx="1001880" cy="1012680"/>
            <a:chOff x="5537160" y="2187720"/>
            <a:chExt cx="1001880" cy="1012680"/>
          </a:xfrm>
        </p:grpSpPr>
        <p:sp>
          <p:nvSpPr>
            <p:cNvPr id="931" name="Text Box 10"/>
            <p:cNvSpPr/>
            <p:nvPr/>
          </p:nvSpPr>
          <p:spPr>
            <a:xfrm>
              <a:off x="5548320" y="21877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x+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31"/>
            <p:cNvSpPr/>
            <p:nvPr/>
          </p:nvSpPr>
          <p:spPr>
            <a:xfrm>
              <a:off x="5743800" y="26798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32"/>
            <p:cNvSpPr/>
            <p:nvPr/>
          </p:nvSpPr>
          <p:spPr>
            <a:xfrm>
              <a:off x="5537160" y="2724120"/>
              <a:ext cx="76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826920" y="1361880"/>
            <a:ext cx="7506000" cy="38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小明在做解方程作业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小心将方程中的一个常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污染了看不清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被污染的方程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y -   =   y-■,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怎么办呢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小明想了一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便翻看了书后的答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此方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解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 -   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很快补好了这个常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个常数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935" name="Object 2"/>
          <p:cNvGraphicFramePr/>
          <p:nvPr/>
        </p:nvGraphicFramePr>
        <p:xfrm>
          <a:off x="2408400" y="3675240"/>
          <a:ext cx="206280" cy="57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8400" y="3675240"/>
                    <a:ext cx="2062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7" name="Object 3"/>
          <p:cNvGraphicFramePr/>
          <p:nvPr/>
        </p:nvGraphicFramePr>
        <p:xfrm>
          <a:off x="6804000" y="2133720"/>
          <a:ext cx="20340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2133720"/>
                    <a:ext cx="203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Object 4"/>
          <p:cNvGraphicFramePr/>
          <p:nvPr/>
        </p:nvGraphicFramePr>
        <p:xfrm>
          <a:off x="1476360" y="4581360"/>
          <a:ext cx="222120" cy="35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4581360"/>
                    <a:ext cx="22212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Object 5"/>
          <p:cNvGraphicFramePr/>
          <p:nvPr/>
        </p:nvGraphicFramePr>
        <p:xfrm>
          <a:off x="6084720" y="2133720"/>
          <a:ext cx="20340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2133720"/>
                    <a:ext cx="203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2"/>
          <p:cNvSpPr/>
          <p:nvPr/>
        </p:nvSpPr>
        <p:spPr>
          <a:xfrm>
            <a:off x="706320" y="781200"/>
            <a:ext cx="762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58ed5"/>
                </a:solidFill>
                <a:latin typeface="宋体"/>
              </a:rPr>
              <a:t>解一元一次方程的一般步骤</a:t>
            </a:r>
            <a:r>
              <a:rPr b="1" lang="en-US" sz="2400" spc="-1" strike="noStrike">
                <a:solidFill>
                  <a:srgbClr val="558ed5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4" name=""/>
          <p:cNvGraphicFramePr/>
          <p:nvPr/>
        </p:nvGraphicFramePr>
        <p:xfrm>
          <a:off x="1652760" y="1808280"/>
          <a:ext cx="6773760" cy="4240080"/>
        </p:xfrm>
        <a:graphic>
          <a:graphicData uri="http://schemas.openxmlformats.org/drawingml/2006/table">
            <a:tbl>
              <a:tblPr/>
              <a:tblGrid>
                <a:gridCol w="1622160"/>
                <a:gridCol w="515160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变形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具体的做法与依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去分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分式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每一项都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乘所有的分母的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最小公倍数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（依据是等式性质二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去括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先去小括号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再去中括号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最后去大括号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（依据是去括号法则和乘法分配律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移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把含有未知数的项移到一边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常数项移到另一边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.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移项变号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，   （依据是等式性质一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合并同类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将未知数的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系数相加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，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常数项相加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（依据是乘法分配律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系数化为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在方程的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两边同除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以未知数的系数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（依据是等式性质二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5" name="标题 1"/>
          <p:cNvSpPr/>
          <p:nvPr/>
        </p:nvSpPr>
        <p:spPr>
          <a:xfrm>
            <a:off x="3276720" y="662040"/>
            <a:ext cx="26636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58ed5"/>
                </a:solidFill>
                <a:latin typeface="Calibri"/>
              </a:rPr>
              <a:t>本课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2"/>
          <p:cNvSpPr/>
          <p:nvPr/>
        </p:nvSpPr>
        <p:spPr>
          <a:xfrm>
            <a:off x="939960" y="122544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丢番图的墓志铭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1888560" y="1792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1074600" y="1952640"/>
            <a:ext cx="721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坟中安葬着丢番图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多么令人惊讶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它忠实地记录了所经历的道路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上帝给予的童年占六分之一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又过十二分之一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两颊长胡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再过七分之一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点燃结婚的蜡烛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五年之后天赐贵子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可怜迟到的宁馨儿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享年仅及其父之半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便进入冰冷的墓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悲伤只有用数论的研究去弥补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又过四年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他也走完了人生的旅途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609480" y="5334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你知道丢番图去世时的年龄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请你列出方程来算一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标题 1"/>
          <p:cNvSpPr/>
          <p:nvPr/>
        </p:nvSpPr>
        <p:spPr>
          <a:xfrm>
            <a:off x="3348000" y="490680"/>
            <a:ext cx="26640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58ed5"/>
                </a:solidFill>
                <a:latin typeface="Calibri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2"/>
          <p:cNvSpPr/>
          <p:nvPr/>
        </p:nvSpPr>
        <p:spPr>
          <a:xfrm>
            <a:off x="696960" y="701640"/>
            <a:ext cx="769140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buClr>
                <a:srgbClr val="00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解  设令丢番图年龄为</a:t>
            </a:r>
            <a:r>
              <a:rPr b="0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岁，依题意</a:t>
            </a: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去分母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14x+7x+12x+420+42x+336=8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移项，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       </a:t>
            </a:r>
            <a:r>
              <a:rPr b="0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14x+7x+12x+42x-84x=- 420 – 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合并同类项</a:t>
            </a:r>
            <a:r>
              <a:rPr b="0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得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- 9x= - 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系数化这</a:t>
            </a:r>
            <a:r>
              <a:rPr b="0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得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x=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答：丢番图的年龄为</a:t>
            </a:r>
            <a:r>
              <a:rPr b="0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84</a:t>
            </a:r>
            <a:r>
              <a:rPr b="0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岁</a:t>
            </a:r>
            <a:r>
              <a:rPr b="0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Object 2"/>
              <p:cNvSpPr txBox="1"/>
              <p:nvPr/>
            </p:nvSpPr>
            <p:spPr>
              <a:xfrm>
                <a:off x="3348000" y="1125360"/>
                <a:ext cx="34387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Rectangle 2" descr=""/>
          <p:cNvPicPr/>
          <p:nvPr/>
        </p:nvPicPr>
        <p:blipFill>
          <a:blip r:embed="rId2"/>
          <a:stretch/>
        </p:blipFill>
        <p:spPr>
          <a:xfrm>
            <a:off x="231840" y="974880"/>
            <a:ext cx="7864560" cy="247464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3"/>
          <p:cNvSpPr/>
          <p:nvPr/>
        </p:nvSpPr>
        <p:spPr>
          <a:xfrm>
            <a:off x="1200240" y="42386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1200240" y="4924440"/>
            <a:ext cx="74674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974880" y="40514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甲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9"/>
          <p:cNvSpPr/>
          <p:nvPr/>
        </p:nvSpPr>
        <p:spPr>
          <a:xfrm>
            <a:off x="1200240" y="4848120"/>
            <a:ext cx="0" cy="763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0"/>
          <p:cNvSpPr/>
          <p:nvPr/>
        </p:nvSpPr>
        <p:spPr>
          <a:xfrm>
            <a:off x="4248000" y="4848120"/>
            <a:ext cx="0" cy="763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1"/>
          <p:cNvSpPr/>
          <p:nvPr/>
        </p:nvSpPr>
        <p:spPr>
          <a:xfrm>
            <a:off x="3439440" y="4086360"/>
            <a:ext cx="91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乙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2"/>
          <p:cNvSpPr/>
          <p:nvPr/>
        </p:nvSpPr>
        <p:spPr>
          <a:xfrm>
            <a:off x="2153880" y="454356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６００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3"/>
          <p:cNvSpPr/>
          <p:nvPr/>
        </p:nvSpPr>
        <p:spPr>
          <a:xfrm>
            <a:off x="1200240" y="5305320"/>
            <a:ext cx="8380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5"/>
          <p:cNvSpPr/>
          <p:nvPr/>
        </p:nvSpPr>
        <p:spPr>
          <a:xfrm>
            <a:off x="1303200" y="492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快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18"/>
          <p:cNvSpPr/>
          <p:nvPr/>
        </p:nvSpPr>
        <p:spPr>
          <a:xfrm>
            <a:off x="4248000" y="5305320"/>
            <a:ext cx="68580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9"/>
          <p:cNvSpPr/>
          <p:nvPr/>
        </p:nvSpPr>
        <p:spPr>
          <a:xfrm>
            <a:off x="4351320" y="492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慢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0"/>
          <p:cNvSpPr/>
          <p:nvPr/>
        </p:nvSpPr>
        <p:spPr>
          <a:xfrm>
            <a:off x="7296120" y="4848120"/>
            <a:ext cx="0" cy="763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21"/>
          <p:cNvSpPr/>
          <p:nvPr/>
        </p:nvSpPr>
        <p:spPr>
          <a:xfrm>
            <a:off x="7288200" y="40514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相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4"/>
          <p:cNvSpPr/>
          <p:nvPr/>
        </p:nvSpPr>
        <p:spPr>
          <a:xfrm>
            <a:off x="1200240" y="4924440"/>
            <a:ext cx="0" cy="990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5"/>
          <p:cNvSpPr/>
          <p:nvPr/>
        </p:nvSpPr>
        <p:spPr>
          <a:xfrm>
            <a:off x="7296120" y="4924440"/>
            <a:ext cx="0" cy="990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27"/>
          <p:cNvSpPr/>
          <p:nvPr/>
        </p:nvSpPr>
        <p:spPr>
          <a:xfrm>
            <a:off x="1200240" y="5686560"/>
            <a:ext cx="60958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28"/>
          <p:cNvSpPr/>
          <p:nvPr/>
        </p:nvSpPr>
        <p:spPr>
          <a:xfrm>
            <a:off x="3576240" y="53197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20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29"/>
          <p:cNvSpPr/>
          <p:nvPr/>
        </p:nvSpPr>
        <p:spPr>
          <a:xfrm flipV="1">
            <a:off x="4233960" y="4010040"/>
            <a:ext cx="0" cy="9144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30"/>
          <p:cNvSpPr/>
          <p:nvPr/>
        </p:nvSpPr>
        <p:spPr>
          <a:xfrm flipV="1">
            <a:off x="7296120" y="3933720"/>
            <a:ext cx="0" cy="990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31"/>
          <p:cNvSpPr/>
          <p:nvPr/>
        </p:nvSpPr>
        <p:spPr>
          <a:xfrm>
            <a:off x="4248000" y="4543560"/>
            <a:ext cx="30481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32"/>
          <p:cNvSpPr/>
          <p:nvPr/>
        </p:nvSpPr>
        <p:spPr>
          <a:xfrm>
            <a:off x="5171400" y="41767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8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Line 2050"/>
          <p:cNvSpPr/>
          <p:nvPr/>
        </p:nvSpPr>
        <p:spPr>
          <a:xfrm>
            <a:off x="1066680" y="2590920"/>
            <a:ext cx="74678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2052"/>
          <p:cNvSpPr/>
          <p:nvPr/>
        </p:nvSpPr>
        <p:spPr>
          <a:xfrm>
            <a:off x="1066680" y="2514600"/>
            <a:ext cx="0" cy="763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2053"/>
          <p:cNvSpPr/>
          <p:nvPr/>
        </p:nvSpPr>
        <p:spPr>
          <a:xfrm>
            <a:off x="841320" y="171792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甲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2054"/>
          <p:cNvSpPr/>
          <p:nvPr/>
        </p:nvSpPr>
        <p:spPr>
          <a:xfrm>
            <a:off x="3429000" y="2514600"/>
            <a:ext cx="0" cy="763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055"/>
          <p:cNvSpPr/>
          <p:nvPr/>
        </p:nvSpPr>
        <p:spPr>
          <a:xfrm>
            <a:off x="2990880" y="171792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乙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056"/>
          <p:cNvSpPr/>
          <p:nvPr/>
        </p:nvSpPr>
        <p:spPr>
          <a:xfrm>
            <a:off x="1792080" y="22096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６００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2057"/>
          <p:cNvSpPr/>
          <p:nvPr/>
        </p:nvSpPr>
        <p:spPr>
          <a:xfrm>
            <a:off x="1066680" y="2971800"/>
            <a:ext cx="7621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2058"/>
          <p:cNvSpPr/>
          <p:nvPr/>
        </p:nvSpPr>
        <p:spPr>
          <a:xfrm>
            <a:off x="3429000" y="2971800"/>
            <a:ext cx="7621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2059"/>
          <p:cNvSpPr/>
          <p:nvPr/>
        </p:nvSpPr>
        <p:spPr>
          <a:xfrm>
            <a:off x="1295280" y="3352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2060"/>
          <p:cNvSpPr/>
          <p:nvPr/>
        </p:nvSpPr>
        <p:spPr>
          <a:xfrm>
            <a:off x="1170000" y="2590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快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2061"/>
          <p:cNvSpPr/>
          <p:nvPr/>
        </p:nvSpPr>
        <p:spPr>
          <a:xfrm>
            <a:off x="3490920" y="2587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慢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2062"/>
          <p:cNvSpPr/>
          <p:nvPr/>
        </p:nvSpPr>
        <p:spPr>
          <a:xfrm>
            <a:off x="6400800" y="2514600"/>
            <a:ext cx="0" cy="763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2064"/>
          <p:cNvSpPr/>
          <p:nvPr/>
        </p:nvSpPr>
        <p:spPr>
          <a:xfrm>
            <a:off x="6081840" y="2587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慢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2066"/>
          <p:cNvSpPr/>
          <p:nvPr/>
        </p:nvSpPr>
        <p:spPr>
          <a:xfrm>
            <a:off x="7238880" y="2514600"/>
            <a:ext cx="0" cy="763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067"/>
          <p:cNvSpPr/>
          <p:nvPr/>
        </p:nvSpPr>
        <p:spPr>
          <a:xfrm>
            <a:off x="7070760" y="23781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68"/>
          <p:cNvSpPr/>
          <p:nvPr/>
        </p:nvSpPr>
        <p:spPr>
          <a:xfrm>
            <a:off x="7113600" y="2590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快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074"/>
          <p:cNvSpPr/>
          <p:nvPr/>
        </p:nvSpPr>
        <p:spPr>
          <a:xfrm>
            <a:off x="1066680" y="2590920"/>
            <a:ext cx="0" cy="9144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075"/>
          <p:cNvSpPr/>
          <p:nvPr/>
        </p:nvSpPr>
        <p:spPr>
          <a:xfrm>
            <a:off x="7238880" y="2590920"/>
            <a:ext cx="0" cy="990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077"/>
          <p:cNvSpPr/>
          <p:nvPr/>
        </p:nvSpPr>
        <p:spPr>
          <a:xfrm>
            <a:off x="1066680" y="3429000"/>
            <a:ext cx="617220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2078"/>
          <p:cNvSpPr/>
          <p:nvPr/>
        </p:nvSpPr>
        <p:spPr>
          <a:xfrm>
            <a:off x="3786480" y="30481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120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079"/>
          <p:cNvSpPr/>
          <p:nvPr/>
        </p:nvSpPr>
        <p:spPr>
          <a:xfrm flipV="1">
            <a:off x="3429000" y="1447560"/>
            <a:ext cx="0" cy="1143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080"/>
          <p:cNvSpPr/>
          <p:nvPr/>
        </p:nvSpPr>
        <p:spPr>
          <a:xfrm flipV="1">
            <a:off x="6400800" y="1523880"/>
            <a:ext cx="0" cy="10670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081"/>
          <p:cNvSpPr/>
          <p:nvPr/>
        </p:nvSpPr>
        <p:spPr>
          <a:xfrm>
            <a:off x="3429000" y="2133720"/>
            <a:ext cx="297180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2082"/>
          <p:cNvSpPr/>
          <p:nvPr/>
        </p:nvSpPr>
        <p:spPr>
          <a:xfrm>
            <a:off x="4404600" y="1752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80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083"/>
          <p:cNvSpPr/>
          <p:nvPr/>
        </p:nvSpPr>
        <p:spPr>
          <a:xfrm>
            <a:off x="645660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200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084"/>
          <p:cNvSpPr/>
          <p:nvPr/>
        </p:nvSpPr>
        <p:spPr>
          <a:xfrm>
            <a:off x="5867280" y="2438280"/>
            <a:ext cx="0" cy="4572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085"/>
          <p:cNvSpPr/>
          <p:nvPr/>
        </p:nvSpPr>
        <p:spPr>
          <a:xfrm>
            <a:off x="5548320" y="21304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相遇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Rectangle 2" descr=""/>
          <p:cNvPicPr/>
          <p:nvPr/>
        </p:nvPicPr>
        <p:blipFill>
          <a:blip r:embed="rId2"/>
          <a:stretch/>
        </p:blipFill>
        <p:spPr>
          <a:xfrm>
            <a:off x="378000" y="938160"/>
            <a:ext cx="7864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楷体"/>
                <a:ea typeface="楷体"/>
              </a:rPr>
              <a:t>问题探究：你能利用一元一次方程解决下面的问题吗？</a:t>
            </a:r>
            <a:br>
              <a:rPr sz="3200"/>
            </a:br>
            <a:r>
              <a:rPr b="0" lang="zh-CN" sz="3200" spc="-1" strike="noStrike">
                <a:solidFill>
                  <a:srgbClr val="007572"/>
                </a:solidFill>
                <a:latin typeface="楷体"/>
                <a:ea typeface="楷体"/>
              </a:rPr>
              <a:t>    在</a:t>
            </a:r>
            <a:r>
              <a:rPr b="0" lang="en-US" sz="3200" spc="-1" strike="noStrike">
                <a:solidFill>
                  <a:srgbClr val="007572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07572"/>
                </a:solidFill>
                <a:latin typeface="楷体"/>
                <a:ea typeface="楷体"/>
              </a:rPr>
              <a:t>时和</a:t>
            </a:r>
            <a:r>
              <a:rPr b="0" lang="en-US" sz="3200" spc="-1" strike="noStrike">
                <a:solidFill>
                  <a:srgbClr val="007572"/>
                </a:solidFill>
                <a:latin typeface="楷体"/>
                <a:ea typeface="楷体"/>
              </a:rPr>
              <a:t>4</a:t>
            </a:r>
            <a:r>
              <a:rPr b="0" lang="zh-CN" sz="3200" spc="-1" strike="noStrike">
                <a:solidFill>
                  <a:srgbClr val="007572"/>
                </a:solidFill>
                <a:latin typeface="楷体"/>
                <a:ea typeface="楷体"/>
              </a:rPr>
              <a:t>时之间的哪个时刻，钟的时针与分针：</a:t>
            </a:r>
            <a:br>
              <a:rPr sz="3200"/>
            </a:br>
            <a:r>
              <a:rPr b="0" lang="zh-CN" sz="3200" spc="-1" strike="noStrike">
                <a:solidFill>
                  <a:srgbClr val="007572"/>
                </a:solidFill>
                <a:latin typeface="楷体"/>
                <a:ea typeface="楷体"/>
              </a:rPr>
              <a:t>      </a:t>
            </a:r>
            <a:r>
              <a:rPr b="0" lang="en-US" sz="3200" spc="-1" strike="noStrike">
                <a:solidFill>
                  <a:srgbClr val="007572"/>
                </a:solidFill>
                <a:latin typeface="楷体"/>
                <a:ea typeface="楷体"/>
              </a:rPr>
              <a:t>(1)</a:t>
            </a:r>
            <a:r>
              <a:rPr b="0" lang="zh-CN" sz="3200" spc="-1" strike="noStrike">
                <a:solidFill>
                  <a:srgbClr val="007572"/>
                </a:solidFill>
                <a:latin typeface="楷体"/>
                <a:ea typeface="楷体"/>
              </a:rPr>
              <a:t>重合； </a:t>
            </a:r>
            <a:br>
              <a:rPr sz="3200"/>
            </a:br>
            <a:r>
              <a:rPr b="0" lang="zh-CN" sz="3200" spc="-1" strike="noStrike">
                <a:solidFill>
                  <a:srgbClr val="007572"/>
                </a:solidFill>
                <a:latin typeface="楷体"/>
                <a:ea typeface="楷体"/>
              </a:rPr>
              <a:t>      </a:t>
            </a:r>
            <a:r>
              <a:rPr b="0" lang="en-US" sz="3200" spc="-1" strike="noStrike">
                <a:solidFill>
                  <a:srgbClr val="007572"/>
                </a:solidFill>
                <a:latin typeface="楷体"/>
                <a:ea typeface="楷体"/>
              </a:rPr>
              <a:t>(2)</a:t>
            </a:r>
            <a:r>
              <a:rPr b="0" lang="zh-CN" sz="3200" spc="-1" strike="noStrike">
                <a:solidFill>
                  <a:srgbClr val="007572"/>
                </a:solidFill>
                <a:latin typeface="楷体"/>
                <a:ea typeface="楷体"/>
              </a:rPr>
              <a:t>成直角。</a:t>
            </a:r>
            <a:br>
              <a:rPr sz="3200"/>
            </a:br>
            <a:r>
              <a:rPr b="0" lang="zh-CN" sz="3200" spc="-1" strike="noStrike">
                <a:solidFill>
                  <a:srgbClr val="007572"/>
                </a:solidFill>
                <a:latin typeface="楷体"/>
                <a:ea typeface="楷体"/>
              </a:rPr>
              <a:t>     （</a:t>
            </a:r>
            <a:r>
              <a:rPr b="0" lang="en-US" sz="3200" spc="-1" strike="noStrike">
                <a:solidFill>
                  <a:srgbClr val="007572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07572"/>
                </a:solidFill>
                <a:latin typeface="楷体"/>
                <a:ea typeface="楷体"/>
              </a:rPr>
              <a:t>）成平角。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3"/>
          <p:cNvSpPr/>
          <p:nvPr/>
        </p:nvSpPr>
        <p:spPr>
          <a:xfrm>
            <a:off x="610200" y="2422440"/>
            <a:ext cx="44424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．合并下列各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956160" y="4057560"/>
            <a:ext cx="67201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．把方程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变形为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称为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8426520" y="4087800"/>
            <a:ext cx="1029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8131680" y="4087800"/>
            <a:ext cx="2034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810000" y="4603680"/>
            <a:ext cx="10249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．移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．去括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4578840" y="4603680"/>
            <a:ext cx="15292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．去分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．系数化为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2961360" y="2855880"/>
            <a:ext cx="59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2976120" y="3359160"/>
            <a:ext cx="50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标题 1"/>
          <p:cNvSpPr/>
          <p:nvPr/>
        </p:nvSpPr>
        <p:spPr>
          <a:xfrm>
            <a:off x="395280" y="1197000"/>
            <a:ext cx="2890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58ed5"/>
                </a:solidFill>
                <a:latin typeface="Calibri"/>
              </a:rPr>
              <a:t>温故知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 Box 2"/>
          <p:cNvSpPr/>
          <p:nvPr/>
        </p:nvSpPr>
        <p:spPr>
          <a:xfrm>
            <a:off x="3844080" y="22701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这个问题与刚才路程问题有无联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3"/>
          <p:cNvSpPr/>
          <p:nvPr/>
        </p:nvSpPr>
        <p:spPr>
          <a:xfrm>
            <a:off x="870120" y="150336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分析与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412920" y="3027240"/>
            <a:ext cx="819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若有联系，分针看作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速度为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时针看作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速度为    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分。分针和时针走的路程用 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8"/>
          <p:cNvSpPr/>
          <p:nvPr/>
        </p:nvSpPr>
        <p:spPr>
          <a:xfrm>
            <a:off x="4270320" y="29844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快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9"/>
          <p:cNvSpPr/>
          <p:nvPr/>
        </p:nvSpPr>
        <p:spPr>
          <a:xfrm>
            <a:off x="6559560" y="291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1"/>
          <p:cNvSpPr/>
          <p:nvPr/>
        </p:nvSpPr>
        <p:spPr>
          <a:xfrm>
            <a:off x="2061000" y="3484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慢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6"/>
          <p:cNvSpPr/>
          <p:nvPr/>
        </p:nvSpPr>
        <p:spPr>
          <a:xfrm>
            <a:off x="3918600" y="34131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7"/>
          <p:cNvSpPr/>
          <p:nvPr/>
        </p:nvSpPr>
        <p:spPr>
          <a:xfrm>
            <a:off x="1632240" y="3913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度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解：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设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时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分时针与分针重合，则从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时开始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分针转了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_____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度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时针转了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________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度。依题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意得：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6385320" y="1924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4"/>
          <p:cNvSpPr/>
          <p:nvPr/>
        </p:nvSpPr>
        <p:spPr>
          <a:xfrm>
            <a:off x="5775480" y="26067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5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Object 3"/>
              <p:cNvSpPr txBox="1"/>
              <p:nvPr/>
            </p:nvSpPr>
            <p:spPr>
              <a:xfrm>
                <a:off x="3236760" y="1522440"/>
                <a:ext cx="476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Text Box 8"/>
          <p:cNvSpPr/>
          <p:nvPr/>
        </p:nvSpPr>
        <p:spPr>
          <a:xfrm>
            <a:off x="3184560" y="35971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19" name="Text Box 12"/>
          <p:cNvSpPr/>
          <p:nvPr/>
        </p:nvSpPr>
        <p:spPr>
          <a:xfrm>
            <a:off x="8137440" y="16160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Picture 34" descr=""/>
          <p:cNvPicPr/>
          <p:nvPr/>
        </p:nvPicPr>
        <p:blipFill>
          <a:blip r:embed="rId2"/>
          <a:stretch/>
        </p:blipFill>
        <p:spPr>
          <a:xfrm>
            <a:off x="914400" y="3619440"/>
            <a:ext cx="3038400" cy="29336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35" descr=""/>
          <p:cNvPicPr/>
          <p:nvPr/>
        </p:nvPicPr>
        <p:blipFill>
          <a:blip r:embed="rId3"/>
          <a:stretch/>
        </p:blipFill>
        <p:spPr>
          <a:xfrm>
            <a:off x="5114880" y="3657600"/>
            <a:ext cx="2962440" cy="2860560"/>
          </a:xfrm>
          <a:prstGeom prst="rect">
            <a:avLst/>
          </a:prstGeom>
          <a:ln w="0">
            <a:noFill/>
          </a:ln>
        </p:spPr>
      </p:pic>
      <p:sp>
        <p:nvSpPr>
          <p:cNvPr id="1022" name="Text Box 36"/>
          <p:cNvSpPr/>
          <p:nvPr/>
        </p:nvSpPr>
        <p:spPr>
          <a:xfrm>
            <a:off x="20134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分针起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37"/>
          <p:cNvSpPr/>
          <p:nvPr/>
        </p:nvSpPr>
        <p:spPr>
          <a:xfrm>
            <a:off x="3836160" y="44366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时针起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4" name="Object 2"/>
              <p:cNvSpPr txBox="1"/>
              <p:nvPr/>
            </p:nvSpPr>
            <p:spPr>
              <a:xfrm>
                <a:off x="900000" y="836640"/>
                <a:ext cx="7518600" cy="52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答：在</m:t>
                        </m:r>
                        <m:r>
                          <m:t xml:space="preserve">3</m:t>
                        </m:r>
                        <m:r>
                          <m:t xml:space="preserve">时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分时针与分针重合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5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Object 3"/>
              <p:cNvSpPr txBox="1"/>
              <p:nvPr/>
            </p:nvSpPr>
            <p:spPr>
              <a:xfrm>
                <a:off x="714240" y="1044720"/>
                <a:ext cx="6737400" cy="555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设在</m:t>
                        </m:r>
                        <m:r>
                          <m:rPr>
                            <m:lit/>
                            <m:nor/>
                          </m:rPr>
                          <m:t xml:space="preserve"> 3  </m:t>
                        </m:r>
                        <m:r>
                          <m:t xml:space="preserve">时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分时针与分针成直角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依题意得：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答：在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  <m:r>
                          <m:t xml:space="preserve">时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分时针与分针成直角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27" name="Picture 8" descr=""/>
          <p:cNvPicPr/>
          <p:nvPr/>
        </p:nvPicPr>
        <p:blipFill>
          <a:blip r:embed="rId2"/>
          <a:stretch/>
        </p:blipFill>
        <p:spPr>
          <a:xfrm>
            <a:off x="4800600" y="2097000"/>
            <a:ext cx="33526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8" name="Object 2"/>
              <p:cNvSpPr txBox="1"/>
              <p:nvPr/>
            </p:nvSpPr>
            <p:spPr>
              <a:xfrm>
                <a:off x="963720" y="596880"/>
                <a:ext cx="7027920" cy="570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设在</m:t>
                        </m:r>
                        <m:r>
                          <m:rPr>
                            <m:lit/>
                            <m:nor/>
                          </m:rPr>
                          <m:t xml:space="preserve"> 3  </m:t>
                        </m:r>
                        <m:r>
                          <m:t xml:space="preserve">时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分时针与分针成平角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依题意得：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答：在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  <m:r>
                          <m:t xml:space="preserve">时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分时针与分针成平角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29" name="Picture 6" descr=""/>
          <p:cNvPicPr/>
          <p:nvPr/>
        </p:nvPicPr>
        <p:blipFill>
          <a:blip r:embed="rId2"/>
          <a:stretch/>
        </p:blipFill>
        <p:spPr>
          <a:xfrm>
            <a:off x="4648320" y="1836720"/>
            <a:ext cx="33433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Rectangle 2" descr=""/>
          <p:cNvPicPr/>
          <p:nvPr/>
        </p:nvPicPr>
        <p:blipFill>
          <a:blip r:embed="rId2"/>
          <a:stretch/>
        </p:blipFill>
        <p:spPr>
          <a:xfrm>
            <a:off x="-469800" y="6825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3"/>
          <p:cNvSpPr/>
          <p:nvPr/>
        </p:nvSpPr>
        <p:spPr>
          <a:xfrm>
            <a:off x="216000" y="595440"/>
            <a:ext cx="82677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58ed5"/>
                </a:solidFill>
                <a:latin typeface="宋体"/>
              </a:rPr>
              <a:t>一、去括号</a:t>
            </a:r>
            <a:r>
              <a:rPr b="1" lang="en-US" sz="4000" spc="-1" strike="noStrike">
                <a:solidFill>
                  <a:srgbClr val="558ed5"/>
                </a:solidFill>
                <a:latin typeface="宋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33cc"/>
                </a:solidFill>
                <a:latin typeface="Arial"/>
              </a:rPr>
              <a:t>问题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1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某工厂加强节能措施，去年下半年与上半年相比，月平均用电量减少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度，全年用电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万度，这个工厂去年上半年每月平均用电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1150920" y="2395440"/>
            <a:ext cx="7199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解：设上半年每月平均用电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度，则下半年每月平均用电（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x-2000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）度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上半年共用电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6x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度，下半年共用电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x-2000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）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根据题意列方程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6x+ 6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-200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=1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2232000" y="35481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去括号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6"/>
          <p:cNvSpPr/>
          <p:nvPr/>
        </p:nvSpPr>
        <p:spPr>
          <a:xfrm>
            <a:off x="3456000" y="37638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315"/>
                </a:solidFill>
                <a:latin typeface="Times New Roman"/>
              </a:rPr>
              <a:t>6x+6x-12000=1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2232000" y="4122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移项得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3456000" y="43401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315"/>
                </a:solidFill>
                <a:latin typeface="Times New Roman"/>
              </a:rPr>
              <a:t>6x+6x=150000+1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2087640" y="46990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合并同类项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3959280" y="49150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315"/>
                </a:solidFill>
                <a:latin typeface="Times New Roman"/>
              </a:rPr>
              <a:t>12x=16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2158920" y="534816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系数化为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3959280" y="5564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315"/>
                </a:solidFill>
                <a:latin typeface="Times New Roman"/>
              </a:rPr>
              <a:t>x=13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1871640" y="61405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555"/>
                </a:solidFill>
                <a:latin typeface="Times New Roman"/>
              </a:rPr>
              <a:t>答</a:t>
            </a:r>
            <a:r>
              <a:rPr b="1" lang="en-US" sz="2400" spc="-1" strike="noStrike">
                <a:solidFill>
                  <a:srgbClr val="001555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1555"/>
                </a:solidFill>
                <a:latin typeface="Times New Roman"/>
              </a:rPr>
              <a:t>这个工厂去年上半年每月平均用电</a:t>
            </a:r>
            <a:r>
              <a:rPr b="1" lang="en-US" sz="2400" spc="-1" strike="noStrike">
                <a:solidFill>
                  <a:srgbClr val="001555"/>
                </a:solidFill>
                <a:latin typeface="Times New Roman"/>
              </a:rPr>
              <a:t>13500</a:t>
            </a:r>
            <a:r>
              <a:rPr b="1" lang="zh-CN" sz="2400" spc="-1" strike="noStrike">
                <a:solidFill>
                  <a:srgbClr val="001555"/>
                </a:solidFill>
                <a:latin typeface="Times New Roman"/>
              </a:rPr>
              <a:t>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4"/>
          <p:cNvGrpSpPr/>
          <p:nvPr/>
        </p:nvGrpSpPr>
        <p:grpSpPr>
          <a:xfrm>
            <a:off x="4103640" y="3619440"/>
            <a:ext cx="1728720" cy="1728000"/>
            <a:chOff x="4103640" y="3619440"/>
            <a:chExt cx="1728720" cy="1728000"/>
          </a:xfrm>
        </p:grpSpPr>
        <p:sp>
          <p:nvSpPr>
            <p:cNvPr id="690" name="AutoShape 15"/>
            <p:cNvSpPr/>
            <p:nvPr/>
          </p:nvSpPr>
          <p:spPr>
            <a:xfrm>
              <a:off x="4103640" y="4113360"/>
              <a:ext cx="1728720" cy="1234080"/>
            </a:xfrm>
            <a:prstGeom prst="cloudCallout">
              <a:avLst>
                <a:gd name="adj1" fmla="val -53787"/>
                <a:gd name="adj2" fmla="val -81041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Times New Roman"/>
                </a:rPr>
                <a:t>方程中有括号怎么解呀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WordArt 16"/>
            <p:cNvSpPr txBox="1"/>
            <p:nvPr/>
          </p:nvSpPr>
          <p:spPr>
            <a:xfrm>
              <a:off x="5308200" y="3619440"/>
              <a:ext cx="523800" cy="166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0"/>
                  <a:gd name="adj2" fmla="val 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宋体"/>
                </a:rPr>
                <a:t>？</a:t>
              </a:r>
              <a:endPara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692" name="Rectangle 17"/>
          <p:cNvSpPr/>
          <p:nvPr/>
        </p:nvSpPr>
        <p:spPr>
          <a:xfrm>
            <a:off x="2016000" y="369108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去括号法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⑴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括号前是“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+”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号，把括号和它前面的“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+”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号去掉，括号里各项都不变符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⑵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括号前是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号，把括号和它前面的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号去掉，括号里各项都改变符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Rectangle 2" descr=""/>
          <p:cNvPicPr/>
          <p:nvPr/>
        </p:nvPicPr>
        <p:blipFill>
          <a:blip r:embed="rId2"/>
          <a:stretch/>
        </p:blipFill>
        <p:spPr>
          <a:xfrm>
            <a:off x="-12600" y="841320"/>
            <a:ext cx="8424720" cy="126216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181080" y="2287080"/>
            <a:ext cx="4039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95" name="Object 4"/>
          <p:cNvGraphicFramePr/>
          <p:nvPr/>
        </p:nvGraphicFramePr>
        <p:xfrm>
          <a:off x="3997440" y="2349360"/>
          <a:ext cx="24652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7440" y="2349360"/>
                    <a:ext cx="24652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8"/>
          <p:cNvGraphicFramePr/>
          <p:nvPr/>
        </p:nvGraphicFramePr>
        <p:xfrm>
          <a:off x="3917880" y="3030480"/>
          <a:ext cx="24908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17880" y="3030480"/>
                    <a:ext cx="2490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Text Box 5"/>
          <p:cNvSpPr/>
          <p:nvPr/>
        </p:nvSpPr>
        <p:spPr>
          <a:xfrm>
            <a:off x="576360" y="20289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9"/>
                </a:solidFill>
                <a:latin typeface="Arial"/>
              </a:rPr>
              <a:t>解：去括号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3940200" y="275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1946520" y="2892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9"/>
                </a:solidFill>
                <a:latin typeface="Times New Roman"/>
              </a:rPr>
              <a:t>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963000" y="368460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091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90919"/>
                </a:solidFill>
                <a:latin typeface="Times New Roman"/>
              </a:rPr>
              <a:t>合并同类项，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Object 10"/>
          <p:cNvGraphicFramePr/>
          <p:nvPr/>
        </p:nvGraphicFramePr>
        <p:xfrm>
          <a:off x="4032360" y="3613320"/>
          <a:ext cx="233352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360" y="3613320"/>
                    <a:ext cx="2333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Text Box 11"/>
          <p:cNvSpPr/>
          <p:nvPr/>
        </p:nvSpPr>
        <p:spPr>
          <a:xfrm>
            <a:off x="576360" y="47642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9"/>
                </a:solidFill>
                <a:latin typeface="Arial"/>
              </a:rPr>
              <a:t>系数化成１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Object 12"/>
          <p:cNvGraphicFramePr/>
          <p:nvPr/>
        </p:nvGraphicFramePr>
        <p:xfrm>
          <a:off x="4284720" y="4336920"/>
          <a:ext cx="1781280" cy="13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4336920"/>
                    <a:ext cx="17812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Rectangle 2" descr=""/>
          <p:cNvPicPr/>
          <p:nvPr/>
        </p:nvPicPr>
        <p:blipFill>
          <a:blip r:embed="rId2"/>
          <a:stretch/>
        </p:blipFill>
        <p:spPr>
          <a:xfrm>
            <a:off x="0" y="9208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3"/>
          <p:cNvSpPr/>
          <p:nvPr/>
        </p:nvSpPr>
        <p:spPr>
          <a:xfrm>
            <a:off x="1476360" y="9777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方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x-7(x-1)=3-2(x+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1763640" y="17701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15"/>
                </a:solidFill>
                <a:latin typeface="Times New Roman"/>
              </a:rPr>
              <a:t>解</a:t>
            </a:r>
            <a:r>
              <a:rPr b="1" lang="en-US" sz="2400" spc="-1" strike="noStrike">
                <a:solidFill>
                  <a:srgbClr val="080315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2556000" y="18414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去括号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2268360" y="32097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移项得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1763640" y="40021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合并同类项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1763640" y="49370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系数化为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3851280" y="24890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315"/>
                </a:solidFill>
                <a:latin typeface="Times New Roman"/>
              </a:rPr>
              <a:t>3x-7x+7=3-2x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4427640" y="342576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315"/>
                </a:solidFill>
                <a:latin typeface="Times New Roman"/>
              </a:rPr>
              <a:t>3x-7x+2x=3-6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572000" y="45784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315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80315"/>
                </a:solidFill>
                <a:latin typeface="Times New Roman"/>
              </a:rPr>
              <a:t>2x = </a:t>
            </a:r>
            <a:r>
              <a:rPr b="1" lang="zh-CN" sz="3200" spc="-1" strike="noStrike">
                <a:solidFill>
                  <a:srgbClr val="080315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80315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5364000" y="55134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315"/>
                </a:solidFill>
                <a:latin typeface="Times New Roman"/>
              </a:rPr>
              <a:t>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5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5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5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>
            <a:off x="1262160" y="907920"/>
            <a:ext cx="459576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58ed5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解下列方程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"/>
          <p:cNvSpPr/>
          <p:nvPr/>
        </p:nvSpPr>
        <p:spPr>
          <a:xfrm>
            <a:off x="1000080" y="1706400"/>
            <a:ext cx="59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(1)2(</a:t>
            </a:r>
            <a:r>
              <a:rPr b="0" i="1" lang="zh-CN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(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i="1" lang="zh-CN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(2)2(</a:t>
            </a:r>
            <a:r>
              <a:rPr b="0" i="1" lang="zh-CN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(4</a:t>
            </a:r>
            <a:r>
              <a:rPr b="0" i="1" lang="zh-CN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9(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i="1" lang="zh-CN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575720" y="2784600"/>
            <a:ext cx="532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去括号，得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移项，得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1488960" y="3875040"/>
            <a:ext cx="50562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合并同类项，得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系数化为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得 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去括号，得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移项，得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1683000" y="5511960"/>
            <a:ext cx="273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合并同类项，得－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系数化为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得 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250920" y="7128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２、下列变形对吗？若不对，请说明理由，并改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去括号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合并同类项，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两边同除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0.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得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"/>
          <p:cNvSpPr/>
          <p:nvPr/>
        </p:nvSpPr>
        <p:spPr>
          <a:xfrm>
            <a:off x="4568760" y="1322280"/>
            <a:ext cx="4140360" cy="990720"/>
          </a:xfrm>
          <a:custGeom>
            <a:avLst/>
            <a:gdLst>
              <a:gd name="textAreaLeft" fmla="*/ 945000 w 4140360"/>
              <a:gd name="textAreaRight" fmla="*/ 3195360 w 41403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eded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宋体"/>
              </a:rPr>
              <a:t>去括号变形错，有一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宋体"/>
              </a:rPr>
              <a:t>没变号，改正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4"/>
          <p:cNvGrpSpPr/>
          <p:nvPr/>
        </p:nvGrpSpPr>
        <p:grpSpPr>
          <a:xfrm>
            <a:off x="4746600" y="2693880"/>
            <a:ext cx="4073040" cy="609840"/>
            <a:chOff x="4746600" y="2693880"/>
            <a:chExt cx="4073040" cy="609840"/>
          </a:xfrm>
        </p:grpSpPr>
        <p:sp>
          <p:nvSpPr>
            <p:cNvPr id="727" name="AutoShape 5"/>
            <p:cNvSpPr/>
            <p:nvPr/>
          </p:nvSpPr>
          <p:spPr>
            <a:xfrm>
              <a:off x="4746600" y="2693880"/>
              <a:ext cx="4073040" cy="609840"/>
            </a:xfrm>
            <a:prstGeom prst="borderCallout1">
              <a:avLst>
                <a:gd name="adj1" fmla="val 18750"/>
                <a:gd name="adj2" fmla="val -8333"/>
                <a:gd name="adj3" fmla="val 60939"/>
                <a:gd name="adj4" fmla="val -16166"/>
              </a:avLst>
            </a:prstGeom>
            <a:gradFill rotWithShape="0">
              <a:gsLst>
                <a:gs pos="0">
                  <a:srgbClr val="9966ff"/>
                </a:gs>
                <a:gs pos="50000">
                  <a:srgbClr val="c6a9ff"/>
                </a:gs>
                <a:gs pos="100000">
                  <a:srgbClr val="9966ff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6"/>
            <p:cNvSpPr/>
            <p:nvPr/>
          </p:nvSpPr>
          <p:spPr>
            <a:xfrm>
              <a:off x="5067720" y="2781360"/>
              <a:ext cx="3535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去括号，得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3-0.4x-2=0.2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7"/>
          <p:cNvGrpSpPr/>
          <p:nvPr/>
        </p:nvGrpSpPr>
        <p:grpSpPr>
          <a:xfrm>
            <a:off x="4518000" y="3684600"/>
            <a:ext cx="4190760" cy="609480"/>
            <a:chOff x="4518000" y="3684600"/>
            <a:chExt cx="4190760" cy="609480"/>
          </a:xfrm>
        </p:grpSpPr>
        <p:sp>
          <p:nvSpPr>
            <p:cNvPr id="730" name="AutoShape 8"/>
            <p:cNvSpPr/>
            <p:nvPr/>
          </p:nvSpPr>
          <p:spPr>
            <a:xfrm>
              <a:off x="4518000" y="3684600"/>
              <a:ext cx="4190760" cy="609480"/>
            </a:xfrm>
            <a:prstGeom prst="borderCallout1">
              <a:avLst>
                <a:gd name="adj1" fmla="val 18750"/>
                <a:gd name="adj2" fmla="val -8333"/>
                <a:gd name="adj3" fmla="val 44532"/>
                <a:gd name="adj4" fmla="val -12361"/>
              </a:avLst>
            </a:prstGeom>
            <a:gradFill rotWithShape="0">
              <a:gsLst>
                <a:gs pos="0">
                  <a:srgbClr val="9966ff"/>
                </a:gs>
                <a:gs pos="50000">
                  <a:srgbClr val="c6a9ff"/>
                </a:gs>
                <a:gs pos="100000">
                  <a:srgbClr val="9966ff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9"/>
            <p:cNvSpPr/>
            <p:nvPr/>
          </p:nvSpPr>
          <p:spPr>
            <a:xfrm>
              <a:off x="4769640" y="3771720"/>
              <a:ext cx="3672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移项，得 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-0.4x-0.2x=-3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0"/>
          <p:cNvGrpSpPr/>
          <p:nvPr/>
        </p:nvGrpSpPr>
        <p:grpSpPr>
          <a:xfrm>
            <a:off x="4670280" y="4675320"/>
            <a:ext cx="3773160" cy="609480"/>
            <a:chOff x="4670280" y="4675320"/>
            <a:chExt cx="3773160" cy="609480"/>
          </a:xfrm>
        </p:grpSpPr>
        <p:sp>
          <p:nvSpPr>
            <p:cNvPr id="733" name="AutoShape 11"/>
            <p:cNvSpPr/>
            <p:nvPr/>
          </p:nvSpPr>
          <p:spPr>
            <a:xfrm>
              <a:off x="4670280" y="4675320"/>
              <a:ext cx="3773160" cy="609480"/>
            </a:xfrm>
            <a:prstGeom prst="borderCallout1">
              <a:avLst>
                <a:gd name="adj1" fmla="val 18750"/>
                <a:gd name="adj2" fmla="val -8333"/>
                <a:gd name="adj3" fmla="val 49217"/>
                <a:gd name="adj4" fmla="val -11527"/>
              </a:avLst>
            </a:prstGeom>
            <a:gradFill rotWithShape="0">
              <a:gsLst>
                <a:gs pos="0">
                  <a:srgbClr val="9966ff"/>
                </a:gs>
                <a:gs pos="50000">
                  <a:srgbClr val="c6a9ff"/>
                </a:gs>
                <a:gs pos="100000">
                  <a:srgbClr val="9966ff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12"/>
            <p:cNvSpPr/>
            <p:nvPr/>
          </p:nvSpPr>
          <p:spPr>
            <a:xfrm>
              <a:off x="5297760" y="4762440"/>
              <a:ext cx="267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合并同类项，得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-0.6x=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AutoShape 14"/>
          <p:cNvSpPr/>
          <p:nvPr/>
        </p:nvSpPr>
        <p:spPr>
          <a:xfrm>
            <a:off x="4497480" y="5853240"/>
            <a:ext cx="2522520" cy="609480"/>
          </a:xfrm>
          <a:prstGeom prst="borderCallout1">
            <a:avLst>
              <a:gd name="adj1" fmla="val 18750"/>
              <a:gd name="adj2" fmla="val -8333"/>
              <a:gd name="adj3" fmla="val 41407"/>
              <a:gd name="adj4" fmla="val -13587"/>
            </a:avLst>
          </a:prstGeom>
          <a:gradFill rotWithShape="0">
            <a:gsLst>
              <a:gs pos="0">
                <a:srgbClr val="9966ff"/>
              </a:gs>
              <a:gs pos="50000">
                <a:srgbClr val="c6a9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4839840" y="5853240"/>
            <a:ext cx="2047680" cy="685800"/>
            <a:chOff x="4839840" y="5853240"/>
            <a:chExt cx="2047680" cy="685800"/>
          </a:xfrm>
        </p:grpSpPr>
        <p:sp>
          <p:nvSpPr>
            <p:cNvPr id="737" name="Text Box 16"/>
            <p:cNvSpPr/>
            <p:nvPr/>
          </p:nvSpPr>
          <p:spPr>
            <a:xfrm>
              <a:off x="4839840" y="594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8" name="Object 17"/>
            <p:cNvGraphicFramePr/>
            <p:nvPr/>
          </p:nvGraphicFramePr>
          <p:xfrm>
            <a:off x="5253120" y="5853240"/>
            <a:ext cx="1634400" cy="68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9" name="Object 1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53120" y="5853240"/>
                      <a:ext cx="1634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0" name="Object 18"/>
          <p:cNvGraphicFramePr/>
          <p:nvPr/>
        </p:nvGraphicFramePr>
        <p:xfrm>
          <a:off x="1698480" y="1550880"/>
          <a:ext cx="2514600" cy="97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1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1550880"/>
                    <a:ext cx="25146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Object 19"/>
          <p:cNvGraphicFramePr/>
          <p:nvPr/>
        </p:nvGraphicFramePr>
        <p:xfrm>
          <a:off x="2155680" y="2998800"/>
          <a:ext cx="2057400" cy="3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3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55680" y="2998800"/>
                    <a:ext cx="20574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Object 20"/>
          <p:cNvGraphicFramePr/>
          <p:nvPr/>
        </p:nvGraphicFramePr>
        <p:xfrm>
          <a:off x="1698480" y="3989520"/>
          <a:ext cx="24386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5" name="Object 2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98480" y="3989520"/>
                    <a:ext cx="2438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21"/>
          <p:cNvGraphicFramePr/>
          <p:nvPr/>
        </p:nvGraphicFramePr>
        <p:xfrm>
          <a:off x="2917800" y="4827600"/>
          <a:ext cx="144792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7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17800" y="4827600"/>
                    <a:ext cx="1447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22"/>
          <p:cNvGraphicFramePr/>
          <p:nvPr/>
        </p:nvGraphicFramePr>
        <p:xfrm>
          <a:off x="3146400" y="5894280"/>
          <a:ext cx="990720" cy="417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49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46400" y="5894280"/>
                    <a:ext cx="990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8:08:47Z</dcterms:created>
  <dc:creator>123</dc:creator>
  <dc:description/>
  <cp:keywords/>
  <dc:language>en-US</dc:language>
  <cp:lastModifiedBy>USER</cp:lastModifiedBy>
  <dcterms:modified xsi:type="dcterms:W3CDTF">2018-02-26T05:13:46Z</dcterms:modified>
  <cp:revision>124</cp:revision>
  <dc:subject/>
  <dc:title>123</dc:title>
</cp:coreProperties>
</file>