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gif" ContentType="image/gif"/>
  <Override PartName="/ppt/media/image12.gif" ContentType="image/gif"/>
  <Override PartName="/ppt/media/image8.jpeg" ContentType="image/jpeg"/>
  <Override PartName="/ppt/media/image9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CE28-98D5-4F9F-837F-276F7266EE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C30-36C6-4083-8FE7-D2468746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804E-7015-4C0E-831D-7FDCEC30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E99-89AC-4AEF-BB9B-8969890A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2E1-AEA3-42E9-8DEB-66C6F49D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E490-94CF-47F5-A308-56DC4953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ECD6-6948-4763-87E3-3E3F29F0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2BD6-F989-4C04-983A-1CC85B3A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01F3-B7A7-43AA-A104-813A029E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4019-3352-4F61-9F6C-BEF794BB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3B47-407B-415D-9A44-6890DCEF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D7E6-4CEB-468F-83DF-5F3492C4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B24-7D73-4224-8FFF-87A18924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7EAD-50E8-44F8-8EAD-5C4AFA80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2898-C042-4616-B06E-BE495E8B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DF61-99F5-4FCF-90A7-E6E49FA5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A73B-2BEA-470F-A5BB-A048F7A0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8847-C9B8-45B1-9FCD-BEBE065E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C24-C32E-480F-BD1C-ED362FD8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892-9F62-47A6-A21E-A282F7C1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900-D205-433F-8B3C-968F6881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552-64B7-41EE-9835-D661060E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106A-CDDD-4C78-A71D-F96AD990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B3A-CEE7-4434-A141-6625C55B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427-36C6-4822-8DB8-50D1A340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858C-DAAC-4992-A319-9EC005A4539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4B9B-1BF7-4B05-8CA8-2DBDB9C0BD7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audio" Target="file:///tmp/home/.config/libreoffice/4/user/gallery/push.wav" TargetMode="External"/><Relationship Id="rId3" Type="http://schemas.microsoft.com/office/2007/relationships/media" Target="file:///tmp/home/.config/libreoffice/4/user/gallery/push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-757080" y="1125360"/>
            <a:ext cx="10296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4</a:t>
            </a:r>
            <a:r>
              <a:rPr b="1" lang="zh-CN" sz="5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实际问题与一元一次方程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1"/>
          </p:cNvPr>
          <p:cNvSpPr/>
          <p:nvPr/>
        </p:nvSpPr>
        <p:spPr>
          <a:xfrm>
            <a:off x="1403280" y="2565360"/>
            <a:ext cx="6408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Comic Sans MS"/>
                <a:ea typeface="华文行楷"/>
              </a:rPr>
              <a:t>销售中的盈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行楷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行楷"/>
              </a:rPr>
              <a:t>丰南区唐坊中学 薄俊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773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60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124812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销售中的盈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某商店在某一时间以每件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元的价格卖出两件衣服，其中一件盈利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25%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，另一件亏损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25%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，卖这两件衣服总的是盈利还是亏损，或是不盈不亏？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2000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分析：售价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=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进价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利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920000" y="5945040"/>
            <a:ext cx="1224000" cy="912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763640" y="5013360"/>
            <a:ext cx="633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售价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进价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进价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利润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售价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进价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(1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利润率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0"/>
            <a:ext cx="1066680" cy="7621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cc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56000" y="3860640"/>
            <a:ext cx="4248360" cy="1002960"/>
            <a:chOff x="4356000" y="3860640"/>
            <a:chExt cx="4248360" cy="1002960"/>
          </a:xfrm>
        </p:grpSpPr>
        <p:sp>
          <p:nvSpPr>
            <p:cNvPr id="235" name=""/>
            <p:cNvSpPr/>
            <p:nvPr/>
          </p:nvSpPr>
          <p:spPr>
            <a:xfrm>
              <a:off x="4356000" y="4221000"/>
              <a:ext cx="424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利润</a:t>
              </a:r>
              <a:r>
                <a:rPr b="1" lang="zh-CN" sz="36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=</a:t>
              </a:r>
              <a:r>
                <a:rPr b="1" lang="zh-CN" sz="36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进价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×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利润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88000" y="3860640"/>
              <a:ext cx="144360" cy="432000"/>
            </a:xfrm>
            <a:prstGeom prst="downArrow">
              <a:avLst>
                <a:gd name="adj1" fmla="val 50000"/>
                <a:gd name="adj2" fmla="val 74813"/>
              </a:avLst>
            </a:prstGeom>
            <a:solidFill>
              <a:srgbClr val="cc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28944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解：设盈利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25%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的那件衣服的进价是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元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另一          件的进价为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元，依题意，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7440" y="1523160"/>
            <a:ext cx="24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x+0.25x=60</a:t>
            </a: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55400" y="2132640"/>
            <a:ext cx="22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解得     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x=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16160" y="274248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 Black"/>
              </a:rPr>
              <a:t>y+</a:t>
            </a:r>
            <a:r>
              <a:rPr b="0" lang="zh-CN" sz="3200" spc="-1" strike="noStrike">
                <a:solidFill>
                  <a:srgbClr val="ff0066"/>
                </a:solidFill>
                <a:latin typeface="Arial Black"/>
              </a:rPr>
              <a:t>（－</a:t>
            </a:r>
            <a:r>
              <a:rPr b="0" lang="zh-CN" sz="3200" spc="-1" strike="noStrike">
                <a:solidFill>
                  <a:srgbClr val="ff0066"/>
                </a:solidFill>
                <a:latin typeface="Arial Black"/>
              </a:rPr>
              <a:t>0.25y</a:t>
            </a:r>
            <a:r>
              <a:rPr b="0" lang="zh-CN" sz="3200" spc="-1" strike="noStrike">
                <a:solidFill>
                  <a:srgbClr val="ff0066"/>
                </a:solidFill>
                <a:latin typeface="Arial Black"/>
              </a:rPr>
              <a:t>）</a:t>
            </a:r>
            <a:r>
              <a:rPr b="0" lang="zh-CN" sz="3200" spc="-1" strike="noStrike">
                <a:solidFill>
                  <a:srgbClr val="ff0066"/>
                </a:solidFill>
                <a:latin typeface="Arial Black"/>
              </a:rPr>
              <a:t>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24720" y="3275640"/>
            <a:ext cx="24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 Black"/>
              </a:rPr>
              <a:t>解得       </a:t>
            </a:r>
            <a:r>
              <a:rPr b="0" lang="zh-CN" sz="3200" spc="-1" strike="noStrike">
                <a:solidFill>
                  <a:srgbClr val="ff0066"/>
                </a:solidFill>
                <a:latin typeface="Arial Black"/>
              </a:rPr>
              <a:t>y=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49680" y="3961440"/>
            <a:ext cx="45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60+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4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80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8(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4799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答：卖这两件衣服总的亏损了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236000" y="5376960"/>
            <a:ext cx="19080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259092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Comic Sans MS"/>
              </a:rPr>
              <a:t>探究</a:t>
            </a:r>
            <a:r>
              <a:rPr b="1" lang="zh-CN" sz="4400" spc="-1" strike="noStrike">
                <a:solidFill>
                  <a:srgbClr val="d60093"/>
                </a:solidFill>
                <a:latin typeface="Comic Sans MS"/>
              </a:rPr>
              <a:t>2</a:t>
            </a:r>
            <a:r>
              <a:rPr b="1" lang="zh-CN" sz="4400" spc="-1" strike="noStrike">
                <a:solidFill>
                  <a:srgbClr val="d60093"/>
                </a:solidFill>
                <a:latin typeface="Comic Sans MS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假如你是服装店老板，你能否设计一种方案，适当调整售价，使得销售这两件衣服时不亏本呢？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这两件衣服的进价分别是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48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元和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元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-1014840"/>
            <a:ext cx="19414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某文具店有两个进价不同的计算器都卖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64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元，其中一个盈利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60%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，另一个亏本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0%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这次交易中的盈亏情况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某商场把进价为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98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元的商品按标价的八折出售，仍获利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0%,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则该商品的标价为多少元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55640" y="189000"/>
            <a:ext cx="18288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强化训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</a:rPr>
              <a:t>小结</a:t>
            </a:r>
            <a:r>
              <a:rPr b="1" lang="zh-CN" sz="40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561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通过本节课的学习，你学到了什么？你自己体会最深刻的是什么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对一元一次方程实际应用问题的盈亏问题进行反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-252360" y="260280"/>
            <a:ext cx="1666800" cy="16336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187280" y="41497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理解并熟记销售问题中各量之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2997360"/>
            <a:ext cx="4753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若进价＜售价，则盈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若进价＞售价，则亏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99640" y="-237600"/>
            <a:ext cx="28083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一件羊毛衫地进价为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5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元，销售价为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8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元，则该商品的利润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元。  利润率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某商店以每个书包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96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元的价格卖出两个书包，其中一个盈利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0%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，另一个亏损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0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元，问这两个书包总的是盈利还是亏损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某商品的进价是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元，售价是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50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元，由于销售情况不好，商店决定降价出售，但又要保证利润率为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5%,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那么商店最多可打几折出售此商品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32000" y="47628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当堂小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971640" y="2781360"/>
            <a:ext cx="7410240" cy="27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106    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05280" y="1828800"/>
            <a:ext cx="3055680" cy="3657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97440" y="0"/>
            <a:ext cx="514656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3478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57200" y="152280"/>
            <a:ext cx="2962440" cy="1933560"/>
          </a:xfrm>
          <a:prstGeom prst="irregularSeal2">
            <a:avLst/>
          </a:prstGeom>
          <a:solidFill>
            <a:srgbClr val="ffe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方正舒体"/>
              </a:rPr>
              <a:t>清仓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3933720"/>
            <a:ext cx="3962520" cy="2133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华文彩云"/>
              </a:rPr>
              <a:t>满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华文彩云"/>
              </a:rPr>
              <a:t>200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华文彩云"/>
              </a:rPr>
              <a:t>返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华文彩云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0" y="348300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19320" y="4114800"/>
            <a:ext cx="3024000" cy="165564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折酬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" dur="indefinite" restart="never" nodeType="tmRoot">
          <p:childTnLst>
            <p:seq>
              <p:cTn id="3" dur="indefinite" nodeType="mainSeq">
                <p:childTnLst>
                  <p:par>
                    <p:cTn id="4" fill="hold">
                      <p:stCondLst>
                        <p:cond delay="indefinite"/>
                      </p:stCondLst>
                      <p:childTnLst>
                        <p:par>
                          <p:cTn id="5" fill="hold">
                            <p:stCondLst>
                              <p:cond delay="0"/>
                            </p:stCondLst>
                            <p:childTnLst>
                              <p:par>
                                <p:cTn id="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28065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000" y="691920"/>
            <a:ext cx="867564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学会分析盈亏问题中的数量关系，并列方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学生估算盈亏，然后再通过列方程计算，从而验证自己的判断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让学生分析问题中的数量关系，在不可直接设未知数的情况下，讨论如何设未知数，如何找相等关系，进一步提高学生分析问题、解决问题的能力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通过对盈亏问题的探索，让学生体验数学源于生活，服务于生活，从而提高学习的积极性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280656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教学重点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分析盈亏中的等量关系，建立实际问题的方程模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教学难点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找盈亏问题中的等量关系，在探究中正确的建立方程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-603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探究销售中的盈亏问题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一件衣服进价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如果你是商家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起码售价多少元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果售价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利润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利润率为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售价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利润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利润率为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果售价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利润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利润率为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公式：利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利润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定价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折出售，售价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公式：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折后的售价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1944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问题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8373960" cy="54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某商店在某一时间以每件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元的价格卖出一件衣服，盈利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5%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，则该衣服的进价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某商店在某一时间以每件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元的价格卖出一件衣服，亏损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5%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，则该衣服的进价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公式：售价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进价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利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售价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进价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进价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利润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售价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进价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利润率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284720" y="3860640"/>
            <a:ext cx="4248000" cy="1002960"/>
            <a:chOff x="4284720" y="3860640"/>
            <a:chExt cx="4248000" cy="1002960"/>
          </a:xfrm>
        </p:grpSpPr>
        <p:sp>
          <p:nvSpPr>
            <p:cNvPr id="178" name=""/>
            <p:cNvSpPr/>
            <p:nvPr/>
          </p:nvSpPr>
          <p:spPr>
            <a:xfrm>
              <a:off x="4284720" y="4221000"/>
              <a:ext cx="424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润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价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润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16360" y="3860640"/>
              <a:ext cx="144000" cy="4320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cc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28800" y="2286000"/>
            <a:ext cx="6119640" cy="1224000"/>
          </a:xfrm>
          <a:prstGeom prst="flowChartAlternateProcess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  <a:effectLst>
            <a:outerShdw dist="153753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隶书"/>
                <a:ea typeface="隶书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1066680"/>
            <a:ext cx="6119640" cy="1081080"/>
          </a:xfrm>
          <a:prstGeom prst="flowChartAlternateProcess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  <a:effectLst>
            <a:outerShdw dist="153753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隶书"/>
                <a:ea typeface="隶书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1414440"/>
            <a:ext cx="56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16002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=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商品售价—商品进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1143000"/>
            <a:ext cx="39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售价、进价、利润的关系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16002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商品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利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2286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进价、利润、利润率的关系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2743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利润率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29718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商品进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59092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商品利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27432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×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5843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3657600"/>
            <a:ext cx="6119640" cy="1224000"/>
          </a:xfrm>
          <a:prstGeom prst="flowChartAlternateProcess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  <a:effectLst>
            <a:outerShdw dist="153753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隶书"/>
                <a:ea typeface="隶书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5029200"/>
            <a:ext cx="6048360" cy="934920"/>
          </a:xfrm>
          <a:prstGeom prst="flowChartAlternateProcess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  <a:effectLst>
            <a:outerShdw dist="153753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隶书"/>
                <a:ea typeface="隶书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3657600"/>
            <a:ext cx="388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●</a:t>
            </a:r>
            <a:r>
              <a:rPr b="1" lang="zh-CN" sz="2000" spc="-1" strike="noStrike">
                <a:solidFill>
                  <a:srgbClr val="0000cc"/>
                </a:solidFill>
                <a:latin typeface="Comic Sans MS"/>
              </a:rPr>
              <a:t>标价、折扣数、商品售价关系 </a:t>
            </a:r>
            <a:r>
              <a:rPr b="1" lang="zh-CN" sz="2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41148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商品售价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4114800"/>
            <a:ext cx="122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omic Sans MS"/>
              </a:rPr>
              <a:t>标价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24280" y="3962520"/>
            <a:ext cx="12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omic Sans MS"/>
              </a:rPr>
              <a:t>折扣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4343400"/>
            <a:ext cx="107964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4343400"/>
            <a:ext cx="72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5029200"/>
            <a:ext cx="42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商品售价、进价、利润率的关系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53593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商品进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54100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商品售价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5372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×(1+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利润率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143000"/>
            <a:ext cx="1079640" cy="4680000"/>
          </a:xfrm>
          <a:prstGeom prst="flowChartAlternateProcess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  <a:effectLst>
            <a:outerShdw dist="153753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隶书"/>
                <a:ea typeface="隶书"/>
              </a:rPr>
              <a:t>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隶书"/>
                <a:ea typeface="隶书"/>
              </a:rPr>
              <a:t>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隶书"/>
                <a:ea typeface="隶书"/>
              </a:rPr>
              <a:t>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隶书"/>
                <a:ea typeface="隶书"/>
              </a:rPr>
              <a:t>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隶书"/>
                <a:ea typeface="隶书"/>
              </a:rPr>
              <a:t>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隶书"/>
                <a:ea typeface="隶书"/>
              </a:rPr>
              <a:t>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232760" y="5715000"/>
            <a:ext cx="1911240" cy="1143000"/>
            <a:chOff x="7232760" y="5715000"/>
            <a:chExt cx="1911240" cy="114300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7232760" y="5715000"/>
              <a:ext cx="19112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556400" y="6173640"/>
              <a:ext cx="104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04920" y="803160"/>
            <a:ext cx="8443800" cy="5050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28600" y="228600"/>
            <a:ext cx="3708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Comic Sans MS"/>
              </a:rPr>
              <a:t>问题</a:t>
            </a:r>
            <a:r>
              <a:rPr b="1" i="1" lang="zh-CN" sz="4800" spc="-1" strike="noStrike">
                <a:solidFill>
                  <a:srgbClr val="ffff00"/>
                </a:solidFill>
                <a:latin typeface="Comic Sans MS"/>
              </a:rPr>
              <a:t>&amp;</a:t>
            </a:r>
            <a:r>
              <a:rPr b="1" i="1" lang="zh-CN" sz="4800" spc="-1" strike="noStrike">
                <a:solidFill>
                  <a:srgbClr val="ff0066"/>
                </a:solidFill>
                <a:latin typeface="Comic Sans MS"/>
              </a:rPr>
              <a:t>情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858000" y="5638680"/>
            <a:ext cx="2286000" cy="1219320"/>
            <a:chOff x="6858000" y="5638680"/>
            <a:chExt cx="2286000" cy="1219320"/>
          </a:xfrm>
        </p:grpSpPr>
        <p:sp>
          <p:nvSpPr>
            <p:cNvPr id="211" name=""/>
            <p:cNvSpPr/>
            <p:nvPr/>
          </p:nvSpPr>
          <p:spPr>
            <a:xfrm>
              <a:off x="6858000" y="5638680"/>
              <a:ext cx="2286000" cy="12193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15200" y="6019920"/>
              <a:ext cx="1371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696080" y="5943600"/>
            <a:ext cx="66672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2360" y="1339200"/>
            <a:ext cx="41036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探究</a:t>
            </a:r>
            <a:r>
              <a:rPr b="1" lang="zh-CN" sz="2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某商店在某一时间以每件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价格卖出两件衣服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一件盈利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5﹪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另一件亏损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5﹪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卖这两件衣服总的是盈利还是亏损，或是不盈不亏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95280" y="3933720"/>
            <a:ext cx="1655640" cy="2016360"/>
            <a:chOff x="395280" y="3933720"/>
            <a:chExt cx="1655640" cy="2016360"/>
          </a:xfrm>
        </p:grpSpPr>
        <p:sp>
          <p:nvSpPr>
            <p:cNvPr id="216" name=""/>
            <p:cNvSpPr/>
            <p:nvPr/>
          </p:nvSpPr>
          <p:spPr>
            <a:xfrm>
              <a:off x="395280" y="3933720"/>
              <a:ext cx="1655640" cy="2016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1"/>
            <a:srcRect l="41397" t="0" r="22191" b="0"/>
            <a:stretch/>
          </p:blipFill>
          <p:spPr>
            <a:xfrm>
              <a:off x="509400" y="4053600"/>
              <a:ext cx="1419840" cy="175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"/>
          <p:cNvGrpSpPr/>
          <p:nvPr/>
        </p:nvGrpSpPr>
        <p:grpSpPr>
          <a:xfrm>
            <a:off x="2340000" y="3933720"/>
            <a:ext cx="1655640" cy="2014560"/>
            <a:chOff x="2340000" y="3933720"/>
            <a:chExt cx="1655640" cy="2014560"/>
          </a:xfrm>
        </p:grpSpPr>
        <p:sp>
          <p:nvSpPr>
            <p:cNvPr id="219" name=""/>
            <p:cNvSpPr/>
            <p:nvPr/>
          </p:nvSpPr>
          <p:spPr>
            <a:xfrm>
              <a:off x="2340000" y="3933720"/>
              <a:ext cx="1655640" cy="2014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2458800" y="4078080"/>
              <a:ext cx="1417680" cy="172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"/>
          <p:cNvSpPr/>
          <p:nvPr/>
        </p:nvSpPr>
        <p:spPr>
          <a:xfrm>
            <a:off x="900000" y="602136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16360" y="602136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1052640"/>
            <a:ext cx="0" cy="5761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27640" y="1341360"/>
            <a:ext cx="4321080" cy="459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lin ang="13500000"/>
          </a:gradFill>
          <a:ln w="381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17575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华文中宋"/>
              </a:rPr>
              <a:t>想一想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19720" y="1828800"/>
            <a:ext cx="446544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初步估计一下盈亏情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件衣服的相同量和不同量   分别是什么？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黑体"/>
              </a:rPr>
              <a:t>你能否设一件衣服进价，找出等量关系进而列出方程求解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771640" y="115920"/>
            <a:ext cx="367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ff">
                    <a:alpha val="74000"/>
                  </a:srgbClr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探索乐园</a:t>
            </a:r>
            <a:endParaRPr b="0" lang="en-US" sz="1800" spc="1" strike="noStrike">
              <a:ln w="0">
                <a:noFill/>
              </a:ln>
              <a:solidFill>
                <a:srgbClr val="ff00ff">
                  <a:alpha val="74000"/>
                </a:srgbClr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88000" y="5445000"/>
            <a:ext cx="252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cc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合作学习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cc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3:15:31Z</dcterms:created>
  <dc:creator>雨林木风</dc:creator>
  <dc:description/>
  <dc:language>en-US</dc:language>
  <cp:lastModifiedBy>User</cp:lastModifiedBy>
  <dcterms:modified xsi:type="dcterms:W3CDTF">2017-04-10T02:38:59Z</dcterms:modified>
  <cp:revision>48</cp:revision>
  <dc:subject/>
  <dc:title>幻灯片 1</dc:title>
</cp:coreProperties>
</file>