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4098"/>
          <p:cNvSpPr/>
          <p:nvPr/>
        </p:nvSpPr>
        <p:spPr>
          <a:xfrm>
            <a:off x="-57240" y="1819440"/>
            <a:ext cx="91188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粗倩简体"/>
              </a:rPr>
              <a:t>第二单元　生物体的结构层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标宋简体"/>
              </a:rPr>
              <a:t>第一章　细胞是生命活动的基本单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节　练习使用显微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课堂十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文本框 3074"/>
          <p:cNvSpPr/>
          <p:nvPr/>
        </p:nvSpPr>
        <p:spPr>
          <a:xfrm>
            <a:off x="184320" y="233280"/>
            <a:ext cx="68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生物学  七年级  上册  配人教版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1"/>
          <p:cNvSpPr/>
          <p:nvPr/>
        </p:nvSpPr>
        <p:spPr>
          <a:xfrm>
            <a:off x="287280" y="68400"/>
            <a:ext cx="8394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界光线过强时，用显微镜观察玻片标本时正确的操作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大光圈、凹面镜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小光圈、凹面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大光圈、平面镜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小光圈、平面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是放大倍数各不相同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显微镜镜头，则总放大倍数最大的镜头组合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                             B.  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                             D.  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6186"/>
          <p:cNvSpPr/>
          <p:nvPr/>
        </p:nvSpPr>
        <p:spPr>
          <a:xfrm>
            <a:off x="2308320" y="8128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2"/>
          <p:cNvSpPr/>
          <p:nvPr/>
        </p:nvSpPr>
        <p:spPr>
          <a:xfrm>
            <a:off x="5280120" y="31687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160640" y="3787920"/>
            <a:ext cx="6141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1"/>
          <p:cNvSpPr/>
          <p:nvPr/>
        </p:nvSpPr>
        <p:spPr>
          <a:xfrm>
            <a:off x="252360" y="517680"/>
            <a:ext cx="827892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有字母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q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玻片标本，在显微镜下所成的像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bq                         B.  q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db                         D.  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四种“目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物镜”的组合中，能够观察到的细胞数目最多的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10×5                   B.  10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15×5                   D.  1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186"/>
          <p:cNvSpPr/>
          <p:nvPr/>
        </p:nvSpPr>
        <p:spPr>
          <a:xfrm>
            <a:off x="1648080" y="1239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4094280" y="4233960"/>
            <a:ext cx="3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1"/>
          <p:cNvSpPr/>
          <p:nvPr/>
        </p:nvSpPr>
        <p:spPr>
          <a:xfrm>
            <a:off x="401760" y="262080"/>
            <a:ext cx="834228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在光线较暗的条件下使用显微镜时，正确的做法是（   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平面反光镜，调大光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凹面反光镜，调大光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平面反光镜，调小光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凹面反光镜，调小光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在练习使用显微镜的实验中，某同学发现视野下有一个污点。他试着转动转换器和移动玻片标本，但都不能将污点移走，则污点应该位于（   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目镜上       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物镜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玻片标本上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反光镜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1127520" y="88092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5451120" y="48909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374760" y="530280"/>
            <a:ext cx="83944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光”是光学显微镜使用过程中的重要步骤。进行这一步骤时，应该先调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选用一个较低倍物镜；再调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选用一个较大的光圈；最后调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角度，直至在目镜中看到明亮的圆形视野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转换器、遮光器、反光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反光镜、转换器、遮光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遮光器、转换器、反光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转换器、反光镜、遮光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186"/>
          <p:cNvSpPr/>
          <p:nvPr/>
        </p:nvSpPr>
        <p:spPr>
          <a:xfrm>
            <a:off x="3616200" y="328932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374760" y="282600"/>
            <a:ext cx="839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光学显微镜观察玻片标本，正确的步骤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镜和安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玻片标本放在载物台上，并用压片夹夹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睛注视显微镜侧面，缓慢下降镜筒，直至物镜接近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光，直至看到明亮的圆形视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睛向目镜内看，转动准焦螺旋，直至物像最清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睛向目镜内看，转动准焦螺旋，直至大体看清物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①②③④⑤⑥              B.  ①②③④⑥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①④②③⑥⑤              D.  ①④②③⑤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186"/>
          <p:cNvSpPr/>
          <p:nvPr/>
        </p:nvSpPr>
        <p:spPr>
          <a:xfrm>
            <a:off x="1074600" y="8445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309600" y="195120"/>
            <a:ext cx="83948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 ①②③④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操作显微镜的几个步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为显微镜中观察到的两个视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中细胞甲为主要观察对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视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视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作过程的正确顺序是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转动粗准焦螺旋②转动细准焦螺旋③调节光圈④转动转换器⑤移动玻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⑤-④-①                          B.  ③-①-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⑤-④-②                          D.  ④-⑤-①-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186"/>
          <p:cNvSpPr/>
          <p:nvPr/>
        </p:nvSpPr>
        <p:spPr>
          <a:xfrm>
            <a:off x="7662960" y="1289160"/>
            <a:ext cx="5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3894120" y="2870280"/>
            <a:ext cx="364644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222120" y="98280"/>
            <a:ext cx="83948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同一台显微镜观察同一标本，通过更换目镜、物镜和调节细准焦螺旋后，在视野中分别看到了下列图像，其中视野最暗的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将显微镜视野中的左下方的物象移到视野中央，应将玻片标本移向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下方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下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上方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上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186"/>
          <p:cNvSpPr/>
          <p:nvPr/>
        </p:nvSpPr>
        <p:spPr>
          <a:xfrm>
            <a:off x="4862880" y="1287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3745440" y="46180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285840" y="2014560"/>
            <a:ext cx="82692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1"/>
          <p:cNvSpPr/>
          <p:nvPr/>
        </p:nvSpPr>
        <p:spPr>
          <a:xfrm>
            <a:off x="309600" y="422280"/>
            <a:ext cx="83948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图显示的是显微镜的几个操作步骤，正确的顺序是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①→②→③→④                B.  ①→③→②→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③→①→②→④                D.  ③→①→④→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186"/>
          <p:cNvSpPr/>
          <p:nvPr/>
        </p:nvSpPr>
        <p:spPr>
          <a:xfrm>
            <a:off x="1905120" y="13525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468360" y="1874880"/>
            <a:ext cx="81471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03:55:43Z</dcterms:created>
  <dc:creator>Administrator</dc:creator>
  <dc:description/>
  <dc:language>en-US</dc:language>
  <cp:lastModifiedBy>Administrator</cp:lastModifiedBy>
  <dcterms:modified xsi:type="dcterms:W3CDTF">2017-07-08T02:38:3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