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文本框 4098"/>
          <p:cNvSpPr/>
          <p:nvPr/>
        </p:nvSpPr>
        <p:spPr>
          <a:xfrm>
            <a:off x="-57240" y="1927080"/>
            <a:ext cx="9118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粗倩简体"/>
              </a:rPr>
              <a:t>第二单元　生物体的结构层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标宋简体"/>
              </a:rPr>
              <a:t>第二章　细胞怎样构成生物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四节　单细胞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文本框 3074"/>
          <p:cNvSpPr/>
          <p:nvPr/>
        </p:nvSpPr>
        <p:spPr>
          <a:xfrm>
            <a:off x="184320" y="233280"/>
            <a:ext cx="68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生物学  七年级  上册  配人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1"/>
          <p:cNvSpPr/>
          <p:nvPr/>
        </p:nvSpPr>
        <p:spPr>
          <a:xfrm>
            <a:off x="157320" y="117360"/>
            <a:ext cx="88293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草履虫体内的食物残渣的排出通过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完成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口沟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胞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收集管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伸缩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单细胞的生物与人类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赤潮的发生是由下列哪项引起的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些单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死亡的鱼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浮游植物混合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倒入海洋的红色污染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455400" y="852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>
            <a:off x="6534000" y="361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"/>
          <p:cNvSpPr/>
          <p:nvPr/>
        </p:nvSpPr>
        <p:spPr>
          <a:xfrm>
            <a:off x="68400" y="34920"/>
            <a:ext cx="90486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根据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有趣的小实验：将稻草剪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右的小段，放在盛有天然水的烧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，经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左右，水面出现一层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色的薄膜，揭开这层薄膜仔细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上层游动得很快的微小的白点，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根据图示，完成以下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草履虫能借助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摆动在水中旋转前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草履虫的消化是在［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进行的，食物残渣是由［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排出体外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收集管能收集体内过多的含氮废物进入［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再由表膜上的小孔排出体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1092240" y="2644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草履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3820680" y="3490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纤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4790880" y="3921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食物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3804120" y="3921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1528560" y="4332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2810880" y="4332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胞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986400" y="4707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635400" y="522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1767600" y="5227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伸缩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2" descr=""/>
          <p:cNvPicPr/>
          <p:nvPr/>
        </p:nvPicPr>
        <p:blipFill>
          <a:blip r:embed="rId1"/>
          <a:stretch/>
        </p:blipFill>
        <p:spPr>
          <a:xfrm>
            <a:off x="6176880" y="615960"/>
            <a:ext cx="23716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587520" y="676440"/>
            <a:ext cx="78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图中是显微镜下观察到的几种微小生物，请据图回答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587520" y="1847880"/>
            <a:ext cx="82105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1"/>
          <p:cNvSpPr/>
          <p:nvPr/>
        </p:nvSpPr>
        <p:spPr>
          <a:xfrm>
            <a:off x="58680" y="152280"/>
            <a:ext cx="8929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这几种生物在身体结构层次上的共同特点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试根据细胞结构的特点，将图中生物进行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属于植物的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属于动物的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分类，四位同学有不同看法，你认为谁的分类更恰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甲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细胞壁和液泡，应属于植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乙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叶绿体，应属于动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丙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细胞壁和液泡，不属于动物；它没有叶绿体，也不属于植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丁：除了动物和植物之外，我们还可以分出其他类群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属于其他类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分类最恰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2080080" y="6858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由一个细胞构成生物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2752200" y="1762200"/>
            <a:ext cx="10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6522840" y="16858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1296720" y="627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组合 4107"/>
          <p:cNvGrpSpPr/>
          <p:nvPr/>
        </p:nvGrpSpPr>
        <p:grpSpPr>
          <a:xfrm>
            <a:off x="179280" y="476280"/>
            <a:ext cx="2016000" cy="581400"/>
            <a:chOff x="179280" y="476280"/>
            <a:chExt cx="2016000" cy="581400"/>
          </a:xfrm>
        </p:grpSpPr>
        <p:sp>
          <p:nvSpPr>
            <p:cNvPr id="39" name="矩形 4105"/>
            <p:cNvSpPr/>
            <p:nvPr/>
          </p:nvSpPr>
          <p:spPr>
            <a:xfrm>
              <a:off x="179280" y="547560"/>
              <a:ext cx="2016000" cy="50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文本框 4106"/>
            <p:cNvSpPr/>
            <p:nvPr/>
          </p:nvSpPr>
          <p:spPr>
            <a:xfrm>
              <a:off x="576720" y="476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Arial"/>
                  <a:ea typeface="方正大标宋简体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" name="文本框 2"/>
          <p:cNvSpPr/>
          <p:nvPr/>
        </p:nvSpPr>
        <p:spPr>
          <a:xfrm>
            <a:off x="387360" y="1476360"/>
            <a:ext cx="8115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出只有一个细胞的生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探究草履虫的结构和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细胞生物与人类生活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6166"/>
          <p:cNvGrpSpPr/>
          <p:nvPr/>
        </p:nvGrpSpPr>
        <p:grpSpPr>
          <a:xfrm>
            <a:off x="228600" y="120600"/>
            <a:ext cx="2016000" cy="581400"/>
            <a:chOff x="228600" y="120600"/>
            <a:chExt cx="2016000" cy="581400"/>
          </a:xfrm>
        </p:grpSpPr>
        <p:sp>
          <p:nvSpPr>
            <p:cNvPr id="43" name="矩形 6167"/>
            <p:cNvSpPr/>
            <p:nvPr/>
          </p:nvSpPr>
          <p:spPr>
            <a:xfrm>
              <a:off x="228600" y="192240"/>
              <a:ext cx="201600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6168"/>
            <p:cNvSpPr/>
            <p:nvPr/>
          </p:nvSpPr>
          <p:spPr>
            <a:xfrm>
              <a:off x="626760" y="1206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Arial"/>
                  <a:ea typeface="方正大标宋简体"/>
                </a:rPr>
                <a:t>课前预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矩形 5152"/>
          <p:cNvSpPr/>
          <p:nvPr/>
        </p:nvSpPr>
        <p:spPr>
          <a:xfrm>
            <a:off x="-20520" y="388800"/>
            <a:ext cx="9055080" cy="39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细胞生物的结构和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生物圈中有不少肉眼很难看见的生物，它们的身体只有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细胞，称为单细胞生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常见的单细胞生物有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酵母菌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变形虫、衣藻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草履虫时，从草履虫培养液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一滴培养液，放在载玻片上。用肉眼或放大镜观察草履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草履虫运动过快，可在培养液滴上放几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再盖上盖玻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草履虫摄入氧、排出二氧化碳都通过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不能消化的食物残渣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排出；靠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摆动在水中旋转前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186"/>
          <p:cNvSpPr/>
          <p:nvPr/>
        </p:nvSpPr>
        <p:spPr>
          <a:xfrm>
            <a:off x="767160" y="1704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6851520" y="2227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草履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3589560" y="2227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大肠杆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3261600" y="5808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胞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6593760" y="5221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表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"/>
          <p:cNvSpPr/>
          <p:nvPr/>
        </p:nvSpPr>
        <p:spPr>
          <a:xfrm>
            <a:off x="6033960" y="3168720"/>
            <a:ext cx="9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表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5882040" y="5808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纤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4"/>
          <p:cNvSpPr/>
          <p:nvPr/>
        </p:nvSpPr>
        <p:spPr>
          <a:xfrm>
            <a:off x="517680" y="4699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棉花纤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"/>
          <p:cNvSpPr/>
          <p:nvPr/>
        </p:nvSpPr>
        <p:spPr>
          <a:xfrm>
            <a:off x="219240" y="1201680"/>
            <a:ext cx="860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单细胞生物与人类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许多单细胞生物是鱼类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草履虫还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一定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水中某些单细胞生物大量繁殖时可形成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危害渔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4910400" y="2443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天然饵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700200" y="3060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污水净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7434360" y="365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赤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7177"/>
          <p:cNvSpPr/>
          <p:nvPr/>
        </p:nvSpPr>
        <p:spPr>
          <a:xfrm>
            <a:off x="115920" y="749160"/>
            <a:ext cx="891216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细胞生物的结构和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生物中属于单细胞生物的是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形虫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蚂蚁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蚯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使用显微镜观察草履虫时，常在载玻片的培养液的液滴上放几丝棉花纤维。这样做的目的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防止草履虫运动过快，不便观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为草履虫提供营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利于草履虫的呼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保护草履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0244"/>
          <p:cNvGrpSpPr/>
          <p:nvPr/>
        </p:nvGrpSpPr>
        <p:grpSpPr>
          <a:xfrm>
            <a:off x="179280" y="173160"/>
            <a:ext cx="2016000" cy="581400"/>
            <a:chOff x="179280" y="173160"/>
            <a:chExt cx="2016000" cy="581400"/>
          </a:xfrm>
        </p:grpSpPr>
        <p:sp>
          <p:nvSpPr>
            <p:cNvPr id="60" name="矩形 10245"/>
            <p:cNvSpPr/>
            <p:nvPr/>
          </p:nvSpPr>
          <p:spPr>
            <a:xfrm>
              <a:off x="179280" y="244440"/>
              <a:ext cx="2016000" cy="50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10246"/>
            <p:cNvSpPr/>
            <p:nvPr/>
          </p:nvSpPr>
          <p:spPr>
            <a:xfrm>
              <a:off x="577440" y="1731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Arial"/>
                  <a:ea typeface="方正大标宋简体"/>
                </a:rPr>
                <a:t>同步训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矩形 7178"/>
          <p:cNvSpPr/>
          <p:nvPr/>
        </p:nvSpPr>
        <p:spPr>
          <a:xfrm>
            <a:off x="6402240" y="1501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7059600" y="393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"/>
          <p:cNvSpPr/>
          <p:nvPr/>
        </p:nvSpPr>
        <p:spPr>
          <a:xfrm>
            <a:off x="223920" y="357120"/>
            <a:ext cx="8785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吸管从草履虫培养液中吸取草履虫的最好部位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培养液的下层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培养液的表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培养液的中层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培养液的任一部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显微镜观察草履虫时，看到虫体内的食物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小相等，数量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小相等，数量多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小不等，数量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小不等，数量多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596880" y="1212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"/>
          <p:cNvSpPr/>
          <p:nvPr/>
        </p:nvSpPr>
        <p:spPr>
          <a:xfrm>
            <a:off x="8207280" y="3166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"/>
          <p:cNvSpPr/>
          <p:nvPr/>
        </p:nvSpPr>
        <p:spPr>
          <a:xfrm>
            <a:off x="382680" y="506520"/>
            <a:ext cx="81723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草履虫进行呼吸的结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收集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膜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纤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显微镜下观察草履虫，能看到与其运动和消化食物有关的结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伸缩泡和食物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纤毛和食物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纤毛和伸缩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伸缩泡和口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178"/>
          <p:cNvSpPr/>
          <p:nvPr/>
        </p:nvSpPr>
        <p:spPr>
          <a:xfrm>
            <a:off x="5072040" y="72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3819240" y="3295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1"/>
          <p:cNvSpPr/>
          <p:nvPr/>
        </p:nvSpPr>
        <p:spPr>
          <a:xfrm>
            <a:off x="415800" y="382680"/>
            <a:ext cx="78296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草履虫的生殖方式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芽生殖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孢子生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裂生殖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性生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关于单细胞生物的叙述错误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个身体由一个细胞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完成呼吸排泄和对外界刺激发生反应等各项生命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都是对人类有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多数生活在水域环境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"/>
          <p:cNvSpPr/>
          <p:nvPr/>
        </p:nvSpPr>
        <p:spPr>
          <a:xfrm>
            <a:off x="4451040" y="56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7018920" y="2336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1"/>
          <p:cNvSpPr/>
          <p:nvPr/>
        </p:nvSpPr>
        <p:spPr>
          <a:xfrm>
            <a:off x="169920" y="208080"/>
            <a:ext cx="8986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关于草履虫的叙述正确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氧的摄入、二氧化碳的排出都通过伸缩泡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体微小，要用电子显微镜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草履虫具有比较复杂的结构，这是细胞分裂和分化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观察时，在培养液的液滴上放几丝棉花纤维的目的是限制其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关于草履虫的说法不正确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对外界刺激没有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是单细胞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有生物的基本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有细胞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5959440" y="347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"/>
          <p:cNvSpPr/>
          <p:nvPr/>
        </p:nvSpPr>
        <p:spPr>
          <a:xfrm>
            <a:off x="6541920" y="391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1T03:55:43Z</dcterms:created>
  <dc:creator>Administrator</dc:creator>
  <dc:description/>
  <dc:language>en-US</dc:language>
  <cp:lastModifiedBy>Administrator</cp:lastModifiedBy>
  <dcterms:modified xsi:type="dcterms:W3CDTF">2017-07-10T03:53:08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38</vt:lpwstr>
  </property>
</Properties>
</file>