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819440"/>
            <a:ext cx="9118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三单元　生物圈中的绿色植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一章　生物圈中有哪些绿色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节　藻类、苔藓和蕨类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课堂十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1"/>
          <p:cNvSpPr/>
          <p:nvPr/>
        </p:nvSpPr>
        <p:spPr>
          <a:xfrm>
            <a:off x="255600" y="317520"/>
            <a:ext cx="83948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能长得高大的植物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植物中没有根、茎、叶分化的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绵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墙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肾蕨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银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6186"/>
          <p:cNvSpPr/>
          <p:nvPr/>
        </p:nvSpPr>
        <p:spPr>
          <a:xfrm>
            <a:off x="5348160" y="514440"/>
            <a:ext cx="3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2"/>
          <p:cNvSpPr/>
          <p:nvPr/>
        </p:nvSpPr>
        <p:spPr>
          <a:xfrm>
            <a:off x="7108560" y="3471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30120" y="1100160"/>
            <a:ext cx="83473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"/>
          <p:cNvSpPr/>
          <p:nvPr/>
        </p:nvSpPr>
        <p:spPr>
          <a:xfrm>
            <a:off x="222120" y="68400"/>
            <a:ext cx="86709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藻类没有根、叶、茎，但仍属于植物是因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藻类细胞都有细胞壁②细胞内含有叶绿体，呈绿色③营养方式是自养④都生活在水中⑤都由细胞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①②③                             B. 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①③⑤                            D. ③④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藻类植物和蕨类植物的共同特征是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根、茎、叶的分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是多细胞的生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体内都有输导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依靠孢子繁殖后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186"/>
          <p:cNvSpPr/>
          <p:nvPr/>
        </p:nvSpPr>
        <p:spPr>
          <a:xfrm>
            <a:off x="7857000" y="2667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6788160" y="316692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1"/>
          <p:cNvSpPr/>
          <p:nvPr/>
        </p:nvSpPr>
        <p:spPr>
          <a:xfrm>
            <a:off x="401760" y="262080"/>
            <a:ext cx="8342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兴趣小组在调查梓山湖公园中的生物种类时，发现一种植物并将其归类于藻类，他们的理由最可能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假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孢子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叶绿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根、茎、叶的分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句“日出江花红似火，春来江水绿如蓝” 中江水泛绿的原因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树的倒影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藻类植物的大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人的错觉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水本来的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1635120" y="14763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3723840" y="48481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374760" y="530280"/>
            <a:ext cx="83944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生物类群中，有输导组织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苔藓植物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蕨类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藻类植物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都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蓝藻是一种最原始的藻类植物，它通过什么结构吸收水和无机盐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186"/>
          <p:cNvSpPr/>
          <p:nvPr/>
        </p:nvSpPr>
        <p:spPr>
          <a:xfrm>
            <a:off x="6756120" y="7365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3755520" y="39574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"/>
          <p:cNvSpPr/>
          <p:nvPr/>
        </p:nvSpPr>
        <p:spPr>
          <a:xfrm>
            <a:off x="473040" y="682560"/>
            <a:ext cx="83948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藻类、苔藓和蕨类植物的共同特征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没有根、茎、叶的分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生活在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能进行光合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体内都有输导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贯众的生殖细胞存在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子中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果实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孢子囊中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蕊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186"/>
          <p:cNvSpPr/>
          <p:nvPr/>
        </p:nvSpPr>
        <p:spPr>
          <a:xfrm>
            <a:off x="7240680" y="86688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5203800" y="415116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"/>
          <p:cNvSpPr/>
          <p:nvPr/>
        </p:nvSpPr>
        <p:spPr>
          <a:xfrm>
            <a:off x="309600" y="195120"/>
            <a:ext cx="839484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对几种植物的形态、结构等特征的叙述，错误的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花菜没有根、茎、叶的分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带、葫芦藓和满江红都是孢子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肾蕨有真正的根、茎、叶分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江红可以作监测空气污染程度的指示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186"/>
          <p:cNvSpPr/>
          <p:nvPr/>
        </p:nvSpPr>
        <p:spPr>
          <a:xfrm>
            <a:off x="2058840" y="140796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"/>
          <p:cNvSpPr/>
          <p:nvPr/>
        </p:nvSpPr>
        <p:spPr>
          <a:xfrm>
            <a:off x="222120" y="98280"/>
            <a:ext cx="83948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苔藓植物生活在阴湿的环境中，但在工业污染严重地区的阴湿地带也不容易找到苔藓植物，这是因为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苔藓植物不适应工厂的噪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苔藓植物容易受到有毒物质的侵害而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城市的环境比森林干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业区内温度太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蕨类植物中，能作绿肥和饲料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卷柏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肾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贯众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江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186"/>
          <p:cNvSpPr/>
          <p:nvPr/>
        </p:nvSpPr>
        <p:spPr>
          <a:xfrm>
            <a:off x="860760" y="1440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7302600" y="44877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09T02:40:3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38</vt:lpwstr>
  </property>
</Properties>
</file>