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chimes.wav" ContentType="audio/x-wav"/>
  <Override PartName="/ppt/media/image23.jpeg" ContentType="image/jpeg"/>
  <Override PartName="/ppt/media/image49.png" ContentType="image/png"/>
  <Override PartName="/ppt/media/image2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0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7.png" ContentType="image/png"/>
  <Override PartName="/ppt/media/image48.jpeg" ContentType="image/jpeg"/>
  <Override PartName="/ppt/media/image44.jpeg" ContentType="image/jpeg"/>
  <Override PartName="/ppt/media/image42.gif" ContentType="image/gif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38.gif" ContentType="image/gif"/>
  <Override PartName="/ppt/media/image13.jpeg" ContentType="image/jpeg"/>
  <Override PartName="/ppt/media/image41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A36-2AF7-4032-8883-710B09B7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87C-1370-4692-B41F-3B44D87F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D4C-F58C-4346-A391-A8D234B2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002-7A16-4197-BD00-9C486E02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3EC-F64D-434B-9652-23919312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090-ACF2-418C-ABFA-EFD7B92C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95E-B0C1-4FF3-8886-81FA0A96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16D-293D-4DE1-AE0A-7AD7E0E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590-3DF3-4B2C-99F5-2750848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0DA-0EAA-4678-AC83-A8D156F3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B33-FDDF-4525-B1CF-9FE40F4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39E-F02B-4C85-B75F-16ED9D2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2F5-E631-4B15-B2F9-427823DBD3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223-229D-4EEA-9533-E88BD1C3C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jpeg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image" Target="../media/image13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480960" y="-76320"/>
            <a:ext cx="966456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51000" y="1168560"/>
            <a:ext cx="9331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A good beginning 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half of success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好的开始是成功的一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1"/>
          <p:cNvSpPr/>
          <p:nvPr/>
        </p:nvSpPr>
        <p:spPr>
          <a:xfrm>
            <a:off x="0" y="2286000"/>
            <a:ext cx="9448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aa5b28cjw1dkvhd0letkj"/>
          <p:cNvPicPr/>
          <p:nvPr/>
        </p:nvPicPr>
        <p:blipFill>
          <a:blip r:embed="rId1"/>
          <a:stretch/>
        </p:blipFill>
        <p:spPr>
          <a:xfrm>
            <a:off x="714240" y="3581280"/>
            <a:ext cx="1648080" cy="182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m_14_634676875663593750_37530195"/>
          <p:cNvPicPr/>
          <p:nvPr/>
        </p:nvPicPr>
        <p:blipFill>
          <a:blip r:embed="rId2"/>
          <a:stretch/>
        </p:blipFill>
        <p:spPr>
          <a:xfrm>
            <a:off x="3352680" y="3733920"/>
            <a:ext cx="1752840" cy="167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6324480" y="3927600"/>
            <a:ext cx="1752840" cy="112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240978_122144076_2"/>
          <p:cNvPicPr/>
          <p:nvPr/>
        </p:nvPicPr>
        <p:blipFill>
          <a:blip r:embed="rId4"/>
          <a:stretch/>
        </p:blipFill>
        <p:spPr>
          <a:xfrm>
            <a:off x="727200" y="484200"/>
            <a:ext cx="363672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512640" y="5638680"/>
            <a:ext cx="230508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easant G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278160" y="5638680"/>
            <a:ext cx="208728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auty G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6405142J-7"/>
          <p:cNvPicPr/>
          <p:nvPr/>
        </p:nvPicPr>
        <p:blipFill>
          <a:blip r:embed="rId5"/>
          <a:stretch/>
        </p:blipFill>
        <p:spPr>
          <a:xfrm>
            <a:off x="5562720" y="66204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572160" y="2681280"/>
            <a:ext cx="127656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800760" y="5653080"/>
            <a:ext cx="104796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02880" y="2681280"/>
            <a:ext cx="130536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0" y="2681280"/>
            <a:ext cx="912240" cy="520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28600" y="4525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你知道在英语中如何写你自己的名字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3440" y="1924200"/>
            <a:ext cx="8904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观察与思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仔细观察上面列出的英文名字，你会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英文名字的首字母应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56960" y="988560"/>
            <a:ext cx="88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Ali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o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Cind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ale Eric Fran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Grace H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152280" y="944640"/>
            <a:ext cx="883944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659840" y="3565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2"/>
          <p:cNvPicPr/>
          <p:nvPr/>
        </p:nvPicPr>
        <p:blipFill>
          <a:blip r:embed="rId1"/>
          <a:srcRect l="1962" t="0" r="0" b="0"/>
          <a:stretch/>
        </p:blipFill>
        <p:spPr>
          <a:xfrm>
            <a:off x="380880" y="1066680"/>
            <a:ext cx="830592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295280" y="38088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录音并注意语音语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250920" y="533520"/>
            <a:ext cx="936360" cy="576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00e2"/>
                </a:solidFill>
                <a:latin typeface="Arial Black"/>
                <a:ea typeface="黑体"/>
              </a:rPr>
              <a:t>1</a:t>
            </a:r>
            <a:r>
              <a:rPr b="1" lang="zh-CN" sz="3600" spc="-1" strike="noStrike">
                <a:solidFill>
                  <a:srgbClr val="8700e2"/>
                </a:solidFill>
                <a:latin typeface="Arial Black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04920" y="1295280"/>
            <a:ext cx="76176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04920" y="4876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arter Unit 1 1b.mp3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3432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B"/>
          <p:cNvPicPr/>
          <p:nvPr/>
        </p:nvPicPr>
        <p:blipFill>
          <a:blip r:embed="rId1"/>
          <a:stretch/>
        </p:blipFill>
        <p:spPr>
          <a:xfrm>
            <a:off x="3505320" y="1143000"/>
            <a:ext cx="116496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"/>
          <p:cNvPicPr/>
          <p:nvPr/>
        </p:nvPicPr>
        <p:blipFill>
          <a:blip r:embed="rId2"/>
          <a:stretch/>
        </p:blipFill>
        <p:spPr>
          <a:xfrm>
            <a:off x="4648320" y="106668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118" name="矩形标注 8"/>
          <p:cNvSpPr/>
          <p:nvPr/>
        </p:nvSpPr>
        <p:spPr>
          <a:xfrm>
            <a:off x="152280" y="2438280"/>
            <a:ext cx="3657600" cy="609840"/>
          </a:xfrm>
          <a:prstGeom prst="wedgeRectCallout">
            <a:avLst>
              <a:gd name="adj1" fmla="val 46356"/>
              <a:gd name="adj2" fmla="val -111717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morning, Hel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标注 14"/>
          <p:cNvSpPr/>
          <p:nvPr/>
        </p:nvSpPr>
        <p:spPr>
          <a:xfrm>
            <a:off x="6095880" y="1338120"/>
            <a:ext cx="1944720" cy="719280"/>
          </a:xfrm>
          <a:prstGeom prst="wedgeRectCallout">
            <a:avLst>
              <a:gd name="adj1" fmla="val -82245"/>
              <a:gd name="adj2" fmla="val 7031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, Bo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C"/>
          <p:cNvPicPr/>
          <p:nvPr/>
        </p:nvPicPr>
        <p:blipFill>
          <a:blip r:embed="rId3"/>
          <a:stretch/>
        </p:blipFill>
        <p:spPr>
          <a:xfrm>
            <a:off x="3276720" y="3505320"/>
            <a:ext cx="127764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4"/>
          <a:stretch/>
        </p:blipFill>
        <p:spPr>
          <a:xfrm>
            <a:off x="4867200" y="3483000"/>
            <a:ext cx="107640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矩形标注 8"/>
          <p:cNvSpPr/>
          <p:nvPr/>
        </p:nvSpPr>
        <p:spPr>
          <a:xfrm>
            <a:off x="142920" y="3436920"/>
            <a:ext cx="3514680" cy="677880"/>
          </a:xfrm>
          <a:prstGeom prst="wedgeRectCallout">
            <a:avLst>
              <a:gd name="adj1" fmla="val 54606"/>
              <a:gd name="adj2" fmla="val 8372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morning, Ali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标注 8"/>
          <p:cNvSpPr/>
          <p:nvPr/>
        </p:nvSpPr>
        <p:spPr>
          <a:xfrm>
            <a:off x="5334120" y="2819520"/>
            <a:ext cx="3657600" cy="609480"/>
          </a:xfrm>
          <a:prstGeom prst="wedgeRectCallout">
            <a:avLst>
              <a:gd name="adj1" fmla="val -38412"/>
              <a:gd name="adj2" fmla="val 134375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morning, Cin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5" descr="D"/>
          <p:cNvPicPr/>
          <p:nvPr/>
        </p:nvPicPr>
        <p:blipFill>
          <a:blip r:embed="rId5"/>
          <a:stretch/>
        </p:blipFill>
        <p:spPr>
          <a:xfrm>
            <a:off x="2666880" y="5105520"/>
            <a:ext cx="1044720" cy="134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E"/>
          <p:cNvPicPr/>
          <p:nvPr/>
        </p:nvPicPr>
        <p:blipFill>
          <a:blip r:embed="rId6"/>
          <a:stretch/>
        </p:blipFill>
        <p:spPr>
          <a:xfrm>
            <a:off x="4267080" y="5181480"/>
            <a:ext cx="1143000" cy="134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F"/>
          <p:cNvPicPr/>
          <p:nvPr/>
        </p:nvPicPr>
        <p:blipFill>
          <a:blip r:embed="rId7"/>
          <a:stretch/>
        </p:blipFill>
        <p:spPr>
          <a:xfrm>
            <a:off x="5334120" y="5172120"/>
            <a:ext cx="1135080" cy="1338120"/>
          </a:xfrm>
          <a:prstGeom prst="rect">
            <a:avLst/>
          </a:prstGeom>
          <a:ln w="0">
            <a:noFill/>
          </a:ln>
        </p:spPr>
      </p:pic>
      <p:sp>
        <p:nvSpPr>
          <p:cNvPr id="127" name="矩形标注 8"/>
          <p:cNvSpPr/>
          <p:nvPr/>
        </p:nvSpPr>
        <p:spPr>
          <a:xfrm>
            <a:off x="219240" y="4567320"/>
            <a:ext cx="2371680" cy="1147680"/>
          </a:xfrm>
          <a:prstGeom prst="wedgeRectCallout">
            <a:avLst>
              <a:gd name="adj1" fmla="val 69611"/>
              <a:gd name="adj2" fmla="val 58162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lo, Fra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lo, Er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标注 8"/>
          <p:cNvSpPr/>
          <p:nvPr/>
        </p:nvSpPr>
        <p:spPr>
          <a:xfrm>
            <a:off x="5567400" y="4508640"/>
            <a:ext cx="3348000" cy="672840"/>
          </a:xfrm>
          <a:prstGeom prst="wedgeRectCallout">
            <a:avLst>
              <a:gd name="adj1" fmla="val -56259"/>
              <a:gd name="adj2" fmla="val 910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morning, D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295280" y="457200"/>
            <a:ext cx="723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 and repea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录音并跟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250920" y="566640"/>
            <a:ext cx="936360" cy="57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1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Starter Unit 1 1b.mp3" descr=""/>
          <p:cNvPicPr/>
          <p:nvPr/>
        </p:nvPicPr>
        <p:blipFill>
          <a:blip r:embed="rId8"/>
          <a:stretch/>
        </p:blipFill>
        <p:spPr>
          <a:xfrm>
            <a:off x="731520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3432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239760" y="1600200"/>
            <a:ext cx="4103640" cy="199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Good mo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标注 8"/>
          <p:cNvSpPr/>
          <p:nvPr/>
        </p:nvSpPr>
        <p:spPr>
          <a:xfrm>
            <a:off x="4811760" y="3467160"/>
            <a:ext cx="1512720" cy="647640"/>
          </a:xfrm>
          <a:prstGeom prst="wedgeRectCallout">
            <a:avLst>
              <a:gd name="adj1" fmla="val 3935"/>
              <a:gd name="adj2" fmla="val 105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标注 8"/>
          <p:cNvSpPr/>
          <p:nvPr/>
        </p:nvSpPr>
        <p:spPr>
          <a:xfrm>
            <a:off x="7020000" y="3238560"/>
            <a:ext cx="1512720" cy="647640"/>
          </a:xfrm>
          <a:prstGeom prst="wedgeRectCallout">
            <a:avLst>
              <a:gd name="adj1" fmla="val 365"/>
              <a:gd name="adj2" fmla="val 11151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图片124243"/>
          <p:cNvPicPr/>
          <p:nvPr/>
        </p:nvPicPr>
        <p:blipFill>
          <a:blip r:embed="rId1"/>
          <a:stretch/>
        </p:blipFill>
        <p:spPr>
          <a:xfrm>
            <a:off x="6278400" y="3889440"/>
            <a:ext cx="156384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7838"/>
          <p:cNvPicPr/>
          <p:nvPr/>
        </p:nvPicPr>
        <p:blipFill>
          <a:blip r:embed="rId2"/>
          <a:stretch/>
        </p:blipFill>
        <p:spPr>
          <a:xfrm>
            <a:off x="4191120" y="4105440"/>
            <a:ext cx="1860480" cy="244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04920" y="609480"/>
            <a:ext cx="6172200" cy="68580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r work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人一组，编新对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2"/>
          <p:cNvSpPr/>
          <p:nvPr/>
        </p:nvSpPr>
        <p:spPr>
          <a:xfrm>
            <a:off x="365040" y="619200"/>
            <a:ext cx="877896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与思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部分的听力材料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哪一句是人们“在早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见面时用来问候他人的话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被问候人一般怎么回答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朋友之间见面时还可以怎样问候彼此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朋友之间见面时可以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彼此；回答时可以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334480" y="2149560"/>
            <a:ext cx="33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od morning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4909320" y="2835360"/>
            <a:ext cx="33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od morning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4682880" y="4230720"/>
            <a:ext cx="15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ll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149360" y="4886280"/>
            <a:ext cx="15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ll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808680" y="4230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427800" y="48862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89000" y="590400"/>
            <a:ext cx="82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ei \   Aa   Hh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Jj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K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ai \   Ii    Y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ju:\  Qq    Uu   W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 e \   Ff    Ll    Mm   Nn  Xx  Zz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i: \   Bb    Cc   Dd    Ee   Gg  Pp  Tt   V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ə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  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ɑ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\  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18600" y="425520"/>
            <a:ext cx="21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跟踪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"/>
          <p:cNvPicPr/>
          <p:nvPr/>
        </p:nvPicPr>
        <p:blipFill>
          <a:blip r:embed="rId1"/>
          <a:stretch/>
        </p:blipFill>
        <p:spPr>
          <a:xfrm>
            <a:off x="1447920" y="2176560"/>
            <a:ext cx="1981080" cy="1861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2"/>
          <a:stretch/>
        </p:blipFill>
        <p:spPr>
          <a:xfrm>
            <a:off x="1523880" y="5011560"/>
            <a:ext cx="2286000" cy="1694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6"/>
          <p:cNvSpPr/>
          <p:nvPr/>
        </p:nvSpPr>
        <p:spPr>
          <a:xfrm>
            <a:off x="687240" y="3505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663480" y="6033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304920" y="1143000"/>
            <a:ext cx="4038480" cy="762120"/>
          </a:xfrm>
          <a:prstGeom prst="wedgeRoundRectCallout">
            <a:avLst>
              <a:gd name="adj1" fmla="val -9314"/>
              <a:gd name="adj2" fmla="val 1052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morning, H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9"/>
          <p:cNvSpPr/>
          <p:nvPr/>
        </p:nvSpPr>
        <p:spPr>
          <a:xfrm>
            <a:off x="3733920" y="2286000"/>
            <a:ext cx="4343400" cy="762120"/>
          </a:xfrm>
          <a:prstGeom prst="wedgeRoundRectCallout">
            <a:avLst>
              <a:gd name="adj1" fmla="val -63046"/>
              <a:gd name="adj2" fmla="val 23958"/>
              <a:gd name="adj3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 _______,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1"/>
          <p:cNvSpPr/>
          <p:nvPr/>
        </p:nvSpPr>
        <p:spPr>
          <a:xfrm>
            <a:off x="685800" y="4191120"/>
            <a:ext cx="2743200" cy="609480"/>
          </a:xfrm>
          <a:prstGeom prst="wedgeRoundRectCallout">
            <a:avLst>
              <a:gd name="adj1" fmla="val -5495"/>
              <a:gd name="adj2" fmla="val 97657"/>
              <a:gd name="adj3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, Ci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4191120" y="4952880"/>
            <a:ext cx="3352680" cy="838440"/>
          </a:xfrm>
          <a:prstGeom prst="wedgeEllipseCallout">
            <a:avLst>
              <a:gd name="adj1" fmla="val -66476"/>
              <a:gd name="adj2" fmla="val 3882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, E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3831840" y="2316240"/>
            <a:ext cx="26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ood 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704480" y="510552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180360" y="452520"/>
            <a:ext cx="829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课堂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读一读，再连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鲍勃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海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弗兰克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d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雷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k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戴尔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爱丽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埃里克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en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辛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371600" y="2666880"/>
            <a:ext cx="13716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6477120" y="2666880"/>
            <a:ext cx="83808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6553080" y="3581280"/>
            <a:ext cx="83844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V="1">
            <a:off x="1447920" y="2742840"/>
            <a:ext cx="129528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V="1">
            <a:off x="1600200" y="3580920"/>
            <a:ext cx="121932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1447920" y="4419720"/>
            <a:ext cx="129528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V="1">
            <a:off x="6553080" y="35809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6553080" y="2819160"/>
            <a:ext cx="762120" cy="2361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255960" y="230400"/>
            <a:ext cx="866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课堂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栏中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栏中的句子找出合适的答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1)  Hello !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2)  Good morning !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ello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3)  Hi !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od morn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78080" y="28926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77720" y="37306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77720" y="45687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ordArt 2" descr=""/>
          <p:cNvPicPr/>
          <p:nvPr/>
        </p:nvPicPr>
        <p:blipFill>
          <a:blip r:embed="rId1"/>
          <a:stretch/>
        </p:blipFill>
        <p:spPr>
          <a:xfrm>
            <a:off x="1627200" y="512640"/>
            <a:ext cx="666288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002_JPG"/>
          <p:cNvPicPr/>
          <p:nvPr/>
        </p:nvPicPr>
        <p:blipFill>
          <a:blip r:embed="rId2"/>
          <a:stretch/>
        </p:blipFill>
        <p:spPr>
          <a:xfrm>
            <a:off x="33480" y="3600360"/>
            <a:ext cx="1719000" cy="31543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2454120" y="3446640"/>
            <a:ext cx="5596200" cy="2192040"/>
          </a:xfrm>
          <a:prstGeom prst="cloudCallout">
            <a:avLst>
              <a:gd name="adj1" fmla="val -68523"/>
              <a:gd name="adj2" fmla="val 59629"/>
            </a:avLst>
          </a:prstGeom>
          <a:solidFill>
            <a:srgbClr val="ff99cc">
              <a:alpha val="78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 beg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 up, pl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熟练掌握英语字母表，能够正确拼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字母大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唱英语字母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 I O 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个元音字母常见的开、闭音节的发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715560" y="59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81160" y="83664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Fill in the missing lett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435640" y="620640"/>
            <a:ext cx="2806560" cy="65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59000" y="1486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填入所缺的字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32r v"/>
          <p:cNvPicPr/>
          <p:nvPr/>
        </p:nvPicPr>
        <p:blipFill>
          <a:blip r:embed="rId2"/>
          <a:stretch/>
        </p:blipFill>
        <p:spPr>
          <a:xfrm>
            <a:off x="6229440" y="2925720"/>
            <a:ext cx="2941560" cy="2941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08000" y="22035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        c    d           f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43000" y="31431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i     j  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l         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6360" y="4076640"/>
            <a:ext cx="40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o   p           r   s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8040" y="5013360"/>
            <a:ext cx="410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u         w   x        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307520" y="2205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286080" y="2214720"/>
            <a:ext cx="7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908240" y="21556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 flipH="1">
            <a:off x="2714040" y="3143160"/>
            <a:ext cx="3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203000" y="3141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988640" y="4084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214160" y="4103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73680" y="5000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345480" y="5000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681840" y="3141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916360" y="119700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411280" y="476280"/>
            <a:ext cx="5904000" cy="37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C     D     E    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F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 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ff33cc"/>
                </a:solidFill>
                <a:latin typeface="Arial"/>
              </a:rPr>
              <a:t> I 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J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L     M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P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Q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S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U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W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X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X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Z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Now you see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Ｉｃａｎ　ｓａｙ　ｍ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ＡＢＣｓ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195640" y="404640"/>
            <a:ext cx="66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新目标英语七年级上册同步音频Starter Unit 34b.mp3" descr="新目标英语七年级上册同步音频Starter Unit 34b"/>
          <p:cNvPicPr/>
          <p:nvPr/>
        </p:nvPicPr>
        <p:blipFill>
          <a:blip r:embed="rId1"/>
          <a:stretch/>
        </p:blipFill>
        <p:spPr>
          <a:xfrm>
            <a:off x="757080" y="447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48317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wgwgew"/>
          <p:cNvPicPr/>
          <p:nvPr/>
        </p:nvPicPr>
        <p:blipFill>
          <a:blip r:embed="rId2"/>
          <a:stretch/>
        </p:blipFill>
        <p:spPr>
          <a:xfrm>
            <a:off x="826920" y="907920"/>
            <a:ext cx="7632720" cy="2706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GIF-247"/>
          <p:cNvPicPr/>
          <p:nvPr/>
        </p:nvPicPr>
        <p:blipFill>
          <a:blip r:embed="rId3"/>
          <a:stretch/>
        </p:blipFill>
        <p:spPr>
          <a:xfrm>
            <a:off x="4140360" y="4076640"/>
            <a:ext cx="987120" cy="1067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GIF-254"/>
          <p:cNvPicPr/>
          <p:nvPr/>
        </p:nvPicPr>
        <p:blipFill>
          <a:blip r:embed="rId4"/>
          <a:stretch/>
        </p:blipFill>
        <p:spPr>
          <a:xfrm>
            <a:off x="5651640" y="4076640"/>
            <a:ext cx="1012680" cy="1067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GIF-260"/>
          <p:cNvPicPr/>
          <p:nvPr/>
        </p:nvPicPr>
        <p:blipFill>
          <a:blip r:embed="rId5"/>
          <a:stretch/>
        </p:blipFill>
        <p:spPr>
          <a:xfrm>
            <a:off x="7164360" y="4149720"/>
            <a:ext cx="1066680" cy="101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A"/>
          <p:cNvPicPr/>
          <p:nvPr/>
        </p:nvPicPr>
        <p:blipFill>
          <a:blip r:embed="rId6"/>
          <a:stretch/>
        </p:blipFill>
        <p:spPr>
          <a:xfrm>
            <a:off x="1116000" y="4076640"/>
            <a:ext cx="1066680" cy="102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green E"/>
          <p:cNvPicPr/>
          <p:nvPr/>
        </p:nvPicPr>
        <p:blipFill>
          <a:blip r:embed="rId7"/>
          <a:stretch/>
        </p:blipFill>
        <p:spPr>
          <a:xfrm>
            <a:off x="2771640" y="4149720"/>
            <a:ext cx="1067040" cy="992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2875680" y="28526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五个元音字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直接连接符 37"/>
          <p:cNvSpPr/>
          <p:nvPr/>
        </p:nvSpPr>
        <p:spPr>
          <a:xfrm flipV="1">
            <a:off x="5580000" y="5157720"/>
            <a:ext cx="9720" cy="10080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>
            <a:off x="496800" y="1765440"/>
            <a:ext cx="8467920" cy="3535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9"/>
          <p:cNvSpPr/>
          <p:nvPr/>
        </p:nvSpPr>
        <p:spPr>
          <a:xfrm flipH="1">
            <a:off x="5568480" y="1765440"/>
            <a:ext cx="1800" cy="35002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24"/>
          <p:cNvSpPr/>
          <p:nvPr/>
        </p:nvSpPr>
        <p:spPr>
          <a:xfrm>
            <a:off x="477720" y="3533760"/>
            <a:ext cx="850608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1"/>
          <p:cNvSpPr/>
          <p:nvPr/>
        </p:nvSpPr>
        <p:spPr>
          <a:xfrm>
            <a:off x="711360" y="1836720"/>
            <a:ext cx="857160" cy="714240"/>
          </a:xfrm>
          <a:prstGeom prst="rect">
            <a:avLst/>
          </a:prstGeom>
          <a:solidFill>
            <a:srgbClr val="a7c6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3"/>
          <p:cNvSpPr/>
          <p:nvPr/>
        </p:nvSpPr>
        <p:spPr>
          <a:xfrm>
            <a:off x="684360" y="3622680"/>
            <a:ext cx="857160" cy="714240"/>
          </a:xfrm>
          <a:prstGeom prst="rect">
            <a:avLst/>
          </a:prstGeom>
          <a:solidFill>
            <a:srgbClr val="a7c6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350160" y="205596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358160" y="20509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652720" y="176544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143840" y="1765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621440" y="2050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641960" y="285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145240" y="285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649960" y="285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171960" y="2836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657960" y="2855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071960" y="28368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5612400" y="263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389720" y="26226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8"/>
          <p:cNvSpPr/>
          <p:nvPr/>
        </p:nvSpPr>
        <p:spPr>
          <a:xfrm>
            <a:off x="1996920" y="4122720"/>
            <a:ext cx="32864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字母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开音节中的发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5925960" y="4122720"/>
            <a:ext cx="22860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闭音节中的发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5"/>
          <p:cNvSpPr/>
          <p:nvPr/>
        </p:nvSpPr>
        <p:spPr>
          <a:xfrm>
            <a:off x="2425680" y="4908600"/>
            <a:ext cx="328608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字母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开音节中的发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6"/>
          <p:cNvSpPr/>
          <p:nvPr/>
        </p:nvSpPr>
        <p:spPr>
          <a:xfrm>
            <a:off x="5854680" y="4908600"/>
            <a:ext cx="22860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闭音节中的发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7"/>
          <p:cNvSpPr/>
          <p:nvPr/>
        </p:nvSpPr>
        <p:spPr>
          <a:xfrm flipV="1">
            <a:off x="468360" y="2637000"/>
            <a:ext cx="849636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43"/>
          <p:cNvSpPr/>
          <p:nvPr/>
        </p:nvSpPr>
        <p:spPr>
          <a:xfrm flipV="1">
            <a:off x="496800" y="4437000"/>
            <a:ext cx="8396280" cy="446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2284200" y="2050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784960" y="2050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6"/>
          <p:cNvSpPr/>
          <p:nvPr/>
        </p:nvSpPr>
        <p:spPr>
          <a:xfrm>
            <a:off x="684360" y="2732040"/>
            <a:ext cx="857160" cy="714600"/>
          </a:xfrm>
          <a:prstGeom prst="rect">
            <a:avLst/>
          </a:prstGeom>
          <a:solidFill>
            <a:srgbClr val="a7c6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014160" y="263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398280" y="263700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869520" y="26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1712880" y="36939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2213280" y="36939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285660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5583960" y="364500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67"/>
          <p:cNvSpPr/>
          <p:nvPr/>
        </p:nvSpPr>
        <p:spPr>
          <a:xfrm>
            <a:off x="684360" y="4551480"/>
            <a:ext cx="857160" cy="714240"/>
          </a:xfrm>
          <a:prstGeom prst="rect">
            <a:avLst/>
          </a:prstGeom>
          <a:solidFill>
            <a:srgbClr val="a7c6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1621080" y="4638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2285280" y="44798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5583240" y="44085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4854600" y="3551400"/>
            <a:ext cx="646200" cy="528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854600" y="4479840"/>
            <a:ext cx="642960" cy="42876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43"/>
          <p:cNvGrpSpPr/>
          <p:nvPr/>
        </p:nvGrpSpPr>
        <p:grpSpPr>
          <a:xfrm>
            <a:off x="7854840" y="3551400"/>
            <a:ext cx="500040" cy="465120"/>
            <a:chOff x="7854840" y="3551400"/>
            <a:chExt cx="500040" cy="465120"/>
          </a:xfrm>
        </p:grpSpPr>
        <p:pic>
          <p:nvPicPr>
            <p:cNvPr id="243" name="Picture 5" descr=""/>
            <p:cNvPicPr/>
            <p:nvPr/>
          </p:nvPicPr>
          <p:blipFill>
            <a:blip r:embed="rId4"/>
            <a:stretch/>
          </p:blipFill>
          <p:spPr>
            <a:xfrm>
              <a:off x="7854840" y="3551400"/>
              <a:ext cx="50004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6" descr=""/>
            <p:cNvPicPr/>
            <p:nvPr/>
          </p:nvPicPr>
          <p:blipFill>
            <a:blip r:embed="rId5"/>
            <a:stretch/>
          </p:blipFill>
          <p:spPr>
            <a:xfrm>
              <a:off x="8069040" y="3694320"/>
              <a:ext cx="152280" cy="21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Picture 11" descr=""/>
          <p:cNvPicPr/>
          <p:nvPr/>
        </p:nvPicPr>
        <p:blipFill>
          <a:blip r:embed="rId6"/>
          <a:stretch/>
        </p:blipFill>
        <p:spPr>
          <a:xfrm>
            <a:off x="7783560" y="4479840"/>
            <a:ext cx="571320" cy="3906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0"/>
          <p:cNvSpPr/>
          <p:nvPr/>
        </p:nvSpPr>
        <p:spPr>
          <a:xfrm>
            <a:off x="5653440" y="21225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7330320" y="21337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5582880" y="299736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0"/>
          <p:cNvSpPr/>
          <p:nvPr/>
        </p:nvSpPr>
        <p:spPr>
          <a:xfrm>
            <a:off x="3450960" y="836640"/>
            <a:ext cx="29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Listen and repeat. </a:t>
            </a: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听一听，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1"/>
          <p:cNvSpPr/>
          <p:nvPr/>
        </p:nvSpPr>
        <p:spPr>
          <a:xfrm>
            <a:off x="611280" y="836640"/>
            <a:ext cx="718920" cy="57636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7"/>
          <p:cNvSpPr/>
          <p:nvPr/>
        </p:nvSpPr>
        <p:spPr>
          <a:xfrm flipV="1">
            <a:off x="468360" y="6235200"/>
            <a:ext cx="800100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37"/>
          <p:cNvSpPr/>
          <p:nvPr/>
        </p:nvSpPr>
        <p:spPr>
          <a:xfrm flipV="1">
            <a:off x="468360" y="5300640"/>
            <a:ext cx="9360" cy="9367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7"/>
          <p:cNvSpPr/>
          <p:nvPr/>
        </p:nvSpPr>
        <p:spPr>
          <a:xfrm flipV="1">
            <a:off x="8964720" y="5300640"/>
            <a:ext cx="0" cy="9367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7"/>
          <p:cNvSpPr/>
          <p:nvPr/>
        </p:nvSpPr>
        <p:spPr>
          <a:xfrm>
            <a:off x="684360" y="5451480"/>
            <a:ext cx="857160" cy="714240"/>
          </a:xfrm>
          <a:prstGeom prst="rect">
            <a:avLst/>
          </a:prstGeom>
          <a:solidFill>
            <a:srgbClr val="a7c6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6"/>
          <p:cNvSpPr/>
          <p:nvPr/>
        </p:nvSpPr>
        <p:spPr>
          <a:xfrm>
            <a:off x="1624320" y="54878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7"/>
          <p:cNvSpPr/>
          <p:nvPr/>
        </p:nvSpPr>
        <p:spPr>
          <a:xfrm>
            <a:off x="2347920" y="551664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796720" y="54687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9"/>
          <p:cNvSpPr/>
          <p:nvPr/>
        </p:nvSpPr>
        <p:spPr>
          <a:xfrm>
            <a:off x="7001640" y="55134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0"/>
          <p:cNvSpPr/>
          <p:nvPr/>
        </p:nvSpPr>
        <p:spPr>
          <a:xfrm>
            <a:off x="6537240" y="29941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1"/>
          <p:cNvSpPr/>
          <p:nvPr/>
        </p:nvSpPr>
        <p:spPr>
          <a:xfrm>
            <a:off x="7537680" y="2997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2"/>
          <p:cNvSpPr/>
          <p:nvPr/>
        </p:nvSpPr>
        <p:spPr>
          <a:xfrm>
            <a:off x="3966480" y="364500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新目标英语七年级上册同步音频Starter Unit 34c.mp3" descr="新目标英语七年级上册同步音频Starter Unit 34c"/>
          <p:cNvPicPr/>
          <p:nvPr/>
        </p:nvPicPr>
        <p:blipFill>
          <a:blip r:embed="rId7"/>
          <a:stretch/>
        </p:blipFill>
        <p:spPr>
          <a:xfrm>
            <a:off x="7940520" y="406440"/>
            <a:ext cx="574920" cy="57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2940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20050614104725534"/>
          <p:cNvPicPr/>
          <p:nvPr/>
        </p:nvPicPr>
        <p:blipFill>
          <a:blip r:embed="rId2"/>
          <a:stretch/>
        </p:blipFill>
        <p:spPr>
          <a:xfrm>
            <a:off x="684360" y="476280"/>
            <a:ext cx="7416720" cy="5962680"/>
          </a:xfrm>
          <a:prstGeom prst="rect">
            <a:avLst/>
          </a:prstGeom>
          <a:ln w="0">
            <a:noFill/>
          </a:ln>
        </p:spPr>
      </p:pic>
      <p:sp>
        <p:nvSpPr>
          <p:cNvPr id="264" name="Oval 3"/>
          <p:cNvSpPr/>
          <p:nvPr/>
        </p:nvSpPr>
        <p:spPr>
          <a:xfrm>
            <a:off x="1332000" y="1125360"/>
            <a:ext cx="718920" cy="64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920320" y="1017720"/>
            <a:ext cx="30794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Listen and read the cha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听录音，读儿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85920" y="2076480"/>
            <a:ext cx="546084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-E-I-O-U,           A-E-I-O-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-E-I-O-U.           A in Gra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in Dale;           E in gre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 in evening;        I in wh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 in hi;             O in 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 in OK;             U in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U in ruler.          A-E-I-O-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-E-I-O-U,           A-E-I-O-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新目标英语七年级上册同步音频Starter Unit 34d.mp3" descr="新目标英语七年级上册同步音频Starter Unit 34d"/>
          <p:cNvPicPr/>
          <p:nvPr/>
        </p:nvPicPr>
        <p:blipFill>
          <a:blip r:embed="rId3"/>
          <a:stretch/>
        </p:blipFill>
        <p:spPr>
          <a:xfrm>
            <a:off x="7920000" y="477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47063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下列每组字母中找出一个含有不同元音音素的的字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. Ee         B. Dd        C. Bb        D. J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A. Kk         B. Aa          C. Ff         D. J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A. Ii          B. Kk           C. Aa        D. H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A. Dd        B. Mm          C. Cc        D. 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A. Mm       B. Ll            C. Nn       D.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字母按发音分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写出与所给字母含有相同音素的其他字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u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f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单项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     )1.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是辅音字母的选项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Bb, Cc, Yy    B. Xx, Vv, Ww  C. Oo, Rr, Zz    D. Bb, Pp,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     )2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写字母书写时都占同一格的选项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m, n, i    B. k, l, c     C. a, c, e       D. f, g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     )3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是元音字母的选项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Rr         B. Aa         C. Ii            D. 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     )4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书写小写字母时两笔完成的选项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          B. k          C. p            D.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  )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列说法错误的是       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 英语中句号是一个实心圆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英语句子的第一个词的第一个字母必须大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字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笔写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小写字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三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61920" y="-117360"/>
            <a:ext cx="9423360" cy="7208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225360" y="976320"/>
            <a:ext cx="900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Wha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 your name?\May I have your nam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--My name is .......\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m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--Good morning ,class .\Ms. 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--Hi!\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u=1273444230,979388566&amp;fm=21&amp;gp=0"/>
          <p:cNvPicPr/>
          <p:nvPr/>
        </p:nvPicPr>
        <p:blipFill>
          <a:blip r:embed="rId1"/>
          <a:stretch/>
        </p:blipFill>
        <p:spPr>
          <a:xfrm>
            <a:off x="4400640" y="28440"/>
            <a:ext cx="4754520" cy="3333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u=972958638,3135703145&amp;fm=21&amp;gp=0"/>
          <p:cNvPicPr/>
          <p:nvPr/>
        </p:nvPicPr>
        <p:blipFill>
          <a:blip r:embed="rId2"/>
          <a:stretch/>
        </p:blipFill>
        <p:spPr>
          <a:xfrm>
            <a:off x="-63360" y="28440"/>
            <a:ext cx="4464000" cy="3333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82440" y="3935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X i Jin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780080" y="3935520"/>
            <a:ext cx="474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Li  Keqia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4132293133039946208"/>
          <p:cNvPicPr/>
          <p:nvPr/>
        </p:nvPicPr>
        <p:blipFill>
          <a:blip r:embed="rId1"/>
          <a:stretch/>
        </p:blipFill>
        <p:spPr>
          <a:xfrm>
            <a:off x="34920" y="68400"/>
            <a:ext cx="4851360" cy="424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79240" y="4941720"/>
            <a:ext cx="31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Li Yife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66160" y="47563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9200" y="4908600"/>
            <a:ext cx="853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Barak· Hussein· Ob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u=550556042,2867995516&amp;fm=21&amp;gp=0"/>
          <p:cNvPicPr/>
          <p:nvPr/>
        </p:nvPicPr>
        <p:blipFill>
          <a:blip r:embed="rId1"/>
          <a:stretch/>
        </p:blipFill>
        <p:spPr>
          <a:xfrm>
            <a:off x="81000" y="25560"/>
            <a:ext cx="483696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258920" y="1468440"/>
            <a:ext cx="55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常用的英文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男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22280" y="2057400"/>
            <a:ext cx="856944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lvin   Harry   Jackie  Owen  Jim   Lucas  Ben Robert  Alfred   Chris   Bruce  Joe   Bill   Ji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Henry   Clark   Peter   Roy Mark J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305000" y="4038480"/>
            <a:ext cx="5400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常用的英文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女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74560" y="4495680"/>
            <a:ext cx="8291520" cy="1625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  Alice    Susan   Anna  Gina  Daisy  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y  Sandy  Sophie  Ann    May  Jean    K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y  Nancy  Sarah    Rita   Rose  Tracy  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95280" y="7002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有英文名字吗？没有的话，可以选一个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44360" y="1628640"/>
            <a:ext cx="2141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’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07880" y="2438280"/>
            <a:ext cx="11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14da"/>
                </a:solidFill>
                <a:latin typeface="Times New Roman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95280" y="45720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names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图中人物的名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086600" y="2438280"/>
            <a:ext cx="12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s1"/>
          <p:cNvPicPr/>
          <p:nvPr/>
        </p:nvPicPr>
        <p:blipFill>
          <a:blip r:embed="rId1"/>
          <a:srcRect l="0" t="9858" r="0" b="0"/>
          <a:stretch/>
        </p:blipFill>
        <p:spPr>
          <a:xfrm>
            <a:off x="2362320" y="1523880"/>
            <a:ext cx="430344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Oval 12"/>
          <p:cNvSpPr/>
          <p:nvPr/>
        </p:nvSpPr>
        <p:spPr>
          <a:xfrm>
            <a:off x="250920" y="642960"/>
            <a:ext cx="936360" cy="57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700e2"/>
                </a:solidFill>
                <a:latin typeface="Arial Black"/>
                <a:ea typeface="黑体"/>
              </a:rPr>
              <a:t>1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376560" y="3135240"/>
            <a:ext cx="1069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351720" y="39304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E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350640" y="46926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14da"/>
                </a:solidFill>
                <a:latin typeface="Times New Roman"/>
              </a:rPr>
              <a:t>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926400" y="1670040"/>
            <a:ext cx="2141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rls’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7086600" y="32004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7106400" y="399240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H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7135920" y="475452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727200"/>
            <a:ext cx="1203480" cy="1447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840600" y="24066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"/>
          <p:cNvPicPr/>
          <p:nvPr/>
        </p:nvPicPr>
        <p:blipFill>
          <a:blip r:embed="rId3"/>
          <a:stretch/>
        </p:blipFill>
        <p:spPr>
          <a:xfrm>
            <a:off x="2819520" y="727200"/>
            <a:ext cx="1182600" cy="1461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3049200" y="24829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"/>
          <p:cNvPicPr/>
          <p:nvPr/>
        </p:nvPicPr>
        <p:blipFill>
          <a:blip r:embed="rId4"/>
          <a:stretch/>
        </p:blipFill>
        <p:spPr>
          <a:xfrm>
            <a:off x="4648320" y="879480"/>
            <a:ext cx="1523880" cy="1297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4878000" y="25588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i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D"/>
          <p:cNvPicPr/>
          <p:nvPr/>
        </p:nvPicPr>
        <p:blipFill>
          <a:blip r:embed="rId5"/>
          <a:stretch/>
        </p:blipFill>
        <p:spPr>
          <a:xfrm>
            <a:off x="6934320" y="955800"/>
            <a:ext cx="1371600" cy="1260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7088400" y="25430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E"/>
          <p:cNvPicPr/>
          <p:nvPr/>
        </p:nvPicPr>
        <p:blipFill>
          <a:blip r:embed="rId6"/>
          <a:stretch/>
        </p:blipFill>
        <p:spPr>
          <a:xfrm>
            <a:off x="838080" y="3581280"/>
            <a:ext cx="1244880" cy="1524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6"/>
          <p:cNvSpPr/>
          <p:nvPr/>
        </p:nvSpPr>
        <p:spPr>
          <a:xfrm>
            <a:off x="762120" y="538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F"/>
          <p:cNvPicPr/>
          <p:nvPr/>
        </p:nvPicPr>
        <p:blipFill>
          <a:blip r:embed="rId7"/>
          <a:stretch/>
        </p:blipFill>
        <p:spPr>
          <a:xfrm>
            <a:off x="2819520" y="3581280"/>
            <a:ext cx="1172880" cy="1524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8"/>
          <p:cNvSpPr/>
          <p:nvPr/>
        </p:nvSpPr>
        <p:spPr>
          <a:xfrm>
            <a:off x="2820960" y="541008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G"/>
          <p:cNvPicPr/>
          <p:nvPr/>
        </p:nvPicPr>
        <p:blipFill>
          <a:blip r:embed="rId8"/>
          <a:stretch/>
        </p:blipFill>
        <p:spPr>
          <a:xfrm>
            <a:off x="4648320" y="35053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0"/>
          <p:cNvSpPr/>
          <p:nvPr/>
        </p:nvSpPr>
        <p:spPr>
          <a:xfrm>
            <a:off x="4879440" y="53802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1" descr="H"/>
          <p:cNvPicPr/>
          <p:nvPr/>
        </p:nvPicPr>
        <p:blipFill>
          <a:blip r:embed="rId9"/>
          <a:stretch/>
        </p:blipFill>
        <p:spPr>
          <a:xfrm>
            <a:off x="6792840" y="34290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7063560" y="53802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H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95280" y="84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Administrator</cp:lastModifiedBy>
  <dcterms:modified xsi:type="dcterms:W3CDTF">2018-03-18T09:38:1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