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  <p:sldId id="320" r:id="rId78"/>
    <p:sldId id="321" r:id="rId79"/>
    <p:sldId id="322" r:id="rId80"/>
    <p:sldId id="323" r:id="rId81"/>
    <p:sldId id="324" r:id="rId82"/>
    <p:sldId id="325" r:id="rId83"/>
    <p:sldId id="326" r:id="rId84"/>
    <p:sldId id="327" r:id="rId85"/>
    <p:sldId id="328" r:id="rId86"/>
    <p:sldId id="329" r:id="rId87"/>
    <p:sldId id="330" r:id="rId88"/>
    <p:sldId id="331" r:id="rId89"/>
    <p:sldId id="332" r:id="rId90"/>
    <p:sldId id="333" r:id="rId91"/>
    <p:sldId id="334" r:id="rId92"/>
    <p:sldId id="335" r:id="rId93"/>
    <p:sldId id="336" r:id="rId94"/>
    <p:sldId id="337" r:id="rId95"/>
    <p:sldId id="338" r:id="rId96"/>
    <p:sldId id="339" r:id="rId97"/>
    <p:sldId id="340" r:id="rId98"/>
    <p:sldId id="341" r:id="rId99"/>
    <p:sldId id="342" r:id="rId100"/>
    <p:sldId id="343" r:id="rId101"/>
    <p:sldId id="344" r:id="rId102"/>
    <p:sldId id="345" r:id="rId103"/>
    <p:sldId id="346" r:id="rId104"/>
    <p:sldId id="347" r:id="rId105"/>
    <p:sldId id="348" r:id="rId106"/>
    <p:sldId id="349" r:id="rId107"/>
    <p:sldId id="350" r:id="rId108"/>
    <p:sldId id="351" r:id="rId109"/>
    <p:sldId id="352" r:id="rId110"/>
    <p:sldId id="353" r:id="rId111"/>
    <p:sldId id="354" r:id="rId112"/>
    <p:sldId id="355" r:id="rId113"/>
    <p:sldId id="356" r:id="rId114"/>
    <p:sldId id="357" r:id="rId115"/>
    <p:sldId id="358" r:id="rId116"/>
    <p:sldId id="359" r:id="rId117"/>
    <p:sldId id="360" r:id="rId118"/>
    <p:sldId id="361" r:id="rId119"/>
    <p:sldId id="362" r:id="rId120"/>
    <p:sldId id="363" r:id="rId121"/>
    <p:sldId id="364" r:id="rId122"/>
    <p:sldId id="365" r:id="rId123"/>
    <p:sldId id="366" r:id="rId124"/>
    <p:sldId id="367" r:id="rId1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slide" Target="slides/slide65.xml"/><Relationship Id="rId79" Type="http://schemas.openxmlformats.org/officeDocument/2006/relationships/slide" Target="slides/slide66.xml"/><Relationship Id="rId80" Type="http://schemas.openxmlformats.org/officeDocument/2006/relationships/slide" Target="slides/slide67.xml"/><Relationship Id="rId81" Type="http://schemas.openxmlformats.org/officeDocument/2006/relationships/slide" Target="slides/slide68.xml"/><Relationship Id="rId82" Type="http://schemas.openxmlformats.org/officeDocument/2006/relationships/slide" Target="slides/slide69.xml"/><Relationship Id="rId83" Type="http://schemas.openxmlformats.org/officeDocument/2006/relationships/slide" Target="slides/slide70.xml"/><Relationship Id="rId84" Type="http://schemas.openxmlformats.org/officeDocument/2006/relationships/slide" Target="slides/slide71.xml"/><Relationship Id="rId85" Type="http://schemas.openxmlformats.org/officeDocument/2006/relationships/slide" Target="slides/slide72.xml"/><Relationship Id="rId86" Type="http://schemas.openxmlformats.org/officeDocument/2006/relationships/slide" Target="slides/slide73.xml"/><Relationship Id="rId87" Type="http://schemas.openxmlformats.org/officeDocument/2006/relationships/slide" Target="slides/slide74.xml"/><Relationship Id="rId88" Type="http://schemas.openxmlformats.org/officeDocument/2006/relationships/slide" Target="slides/slide75.xml"/><Relationship Id="rId89" Type="http://schemas.openxmlformats.org/officeDocument/2006/relationships/slide" Target="slides/slide76.xml"/><Relationship Id="rId90" Type="http://schemas.openxmlformats.org/officeDocument/2006/relationships/slide" Target="slides/slide77.xml"/><Relationship Id="rId91" Type="http://schemas.openxmlformats.org/officeDocument/2006/relationships/slide" Target="slides/slide78.xml"/><Relationship Id="rId92" Type="http://schemas.openxmlformats.org/officeDocument/2006/relationships/slide" Target="slides/slide79.xml"/><Relationship Id="rId93" Type="http://schemas.openxmlformats.org/officeDocument/2006/relationships/slide" Target="slides/slide80.xml"/><Relationship Id="rId94" Type="http://schemas.openxmlformats.org/officeDocument/2006/relationships/slide" Target="slides/slide81.xml"/><Relationship Id="rId95" Type="http://schemas.openxmlformats.org/officeDocument/2006/relationships/slide" Target="slides/slide82.xml"/><Relationship Id="rId96" Type="http://schemas.openxmlformats.org/officeDocument/2006/relationships/slide" Target="slides/slide83.xml"/><Relationship Id="rId97" Type="http://schemas.openxmlformats.org/officeDocument/2006/relationships/slide" Target="slides/slide84.xml"/><Relationship Id="rId98" Type="http://schemas.openxmlformats.org/officeDocument/2006/relationships/slide" Target="slides/slide85.xml"/><Relationship Id="rId99" Type="http://schemas.openxmlformats.org/officeDocument/2006/relationships/slide" Target="slides/slide86.xml"/><Relationship Id="rId100" Type="http://schemas.openxmlformats.org/officeDocument/2006/relationships/slide" Target="slides/slide87.xml"/><Relationship Id="rId101" Type="http://schemas.openxmlformats.org/officeDocument/2006/relationships/slide" Target="slides/slide88.xml"/><Relationship Id="rId102" Type="http://schemas.openxmlformats.org/officeDocument/2006/relationships/slide" Target="slides/slide89.xml"/><Relationship Id="rId103" Type="http://schemas.openxmlformats.org/officeDocument/2006/relationships/slide" Target="slides/slide90.xml"/><Relationship Id="rId104" Type="http://schemas.openxmlformats.org/officeDocument/2006/relationships/slide" Target="slides/slide91.xml"/><Relationship Id="rId105" Type="http://schemas.openxmlformats.org/officeDocument/2006/relationships/slide" Target="slides/slide92.xml"/><Relationship Id="rId106" Type="http://schemas.openxmlformats.org/officeDocument/2006/relationships/slide" Target="slides/slide93.xml"/><Relationship Id="rId107" Type="http://schemas.openxmlformats.org/officeDocument/2006/relationships/slide" Target="slides/slide94.xml"/><Relationship Id="rId108" Type="http://schemas.openxmlformats.org/officeDocument/2006/relationships/slide" Target="slides/slide95.xml"/><Relationship Id="rId109" Type="http://schemas.openxmlformats.org/officeDocument/2006/relationships/slide" Target="slides/slide96.xml"/><Relationship Id="rId110" Type="http://schemas.openxmlformats.org/officeDocument/2006/relationships/slide" Target="slides/slide97.xml"/><Relationship Id="rId111" Type="http://schemas.openxmlformats.org/officeDocument/2006/relationships/slide" Target="slides/slide98.xml"/><Relationship Id="rId112" Type="http://schemas.openxmlformats.org/officeDocument/2006/relationships/slide" Target="slides/slide99.xml"/><Relationship Id="rId113" Type="http://schemas.openxmlformats.org/officeDocument/2006/relationships/slide" Target="slides/slide100.xml"/><Relationship Id="rId114" Type="http://schemas.openxmlformats.org/officeDocument/2006/relationships/slide" Target="slides/slide101.xml"/><Relationship Id="rId115" Type="http://schemas.openxmlformats.org/officeDocument/2006/relationships/slide" Target="slides/slide102.xml"/><Relationship Id="rId116" Type="http://schemas.openxmlformats.org/officeDocument/2006/relationships/slide" Target="slides/slide103.xml"/><Relationship Id="rId117" Type="http://schemas.openxmlformats.org/officeDocument/2006/relationships/slide" Target="slides/slide104.xml"/><Relationship Id="rId118" Type="http://schemas.openxmlformats.org/officeDocument/2006/relationships/slide" Target="slides/slide105.xml"/><Relationship Id="rId119" Type="http://schemas.openxmlformats.org/officeDocument/2006/relationships/slide" Target="slides/slide106.xml"/><Relationship Id="rId120" Type="http://schemas.openxmlformats.org/officeDocument/2006/relationships/slide" Target="slides/slide107.xml"/><Relationship Id="rId121" Type="http://schemas.openxmlformats.org/officeDocument/2006/relationships/slide" Target="slides/slide108.xml"/><Relationship Id="rId122" Type="http://schemas.openxmlformats.org/officeDocument/2006/relationships/slide" Target="slides/slide109.xml"/><Relationship Id="rId123" Type="http://schemas.openxmlformats.org/officeDocument/2006/relationships/slide" Target="slides/slide110.xml"/><Relationship Id="rId124" Type="http://schemas.openxmlformats.org/officeDocument/2006/relationships/slide" Target="slides/slide111.xml"/><Relationship Id="rId125" Type="http://schemas.openxmlformats.org/officeDocument/2006/relationships/slide" Target="slides/slide112.xml"/><Relationship Id="rId1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09A4-CF59-44A4-9263-1B6E7AE90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1EA1-40F7-4514-AC13-EC35F8B4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F9451D-E33D-4CAE-8BAF-427C1BBD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23837-3AB4-49C9-BBCB-740FDA44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015DE-BD71-46E8-8818-515498D5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B7483-D754-48FD-AB76-6B1F6FB7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0E9CB-9DAB-4038-91E1-E5D00A66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27428-6EF7-4CBD-8A2D-A298B3C2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9CACF-F064-406E-B618-630C6209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73196-2DB9-4357-81C0-9FF0776EC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69CD1-40C1-4A51-A89C-5A6356FBB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62B6EA-6E05-4E8D-8582-7FD4CB13C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6FF6-0171-4FA2-AB36-3BD85864D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322B2D-8C3B-4682-807D-A3BF51DB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E3F2D6-A9A2-485D-B9D9-1150CA30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A99AFA-4480-424B-B324-0174BB27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7D776F-E2ED-4F1A-A281-5FBA3B78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8D8106-70EB-457D-A715-FCF8A316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2CF8D9-FEAD-4208-B933-B130EA32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A8B3F-A2C4-41FF-853E-CEAB3940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A2BAA-E678-43A5-B84D-F454A1A8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E94CA-2744-4E5C-AC6D-007152AD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B0E8B-2FB6-482C-92B5-3B6ED2F7E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35CA-99C3-4245-A40A-B599A0C2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F1D66E-5979-4334-B220-8309767B8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E9C77-3B2E-4033-8A5D-941CC4DDD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EE062-7C80-4DE2-99C2-86014DC3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A434A-AFF5-4B39-ACEF-5C190BED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FE0B2-5CF7-4B8E-91F5-ACB20C28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60FAB-0CB5-433E-B7A3-6B9FEE61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01E05-B7B7-479F-A7AF-1E2F5D89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291C2C-3F15-454A-93BB-02361DA8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CA3B9-C236-4726-8DDB-BC20973A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4D78E-0D4D-40CA-8238-61F2B193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AFA6-5B1C-4F58-BB35-4D4DE5C48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05067-81E1-4207-AF27-8754B039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2553F-9465-4946-8145-44E7A018E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5A420-0110-4837-8763-917DCAC8F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4C209C-9237-47DE-8818-4388594D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0E3AEE-7CA4-4EFD-8949-B3712461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1700D7-3781-465E-B952-28AA105E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43E246-CEFC-4984-88FF-1B5B963B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006996-0D47-4DFD-BC3A-5C3B3552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776B63-D388-4CE9-B120-7D034AD6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CC6EA9-B5A1-42AA-B2B5-B8037710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D22F-9A1C-41EF-ACBC-7A3E5E49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28019-DEC2-4D45-902A-E91CB449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18EE1A-0475-4B1E-AF15-370455AD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727C7C-C051-4B12-9792-5A23C1F5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C85A0A-D318-41B3-8638-71241269F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FF3DC9-C291-4119-B11B-DCFA76A45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6F47-23EA-41DD-977F-BC44566C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192E-8667-4196-9786-35C7A6F8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7511-690D-4AD2-ABCB-ECFF13A0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9509-E83B-435B-AC34-4B0089EF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4784-2F56-4E61-9B1A-4A1747E2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8E60-7340-48CA-8D0E-C481A94D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4B86-175B-488E-9BFE-D59B3BFE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DBEE-5AB6-4FDB-BC83-D085DB99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652B-0251-44CB-A99D-442E566D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0B3E-00CA-4583-8093-A2B790F54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851C-D967-4394-93E3-942A1AE93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93ADE-7831-4C46-9D21-238E8B65C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D1171-55CE-476C-B478-4CB05AB9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EDE54-7924-4865-8688-C1888277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9EC17-6C81-4F1C-993F-AD8A1CFC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081A1-F9A6-461E-B44F-B94B2EA2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360D-7EE9-4802-B5AC-520BB340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E7659-03E1-4D38-85D6-ECE650BB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ABFC9-5078-4ABE-93C2-276947CC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9E075-2408-46ED-8C1B-894C003A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0C3F3-3A99-4793-9C26-44A6E299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D8D25-587D-4B04-A6F6-7391EE2A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1FB16-8B4C-4071-8F34-063E33D6D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D8A8C-EC1F-44A4-8546-6AABBDED8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40749-4A3F-49AA-B86B-66E38E82A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492E3-763F-4D57-BAA0-C3FA50D1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5665C-BF72-4928-A83B-E0D96CFC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D911-193E-4FDB-BF99-F03E371D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70F9B-D795-4D42-BFEB-754D9C2C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EEA57-1AF5-4A85-B4B0-533BA302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D5793-BDB3-4AD5-9777-3991CF3A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7E333-5409-474D-8688-DCEF8A53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E1881-D1BA-4DE8-8E3C-95FB30DD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D3838-AEAA-4A07-86B2-036E94FB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4BCC9-C83F-4B5C-88AA-B573A62E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E9C85-8628-4109-86EE-86C09056E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18201-3EC6-45C5-9112-15941329A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BA191-3BFC-4DAE-BA55-20EDD038A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0FF1-863D-47F4-970B-3DA820B0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B2E9B-9FD0-43F4-A6AB-8F6077C5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5A87E-437F-49D8-BFF6-982545A4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7C230-FB31-4BFC-BE7D-FB45325E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A35CE-D8CF-4051-9D4E-E7F17794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5C611-923C-4654-945D-A076FC61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34391-37D5-47EF-B7ED-56C8CE47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6F844-E755-4784-A20C-32CF3132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C977B-149B-4948-8158-382276C0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655BE-3864-4B38-A910-60AB127C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806A3-8B89-46C8-9497-06E9DE739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2FB5-F609-45F8-BB18-180E2B58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498A2-7518-4164-955F-5FDB706BF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4D972-D40C-4E0C-8884-D4FF12C3E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E706F-3A01-4702-A631-8F64158F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A6FB1-037B-46D4-A337-2EACE691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C0D2D-9315-4B81-8394-2D510030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89F10-E66F-46DC-9E3F-52FD0158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548BA-6238-4078-BF0C-BEAE1CAD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CE334-378C-4B46-BE7C-38E505C3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9EDC2-B634-48E5-8D90-7E59B7B4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F8F05-EAC4-4EC8-B150-6F7A999B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8DE6-158F-4BF0-9FE9-4CD32865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8F6D8-BA3B-4D83-A5F1-E87FFE19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20C2A-7DB3-4CA3-A960-90D935266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53FB3-9DB4-4F73-92A4-80C23484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48CEA-B644-4EE8-977C-4598282C8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0D26D-58A0-4923-BDFE-080EA1E0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94D5E-FB07-4889-A533-8F28901E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5F35F-BB77-4A80-ABF5-285895A4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FE62B-88EE-43B2-B7D7-4F8149C8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5ED8C-7A51-4F0F-9793-AF000C4D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7DFDE-EB65-424C-BE32-3BEEB129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4186-1FE8-4A0E-A068-C388B718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D9A3C-D701-476F-AF70-6F565282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5FE0D-CCCE-4BE9-9C7E-5634038B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30660-5991-4C43-BE98-94952B6E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AE9AE-B530-4F34-8CA8-46FB37AE2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ACAED-FA69-49B0-9B1D-F4138532C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0327C-3EC6-4037-B22C-B7DA0A5C1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65F94-081D-4145-9D6D-6DCF4BFD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4000B-2E97-431E-A7A6-03D21578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3F3D5-C8B5-43BB-B22C-6E99AAA8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1A665-15C2-414A-B69E-D301D8DA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0E42-E9E5-4D4A-8A8E-D92880A0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D4C86-86D5-4EC1-A283-4D0C773D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3335A-CAF0-46C5-AEF4-C6DDEA4D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8979A-5110-4217-8670-313CA99E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831E5-4E97-4145-8899-E3AE575C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BFAB9-938A-40E2-A70F-1D267A4A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AE60E-95F3-460E-B99F-97BF39B12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D7CE3-BC09-47AD-9D9C-935944A09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0D087-12A5-45F3-81B9-BD2A91B27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9F882-F603-4ECC-B6E4-78E7C069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3051B-1F14-4986-9FC5-84693AF3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Nexa Bold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Click to edit the outline text format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Second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Third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Fourth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Fifth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Sixth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Seventh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5f5f5"/>
                </a:solidFill>
                <a:latin typeface="Nexa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5f5f5"/>
                </a:solidFill>
                <a:latin typeface="Nexa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5f5f5"/>
                </a:solidFill>
                <a:latin typeface="Nexa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D440-AA73-40E5-A928-DACD3C9D3DC7}" type="slidenum">
              <a:rPr b="0" lang="zh-CN" sz="1200" spc="-1" strike="noStrike">
                <a:solidFill>
                  <a:srgbClr val="f5f5f5"/>
                </a:solidFill>
                <a:latin typeface="Nexa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Nexa Bold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Click to edit the outline text format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Second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Third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Fourth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Fifth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Sixth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Seventh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5f5f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5f5f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5f5f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522B-DAB3-44E4-99F3-4F55DAE24EE4}" type="slidenum">
              <a:rPr b="0" lang="zh-CN" sz="1200" spc="-1" strike="noStrike">
                <a:solidFill>
                  <a:srgbClr val="f5f5f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Nexa Bold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Click to edit the outline text format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Second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Third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Fourth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Fifth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Sixth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Seventh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5f5f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5f5f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5f5f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F8DE-755D-42BA-98C4-ECF83BFCE423}" type="slidenum">
              <a:rPr b="0" lang="zh-CN" sz="1200" spc="-1" strike="noStrike">
                <a:solidFill>
                  <a:srgbClr val="f5f5f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Nexa Bold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Click to edit the outline text format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Second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Third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Fourth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Fifth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Sixth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Seventh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5f5f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5f5f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5f5f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3A66-D62B-44B5-8E05-9A064B058685}" type="slidenum">
              <a:rPr b="0" lang="zh-CN" sz="1200" spc="-1" strike="noStrike">
                <a:solidFill>
                  <a:srgbClr val="f5f5f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Nexa Bold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Click to edit the outline text format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Second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Third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Fourth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Fifth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Sixth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Seventh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5f5f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5f5f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5f5f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5733-8DE6-4572-B847-60EEE5CDDCD5}" type="slidenum">
              <a:rPr b="0" lang="zh-CN" sz="1200" spc="-1" strike="noStrike">
                <a:solidFill>
                  <a:srgbClr val="f5f5f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Nexa Bold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Click to edit the outline text format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Second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Third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Fourth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Fifth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Sixth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Seventh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5f5f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5f5f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5f5f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B3DF-7630-40A9-917A-490C26CAC026}" type="slidenum">
              <a:rPr b="0" lang="zh-CN" sz="1200" spc="-1" strike="noStrike">
                <a:solidFill>
                  <a:srgbClr val="f5f5f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Nexa Bold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Click to edit the outline text format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Second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Third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Fourth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Fifth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Sixth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Seventh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5f5f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5f5f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5f5f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A1DF-9105-43F2-9F2B-0B22F8EB1BA5}" type="slidenum">
              <a:rPr b="0" lang="zh-CN" sz="1200" spc="-1" strike="noStrike">
                <a:solidFill>
                  <a:srgbClr val="f5f5f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Nexa Bold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Click to edit the outline text format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Second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Third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Fourth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Fifth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Sixth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Seventh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5f5f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5f5f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5f5f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EFE1-8928-4F32-8A63-4A5474DFEFED}" type="slidenum">
              <a:rPr b="0" lang="zh-CN" sz="1200" spc="-1" strike="noStrike">
                <a:solidFill>
                  <a:srgbClr val="f5f5f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Nexa Bold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Click to edit the outline text format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Second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Third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Fourth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Fifth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Sixth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Seventh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5f5f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5f5f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5f5f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6D84-91D5-44D3-88F3-14B6C6C9CF17}" type="slidenum">
              <a:rPr b="0" lang="zh-CN" sz="1200" spc="-1" strike="noStrike">
                <a:solidFill>
                  <a:srgbClr val="f5f5f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Nexa Bold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Click to edit the outline text format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Second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Third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Fourth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Fifth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Sixth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Seventh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5f5f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5f5f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5f5f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C2C4-FC27-457A-8DC8-E943EDF9BCA7}" type="slidenum">
              <a:rPr b="0" lang="zh-CN" sz="1200" spc="-1" strike="noStrike">
                <a:solidFill>
                  <a:srgbClr val="f5f5f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Nexa Bold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Click to edit the outline text format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Second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Third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Fourth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Fifth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Sixth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Seventh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5f5f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5f5f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5f5f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68E5-914C-4D2A-B50B-09797665FA54}" type="slidenum">
              <a:rPr b="0" lang="zh-CN" sz="1200" spc="-1" strike="noStrike">
                <a:solidFill>
                  <a:srgbClr val="f5f5f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Nexa Bold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Nexa 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Click to edit the outline text format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Second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Third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Fourth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Fifth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Sixth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Nexa Light"/>
              </a:rPr>
              <a:t>Seventh Outline Level</a:t>
            </a:r>
            <a:endParaRPr b="0" lang="en-US" sz="2800" spc="-1" strike="noStrike">
              <a:solidFill>
                <a:srgbClr val="f2f2f2"/>
              </a:solidFill>
              <a:latin typeface="Nexa Ligh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5f5f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5f5f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5f5f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26FC-AE13-4CFB-815B-279DCBF04EF0}" type="slidenum">
              <a:rPr b="0" lang="zh-CN" sz="1200" spc="-1" strike="noStrike">
                <a:solidFill>
                  <a:srgbClr val="f5f5f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组合 40"/>
          <p:cNvGrpSpPr/>
          <p:nvPr/>
        </p:nvGrpSpPr>
        <p:grpSpPr>
          <a:xfrm>
            <a:off x="42840" y="3651120"/>
            <a:ext cx="5424480" cy="930240"/>
            <a:chOff x="42840" y="3651120"/>
            <a:chExt cx="5424480" cy="930240"/>
          </a:xfrm>
        </p:grpSpPr>
        <p:sp>
          <p:nvSpPr>
            <p:cNvPr id="493" name="矩形 35"/>
            <p:cNvSpPr/>
            <p:nvPr/>
          </p:nvSpPr>
          <p:spPr>
            <a:xfrm>
              <a:off x="42840" y="3651120"/>
              <a:ext cx="5424480" cy="215640"/>
            </a:xfrm>
            <a:prstGeom prst="rect">
              <a:avLst/>
            </a:prstGeom>
            <a:solidFill>
              <a:srgbClr val="f7c1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2f2f2"/>
                </a:solidFill>
                <a:latin typeface="Arial"/>
              </a:endParaRPr>
            </a:p>
          </p:txBody>
        </p:sp>
        <p:sp>
          <p:nvSpPr>
            <p:cNvPr id="494" name="矩形 36"/>
            <p:cNvSpPr/>
            <p:nvPr/>
          </p:nvSpPr>
          <p:spPr>
            <a:xfrm>
              <a:off x="42840" y="3889080"/>
              <a:ext cx="5424480" cy="215640"/>
            </a:xfrm>
            <a:prstGeom prst="rect">
              <a:avLst/>
            </a:prstGeom>
            <a:solidFill>
              <a:srgbClr val="d17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2f2f2"/>
                </a:solidFill>
                <a:latin typeface="Arial"/>
              </a:endParaRPr>
            </a:p>
          </p:txBody>
        </p:sp>
        <p:sp>
          <p:nvSpPr>
            <p:cNvPr id="495" name="矩形 37"/>
            <p:cNvSpPr/>
            <p:nvPr/>
          </p:nvSpPr>
          <p:spPr>
            <a:xfrm>
              <a:off x="42840" y="4127400"/>
              <a:ext cx="5424480" cy="215640"/>
            </a:xfrm>
            <a:prstGeom prst="rect">
              <a:avLst/>
            </a:prstGeom>
            <a:solidFill>
              <a:srgbClr val="8f6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2f2f2"/>
                </a:solidFill>
                <a:latin typeface="Arial"/>
              </a:endParaRPr>
            </a:p>
          </p:txBody>
        </p:sp>
        <p:sp>
          <p:nvSpPr>
            <p:cNvPr id="496" name="矩形 38"/>
            <p:cNvSpPr/>
            <p:nvPr/>
          </p:nvSpPr>
          <p:spPr>
            <a:xfrm>
              <a:off x="42840" y="4365720"/>
              <a:ext cx="5424480" cy="215640"/>
            </a:xfrm>
            <a:prstGeom prst="rect">
              <a:avLst/>
            </a:prstGeom>
            <a:solidFill>
              <a:srgbClr val="5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2f2f2"/>
                </a:solidFill>
                <a:latin typeface="Arial"/>
              </a:endParaRPr>
            </a:p>
          </p:txBody>
        </p:sp>
      </p:grpSp>
      <p:sp>
        <p:nvSpPr>
          <p:cNvPr id="497" name="文本框 43"/>
          <p:cNvSpPr/>
          <p:nvPr/>
        </p:nvSpPr>
        <p:spPr>
          <a:xfrm>
            <a:off x="-324000" y="1052640"/>
            <a:ext cx="634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a9e"/>
                </a:solidFill>
                <a:latin typeface="Nexa Light"/>
              </a:rPr>
              <a:t>Unit 11   How was your school trip?</a:t>
            </a:r>
            <a:endParaRPr b="0" lang="en-US" sz="3600" spc="-1" strike="noStrike">
              <a:solidFill>
                <a:srgbClr val="f2f2f2"/>
              </a:solidFill>
              <a:latin typeface="Arial"/>
            </a:endParaRPr>
          </a:p>
        </p:txBody>
      </p:sp>
      <p:grpSp>
        <p:nvGrpSpPr>
          <p:cNvPr id="498" name="组合 44"/>
          <p:cNvGrpSpPr/>
          <p:nvPr/>
        </p:nvGrpSpPr>
        <p:grpSpPr>
          <a:xfrm>
            <a:off x="5673600" y="30240"/>
            <a:ext cx="914400" cy="6775200"/>
            <a:chOff x="5673600" y="30240"/>
            <a:chExt cx="914400" cy="6775200"/>
          </a:xfrm>
        </p:grpSpPr>
        <p:sp>
          <p:nvSpPr>
            <p:cNvPr id="499" name="矩形 45"/>
            <p:cNvSpPr/>
            <p:nvPr/>
          </p:nvSpPr>
          <p:spPr>
            <a:xfrm rot="16200000">
              <a:off x="2392200" y="3311280"/>
              <a:ext cx="6775200" cy="212760"/>
            </a:xfrm>
            <a:prstGeom prst="rect">
              <a:avLst/>
            </a:prstGeom>
            <a:solidFill>
              <a:srgbClr val="f7c1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2f2f2"/>
                </a:solidFill>
                <a:latin typeface="Arial"/>
              </a:endParaRPr>
            </a:p>
          </p:txBody>
        </p:sp>
        <p:sp>
          <p:nvSpPr>
            <p:cNvPr id="500" name="矩形 46"/>
            <p:cNvSpPr/>
            <p:nvPr/>
          </p:nvSpPr>
          <p:spPr>
            <a:xfrm rot="16200000">
              <a:off x="2625480" y="3311280"/>
              <a:ext cx="6775200" cy="212760"/>
            </a:xfrm>
            <a:prstGeom prst="rect">
              <a:avLst/>
            </a:prstGeom>
            <a:solidFill>
              <a:srgbClr val="d17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2f2f2"/>
                </a:solidFill>
                <a:latin typeface="Arial"/>
              </a:endParaRPr>
            </a:p>
          </p:txBody>
        </p:sp>
        <p:sp>
          <p:nvSpPr>
            <p:cNvPr id="501" name="矩形 47"/>
            <p:cNvSpPr/>
            <p:nvPr/>
          </p:nvSpPr>
          <p:spPr>
            <a:xfrm rot="16200000">
              <a:off x="2860560" y="3311280"/>
              <a:ext cx="6775200" cy="212760"/>
            </a:xfrm>
            <a:prstGeom prst="rect">
              <a:avLst/>
            </a:prstGeom>
            <a:solidFill>
              <a:srgbClr val="8f6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2f2f2"/>
                </a:solidFill>
                <a:latin typeface="Arial"/>
              </a:endParaRPr>
            </a:p>
          </p:txBody>
        </p:sp>
        <p:sp>
          <p:nvSpPr>
            <p:cNvPr id="502" name="矩形 48"/>
            <p:cNvSpPr/>
            <p:nvPr/>
          </p:nvSpPr>
          <p:spPr>
            <a:xfrm rot="16200000">
              <a:off x="3093840" y="3311280"/>
              <a:ext cx="6775200" cy="212760"/>
            </a:xfrm>
            <a:prstGeom prst="rect">
              <a:avLst/>
            </a:prstGeom>
            <a:solidFill>
              <a:srgbClr val="5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2f2f2"/>
                </a:solidFill>
                <a:latin typeface="Arial"/>
              </a:endParaRPr>
            </a:p>
          </p:txBody>
        </p:sp>
      </p:grpSp>
      <p:sp>
        <p:nvSpPr>
          <p:cNvPr id="503" name="AutoShape 8"/>
          <p:cNvSpPr/>
          <p:nvPr/>
        </p:nvSpPr>
        <p:spPr>
          <a:xfrm>
            <a:off x="115920" y="-14436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504" name="AutoShape 10"/>
          <p:cNvSpPr/>
          <p:nvPr/>
        </p:nvSpPr>
        <p:spPr>
          <a:xfrm>
            <a:off x="115920" y="-14436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505" name="AutoShape 12"/>
          <p:cNvSpPr/>
          <p:nvPr/>
        </p:nvSpPr>
        <p:spPr>
          <a:xfrm>
            <a:off x="115920" y="-14436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506" name="AutoShape 14"/>
          <p:cNvSpPr/>
          <p:nvPr/>
        </p:nvSpPr>
        <p:spPr>
          <a:xfrm>
            <a:off x="115920" y="-14436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507" name="AutoShape 16"/>
          <p:cNvSpPr/>
          <p:nvPr/>
        </p:nvSpPr>
        <p:spPr>
          <a:xfrm>
            <a:off x="115920" y="-14436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5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25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5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5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Box 4"/>
          <p:cNvSpPr/>
          <p:nvPr/>
        </p:nvSpPr>
        <p:spPr>
          <a:xfrm>
            <a:off x="468360" y="126828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We won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t forget the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excellent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time we spent on our uncle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s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farm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.We learned a lot about</a:t>
            </a:r>
            <a:r>
              <a:rPr b="1" lang="en-US" sz="3200" spc="-1" strike="noStrike" baseline="30000">
                <a:solidFill>
                  <a:srgbClr val="232226"/>
                </a:solidFill>
                <a:latin typeface="Arial"/>
              </a:rPr>
              <a:t>②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farming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and wanted to visit it again soon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Box 4"/>
          <p:cNvSpPr/>
          <p:nvPr/>
        </p:nvSpPr>
        <p:spPr>
          <a:xfrm>
            <a:off x="468360" y="928800"/>
            <a:ext cx="8280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Last month I went to get some money out of the bank.The bank clerk gave me a beautiful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new </a:t>
            </a:r>
            <a:r>
              <a:rPr b="0" lang="en-US" sz="3200" spc="-1" strike="noStrike" u="sng">
                <a:solidFill>
                  <a:srgbClr val="232226"/>
                </a:solidFill>
                <a:uFillTx/>
                <a:latin typeface="Arial"/>
              </a:rPr>
              <a:t>  1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as a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gift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When I arrived home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I thought to myself that I didn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t </a:t>
            </a:r>
            <a:r>
              <a:rPr b="0" lang="en-US" sz="3200" spc="-1" strike="noStrike" u="sng">
                <a:solidFill>
                  <a:srgbClr val="232226"/>
                </a:solidFill>
                <a:uFillTx/>
                <a:latin typeface="Arial"/>
              </a:rPr>
              <a:t>  2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the watch.I was already wearing one! I thought that there were people who </a:t>
            </a:r>
            <a:r>
              <a:rPr b="0" lang="en-US" sz="3200" spc="-1" strike="noStrike" u="sng">
                <a:solidFill>
                  <a:srgbClr val="232226"/>
                </a:solidFill>
                <a:uFillTx/>
                <a:latin typeface="Arial"/>
              </a:rPr>
              <a:t>  3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wore a watch and needed that watch more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Box 4"/>
          <p:cNvSpPr/>
          <p:nvPr/>
        </p:nvSpPr>
        <p:spPr>
          <a:xfrm>
            <a:off x="468360" y="1268280"/>
            <a:ext cx="82803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My sister came around and I </a:t>
            </a:r>
            <a:r>
              <a:rPr b="0" lang="en-US" sz="3200" spc="-1" strike="noStrike" u="sng">
                <a:solidFill>
                  <a:srgbClr val="232226"/>
                </a:solidFill>
                <a:uFillTx/>
                <a:latin typeface="Arial"/>
              </a:rPr>
              <a:t>  4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her the watch.I asked her to give </a:t>
            </a:r>
            <a:r>
              <a:rPr b="0" lang="en-US" sz="3200" spc="-1" strike="noStrike" u="sng">
                <a:solidFill>
                  <a:srgbClr val="232226"/>
                </a:solidFill>
                <a:uFillTx/>
                <a:latin typeface="Arial"/>
              </a:rPr>
              <a:t>  5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to any of the boys who went around begging(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乞讨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).My sister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s hotel was very </a:t>
            </a:r>
            <a:r>
              <a:rPr b="0" lang="en-US" sz="3200" spc="-1" strike="noStrike" u="sng">
                <a:solidFill>
                  <a:srgbClr val="232226"/>
                </a:solidFill>
                <a:uFillTx/>
                <a:latin typeface="Arial"/>
              </a:rPr>
              <a:t>  6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to where they usually stayed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After a few days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one boy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about 14 years old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Box 4"/>
          <p:cNvSpPr/>
          <p:nvPr/>
        </p:nvSpPr>
        <p:spPr>
          <a:xfrm>
            <a:off x="468360" y="126828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came into my sister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s </a:t>
            </a:r>
            <a:r>
              <a:rPr b="0" lang="en-US" sz="3200" spc="-1" strike="noStrike" u="sng">
                <a:solidFill>
                  <a:srgbClr val="232226"/>
                </a:solidFill>
                <a:uFillTx/>
                <a:latin typeface="Arial"/>
              </a:rPr>
              <a:t>  7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with his blind(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盲的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) mother to beg.My sister then walked up to him and asked him if he had </a:t>
            </a:r>
            <a:r>
              <a:rPr b="0" lang="en-US" sz="3200" spc="-1" strike="noStrike" u="sng">
                <a:solidFill>
                  <a:srgbClr val="232226"/>
                </a:solidFill>
                <a:uFillTx/>
                <a:latin typeface="Arial"/>
              </a:rPr>
              <a:t>  8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watch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He said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“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No.” And my sister gave the watch to him.The boy </a:t>
            </a:r>
            <a:r>
              <a:rPr b="0" lang="en-US" sz="3200" spc="-1" strike="noStrike" u="sng">
                <a:solidFill>
                  <a:srgbClr val="232226"/>
                </a:solidFill>
                <a:uFillTx/>
                <a:latin typeface="Arial"/>
              </a:rPr>
              <a:t>  9 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“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Thank you! Thank you!” He was so happy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4"/>
          <p:cNvSpPr/>
          <p:nvPr/>
        </p:nvSpPr>
        <p:spPr>
          <a:xfrm>
            <a:off x="468360" y="126828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He </a:t>
            </a:r>
            <a:r>
              <a:rPr b="0" lang="en-US" sz="3200" spc="-1" strike="noStrike" u="sng">
                <a:solidFill>
                  <a:srgbClr val="232226"/>
                </a:solidFill>
                <a:uFillTx/>
                <a:latin typeface="Arial"/>
              </a:rPr>
              <a:t>  10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his mother about the watch and she was happy too.The boy put on the watch quickly! He loved it very much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Never stop loving when you know you can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Box 4"/>
          <p:cNvSpPr/>
          <p:nvPr/>
        </p:nvSpPr>
        <p:spPr>
          <a:xfrm>
            <a:off x="468360" y="126828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(   )1.A.computer   B.wallet   C.bike   D.watch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(   )2.A.like   B.get   C.need   D.send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(   )3.A.never   B.always   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C.usually   D.sometimes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(   )4.A.sold   B.gave   C.called   D.thanked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(   )5.A.one   B.those   C.it   D.them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678" name="TextBox 5"/>
          <p:cNvSpPr/>
          <p:nvPr/>
        </p:nvSpPr>
        <p:spPr>
          <a:xfrm>
            <a:off x="611280" y="142092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679" name="TextBox 5"/>
          <p:cNvSpPr/>
          <p:nvPr/>
        </p:nvSpPr>
        <p:spPr>
          <a:xfrm>
            <a:off x="611280" y="219564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680" name="TextBox 5"/>
          <p:cNvSpPr/>
          <p:nvPr/>
        </p:nvSpPr>
        <p:spPr>
          <a:xfrm>
            <a:off x="611280" y="29242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681" name="TextBox 6"/>
          <p:cNvSpPr/>
          <p:nvPr/>
        </p:nvSpPr>
        <p:spPr>
          <a:xfrm>
            <a:off x="611280" y="4356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682" name="TextBox 8"/>
          <p:cNvSpPr/>
          <p:nvPr/>
        </p:nvSpPr>
        <p:spPr>
          <a:xfrm>
            <a:off x="642960" y="51436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Box 4"/>
          <p:cNvSpPr/>
          <p:nvPr/>
        </p:nvSpPr>
        <p:spPr>
          <a:xfrm>
            <a:off x="468360" y="126828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(   )6.A.funny   B.close   C.far   D.boring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(   )7.A.hotel   B.shop   C.restaurant   D.bank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(   )8.A.a   B.an   C.the   D./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(   )9.A.ran   B.shouted   C.agreed   D.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heard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(   )10.A.asked   B.believed   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C.told   D.followed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684" name="TextBox 5"/>
          <p:cNvSpPr/>
          <p:nvPr/>
        </p:nvSpPr>
        <p:spPr>
          <a:xfrm>
            <a:off x="611280" y="142092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685" name="TextBox 5"/>
          <p:cNvSpPr/>
          <p:nvPr/>
        </p:nvSpPr>
        <p:spPr>
          <a:xfrm>
            <a:off x="611280" y="219564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686" name="TextBox 5"/>
          <p:cNvSpPr/>
          <p:nvPr/>
        </p:nvSpPr>
        <p:spPr>
          <a:xfrm>
            <a:off x="611280" y="29242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687" name="TextBox 5"/>
          <p:cNvSpPr/>
          <p:nvPr/>
        </p:nvSpPr>
        <p:spPr>
          <a:xfrm>
            <a:off x="611280" y="3645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688" name="TextBox 6"/>
          <p:cNvSpPr/>
          <p:nvPr/>
        </p:nvSpPr>
        <p:spPr>
          <a:xfrm>
            <a:off x="611280" y="4356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Box 4"/>
          <p:cNvSpPr/>
          <p:nvPr/>
        </p:nvSpPr>
        <p:spPr>
          <a:xfrm>
            <a:off x="468360" y="12682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32226"/>
                </a:solidFill>
                <a:latin typeface="Arial"/>
              </a:rPr>
              <a:t>二、汉字书写的重要性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468360" y="2149560"/>
          <a:ext cx="7746840" cy="3136680"/>
        </p:xfrm>
        <a:graphic>
          <a:graphicData uri="http://schemas.openxmlformats.org/drawingml/2006/table">
            <a:tbl>
              <a:tblPr/>
              <a:tblGrid>
                <a:gridCol w="1290600"/>
                <a:gridCol w="1290600"/>
                <a:gridCol w="1290600"/>
                <a:gridCol w="1292400"/>
                <a:gridCol w="1290600"/>
                <a:gridCol w="1292040"/>
              </a:tblGrid>
              <a:tr h="1568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题型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体裁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词数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难度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建议完成时间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正确率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8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短文填空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议论文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185 words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libri"/>
                          <a:ea typeface="宋体"/>
                        </a:rPr>
                        <a:t>★★★☆☆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Cambria"/>
                        </a:rPr>
                        <a:t>7 min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Cambria"/>
                        </a:rPr>
                        <a:t>____/10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TextBox 4"/>
          <p:cNvSpPr/>
          <p:nvPr/>
        </p:nvSpPr>
        <p:spPr>
          <a:xfrm>
            <a:off x="285840" y="1268280"/>
            <a:ext cx="8675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With the development(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发展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)of science and technology(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技术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people often type (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打字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)the text through the smart phone and they can 1._____ down whatever they want with computer.It seems that typing the information is so 2._____and convenient(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便利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Box 4"/>
          <p:cNvSpPr/>
          <p:nvPr/>
        </p:nvSpPr>
        <p:spPr>
          <a:xfrm>
            <a:off x="468360" y="1268280"/>
            <a:ext cx="82803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so most young people don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t pay attention to write the words by 3._____.When they learn to write the Chinese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their hand-writing is really 4._____.Sometimes bad handwriting will cause (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导致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)some 5._____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Chen Dong is a manager (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经理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)of a 6._____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Box 4"/>
          <p:cNvSpPr/>
          <p:nvPr/>
        </p:nvSpPr>
        <p:spPr>
          <a:xfrm>
            <a:off x="468360" y="126828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His handwriting is very bad.One day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he wrote his 7._____on a file (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文件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)and handed it to a manager from another factory.Then he left and went 8._____home.When he just got home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the manager gave him 9._____ call and told him that their business was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Box 4"/>
          <p:cNvSpPr/>
          <p:nvPr/>
        </p:nvSpPr>
        <p:spPr>
          <a:xfrm>
            <a:off x="285840" y="1268280"/>
            <a:ext cx="9104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(   )1.A.very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  B.too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  C.far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  D.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quite 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(   )2.A.talked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  B.played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  C.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fed 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  D.killed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(   )3.A.it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  B.them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  C.us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  D.him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(   )4.A.too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  B.also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  C.either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  D.only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(   )5.A.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picked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  B.enjoyed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C.planted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  D.cut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520" name="TextBox 5"/>
          <p:cNvSpPr/>
          <p:nvPr/>
        </p:nvSpPr>
        <p:spPr>
          <a:xfrm>
            <a:off x="428760" y="142092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521" name="TextBox 5"/>
          <p:cNvSpPr/>
          <p:nvPr/>
        </p:nvSpPr>
        <p:spPr>
          <a:xfrm>
            <a:off x="428760" y="219564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522" name="TextBox 5"/>
          <p:cNvSpPr/>
          <p:nvPr/>
        </p:nvSpPr>
        <p:spPr>
          <a:xfrm>
            <a:off x="428760" y="29242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523" name="TextBox 5"/>
          <p:cNvSpPr/>
          <p:nvPr/>
        </p:nvSpPr>
        <p:spPr>
          <a:xfrm>
            <a:off x="428760" y="3645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524" name="TextBox 6"/>
          <p:cNvSpPr/>
          <p:nvPr/>
        </p:nvSpPr>
        <p:spPr>
          <a:xfrm>
            <a:off x="428760" y="4356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TextBox 4"/>
          <p:cNvSpPr/>
          <p:nvPr/>
        </p:nvSpPr>
        <p:spPr>
          <a:xfrm>
            <a:off x="468360" y="1268280"/>
            <a:ext cx="8280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canceled (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取消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)10._____ they didn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t see his name clearly.They were afraid that they were cheated (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骗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)by him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So bad handwriting is not good.We had better learn to have a good handwriting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Box 4"/>
          <p:cNvSpPr/>
          <p:nvPr/>
        </p:nvSpPr>
        <p:spPr>
          <a:xfrm>
            <a:off x="468360" y="1268280"/>
            <a:ext cx="8280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1._________                2._________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3._________                4._________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5._________                6._________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7._________                8._________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9._________                10._________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696" name="TextBox 5"/>
          <p:cNvSpPr/>
          <p:nvPr/>
        </p:nvSpPr>
        <p:spPr>
          <a:xfrm>
            <a:off x="1042920" y="1413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rite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697" name="TextBox 5"/>
          <p:cNvSpPr/>
          <p:nvPr/>
        </p:nvSpPr>
        <p:spPr>
          <a:xfrm>
            <a:off x="5143680" y="1413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ast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698" name="TextBox 5"/>
          <p:cNvSpPr/>
          <p:nvPr/>
        </p:nvSpPr>
        <p:spPr>
          <a:xfrm>
            <a:off x="1071720" y="21430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and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699" name="TextBox 5"/>
          <p:cNvSpPr/>
          <p:nvPr/>
        </p:nvSpPr>
        <p:spPr>
          <a:xfrm>
            <a:off x="5172120" y="21430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ad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700" name="TextBox 5"/>
          <p:cNvSpPr/>
          <p:nvPr/>
        </p:nvSpPr>
        <p:spPr>
          <a:xfrm>
            <a:off x="1071720" y="2916360"/>
            <a:ext cx="321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blems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701" name="TextBox 8"/>
          <p:cNvSpPr/>
          <p:nvPr/>
        </p:nvSpPr>
        <p:spPr>
          <a:xfrm>
            <a:off x="5172120" y="29163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actory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702" name="TextBox 5"/>
          <p:cNvSpPr/>
          <p:nvPr/>
        </p:nvSpPr>
        <p:spPr>
          <a:xfrm>
            <a:off x="1143000" y="357192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703" name="TextBox 10"/>
          <p:cNvSpPr/>
          <p:nvPr/>
        </p:nvSpPr>
        <p:spPr>
          <a:xfrm>
            <a:off x="5214960" y="3630600"/>
            <a:ext cx="32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ack 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704" name="TextBox 5"/>
          <p:cNvSpPr/>
          <p:nvPr/>
        </p:nvSpPr>
        <p:spPr>
          <a:xfrm>
            <a:off x="1143000" y="434484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705" name="TextBox 12"/>
          <p:cNvSpPr/>
          <p:nvPr/>
        </p:nvSpPr>
        <p:spPr>
          <a:xfrm>
            <a:off x="5243400" y="4344840"/>
            <a:ext cx="24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ecause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6" name="组合 20"/>
          <p:cNvGrpSpPr/>
          <p:nvPr/>
        </p:nvGrpSpPr>
        <p:grpSpPr>
          <a:xfrm>
            <a:off x="0" y="0"/>
            <a:ext cx="4349880" cy="6858000"/>
            <a:chOff x="0" y="0"/>
            <a:chExt cx="4349880" cy="6858000"/>
          </a:xfrm>
        </p:grpSpPr>
        <p:pic>
          <p:nvPicPr>
            <p:cNvPr id="707" name="图片 21" descr=""/>
            <p:cNvPicPr/>
            <p:nvPr/>
          </p:nvPicPr>
          <p:blipFill>
            <a:blip r:embed="rId1"/>
            <a:srcRect l="9668" t="0" r="32761" b="0"/>
            <a:stretch/>
          </p:blipFill>
          <p:spPr>
            <a:xfrm>
              <a:off x="0" y="0"/>
              <a:ext cx="4344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矩形 22"/>
            <p:cNvSpPr/>
            <p:nvPr/>
          </p:nvSpPr>
          <p:spPr>
            <a:xfrm>
              <a:off x="0" y="0"/>
              <a:ext cx="4349880" cy="6858000"/>
            </a:xfrm>
            <a:prstGeom prst="rect">
              <a:avLst/>
            </a:prstGeom>
            <a:solidFill>
              <a:srgbClr val="232226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2f2f2"/>
                </a:solidFill>
                <a:latin typeface="Arial"/>
              </a:endParaRPr>
            </a:p>
          </p:txBody>
        </p:sp>
      </p:grpSp>
      <p:sp>
        <p:nvSpPr>
          <p:cNvPr id="709" name="文本框 4"/>
          <p:cNvSpPr/>
          <p:nvPr/>
        </p:nvSpPr>
        <p:spPr>
          <a:xfrm>
            <a:off x="5592600" y="1357200"/>
            <a:ext cx="15512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600" spc="-1" strike="noStrike">
                <a:solidFill>
                  <a:srgbClr val="797979"/>
                </a:solidFill>
                <a:latin typeface="微软雅黑"/>
                <a:ea typeface="微软雅黑"/>
              </a:rPr>
              <a:t>谢</a:t>
            </a:r>
            <a:endParaRPr b="0" lang="en-US" sz="66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600" spc="-1" strike="noStrike">
                <a:solidFill>
                  <a:srgbClr val="797979"/>
                </a:solidFill>
                <a:latin typeface="微软雅黑"/>
                <a:ea typeface="微软雅黑"/>
              </a:rPr>
              <a:t>谢</a:t>
            </a:r>
            <a:endParaRPr b="0" lang="en-US" sz="66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600" spc="-1" strike="noStrike">
                <a:solidFill>
                  <a:srgbClr val="797979"/>
                </a:solidFill>
                <a:latin typeface="微软雅黑"/>
                <a:ea typeface="微软雅黑"/>
              </a:rPr>
              <a:t>观</a:t>
            </a:r>
            <a:endParaRPr b="0" lang="en-US" sz="66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600" spc="-1" strike="noStrike">
                <a:solidFill>
                  <a:srgbClr val="797979"/>
                </a:solidFill>
                <a:latin typeface="微软雅黑"/>
                <a:ea typeface="微软雅黑"/>
              </a:rPr>
              <a:t>看</a:t>
            </a:r>
            <a:endParaRPr b="0" lang="en-US" sz="66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600" spc="-1" strike="noStrike">
                <a:solidFill>
                  <a:srgbClr val="797979"/>
                </a:solidFill>
                <a:latin typeface="微软雅黑"/>
                <a:ea typeface="微软雅黑"/>
              </a:rPr>
              <a:t>！</a:t>
            </a:r>
            <a:endParaRPr b="0" lang="en-US" sz="6600" spc="-1" strike="noStrike">
              <a:solidFill>
                <a:srgbClr val="f2f2f2"/>
              </a:solidFill>
              <a:latin typeface="Arial"/>
            </a:endParaRPr>
          </a:p>
        </p:txBody>
      </p:sp>
      <p:grpSp>
        <p:nvGrpSpPr>
          <p:cNvPr id="710" name="组合 40"/>
          <p:cNvGrpSpPr/>
          <p:nvPr/>
        </p:nvGrpSpPr>
        <p:grpSpPr>
          <a:xfrm>
            <a:off x="7143840" y="638280"/>
            <a:ext cx="1990800" cy="715680"/>
            <a:chOff x="7143840" y="638280"/>
            <a:chExt cx="1990800" cy="715680"/>
          </a:xfrm>
        </p:grpSpPr>
        <p:sp>
          <p:nvSpPr>
            <p:cNvPr id="711" name="矩形 35"/>
            <p:cNvSpPr/>
            <p:nvPr/>
          </p:nvSpPr>
          <p:spPr>
            <a:xfrm>
              <a:off x="7143840" y="638280"/>
              <a:ext cx="1990800" cy="166680"/>
            </a:xfrm>
            <a:prstGeom prst="rect">
              <a:avLst/>
            </a:prstGeom>
            <a:solidFill>
              <a:srgbClr val="f7c1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2f2f2"/>
                </a:solidFill>
                <a:latin typeface="Arial"/>
              </a:endParaRPr>
            </a:p>
          </p:txBody>
        </p:sp>
        <p:sp>
          <p:nvSpPr>
            <p:cNvPr id="712" name="矩形 36"/>
            <p:cNvSpPr/>
            <p:nvPr/>
          </p:nvSpPr>
          <p:spPr>
            <a:xfrm>
              <a:off x="7143840" y="820800"/>
              <a:ext cx="1990800" cy="166680"/>
            </a:xfrm>
            <a:prstGeom prst="rect">
              <a:avLst/>
            </a:prstGeom>
            <a:solidFill>
              <a:srgbClr val="d17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2f2f2"/>
                </a:solidFill>
                <a:latin typeface="Arial"/>
              </a:endParaRPr>
            </a:p>
          </p:txBody>
        </p:sp>
        <p:sp>
          <p:nvSpPr>
            <p:cNvPr id="713" name="矩形 37"/>
            <p:cNvSpPr/>
            <p:nvPr/>
          </p:nvSpPr>
          <p:spPr>
            <a:xfrm>
              <a:off x="7143840" y="1004760"/>
              <a:ext cx="1990800" cy="166680"/>
            </a:xfrm>
            <a:prstGeom prst="rect">
              <a:avLst/>
            </a:prstGeom>
            <a:solidFill>
              <a:srgbClr val="8f6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2f2f2"/>
                </a:solidFill>
                <a:latin typeface="Arial"/>
              </a:endParaRPr>
            </a:p>
          </p:txBody>
        </p:sp>
        <p:sp>
          <p:nvSpPr>
            <p:cNvPr id="714" name="矩形 38"/>
            <p:cNvSpPr/>
            <p:nvPr/>
          </p:nvSpPr>
          <p:spPr>
            <a:xfrm>
              <a:off x="7143840" y="1187280"/>
              <a:ext cx="1990800" cy="166680"/>
            </a:xfrm>
            <a:prstGeom prst="rect">
              <a:avLst/>
            </a:prstGeom>
            <a:solidFill>
              <a:srgbClr val="5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2f2f2"/>
                </a:solidFill>
                <a:latin typeface="Arial"/>
              </a:endParaRPr>
            </a:p>
          </p:txBody>
        </p:sp>
      </p:grpSp>
      <p:grpSp>
        <p:nvGrpSpPr>
          <p:cNvPr id="715" name="组合 44"/>
          <p:cNvGrpSpPr/>
          <p:nvPr/>
        </p:nvGrpSpPr>
        <p:grpSpPr>
          <a:xfrm>
            <a:off x="4363920" y="28440"/>
            <a:ext cx="700200" cy="6824880"/>
            <a:chOff x="4363920" y="28440"/>
            <a:chExt cx="700200" cy="6824880"/>
          </a:xfrm>
        </p:grpSpPr>
        <p:sp>
          <p:nvSpPr>
            <p:cNvPr id="716" name="矩形 45"/>
            <p:cNvSpPr/>
            <p:nvPr/>
          </p:nvSpPr>
          <p:spPr>
            <a:xfrm rot="16200000">
              <a:off x="1032480" y="3359880"/>
              <a:ext cx="6824880" cy="162000"/>
            </a:xfrm>
            <a:prstGeom prst="rect">
              <a:avLst/>
            </a:prstGeom>
            <a:solidFill>
              <a:srgbClr val="f7c1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2f2f2"/>
                </a:solidFill>
                <a:latin typeface="Arial"/>
              </a:endParaRPr>
            </a:p>
          </p:txBody>
        </p:sp>
        <p:sp>
          <p:nvSpPr>
            <p:cNvPr id="717" name="矩形 46"/>
            <p:cNvSpPr/>
            <p:nvPr/>
          </p:nvSpPr>
          <p:spPr>
            <a:xfrm rot="16200000">
              <a:off x="1211760" y="3359880"/>
              <a:ext cx="6824880" cy="162000"/>
            </a:xfrm>
            <a:prstGeom prst="rect">
              <a:avLst/>
            </a:prstGeom>
            <a:solidFill>
              <a:srgbClr val="d17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2f2f2"/>
                </a:solidFill>
                <a:latin typeface="Arial"/>
              </a:endParaRPr>
            </a:p>
          </p:txBody>
        </p:sp>
        <p:sp>
          <p:nvSpPr>
            <p:cNvPr id="718" name="矩形 47"/>
            <p:cNvSpPr/>
            <p:nvPr/>
          </p:nvSpPr>
          <p:spPr>
            <a:xfrm rot="16200000">
              <a:off x="1391400" y="3359880"/>
              <a:ext cx="6824880" cy="162000"/>
            </a:xfrm>
            <a:prstGeom prst="rect">
              <a:avLst/>
            </a:prstGeom>
            <a:solidFill>
              <a:srgbClr val="8f6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2f2f2"/>
                </a:solidFill>
                <a:latin typeface="Arial"/>
              </a:endParaRPr>
            </a:p>
          </p:txBody>
        </p:sp>
        <p:sp>
          <p:nvSpPr>
            <p:cNvPr id="719" name="矩形 48"/>
            <p:cNvSpPr/>
            <p:nvPr/>
          </p:nvSpPr>
          <p:spPr>
            <a:xfrm rot="16200000">
              <a:off x="1570680" y="3359880"/>
              <a:ext cx="6824880" cy="162000"/>
            </a:xfrm>
            <a:prstGeom prst="rect">
              <a:avLst/>
            </a:prstGeom>
            <a:solidFill>
              <a:srgbClr val="5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2f2f2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9" dur="2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Box 4"/>
          <p:cNvSpPr/>
          <p:nvPr/>
        </p:nvSpPr>
        <p:spPr>
          <a:xfrm>
            <a:off x="357120" y="1268280"/>
            <a:ext cx="96044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(   )6.A.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milk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  B.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cows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C.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farms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  D.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horses 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(   )7.A.sounded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  B.tasted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C.sold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  D.cooked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(   )8.A.work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  B.study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  C.fun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  D.fight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(   )9.A.to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  B.by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  C.in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  D.for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(   )10.A.snow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  B.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sun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  C.cloud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  D.stars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526" name="TextBox 5"/>
          <p:cNvSpPr/>
          <p:nvPr/>
        </p:nvSpPr>
        <p:spPr>
          <a:xfrm>
            <a:off x="500040" y="142092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527" name="TextBox 5"/>
          <p:cNvSpPr/>
          <p:nvPr/>
        </p:nvSpPr>
        <p:spPr>
          <a:xfrm>
            <a:off x="500040" y="29242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528" name="TextBox 6"/>
          <p:cNvSpPr/>
          <p:nvPr/>
        </p:nvSpPr>
        <p:spPr>
          <a:xfrm>
            <a:off x="500040" y="4356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529" name="TextBox 8"/>
          <p:cNvSpPr/>
          <p:nvPr/>
        </p:nvSpPr>
        <p:spPr>
          <a:xfrm>
            <a:off x="500040" y="509436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530" name="TextBox 9"/>
          <p:cNvSpPr/>
          <p:nvPr/>
        </p:nvSpPr>
        <p:spPr>
          <a:xfrm>
            <a:off x="500040" y="584352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1" name=""/>
          <p:cNvGraphicFramePr/>
          <p:nvPr/>
        </p:nvGraphicFramePr>
        <p:xfrm>
          <a:off x="428760" y="1508040"/>
          <a:ext cx="8215200" cy="2992680"/>
        </p:xfrm>
        <a:graphic>
          <a:graphicData uri="http://schemas.openxmlformats.org/drawingml/2006/table">
            <a:tbl>
              <a:tblPr/>
              <a:tblGrid>
                <a:gridCol w="8215200"/>
              </a:tblGrid>
              <a:tr h="2992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32226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Times New Roman"/>
                          <a:ea typeface="Times New Roman"/>
                        </a:rPr>
                        <a:t>难点释疑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①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grow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意为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“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种植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”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，是及物动词。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如：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It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libri"/>
                          <a:ea typeface="MingLiU_HKSCS"/>
                        </a:rPr>
                        <a:t>’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s the best time to grow apples.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这是种苹果的最佳时机。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2" name=""/>
          <p:cNvGraphicFramePr/>
          <p:nvPr/>
        </p:nvGraphicFramePr>
        <p:xfrm>
          <a:off x="428760" y="1508040"/>
          <a:ext cx="8215200" cy="4206960"/>
        </p:xfrm>
        <a:graphic>
          <a:graphicData uri="http://schemas.openxmlformats.org/drawingml/2006/table">
            <a:tbl>
              <a:tblPr/>
              <a:tblGrid>
                <a:gridCol w="8215200"/>
              </a:tblGrid>
              <a:tr h="4206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②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learn about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意为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“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学习关于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……”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。如：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Jack went to the park to learn something about plants.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杰克去公园学了一些有关植物的知识。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4"/>
          <p:cNvSpPr/>
          <p:nvPr/>
        </p:nvSpPr>
        <p:spPr>
          <a:xfrm>
            <a:off x="468360" y="12682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Tuesday </a:t>
            </a:r>
            <a:r>
              <a:rPr b="1" lang="zh-CN" sz="3200" spc="-1" strike="noStrike">
                <a:solidFill>
                  <a:srgbClr val="232226"/>
                </a:solidFill>
                <a:latin typeface="Arial"/>
              </a:rPr>
              <a:t>星期二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(Grammar Focus—3b)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534" name="TextBox 4"/>
          <p:cNvSpPr/>
          <p:nvPr/>
        </p:nvSpPr>
        <p:spPr>
          <a:xfrm>
            <a:off x="468360" y="299736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32226"/>
                </a:solidFill>
                <a:latin typeface="Arial"/>
              </a:rPr>
              <a:t>一、核心词汇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yesterday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flower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worry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luckily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sun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Box 4"/>
          <p:cNvSpPr/>
          <p:nvPr/>
        </p:nvSpPr>
        <p:spPr>
          <a:xfrm>
            <a:off x="468360" y="126828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32226"/>
                </a:solidFill>
                <a:latin typeface="Arial"/>
              </a:rPr>
              <a:t>二、重点短语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come out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出来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Box 4"/>
          <p:cNvSpPr/>
          <p:nvPr/>
        </p:nvSpPr>
        <p:spPr>
          <a:xfrm>
            <a:off x="468360" y="1268280"/>
            <a:ext cx="8280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32226"/>
                </a:solidFill>
                <a:latin typeface="Arial"/>
              </a:rPr>
              <a:t>三、主要语法：一般过去时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(I)——</a:t>
            </a:r>
            <a:r>
              <a:rPr b="1" lang="zh-CN" sz="3200" spc="-1" strike="noStrike">
                <a:solidFill>
                  <a:srgbClr val="232226"/>
                </a:solidFill>
                <a:latin typeface="Arial"/>
              </a:rPr>
              <a:t>用一般过去时询问或描述过去事件及相关感受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★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询问对过去事件的感受：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1.—How was your school trip?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—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It was great.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你的学校旅行怎么样？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很好。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Box 4"/>
          <p:cNvSpPr/>
          <p:nvPr/>
        </p:nvSpPr>
        <p:spPr>
          <a:xfrm>
            <a:off x="468360" y="1268280"/>
            <a:ext cx="8280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2.—Were the strawberries good?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—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Yes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they were.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草莓好吃吗？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是的，好吃。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Box 4"/>
          <p:cNvSpPr/>
          <p:nvPr/>
        </p:nvSpPr>
        <p:spPr>
          <a:xfrm>
            <a:off x="468360" y="1268280"/>
            <a:ext cx="8280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★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谈论过去的事情：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1.—Did you go to the zoo?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—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No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I didn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t.I went to a farm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你去了动物园吗？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不，不是的。我去了一个农场。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Box 4"/>
          <p:cNvSpPr/>
          <p:nvPr/>
        </p:nvSpPr>
        <p:spPr>
          <a:xfrm>
            <a:off x="468360" y="126828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Monday  </a:t>
            </a:r>
            <a:r>
              <a:rPr b="1" lang="zh-CN" sz="3200" spc="-1" strike="noStrike">
                <a:solidFill>
                  <a:srgbClr val="232226"/>
                </a:solidFill>
                <a:latin typeface="Arial"/>
              </a:rPr>
              <a:t>星期一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(Section A 1a—2d)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509" name="TextBox 4"/>
          <p:cNvSpPr/>
          <p:nvPr/>
        </p:nvSpPr>
        <p:spPr>
          <a:xfrm>
            <a:off x="324000" y="2565360"/>
            <a:ext cx="8280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32226"/>
                </a:solidFill>
                <a:latin typeface="Arial"/>
              </a:rPr>
              <a:t>一、核心词汇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milk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cow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horse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feed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farmer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quite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anything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grow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farm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pick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excellent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countryside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Box 4"/>
          <p:cNvSpPr/>
          <p:nvPr/>
        </p:nvSpPr>
        <p:spPr>
          <a:xfrm>
            <a:off x="468360" y="126828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2.—Did you see any cows?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—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Yes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I did.I saw quite a lot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你看到奶牛了吗？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是的。我看到了许多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奶牛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Box 4"/>
          <p:cNvSpPr/>
          <p:nvPr/>
        </p:nvSpPr>
        <p:spPr>
          <a:xfrm>
            <a:off x="468360" y="1268280"/>
            <a:ext cx="8280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3.—Did Carol ride a horse?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—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No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she didn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t.But she milked a cow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卡萝尔骑马了吗？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没有。不过她给奶牛挤奶了。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Box 4"/>
          <p:cNvSpPr/>
          <p:nvPr/>
        </p:nvSpPr>
        <p:spPr>
          <a:xfrm>
            <a:off x="468360" y="1268280"/>
            <a:ext cx="8280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★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表达对过去活动的感受的常用句型：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1.It was so much fun./ We had so much fun.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那真是蛮好玩的。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我们过得蛮开心的。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2.All in all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it was an exciting day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总之，这是令人兴奋的一天。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Box 4"/>
          <p:cNvSpPr/>
          <p:nvPr/>
        </p:nvSpPr>
        <p:spPr>
          <a:xfrm>
            <a:off x="468360" y="126828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3.I think today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s school trip was terrible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我觉得今天的学校旅行糟透了。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4.I didn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t like the trip at all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我一点也不喜欢这次旅行。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Box 4"/>
          <p:cNvSpPr/>
          <p:nvPr/>
        </p:nvSpPr>
        <p:spPr>
          <a:xfrm>
            <a:off x="468360" y="12682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32226"/>
                </a:solidFill>
                <a:latin typeface="Arial"/>
              </a:rPr>
              <a:t>四、基础复现天天练：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Lily</a:t>
            </a:r>
            <a:r>
              <a:rPr b="1" lang="zh-CN" sz="3200" spc="-1" strike="noStrike">
                <a:solidFill>
                  <a:srgbClr val="232226"/>
                </a:solidFill>
                <a:latin typeface="Arial"/>
              </a:rPr>
              <a:t>的学校旅游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468360" y="2149560"/>
          <a:ext cx="7889760" cy="2994120"/>
        </p:xfrm>
        <a:graphic>
          <a:graphicData uri="http://schemas.openxmlformats.org/drawingml/2006/table">
            <a:tbl>
              <a:tblPr/>
              <a:tblGrid>
                <a:gridCol w="1314360"/>
                <a:gridCol w="1314360"/>
                <a:gridCol w="1314720"/>
                <a:gridCol w="1315800"/>
                <a:gridCol w="1314720"/>
                <a:gridCol w="1315800"/>
              </a:tblGrid>
              <a:tr h="1496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题型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体裁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词数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难度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建议完成时间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正确率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7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短文填空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应用文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178 words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libri"/>
                          <a:ea typeface="宋体"/>
                        </a:rPr>
                        <a:t>★★★☆☆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Cambria"/>
                        </a:rPr>
                        <a:t>7 min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Cambri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Cambria"/>
                        </a:rPr>
                        <a:t>____/10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Box 4"/>
          <p:cNvSpPr/>
          <p:nvPr/>
        </p:nvSpPr>
        <p:spPr>
          <a:xfrm>
            <a:off x="468360" y="126828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Dear Peter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How was your school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1._____ last Saturday? Did you go to the zoo? Did you 2._____ a lot of photos? Did you see many interesting animals? 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I went on a school trip</a:t>
            </a:r>
            <a:r>
              <a:rPr b="1" lang="en-US" sz="3200" spc="-1" strike="noStrike" baseline="30000">
                <a:solidFill>
                  <a:srgbClr val="232226"/>
                </a:solidFill>
                <a:latin typeface="Arial"/>
              </a:rPr>
              <a:t>①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yesterday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Box 4"/>
          <p:cNvSpPr/>
          <p:nvPr/>
        </p:nvSpPr>
        <p:spPr>
          <a:xfrm>
            <a:off x="468360" y="1268280"/>
            <a:ext cx="8280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3._____.And we 4._____ so much fun.We went to the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Flower</a:t>
            </a:r>
            <a:r>
              <a:rPr b="1" lang="en-US" sz="3200" spc="-1" strike="noStrike" baseline="30000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World.We enjoyed a lot of beautiful 5._____ there.Then Carol and I saw some horses and we 6._____a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horse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for about ten minutes.7._____was cool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Box 4"/>
          <p:cNvSpPr/>
          <p:nvPr/>
        </p:nvSpPr>
        <p:spPr>
          <a:xfrm>
            <a:off x="468360" y="126828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Carol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worried</a:t>
            </a:r>
            <a:r>
              <a:rPr b="1" lang="en-US" sz="3200" spc="-1" strike="noStrike" baseline="30000">
                <a:solidFill>
                  <a:srgbClr val="232226"/>
                </a:solidFill>
                <a:latin typeface="Arial"/>
              </a:rPr>
              <a:t> ②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that we would fall(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跌落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) off the horse at first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8._____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luckily</a:t>
            </a:r>
            <a:r>
              <a:rPr b="1" lang="en-US" sz="3200" spc="-1" strike="noStrike" baseline="30000">
                <a:solidFill>
                  <a:srgbClr val="232226"/>
                </a:solidFill>
                <a:latin typeface="Arial"/>
              </a:rPr>
              <a:t> ③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we didn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t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The weather is good these days.Are you free next weekend? If you can come and visit us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you,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Box 4"/>
          <p:cNvSpPr/>
          <p:nvPr/>
        </p:nvSpPr>
        <p:spPr>
          <a:xfrm>
            <a:off x="142920" y="107172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Carol and I can 9._____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fishing</a:t>
            </a:r>
            <a:r>
              <a:rPr b="1" lang="en-US" sz="3200" spc="-1" strike="noStrike" baseline="30000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on the lake(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湖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) near our house.The air is always clean here.I am sure it is quite different from your city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isn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t it?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Have 10._____ nice day! Write to me if you can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Yours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Lily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Box 4"/>
          <p:cNvSpPr/>
          <p:nvPr/>
        </p:nvSpPr>
        <p:spPr>
          <a:xfrm>
            <a:off x="468360" y="1268280"/>
            <a:ext cx="8280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1._________                2._________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3._________                4._________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5._________                6._________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7._________                8._________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9._________                10._________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550" name="TextBox 5"/>
          <p:cNvSpPr/>
          <p:nvPr/>
        </p:nvSpPr>
        <p:spPr>
          <a:xfrm>
            <a:off x="1042920" y="1413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rip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551" name="TextBox 5"/>
          <p:cNvSpPr/>
          <p:nvPr/>
        </p:nvSpPr>
        <p:spPr>
          <a:xfrm>
            <a:off x="5143680" y="1413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ake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552" name="TextBox 5"/>
          <p:cNvSpPr/>
          <p:nvPr/>
        </p:nvSpPr>
        <p:spPr>
          <a:xfrm>
            <a:off x="1071720" y="21430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oo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553" name="TextBox 5"/>
          <p:cNvSpPr/>
          <p:nvPr/>
        </p:nvSpPr>
        <p:spPr>
          <a:xfrm>
            <a:off x="5172120" y="21430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ad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554" name="TextBox 5"/>
          <p:cNvSpPr/>
          <p:nvPr/>
        </p:nvSpPr>
        <p:spPr>
          <a:xfrm>
            <a:off x="1071720" y="291636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lowers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555" name="TextBox 8"/>
          <p:cNvSpPr/>
          <p:nvPr/>
        </p:nvSpPr>
        <p:spPr>
          <a:xfrm>
            <a:off x="5172120" y="29163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de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556" name="TextBox 5"/>
          <p:cNvSpPr/>
          <p:nvPr/>
        </p:nvSpPr>
        <p:spPr>
          <a:xfrm>
            <a:off x="1143000" y="357192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557" name="TextBox 10"/>
          <p:cNvSpPr/>
          <p:nvPr/>
        </p:nvSpPr>
        <p:spPr>
          <a:xfrm>
            <a:off x="5243400" y="357192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ut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558" name="TextBox 5"/>
          <p:cNvSpPr/>
          <p:nvPr/>
        </p:nvSpPr>
        <p:spPr>
          <a:xfrm>
            <a:off x="1143000" y="434484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o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559" name="TextBox 12"/>
          <p:cNvSpPr/>
          <p:nvPr/>
        </p:nvSpPr>
        <p:spPr>
          <a:xfrm>
            <a:off x="5243400" y="434484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Box 4"/>
          <p:cNvSpPr/>
          <p:nvPr/>
        </p:nvSpPr>
        <p:spPr>
          <a:xfrm>
            <a:off x="468360" y="1268280"/>
            <a:ext cx="8280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32226"/>
                </a:solidFill>
                <a:latin typeface="Arial"/>
              </a:rPr>
              <a:t>二、重点短语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go for a walk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去散步；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milk a cow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给奶牛挤奶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ride a horse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骑马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feed chickens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喂鸡；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0" name=""/>
          <p:cNvGraphicFramePr/>
          <p:nvPr/>
        </p:nvGraphicFramePr>
        <p:xfrm>
          <a:off x="500040" y="1500120"/>
          <a:ext cx="8143920" cy="4786560"/>
        </p:xfrm>
        <a:graphic>
          <a:graphicData uri="http://schemas.openxmlformats.org/drawingml/2006/table">
            <a:tbl>
              <a:tblPr/>
              <a:tblGrid>
                <a:gridCol w="8143920"/>
              </a:tblGrid>
              <a:tr h="4786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32226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Times New Roman"/>
                          <a:ea typeface="Times New Roman"/>
                        </a:rPr>
                        <a:t>难点释疑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①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go on a school trip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意为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“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参加学校郊游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”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。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②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worry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是动词，意为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“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担心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”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。常见搭配为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worry about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。如：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You don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libri"/>
                          <a:ea typeface="MingLiU_HKSCS"/>
                        </a:rPr>
                        <a:t>’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t need to worry about me.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你不需要担心我。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1" name=""/>
          <p:cNvGraphicFramePr/>
          <p:nvPr/>
        </p:nvGraphicFramePr>
        <p:xfrm>
          <a:off x="500040" y="1500120"/>
          <a:ext cx="8143920" cy="4786560"/>
        </p:xfrm>
        <a:graphic>
          <a:graphicData uri="http://schemas.openxmlformats.org/drawingml/2006/table">
            <a:tbl>
              <a:tblPr/>
              <a:tblGrid>
                <a:gridCol w="8143920"/>
              </a:tblGrid>
              <a:tr h="4786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③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luck 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libri"/>
                          <a:ea typeface="MingLiU_HKSCS"/>
                        </a:rPr>
                        <a:t>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n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libri"/>
                          <a:ea typeface="MingLiU_HKSCS"/>
                        </a:rPr>
                        <a:t>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.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运气</a:t>
                      </a:r>
                      <a:r>
                        <a:rPr b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lucky 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libri"/>
                          <a:ea typeface="MingLiU_HKSCS"/>
                        </a:rPr>
                        <a:t>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adj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libri"/>
                          <a:ea typeface="MingLiU_HKSCS"/>
                        </a:rPr>
                        <a:t>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.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幸运的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—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unlucky 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libri"/>
                          <a:ea typeface="MingLiU_HKSCS"/>
                        </a:rPr>
                        <a:t>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adj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libri"/>
                          <a:ea typeface="MingLiU_HKSCS"/>
                        </a:rPr>
                        <a:t>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.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不幸的</a:t>
                      </a:r>
                      <a:r>
                        <a:rPr b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luckily 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libri"/>
                          <a:ea typeface="MingLiU_HKSCS"/>
                        </a:rPr>
                        <a:t>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adv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libri"/>
                          <a:ea typeface="MingLiU_HKSCS"/>
                        </a:rPr>
                        <a:t>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.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幸运地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—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unluckily 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libri"/>
                          <a:ea typeface="MingLiU_HKSCS"/>
                        </a:rPr>
                        <a:t>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adv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libri"/>
                          <a:ea typeface="MingLiU_HKSCS"/>
                        </a:rPr>
                        <a:t>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.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不幸地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Lucky you! 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你真幸运啊！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Box 4"/>
          <p:cNvSpPr/>
          <p:nvPr/>
        </p:nvSpPr>
        <p:spPr>
          <a:xfrm>
            <a:off x="468360" y="98100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Wednesday  </a:t>
            </a:r>
            <a:r>
              <a:rPr b="1" lang="zh-CN" sz="3200" spc="-1" strike="noStrike">
                <a:solidFill>
                  <a:srgbClr val="232226"/>
                </a:solidFill>
                <a:latin typeface="Arial"/>
              </a:rPr>
              <a:t>星期三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(Section A</a:t>
            </a:r>
            <a:r>
              <a:rPr b="1" lang="zh-CN" sz="3200" spc="-1" strike="noStrike">
                <a:solidFill>
                  <a:srgbClr val="232226"/>
                </a:solidFill>
                <a:latin typeface="Arial"/>
              </a:rPr>
              <a:t>综合运用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563" name="TextBox 4"/>
          <p:cNvSpPr/>
          <p:nvPr/>
        </p:nvSpPr>
        <p:spPr>
          <a:xfrm>
            <a:off x="468360" y="256536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232226"/>
                </a:solidFill>
                <a:latin typeface="Arial"/>
              </a:rPr>
              <a:t>基础复现天天练：周末活动介绍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468360" y="3429000"/>
          <a:ext cx="8032680" cy="2925720"/>
        </p:xfrm>
        <a:graphic>
          <a:graphicData uri="http://schemas.openxmlformats.org/drawingml/2006/table">
            <a:tbl>
              <a:tblPr/>
              <a:tblGrid>
                <a:gridCol w="1338120"/>
                <a:gridCol w="1338480"/>
                <a:gridCol w="1338120"/>
                <a:gridCol w="1339920"/>
                <a:gridCol w="1338120"/>
                <a:gridCol w="1339920"/>
              </a:tblGrid>
              <a:tr h="1463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题型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体裁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词数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难度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建议完成时间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正确率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配对阅读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应用文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377 words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libri"/>
                          <a:ea typeface="宋体"/>
                        </a:rPr>
                        <a:t>★★★☆☆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Cambria"/>
                        </a:rPr>
                        <a:t>5 min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Cambria"/>
                        </a:rPr>
                        <a:t>____/5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Box 4"/>
          <p:cNvSpPr/>
          <p:nvPr/>
        </p:nvSpPr>
        <p:spPr>
          <a:xfrm>
            <a:off x="468360" y="1268280"/>
            <a:ext cx="8280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左栏是对五张照片的描述，右栏是七个学生对自己周末活动的介绍。请为每张照片选择相应的主人。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(   )1.In the photo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a group of people are busy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picking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up the food and drinks on the beach.It is raining hard and they look cold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566" name="TextBox 5"/>
          <p:cNvSpPr/>
          <p:nvPr/>
        </p:nvSpPr>
        <p:spPr>
          <a:xfrm>
            <a:off x="611280" y="3645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Box 4"/>
          <p:cNvSpPr/>
          <p:nvPr/>
        </p:nvSpPr>
        <p:spPr>
          <a:xfrm>
            <a:off x="468360" y="126828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(   )2.In the photo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some boys are playing volleyball on the beach.It is sunny.They are wet(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湿的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) and all look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quite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tired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(   )3.Some boys and girls are standing in a row(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排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) with two firemen.They are all smiling.Behind them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there is a fire station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568" name="TextBox 5"/>
          <p:cNvSpPr/>
          <p:nvPr/>
        </p:nvSpPr>
        <p:spPr>
          <a:xfrm>
            <a:off x="611280" y="142092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569" name="TextBox 5"/>
          <p:cNvSpPr/>
          <p:nvPr/>
        </p:nvSpPr>
        <p:spPr>
          <a:xfrm>
            <a:off x="611280" y="3645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Box 4"/>
          <p:cNvSpPr/>
          <p:nvPr/>
        </p:nvSpPr>
        <p:spPr>
          <a:xfrm>
            <a:off x="468360" y="126828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(   )4.A boy in a T-shirt is walking up a road in a mountain.There are many trees along the road.The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sun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is shining over his head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(   )5.The boy in the photo looks cool.He wears sunglasses and a hat.He is sitting by the swimming pool and drinking coke. 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571" name="TextBox 5"/>
          <p:cNvSpPr/>
          <p:nvPr/>
        </p:nvSpPr>
        <p:spPr>
          <a:xfrm>
            <a:off x="611280" y="142092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572" name="TextBox 5"/>
          <p:cNvSpPr/>
          <p:nvPr/>
        </p:nvSpPr>
        <p:spPr>
          <a:xfrm>
            <a:off x="611280" y="3645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Box 4"/>
          <p:cNvSpPr/>
          <p:nvPr/>
        </p:nvSpPr>
        <p:spPr>
          <a:xfrm>
            <a:off x="468360" y="1268280"/>
            <a:ext cx="8280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A.I had an exciting</a:t>
            </a:r>
            <a:r>
              <a:rPr b="1" lang="en-US" sz="3200" spc="-1" strike="noStrike" baseline="30000">
                <a:solidFill>
                  <a:srgbClr val="232226"/>
                </a:solidFill>
                <a:latin typeface="Arial"/>
              </a:rPr>
              <a:t>①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weekend.I went to the beach with my friends and we played volleyball.It was cloudy with a little wind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very good weather for beach sports.It was great fun!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Box 4"/>
          <p:cNvSpPr/>
          <p:nvPr/>
        </p:nvSpPr>
        <p:spPr>
          <a:xfrm>
            <a:off x="468360" y="1268280"/>
            <a:ext cx="82803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B.My friends and I went to the beach last weekend.We swam in the sea first and then played beach volleyball.But it was too hot and we didn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t have a good time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C.I went mountain-climbing</a:t>
            </a:r>
            <a:r>
              <a:rPr b="1" lang="en-US" sz="3200" spc="-1" strike="noStrike" baseline="30000">
                <a:solidFill>
                  <a:srgbClr val="232226"/>
                </a:solidFill>
                <a:latin typeface="Arial"/>
              </a:rPr>
              <a:t>①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last weekend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but didn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t have a good time.The roads were too wet with the snow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Box 4"/>
          <p:cNvSpPr/>
          <p:nvPr/>
        </p:nvSpPr>
        <p:spPr>
          <a:xfrm>
            <a:off x="468360" y="126828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I fell three or four times and my clothes got very dirty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D.My weekend wasn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t good.I went to the beach with my family.We had a picnic(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野餐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) but it got dark and started to rain.We were cold and wet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and had to leave quickly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Box 4"/>
          <p:cNvSpPr/>
          <p:nvPr/>
        </p:nvSpPr>
        <p:spPr>
          <a:xfrm>
            <a:off x="468360" y="126828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E.I had a great weekend in Sanya.I visited my aunt.It was very hot most of the time and I swam in the pool and drank coke when I got out of the pool.It was really relaxing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F.I went on a school trip with some of my classmates last weekend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Box 4"/>
          <p:cNvSpPr/>
          <p:nvPr/>
        </p:nvSpPr>
        <p:spPr>
          <a:xfrm>
            <a:off x="468360" y="1268280"/>
            <a:ext cx="8280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go fishing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钓鱼；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quite a lot (of)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许多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in the countryside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在乡下，在农村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Box 4"/>
          <p:cNvSpPr/>
          <p:nvPr/>
        </p:nvSpPr>
        <p:spPr>
          <a:xfrm>
            <a:off x="468360" y="1268280"/>
            <a:ext cx="82803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We visited a fire station and the firemen there taught us how to save ourselves and others in a fire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G.I enjoyed myself in the mountains last weekend.It was sunny with a little wind.In August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the air is clean and nice.It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s good weather for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going for a walk</a:t>
            </a:r>
            <a:r>
              <a:rPr b="1" lang="en-US" sz="3200" spc="-1" strike="noStrike" baseline="30000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8" name=""/>
          <p:cNvGraphicFramePr/>
          <p:nvPr/>
        </p:nvGraphicFramePr>
        <p:xfrm>
          <a:off x="357120" y="1428840"/>
          <a:ext cx="8358120" cy="5000400"/>
        </p:xfrm>
        <a:graphic>
          <a:graphicData uri="http://schemas.openxmlformats.org/drawingml/2006/table">
            <a:tbl>
              <a:tblPr/>
              <a:tblGrid>
                <a:gridCol w="8358120"/>
              </a:tblGrid>
              <a:tr h="5000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32226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Times New Roman"/>
                          <a:ea typeface="Times New Roman"/>
                        </a:rPr>
                        <a:t>难点释疑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①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exciting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是形容词，意为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“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使人兴奋的；令人激动的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”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，常用来修饰物。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［拓展］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excited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也是形容词，意为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“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兴奋的，激动的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”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，常用来修饰人。类似的还有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interesting/interested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。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9" name=""/>
          <p:cNvGraphicFramePr/>
          <p:nvPr/>
        </p:nvGraphicFramePr>
        <p:xfrm>
          <a:off x="357120" y="1428840"/>
          <a:ext cx="8358120" cy="5000400"/>
        </p:xfrm>
        <a:graphic>
          <a:graphicData uri="http://schemas.openxmlformats.org/drawingml/2006/table">
            <a:tbl>
              <a:tblPr/>
              <a:tblGrid>
                <a:gridCol w="8358120"/>
              </a:tblGrid>
              <a:tr h="5000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如：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Daming was very excited when he heard the exciting news.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当大明听到这个激动人心的消息，他很兴奋。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②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go+doing sth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MingLiU_HKSCS"/>
                          <a:ea typeface="MingLiU_HKSCS"/>
                        </a:rPr>
                        <a:t>.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，表示去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“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做某事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”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，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相当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doing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中的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do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。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0" name=""/>
          <p:cNvGraphicFramePr/>
          <p:nvPr/>
        </p:nvGraphicFramePr>
        <p:xfrm>
          <a:off x="357120" y="1428840"/>
          <a:ext cx="8358120" cy="5000400"/>
        </p:xfrm>
        <a:graphic>
          <a:graphicData uri="http://schemas.openxmlformats.org/drawingml/2006/table">
            <a:tbl>
              <a:tblPr/>
              <a:tblGrid>
                <a:gridCol w="8358120"/>
              </a:tblGrid>
              <a:tr h="5000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如：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go fishing(=fish)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去钓鱼，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go swimming(=swim)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去游泳，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go shopping(=shop)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去购物，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go mountain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MingLiU_HKSCS"/>
                          <a:ea typeface="MingLiU_HKSCS"/>
                        </a:rPr>
                        <a:t>-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climbing(=climb a mountain)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去爬山。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Box 4"/>
          <p:cNvSpPr/>
          <p:nvPr/>
        </p:nvSpPr>
        <p:spPr>
          <a:xfrm>
            <a:off x="468360" y="126828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Thursday  </a:t>
            </a:r>
            <a:r>
              <a:rPr b="1" lang="zh-CN" sz="3200" spc="-1" strike="noStrike">
                <a:solidFill>
                  <a:srgbClr val="232226"/>
                </a:solidFill>
                <a:latin typeface="Arial"/>
              </a:rPr>
              <a:t>星期四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(Section B 1a—1d)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582" name="TextBox 4"/>
          <p:cNvSpPr/>
          <p:nvPr/>
        </p:nvSpPr>
        <p:spPr>
          <a:xfrm>
            <a:off x="468360" y="289872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32226"/>
                </a:solidFill>
                <a:latin typeface="Arial"/>
              </a:rPr>
              <a:t>一、核心词汇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fire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painting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Box 4"/>
          <p:cNvSpPr/>
          <p:nvPr/>
        </p:nvSpPr>
        <p:spPr>
          <a:xfrm>
            <a:off x="468360" y="126828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32226"/>
                </a:solidFill>
                <a:latin typeface="Arial"/>
              </a:rPr>
              <a:t>二、重点短语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fire station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消防站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Box 4"/>
          <p:cNvSpPr/>
          <p:nvPr/>
        </p:nvSpPr>
        <p:spPr>
          <a:xfrm>
            <a:off x="468360" y="12682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32226"/>
                </a:solidFill>
                <a:latin typeface="Arial"/>
              </a:rPr>
              <a:t>三、基础复现天天练：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Alan</a:t>
            </a:r>
            <a:r>
              <a:rPr b="1" lang="zh-CN" sz="3200" spc="-1" strike="noStrike">
                <a:solidFill>
                  <a:srgbClr val="232226"/>
                </a:solidFill>
                <a:latin typeface="Arial"/>
              </a:rPr>
              <a:t>的乡村生活体验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468360" y="2149560"/>
          <a:ext cx="7889760" cy="3565440"/>
        </p:xfrm>
        <a:graphic>
          <a:graphicData uri="http://schemas.openxmlformats.org/drawingml/2006/table">
            <a:tbl>
              <a:tblPr/>
              <a:tblGrid>
                <a:gridCol w="1314360"/>
                <a:gridCol w="1314360"/>
                <a:gridCol w="1314720"/>
                <a:gridCol w="1315800"/>
                <a:gridCol w="1314720"/>
                <a:gridCol w="1315800"/>
              </a:tblGrid>
              <a:tr h="1782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题型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体裁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词数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难度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建议完成时间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正确率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2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阅读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B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篇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记叙文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276 words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libri"/>
                          <a:ea typeface="宋体"/>
                        </a:rPr>
                        <a:t>★★★☆☆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Cambria"/>
                        </a:rPr>
                        <a:t>6 min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Cambria"/>
                        </a:rPr>
                        <a:t>____/5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Box 4"/>
          <p:cNvSpPr/>
          <p:nvPr/>
        </p:nvSpPr>
        <p:spPr>
          <a:xfrm>
            <a:off x="468360" y="1268280"/>
            <a:ext cx="82803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32226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Alan worked</a:t>
            </a:r>
            <a:r>
              <a:rPr b="1" lang="en-US" sz="3200" spc="-1" strike="noStrike" baseline="30000">
                <a:solidFill>
                  <a:srgbClr val="232226"/>
                </a:solidFill>
                <a:latin typeface="Arial"/>
              </a:rPr>
              <a:t>①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in a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fire station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.He liked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painting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so much and he often went to some interesting places to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paint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when he was free.So he really </a:t>
            </a:r>
            <a:r>
              <a:rPr b="1" lang="en-US" sz="3200" spc="-1" strike="noStrike" u="sng">
                <a:solidFill>
                  <a:srgbClr val="232226"/>
                </a:solidFill>
                <a:uFillTx/>
                <a:latin typeface="Arial"/>
              </a:rPr>
              <a:t>looked forward to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having a holiday.One day he saw an ad in a newspaper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Enjoy country life.Spend a few weeks at William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Farm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Box 4"/>
          <p:cNvSpPr/>
          <p:nvPr/>
        </p:nvSpPr>
        <p:spPr>
          <a:xfrm>
            <a:off x="468360" y="928800"/>
            <a:ext cx="8280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Good food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green forests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clean air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horse riding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walking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fishing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This sounds like a good place to paint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”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he thought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“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I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ll spend a month at William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Farm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.I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ll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go horse riding</a:t>
            </a:r>
            <a:r>
              <a:rPr b="1" lang="en-US" sz="3200" spc="-1" strike="noStrike" baseline="30000">
                <a:solidFill>
                  <a:srgbClr val="232226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fishing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and then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painting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all of the things.It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ll be different.”Four days later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he went back home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Box 4"/>
          <p:cNvSpPr/>
          <p:nvPr/>
        </p:nvSpPr>
        <p:spPr>
          <a:xfrm>
            <a:off x="468360" y="126828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What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s wrong with William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Farm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?” his friend Jack asked him.“Didn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t you enjoy the country life?”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The country life was fine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”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Alan said.“But there was another problem.”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Oh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what problem?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Box 4"/>
          <p:cNvSpPr/>
          <p:nvPr/>
        </p:nvSpPr>
        <p:spPr>
          <a:xfrm>
            <a:off x="468360" y="1268280"/>
            <a:ext cx="82803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32226"/>
                </a:solidFill>
                <a:latin typeface="Arial"/>
              </a:rPr>
              <a:t>三、经典句子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1.How was your school trip? 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你的学校旅行怎么样？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2.Did Carol ride a horse?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卡萝尔骑马了吗？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3.I went fishing every day.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我每天都去钓鱼。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4.How was the weather there? 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那里的天气怎么样？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Box 4"/>
          <p:cNvSpPr/>
          <p:nvPr/>
        </p:nvSpPr>
        <p:spPr>
          <a:xfrm>
            <a:off x="468360" y="1268280"/>
            <a:ext cx="82803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Well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the first day I was there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a sheep died(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死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and we had roast(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烤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)mutton for dinner.”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Fresh meat is the best.”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I know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but on the second day a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cow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died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and we had roast beef for dinner.”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Lucky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you!”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Box 4"/>
          <p:cNvSpPr/>
          <p:nvPr/>
        </p:nvSpPr>
        <p:spPr>
          <a:xfrm>
            <a:off x="468360" y="1268280"/>
            <a:ext cx="8280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You don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t understand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”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Alan said. “On the third day a pig died and we had roast pork for dinner.”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A different roast every day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”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Jack said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Let me finish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”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Alan said. “On the fourth day a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farmer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died and I didn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t want to stay there for dinner.”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Box 4"/>
          <p:cNvSpPr/>
          <p:nvPr/>
        </p:nvSpPr>
        <p:spPr>
          <a:xfrm>
            <a:off x="468360" y="1268280"/>
            <a:ext cx="82803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(   )1.The underlined phrase “</a:t>
            </a:r>
            <a:r>
              <a:rPr b="1" lang="en-US" sz="3200" spc="-1" strike="noStrike" u="sng">
                <a:solidFill>
                  <a:srgbClr val="232226"/>
                </a:solidFill>
                <a:uFillTx/>
                <a:latin typeface="Arial"/>
              </a:rPr>
              <a:t>looked forward to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” may mean _____ in Chinese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A.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厌恶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B.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盼望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C.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计较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D.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羡慕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(   )2.It was _____ time for Alan to be at William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Farm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A.the first   B.the second   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C.the third   D.the fourth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592" name="TextBox 5"/>
          <p:cNvSpPr/>
          <p:nvPr/>
        </p:nvSpPr>
        <p:spPr>
          <a:xfrm>
            <a:off x="611280" y="147492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593" name="TextBox 5"/>
          <p:cNvSpPr/>
          <p:nvPr/>
        </p:nvSpPr>
        <p:spPr>
          <a:xfrm>
            <a:off x="642960" y="36432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Box 4"/>
          <p:cNvSpPr/>
          <p:nvPr/>
        </p:nvSpPr>
        <p:spPr>
          <a:xfrm>
            <a:off x="468360" y="1268280"/>
            <a:ext cx="8280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(   )3.Alan spent _____ at William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Farm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A.a month   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B.half a month   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C.four days   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D.one day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595" name="TextBox 5"/>
          <p:cNvSpPr/>
          <p:nvPr/>
        </p:nvSpPr>
        <p:spPr>
          <a:xfrm>
            <a:off x="611280" y="147492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Box 4"/>
          <p:cNvSpPr/>
          <p:nvPr/>
        </p:nvSpPr>
        <p:spPr>
          <a:xfrm>
            <a:off x="468360" y="126828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(   )4.Jack thinks Alan was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lucky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because _____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A.he had an excellent holiday  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B.he had different food every day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C.he ate a lot of meat  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D.he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went horse ridin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g and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fishing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597" name="TextBox 5"/>
          <p:cNvSpPr/>
          <p:nvPr/>
        </p:nvSpPr>
        <p:spPr>
          <a:xfrm>
            <a:off x="611280" y="147492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Box 4"/>
          <p:cNvSpPr/>
          <p:nvPr/>
        </p:nvSpPr>
        <p:spPr>
          <a:xfrm>
            <a:off x="468360" y="126828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(   )5.From the passage we know that _____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A.Alan left the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farm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because he missed his family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B.Alan left the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farm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because he had four dinners at the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farm 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C.Alan left the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farm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because he couldn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t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go fishing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at the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farm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D.Alan came back home because he was afraid of the fourth dinner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599" name="TextBox 5"/>
          <p:cNvSpPr/>
          <p:nvPr/>
        </p:nvSpPr>
        <p:spPr>
          <a:xfrm>
            <a:off x="642960" y="128592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0" name=""/>
          <p:cNvGraphicFramePr/>
          <p:nvPr/>
        </p:nvGraphicFramePr>
        <p:xfrm>
          <a:off x="357120" y="1428840"/>
          <a:ext cx="8286840" cy="4714920"/>
        </p:xfrm>
        <a:graphic>
          <a:graphicData uri="http://schemas.openxmlformats.org/drawingml/2006/table">
            <a:tbl>
              <a:tblPr/>
              <a:tblGrid>
                <a:gridCol w="8286840"/>
              </a:tblGrid>
              <a:tr h="4714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32226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Times New Roman"/>
                          <a:ea typeface="Times New Roman"/>
                        </a:rPr>
                        <a:t>难点释疑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①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一般过去时的用法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⊙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一般过去时表示过去某个时间发生的动作或存在的状态，常见的时间状语有：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just now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，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ago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，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in 2005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，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this morning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，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yesterday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，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last night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等。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1" name=""/>
          <p:cNvGraphicFramePr/>
          <p:nvPr/>
        </p:nvGraphicFramePr>
        <p:xfrm>
          <a:off x="357120" y="1428840"/>
          <a:ext cx="8286840" cy="4714920"/>
        </p:xfrm>
        <a:graphic>
          <a:graphicData uri="http://schemas.openxmlformats.org/drawingml/2006/table">
            <a:tbl>
              <a:tblPr/>
              <a:tblGrid>
                <a:gridCol w="8286840"/>
              </a:tblGrid>
              <a:tr h="4714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如：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Mary was born in 2004.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玛丽出生于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2004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年。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They went to America two months ago.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两个月前，他们去了美国。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2" name=""/>
          <p:cNvGraphicFramePr/>
          <p:nvPr/>
        </p:nvGraphicFramePr>
        <p:xfrm>
          <a:off x="357120" y="1428840"/>
          <a:ext cx="8286840" cy="4714920"/>
        </p:xfrm>
        <a:graphic>
          <a:graphicData uri="http://schemas.openxmlformats.org/drawingml/2006/table">
            <a:tbl>
              <a:tblPr/>
              <a:tblGrid>
                <a:gridCol w="8286840"/>
              </a:tblGrid>
              <a:tr h="4714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⊙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一般过去时表示过去经常或反复发生的动作，常和表示频率的副词连用，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如：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often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，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always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等。如：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He often walked to work last year.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他去年经常走路去上班。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②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go horse riding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意为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“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去骑马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”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。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Box 4"/>
          <p:cNvSpPr/>
          <p:nvPr/>
        </p:nvSpPr>
        <p:spPr>
          <a:xfrm>
            <a:off x="468360" y="126828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Friday  </a:t>
            </a:r>
            <a:r>
              <a:rPr b="1" lang="zh-CN" sz="3200" spc="-1" strike="noStrike">
                <a:solidFill>
                  <a:srgbClr val="232226"/>
                </a:solidFill>
                <a:latin typeface="Arial"/>
              </a:rPr>
              <a:t>星期五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(Section B 2a—2c)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604" name="TextBox 4"/>
          <p:cNvSpPr/>
          <p:nvPr/>
        </p:nvSpPr>
        <p:spPr>
          <a:xfrm>
            <a:off x="468360" y="3174840"/>
            <a:ext cx="8280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32226"/>
                </a:solidFill>
                <a:latin typeface="Arial"/>
              </a:rPr>
              <a:t>一、核心词汇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museum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exciting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lovely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expensive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cheap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slow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Box 4"/>
          <p:cNvSpPr/>
          <p:nvPr/>
        </p:nvSpPr>
        <p:spPr>
          <a:xfrm>
            <a:off x="468360" y="12682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四、基础复现天天练：我和哥哥的暑假生活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468360" y="2149560"/>
          <a:ext cx="7889760" cy="3351240"/>
        </p:xfrm>
        <a:graphic>
          <a:graphicData uri="http://schemas.openxmlformats.org/drawingml/2006/table">
            <a:tbl>
              <a:tblPr/>
              <a:tblGrid>
                <a:gridCol w="1314360"/>
                <a:gridCol w="1314360"/>
                <a:gridCol w="1314720"/>
                <a:gridCol w="1315800"/>
                <a:gridCol w="1314720"/>
                <a:gridCol w="1315800"/>
              </a:tblGrid>
              <a:tr h="1676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题型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体裁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词数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难度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建议完成时间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正确率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5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完形填空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记叙文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172 words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libri"/>
                          <a:ea typeface="宋体"/>
                        </a:rPr>
                        <a:t>★★★☆☆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Cambria"/>
                        </a:rPr>
                        <a:t>7 min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Cambria"/>
                        </a:rPr>
                        <a:t>____/10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Box 4"/>
          <p:cNvSpPr/>
          <p:nvPr/>
        </p:nvSpPr>
        <p:spPr>
          <a:xfrm>
            <a:off x="468360" y="1454040"/>
            <a:ext cx="8280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fast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robot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guide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gift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everything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interested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dark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hear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Box 4"/>
          <p:cNvSpPr/>
          <p:nvPr/>
        </p:nvSpPr>
        <p:spPr>
          <a:xfrm>
            <a:off x="468360" y="126828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32226"/>
                </a:solidFill>
                <a:latin typeface="Arial"/>
              </a:rPr>
              <a:t>二、重点短语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talk with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与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交谈；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all in all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总的说来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be interested in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对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感兴趣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notat all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一点也不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……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take some photos/pictures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照相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Box 4"/>
          <p:cNvSpPr/>
          <p:nvPr/>
        </p:nvSpPr>
        <p:spPr>
          <a:xfrm>
            <a:off x="468360" y="126828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32226"/>
                </a:solidFill>
                <a:latin typeface="Arial"/>
              </a:rPr>
              <a:t>三、经典句子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1.At the museum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I learned a lot about robots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在博物馆里，我了解到有关机器人的许多知识。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Box 4"/>
          <p:cNvSpPr/>
          <p:nvPr/>
        </p:nvSpPr>
        <p:spPr>
          <a:xfrm>
            <a:off x="468360" y="1268280"/>
            <a:ext cx="8280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2.Then the guide taught us how to make a model robot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接着导游教我们如何制作机器人模型。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3.I didn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t like the trip at all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我一点也不喜欢这次旅行。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Box 4"/>
          <p:cNvSpPr/>
          <p:nvPr/>
        </p:nvSpPr>
        <p:spPr>
          <a:xfrm>
            <a:off x="468360" y="12682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32226"/>
                </a:solidFill>
                <a:latin typeface="Arial"/>
              </a:rPr>
              <a:t>四、基础复现天天练：我和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Lily</a:t>
            </a:r>
            <a:r>
              <a:rPr b="1" lang="zh-CN" sz="3200" spc="-1" strike="noStrike">
                <a:solidFill>
                  <a:srgbClr val="232226"/>
                </a:solidFill>
                <a:latin typeface="Arial"/>
              </a:rPr>
              <a:t>的科学博物馆之旅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785880" y="2575080"/>
          <a:ext cx="7962840" cy="2925720"/>
        </p:xfrm>
        <a:graphic>
          <a:graphicData uri="http://schemas.openxmlformats.org/drawingml/2006/table">
            <a:tbl>
              <a:tblPr/>
              <a:tblGrid>
                <a:gridCol w="1326960"/>
                <a:gridCol w="1327320"/>
                <a:gridCol w="1325520"/>
                <a:gridCol w="1327320"/>
                <a:gridCol w="1328400"/>
                <a:gridCol w="1327320"/>
              </a:tblGrid>
              <a:tr h="1463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题型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体裁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词数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难度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建议完成时间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正确率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短文填空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记叙文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203 words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libri"/>
                          <a:ea typeface="宋体"/>
                        </a:rPr>
                        <a:t>★★★☆☆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Cambria"/>
                        </a:rPr>
                        <a:t>6 min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Cambria"/>
                        </a:rPr>
                        <a:t>____/10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Box 4"/>
          <p:cNvSpPr/>
          <p:nvPr/>
        </p:nvSpPr>
        <p:spPr>
          <a:xfrm>
            <a:off x="468360" y="126828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Did you often go to the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museum</a:t>
            </a:r>
            <a:r>
              <a:rPr b="1" lang="en-US" sz="3200" spc="-1" strike="noStrike" baseline="30000">
                <a:solidFill>
                  <a:srgbClr val="232226"/>
                </a:solidFill>
                <a:latin typeface="Arial"/>
              </a:rPr>
              <a:t>①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? Lily and I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were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very 1._____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in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science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so we decided to 2._____the science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museum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today.Because the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museum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was not too 3._____ from our homes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we thought it was better to go 4._____ by bike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Box 4"/>
          <p:cNvSpPr/>
          <p:nvPr/>
        </p:nvSpPr>
        <p:spPr>
          <a:xfrm>
            <a:off x="468360" y="126828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Twenty minutes later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we got to 5._____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museum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.We saw many people waiting in line at the ticket(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票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)office.Each ticket cost 13 </a:t>
            </a:r>
            <a:r>
              <a:rPr b="0" i="1" lang="en-US" sz="3200" spc="-1" strike="noStrike">
                <a:solidFill>
                  <a:srgbClr val="232226"/>
                </a:solidFill>
                <a:latin typeface="Arial"/>
              </a:rPr>
              <a:t>yuan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.I thought it was 6._____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but Lily thought it was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expensive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.The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museum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opened at 8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：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30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Box 4"/>
          <p:cNvSpPr/>
          <p:nvPr/>
        </p:nvSpPr>
        <p:spPr>
          <a:xfrm>
            <a:off x="468360" y="126828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It was big inside 7._____there were many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exciting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things for us to enjoy.We could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talk with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a computer or make a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robot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walk.The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robot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could walk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fast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when we press it hard or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slowly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when we press it lightly.Since we couldn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t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take photos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in it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Box 4"/>
          <p:cNvSpPr/>
          <p:nvPr/>
        </p:nvSpPr>
        <p:spPr>
          <a:xfrm>
            <a:off x="468360" y="857160"/>
            <a:ext cx="8280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we went to the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gift</a:t>
            </a:r>
            <a:r>
              <a:rPr b="1" lang="en-US" sz="3200" spc="-1" strike="noStrike" baseline="30000">
                <a:solidFill>
                  <a:srgbClr val="232226"/>
                </a:solidFill>
                <a:latin typeface="Arial"/>
              </a:rPr>
              <a:t>②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shop after that.I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don</a:t>
            </a:r>
            <a:r>
              <a:rPr b="1" lang="zh-CN" sz="3200" spc="-1" strike="noStrike">
                <a:solidFill>
                  <a:srgbClr val="232226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like buying things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at all.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But Lily 8._____ 20 </a:t>
            </a:r>
            <a:r>
              <a:rPr b="0" i="1" lang="en-US" sz="3200" spc="-1" strike="noStrike">
                <a:solidFill>
                  <a:srgbClr val="232226"/>
                </a:solidFill>
                <a:latin typeface="Arial"/>
              </a:rPr>
              <a:t>yuan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on a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lovely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model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robot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for her little brother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All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9._____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all</a:t>
            </a:r>
            <a:r>
              <a:rPr b="1" lang="en-US" sz="3200" spc="-1" strike="noStrike" baseline="30000">
                <a:solidFill>
                  <a:srgbClr val="232226"/>
                </a:solidFill>
                <a:latin typeface="Arial"/>
              </a:rPr>
              <a:t>③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this trip to the science museum was so much fun.10._____ there was about science and we learned a lot about science today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Box 4"/>
          <p:cNvSpPr/>
          <p:nvPr/>
        </p:nvSpPr>
        <p:spPr>
          <a:xfrm>
            <a:off x="468360" y="1268280"/>
            <a:ext cx="8280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1._________                2._________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3._________                4._________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5._________                6._________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7._________                8._________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9._________                10._________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616" name="TextBox 5"/>
          <p:cNvSpPr/>
          <p:nvPr/>
        </p:nvSpPr>
        <p:spPr>
          <a:xfrm>
            <a:off x="1042920" y="1413000"/>
            <a:ext cx="23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terested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617" name="TextBox 5"/>
          <p:cNvSpPr/>
          <p:nvPr/>
        </p:nvSpPr>
        <p:spPr>
          <a:xfrm>
            <a:off x="5143680" y="1413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isit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618" name="TextBox 5"/>
          <p:cNvSpPr/>
          <p:nvPr/>
        </p:nvSpPr>
        <p:spPr>
          <a:xfrm>
            <a:off x="1071720" y="21430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ar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619" name="TextBox 5"/>
          <p:cNvSpPr/>
          <p:nvPr/>
        </p:nvSpPr>
        <p:spPr>
          <a:xfrm>
            <a:off x="5172120" y="21430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re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620" name="TextBox 5"/>
          <p:cNvSpPr/>
          <p:nvPr/>
        </p:nvSpPr>
        <p:spPr>
          <a:xfrm>
            <a:off x="1071720" y="291636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621" name="TextBox 8"/>
          <p:cNvSpPr/>
          <p:nvPr/>
        </p:nvSpPr>
        <p:spPr>
          <a:xfrm>
            <a:off x="5172120" y="29163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heap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622" name="TextBox 5"/>
          <p:cNvSpPr/>
          <p:nvPr/>
        </p:nvSpPr>
        <p:spPr>
          <a:xfrm>
            <a:off x="1143000" y="357192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623" name="TextBox 10"/>
          <p:cNvSpPr/>
          <p:nvPr/>
        </p:nvSpPr>
        <p:spPr>
          <a:xfrm>
            <a:off x="5243400" y="357192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pent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1143000" y="434484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625" name="TextBox 12"/>
          <p:cNvSpPr/>
          <p:nvPr/>
        </p:nvSpPr>
        <p:spPr>
          <a:xfrm>
            <a:off x="5243400" y="4344840"/>
            <a:ext cx="290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verything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Box 4"/>
          <p:cNvSpPr/>
          <p:nvPr/>
        </p:nvSpPr>
        <p:spPr>
          <a:xfrm>
            <a:off x="468360" y="1268280"/>
            <a:ext cx="82803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My uncle is a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farmer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.He lives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in the countryside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.My brother and I visited him last summer and had a good time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My uncle has </a:t>
            </a:r>
            <a:r>
              <a:rPr b="0" lang="en-US" sz="3200" spc="-1" strike="noStrike" u="sng">
                <a:solidFill>
                  <a:srgbClr val="232226"/>
                </a:solidFill>
                <a:uFillTx/>
                <a:latin typeface="Arial"/>
              </a:rPr>
              <a:t>  1 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a lot of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chickens and two cows on the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farm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.When we were there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my brother and I often helped him.We </a:t>
            </a:r>
            <a:r>
              <a:rPr b="0" lang="en-US" sz="3200" spc="-1" strike="noStrike" u="sng">
                <a:solidFill>
                  <a:srgbClr val="232226"/>
                </a:solidFill>
                <a:uFillTx/>
                <a:latin typeface="Arial"/>
              </a:rPr>
              <a:t>  2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the chickens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517680" y="1428840"/>
          <a:ext cx="7983360" cy="5121360"/>
        </p:xfrm>
        <a:graphic>
          <a:graphicData uri="http://schemas.openxmlformats.org/drawingml/2006/table">
            <a:tbl>
              <a:tblPr/>
              <a:tblGrid>
                <a:gridCol w="7983360"/>
              </a:tblGrid>
              <a:tr h="5121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32226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Times New Roman"/>
                          <a:ea typeface="Times New Roman"/>
                        </a:rPr>
                        <a:t>难点释疑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①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museum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意为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“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博物馆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”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，是可数名词。如：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The museum opens every day except Monday.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这个博物馆除了星期一外，每天都开放。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②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gift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意为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“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礼物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”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，同义词为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present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，是可数名词。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7" name=""/>
          <p:cNvGraphicFramePr/>
          <p:nvPr/>
        </p:nvGraphicFramePr>
        <p:xfrm>
          <a:off x="517680" y="1428840"/>
          <a:ext cx="7983360" cy="4572000"/>
        </p:xfrm>
        <a:graphic>
          <a:graphicData uri="http://schemas.openxmlformats.org/drawingml/2006/table">
            <a:tbl>
              <a:tblPr/>
              <a:tblGrid>
                <a:gridCol w="7983360"/>
              </a:tblGrid>
              <a:tr h="4572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如：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What gift do you buy for his birthday? 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你给他买什么生日礼物？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③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all in all 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总的说来，总体而言。如：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All in all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，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learning English is not difficult.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总的说来，学英语是不难的。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Box 4"/>
          <p:cNvSpPr/>
          <p:nvPr/>
        </p:nvSpPr>
        <p:spPr>
          <a:xfrm>
            <a:off x="468360" y="12682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Saturday  </a:t>
            </a:r>
            <a:r>
              <a:rPr b="1" lang="zh-CN" sz="3200" spc="-1" strike="noStrike">
                <a:solidFill>
                  <a:srgbClr val="232226"/>
                </a:solidFill>
                <a:latin typeface="Arial"/>
              </a:rPr>
              <a:t>星期六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(Section B 3a—Self Check)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Box 4"/>
          <p:cNvSpPr/>
          <p:nvPr/>
        </p:nvSpPr>
        <p:spPr>
          <a:xfrm>
            <a:off x="468360" y="12682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232226"/>
                </a:solidFill>
                <a:latin typeface="Arial"/>
              </a:rPr>
              <a:t>基础复现天天练：动物表演时间表及注意事项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468360" y="2575080"/>
          <a:ext cx="8280360" cy="2925720"/>
        </p:xfrm>
        <a:graphic>
          <a:graphicData uri="http://schemas.openxmlformats.org/drawingml/2006/table">
            <a:tbl>
              <a:tblPr/>
              <a:tblGrid>
                <a:gridCol w="1379520"/>
                <a:gridCol w="1379520"/>
                <a:gridCol w="1379520"/>
                <a:gridCol w="1380960"/>
                <a:gridCol w="1379880"/>
                <a:gridCol w="1380960"/>
              </a:tblGrid>
              <a:tr h="1463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题型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体裁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词数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难度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建议完成时间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正确率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阅读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A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篇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应用文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175 words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libri"/>
                          <a:ea typeface="宋体"/>
                        </a:rPr>
                        <a:t>★★☆☆☆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Cambria"/>
                        </a:rPr>
                        <a:t>5 min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Cambria"/>
                        </a:rPr>
                        <a:t>____/5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1" name=""/>
          <p:cNvGraphicFramePr/>
          <p:nvPr/>
        </p:nvGraphicFramePr>
        <p:xfrm>
          <a:off x="571680" y="1293840"/>
          <a:ext cx="8001000" cy="4389480"/>
        </p:xfrm>
        <a:graphic>
          <a:graphicData uri="http://schemas.openxmlformats.org/drawingml/2006/table">
            <a:tbl>
              <a:tblPr/>
              <a:tblGrid>
                <a:gridCol w="4298760"/>
                <a:gridCol w="960480"/>
                <a:gridCol w="877680"/>
                <a:gridCol w="878040"/>
                <a:gridCol w="986040"/>
              </a:tblGrid>
              <a:tr h="2438280">
                <a:tc gridSpan="5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Animal Show Times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Animal shows are a must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MingLiU_HKSCS"/>
                          <a:ea typeface="MingLiU_HKSCS"/>
                        </a:rPr>
                        <a:t>-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see for both young and old in our zoo.All our shows play three times every day so you can see all of them.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1200">
                <a:tc>
                  <a:txBody>
                    <a:bodyPr lIns="18000" rIns="18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Shows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Theatre(</a:t>
                      </a:r>
                      <a:r>
                        <a:rPr b="0" i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剧场</a:t>
                      </a: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1st Timing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2nd Timing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3rd Timing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2" name=""/>
          <p:cNvGraphicFramePr/>
          <p:nvPr/>
        </p:nvGraphicFramePr>
        <p:xfrm>
          <a:off x="571680" y="1652760"/>
          <a:ext cx="8001000" cy="4062240"/>
        </p:xfrm>
        <a:graphic>
          <a:graphicData uri="http://schemas.openxmlformats.org/drawingml/2006/table">
            <a:tbl>
              <a:tblPr/>
              <a:tblGrid>
                <a:gridCol w="2071440"/>
                <a:gridCol w="1857600"/>
                <a:gridCol w="1428480"/>
                <a:gridCol w="1214640"/>
                <a:gridCol w="1428840"/>
              </a:tblGrid>
              <a:tr h="975240">
                <a:tc>
                  <a:txBody>
                    <a:bodyPr lIns="18000" rIns="18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Monkey Show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Rainforest Theatre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10</a:t>
                      </a:r>
                      <a:r>
                        <a:rPr b="0" i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：</a:t>
                      </a: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00 a</a:t>
                      </a: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MingLiU_HKSCS"/>
                          <a:ea typeface="MingLiU_HKSCS"/>
                        </a:rPr>
                        <a:t>.</a:t>
                      </a: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m.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2</a:t>
                      </a:r>
                      <a:r>
                        <a:rPr b="0" i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：</a:t>
                      </a: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00 p</a:t>
                      </a: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MingLiU_HKSCS"/>
                          <a:ea typeface="MingLiU_HKSCS"/>
                        </a:rPr>
                        <a:t>.</a:t>
                      </a: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m.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4</a:t>
                      </a:r>
                      <a:r>
                        <a:rPr b="0" i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：</a:t>
                      </a: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30 p</a:t>
                      </a: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MingLiU_HKSCS"/>
                          <a:ea typeface="MingLiU_HKSCS"/>
                        </a:rPr>
                        <a:t>.</a:t>
                      </a: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m.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18000" rIns="18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Elephants at Work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Star Theatre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12</a:t>
                      </a:r>
                      <a:r>
                        <a:rPr b="0" i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：</a:t>
                      </a: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30 p</a:t>
                      </a: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MingLiU_HKSCS"/>
                          <a:ea typeface="MingLiU_HKSCS"/>
                        </a:rPr>
                        <a:t>.</a:t>
                      </a: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m.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2</a:t>
                      </a: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MingLiU_HKSCS"/>
                          <a:ea typeface="MingLiU_HKSCS"/>
                        </a:rPr>
                        <a:t>.</a:t>
                      </a: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30 p</a:t>
                      </a: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MingLiU_HKSCS"/>
                          <a:ea typeface="MingLiU_HKSCS"/>
                        </a:rPr>
                        <a:t>.</a:t>
                      </a: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m.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5</a:t>
                      </a:r>
                      <a:r>
                        <a:rPr b="0" i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：</a:t>
                      </a: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00 p</a:t>
                      </a: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MingLiU_HKSCS"/>
                          <a:ea typeface="MingLiU_HKSCS"/>
                        </a:rPr>
                        <a:t>.</a:t>
                      </a: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m.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0680">
                <a:tc>
                  <a:txBody>
                    <a:bodyPr lIns="18000" rIns="18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Sea Lion Dance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Sea Theatre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1</a:t>
                      </a:r>
                      <a:r>
                        <a:rPr b="0" i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：</a:t>
                      </a: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30 p</a:t>
                      </a: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MingLiU_HKSCS"/>
                          <a:ea typeface="MingLiU_HKSCS"/>
                        </a:rPr>
                        <a:t>.</a:t>
                      </a: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m.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3</a:t>
                      </a: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MingLiU_HKSCS"/>
                          <a:ea typeface="MingLiU_HKSCS"/>
                        </a:rPr>
                        <a:t>.</a:t>
                      </a: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30 p</a:t>
                      </a: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MingLiU_HKSCS"/>
                          <a:ea typeface="MingLiU_HKSCS"/>
                        </a:rPr>
                        <a:t>.</a:t>
                      </a: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m.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5</a:t>
                      </a:r>
                      <a:r>
                        <a:rPr b="0" i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：</a:t>
                      </a: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30 p</a:t>
                      </a: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MingLiU_HKSCS"/>
                          <a:ea typeface="MingLiU_HKSCS"/>
                        </a:rPr>
                        <a:t>.</a:t>
                      </a: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m.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3" name=""/>
          <p:cNvGraphicFramePr/>
          <p:nvPr/>
        </p:nvGraphicFramePr>
        <p:xfrm>
          <a:off x="571680" y="1293840"/>
          <a:ext cx="8001000" cy="487692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4876920">
                <a:tc>
                  <a:txBody>
                    <a:bodyPr lIns="18000" rIns="18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Sea Lion Dance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Sea Theatre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1</a:t>
                      </a:r>
                      <a:r>
                        <a:rPr b="0" i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：</a:t>
                      </a: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30 p</a:t>
                      </a: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MingLiU_HKSCS"/>
                          <a:ea typeface="MingLiU_HKSCS"/>
                        </a:rPr>
                        <a:t>.</a:t>
                      </a: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m.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3</a:t>
                      </a: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MingLiU_HKSCS"/>
                          <a:ea typeface="MingLiU_HKSCS"/>
                        </a:rPr>
                        <a:t>.</a:t>
                      </a: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30 p</a:t>
                      </a: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MingLiU_HKSCS"/>
                          <a:ea typeface="MingLiU_HKSCS"/>
                        </a:rPr>
                        <a:t>.</a:t>
                      </a:r>
                      <a:r>
                        <a:rPr b="0" i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m.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libri"/>
                          <a:ea typeface="Times New Roman"/>
                        </a:rPr>
                        <a:t>Showtime Tips: 1.Arrive at least 15 minutes before each show begins to get yourself a good seat as the theatres will be closed when the seats are full. 2.For shows like Sea Lion Dance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libri"/>
                          <a:ea typeface="Times New Roman"/>
                        </a:rPr>
                        <a:t>， 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libri"/>
                          <a:ea typeface="Times New Roman"/>
                        </a:rPr>
                        <a:t>please don’t sit near the animals if you do not wish to get wet(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libri"/>
                          <a:ea typeface="Times New Roman"/>
                        </a:rPr>
                        <a:t>湿的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libri"/>
                          <a:ea typeface="Times New Roman"/>
                        </a:rPr>
                        <a:t>).  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4" name="图片 40" descr="C64"/>
          <p:cNvPicPr/>
          <p:nvPr/>
        </p:nvPicPr>
        <p:blipFill>
          <a:blip r:embed="rId1"/>
          <a:stretch/>
        </p:blipFill>
        <p:spPr>
          <a:xfrm>
            <a:off x="4500720" y="1293840"/>
            <a:ext cx="269712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5" name=""/>
          <p:cNvGraphicFramePr/>
          <p:nvPr/>
        </p:nvGraphicFramePr>
        <p:xfrm>
          <a:off x="571680" y="1293840"/>
          <a:ext cx="8001000" cy="402588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4025880">
                <a:tc>
                  <a:txBody>
                    <a:bodyPr lIns="18000" rIns="18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libri"/>
                          <a:ea typeface="Times New Roman"/>
                        </a:rPr>
                        <a:t>3.Do not feed ①the animals or take photos at the show. 4.Each show lasts(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libri"/>
                          <a:ea typeface="Times New Roman"/>
                        </a:rPr>
                        <a:t>持续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libri"/>
                          <a:ea typeface="Times New Roman"/>
                        </a:rPr>
                        <a:t>) 20 minutes and all the shows are for free. 5.There won’t be any shows if it rains or snows. www.wrs.com.sg 80 Lake Road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libri"/>
                          <a:ea typeface="Times New Roman"/>
                        </a:rPr>
                        <a:t>， 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libri"/>
                          <a:ea typeface="Times New Roman"/>
                        </a:rPr>
                        <a:t>Springfield    Tel: (65) 6269 3411 Opening Hours:  8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libri"/>
                          <a:ea typeface="Times New Roman"/>
                        </a:rPr>
                        <a:t>：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libri"/>
                          <a:ea typeface="Times New Roman"/>
                        </a:rPr>
                        <a:t>30 a.m. to 6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libri"/>
                          <a:ea typeface="Times New Roman"/>
                        </a:rPr>
                        <a:t>：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libri"/>
                          <a:ea typeface="Times New Roman"/>
                        </a:rPr>
                        <a:t>00 p.m. every day—Last ticket(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libri"/>
                          <a:ea typeface="Times New Roman"/>
                        </a:rPr>
                        <a:t>票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libri"/>
                          <a:ea typeface="Times New Roman"/>
                        </a:rPr>
                        <a:t>) sale at 5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libri"/>
                          <a:ea typeface="Times New Roman"/>
                        </a:rPr>
                        <a:t>：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libri"/>
                          <a:ea typeface="Times New Roman"/>
                        </a:rPr>
                        <a:t>30 p.m. 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Box 4"/>
          <p:cNvSpPr/>
          <p:nvPr/>
        </p:nvSpPr>
        <p:spPr>
          <a:xfrm>
            <a:off x="468360" y="1268280"/>
            <a:ext cx="82803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(   )1.This passage is for _____ to read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A.zoo visitors   B.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museum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visitors   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C.zoo guides</a:t>
            </a:r>
            <a:r>
              <a:rPr b="1" lang="en-US" sz="3200" spc="-1" strike="noStrike" baseline="30000">
                <a:solidFill>
                  <a:srgbClr val="232226"/>
                </a:solidFill>
                <a:latin typeface="Arial"/>
              </a:rPr>
              <a:t>②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  D.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museum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guides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(   )2.The first Monkey Show is over at _____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A.10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：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00 a.m.   B.10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：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20 a.m.   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C.2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：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00 p.m.   D.4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：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30 p.m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637" name="TextBox 5"/>
          <p:cNvSpPr/>
          <p:nvPr/>
        </p:nvSpPr>
        <p:spPr>
          <a:xfrm>
            <a:off x="611280" y="147492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638" name="TextBox 5"/>
          <p:cNvSpPr/>
          <p:nvPr/>
        </p:nvSpPr>
        <p:spPr>
          <a:xfrm>
            <a:off x="628560" y="36432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Box 4"/>
          <p:cNvSpPr/>
          <p:nvPr/>
        </p:nvSpPr>
        <p:spPr>
          <a:xfrm>
            <a:off x="468360" y="126828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(   )3.If you don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t get to a show earlier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_____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A.you can not enjoy the show  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B.you will get wet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C.you won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t get a good seat  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D.you have to spend some money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640" name="TextBox 5"/>
          <p:cNvSpPr/>
          <p:nvPr/>
        </p:nvSpPr>
        <p:spPr>
          <a:xfrm>
            <a:off x="611280" y="147492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Box 4"/>
          <p:cNvSpPr/>
          <p:nvPr/>
        </p:nvSpPr>
        <p:spPr>
          <a:xfrm>
            <a:off x="468360" y="1268280"/>
            <a:ext cx="8280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got the eggs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cleaned and put </a:t>
            </a:r>
            <a:r>
              <a:rPr b="0" lang="en-US" sz="3200" spc="-1" strike="noStrike" u="sng">
                <a:solidFill>
                  <a:srgbClr val="232226"/>
                </a:solidFill>
                <a:uFillTx/>
                <a:latin typeface="Arial"/>
              </a:rPr>
              <a:t>  3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in the boxes.We </a:t>
            </a:r>
            <a:r>
              <a:rPr b="0" lang="en-US" sz="3200" spc="-1" strike="noStrike" u="sng">
                <a:solidFill>
                  <a:srgbClr val="232226"/>
                </a:solidFill>
                <a:uFillTx/>
                <a:latin typeface="Arial"/>
              </a:rPr>
              <a:t>  4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helped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milk the cows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.It was such a great fun.My uncle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grew</a:t>
            </a:r>
            <a:r>
              <a:rPr b="1" lang="en-US" sz="3200" spc="-1" strike="noStrike" baseline="30000">
                <a:solidFill>
                  <a:srgbClr val="232226"/>
                </a:solidFill>
                <a:latin typeface="Arial"/>
              </a:rPr>
              <a:t>①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fruits on the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farm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too.We</a:t>
            </a:r>
            <a:r>
              <a:rPr b="0" lang="en-US" sz="3200" spc="-1" strike="noStrike" u="sng">
                <a:solidFill>
                  <a:srgbClr val="232226"/>
                </a:solidFill>
                <a:uFillTx/>
                <a:latin typeface="Arial"/>
              </a:rPr>
              <a:t>  5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strawberries with him every day.Every morning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my uncle went to the town to sell the eggs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232226"/>
                </a:solidFill>
                <a:uFillTx/>
                <a:latin typeface="Arial"/>
              </a:rPr>
              <a:t>  6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and the strawberries.They </a:t>
            </a:r>
            <a:r>
              <a:rPr b="0" lang="en-US" sz="3200" spc="-1" strike="noStrike" u="sng">
                <a:solidFill>
                  <a:srgbClr val="232226"/>
                </a:solidFill>
                <a:uFillTx/>
                <a:latin typeface="Arial"/>
              </a:rPr>
              <a:t>  7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very well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Box 4"/>
          <p:cNvSpPr/>
          <p:nvPr/>
        </p:nvSpPr>
        <p:spPr>
          <a:xfrm>
            <a:off x="468360" y="1268280"/>
            <a:ext cx="8280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(   ) 4.You can _____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feed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the animals at the shows  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take photos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of the shows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C.watch the shows on a rainy or snowy day  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D.buy tickets to the zoo at 5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：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00 p.m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642" name="TextBox 5"/>
          <p:cNvSpPr/>
          <p:nvPr/>
        </p:nvSpPr>
        <p:spPr>
          <a:xfrm>
            <a:off x="611280" y="147492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Box 4"/>
          <p:cNvSpPr/>
          <p:nvPr/>
        </p:nvSpPr>
        <p:spPr>
          <a:xfrm>
            <a:off x="468360" y="1268280"/>
            <a:ext cx="8280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(   )5.The zoo is open for _____ every day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A.20 minutes  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B.seven hours and a half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C.nine hours  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D.nine hours and a half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611280" y="147492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5" name=""/>
          <p:cNvGraphicFramePr/>
          <p:nvPr/>
        </p:nvGraphicFramePr>
        <p:xfrm>
          <a:off x="500040" y="1508040"/>
          <a:ext cx="8143920" cy="5121360"/>
        </p:xfrm>
        <a:graphic>
          <a:graphicData uri="http://schemas.openxmlformats.org/drawingml/2006/table">
            <a:tbl>
              <a:tblPr/>
              <a:tblGrid>
                <a:gridCol w="8143920"/>
              </a:tblGrid>
              <a:tr h="5121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32226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Times New Roman"/>
                          <a:ea typeface="Times New Roman"/>
                        </a:rPr>
                        <a:t>难点释疑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①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feed 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是及物动词，意为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“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喂养，饲养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”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。如：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My mother often feeds the animals after breakfast.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我妈妈常常在早餐后喂养动物。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libri"/>
                          <a:ea typeface="Cambria"/>
                        </a:rPr>
                        <a:t> 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②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guide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是可数名词，意为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“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向导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”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。如：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This travel guide is very excellent.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这个导游非常棒。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Box 4"/>
          <p:cNvSpPr/>
          <p:nvPr/>
        </p:nvSpPr>
        <p:spPr>
          <a:xfrm>
            <a:off x="468360" y="126828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Sunday  </a:t>
            </a:r>
            <a:r>
              <a:rPr b="1" lang="zh-CN" sz="3200" spc="-1" strike="noStrike">
                <a:solidFill>
                  <a:srgbClr val="232226"/>
                </a:solidFill>
                <a:latin typeface="Arial"/>
              </a:rPr>
              <a:t>星期日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232226"/>
                </a:solidFill>
                <a:latin typeface="Arial"/>
              </a:rPr>
              <a:t>单元综合运用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647" name="TextBox 4"/>
          <p:cNvSpPr/>
          <p:nvPr/>
        </p:nvSpPr>
        <p:spPr>
          <a:xfrm>
            <a:off x="468360" y="321300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32226"/>
                </a:solidFill>
                <a:latin typeface="Arial"/>
              </a:rPr>
              <a:t>读写综合。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232226"/>
                </a:solidFill>
                <a:latin typeface="Arial"/>
              </a:rPr>
              <a:t>信息归纳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8" name=""/>
          <p:cNvGraphicFramePr/>
          <p:nvPr/>
        </p:nvGraphicFramePr>
        <p:xfrm>
          <a:off x="588960" y="1428840"/>
          <a:ext cx="8055000" cy="5121360"/>
        </p:xfrm>
        <a:graphic>
          <a:graphicData uri="http://schemas.openxmlformats.org/drawingml/2006/table">
            <a:tbl>
              <a:tblPr/>
              <a:tblGrid>
                <a:gridCol w="8055000"/>
              </a:tblGrid>
              <a:tr h="5121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Oct 25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，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Tuesday Shower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We </a:t>
                      </a:r>
                      <a:r>
                        <a:rPr b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have a 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terrible </a:t>
                      </a:r>
                      <a:r>
                        <a:rPr b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school trip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 last weekend.Some students were late.Then we waited for half an hour for the school bus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，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but it didn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libri"/>
                          <a:ea typeface="MingLiU_HKSCS"/>
                        </a:rPr>
                        <a:t>’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t arrive. Finally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，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our teacher took us to take the subway.It took us about an hour. 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9" name=""/>
          <p:cNvGraphicFramePr/>
          <p:nvPr/>
        </p:nvGraphicFramePr>
        <p:xfrm>
          <a:off x="588960" y="1428840"/>
          <a:ext cx="8055000" cy="4786200"/>
        </p:xfrm>
        <a:graphic>
          <a:graphicData uri="http://schemas.openxmlformats.org/drawingml/2006/table">
            <a:tbl>
              <a:tblPr/>
              <a:tblGrid>
                <a:gridCol w="8055000"/>
              </a:tblGrid>
              <a:tr h="4786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After we got off the subway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，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we walked and got lost.When we finally arrived at the zoo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，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we were tired and hungry.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We wanted to see koalas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，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but there weren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libri"/>
                          <a:ea typeface="MingLiU_HKSCS"/>
                        </a:rPr>
                        <a:t>’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t any.There were some really beautiful giraffes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，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50" name="图片 42" descr="换2"/>
          <p:cNvPicPr/>
          <p:nvPr/>
        </p:nvPicPr>
        <p:blipFill>
          <a:blip r:embed="rId1"/>
          <a:stretch/>
        </p:blipFill>
        <p:spPr>
          <a:xfrm>
            <a:off x="5357880" y="5143680"/>
            <a:ext cx="128592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1" name=""/>
          <p:cNvGraphicFramePr/>
          <p:nvPr/>
        </p:nvGraphicFramePr>
        <p:xfrm>
          <a:off x="588960" y="1428840"/>
          <a:ext cx="8055000" cy="5121360"/>
        </p:xfrm>
        <a:graphic>
          <a:graphicData uri="http://schemas.openxmlformats.org/drawingml/2006/table">
            <a:tbl>
              <a:tblPr/>
              <a:tblGrid>
                <a:gridCol w="8055000"/>
              </a:tblGrid>
              <a:tr h="5121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but we didn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libri"/>
                          <a:ea typeface="MingLiU_HKSCS"/>
                        </a:rPr>
                        <a:t>’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t see the show because we arrived too late. We left our camera(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相机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) at school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，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so we didn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libri"/>
                          <a:ea typeface="MingLiU_HKSCS"/>
                        </a:rPr>
                        <a:t>’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t </a:t>
                      </a:r>
                      <a:r>
                        <a:rPr b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take any photos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.Then it started to rain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，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and no one had an umbrella or a raincoat.We had to run into a restaurant.Then we had lunch in that restaurant.My friends had some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2" name=""/>
          <p:cNvGraphicFramePr/>
          <p:nvPr/>
        </p:nvGraphicFramePr>
        <p:xfrm>
          <a:off x="588960" y="1428840"/>
          <a:ext cx="8055000" cy="4786200"/>
        </p:xfrm>
        <a:graphic>
          <a:graphicData uri="http://schemas.openxmlformats.org/drawingml/2006/table">
            <a:tbl>
              <a:tblPr/>
              <a:tblGrid>
                <a:gridCol w="8055000"/>
              </a:tblGrid>
              <a:tr h="4786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ice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MingLiU_HKSCS"/>
                          <a:ea typeface="MingLiU_HKSCS"/>
                        </a:rPr>
                        <a:t>-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cream.But I didn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libri"/>
                          <a:ea typeface="MingLiU_HKSCS"/>
                        </a:rPr>
                        <a:t>’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t have any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，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because I don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libri"/>
                          <a:ea typeface="MingLiU_HKSCS"/>
                        </a:rPr>
                        <a:t>’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t like it.We didn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libri"/>
                          <a:ea typeface="MingLiU_HKSCS"/>
                        </a:rPr>
                        <a:t>’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t see many animals because of the rain.Finally we went back to school.We were wet and tired out.I </a:t>
                      </a:r>
                      <a:r>
                        <a:rPr b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didn</a:t>
                      </a: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Calibri"/>
                          <a:ea typeface="MingLiU_HKSCS"/>
                        </a:rPr>
                        <a:t>’</a:t>
                      </a:r>
                      <a:r>
                        <a:rPr b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t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 enjoy my </a:t>
                      </a:r>
                      <a:r>
                        <a:rPr b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school trip at all</a:t>
                      </a:r>
                      <a:r>
                        <a:rPr b="1" lang="en-US" sz="3200" spc="-1" strike="noStrike" baseline="30000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①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.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3" name=""/>
          <p:cNvGraphicFramePr/>
          <p:nvPr/>
        </p:nvGraphicFramePr>
        <p:xfrm>
          <a:off x="428760" y="1803240"/>
          <a:ext cx="8091360" cy="3657600"/>
        </p:xfrm>
        <a:graphic>
          <a:graphicData uri="http://schemas.openxmlformats.org/drawingml/2006/table">
            <a:tbl>
              <a:tblPr/>
              <a:tblGrid>
                <a:gridCol w="4678200"/>
                <a:gridCol w="716040"/>
                <a:gridCol w="2697120"/>
              </a:tblGrid>
              <a:tr h="2194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The place where we </a:t>
                      </a:r>
                      <a:r>
                        <a:rPr b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went for a school trip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 last weekend  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1.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The way(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方式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) how we went there 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2.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4" name="TextBox 4"/>
          <p:cNvSpPr/>
          <p:nvPr/>
        </p:nvSpPr>
        <p:spPr>
          <a:xfrm>
            <a:off x="468360" y="107172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Information Card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655" name="TextBox 5"/>
          <p:cNvSpPr/>
          <p:nvPr/>
        </p:nvSpPr>
        <p:spPr>
          <a:xfrm>
            <a:off x="6300720" y="2286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zoo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6072120" y="45007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y subway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7" name=""/>
          <p:cNvGraphicFramePr/>
          <p:nvPr/>
        </p:nvGraphicFramePr>
        <p:xfrm>
          <a:off x="428760" y="1357200"/>
          <a:ext cx="8091360" cy="3875040"/>
        </p:xfrm>
        <a:graphic>
          <a:graphicData uri="http://schemas.openxmlformats.org/drawingml/2006/table">
            <a:tbl>
              <a:tblPr/>
              <a:tblGrid>
                <a:gridCol w="4678200"/>
                <a:gridCol w="716040"/>
                <a:gridCol w="2697120"/>
              </a:tblGrid>
              <a:tr h="1463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The animals we wanted to see  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3.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9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The reason why we didn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libri"/>
                          <a:ea typeface="MingLiU_HKSCS"/>
                        </a:rPr>
                        <a:t>’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t </a:t>
                      </a:r>
                      <a:r>
                        <a:rPr b="1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take photos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  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4.  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The weather of that day    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5.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8" name="TextBox 5"/>
          <p:cNvSpPr/>
          <p:nvPr/>
        </p:nvSpPr>
        <p:spPr>
          <a:xfrm>
            <a:off x="6072120" y="170172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koalas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659" name="TextBox 5"/>
          <p:cNvSpPr/>
          <p:nvPr/>
        </p:nvSpPr>
        <p:spPr>
          <a:xfrm>
            <a:off x="5929200" y="2928960"/>
            <a:ext cx="2590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e left our camera at school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5929200" y="465120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ainy/shower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Box 4"/>
          <p:cNvSpPr/>
          <p:nvPr/>
        </p:nvSpPr>
        <p:spPr>
          <a:xfrm>
            <a:off x="468360" y="126828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Life on the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farm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was so much </a:t>
            </a:r>
            <a:r>
              <a:rPr b="0" lang="en-US" sz="3200" spc="-1" strike="noStrike" u="sng">
                <a:solidFill>
                  <a:srgbClr val="232226"/>
                </a:solidFill>
                <a:uFillTx/>
                <a:latin typeface="Arial"/>
              </a:rPr>
              <a:t>  8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.We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went fishing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in the early morning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went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232226"/>
                </a:solidFill>
                <a:uFillTx/>
                <a:latin typeface="Arial"/>
              </a:rPr>
              <a:t>  9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a walk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after supper and watched the </a:t>
            </a:r>
            <a:r>
              <a:rPr b="0" lang="en-US" sz="3200" spc="-1" strike="noStrike" u="sng">
                <a:solidFill>
                  <a:srgbClr val="232226"/>
                </a:solidFill>
                <a:uFillTx/>
                <a:latin typeface="Arial"/>
              </a:rPr>
              <a:t>  10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at night when the weather was fine.They were very beautiful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1" name=""/>
          <p:cNvGraphicFramePr/>
          <p:nvPr/>
        </p:nvGraphicFramePr>
        <p:xfrm>
          <a:off x="428760" y="1357200"/>
          <a:ext cx="8091360" cy="2925720"/>
        </p:xfrm>
        <a:graphic>
          <a:graphicData uri="http://schemas.openxmlformats.org/drawingml/2006/table">
            <a:tbl>
              <a:tblPr/>
              <a:tblGrid>
                <a:gridCol w="8091360"/>
              </a:tblGrid>
              <a:tr h="292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32226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Times New Roman"/>
                          <a:ea typeface="Times New Roman"/>
                        </a:rPr>
                        <a:t>难点释疑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①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notat all 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意为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“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一点也不，根本不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”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。如：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We didn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libri"/>
                          <a:ea typeface="MingLiU_HKSCS"/>
                        </a:rPr>
                        <a:t>’</a:t>
                      </a: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t take any photos at all.</a:t>
                      </a: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我们连一张照片都没照。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Box 4"/>
          <p:cNvSpPr/>
          <p:nvPr/>
        </p:nvSpPr>
        <p:spPr>
          <a:xfrm>
            <a:off x="468360" y="126828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232226"/>
                </a:solidFill>
                <a:latin typeface="Arial"/>
              </a:rPr>
              <a:t>书面表达</a:t>
            </a:r>
            <a:r>
              <a:rPr b="1" lang="zh-CN" sz="3200" spc="-1" strike="noStrike" baseline="30000">
                <a:solidFill>
                  <a:srgbClr val="23222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你肯定也有过学校旅行或家庭旅行的经历吧，请你以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The Best School Trip”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或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The Best Family Trip”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为题写一篇短文。内容包括：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旅行的时间、目的地、同伴。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你们所做的事情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至少三件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这次旅行给你的感受。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Box 4"/>
          <p:cNvSpPr/>
          <p:nvPr/>
        </p:nvSpPr>
        <p:spPr>
          <a:xfrm>
            <a:off x="468360" y="1268280"/>
            <a:ext cx="8280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作文要求：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不能照抄原文；不得在作文中出现学校的真实名称和学生的真实姓名。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语句连贯；词数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70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左右。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Box 4"/>
          <p:cNvSpPr/>
          <p:nvPr/>
        </p:nvSpPr>
        <p:spPr>
          <a:xfrm>
            <a:off x="468360" y="126828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232226"/>
                </a:solidFill>
                <a:latin typeface="Arial"/>
              </a:rPr>
              <a:t>写作思路点拨</a:t>
            </a:r>
            <a:r>
              <a:rPr b="1" lang="en-US" sz="3200" spc="-1" strike="noStrike">
                <a:solidFill>
                  <a:srgbClr val="232226"/>
                </a:solidFill>
                <a:latin typeface="Arial"/>
              </a:rPr>
              <a:t>】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第一步：旅行的时间、目的地、同伴。参考句型：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1.I took a trip to _____ on _____ with _____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2.Yesterday I _____ with _____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Box 4"/>
          <p:cNvSpPr/>
          <p:nvPr/>
        </p:nvSpPr>
        <p:spPr>
          <a:xfrm>
            <a:off x="468360" y="1268280"/>
            <a:ext cx="8280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第二步：你们所做的事情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至少三件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参考句型：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1.During the trip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I _____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2.Then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I _____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3.At last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I _____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Box 4"/>
          <p:cNvSpPr/>
          <p:nvPr/>
        </p:nvSpPr>
        <p:spPr>
          <a:xfrm>
            <a:off x="468360" y="1268280"/>
            <a:ext cx="8280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第三步：这次旅行给你的感受。参考句型：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1.I had a _____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2.I enjoyed myself _____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TextBox 4"/>
          <p:cNvSpPr/>
          <p:nvPr/>
        </p:nvSpPr>
        <p:spPr>
          <a:xfrm>
            <a:off x="468360" y="1268280"/>
            <a:ext cx="8280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第四步：检查自己的写作。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(1.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要求的三个内容都写到了吗？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是否有语法错误？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)</a:t>
            </a:r>
            <a:r>
              <a:rPr b="1" lang="en-US" sz="3200" spc="-1" strike="noStrike" baseline="30000">
                <a:solidFill>
                  <a:srgbClr val="23222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_________________________________________________________________________________________________________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_______________________________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Box 5"/>
          <p:cNvSpPr/>
          <p:nvPr/>
        </p:nvSpPr>
        <p:spPr>
          <a:xfrm>
            <a:off x="468360" y="1506600"/>
            <a:ext cx="8246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y Best School Trip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ast summer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 went to the beach with my classmates on the bus.We had great fun playing on the beach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wimming in the water and playing beach soccer.We took many photos there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Box 5"/>
          <p:cNvSpPr/>
          <p:nvPr/>
        </p:nvSpPr>
        <p:spPr>
          <a:xfrm>
            <a:off x="428760" y="928800"/>
            <a:ext cx="82468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n we visited the Blue Water World.We saw many different kinds of fishes there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y were of different colors.Some were big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nd others were small.We had a big seafood lunch later.In the afternoon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 went to the gift shop and bought some toy fish.We were tired but happy.It was my best school trip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Box 4"/>
          <p:cNvSpPr/>
          <p:nvPr/>
        </p:nvSpPr>
        <p:spPr>
          <a:xfrm>
            <a:off x="468360" y="12682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32226"/>
                </a:solidFill>
                <a:latin typeface="Arial"/>
              </a:rPr>
              <a:t>时文阅读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671" name="TextBox 4"/>
          <p:cNvSpPr/>
          <p:nvPr/>
        </p:nvSpPr>
        <p:spPr>
          <a:xfrm>
            <a:off x="620640" y="234936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32226"/>
                </a:solidFill>
                <a:latin typeface="Arial"/>
              </a:rPr>
              <a:t>一、把手表送给有需要的人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620640" y="3286080"/>
          <a:ext cx="7737480" cy="2925720"/>
        </p:xfrm>
        <a:graphic>
          <a:graphicData uri="http://schemas.openxmlformats.org/drawingml/2006/table">
            <a:tbl>
              <a:tblPr/>
              <a:tblGrid>
                <a:gridCol w="1289160"/>
                <a:gridCol w="1289160"/>
                <a:gridCol w="1288800"/>
                <a:gridCol w="1290600"/>
                <a:gridCol w="1289160"/>
                <a:gridCol w="1290600"/>
              </a:tblGrid>
              <a:tr h="1463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题型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体裁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词数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难度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建议完成时间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正确率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完形填空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记叙文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Times New Roman"/>
                        </a:rPr>
                        <a:t>193 words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232226"/>
                          </a:solidFill>
                          <a:latin typeface="Calibri"/>
                          <a:ea typeface="宋体"/>
                        </a:rPr>
                        <a:t>★★★☆☆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Cambria"/>
                        </a:rPr>
                        <a:t>7 min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32226"/>
                          </a:solidFill>
                          <a:latin typeface="Cambria"/>
                          <a:ea typeface="Cambria"/>
                        </a:rPr>
                        <a:t>____/10</a:t>
                      </a:r>
                      <a:endParaRPr b="0" lang="en-US" sz="3200" spc="-1" strike="noStrike">
                        <a:solidFill>
                          <a:srgbClr val="f2f2f2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9T12:14:05Z</dcterms:created>
  <dc:creator/>
  <dc:description/>
  <cp:keywords/>
  <dc:language>en-US</dc:language>
  <cp:lastModifiedBy>User</cp:lastModifiedBy>
  <dcterms:modified xsi:type="dcterms:W3CDTF">2018-03-10T09:32:51Z</dcterms:modified>
  <cp:revision>10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973</vt:lpwstr>
  </property>
</Properties>
</file>