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5.png" ContentType="image/png"/>
  <Override PartName="/ppt/media/image29.jpeg" ContentType="image/jpeg"/>
  <Override PartName="/ppt/media/image31.jpeg" ContentType="image/jpeg"/>
  <Override PartName="/ppt/media/image10.wmf" ContentType="image/x-wmf"/>
  <Override PartName="/ppt/media/image14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995-23B1-43C8-9362-270762CE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339-1B3F-43DA-8FD6-3EAC6D3D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5EC-7F3F-4904-9AFB-0EE54DC0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BBA-E2BA-4B1C-94F5-083E7226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3FBB-B708-4970-A84D-4DCD3109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0423-CD4A-4568-8DEE-1C8CCC16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A81D-8B4E-4C73-A0D9-DC8A7BEE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0541-7A93-426D-8DFA-3AA8BD10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C38F-63FF-4491-B5BA-82BD8CA8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9F5-D721-40F0-BE8C-B840372D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59C-29CC-425A-A335-2D44D676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FA7-9114-4450-9178-A30A022B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86E5-4F71-45AC-8F50-F18D51BE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99BF-5729-4C67-A5E6-F185C6A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3C98-35AF-4543-8F80-AC91CC3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D4CB-8A7F-40EA-AA7E-46929873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AB9F-F958-4EFE-842A-06096E6C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CC35-3308-4628-B5EF-1DF8933A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D19F-A575-412C-83FC-C425358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F6F7-692C-438A-836D-6AE83B6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024F-4587-443F-AA87-B2876EC3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DAE7-51C7-42C4-9378-D5EF0D0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78A-7EA2-4B9A-A520-5F7B0D0F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C4C0-4939-4D59-BA5A-D5E940FF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52B5-541D-4B4A-8F6D-B9CDE0C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FEDD-C3AC-41CB-B07D-0B3A3B14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2628-2331-4517-9E3C-F9C74A3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594B-650B-49A8-AB19-CC168CDE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5574-2FB0-4036-A39F-BA8AC837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67FC9-18DA-4308-81A7-E3183BB7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17E-0398-41A6-AD2B-6254932C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F92-8490-4C5A-AE57-9CB1F888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513-DF5E-4635-8CF8-20161C5D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B35-395B-41D0-A4DE-F9A51290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9F2-7A0F-493C-B7D9-F143FA6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60D-36E3-4916-855E-E70D73B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167-13E5-4A0D-9F10-8E29ABA78B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1CB6-2190-40B8-A9DB-3672F1BC1C0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0B8A-884A-406E-A119-022F2D9F35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image" Target="../media/image14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slide" Target="slide26.xml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slide" Target="slide14.xml"/><Relationship Id="rId5" Type="http://schemas.openxmlformats.org/officeDocument/2006/relationships/image" Target="../media/image2.png"/><Relationship Id="rId6" Type="http://schemas.openxmlformats.org/officeDocument/2006/relationships/image" Target="../media/image1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" Target="slide25.xml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gif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" Target="slide12.xml"/><Relationship Id="rId8" Type="http://schemas.openxmlformats.org/officeDocument/2006/relationships/image" Target="../media/image33.jpeg"/><Relationship Id="rId9" Type="http://schemas.openxmlformats.org/officeDocument/2006/relationships/slide" Target="slide19.xml"/><Relationship Id="rId10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4.gif"/><Relationship Id="rId4" Type="http://schemas.openxmlformats.org/officeDocument/2006/relationships/image" Target="../media/image4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83040" y="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眼睛和眼镜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36360" y="457200"/>
          <a:ext cx="741528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457200"/>
                    <a:ext cx="741528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76000" y="844200"/>
            <a:ext cx="41036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自学研究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P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Tahoma"/>
                <a:ea typeface="黑体"/>
              </a:rPr>
              <a:t>6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741708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眼睛 　　　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隶书"/>
              </a:rPr>
              <a:t>好　像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　照相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＿＿＿　　　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隶书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　镜　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＿＿＿　　　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隶书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　胶　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眼睛通过＿＿＿改变＿＿＿的厚薄，来看清楚近处和远处的物体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 rot="1349400">
            <a:off x="7164000" y="26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24000" y="287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角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2895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晶状体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3505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视网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00720" y="4648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晶状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4648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睫状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50920" y="2133720"/>
            <a:ext cx="856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讨论近视眼和远视眼的形成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近视眼和远视眼采用什么方法进行矫正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8600" y="15228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869000" y="3808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二、师生合作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0" y="605952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916360" y="1168560"/>
          <a:ext cx="511308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168560"/>
                    <a:ext cx="511308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0" y="-76320"/>
          <a:ext cx="770400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632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681200" y="4762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近视眼成因及矫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0" y="609300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1258920" y="2706840"/>
            <a:ext cx="2952720" cy="645480"/>
            <a:chOff x="1258920" y="2706840"/>
            <a:chExt cx="2952720" cy="645480"/>
          </a:xfrm>
        </p:grpSpPr>
        <p:grpSp>
          <p:nvGrpSpPr>
            <p:cNvPr id="335" name=""/>
            <p:cNvGrpSpPr/>
            <p:nvPr/>
          </p:nvGrpSpPr>
          <p:grpSpPr>
            <a:xfrm>
              <a:off x="1258920" y="2706840"/>
              <a:ext cx="2881440" cy="69840"/>
              <a:chOff x="1258920" y="2706840"/>
              <a:chExt cx="2881440" cy="6984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1258920" y="2706840"/>
                <a:ext cx="2881440" cy="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1258920" y="2741760"/>
                <a:ext cx="1519200" cy="3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258920" y="3137040"/>
              <a:ext cx="2952720" cy="215280"/>
              <a:chOff x="1258920" y="3137040"/>
              <a:chExt cx="2952720" cy="215280"/>
            </a:xfrm>
          </p:grpSpPr>
          <p:sp>
            <p:nvSpPr>
              <p:cNvPr id="339" name=""/>
              <p:cNvSpPr/>
              <p:nvPr/>
            </p:nvSpPr>
            <p:spPr>
              <a:xfrm>
                <a:off x="1258920" y="3137040"/>
                <a:ext cx="2952720" cy="21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58920" y="3137040"/>
                <a:ext cx="155664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4427640" y="2743200"/>
            <a:ext cx="2444760" cy="576000"/>
            <a:chOff x="4427640" y="2743200"/>
            <a:chExt cx="2444760" cy="576000"/>
          </a:xfrm>
        </p:grpSpPr>
        <p:sp>
          <p:nvSpPr>
            <p:cNvPr id="342" name=""/>
            <p:cNvSpPr/>
            <p:nvPr/>
          </p:nvSpPr>
          <p:spPr>
            <a:xfrm>
              <a:off x="4495680" y="2743200"/>
              <a:ext cx="237672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427640" y="2743200"/>
              <a:ext cx="2376360" cy="576000"/>
              <a:chOff x="4427640" y="2743200"/>
              <a:chExt cx="2376360" cy="57600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2743200"/>
                <a:ext cx="1252440" cy="252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4427640" y="2959560"/>
                <a:ext cx="2376360" cy="359640"/>
                <a:chOff x="4427640" y="2959560"/>
                <a:chExt cx="2376360" cy="359640"/>
              </a:xfrm>
            </p:grpSpPr>
            <p:sp>
              <p:nvSpPr>
                <p:cNvPr id="346" name=""/>
                <p:cNvSpPr/>
                <p:nvPr/>
              </p:nvSpPr>
              <p:spPr>
                <a:xfrm flipV="1">
                  <a:off x="4427640" y="2959560"/>
                  <a:ext cx="2376360" cy="359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4427640" y="3139920"/>
                  <a:ext cx="125280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8" name=""/>
          <p:cNvSpPr/>
          <p:nvPr/>
        </p:nvSpPr>
        <p:spPr>
          <a:xfrm>
            <a:off x="1258920" y="4724280"/>
            <a:ext cx="68752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晶状体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折光能力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成像于视网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前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近视眼是由于长时间看近处的物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使睫状肌长时间处于收缩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导致其调节能力降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由于睫状肌长时间处于收缩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因此睫状小带一直处于收缩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导致晶状体一直被拉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变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导致前后径加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2916360" y="1168560"/>
          <a:ext cx="511308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168560"/>
                    <a:ext cx="511308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0" y="-63360"/>
          <a:ext cx="7093080" cy="12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63360"/>
                    <a:ext cx="70930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4211640" y="2565360"/>
            <a:ext cx="2592360" cy="934560"/>
            <a:chOff x="4211640" y="2565360"/>
            <a:chExt cx="2592360" cy="934560"/>
          </a:xfrm>
        </p:grpSpPr>
        <p:grpSp>
          <p:nvGrpSpPr>
            <p:cNvPr id="354" name=""/>
            <p:cNvGrpSpPr/>
            <p:nvPr/>
          </p:nvGrpSpPr>
          <p:grpSpPr>
            <a:xfrm>
              <a:off x="4211640" y="2565360"/>
              <a:ext cx="2592360" cy="430920"/>
              <a:chOff x="4211640" y="2565360"/>
              <a:chExt cx="2592360" cy="430920"/>
            </a:xfrm>
          </p:grpSpPr>
          <p:sp>
            <p:nvSpPr>
              <p:cNvPr id="355" name=""/>
              <p:cNvSpPr/>
              <p:nvPr/>
            </p:nvSpPr>
            <p:spPr>
              <a:xfrm>
                <a:off x="4211640" y="2565360"/>
                <a:ext cx="2592360" cy="430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11640" y="2565360"/>
                <a:ext cx="1366920" cy="21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284720" y="2998080"/>
              <a:ext cx="2519280" cy="501840"/>
              <a:chOff x="4284720" y="2998080"/>
              <a:chExt cx="2519280" cy="501840"/>
            </a:xfrm>
          </p:grpSpPr>
          <p:sp>
            <p:nvSpPr>
              <p:cNvPr id="358" name=""/>
              <p:cNvSpPr/>
              <p:nvPr/>
            </p:nvSpPr>
            <p:spPr>
              <a:xfrm flipV="1">
                <a:off x="4284720" y="2998080"/>
                <a:ext cx="2519280" cy="501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4284720" y="3249720"/>
                <a:ext cx="1328400" cy="250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1908000" y="4145040"/>
            <a:ext cx="2016000" cy="718920"/>
            <a:chOff x="1908000" y="4145040"/>
            <a:chExt cx="2016000" cy="718920"/>
          </a:xfrm>
        </p:grpSpPr>
        <p:sp>
          <p:nvSpPr>
            <p:cNvPr id="361" name=""/>
            <p:cNvSpPr/>
            <p:nvPr/>
          </p:nvSpPr>
          <p:spPr>
            <a:xfrm>
              <a:off x="1908000" y="4145040"/>
              <a:ext cx="1800360" cy="718920"/>
            </a:xfrm>
            <a:prstGeom prst="wedgeEllipseCallout">
              <a:avLst>
                <a:gd name="adj1" fmla="val 28481"/>
                <a:gd name="adj2" fmla="val -10982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96720" y="426204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凹透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3059280" y="2344680"/>
            <a:ext cx="504720" cy="122400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3348000" y="2565360"/>
            <a:ext cx="936720" cy="934560"/>
            <a:chOff x="3348000" y="2565360"/>
            <a:chExt cx="936720" cy="934560"/>
          </a:xfrm>
        </p:grpSpPr>
        <p:grpSp>
          <p:nvGrpSpPr>
            <p:cNvPr id="365" name=""/>
            <p:cNvGrpSpPr/>
            <p:nvPr/>
          </p:nvGrpSpPr>
          <p:grpSpPr>
            <a:xfrm>
              <a:off x="3348000" y="3279600"/>
              <a:ext cx="936720" cy="220320"/>
              <a:chOff x="3348000" y="3279600"/>
              <a:chExt cx="936720" cy="220320"/>
            </a:xfrm>
          </p:grpSpPr>
          <p:sp>
            <p:nvSpPr>
              <p:cNvPr id="366" name=""/>
              <p:cNvSpPr/>
              <p:nvPr/>
            </p:nvSpPr>
            <p:spPr>
              <a:xfrm>
                <a:off x="3348000" y="3279600"/>
                <a:ext cx="936720" cy="220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48000" y="3279600"/>
                <a:ext cx="493920" cy="10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348000" y="2565360"/>
              <a:ext cx="863640" cy="139680"/>
              <a:chOff x="3348000" y="2565360"/>
              <a:chExt cx="863640" cy="139680"/>
            </a:xfrm>
          </p:grpSpPr>
          <p:sp>
            <p:nvSpPr>
              <p:cNvPr id="369" name=""/>
              <p:cNvSpPr/>
              <p:nvPr/>
            </p:nvSpPr>
            <p:spPr>
              <a:xfrm flipV="1">
                <a:off x="3348000" y="2565360"/>
                <a:ext cx="863640" cy="139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348000" y="2635560"/>
                <a:ext cx="455400" cy="6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1258920" y="2727000"/>
            <a:ext cx="1944720" cy="539640"/>
            <a:chOff x="1258920" y="2727000"/>
            <a:chExt cx="1944720" cy="539640"/>
          </a:xfrm>
        </p:grpSpPr>
        <p:grpSp>
          <p:nvGrpSpPr>
            <p:cNvPr id="372" name=""/>
            <p:cNvGrpSpPr/>
            <p:nvPr/>
          </p:nvGrpSpPr>
          <p:grpSpPr>
            <a:xfrm>
              <a:off x="1258920" y="3124080"/>
              <a:ext cx="1944720" cy="142560"/>
              <a:chOff x="1258920" y="3124080"/>
              <a:chExt cx="1944720" cy="142560"/>
            </a:xfrm>
          </p:grpSpPr>
          <p:sp>
            <p:nvSpPr>
              <p:cNvPr id="373" name=""/>
              <p:cNvSpPr/>
              <p:nvPr/>
            </p:nvSpPr>
            <p:spPr>
              <a:xfrm>
                <a:off x="1258920" y="3124080"/>
                <a:ext cx="1944720" cy="142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258920" y="3124080"/>
                <a:ext cx="155736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258920" y="2727000"/>
              <a:ext cx="1944720" cy="49680"/>
              <a:chOff x="1258920" y="2727000"/>
              <a:chExt cx="1944720" cy="49680"/>
            </a:xfrm>
          </p:grpSpPr>
          <p:sp>
            <p:nvSpPr>
              <p:cNvPr id="376" name=""/>
              <p:cNvSpPr/>
              <p:nvPr/>
            </p:nvSpPr>
            <p:spPr>
              <a:xfrm flipV="1">
                <a:off x="1258920" y="2727000"/>
                <a:ext cx="1944720" cy="49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1258920" y="2739960"/>
                <a:ext cx="1519200" cy="3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0" y="6093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332000" y="4762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近视眼成因及矫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108000" y="47628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6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583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准分子激光矫正近视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14400" y="2133720"/>
            <a:ext cx="769608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全称应该是“准分子激光屈光性角膜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准分子激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切薄眼角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当于在角膜上加上一个凹透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准分子激光是波长很短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紫外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它与生物组织发生的是光化学效应而不是热效应，因此，不会产生热损伤，更谈不上烧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3637080" y="1628640"/>
          <a:ext cx="331128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7080" y="1628640"/>
                    <a:ext cx="33112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0" y="49320"/>
          <a:ext cx="770400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32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58920" y="6890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远视眼成因及矫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1187280" y="2781720"/>
            <a:ext cx="3168720" cy="862200"/>
            <a:chOff x="1187280" y="2781720"/>
            <a:chExt cx="3168720" cy="862200"/>
          </a:xfrm>
        </p:grpSpPr>
        <p:grpSp>
          <p:nvGrpSpPr>
            <p:cNvPr id="392" name=""/>
            <p:cNvGrpSpPr/>
            <p:nvPr/>
          </p:nvGrpSpPr>
          <p:grpSpPr>
            <a:xfrm>
              <a:off x="1258920" y="2781720"/>
              <a:ext cx="3097080" cy="359640"/>
              <a:chOff x="1258920" y="2781720"/>
              <a:chExt cx="3097080" cy="35964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1258920" y="2781720"/>
                <a:ext cx="3097080" cy="35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258920" y="2962080"/>
                <a:ext cx="1632960" cy="1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187280" y="3141720"/>
              <a:ext cx="3168720" cy="502200"/>
              <a:chOff x="1187280" y="3141720"/>
              <a:chExt cx="3168720" cy="502200"/>
            </a:xfrm>
          </p:grpSpPr>
          <p:sp>
            <p:nvSpPr>
              <p:cNvPr id="396" name=""/>
              <p:cNvSpPr/>
              <p:nvPr/>
            </p:nvSpPr>
            <p:spPr>
              <a:xfrm>
                <a:off x="1187280" y="3141720"/>
                <a:ext cx="3168720" cy="502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87280" y="3141720"/>
                <a:ext cx="1670760" cy="250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1258920" y="508464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晶状体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折光能力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成像于视网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29400" y="2971800"/>
            <a:ext cx="685800" cy="228240"/>
            <a:chOff x="6629400" y="2971800"/>
            <a:chExt cx="685800" cy="228240"/>
          </a:xfrm>
        </p:grpSpPr>
        <p:sp>
          <p:nvSpPr>
            <p:cNvPr id="400" name=""/>
            <p:cNvSpPr/>
            <p:nvPr/>
          </p:nvSpPr>
          <p:spPr>
            <a:xfrm flipV="1">
              <a:off x="6629400" y="3047760"/>
              <a:ext cx="685800" cy="15228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9400" y="2971800"/>
              <a:ext cx="685800" cy="7632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384800" y="2743200"/>
            <a:ext cx="2232000" cy="882720"/>
            <a:chOff x="4384800" y="2743200"/>
            <a:chExt cx="2232000" cy="882720"/>
          </a:xfrm>
        </p:grpSpPr>
        <p:sp>
          <p:nvSpPr>
            <p:cNvPr id="403" name=""/>
            <p:cNvSpPr/>
            <p:nvPr/>
          </p:nvSpPr>
          <p:spPr>
            <a:xfrm>
              <a:off x="4448160" y="2751120"/>
              <a:ext cx="163188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384800" y="2743200"/>
              <a:ext cx="2232000" cy="882720"/>
              <a:chOff x="4384800" y="2743200"/>
              <a:chExt cx="2232000" cy="88272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384800" y="3200400"/>
                <a:ext cx="2232000" cy="425520"/>
                <a:chOff x="4384800" y="3200400"/>
                <a:chExt cx="2232000" cy="425520"/>
              </a:xfrm>
            </p:grpSpPr>
            <p:sp>
              <p:nvSpPr>
                <p:cNvPr id="406" name=""/>
                <p:cNvSpPr/>
                <p:nvPr/>
              </p:nvSpPr>
              <p:spPr>
                <a:xfrm flipV="1">
                  <a:off x="4384800" y="3200400"/>
                  <a:ext cx="2232000" cy="425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4384800" y="3338640"/>
                  <a:ext cx="1594080" cy="287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430880" y="2743200"/>
                <a:ext cx="21510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637080" y="1628640"/>
          <a:ext cx="331128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7080" y="1628640"/>
                    <a:ext cx="33112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0" y="49320"/>
          <a:ext cx="770400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32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4356000" y="2971800"/>
            <a:ext cx="2232000" cy="448920"/>
            <a:chOff x="4356000" y="2971800"/>
            <a:chExt cx="2232000" cy="448920"/>
          </a:xfrm>
        </p:grpSpPr>
        <p:grpSp>
          <p:nvGrpSpPr>
            <p:cNvPr id="415" name=""/>
            <p:cNvGrpSpPr/>
            <p:nvPr/>
          </p:nvGrpSpPr>
          <p:grpSpPr>
            <a:xfrm>
              <a:off x="4356000" y="2971800"/>
              <a:ext cx="2232000" cy="144360"/>
              <a:chOff x="4356000" y="2971800"/>
              <a:chExt cx="2232000" cy="144360"/>
            </a:xfrm>
          </p:grpSpPr>
          <p:sp>
            <p:nvSpPr>
              <p:cNvPr id="416" name=""/>
              <p:cNvSpPr/>
              <p:nvPr/>
            </p:nvSpPr>
            <p:spPr>
              <a:xfrm>
                <a:off x="4356000" y="2971800"/>
                <a:ext cx="223200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56000" y="2971800"/>
                <a:ext cx="1631880" cy="10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427640" y="3139560"/>
              <a:ext cx="2160360" cy="281160"/>
              <a:chOff x="4427640" y="3139560"/>
              <a:chExt cx="2160360" cy="28116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4427640" y="3139560"/>
                <a:ext cx="2160360" cy="281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427640" y="3230640"/>
                <a:ext cx="1542600" cy="18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2124000" y="4005360"/>
            <a:ext cx="1656000" cy="620640"/>
            <a:chOff x="2124000" y="4005360"/>
            <a:chExt cx="1656000" cy="620640"/>
          </a:xfrm>
        </p:grpSpPr>
        <p:sp>
          <p:nvSpPr>
            <p:cNvPr id="422" name=""/>
            <p:cNvSpPr/>
            <p:nvPr/>
          </p:nvSpPr>
          <p:spPr>
            <a:xfrm>
              <a:off x="2124000" y="4005360"/>
              <a:ext cx="1542960" cy="620640"/>
            </a:xfrm>
            <a:prstGeom prst="wedgeEllipseCallout">
              <a:avLst>
                <a:gd name="adj1" fmla="val 24689"/>
                <a:gd name="adj2" fmla="val -9117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98600" y="4051440"/>
              <a:ext cx="14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凸透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3408480" y="2585880"/>
            <a:ext cx="371520" cy="1203480"/>
          </a:xfrm>
          <a:prstGeom prst="rect">
            <a:avLst/>
          </a:prstGeom>
          <a:ln w="0">
            <a:noFill/>
          </a:ln>
        </p:spPr>
      </p:pic>
      <p:grpSp>
        <p:nvGrpSpPr>
          <p:cNvPr id="425" name=""/>
          <p:cNvGrpSpPr/>
          <p:nvPr/>
        </p:nvGrpSpPr>
        <p:grpSpPr>
          <a:xfrm>
            <a:off x="3622680" y="2901960"/>
            <a:ext cx="685800" cy="593640"/>
            <a:chOff x="3622680" y="2901960"/>
            <a:chExt cx="685800" cy="593640"/>
          </a:xfrm>
        </p:grpSpPr>
        <p:sp>
          <p:nvSpPr>
            <p:cNvPr id="426" name=""/>
            <p:cNvSpPr/>
            <p:nvPr/>
          </p:nvSpPr>
          <p:spPr>
            <a:xfrm>
              <a:off x="3622680" y="2901960"/>
              <a:ext cx="685800" cy="69840"/>
            </a:xfrm>
            <a:custGeom>
              <a:avLst/>
              <a:gdLst/>
              <a:ahLst/>
              <a:rect l="l" t="t" r="r" b="b"/>
              <a:pathLst>
                <a:path w="432" h="44">
                  <a:moveTo>
                    <a:pt x="0" y="0"/>
                  </a:moveTo>
                  <a:lnTo>
                    <a:pt x="432" y="4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35280" y="3463920"/>
              <a:ext cx="638280" cy="31680"/>
            </a:xfrm>
            <a:custGeom>
              <a:avLst/>
              <a:gdLst/>
              <a:ahLst/>
              <a:rect l="l" t="t" r="r" b="b"/>
              <a:pathLst>
                <a:path w="402" h="20">
                  <a:moveTo>
                    <a:pt x="0" y="20"/>
                  </a:move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258920" y="6890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远视眼成因及矫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187280" y="2873160"/>
            <a:ext cx="2376720" cy="635040"/>
            <a:chOff x="1187280" y="2873160"/>
            <a:chExt cx="2376720" cy="635040"/>
          </a:xfrm>
        </p:grpSpPr>
        <p:grpSp>
          <p:nvGrpSpPr>
            <p:cNvPr id="430" name=""/>
            <p:cNvGrpSpPr/>
            <p:nvPr/>
          </p:nvGrpSpPr>
          <p:grpSpPr>
            <a:xfrm>
              <a:off x="1258920" y="2873160"/>
              <a:ext cx="2305080" cy="268560"/>
              <a:chOff x="1258920" y="2873160"/>
              <a:chExt cx="2305080" cy="26856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1258920" y="2873160"/>
                <a:ext cx="2305080" cy="268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1258920" y="2962440"/>
                <a:ext cx="1633680" cy="1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187280" y="3141720"/>
              <a:ext cx="2305080" cy="366480"/>
              <a:chOff x="1187280" y="3141720"/>
              <a:chExt cx="2305080" cy="366480"/>
            </a:xfrm>
          </p:grpSpPr>
          <p:sp>
            <p:nvSpPr>
              <p:cNvPr id="434" name=""/>
              <p:cNvSpPr/>
              <p:nvPr/>
            </p:nvSpPr>
            <p:spPr>
              <a:xfrm>
                <a:off x="1187280" y="3141720"/>
                <a:ext cx="2305080" cy="366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87280" y="3141720"/>
                <a:ext cx="1670400" cy="252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1258920" y="508464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晶状体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折光能力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成像于视网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26496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96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258920" y="9050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比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远视眼与近视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11280" y="2349360"/>
          <a:ext cx="7993080" cy="244800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685880"/>
                <a:gridCol w="1511280"/>
              </a:tblGrid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状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折光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像的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矫正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近视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远视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2482920" y="33321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22720" y="41241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64000" y="414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在视网膜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9272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在视网膜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4000" y="33321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82920" y="40989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太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01080" y="340344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凹透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01080" y="414972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凸透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2800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Flash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对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447920" y="8380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眼镜的度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90720" y="1963800"/>
            <a:ext cx="76197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常把透镜焦距的倒数叫做透镜焦度。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，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Φ=1/</a:t>
            </a:r>
            <a:r>
              <a:rPr b="1" lang="en-GB" sz="3200" spc="-1" strike="noStrike">
                <a:solidFill>
                  <a:srgbClr val="000000"/>
                </a:solidFill>
                <a:latin typeface="宋体"/>
              </a:rPr>
              <a:t>f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度数就是镜片的透镜焦度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凸透镜（远视镜）的度数是正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凹透镜（近视镜）的度数是负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108000" y="47628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6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97080" y="620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护眼小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6664320" y="55440"/>
          <a:ext cx="247968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4320" y="55440"/>
                    <a:ext cx="247968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1219320" y="1689120"/>
            <a:ext cx="739116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预防近视 “四不看” “三要”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不躺卧看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不在光线暗的地方看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不在直射的强光下看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不走路看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读写姿势要正确，眼与书的距离要在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厘米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看书、看电视或使用电脑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小时后要休息一下，要远         眺几分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⑦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要定期检查视力，认真做眼保健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rId6" action="ppaction://hlinksldjump"/>
          </p:cNvPr>
          <p:cNvSpPr/>
          <p:nvPr/>
        </p:nvSpPr>
        <p:spPr>
          <a:xfrm>
            <a:off x="8101080" y="5950080"/>
            <a:ext cx="761760" cy="53316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_x001a_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_x001a_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_x001a_"/>
              </a:rPr>
              <a:t>《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_x001a_"/>
              </a:rPr>
              <a:t>假如给我三天光明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 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《假如给我三天光明》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盲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女作家海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凯勒的一篇散文代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海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凯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是美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世纪著名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盲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女作家和演讲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她凭借坚强的意志考入哈佛大学的拉德克里夫学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成为世界上第一个完成大学教育的盲聋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曾入选美国《时代周刊》评选的“人类十大偶像”之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被授予“总统自由奖章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71640" y="9079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42920" y="3286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4000" y="11667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１、以下的四幅图中，分别表示近视眼成像情况和矫正做法的是（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100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 rot="20110200">
            <a:off x="69480" y="1519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452240" y="5348160"/>
            <a:ext cx="63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Ａ、②①　　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③①　　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②④　　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③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1376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908000" y="1963800"/>
            <a:ext cx="5472360" cy="3339360"/>
            <a:chOff x="1908000" y="1963800"/>
            <a:chExt cx="5472360" cy="3339360"/>
          </a:xfrm>
        </p:grpSpPr>
        <p:sp>
          <p:nvSpPr>
            <p:cNvPr id="469" name=""/>
            <p:cNvSpPr/>
            <p:nvPr/>
          </p:nvSpPr>
          <p:spPr>
            <a:xfrm>
              <a:off x="3237120" y="30686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75520" y="48434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68800" y="47703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45280" y="31161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3"/>
            <a:stretch/>
          </p:blipFill>
          <p:spPr>
            <a:xfrm>
              <a:off x="4959360" y="3693960"/>
              <a:ext cx="213372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4"/>
            <a:stretch/>
          </p:blipFill>
          <p:spPr>
            <a:xfrm>
              <a:off x="1987560" y="3629160"/>
              <a:ext cx="20574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5"/>
            <a:stretch/>
          </p:blipFill>
          <p:spPr>
            <a:xfrm>
              <a:off x="1908000" y="1976400"/>
              <a:ext cx="223236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6"/>
            <a:stretch/>
          </p:blipFill>
          <p:spPr>
            <a:xfrm>
              <a:off x="4894200" y="1963800"/>
              <a:ext cx="248616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71640" y="9079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2920" y="3286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11667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２、下图是一组眼睛模型，凸透镜相当于晶状体，烧瓶的后壁相当于视网膜，用平行光照射每个模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0920" y="407664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正常眼睛的模型，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眼睛的模型，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眼睛的模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要使光线达到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图视网膜，采取的方法是在凸透镜前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要使光线达到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图视网膜，采取的方法是在凸透镜前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710240" y="405144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近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28000" y="400536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远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85080" y="4724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凹透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85080" y="54928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凸透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 rot="20110200">
            <a:off x="69480" y="151920"/>
            <a:ext cx="1189080" cy="118908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1258920" y="2133720"/>
            <a:ext cx="6624720" cy="1701720"/>
            <a:chOff x="1258920" y="2133720"/>
            <a:chExt cx="6624720" cy="1701720"/>
          </a:xfrm>
        </p:grpSpPr>
        <p:pic>
          <p:nvPicPr>
            <p:cNvPr id="488" name="" descr=""/>
            <p:cNvPicPr/>
            <p:nvPr/>
          </p:nvPicPr>
          <p:blipFill>
            <a:blip r:embed="rId3"/>
            <a:stretch/>
          </p:blipFill>
          <p:spPr>
            <a:xfrm>
              <a:off x="3562200" y="2167200"/>
              <a:ext cx="18734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"/>
            <a:stretch/>
          </p:blipFill>
          <p:spPr>
            <a:xfrm>
              <a:off x="5867280" y="2148120"/>
              <a:ext cx="2016360" cy="16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5"/>
            <a:stretch/>
          </p:blipFill>
          <p:spPr>
            <a:xfrm>
              <a:off x="1258920" y="2133720"/>
              <a:ext cx="187164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756440" y="2430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8360" y="245592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23280" y="245592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108000" y="31284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1284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880" y="380520"/>
            <a:ext cx="201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22960" y="253332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眼睛和眼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19280" y="3068640"/>
            <a:ext cx="288720" cy="1873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22560" y="2421000"/>
            <a:ext cx="5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2560" y="4437000"/>
            <a:ext cx="5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眼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59280" y="2060640"/>
            <a:ext cx="360360" cy="180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62200" y="1844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眼球－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6080" y="247968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角膜、晶状体－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94160" y="29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视网膜－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25240" y="3475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晶状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厚薄可以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59280" y="443700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20680" y="426708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近视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20680" y="513252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远视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18000" y="184464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照相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5964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镜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24360" y="29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胶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29240" y="4292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3800" y="4292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强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0628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20000" y="429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凹透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83240" y="5132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薄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59240" y="5132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弱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60280" y="513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74000" y="51325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凸透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600200" y="83664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作业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42920" y="1844640"/>
            <a:ext cx="7129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完成教科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GB" sz="40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页动手、动  脑学物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完成练习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找一个老花镜，并测出它  的度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108000" y="47628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6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0" y="57276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2340000" y="162864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75564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353328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66600"/>
            <a:ext cx="9144000" cy="6791400"/>
            <a:chOff x="0" y="66600"/>
            <a:chExt cx="9144000" cy="6791400"/>
          </a:xfrm>
        </p:grpSpPr>
        <p:pic>
          <p:nvPicPr>
            <p:cNvPr id="529" name="" descr=""/>
            <p:cNvPicPr/>
            <p:nvPr/>
          </p:nvPicPr>
          <p:blipFill>
            <a:blip r:embed="rId1"/>
            <a:stretch/>
          </p:blipFill>
          <p:spPr>
            <a:xfrm>
              <a:off x="0" y="66600"/>
              <a:ext cx="9144000" cy="67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203640" y="5835600"/>
              <a:ext cx="44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不躺卧看书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3348000" y="404640"/>
              <a:ext cx="579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不在光线暗的地方看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0" y="0"/>
            <a:ext cx="9144000" cy="6764400"/>
            <a:chOff x="0" y="0"/>
            <a:chExt cx="9144000" cy="6764400"/>
          </a:xfrm>
        </p:grpSpPr>
        <p:pic>
          <p:nvPicPr>
            <p:cNvPr id="5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7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003640" y="1484280"/>
              <a:ext cx="349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不在直射的强光下看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7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39640" y="5230800"/>
              <a:ext cx="4826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</a:rPr>
                <a:t>不走路看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0" y="152280"/>
              <a:ext cx="817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读写姿势要正确，眼与书的距离要在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厘米左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3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324000" y="260280"/>
              <a:ext cx="48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看书、看电视或使用电脑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小时后要休息一下，要远眺几分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0" y="0"/>
            <a:ext cx="9215280" cy="6858000"/>
            <a:chOff x="0" y="0"/>
            <a:chExt cx="9215280" cy="6858000"/>
          </a:xfrm>
        </p:grpSpPr>
        <p:pic>
          <p:nvPicPr>
            <p:cNvPr id="556" name="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"/>
            <p:cNvGrpSpPr/>
            <p:nvPr/>
          </p:nvGrpSpPr>
          <p:grpSpPr>
            <a:xfrm>
              <a:off x="539640" y="5013360"/>
              <a:ext cx="8675640" cy="744840"/>
              <a:chOff x="539640" y="5013360"/>
              <a:chExt cx="8675640" cy="744840"/>
            </a:xfrm>
          </p:grpSpPr>
          <p:sp>
            <p:nvSpPr>
              <p:cNvPr id="558" name=""/>
              <p:cNvSpPr/>
              <p:nvPr/>
            </p:nvSpPr>
            <p:spPr>
              <a:xfrm>
                <a:off x="719280" y="5013360"/>
                <a:ext cx="7848360" cy="7192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39640" y="5054760"/>
                <a:ext cx="867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zh-CN" sz="4000" spc="-1" strike="noStrike">
                    <a:solidFill>
                      <a:srgbClr val="ff3300"/>
                    </a:solidFill>
                    <a:latin typeface="Arial"/>
                  </a:rPr>
                  <a:t>要定期检查视力，认真做眼保健操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>
            <a:hlinkClick r:id="rId9" action="ppaction://hlinksldjump"/>
          </p:cNvPr>
          <p:cNvSpPr/>
          <p:nvPr/>
        </p:nvSpPr>
        <p:spPr>
          <a:xfrm>
            <a:off x="8153280" y="61722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8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108000" y="47628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6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3880" y="617040"/>
            <a:ext cx="588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黑体"/>
              </a:rPr>
              <a:t>探究近视眼的矫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猜想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矫正近视眼用凹透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凸透镜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设计实验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①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模拟正常眼睛看物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②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模拟近视眼看物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③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尝试用各种光学器材矫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进行实验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分析和结论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 rot="1349400">
            <a:off x="7092720" y="765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0" y="6119640"/>
            <a:ext cx="9144000" cy="7653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8346960" y="6218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359400" y="0"/>
          <a:ext cx="2784600" cy="340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9400" y="0"/>
                    <a:ext cx="27846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060280"/>
            <a:ext cx="683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眼睛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和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眼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0" y="589608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8000" y="47628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6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429000" y="59738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眼球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1798560"/>
            <a:ext cx="7924680" cy="4147200"/>
            <a:chOff x="838080" y="1798560"/>
            <a:chExt cx="7924680" cy="4147200"/>
          </a:xfrm>
        </p:grpSpPr>
        <p:graphicFrame>
          <p:nvGraphicFramePr>
            <p:cNvPr id="151" name=""/>
            <p:cNvGraphicFramePr/>
            <p:nvPr/>
          </p:nvGraphicFramePr>
          <p:xfrm>
            <a:off x="2734560" y="2144160"/>
            <a:ext cx="4309560" cy="362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34560" y="2144160"/>
                      <a:ext cx="4309560" cy="36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2531520" y="2170080"/>
              <a:ext cx="964800" cy="925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76840" y="1798560"/>
              <a:ext cx="18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睫状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1640" y="2479320"/>
              <a:ext cx="108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角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3036960"/>
              <a:ext cx="17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晶状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08800" y="3603240"/>
              <a:ext cx="11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瞳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5240" y="4584960"/>
              <a:ext cx="11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虹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66640" y="3443040"/>
              <a:ext cx="155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视网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1800" y="2268000"/>
              <a:ext cx="156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玻璃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6440" y="5364360"/>
              <a:ext cx="304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通往大脑的神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7040" y="2949120"/>
              <a:ext cx="960840" cy="495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2760" y="3444840"/>
              <a:ext cx="1286640" cy="247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70000" y="390888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396160" y="4338720"/>
              <a:ext cx="947880" cy="370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511240" y="2577600"/>
              <a:ext cx="1151640" cy="607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324120" y="3754080"/>
              <a:ext cx="47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595560" y="4311720"/>
              <a:ext cx="0" cy="1238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676520" y="914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眼睛是如何看到物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76920" y="3309840"/>
            <a:ext cx="3024000" cy="2938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278136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眼睛看物体原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47640" y="4181400"/>
          <a:ext cx="25884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181400"/>
                    <a:ext cx="2588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62120" y="457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照相机原理：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9280" y="1514520"/>
          <a:ext cx="25884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1514520"/>
                    <a:ext cx="2588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607000" y="1243080"/>
          <a:ext cx="1339920" cy="17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07000" y="1243080"/>
                    <a:ext cx="13399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747800" y="1523880"/>
            <a:ext cx="3959280" cy="1008000"/>
            <a:chOff x="1747800" y="1523880"/>
            <a:chExt cx="3959280" cy="1008000"/>
          </a:xfrm>
        </p:grpSpPr>
        <p:grpSp>
          <p:nvGrpSpPr>
            <p:cNvPr id="181" name=""/>
            <p:cNvGrpSpPr/>
            <p:nvPr/>
          </p:nvGrpSpPr>
          <p:grpSpPr>
            <a:xfrm>
              <a:off x="1747800" y="1523880"/>
              <a:ext cx="3959280" cy="142920"/>
              <a:chOff x="1747800" y="1523880"/>
              <a:chExt cx="3959280" cy="142920"/>
            </a:xfrm>
          </p:grpSpPr>
          <p:sp>
            <p:nvSpPr>
              <p:cNvPr id="182" name=""/>
              <p:cNvSpPr/>
              <p:nvPr/>
            </p:nvSpPr>
            <p:spPr>
              <a:xfrm>
                <a:off x="1747800" y="1523880"/>
                <a:ext cx="395928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47800" y="1523880"/>
                <a:ext cx="2087640" cy="71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747800" y="1523880"/>
              <a:ext cx="3959280" cy="1008000"/>
              <a:chOff x="1747800" y="1523880"/>
              <a:chExt cx="3959280" cy="1008000"/>
            </a:xfrm>
          </p:grpSpPr>
          <p:sp>
            <p:nvSpPr>
              <p:cNvPr id="185" name=""/>
              <p:cNvSpPr/>
              <p:nvPr/>
            </p:nvSpPr>
            <p:spPr>
              <a:xfrm>
                <a:off x="1747800" y="1523880"/>
                <a:ext cx="3959280" cy="10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47800" y="1523880"/>
                <a:ext cx="2016000" cy="50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5724360" y="1676520"/>
            <a:ext cx="1222560" cy="863640"/>
            <a:chOff x="5724360" y="1676520"/>
            <a:chExt cx="1222560" cy="863640"/>
          </a:xfrm>
        </p:grpSpPr>
        <p:graphicFrame>
          <p:nvGraphicFramePr>
            <p:cNvPr id="188" name=""/>
            <p:cNvGraphicFramePr/>
            <p:nvPr/>
          </p:nvGraphicFramePr>
          <p:xfrm>
            <a:off x="6873840" y="1893960"/>
            <a:ext cx="73080" cy="358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73840" y="1893960"/>
                      <a:ext cx="7308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"/>
            <p:cNvGrpSpPr/>
            <p:nvPr/>
          </p:nvGrpSpPr>
          <p:grpSpPr>
            <a:xfrm>
              <a:off x="5724360" y="1676520"/>
              <a:ext cx="1152720" cy="863640"/>
              <a:chOff x="5724360" y="1676520"/>
              <a:chExt cx="1152720" cy="86364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5724360" y="1676520"/>
                <a:ext cx="1152720" cy="576360"/>
                <a:chOff x="5724360" y="1676520"/>
                <a:chExt cx="1152720" cy="576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724360" y="1676520"/>
                  <a:ext cx="1152720" cy="576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724360" y="1676520"/>
                  <a:ext cx="586800" cy="287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724360" y="2252880"/>
                <a:ext cx="1152720" cy="287280"/>
                <a:chOff x="5724360" y="2252880"/>
                <a:chExt cx="1152720" cy="2872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5724360" y="2252880"/>
                  <a:ext cx="1152720" cy="287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5724360" y="2396880"/>
                  <a:ext cx="586800" cy="143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7" name=""/>
          <p:cNvGrpSpPr/>
          <p:nvPr/>
        </p:nvGrpSpPr>
        <p:grpSpPr>
          <a:xfrm>
            <a:off x="1711440" y="4178160"/>
            <a:ext cx="3816360" cy="1079280"/>
            <a:chOff x="1711440" y="4178160"/>
            <a:chExt cx="3816360" cy="1079280"/>
          </a:xfrm>
        </p:grpSpPr>
        <p:grpSp>
          <p:nvGrpSpPr>
            <p:cNvPr id="198" name=""/>
            <p:cNvGrpSpPr/>
            <p:nvPr/>
          </p:nvGrpSpPr>
          <p:grpSpPr>
            <a:xfrm>
              <a:off x="1711440" y="4178160"/>
              <a:ext cx="3816360" cy="215640"/>
              <a:chOff x="1711440" y="4178160"/>
              <a:chExt cx="3816360" cy="215640"/>
            </a:xfrm>
          </p:grpSpPr>
          <p:sp>
            <p:nvSpPr>
              <p:cNvPr id="199" name=""/>
              <p:cNvSpPr/>
              <p:nvPr/>
            </p:nvSpPr>
            <p:spPr>
              <a:xfrm>
                <a:off x="1711440" y="4178160"/>
                <a:ext cx="3816360" cy="215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11440" y="4178160"/>
                <a:ext cx="1727280" cy="106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11440" y="4178160"/>
              <a:ext cx="3816360" cy="1079280"/>
              <a:chOff x="1711440" y="4178160"/>
              <a:chExt cx="3816360" cy="1079280"/>
            </a:xfrm>
          </p:grpSpPr>
          <p:sp>
            <p:nvSpPr>
              <p:cNvPr id="202" name=""/>
              <p:cNvSpPr/>
              <p:nvPr/>
            </p:nvSpPr>
            <p:spPr>
              <a:xfrm>
                <a:off x="1711440" y="4178160"/>
                <a:ext cx="3816360" cy="10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11440" y="4178160"/>
                <a:ext cx="1942920" cy="53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5527800" y="4392720"/>
            <a:ext cx="2068560" cy="864720"/>
            <a:chOff x="5527800" y="4392720"/>
            <a:chExt cx="2068560" cy="864720"/>
          </a:xfrm>
        </p:grpSpPr>
        <p:graphicFrame>
          <p:nvGraphicFramePr>
            <p:cNvPr id="205" name=""/>
            <p:cNvGraphicFramePr/>
            <p:nvPr/>
          </p:nvGraphicFramePr>
          <p:xfrm>
            <a:off x="7523280" y="4610160"/>
            <a:ext cx="73080" cy="358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23280" y="4610160"/>
                      <a:ext cx="7308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7" name=""/>
            <p:cNvGrpSpPr/>
            <p:nvPr/>
          </p:nvGrpSpPr>
          <p:grpSpPr>
            <a:xfrm>
              <a:off x="5527800" y="4392720"/>
              <a:ext cx="2016000" cy="864720"/>
              <a:chOff x="5527800" y="4392720"/>
              <a:chExt cx="2016000" cy="8647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527800" y="4392720"/>
                <a:ext cx="2016000" cy="576000"/>
                <a:chOff x="5527800" y="4392720"/>
                <a:chExt cx="2016000" cy="576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27800" y="4392720"/>
                  <a:ext cx="2016000" cy="57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27800" y="4392720"/>
                  <a:ext cx="1026360" cy="287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527800" y="4968360"/>
                <a:ext cx="2016000" cy="289080"/>
                <a:chOff x="5527800" y="4968360"/>
                <a:chExt cx="2016000" cy="289080"/>
              </a:xfrm>
            </p:grpSpPr>
            <p:sp>
              <p:nvSpPr>
                <p:cNvPr id="212" name=""/>
                <p:cNvSpPr/>
                <p:nvPr/>
              </p:nvSpPr>
              <p:spPr>
                <a:xfrm flipV="1">
                  <a:off x="5527800" y="4968360"/>
                  <a:ext cx="2016000" cy="289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5527800" y="5113080"/>
                  <a:ext cx="102636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906560" y="1676520"/>
          <a:ext cx="3589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1676520"/>
                    <a:ext cx="3589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442200" y="1819440"/>
          <a:ext cx="72072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2200" y="1819440"/>
                    <a:ext cx="720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1042920" y="1965240"/>
            <a:ext cx="935280" cy="1176480"/>
            <a:chOff x="1042920" y="1965240"/>
            <a:chExt cx="935280" cy="1176480"/>
          </a:xfrm>
        </p:grpSpPr>
        <p:grpSp>
          <p:nvGrpSpPr>
            <p:cNvPr id="220" name=""/>
            <p:cNvGrpSpPr/>
            <p:nvPr/>
          </p:nvGrpSpPr>
          <p:grpSpPr>
            <a:xfrm>
              <a:off x="1098720" y="1965240"/>
              <a:ext cx="879480" cy="0"/>
              <a:chOff x="1098720" y="1965240"/>
              <a:chExt cx="879480" cy="0"/>
            </a:xfrm>
          </p:grpSpPr>
          <p:sp>
            <p:nvSpPr>
              <p:cNvPr id="221" name=""/>
              <p:cNvSpPr/>
              <p:nvPr/>
            </p:nvSpPr>
            <p:spPr>
              <a:xfrm>
                <a:off x="1098720" y="1965240"/>
                <a:ext cx="704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44200" y="1965240"/>
                <a:ext cx="234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042920" y="2511720"/>
              <a:ext cx="863280" cy="0"/>
              <a:chOff x="1042920" y="2511720"/>
              <a:chExt cx="863280" cy="0"/>
            </a:xfrm>
          </p:grpSpPr>
          <p:sp>
            <p:nvSpPr>
              <p:cNvPr id="224" name=""/>
              <p:cNvSpPr/>
              <p:nvPr/>
            </p:nvSpPr>
            <p:spPr>
              <a:xfrm>
                <a:off x="1042920" y="2511720"/>
                <a:ext cx="69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2511720"/>
                <a:ext cx="229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098720" y="3141720"/>
              <a:ext cx="863280" cy="0"/>
              <a:chOff x="1098720" y="3141720"/>
              <a:chExt cx="863280" cy="0"/>
            </a:xfrm>
          </p:grpSpPr>
          <p:sp>
            <p:nvSpPr>
              <p:cNvPr id="227" name=""/>
              <p:cNvSpPr/>
              <p:nvPr/>
            </p:nvSpPr>
            <p:spPr>
              <a:xfrm>
                <a:off x="1098720" y="3141720"/>
                <a:ext cx="691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32320" y="3141720"/>
                <a:ext cx="229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193840" y="1892160"/>
            <a:ext cx="2736720" cy="1295280"/>
            <a:chOff x="2193840" y="1892160"/>
            <a:chExt cx="2736720" cy="1295280"/>
          </a:xfrm>
        </p:grpSpPr>
        <p:grpSp>
          <p:nvGrpSpPr>
            <p:cNvPr id="230" name=""/>
            <p:cNvGrpSpPr/>
            <p:nvPr/>
          </p:nvGrpSpPr>
          <p:grpSpPr>
            <a:xfrm>
              <a:off x="2266920" y="2612880"/>
              <a:ext cx="2663640" cy="0"/>
              <a:chOff x="2266920" y="2612880"/>
              <a:chExt cx="2663640" cy="0"/>
            </a:xfrm>
          </p:grpSpPr>
          <p:sp>
            <p:nvSpPr>
              <p:cNvPr id="231" name=""/>
              <p:cNvSpPr/>
              <p:nvPr/>
            </p:nvSpPr>
            <p:spPr>
              <a:xfrm>
                <a:off x="2266920" y="2612880"/>
                <a:ext cx="2663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66920" y="2612880"/>
                <a:ext cx="665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193840" y="2396880"/>
              <a:ext cx="2736720" cy="790560"/>
              <a:chOff x="2193840" y="2396880"/>
              <a:chExt cx="2736720" cy="79056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2193840" y="2396880"/>
                <a:ext cx="2736720" cy="7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193840" y="2971800"/>
                <a:ext cx="738720" cy="21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93840" y="1892160"/>
              <a:ext cx="2736720" cy="720720"/>
              <a:chOff x="2193840" y="1892160"/>
              <a:chExt cx="2736720" cy="720720"/>
            </a:xfrm>
          </p:grpSpPr>
          <p:sp>
            <p:nvSpPr>
              <p:cNvPr id="237" name=""/>
              <p:cNvSpPr/>
              <p:nvPr/>
            </p:nvSpPr>
            <p:spPr>
              <a:xfrm>
                <a:off x="2193840" y="1892160"/>
                <a:ext cx="2736720" cy="72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93840" y="1892160"/>
                <a:ext cx="738720" cy="196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5649840" y="2179800"/>
            <a:ext cx="900000" cy="936360"/>
            <a:chOff x="5649840" y="2179800"/>
            <a:chExt cx="900000" cy="936360"/>
          </a:xfrm>
        </p:grpSpPr>
        <p:grpSp>
          <p:nvGrpSpPr>
            <p:cNvPr id="240" name=""/>
            <p:cNvGrpSpPr/>
            <p:nvPr/>
          </p:nvGrpSpPr>
          <p:grpSpPr>
            <a:xfrm>
              <a:off x="5705640" y="2179800"/>
              <a:ext cx="844200" cy="0"/>
              <a:chOff x="5705640" y="2179800"/>
              <a:chExt cx="844200" cy="0"/>
            </a:xfrm>
          </p:grpSpPr>
          <p:sp>
            <p:nvSpPr>
              <p:cNvPr id="241" name=""/>
              <p:cNvSpPr/>
              <p:nvPr/>
            </p:nvSpPr>
            <p:spPr>
              <a:xfrm>
                <a:off x="5705640" y="2179800"/>
                <a:ext cx="676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25200" y="2179800"/>
                <a:ext cx="224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649840" y="2662200"/>
              <a:ext cx="844200" cy="0"/>
              <a:chOff x="5649840" y="2662200"/>
              <a:chExt cx="844200" cy="0"/>
            </a:xfrm>
          </p:grpSpPr>
          <p:sp>
            <p:nvSpPr>
              <p:cNvPr id="244" name=""/>
              <p:cNvSpPr/>
              <p:nvPr/>
            </p:nvSpPr>
            <p:spPr>
              <a:xfrm>
                <a:off x="5649840" y="2662200"/>
                <a:ext cx="676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69400" y="2662200"/>
                <a:ext cx="224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668920" y="3116160"/>
              <a:ext cx="844200" cy="0"/>
              <a:chOff x="5668920" y="3116160"/>
              <a:chExt cx="844200" cy="0"/>
            </a:xfrm>
          </p:grpSpPr>
          <p:sp>
            <p:nvSpPr>
              <p:cNvPr id="247" name=""/>
              <p:cNvSpPr/>
              <p:nvPr/>
            </p:nvSpPr>
            <p:spPr>
              <a:xfrm>
                <a:off x="5668920" y="3116160"/>
                <a:ext cx="676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88480" y="3116160"/>
                <a:ext cx="224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7018200" y="2179800"/>
            <a:ext cx="1368720" cy="902880"/>
            <a:chOff x="7018200" y="2179800"/>
            <a:chExt cx="1368720" cy="902880"/>
          </a:xfrm>
        </p:grpSpPr>
        <p:grpSp>
          <p:nvGrpSpPr>
            <p:cNvPr id="250" name=""/>
            <p:cNvGrpSpPr/>
            <p:nvPr/>
          </p:nvGrpSpPr>
          <p:grpSpPr>
            <a:xfrm>
              <a:off x="7147080" y="2600640"/>
              <a:ext cx="1239840" cy="0"/>
              <a:chOff x="7147080" y="2600640"/>
              <a:chExt cx="123984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7147080" y="2600640"/>
                <a:ext cx="123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147080" y="2600640"/>
                <a:ext cx="309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7089840" y="2396880"/>
              <a:ext cx="1225440" cy="685800"/>
              <a:chOff x="7089840" y="2396880"/>
              <a:chExt cx="1225440" cy="68580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7089840" y="2396880"/>
                <a:ext cx="12254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089840" y="2895480"/>
                <a:ext cx="330840" cy="186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018200" y="2179800"/>
              <a:ext cx="1311480" cy="603360"/>
              <a:chOff x="7018200" y="2179800"/>
              <a:chExt cx="1311480" cy="603360"/>
            </a:xfrm>
          </p:grpSpPr>
          <p:sp>
            <p:nvSpPr>
              <p:cNvPr id="257" name=""/>
              <p:cNvSpPr/>
              <p:nvPr/>
            </p:nvSpPr>
            <p:spPr>
              <a:xfrm>
                <a:off x="7018200" y="2179800"/>
                <a:ext cx="1311480" cy="60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18200" y="2179800"/>
                <a:ext cx="353880" cy="16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914400" y="4495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同厚度（焦距）的凸透镜对光的折射能力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692280"/>
            <a:ext cx="91440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08000" y="476280"/>
          <a:ext cx="7704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6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552680" y="1066680"/>
            <a:ext cx="67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眼睛通过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睫状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来改变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晶状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形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700360" y="2060640"/>
          <a:ext cx="3600360" cy="34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060640"/>
                    <a:ext cx="360036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19280" y="1066680"/>
            <a:ext cx="67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眼睛通过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睫状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来改变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晶状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形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195640" y="1989000"/>
          <a:ext cx="504036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04036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195640" y="2052720"/>
          <a:ext cx="4968720" cy="36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2052720"/>
                    <a:ext cx="496872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0" y="692280"/>
            <a:ext cx="91440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08000" y="476280"/>
          <a:ext cx="7704000" cy="136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8000" y="476280"/>
                    <a:ext cx="7704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552680" y="1066680"/>
            <a:ext cx="67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眼睛通过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睫状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来改变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晶状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形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997440" y="3083040"/>
          <a:ext cx="331128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83040"/>
                    <a:ext cx="331128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4719600" y="4221000"/>
            <a:ext cx="2232000" cy="824040"/>
            <a:chOff x="4719600" y="4221000"/>
            <a:chExt cx="2232000" cy="824040"/>
          </a:xfrm>
        </p:grpSpPr>
        <p:grpSp>
          <p:nvGrpSpPr>
            <p:cNvPr id="281" name=""/>
            <p:cNvGrpSpPr/>
            <p:nvPr/>
          </p:nvGrpSpPr>
          <p:grpSpPr>
            <a:xfrm>
              <a:off x="4788000" y="4221000"/>
              <a:ext cx="2163600" cy="320040"/>
              <a:chOff x="4788000" y="4221000"/>
              <a:chExt cx="2163600" cy="320040"/>
            </a:xfrm>
          </p:grpSpPr>
          <p:sp>
            <p:nvSpPr>
              <p:cNvPr id="282" name=""/>
              <p:cNvSpPr/>
              <p:nvPr/>
            </p:nvSpPr>
            <p:spPr>
              <a:xfrm>
                <a:off x="4788000" y="4221000"/>
                <a:ext cx="2163600" cy="320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88000" y="4221000"/>
                <a:ext cx="1140840" cy="15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719600" y="4542840"/>
              <a:ext cx="2232000" cy="502200"/>
              <a:chOff x="4719600" y="4542840"/>
              <a:chExt cx="2232000" cy="50220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4719600" y="4542840"/>
                <a:ext cx="2232000" cy="502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719600" y="4794840"/>
                <a:ext cx="1176840" cy="250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755640" y="33544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远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070520" y="44280"/>
          <a:ext cx="3093840" cy="299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0520" y="44280"/>
                    <a:ext cx="3093840" cy="29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0" name=""/>
          <p:cNvGrpSpPr/>
          <p:nvPr/>
        </p:nvGrpSpPr>
        <p:grpSpPr>
          <a:xfrm>
            <a:off x="1690560" y="1154880"/>
            <a:ext cx="2990880" cy="863280"/>
            <a:chOff x="1690560" y="1154880"/>
            <a:chExt cx="2990880" cy="863280"/>
          </a:xfrm>
        </p:grpSpPr>
        <p:grpSp>
          <p:nvGrpSpPr>
            <p:cNvPr id="291" name=""/>
            <p:cNvGrpSpPr/>
            <p:nvPr/>
          </p:nvGrpSpPr>
          <p:grpSpPr>
            <a:xfrm>
              <a:off x="1690560" y="1154880"/>
              <a:ext cx="2955960" cy="401040"/>
              <a:chOff x="1690560" y="1154880"/>
              <a:chExt cx="2955960" cy="401040"/>
            </a:xfrm>
          </p:grpSpPr>
          <p:sp>
            <p:nvSpPr>
              <p:cNvPr id="292" name=""/>
              <p:cNvSpPr/>
              <p:nvPr/>
            </p:nvSpPr>
            <p:spPr>
              <a:xfrm flipV="1">
                <a:off x="1690560" y="1154880"/>
                <a:ext cx="2955960" cy="401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690560" y="1356120"/>
                <a:ext cx="155844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90560" y="1555920"/>
              <a:ext cx="2990880" cy="462240"/>
              <a:chOff x="1690560" y="1555920"/>
              <a:chExt cx="2990880" cy="4622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90560" y="1555920"/>
                <a:ext cx="2990880" cy="462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90560" y="1555920"/>
                <a:ext cx="1576800" cy="230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1692360" y="4220640"/>
            <a:ext cx="3024000" cy="792360"/>
            <a:chOff x="1692360" y="4220640"/>
            <a:chExt cx="3024000" cy="792360"/>
          </a:xfrm>
        </p:grpSpPr>
        <p:grpSp>
          <p:nvGrpSpPr>
            <p:cNvPr id="298" name=""/>
            <p:cNvGrpSpPr/>
            <p:nvPr/>
          </p:nvGrpSpPr>
          <p:grpSpPr>
            <a:xfrm>
              <a:off x="1763640" y="4220640"/>
              <a:ext cx="2952720" cy="73080"/>
              <a:chOff x="1763640" y="4220640"/>
              <a:chExt cx="2952720" cy="7308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1763640" y="4220640"/>
                <a:ext cx="2952720" cy="73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1763640" y="4257360"/>
                <a:ext cx="1556640" cy="3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692360" y="4797360"/>
              <a:ext cx="2952720" cy="215640"/>
              <a:chOff x="1692360" y="4797360"/>
              <a:chExt cx="2952720" cy="215640"/>
            </a:xfrm>
          </p:grpSpPr>
          <p:sp>
            <p:nvSpPr>
              <p:cNvPr id="302" name=""/>
              <p:cNvSpPr/>
              <p:nvPr/>
            </p:nvSpPr>
            <p:spPr>
              <a:xfrm>
                <a:off x="1692360" y="4797360"/>
                <a:ext cx="2952720" cy="215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92360" y="4797360"/>
                <a:ext cx="155664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4646520" y="1155600"/>
            <a:ext cx="2232000" cy="863640"/>
            <a:chOff x="4646520" y="1155600"/>
            <a:chExt cx="2232000" cy="863640"/>
          </a:xfrm>
        </p:grpSpPr>
        <p:grpSp>
          <p:nvGrpSpPr>
            <p:cNvPr id="305" name=""/>
            <p:cNvGrpSpPr/>
            <p:nvPr/>
          </p:nvGrpSpPr>
          <p:grpSpPr>
            <a:xfrm>
              <a:off x="4646520" y="1155600"/>
              <a:ext cx="2232000" cy="359640"/>
              <a:chOff x="4646520" y="1155600"/>
              <a:chExt cx="2232000" cy="359640"/>
            </a:xfrm>
          </p:grpSpPr>
          <p:sp>
            <p:nvSpPr>
              <p:cNvPr id="306" name=""/>
              <p:cNvSpPr/>
              <p:nvPr/>
            </p:nvSpPr>
            <p:spPr>
              <a:xfrm>
                <a:off x="4646520" y="1155600"/>
                <a:ext cx="2232000" cy="35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6520" y="1155600"/>
                <a:ext cx="1176840" cy="1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646520" y="1517040"/>
              <a:ext cx="2232000" cy="502200"/>
              <a:chOff x="4646520" y="1517040"/>
              <a:chExt cx="2232000" cy="50220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4646520" y="1517040"/>
                <a:ext cx="2232000" cy="502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646520" y="1769040"/>
                <a:ext cx="1176840" cy="250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787320" y="47304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近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01:58:32Z</dcterms:created>
  <dc:creator>tyf</dc:creator>
  <dc:description/>
  <dc:language>en-US</dc:language>
  <cp:lastModifiedBy>Sky123.Org</cp:lastModifiedBy>
  <dcterms:modified xsi:type="dcterms:W3CDTF">2015-10-17T07:29:41Z</dcterms:modified>
  <cp:revision>447</cp:revision>
  <dc:subject/>
  <dc:title>第四节  眼睛和眼镜</dc:title>
</cp:coreProperties>
</file>