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wmf" ContentType="image/x-wmf"/>
  <Override PartName="/ppt/media/image22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png" ContentType="image/png"/>
  <Override PartName="/ppt/media/image32.jpeg" ContentType="image/jpeg"/>
  <Override PartName="/ppt/media/image4.jpeg" ContentType="image/jpeg"/>
  <Override PartName="/ppt/media/image8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259-0E33-41EF-90A7-7DB5A40C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FB5-953B-4AD8-86C8-2CC56577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778-3AAD-420C-A647-15CFED0C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F79-65B5-4DA5-991C-43CFFBB5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640-F98A-4337-B882-0AA24C4D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31D-6DE1-4DD5-B730-97410680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64E-62A4-4A62-BC23-8639D244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5EA-77CB-425C-B57A-1CB4DE3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A2B-94BF-41BA-8322-9A9A83E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47B-1DB5-4CBA-A181-AB022F4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32D-D49B-40AF-B36D-07156ED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3FA-00B1-40E6-97EF-C0E8BE11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BD74-941B-401D-8D0A-B7DAEF4F5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J:\&#26032;&#24314;&#25991;&#20214;&#22841;\&#26395;&#36828;&#38236;&#30340;&#21407;&#29702;.sw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C%EC%CE%C4%CD%FB&#1334;%BE%B5&amp;in=13&amp;cl=2&amp;cm=1&amp;sc=0&amp;lm=-1&amp;pn=12&amp;rn=1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chinesehardware.com/tradeinfo/offerdetail/7-221--40661.html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J:\&#26032;&#24314;&#25991;&#20214;&#22841;\&#26174;&#24494;&#38236;&#21407;&#29702;[www.huilange.com].sw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800600" cy="314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762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个仪器我们在生物实验课上是不是用过？这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43828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72200" y="3124080"/>
            <a:ext cx="2075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 txBox="1"/>
            <p:nvPr/>
          </p:nvSpPr>
          <p:spPr>
            <a:xfrm>
              <a:off x="2462040" y="630360"/>
              <a:ext cx="3597480" cy="74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电子显微镜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7037280"/>
            <a:chOff x="0" y="0"/>
            <a:chExt cx="9144000" cy="70372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05920" y="4329000"/>
              <a:ext cx="83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手术显微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553080" y="914400"/>
            <a:ext cx="45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3608" t="12024" r="1795" b="0"/>
          <a:stretch/>
        </p:blipFill>
        <p:spPr>
          <a:xfrm>
            <a:off x="1371600" y="1600200"/>
            <a:ext cx="6858000" cy="4303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2895480"/>
            <a:ext cx="12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靠近眼睛的凸透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83664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）望远镜的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2.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望远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031600" y="-230760"/>
            <a:ext cx="667800" cy="64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靠近被观测物体的凸透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隶书"/>
              </a:rPr>
              <a:t>这是一种常见的望远镜，它也是由两组凸透镜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333360"/>
            <a:ext cx="2232000" cy="936720"/>
          </a:xfrm>
          <a:prstGeom prst="wedgeEllipseCallout">
            <a:avLst>
              <a:gd name="adj1" fmla="val -3768"/>
              <a:gd name="adj2" fmla="val 147625"/>
            </a:avLst>
          </a:prstGeom>
          <a:solidFill>
            <a:srgbClr val="bbe0e3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物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2708280"/>
            <a:ext cx="2232000" cy="936720"/>
          </a:xfrm>
          <a:prstGeom prst="wedgeEllipseCallout">
            <a:avLst>
              <a:gd name="adj1" fmla="val 3486"/>
              <a:gd name="adj2" fmla="val 165592"/>
            </a:avLst>
          </a:prstGeom>
          <a:solidFill>
            <a:srgbClr val="bbe0e3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目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25840" y="1989000"/>
            <a:ext cx="28728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71628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299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43560" y="2997360"/>
            <a:ext cx="55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797360"/>
            <a:ext cx="30956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320" y="3587760"/>
            <a:ext cx="2260080" cy="1191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480" y="2653560"/>
            <a:ext cx="2199960" cy="104436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0" y="3672000"/>
            <a:ext cx="3081600" cy="142056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3716280"/>
            <a:ext cx="361800" cy="1081080"/>
          </a:xfrm>
          <a:prstGeom prst="downArrow">
            <a:avLst>
              <a:gd name="adj1" fmla="val 50000"/>
              <a:gd name="adj2" fmla="val 74701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44040" y="3860640"/>
            <a:ext cx="103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ff9900"/>
                </a:solidFill>
                <a:latin typeface="Times New Roman"/>
              </a:rPr>
              <a:t>目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86040" y="3645000"/>
            <a:ext cx="54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ff99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9120" y="3716280"/>
            <a:ext cx="79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ff99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2060640"/>
            <a:ext cx="360360" cy="3240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3920" y="2997360"/>
            <a:ext cx="55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762520" y="2959200"/>
            <a:ext cx="2107080" cy="181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95800" y="2416320"/>
            <a:ext cx="1764000" cy="237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780000" y="4842000"/>
            <a:ext cx="1296720" cy="1682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92000" y="4869000"/>
            <a:ext cx="21574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5445000"/>
            <a:ext cx="644400" cy="793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924000" y="5445000"/>
            <a:ext cx="647640" cy="792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5445000"/>
            <a:ext cx="357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140000" y="5445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3716280"/>
            <a:ext cx="0" cy="1728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3716280"/>
            <a:ext cx="0" cy="165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rot="19835400">
            <a:off x="7812000" y="2133720"/>
            <a:ext cx="952560" cy="1150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>
            <a:off x="3348000" y="5084640"/>
            <a:ext cx="2448000" cy="158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774400" y="3370680"/>
            <a:ext cx="2683080" cy="170280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328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第一次成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61657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第二次成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458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物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522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70360" y="1197000"/>
            <a:ext cx="729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远处物体射来的光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3040" y="1716120"/>
            <a:ext cx="2259720" cy="1191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51040" y="2921040"/>
            <a:ext cx="2483280" cy="186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）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望远镜的光路图、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望远镜的原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476280"/>
            <a:ext cx="83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物镜的作用（相当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照相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是使远处的物体在焦点附近得到一个缩小的实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14130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目镜的作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相当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放大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相当于放大镜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把物镜成的缩小实像，再一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虚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但仍比物体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03840" y="3645000"/>
            <a:ext cx="59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ff9900"/>
                </a:solidFill>
                <a:latin typeface="Times New Roman"/>
              </a:rPr>
              <a:t>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549360"/>
            <a:ext cx="215640" cy="180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1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0" t="4096" r="0" b="5879"/>
          <a:stretch/>
        </p:blipFill>
        <p:spPr>
          <a:xfrm>
            <a:off x="533520" y="1752480"/>
            <a:ext cx="8105760" cy="3353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34120" y="3581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048120" y="4114800"/>
            <a:ext cx="3200400" cy="12952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048120" y="4266720"/>
            <a:ext cx="3200400" cy="114300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2362320"/>
            <a:ext cx="457200" cy="3038400"/>
          </a:xfrm>
          <a:prstGeom prst="downArrow">
            <a:avLst>
              <a:gd name="adj1" fmla="val 43046"/>
              <a:gd name="adj2" fmla="val 261857"/>
            </a:avLst>
          </a:prstGeom>
          <a:noFill/>
          <a:ln w="3816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78720" y="2758680"/>
            <a:ext cx="2372400" cy="236520"/>
            <a:chOff x="378720" y="2758680"/>
            <a:chExt cx="2372400" cy="236520"/>
          </a:xfrm>
        </p:grpSpPr>
        <p:sp>
          <p:nvSpPr>
            <p:cNvPr id="235" name=""/>
            <p:cNvSpPr/>
            <p:nvPr/>
          </p:nvSpPr>
          <p:spPr>
            <a:xfrm flipV="1">
              <a:off x="378720" y="2823120"/>
              <a:ext cx="2372400" cy="68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006200" y="2758680"/>
              <a:ext cx="368280" cy="236520"/>
              <a:chOff x="1006200" y="2758680"/>
              <a:chExt cx="368280" cy="236520"/>
            </a:xfrm>
          </p:grpSpPr>
          <p:sp>
            <p:nvSpPr>
              <p:cNvPr id="237" name=""/>
              <p:cNvSpPr/>
              <p:nvPr/>
            </p:nvSpPr>
            <p:spPr>
              <a:xfrm>
                <a:off x="1053360" y="2758680"/>
                <a:ext cx="321120" cy="113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006200" y="2871720"/>
                <a:ext cx="368280" cy="123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2714040" y="2853720"/>
            <a:ext cx="3328560" cy="1534320"/>
            <a:chOff x="2714040" y="2853720"/>
            <a:chExt cx="3328560" cy="1534320"/>
          </a:xfrm>
        </p:grpSpPr>
        <p:sp>
          <p:nvSpPr>
            <p:cNvPr id="240" name=""/>
            <p:cNvSpPr/>
            <p:nvPr/>
          </p:nvSpPr>
          <p:spPr>
            <a:xfrm>
              <a:off x="2714040" y="2853720"/>
              <a:ext cx="3328560" cy="1534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515400" y="3167640"/>
              <a:ext cx="406080" cy="240480"/>
              <a:chOff x="3515400" y="3167640"/>
              <a:chExt cx="406080" cy="240480"/>
            </a:xfrm>
          </p:grpSpPr>
          <p:sp>
            <p:nvSpPr>
              <p:cNvPr id="242" name=""/>
              <p:cNvSpPr/>
              <p:nvPr/>
            </p:nvSpPr>
            <p:spPr>
              <a:xfrm>
                <a:off x="3657240" y="3167640"/>
                <a:ext cx="264240" cy="240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3515400" y="3380040"/>
                <a:ext cx="405720" cy="28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6120360" y="3886560"/>
            <a:ext cx="1065600" cy="427320"/>
            <a:chOff x="6120360" y="3886560"/>
            <a:chExt cx="1065600" cy="427320"/>
          </a:xfrm>
        </p:grpSpPr>
        <p:sp>
          <p:nvSpPr>
            <p:cNvPr id="245" name=""/>
            <p:cNvSpPr/>
            <p:nvPr/>
          </p:nvSpPr>
          <p:spPr>
            <a:xfrm flipV="1">
              <a:off x="6120360" y="3886560"/>
              <a:ext cx="1065600" cy="427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6508800" y="4021920"/>
              <a:ext cx="339120" cy="264600"/>
              <a:chOff x="6508800" y="4021920"/>
              <a:chExt cx="339120" cy="26460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6508800" y="4021920"/>
                <a:ext cx="339120" cy="29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63520" y="4021920"/>
                <a:ext cx="284400" cy="264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457200" y="3048120"/>
            <a:ext cx="2286000" cy="609120"/>
            <a:chOff x="457200" y="3048120"/>
            <a:chExt cx="2286000" cy="609120"/>
          </a:xfrm>
        </p:grpSpPr>
        <p:sp>
          <p:nvSpPr>
            <p:cNvPr id="250" name=""/>
            <p:cNvSpPr/>
            <p:nvPr/>
          </p:nvSpPr>
          <p:spPr>
            <a:xfrm>
              <a:off x="457200" y="3219120"/>
              <a:ext cx="228600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71040" y="3048120"/>
              <a:ext cx="356760" cy="417240"/>
              <a:chOff x="671040" y="3048120"/>
              <a:chExt cx="356760" cy="417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2680" y="3048120"/>
                <a:ext cx="285120" cy="277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71040" y="3326040"/>
                <a:ext cx="356760" cy="139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2819520" y="3657600"/>
            <a:ext cx="3200040" cy="533160"/>
            <a:chOff x="2819520" y="3657600"/>
            <a:chExt cx="3200040" cy="533160"/>
          </a:xfrm>
        </p:grpSpPr>
        <p:sp>
          <p:nvSpPr>
            <p:cNvPr id="255" name=""/>
            <p:cNvSpPr/>
            <p:nvPr/>
          </p:nvSpPr>
          <p:spPr>
            <a:xfrm>
              <a:off x="2819520" y="3673080"/>
              <a:ext cx="3200040" cy="517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600000" y="3657600"/>
              <a:ext cx="389520" cy="319320"/>
              <a:chOff x="3600000" y="3657600"/>
              <a:chExt cx="389520" cy="319320"/>
            </a:xfrm>
          </p:grpSpPr>
          <p:sp>
            <p:nvSpPr>
              <p:cNvPr id="257" name=""/>
              <p:cNvSpPr/>
              <p:nvPr/>
            </p:nvSpPr>
            <p:spPr>
              <a:xfrm>
                <a:off x="3678120" y="3657600"/>
                <a:ext cx="311400" cy="212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600000" y="3870360"/>
                <a:ext cx="389520" cy="106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198108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64160" y="4343400"/>
            <a:ext cx="44798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第一次：倒立、缩小、实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4792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望远镜的光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209640" y="3628080"/>
            <a:ext cx="1039680" cy="487080"/>
            <a:chOff x="6209640" y="3628080"/>
            <a:chExt cx="1039680" cy="487080"/>
          </a:xfrm>
        </p:grpSpPr>
        <p:sp>
          <p:nvSpPr>
            <p:cNvPr id="265" name=""/>
            <p:cNvSpPr/>
            <p:nvPr/>
          </p:nvSpPr>
          <p:spPr>
            <a:xfrm flipV="1">
              <a:off x="6209640" y="3628080"/>
              <a:ext cx="1039680" cy="48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582600" y="3782520"/>
              <a:ext cx="336960" cy="280080"/>
              <a:chOff x="6582600" y="3782520"/>
              <a:chExt cx="336960" cy="28008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6582600" y="3782520"/>
                <a:ext cx="336960" cy="48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650640" y="3782520"/>
                <a:ext cx="268920" cy="280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1905120" y="5410080"/>
            <a:ext cx="57150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第二次：“正立”、放大、虚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28240" y="28195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24000" y="1844640"/>
            <a:ext cx="8105760" cy="3724200"/>
            <a:chOff x="324000" y="1844640"/>
            <a:chExt cx="8105760" cy="372420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24000" y="1844640"/>
              <a:ext cx="81057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57680" y="3825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364000" y="3429000"/>
            <a:ext cx="144720" cy="719280"/>
          </a:xfrm>
          <a:prstGeom prst="downArrow">
            <a:avLst>
              <a:gd name="adj1" fmla="val 50000"/>
              <a:gd name="adj2" fmla="val 12425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419640" y="4292640"/>
            <a:ext cx="2455560" cy="720720"/>
          </a:xfrm>
          <a:prstGeom prst="line">
            <a:avLst/>
          </a:prstGeom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492360" y="4149720"/>
            <a:ext cx="2367000" cy="792000"/>
          </a:xfrm>
          <a:prstGeom prst="line">
            <a:avLst/>
          </a:prstGeom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2060640"/>
            <a:ext cx="533160" cy="2938320"/>
          </a:xfrm>
          <a:prstGeom prst="downArrow">
            <a:avLst>
              <a:gd name="adj1" fmla="val 43046"/>
              <a:gd name="adj2" fmla="val 217154"/>
            </a:avLst>
          </a:prstGeom>
          <a:noFill/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50920" y="2924280"/>
            <a:ext cx="2361960" cy="276120"/>
            <a:chOff x="250920" y="2924280"/>
            <a:chExt cx="2361960" cy="276120"/>
          </a:xfrm>
        </p:grpSpPr>
        <p:sp>
          <p:nvSpPr>
            <p:cNvPr id="279" name=""/>
            <p:cNvSpPr/>
            <p:nvPr/>
          </p:nvSpPr>
          <p:spPr>
            <a:xfrm>
              <a:off x="250920" y="2971800"/>
              <a:ext cx="236196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860040" y="2924280"/>
              <a:ext cx="380880" cy="228600"/>
              <a:chOff x="860040" y="2924280"/>
              <a:chExt cx="38088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936360" y="2924280"/>
                <a:ext cx="304560" cy="152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60040" y="3076560"/>
                <a:ext cx="380880" cy="763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2556000" y="3213000"/>
            <a:ext cx="3349080" cy="1076400"/>
            <a:chOff x="2556000" y="3213000"/>
            <a:chExt cx="3349080" cy="1076400"/>
          </a:xfrm>
        </p:grpSpPr>
        <p:sp>
          <p:nvSpPr>
            <p:cNvPr id="284" name=""/>
            <p:cNvSpPr/>
            <p:nvPr/>
          </p:nvSpPr>
          <p:spPr>
            <a:xfrm>
              <a:off x="2556000" y="3213000"/>
              <a:ext cx="3349080" cy="1076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376440" y="3414240"/>
              <a:ext cx="395280" cy="193320"/>
              <a:chOff x="3376440" y="3414240"/>
              <a:chExt cx="395280" cy="193320"/>
            </a:xfrm>
          </p:grpSpPr>
          <p:sp>
            <p:nvSpPr>
              <p:cNvPr id="286" name=""/>
              <p:cNvSpPr/>
              <p:nvPr/>
            </p:nvSpPr>
            <p:spPr>
              <a:xfrm>
                <a:off x="3493080" y="3414240"/>
                <a:ext cx="278640" cy="1933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376440" y="3596400"/>
                <a:ext cx="394920" cy="111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40360" y="3789360"/>
            <a:ext cx="1058400" cy="420120"/>
            <a:chOff x="5940360" y="3789360"/>
            <a:chExt cx="1058400" cy="420120"/>
          </a:xfrm>
        </p:grpSpPr>
        <p:sp>
          <p:nvSpPr>
            <p:cNvPr id="289" name=""/>
            <p:cNvSpPr/>
            <p:nvPr/>
          </p:nvSpPr>
          <p:spPr>
            <a:xfrm flipV="1">
              <a:off x="5940360" y="3789360"/>
              <a:ext cx="1058400" cy="360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61400" y="3926880"/>
              <a:ext cx="395280" cy="282600"/>
              <a:chOff x="6161400" y="3926880"/>
              <a:chExt cx="395280" cy="282600"/>
            </a:xfrm>
          </p:grpSpPr>
          <p:sp>
            <p:nvSpPr>
              <p:cNvPr id="291" name=""/>
              <p:cNvSpPr/>
              <p:nvPr/>
            </p:nvSpPr>
            <p:spPr>
              <a:xfrm>
                <a:off x="6161400" y="3926880"/>
                <a:ext cx="395280" cy="230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188760" y="3949920"/>
                <a:ext cx="367560" cy="259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940360" y="4005000"/>
            <a:ext cx="1258560" cy="329040"/>
            <a:chOff x="5940360" y="4005000"/>
            <a:chExt cx="1258560" cy="329040"/>
          </a:xfrm>
        </p:grpSpPr>
        <p:sp>
          <p:nvSpPr>
            <p:cNvPr id="294" name=""/>
            <p:cNvSpPr/>
            <p:nvPr/>
          </p:nvSpPr>
          <p:spPr>
            <a:xfrm flipV="1">
              <a:off x="5940360" y="4005000"/>
              <a:ext cx="1258560" cy="286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419520" y="4082040"/>
              <a:ext cx="378720" cy="252000"/>
              <a:chOff x="6419520" y="4082040"/>
              <a:chExt cx="378720" cy="252000"/>
            </a:xfrm>
          </p:grpSpPr>
          <p:sp>
            <p:nvSpPr>
              <p:cNvPr id="296" name=""/>
              <p:cNvSpPr/>
              <p:nvPr/>
            </p:nvSpPr>
            <p:spPr>
              <a:xfrm>
                <a:off x="6419520" y="4082040"/>
                <a:ext cx="378720" cy="64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435360" y="4088880"/>
                <a:ext cx="362520" cy="2451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95280" y="3357720"/>
            <a:ext cx="2286000" cy="609120"/>
            <a:chOff x="395280" y="3357720"/>
            <a:chExt cx="2286000" cy="609120"/>
          </a:xfrm>
        </p:grpSpPr>
        <p:sp>
          <p:nvSpPr>
            <p:cNvPr id="299" name=""/>
            <p:cNvSpPr/>
            <p:nvPr/>
          </p:nvSpPr>
          <p:spPr>
            <a:xfrm>
              <a:off x="395280" y="3528720"/>
              <a:ext cx="2286000" cy="438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09120" y="3357720"/>
              <a:ext cx="356760" cy="417240"/>
              <a:chOff x="609120" y="3357720"/>
              <a:chExt cx="356760" cy="417240"/>
            </a:xfrm>
          </p:grpSpPr>
          <p:sp>
            <p:nvSpPr>
              <p:cNvPr id="301" name=""/>
              <p:cNvSpPr/>
              <p:nvPr/>
            </p:nvSpPr>
            <p:spPr>
              <a:xfrm>
                <a:off x="680760" y="3357720"/>
                <a:ext cx="285120" cy="277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09120" y="3635640"/>
                <a:ext cx="356760" cy="1393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2700360" y="4005360"/>
            <a:ext cx="3273120" cy="147600"/>
            <a:chOff x="2700360" y="4005360"/>
            <a:chExt cx="3273120" cy="147600"/>
          </a:xfrm>
        </p:grpSpPr>
        <p:sp>
          <p:nvSpPr>
            <p:cNvPr id="304" name=""/>
            <p:cNvSpPr/>
            <p:nvPr/>
          </p:nvSpPr>
          <p:spPr>
            <a:xfrm>
              <a:off x="2700360" y="4009680"/>
              <a:ext cx="3273120" cy="143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498480" y="4005360"/>
              <a:ext cx="398880" cy="88560"/>
              <a:chOff x="3498480" y="4005360"/>
              <a:chExt cx="398880" cy="88560"/>
            </a:xfrm>
          </p:grpSpPr>
          <p:sp>
            <p:nvSpPr>
              <p:cNvPr id="306" name=""/>
              <p:cNvSpPr/>
              <p:nvPr/>
            </p:nvSpPr>
            <p:spPr>
              <a:xfrm>
                <a:off x="3578760" y="4005360"/>
                <a:ext cx="318600" cy="590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98480" y="4064400"/>
                <a:ext cx="398520" cy="29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19810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物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目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27860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64000" y="42210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0133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16286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9280" y="3716280"/>
            <a:ext cx="115920" cy="115920"/>
          </a:xfrm>
          <a:prstGeom prst="ellipse">
            <a:avLst/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14400" y="321300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46040" y="3141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6920" y="189000"/>
            <a:ext cx="487692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望远镜成像原理图</a:t>
            </a:r>
            <a:endParaRPr b="0" lang="en-US" sz="4800" spc="-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3716280"/>
            <a:ext cx="144360" cy="144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1320 w 576000"/>
              <a:gd name="textAreaRight" fmla="*/ 544680 w 57600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98" y="1350"/>
                </a:lnTo>
                <a:lnTo>
                  <a:pt x="1350" y="135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98" y="20250"/>
                </a:lnTo>
                <a:lnTo>
                  <a:pt x="23298" y="135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298" y="2025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48" h="21600">
                <a:moveTo>
                  <a:pt x="5280" y="3756"/>
                </a:moveTo>
                <a:lnTo>
                  <a:pt x="19368" y="10800"/>
                </a:lnTo>
                <a:lnTo>
                  <a:pt x="528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4792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）望远镜的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92280" y="3429000"/>
            <a:ext cx="31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物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的作用（相当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照相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15560" y="1411200"/>
            <a:ext cx="31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目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的作用（相当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放大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3240" y="4191120"/>
            <a:ext cx="2189520" cy="1096920"/>
          </a:xfrm>
          <a:prstGeom prst="rect">
            <a:avLst/>
          </a:prstGeom>
          <a:noFill/>
          <a:ln w="38160">
            <a:solidFill>
              <a:srgbClr val="ff99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使被观察的物体成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倒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缩小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实像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93600" y="2133720"/>
            <a:ext cx="1543680" cy="1096920"/>
          </a:xfrm>
          <a:prstGeom prst="rect">
            <a:avLst/>
          </a:prstGeom>
          <a:noFill/>
          <a:ln w="38160">
            <a:solidFill>
              <a:srgbClr val="ff99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把物镜成的实像，再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成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虚像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3608" t="12024" r="1795" b="0"/>
          <a:stretch/>
        </p:blipFill>
        <p:spPr>
          <a:xfrm>
            <a:off x="380880" y="3200400"/>
            <a:ext cx="3962520" cy="2865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00400" y="5191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  <a:ea typeface="隶书"/>
              </a:rPr>
              <a:t>疑 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19051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姚体"/>
              </a:rPr>
              <a:t>物体距离物镜很远，它的像却离物镜很近，这样的像应该是缩小的，为什么用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姚体"/>
              </a:rPr>
              <a:t>观察物体时会感到像被放大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4114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，我们能不能看清一个物体，它对我们的眼睛所成“视角”的大小十分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1595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29000" y="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  <a:ea typeface="隶书"/>
              </a:rPr>
              <a:t>视 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11430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姚体"/>
              </a:rPr>
              <a:t>从眼睛的光心向观察物体的两端所引的两条直线的夹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19320" y="1828800"/>
            <a:ext cx="7234200" cy="3063960"/>
            <a:chOff x="1219320" y="1828800"/>
            <a:chExt cx="7234200" cy="306396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219320" y="3368520"/>
              <a:ext cx="684360" cy="8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6858000" y="1828800"/>
              <a:ext cx="1595520" cy="30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flipV="1">
              <a:off x="1752840" y="1873080"/>
              <a:ext cx="59436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8440" y="3811680"/>
              <a:ext cx="58672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4960" y="3521160"/>
              <a:ext cx="151920" cy="88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8120" y="344484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视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3520" y="4952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物体对眼睛所成视角的大小不仅和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物体本身的大小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有关，还和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物体到眼睛的距离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609480" y="533520"/>
            <a:ext cx="8305920" cy="2361960"/>
            <a:chOff x="609480" y="533520"/>
            <a:chExt cx="8305920" cy="2361960"/>
          </a:xfrm>
        </p:grpSpPr>
        <p:sp>
          <p:nvSpPr>
            <p:cNvPr id="342" name=""/>
            <p:cNvSpPr/>
            <p:nvPr/>
          </p:nvSpPr>
          <p:spPr>
            <a:xfrm flipV="1">
              <a:off x="1447560" y="2133360"/>
              <a:ext cx="746784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09480" y="533520"/>
              <a:ext cx="8305920" cy="2361960"/>
              <a:chOff x="609480" y="533520"/>
              <a:chExt cx="8305920" cy="2361960"/>
            </a:xfrm>
          </p:grpSpPr>
          <p:sp>
            <p:nvSpPr>
              <p:cNvPr id="344" name="Tree"/>
              <p:cNvSpPr/>
              <p:nvPr/>
            </p:nvSpPr>
            <p:spPr>
              <a:xfrm>
                <a:off x="609480" y="533520"/>
                <a:ext cx="1523880" cy="2361960"/>
              </a:xfr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71600" y="533520"/>
                <a:ext cx="7543800" cy="159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7073640" y="1752480"/>
                <a:ext cx="165240" cy="532800"/>
              </a:xfrm>
              <a:custGeom>
                <a:avLst/>
                <a:gdLst/>
                <a:ahLst/>
                <a:rect l="l" t="t" r="r" b="b"/>
                <a:pathLst>
                  <a:path w="104" h="336">
                    <a:moveTo>
                      <a:pt x="56" y="0"/>
                    </a:moveTo>
                    <a:cubicBezTo>
                      <a:pt x="28" y="44"/>
                      <a:pt x="0" y="88"/>
                      <a:pt x="8" y="144"/>
                    </a:cubicBezTo>
                    <a:cubicBezTo>
                      <a:pt x="16" y="200"/>
                      <a:pt x="88" y="304"/>
                      <a:pt x="104" y="3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914400" y="3809880"/>
            <a:ext cx="3047400" cy="1676160"/>
            <a:chOff x="914400" y="3809880"/>
            <a:chExt cx="3047400" cy="1676160"/>
          </a:xfrm>
        </p:grpSpPr>
        <p:sp>
          <p:nvSpPr>
            <p:cNvPr id="348" name="Tree"/>
            <p:cNvSpPr/>
            <p:nvPr/>
          </p:nvSpPr>
          <p:spPr>
            <a:xfrm>
              <a:off x="914400" y="3809880"/>
              <a:ext cx="870480" cy="167616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49640" y="3809880"/>
              <a:ext cx="261216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458360" y="4647240"/>
              <a:ext cx="239472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2746440" y="4333320"/>
              <a:ext cx="235800" cy="62856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56" y="0"/>
                  </a:moveTo>
                  <a:cubicBezTo>
                    <a:pt x="28" y="48"/>
                    <a:pt x="0" y="96"/>
                    <a:pt x="8" y="144"/>
                  </a:cubicBezTo>
                  <a:cubicBezTo>
                    <a:pt x="16" y="192"/>
                    <a:pt x="88" y="264"/>
                    <a:pt x="104" y="28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066680" y="5486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通过望远镜看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1066680"/>
            <a:ext cx="1371600" cy="533520"/>
          </a:xfrm>
          <a:prstGeom prst="wedgeRoundRectCallout">
            <a:avLst>
              <a:gd name="adj1" fmla="val -79861"/>
              <a:gd name="adj2" fmla="val 108629"/>
              <a:gd name="adj3" fmla="val 16667"/>
            </a:avLst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05120" y="3352680"/>
            <a:ext cx="2743200" cy="609840"/>
          </a:xfrm>
          <a:prstGeom prst="wedgeRoundRectCallout">
            <a:avLst>
              <a:gd name="adj1" fmla="val -57930"/>
              <a:gd name="adj2" fmla="val 115106"/>
              <a:gd name="adj3" fmla="val 16667"/>
            </a:avLst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缩小的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33526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通过目镜可观察物体的虚像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视角增大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了，好像物体被移近，从而使我们能看清远处的物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65360" y="1752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视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41008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4572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科学家在观察夜象时，要用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46640" y="2895480"/>
            <a:ext cx="241632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4002" t="5494" r="0" b="11199"/>
          <a:stretch/>
        </p:blipFill>
        <p:spPr>
          <a:xfrm>
            <a:off x="304920" y="4481640"/>
            <a:ext cx="3124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562720" y="2592360"/>
            <a:ext cx="2654280" cy="2185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01640" y="324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视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640" y="954000"/>
            <a:ext cx="7829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眼睛的中心向物体两端所引的两条直线的夹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ree"/>
          <p:cNvSpPr/>
          <p:nvPr/>
        </p:nvSpPr>
        <p:spPr>
          <a:xfrm>
            <a:off x="1197000" y="2573280"/>
            <a:ext cx="1216080" cy="2340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62000" y="2619360"/>
            <a:ext cx="5446800" cy="148428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52720" y="3203280"/>
            <a:ext cx="5310000" cy="175572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rot="21502200">
            <a:off x="5020920" y="3463560"/>
            <a:ext cx="272520" cy="50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01" y="227"/>
                </a:moveTo>
                <a:arcTo wR="10800" hR="10800" stAng="-4694392" swAng="9273213"/>
                <a:lnTo>
                  <a:pt x="10800" y="10800"/>
                </a:lnTo>
                <a:close/>
              </a:path>
              <a:path fill="none" w="21600" h="21600">
                <a:moveTo>
                  <a:pt x="13001" y="227"/>
                </a:moveTo>
                <a:arcTo wR="10800" hR="10800" stAng="-4694392" swAng="927321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1469200">
            <a:off x="6505200" y="3427200"/>
            <a:ext cx="181080" cy="45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01" y="227"/>
                </a:moveTo>
                <a:arcTo wR="10800" hR="10800" stAng="-4694392" swAng="9273213"/>
                <a:lnTo>
                  <a:pt x="10800" y="10800"/>
                </a:lnTo>
                <a:close/>
              </a:path>
              <a:path fill="none" w="21600" h="21600">
                <a:moveTo>
                  <a:pt x="13001" y="227"/>
                </a:moveTo>
                <a:arcTo wR="10800" hR="10800" stAng="-4694392" swAng="927321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81280" y="5454720"/>
            <a:ext cx="55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视角与什么因素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3800" y="3429000"/>
            <a:ext cx="584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38800" y="3338640"/>
            <a:ext cx="449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 rot="2438400">
            <a:off x="7721640" y="4193640"/>
            <a:ext cx="752400" cy="7527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 rot="2438400">
            <a:off x="7721640" y="234756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106640" y="2754000"/>
            <a:ext cx="6796080" cy="71604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ree"/>
          <p:cNvSpPr/>
          <p:nvPr/>
        </p:nvSpPr>
        <p:spPr>
          <a:xfrm>
            <a:off x="341280" y="1089000"/>
            <a:ext cx="1523880" cy="2362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06640" y="1089000"/>
            <a:ext cx="6840360" cy="166536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42000" y="1042920"/>
            <a:ext cx="1485720" cy="533520"/>
          </a:xfrm>
          <a:prstGeom prst="wedgeRoundRectCallout">
            <a:avLst>
              <a:gd name="adj1" fmla="val 35361"/>
              <a:gd name="adj2" fmla="val 257736"/>
              <a:gd name="adj3" fmla="val 16667"/>
            </a:avLst>
          </a:prstGeom>
          <a:solidFill>
            <a:srgbClr val="ffffff"/>
          </a:solidFill>
          <a:ln w="9360">
            <a:solidFill>
              <a:srgbClr val="3d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视角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106640" y="4598640"/>
            <a:ext cx="6796080" cy="53964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ree"/>
          <p:cNvSpPr/>
          <p:nvPr/>
        </p:nvSpPr>
        <p:spPr>
          <a:xfrm>
            <a:off x="476280" y="3699000"/>
            <a:ext cx="1171440" cy="1439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62000" y="3699000"/>
            <a:ext cx="6840720" cy="90000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115720" y="466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视角与物体大小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rot="13800">
            <a:off x="6551280" y="2433960"/>
            <a:ext cx="1774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01" y="227"/>
                </a:moveTo>
                <a:arcTo wR="10800" hR="10800" stAng="-4694392" swAng="9273213"/>
                <a:lnTo>
                  <a:pt x="10800" y="10800"/>
                </a:lnTo>
                <a:close/>
              </a:path>
              <a:path fill="none" w="21600" h="21600">
                <a:moveTo>
                  <a:pt x="13001" y="227"/>
                </a:moveTo>
                <a:arcTo wR="10800" hR="10800" stAng="-4694392" swAng="927321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07000" y="2394000"/>
            <a:ext cx="584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rot="252000">
            <a:off x="6820920" y="4463280"/>
            <a:ext cx="88200" cy="23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01" y="227"/>
                </a:moveTo>
                <a:arcTo wR="10800" hR="10800" stAng="-4694392" swAng="9273213"/>
                <a:lnTo>
                  <a:pt x="10800" y="10800"/>
                </a:lnTo>
                <a:close/>
              </a:path>
              <a:path fill="none" w="21600" h="21600">
                <a:moveTo>
                  <a:pt x="13001" y="227"/>
                </a:moveTo>
                <a:arcTo wR="10800" hR="10800" stAng="-4694392" swAng="927321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97360" y="3247920"/>
            <a:ext cx="1351080" cy="495360"/>
          </a:xfrm>
          <a:prstGeom prst="wedgeRoundRectCallout">
            <a:avLst>
              <a:gd name="adj1" fmla="val 52115"/>
              <a:gd name="adj2" fmla="val 217305"/>
              <a:gd name="adj3" fmla="val 16667"/>
            </a:avLst>
          </a:prstGeom>
          <a:solidFill>
            <a:srgbClr val="ffffff"/>
          </a:solidFill>
          <a:ln w="9360">
            <a:solidFill>
              <a:srgbClr val="3d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视角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37360" y="4238640"/>
            <a:ext cx="584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06440" y="5284800"/>
            <a:ext cx="6686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距离相等时，大物体的视角大，小物体的视角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 rot="2438400">
            <a:off x="8140680" y="40604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 rot="2438400">
            <a:off x="8128080" y="192204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 flipV="1">
            <a:off x="1295280" y="2327040"/>
            <a:ext cx="7056720" cy="82692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ree"/>
          <p:cNvSpPr/>
          <p:nvPr/>
        </p:nvSpPr>
        <p:spPr>
          <a:xfrm>
            <a:off x="4226040" y="2979720"/>
            <a:ext cx="1350720" cy="20718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1111320"/>
            <a:ext cx="6975360" cy="121608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07000" y="977760"/>
            <a:ext cx="1575000" cy="533520"/>
          </a:xfrm>
          <a:prstGeom prst="wedgeRoundRectCallout">
            <a:avLst>
              <a:gd name="adj1" fmla="val 29736"/>
              <a:gd name="adj2" fmla="val 205060"/>
              <a:gd name="adj3" fmla="val 16667"/>
            </a:avLst>
          </a:prstGeom>
          <a:noFill/>
          <a:ln w="9360">
            <a:solidFill>
              <a:srgbClr val="3d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视角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944960" y="4509720"/>
            <a:ext cx="3392640" cy="53964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ree"/>
          <p:cNvSpPr/>
          <p:nvPr/>
        </p:nvSpPr>
        <p:spPr>
          <a:xfrm>
            <a:off x="701640" y="1111320"/>
            <a:ext cx="1344600" cy="20476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00680" y="2979720"/>
            <a:ext cx="3419280" cy="153036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1080" y="376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视角与物体远近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5454720"/>
            <a:ext cx="82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大小一定时，看近处的物体，视角大，远处的物体视角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10320" y="2890800"/>
            <a:ext cx="1351080" cy="577800"/>
          </a:xfrm>
          <a:prstGeom prst="wedgeRoundRectCallout">
            <a:avLst>
              <a:gd name="adj1" fmla="val 34134"/>
              <a:gd name="adj2" fmla="val 225000"/>
              <a:gd name="adj3" fmla="val 16667"/>
            </a:avLst>
          </a:prstGeom>
          <a:noFill/>
          <a:ln w="9360">
            <a:solidFill>
              <a:srgbClr val="3d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视角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rot="13800">
            <a:off x="7554600" y="4191480"/>
            <a:ext cx="1774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01" y="227"/>
                </a:moveTo>
                <a:arcTo wR="10800" hR="10800" stAng="-4694392" swAng="9273213"/>
                <a:lnTo>
                  <a:pt x="10800" y="10800"/>
                </a:lnTo>
                <a:close/>
              </a:path>
              <a:path fill="none" w="21600" h="21600">
                <a:moveTo>
                  <a:pt x="13001" y="227"/>
                </a:moveTo>
                <a:arcTo wR="10800" hR="10800" stAng="-4694392" swAng="927321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2011320"/>
            <a:ext cx="58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rot="21564600">
            <a:off x="7542000" y="2190240"/>
            <a:ext cx="88200" cy="23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01" y="227"/>
                </a:moveTo>
                <a:arcTo wR="10800" hR="10800" stAng="-4694392" swAng="9273213"/>
                <a:lnTo>
                  <a:pt x="10800" y="10800"/>
                </a:lnTo>
                <a:close/>
              </a:path>
              <a:path fill="none" w="21600" h="21600">
                <a:moveTo>
                  <a:pt x="13001" y="227"/>
                </a:moveTo>
                <a:arcTo wR="10800" hR="10800" stAng="-4694392" swAng="927321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70680" y="4105440"/>
            <a:ext cx="584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09480" y="1447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望远镜的物镜的直径很大，能够会聚更多的光，使得所成的像更加明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50292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除了凸透镜外，天文望远镜也常用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凹面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做物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5719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457200" y="3809880"/>
            <a:ext cx="2971800" cy="1219320"/>
            <a:chOff x="457200" y="3809880"/>
            <a:chExt cx="2971800" cy="1219320"/>
          </a:xfrm>
        </p:grpSpPr>
        <p:sp>
          <p:nvSpPr>
            <p:cNvPr id="404" name=""/>
            <p:cNvSpPr/>
            <p:nvPr/>
          </p:nvSpPr>
          <p:spPr>
            <a:xfrm>
              <a:off x="457200" y="3809880"/>
              <a:ext cx="2971800" cy="1219320"/>
            </a:xfrm>
            <a:prstGeom prst="wedgeEllipseCallout">
              <a:avLst>
                <a:gd name="adj1" fmla="val 66560"/>
                <a:gd name="adj2" fmla="val 103907"/>
              </a:avLst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4114800"/>
              <a:ext cx="26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  <a:ea typeface="黑体"/>
                </a:rPr>
                <a:t>凹面镜会聚光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51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哈勃天文望远镜。把天文望远镜安置在大气层外，可以免受大气层的干扰，得到更清晰的天体照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735280" cy="55116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987640" y="5661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开普勒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895480" cy="53276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724360" y="5734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开普勒空间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2700360" cy="5472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79280" y="57340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伽利略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5659560" y="1238400"/>
            <a:ext cx="3112920" cy="4178160"/>
            <a:chOff x="5659560" y="1238400"/>
            <a:chExt cx="3112920" cy="4178160"/>
          </a:xfrm>
        </p:grpSpPr>
        <p:pic>
          <p:nvPicPr>
            <p:cNvPr id="41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659560" y="1238400"/>
              <a:ext cx="311292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301080" y="4292640"/>
              <a:ext cx="22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天文望远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33360"/>
            <a:ext cx="3924360" cy="28526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24000" y="189000"/>
            <a:ext cx="57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外线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1116000" y="3645000"/>
            <a:ext cx="3770280" cy="2941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24000" y="4005360"/>
            <a:ext cx="57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数码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76320" y="1219320"/>
          <a:ext cx="8686800" cy="481176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2236680"/>
                <a:gridCol w="294480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Times New Roman"/>
                          <a:ea typeface="方正姚体"/>
                        </a:rPr>
                        <a:t>物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作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Times New Roman"/>
                          <a:ea typeface="方正姚体"/>
                        </a:rPr>
                        <a:t>目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作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大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Times New Roman"/>
                          <a:ea typeface="方正姚体"/>
                        </a:rPr>
                        <a:t>视角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显微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望远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1279440" y="405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228600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被观察的物体成一个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倒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放大实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4382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物镜成的实像，再次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放大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虚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281952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物体的像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放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038480"/>
            <a:ext cx="2362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远处的物体在焦点附近成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倒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缩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实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267080"/>
            <a:ext cx="236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物镜成的实像，再次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放大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虚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91320" y="4267080"/>
            <a:ext cx="30477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物体的像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移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物体的像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放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71360" y="3110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 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684360" y="119700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显微镜和望远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、构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、原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863000" y="3573360"/>
            <a:ext cx="5338080" cy="520560"/>
            <a:chOff x="1863000" y="3573360"/>
            <a:chExt cx="5338080" cy="520560"/>
          </a:xfrm>
        </p:grpSpPr>
        <p:sp>
          <p:nvSpPr>
            <p:cNvPr id="432" name="Rectangle 4"/>
            <p:cNvSpPr/>
            <p:nvPr/>
          </p:nvSpPr>
          <p:spPr>
            <a:xfrm>
              <a:off x="1863000" y="3573360"/>
              <a:ext cx="53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9900cc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）显微镜：放大的实像               放大的虚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"/>
            <p:cNvSpPr/>
            <p:nvPr/>
          </p:nvSpPr>
          <p:spPr>
            <a:xfrm>
              <a:off x="5170320" y="3801960"/>
              <a:ext cx="838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863000" y="4149720"/>
            <a:ext cx="5338080" cy="520560"/>
            <a:chOff x="1863000" y="4149720"/>
            <a:chExt cx="5338080" cy="520560"/>
          </a:xfrm>
        </p:grpSpPr>
        <p:sp>
          <p:nvSpPr>
            <p:cNvPr id="435" name="Rectangle 7"/>
            <p:cNvSpPr/>
            <p:nvPr/>
          </p:nvSpPr>
          <p:spPr>
            <a:xfrm>
              <a:off x="1863000" y="4149720"/>
              <a:ext cx="53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9900cc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）望远镜：缩小的实像               放大的虚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8"/>
            <p:cNvSpPr/>
            <p:nvPr/>
          </p:nvSpPr>
          <p:spPr>
            <a:xfrm>
              <a:off x="5163840" y="4440240"/>
              <a:ext cx="838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9"/>
          <p:cNvSpPr/>
          <p:nvPr/>
        </p:nvSpPr>
        <p:spPr>
          <a:xfrm>
            <a:off x="684360" y="4941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学显微镜的放大倍数等于物镜放大倍数与目镜放大倍数的乘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3594240" y="2060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目镜、物镜均为凸透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2286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一般的放大镜，放大倍数有限，要想看清楚动植物的细胞等非常小的物体，就要使用显微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2824200" cy="263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380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1.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显微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30402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700360" y="260280"/>
            <a:ext cx="3168720" cy="6021360"/>
            <a:chOff x="2700360" y="260280"/>
            <a:chExt cx="3168720" cy="60213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rcRect l="6483" t="1391" r="14387" b="0"/>
            <a:stretch/>
          </p:blipFill>
          <p:spPr>
            <a:xfrm>
              <a:off x="2700360" y="260280"/>
              <a:ext cx="3168720" cy="60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641120" y="1190520"/>
              <a:ext cx="257760" cy="131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5600" y="4047120"/>
              <a:ext cx="259200" cy="133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9280" y="2133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镜筒两端各有一组透镜，每组透镜的作用都相当于一个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260280"/>
            <a:ext cx="2232000" cy="936720"/>
          </a:xfrm>
          <a:prstGeom prst="wedgeEllipseCallout">
            <a:avLst>
              <a:gd name="adj1" fmla="val -97722"/>
              <a:gd name="adj2" fmla="val 52712"/>
            </a:avLst>
          </a:prstGeom>
          <a:solidFill>
            <a:srgbClr val="bbe0e3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目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1700280"/>
            <a:ext cx="2305080" cy="936720"/>
          </a:xfrm>
          <a:prstGeom prst="wedgeEllipseCallout">
            <a:avLst>
              <a:gd name="adj1" fmla="val -96833"/>
              <a:gd name="adj2" fmla="val 194069"/>
            </a:avLst>
          </a:prstGeom>
          <a:solidFill>
            <a:srgbClr val="bbe0e3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物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013360"/>
            <a:ext cx="2808360" cy="936720"/>
          </a:xfrm>
          <a:prstGeom prst="wedgeEllipseCallout">
            <a:avLst>
              <a:gd name="adj1" fmla="val -79055"/>
              <a:gd name="adj2" fmla="val -4574"/>
            </a:avLst>
          </a:prstGeom>
          <a:solidFill>
            <a:srgbClr val="bbe0e3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反光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860640"/>
            <a:ext cx="2737080" cy="936720"/>
          </a:xfrm>
          <a:prstGeom prst="wedgeEllipseCallout">
            <a:avLst>
              <a:gd name="adj1" fmla="val -77203"/>
              <a:gd name="adj2" fmla="val 18643"/>
            </a:avLst>
          </a:prstGeom>
          <a:solidFill>
            <a:srgbClr val="bbe0e3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载物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112536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靠近眼睛的凸透镜</a:t>
            </a:r>
            <a:r>
              <a:rPr b="1" lang="en-US" sz="2800" spc="-1" strike="noStrike">
                <a:solidFill>
                  <a:srgbClr val="ff3399"/>
                </a:solidFill>
                <a:latin typeface="方正姚体"/>
                <a:ea typeface="方正姚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263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靠近被观察物体的凸透镜</a:t>
            </a:r>
            <a:r>
              <a:rPr b="1" lang="en-US" sz="3600" spc="-1" strike="noStrike">
                <a:solidFill>
                  <a:srgbClr val="ff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628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cc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cc00cc"/>
                </a:solidFill>
                <a:latin typeface="隶书"/>
                <a:ea typeface="隶书"/>
              </a:rPr>
              <a:t>）显微镜的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292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凸透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523880" y="2895480"/>
            <a:ext cx="2362320" cy="1571760"/>
            <a:chOff x="1523880" y="2895480"/>
            <a:chExt cx="2362320" cy="1571760"/>
          </a:xfrm>
        </p:grpSpPr>
        <p:sp>
          <p:nvSpPr>
            <p:cNvPr id="68" name=""/>
            <p:cNvSpPr/>
            <p:nvPr/>
          </p:nvSpPr>
          <p:spPr>
            <a:xfrm>
              <a:off x="1523880" y="2895480"/>
              <a:ext cx="2362320" cy="157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 rot="1737600">
              <a:off x="1828800" y="3095640"/>
              <a:ext cx="30456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rot="1737600">
              <a:off x="3047760" y="389412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1735200" cy="2076480"/>
          </a:xfrm>
          <a:prstGeom prst="rect">
            <a:avLst/>
          </a:prstGeom>
          <a:ln w="0">
            <a:noFill/>
          </a:ln>
        </p:spPr>
      </p:pic>
      <p:sp>
        <p:nvSpPr>
          <p:cNvPr id="72" name="未知"/>
          <p:cNvSpPr/>
          <p:nvPr/>
        </p:nvSpPr>
        <p:spPr>
          <a:xfrm>
            <a:off x="6026040" y="3448080"/>
            <a:ext cx="228600" cy="1263600"/>
          </a:xfrm>
          <a:custGeom>
            <a:avLst/>
            <a:gdLst/>
            <a:ahLst/>
            <a:rect l="l" t="t" r="r" b="b"/>
            <a:pathLst>
              <a:path w="719" h="3979">
                <a:moveTo>
                  <a:pt x="719" y="39"/>
                </a:moveTo>
                <a:lnTo>
                  <a:pt x="719" y="0"/>
                </a:lnTo>
                <a:lnTo>
                  <a:pt x="664" y="2052"/>
                </a:lnTo>
                <a:lnTo>
                  <a:pt x="650" y="2199"/>
                </a:lnTo>
                <a:lnTo>
                  <a:pt x="644" y="2272"/>
                </a:lnTo>
                <a:lnTo>
                  <a:pt x="638" y="2344"/>
                </a:lnTo>
                <a:lnTo>
                  <a:pt x="624" y="2486"/>
                </a:lnTo>
                <a:lnTo>
                  <a:pt x="613" y="2626"/>
                </a:lnTo>
                <a:lnTo>
                  <a:pt x="606" y="2695"/>
                </a:lnTo>
                <a:lnTo>
                  <a:pt x="599" y="2764"/>
                </a:lnTo>
                <a:lnTo>
                  <a:pt x="593" y="2831"/>
                </a:lnTo>
                <a:lnTo>
                  <a:pt x="586" y="2895"/>
                </a:lnTo>
                <a:lnTo>
                  <a:pt x="578" y="2957"/>
                </a:lnTo>
                <a:lnTo>
                  <a:pt x="571" y="3017"/>
                </a:lnTo>
                <a:lnTo>
                  <a:pt x="564" y="3075"/>
                </a:lnTo>
                <a:lnTo>
                  <a:pt x="557" y="3130"/>
                </a:lnTo>
                <a:lnTo>
                  <a:pt x="548" y="3181"/>
                </a:lnTo>
                <a:lnTo>
                  <a:pt x="541" y="3232"/>
                </a:lnTo>
                <a:lnTo>
                  <a:pt x="535" y="3281"/>
                </a:lnTo>
                <a:lnTo>
                  <a:pt x="528" y="3328"/>
                </a:lnTo>
                <a:lnTo>
                  <a:pt x="519" y="3372"/>
                </a:lnTo>
                <a:lnTo>
                  <a:pt x="512" y="3414"/>
                </a:lnTo>
                <a:lnTo>
                  <a:pt x="507" y="3433"/>
                </a:lnTo>
                <a:lnTo>
                  <a:pt x="504" y="3453"/>
                </a:lnTo>
                <a:lnTo>
                  <a:pt x="497" y="3491"/>
                </a:lnTo>
                <a:lnTo>
                  <a:pt x="488" y="3525"/>
                </a:lnTo>
                <a:lnTo>
                  <a:pt x="484" y="3541"/>
                </a:lnTo>
                <a:lnTo>
                  <a:pt x="481" y="3549"/>
                </a:lnTo>
                <a:lnTo>
                  <a:pt x="480" y="3558"/>
                </a:lnTo>
                <a:lnTo>
                  <a:pt x="471" y="3588"/>
                </a:lnTo>
                <a:lnTo>
                  <a:pt x="464" y="3617"/>
                </a:lnTo>
                <a:lnTo>
                  <a:pt x="455" y="3643"/>
                </a:lnTo>
                <a:lnTo>
                  <a:pt x="446" y="3667"/>
                </a:lnTo>
                <a:lnTo>
                  <a:pt x="437" y="3688"/>
                </a:lnTo>
                <a:lnTo>
                  <a:pt x="430" y="3707"/>
                </a:lnTo>
                <a:lnTo>
                  <a:pt x="421" y="3724"/>
                </a:lnTo>
                <a:lnTo>
                  <a:pt x="412" y="3739"/>
                </a:lnTo>
                <a:lnTo>
                  <a:pt x="403" y="3752"/>
                </a:lnTo>
                <a:lnTo>
                  <a:pt x="399" y="3756"/>
                </a:lnTo>
                <a:lnTo>
                  <a:pt x="396" y="3758"/>
                </a:lnTo>
                <a:lnTo>
                  <a:pt x="395" y="3762"/>
                </a:lnTo>
                <a:lnTo>
                  <a:pt x="386" y="3770"/>
                </a:lnTo>
                <a:lnTo>
                  <a:pt x="377" y="3775"/>
                </a:lnTo>
                <a:lnTo>
                  <a:pt x="368" y="3779"/>
                </a:lnTo>
                <a:lnTo>
                  <a:pt x="359" y="3780"/>
                </a:lnTo>
                <a:lnTo>
                  <a:pt x="349" y="3779"/>
                </a:lnTo>
                <a:lnTo>
                  <a:pt x="340" y="3775"/>
                </a:lnTo>
                <a:lnTo>
                  <a:pt x="331" y="3770"/>
                </a:lnTo>
                <a:lnTo>
                  <a:pt x="322" y="3762"/>
                </a:lnTo>
                <a:lnTo>
                  <a:pt x="312" y="3752"/>
                </a:lnTo>
                <a:lnTo>
                  <a:pt x="303" y="3739"/>
                </a:lnTo>
                <a:lnTo>
                  <a:pt x="294" y="3724"/>
                </a:lnTo>
                <a:lnTo>
                  <a:pt x="286" y="3707"/>
                </a:lnTo>
                <a:lnTo>
                  <a:pt x="277" y="3688"/>
                </a:lnTo>
                <a:lnTo>
                  <a:pt x="268" y="3667"/>
                </a:lnTo>
                <a:lnTo>
                  <a:pt x="259" y="3643"/>
                </a:lnTo>
                <a:lnTo>
                  <a:pt x="251" y="3617"/>
                </a:lnTo>
                <a:lnTo>
                  <a:pt x="242" y="3588"/>
                </a:lnTo>
                <a:lnTo>
                  <a:pt x="235" y="3558"/>
                </a:lnTo>
                <a:lnTo>
                  <a:pt x="226" y="3525"/>
                </a:lnTo>
                <a:lnTo>
                  <a:pt x="220" y="3491"/>
                </a:lnTo>
                <a:lnTo>
                  <a:pt x="210" y="3453"/>
                </a:lnTo>
                <a:lnTo>
                  <a:pt x="204" y="3414"/>
                </a:lnTo>
                <a:lnTo>
                  <a:pt x="195" y="3372"/>
                </a:lnTo>
                <a:lnTo>
                  <a:pt x="188" y="3328"/>
                </a:lnTo>
                <a:lnTo>
                  <a:pt x="179" y="3281"/>
                </a:lnTo>
                <a:lnTo>
                  <a:pt x="172" y="3232"/>
                </a:lnTo>
                <a:lnTo>
                  <a:pt x="165" y="3181"/>
                </a:lnTo>
                <a:lnTo>
                  <a:pt x="158" y="3130"/>
                </a:lnTo>
                <a:lnTo>
                  <a:pt x="150" y="3075"/>
                </a:lnTo>
                <a:lnTo>
                  <a:pt x="144" y="3017"/>
                </a:lnTo>
                <a:lnTo>
                  <a:pt x="137" y="2957"/>
                </a:lnTo>
                <a:lnTo>
                  <a:pt x="130" y="2895"/>
                </a:lnTo>
                <a:lnTo>
                  <a:pt x="123" y="2831"/>
                </a:lnTo>
                <a:lnTo>
                  <a:pt x="116" y="2764"/>
                </a:lnTo>
                <a:lnTo>
                  <a:pt x="110" y="2695"/>
                </a:lnTo>
                <a:lnTo>
                  <a:pt x="104" y="2626"/>
                </a:lnTo>
                <a:lnTo>
                  <a:pt x="90" y="2486"/>
                </a:lnTo>
                <a:lnTo>
                  <a:pt x="79" y="2344"/>
                </a:lnTo>
                <a:lnTo>
                  <a:pt x="66" y="2199"/>
                </a:lnTo>
                <a:lnTo>
                  <a:pt x="55" y="2052"/>
                </a:lnTo>
                <a:lnTo>
                  <a:pt x="0" y="0"/>
                </a:lnTo>
                <a:lnTo>
                  <a:pt x="0" y="39"/>
                </a:lnTo>
                <a:lnTo>
                  <a:pt x="55" y="2092"/>
                </a:lnTo>
                <a:lnTo>
                  <a:pt x="63" y="2282"/>
                </a:lnTo>
                <a:lnTo>
                  <a:pt x="74" y="2468"/>
                </a:lnTo>
                <a:lnTo>
                  <a:pt x="80" y="2559"/>
                </a:lnTo>
                <a:lnTo>
                  <a:pt x="87" y="2648"/>
                </a:lnTo>
                <a:lnTo>
                  <a:pt x="104" y="2825"/>
                </a:lnTo>
                <a:lnTo>
                  <a:pt x="110" y="2894"/>
                </a:lnTo>
                <a:lnTo>
                  <a:pt x="116" y="2964"/>
                </a:lnTo>
                <a:lnTo>
                  <a:pt x="123" y="3030"/>
                </a:lnTo>
                <a:lnTo>
                  <a:pt x="130" y="3095"/>
                </a:lnTo>
                <a:lnTo>
                  <a:pt x="137" y="3156"/>
                </a:lnTo>
                <a:lnTo>
                  <a:pt x="144" y="3216"/>
                </a:lnTo>
                <a:lnTo>
                  <a:pt x="150" y="3274"/>
                </a:lnTo>
                <a:lnTo>
                  <a:pt x="158" y="3330"/>
                </a:lnTo>
                <a:lnTo>
                  <a:pt x="165" y="3381"/>
                </a:lnTo>
                <a:lnTo>
                  <a:pt x="172" y="3432"/>
                </a:lnTo>
                <a:lnTo>
                  <a:pt x="179" y="3481"/>
                </a:lnTo>
                <a:lnTo>
                  <a:pt x="188" y="3527"/>
                </a:lnTo>
                <a:lnTo>
                  <a:pt x="195" y="3571"/>
                </a:lnTo>
                <a:lnTo>
                  <a:pt x="204" y="3613"/>
                </a:lnTo>
                <a:lnTo>
                  <a:pt x="210" y="3653"/>
                </a:lnTo>
                <a:lnTo>
                  <a:pt x="220" y="3690"/>
                </a:lnTo>
                <a:lnTo>
                  <a:pt x="226" y="3724"/>
                </a:lnTo>
                <a:lnTo>
                  <a:pt x="235" y="3757"/>
                </a:lnTo>
                <a:lnTo>
                  <a:pt x="242" y="3788"/>
                </a:lnTo>
                <a:lnTo>
                  <a:pt x="251" y="3816"/>
                </a:lnTo>
                <a:lnTo>
                  <a:pt x="259" y="3842"/>
                </a:lnTo>
                <a:lnTo>
                  <a:pt x="268" y="3866"/>
                </a:lnTo>
                <a:lnTo>
                  <a:pt x="277" y="3888"/>
                </a:lnTo>
                <a:lnTo>
                  <a:pt x="286" y="3907"/>
                </a:lnTo>
                <a:lnTo>
                  <a:pt x="294" y="3924"/>
                </a:lnTo>
                <a:lnTo>
                  <a:pt x="303" y="3939"/>
                </a:lnTo>
                <a:lnTo>
                  <a:pt x="312" y="3951"/>
                </a:lnTo>
                <a:lnTo>
                  <a:pt x="322" y="3961"/>
                </a:lnTo>
                <a:lnTo>
                  <a:pt x="331" y="3969"/>
                </a:lnTo>
                <a:lnTo>
                  <a:pt x="340" y="3975"/>
                </a:lnTo>
                <a:lnTo>
                  <a:pt x="349" y="3978"/>
                </a:lnTo>
                <a:lnTo>
                  <a:pt x="359" y="3979"/>
                </a:lnTo>
                <a:lnTo>
                  <a:pt x="368" y="3978"/>
                </a:lnTo>
                <a:lnTo>
                  <a:pt x="377" y="3975"/>
                </a:lnTo>
                <a:lnTo>
                  <a:pt x="386" y="3969"/>
                </a:lnTo>
                <a:lnTo>
                  <a:pt x="395" y="3961"/>
                </a:lnTo>
                <a:lnTo>
                  <a:pt x="396" y="3958"/>
                </a:lnTo>
                <a:lnTo>
                  <a:pt x="399" y="3956"/>
                </a:lnTo>
                <a:lnTo>
                  <a:pt x="403" y="3951"/>
                </a:lnTo>
                <a:lnTo>
                  <a:pt x="412" y="3939"/>
                </a:lnTo>
                <a:lnTo>
                  <a:pt x="421" y="3924"/>
                </a:lnTo>
                <a:lnTo>
                  <a:pt x="430" y="3907"/>
                </a:lnTo>
                <a:lnTo>
                  <a:pt x="437" y="3888"/>
                </a:lnTo>
                <a:lnTo>
                  <a:pt x="446" y="3866"/>
                </a:lnTo>
                <a:lnTo>
                  <a:pt x="455" y="3842"/>
                </a:lnTo>
                <a:lnTo>
                  <a:pt x="464" y="3816"/>
                </a:lnTo>
                <a:lnTo>
                  <a:pt x="471" y="3788"/>
                </a:lnTo>
                <a:lnTo>
                  <a:pt x="480" y="3757"/>
                </a:lnTo>
                <a:lnTo>
                  <a:pt x="481" y="3748"/>
                </a:lnTo>
                <a:lnTo>
                  <a:pt x="484" y="3740"/>
                </a:lnTo>
                <a:lnTo>
                  <a:pt x="488" y="3724"/>
                </a:lnTo>
                <a:lnTo>
                  <a:pt x="497" y="3690"/>
                </a:lnTo>
                <a:lnTo>
                  <a:pt x="504" y="3653"/>
                </a:lnTo>
                <a:lnTo>
                  <a:pt x="507" y="3633"/>
                </a:lnTo>
                <a:lnTo>
                  <a:pt x="512" y="3613"/>
                </a:lnTo>
                <a:lnTo>
                  <a:pt x="519" y="3571"/>
                </a:lnTo>
                <a:lnTo>
                  <a:pt x="528" y="3527"/>
                </a:lnTo>
                <a:lnTo>
                  <a:pt x="535" y="3481"/>
                </a:lnTo>
                <a:lnTo>
                  <a:pt x="541" y="3432"/>
                </a:lnTo>
                <a:lnTo>
                  <a:pt x="548" y="3381"/>
                </a:lnTo>
                <a:lnTo>
                  <a:pt x="557" y="3330"/>
                </a:lnTo>
                <a:lnTo>
                  <a:pt x="564" y="3274"/>
                </a:lnTo>
                <a:lnTo>
                  <a:pt x="571" y="3216"/>
                </a:lnTo>
                <a:lnTo>
                  <a:pt x="578" y="3156"/>
                </a:lnTo>
                <a:lnTo>
                  <a:pt x="586" y="3095"/>
                </a:lnTo>
                <a:lnTo>
                  <a:pt x="593" y="3030"/>
                </a:lnTo>
                <a:lnTo>
                  <a:pt x="599" y="2964"/>
                </a:lnTo>
                <a:lnTo>
                  <a:pt x="606" y="2894"/>
                </a:lnTo>
                <a:lnTo>
                  <a:pt x="613" y="2825"/>
                </a:lnTo>
                <a:lnTo>
                  <a:pt x="620" y="2737"/>
                </a:lnTo>
                <a:lnTo>
                  <a:pt x="628" y="2648"/>
                </a:lnTo>
                <a:lnTo>
                  <a:pt x="634" y="2559"/>
                </a:lnTo>
                <a:lnTo>
                  <a:pt x="641" y="2468"/>
                </a:lnTo>
                <a:lnTo>
                  <a:pt x="647" y="2375"/>
                </a:lnTo>
                <a:lnTo>
                  <a:pt x="654" y="2282"/>
                </a:lnTo>
                <a:lnTo>
                  <a:pt x="658" y="2187"/>
                </a:lnTo>
                <a:lnTo>
                  <a:pt x="664" y="2092"/>
                </a:lnTo>
                <a:lnTo>
                  <a:pt x="71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未知"/>
          <p:cNvSpPr/>
          <p:nvPr/>
        </p:nvSpPr>
        <p:spPr>
          <a:xfrm>
            <a:off x="2050920" y="2146320"/>
            <a:ext cx="32040" cy="4680"/>
          </a:xfrm>
          <a:custGeom>
            <a:avLst/>
            <a:gdLst/>
            <a:ahLst/>
            <a:rect l="l" t="t" r="r" b="b"/>
            <a:pathLst>
              <a:path w="99" h="14">
                <a:moveTo>
                  <a:pt x="25" y="0"/>
                </a:moveTo>
                <a:lnTo>
                  <a:pt x="0" y="3"/>
                </a:lnTo>
                <a:lnTo>
                  <a:pt x="3" y="3"/>
                </a:lnTo>
                <a:lnTo>
                  <a:pt x="25" y="3"/>
                </a:lnTo>
                <a:lnTo>
                  <a:pt x="62" y="4"/>
                </a:lnTo>
                <a:lnTo>
                  <a:pt x="80" y="7"/>
                </a:lnTo>
                <a:lnTo>
                  <a:pt x="99" y="14"/>
                </a:lnTo>
                <a:lnTo>
                  <a:pt x="80" y="7"/>
                </a:lnTo>
                <a:lnTo>
                  <a:pt x="62" y="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未知"/>
          <p:cNvSpPr/>
          <p:nvPr/>
        </p:nvSpPr>
        <p:spPr>
          <a:xfrm>
            <a:off x="2166840" y="2514600"/>
            <a:ext cx="424080" cy="1752480"/>
          </a:xfrm>
          <a:custGeom>
            <a:avLst/>
            <a:gdLst/>
            <a:ahLst/>
            <a:rect l="l" t="t" r="r" b="b"/>
            <a:pathLst>
              <a:path w="1361" h="7800">
                <a:moveTo>
                  <a:pt x="681" y="0"/>
                </a:moveTo>
                <a:lnTo>
                  <a:pt x="644" y="3"/>
                </a:lnTo>
                <a:lnTo>
                  <a:pt x="626" y="9"/>
                </a:lnTo>
                <a:lnTo>
                  <a:pt x="610" y="17"/>
                </a:lnTo>
                <a:lnTo>
                  <a:pt x="592" y="27"/>
                </a:lnTo>
                <a:lnTo>
                  <a:pt x="576" y="40"/>
                </a:lnTo>
                <a:lnTo>
                  <a:pt x="559" y="54"/>
                </a:lnTo>
                <a:lnTo>
                  <a:pt x="543" y="71"/>
                </a:lnTo>
                <a:lnTo>
                  <a:pt x="526" y="89"/>
                </a:lnTo>
                <a:lnTo>
                  <a:pt x="511" y="110"/>
                </a:lnTo>
                <a:lnTo>
                  <a:pt x="495" y="134"/>
                </a:lnTo>
                <a:lnTo>
                  <a:pt x="479" y="160"/>
                </a:lnTo>
                <a:lnTo>
                  <a:pt x="448" y="218"/>
                </a:lnTo>
                <a:lnTo>
                  <a:pt x="432" y="251"/>
                </a:lnTo>
                <a:lnTo>
                  <a:pt x="419" y="286"/>
                </a:lnTo>
                <a:lnTo>
                  <a:pt x="403" y="321"/>
                </a:lnTo>
                <a:lnTo>
                  <a:pt x="388" y="361"/>
                </a:lnTo>
                <a:lnTo>
                  <a:pt x="359" y="446"/>
                </a:lnTo>
                <a:lnTo>
                  <a:pt x="344" y="490"/>
                </a:lnTo>
                <a:lnTo>
                  <a:pt x="330" y="539"/>
                </a:lnTo>
                <a:lnTo>
                  <a:pt x="317" y="590"/>
                </a:lnTo>
                <a:lnTo>
                  <a:pt x="303" y="643"/>
                </a:lnTo>
                <a:lnTo>
                  <a:pt x="290" y="696"/>
                </a:lnTo>
                <a:lnTo>
                  <a:pt x="276" y="754"/>
                </a:lnTo>
                <a:lnTo>
                  <a:pt x="262" y="812"/>
                </a:lnTo>
                <a:lnTo>
                  <a:pt x="250" y="874"/>
                </a:lnTo>
                <a:lnTo>
                  <a:pt x="236" y="937"/>
                </a:lnTo>
                <a:lnTo>
                  <a:pt x="224" y="1004"/>
                </a:lnTo>
                <a:lnTo>
                  <a:pt x="199" y="1143"/>
                </a:lnTo>
                <a:lnTo>
                  <a:pt x="174" y="1286"/>
                </a:lnTo>
                <a:lnTo>
                  <a:pt x="151" y="1434"/>
                </a:lnTo>
                <a:lnTo>
                  <a:pt x="130" y="1586"/>
                </a:lnTo>
                <a:lnTo>
                  <a:pt x="112" y="1743"/>
                </a:lnTo>
                <a:lnTo>
                  <a:pt x="92" y="1902"/>
                </a:lnTo>
                <a:lnTo>
                  <a:pt x="76" y="2065"/>
                </a:lnTo>
                <a:lnTo>
                  <a:pt x="62" y="2232"/>
                </a:lnTo>
                <a:lnTo>
                  <a:pt x="49" y="2403"/>
                </a:lnTo>
                <a:lnTo>
                  <a:pt x="37" y="2576"/>
                </a:lnTo>
                <a:lnTo>
                  <a:pt x="26" y="2754"/>
                </a:lnTo>
                <a:lnTo>
                  <a:pt x="17" y="2936"/>
                </a:lnTo>
                <a:lnTo>
                  <a:pt x="12" y="3122"/>
                </a:lnTo>
                <a:lnTo>
                  <a:pt x="6" y="3310"/>
                </a:lnTo>
                <a:lnTo>
                  <a:pt x="3" y="3503"/>
                </a:lnTo>
                <a:lnTo>
                  <a:pt x="0" y="3699"/>
                </a:lnTo>
                <a:lnTo>
                  <a:pt x="0" y="3901"/>
                </a:lnTo>
                <a:lnTo>
                  <a:pt x="0" y="3921"/>
                </a:lnTo>
                <a:lnTo>
                  <a:pt x="0" y="4118"/>
                </a:lnTo>
                <a:lnTo>
                  <a:pt x="3" y="4313"/>
                </a:lnTo>
                <a:lnTo>
                  <a:pt x="6" y="4504"/>
                </a:lnTo>
                <a:lnTo>
                  <a:pt x="13" y="4692"/>
                </a:lnTo>
                <a:lnTo>
                  <a:pt x="19" y="4876"/>
                </a:lnTo>
                <a:lnTo>
                  <a:pt x="28" y="5056"/>
                </a:lnTo>
                <a:lnTo>
                  <a:pt x="38" y="5233"/>
                </a:lnTo>
                <a:lnTo>
                  <a:pt x="50" y="5406"/>
                </a:lnTo>
                <a:lnTo>
                  <a:pt x="63" y="5575"/>
                </a:lnTo>
                <a:lnTo>
                  <a:pt x="78" y="5741"/>
                </a:lnTo>
                <a:lnTo>
                  <a:pt x="93" y="5903"/>
                </a:lnTo>
                <a:lnTo>
                  <a:pt x="112" y="6062"/>
                </a:lnTo>
                <a:lnTo>
                  <a:pt x="130" y="6216"/>
                </a:lnTo>
                <a:lnTo>
                  <a:pt x="151" y="6367"/>
                </a:lnTo>
                <a:lnTo>
                  <a:pt x="174" y="6514"/>
                </a:lnTo>
                <a:lnTo>
                  <a:pt x="199" y="6658"/>
                </a:lnTo>
                <a:lnTo>
                  <a:pt x="210" y="6727"/>
                </a:lnTo>
                <a:lnTo>
                  <a:pt x="224" y="6795"/>
                </a:lnTo>
                <a:lnTo>
                  <a:pt x="236" y="6860"/>
                </a:lnTo>
                <a:lnTo>
                  <a:pt x="250" y="6925"/>
                </a:lnTo>
                <a:lnTo>
                  <a:pt x="262" y="6985"/>
                </a:lnTo>
                <a:lnTo>
                  <a:pt x="276" y="7045"/>
                </a:lnTo>
                <a:lnTo>
                  <a:pt x="290" y="7102"/>
                </a:lnTo>
                <a:lnTo>
                  <a:pt x="303" y="7157"/>
                </a:lnTo>
                <a:lnTo>
                  <a:pt x="317" y="7208"/>
                </a:lnTo>
                <a:lnTo>
                  <a:pt x="330" y="7259"/>
                </a:lnTo>
                <a:lnTo>
                  <a:pt x="344" y="7307"/>
                </a:lnTo>
                <a:lnTo>
                  <a:pt x="359" y="7353"/>
                </a:lnTo>
                <a:lnTo>
                  <a:pt x="372" y="7395"/>
                </a:lnTo>
                <a:lnTo>
                  <a:pt x="388" y="7437"/>
                </a:lnTo>
                <a:lnTo>
                  <a:pt x="403" y="7477"/>
                </a:lnTo>
                <a:lnTo>
                  <a:pt x="419" y="7514"/>
                </a:lnTo>
                <a:lnTo>
                  <a:pt x="432" y="7547"/>
                </a:lnTo>
                <a:lnTo>
                  <a:pt x="448" y="7580"/>
                </a:lnTo>
                <a:lnTo>
                  <a:pt x="463" y="7611"/>
                </a:lnTo>
                <a:lnTo>
                  <a:pt x="479" y="7639"/>
                </a:lnTo>
                <a:lnTo>
                  <a:pt x="495" y="7664"/>
                </a:lnTo>
                <a:lnTo>
                  <a:pt x="511" y="7688"/>
                </a:lnTo>
                <a:lnTo>
                  <a:pt x="526" y="7709"/>
                </a:lnTo>
                <a:lnTo>
                  <a:pt x="543" y="7729"/>
                </a:lnTo>
                <a:lnTo>
                  <a:pt x="559" y="7745"/>
                </a:lnTo>
                <a:lnTo>
                  <a:pt x="576" y="7759"/>
                </a:lnTo>
                <a:lnTo>
                  <a:pt x="592" y="7772"/>
                </a:lnTo>
                <a:lnTo>
                  <a:pt x="610" y="7782"/>
                </a:lnTo>
                <a:lnTo>
                  <a:pt x="626" y="7790"/>
                </a:lnTo>
                <a:lnTo>
                  <a:pt x="644" y="7796"/>
                </a:lnTo>
                <a:lnTo>
                  <a:pt x="663" y="7799"/>
                </a:lnTo>
                <a:lnTo>
                  <a:pt x="681" y="7800"/>
                </a:lnTo>
                <a:lnTo>
                  <a:pt x="697" y="7799"/>
                </a:lnTo>
                <a:lnTo>
                  <a:pt x="715" y="7796"/>
                </a:lnTo>
                <a:lnTo>
                  <a:pt x="731" y="7790"/>
                </a:lnTo>
                <a:lnTo>
                  <a:pt x="749" y="7782"/>
                </a:lnTo>
                <a:lnTo>
                  <a:pt x="765" y="7772"/>
                </a:lnTo>
                <a:lnTo>
                  <a:pt x="772" y="7765"/>
                </a:lnTo>
                <a:lnTo>
                  <a:pt x="782" y="7759"/>
                </a:lnTo>
                <a:lnTo>
                  <a:pt x="797" y="7745"/>
                </a:lnTo>
                <a:lnTo>
                  <a:pt x="816" y="7729"/>
                </a:lnTo>
                <a:lnTo>
                  <a:pt x="831" y="7709"/>
                </a:lnTo>
                <a:lnTo>
                  <a:pt x="847" y="7688"/>
                </a:lnTo>
                <a:lnTo>
                  <a:pt x="863" y="7664"/>
                </a:lnTo>
                <a:lnTo>
                  <a:pt x="879" y="7639"/>
                </a:lnTo>
                <a:lnTo>
                  <a:pt x="886" y="7624"/>
                </a:lnTo>
                <a:lnTo>
                  <a:pt x="894" y="7611"/>
                </a:lnTo>
                <a:lnTo>
                  <a:pt x="910" y="7580"/>
                </a:lnTo>
                <a:lnTo>
                  <a:pt x="926" y="7547"/>
                </a:lnTo>
                <a:lnTo>
                  <a:pt x="941" y="7514"/>
                </a:lnTo>
                <a:lnTo>
                  <a:pt x="955" y="7477"/>
                </a:lnTo>
                <a:lnTo>
                  <a:pt x="962" y="7457"/>
                </a:lnTo>
                <a:lnTo>
                  <a:pt x="965" y="7446"/>
                </a:lnTo>
                <a:lnTo>
                  <a:pt x="970" y="7437"/>
                </a:lnTo>
                <a:lnTo>
                  <a:pt x="983" y="7395"/>
                </a:lnTo>
                <a:lnTo>
                  <a:pt x="999" y="7353"/>
                </a:lnTo>
                <a:lnTo>
                  <a:pt x="1013" y="7307"/>
                </a:lnTo>
                <a:lnTo>
                  <a:pt x="1028" y="7259"/>
                </a:lnTo>
                <a:lnTo>
                  <a:pt x="1041" y="7208"/>
                </a:lnTo>
                <a:lnTo>
                  <a:pt x="1048" y="7182"/>
                </a:lnTo>
                <a:lnTo>
                  <a:pt x="1056" y="7157"/>
                </a:lnTo>
                <a:lnTo>
                  <a:pt x="1058" y="7142"/>
                </a:lnTo>
                <a:lnTo>
                  <a:pt x="1062" y="7129"/>
                </a:lnTo>
                <a:lnTo>
                  <a:pt x="1068" y="7102"/>
                </a:lnTo>
                <a:lnTo>
                  <a:pt x="1082" y="7045"/>
                </a:lnTo>
                <a:lnTo>
                  <a:pt x="1096" y="6985"/>
                </a:lnTo>
                <a:lnTo>
                  <a:pt x="1109" y="6925"/>
                </a:lnTo>
                <a:lnTo>
                  <a:pt x="1111" y="6908"/>
                </a:lnTo>
                <a:lnTo>
                  <a:pt x="1115" y="6892"/>
                </a:lnTo>
                <a:lnTo>
                  <a:pt x="1122" y="6860"/>
                </a:lnTo>
                <a:lnTo>
                  <a:pt x="1135" y="6795"/>
                </a:lnTo>
                <a:lnTo>
                  <a:pt x="1148" y="6727"/>
                </a:lnTo>
                <a:lnTo>
                  <a:pt x="1161" y="6658"/>
                </a:lnTo>
                <a:lnTo>
                  <a:pt x="1184" y="6514"/>
                </a:lnTo>
                <a:lnTo>
                  <a:pt x="1207" y="6367"/>
                </a:lnTo>
                <a:lnTo>
                  <a:pt x="1227" y="6216"/>
                </a:lnTo>
                <a:lnTo>
                  <a:pt x="1248" y="6062"/>
                </a:lnTo>
                <a:lnTo>
                  <a:pt x="1255" y="5982"/>
                </a:lnTo>
                <a:lnTo>
                  <a:pt x="1265" y="5903"/>
                </a:lnTo>
                <a:lnTo>
                  <a:pt x="1272" y="5821"/>
                </a:lnTo>
                <a:lnTo>
                  <a:pt x="1282" y="5741"/>
                </a:lnTo>
                <a:lnTo>
                  <a:pt x="1288" y="5658"/>
                </a:lnTo>
                <a:lnTo>
                  <a:pt x="1289" y="5637"/>
                </a:lnTo>
                <a:lnTo>
                  <a:pt x="1292" y="5616"/>
                </a:lnTo>
                <a:lnTo>
                  <a:pt x="1296" y="5575"/>
                </a:lnTo>
                <a:lnTo>
                  <a:pt x="1310" y="5406"/>
                </a:lnTo>
                <a:lnTo>
                  <a:pt x="1321" y="5233"/>
                </a:lnTo>
                <a:lnTo>
                  <a:pt x="1326" y="5145"/>
                </a:lnTo>
                <a:lnTo>
                  <a:pt x="1331" y="5056"/>
                </a:lnTo>
                <a:lnTo>
                  <a:pt x="1335" y="4965"/>
                </a:lnTo>
                <a:lnTo>
                  <a:pt x="1339" y="4876"/>
                </a:lnTo>
                <a:lnTo>
                  <a:pt x="1339" y="4852"/>
                </a:lnTo>
                <a:lnTo>
                  <a:pt x="1341" y="4829"/>
                </a:lnTo>
                <a:lnTo>
                  <a:pt x="1343" y="4784"/>
                </a:lnTo>
                <a:lnTo>
                  <a:pt x="1347" y="4692"/>
                </a:lnTo>
                <a:lnTo>
                  <a:pt x="1352" y="4504"/>
                </a:lnTo>
                <a:lnTo>
                  <a:pt x="1356" y="4313"/>
                </a:lnTo>
                <a:lnTo>
                  <a:pt x="1359" y="4118"/>
                </a:lnTo>
                <a:lnTo>
                  <a:pt x="1361" y="3921"/>
                </a:lnTo>
                <a:lnTo>
                  <a:pt x="1361" y="3901"/>
                </a:lnTo>
                <a:lnTo>
                  <a:pt x="1360" y="3799"/>
                </a:lnTo>
                <a:lnTo>
                  <a:pt x="1360" y="3699"/>
                </a:lnTo>
                <a:lnTo>
                  <a:pt x="1358" y="3503"/>
                </a:lnTo>
                <a:lnTo>
                  <a:pt x="1353" y="3310"/>
                </a:lnTo>
                <a:lnTo>
                  <a:pt x="1348" y="3122"/>
                </a:lnTo>
                <a:lnTo>
                  <a:pt x="1344" y="3028"/>
                </a:lnTo>
                <a:lnTo>
                  <a:pt x="1341" y="2936"/>
                </a:lnTo>
                <a:lnTo>
                  <a:pt x="1336" y="2844"/>
                </a:lnTo>
                <a:lnTo>
                  <a:pt x="1333" y="2754"/>
                </a:lnTo>
                <a:lnTo>
                  <a:pt x="1322" y="2576"/>
                </a:lnTo>
                <a:lnTo>
                  <a:pt x="1311" y="2403"/>
                </a:lnTo>
                <a:lnTo>
                  <a:pt x="1297" y="2232"/>
                </a:lnTo>
                <a:lnTo>
                  <a:pt x="1283" y="2065"/>
                </a:lnTo>
                <a:lnTo>
                  <a:pt x="1274" y="1982"/>
                </a:lnTo>
                <a:lnTo>
                  <a:pt x="1266" y="1902"/>
                </a:lnTo>
                <a:lnTo>
                  <a:pt x="1257" y="1821"/>
                </a:lnTo>
                <a:lnTo>
                  <a:pt x="1249" y="1743"/>
                </a:lnTo>
                <a:lnTo>
                  <a:pt x="1228" y="1586"/>
                </a:lnTo>
                <a:lnTo>
                  <a:pt x="1208" y="1434"/>
                </a:lnTo>
                <a:lnTo>
                  <a:pt x="1185" y="1286"/>
                </a:lnTo>
                <a:lnTo>
                  <a:pt x="1173" y="1213"/>
                </a:lnTo>
                <a:lnTo>
                  <a:pt x="1161" y="1143"/>
                </a:lnTo>
                <a:lnTo>
                  <a:pt x="1148" y="1072"/>
                </a:lnTo>
                <a:lnTo>
                  <a:pt x="1135" y="1004"/>
                </a:lnTo>
                <a:lnTo>
                  <a:pt x="1122" y="937"/>
                </a:lnTo>
                <a:lnTo>
                  <a:pt x="1109" y="874"/>
                </a:lnTo>
                <a:lnTo>
                  <a:pt x="1096" y="812"/>
                </a:lnTo>
                <a:lnTo>
                  <a:pt x="1082" y="754"/>
                </a:lnTo>
                <a:lnTo>
                  <a:pt x="1068" y="696"/>
                </a:lnTo>
                <a:lnTo>
                  <a:pt x="1056" y="643"/>
                </a:lnTo>
                <a:lnTo>
                  <a:pt x="1041" y="590"/>
                </a:lnTo>
                <a:lnTo>
                  <a:pt x="1028" y="539"/>
                </a:lnTo>
                <a:lnTo>
                  <a:pt x="1013" y="490"/>
                </a:lnTo>
                <a:lnTo>
                  <a:pt x="999" y="446"/>
                </a:lnTo>
                <a:lnTo>
                  <a:pt x="970" y="361"/>
                </a:lnTo>
                <a:lnTo>
                  <a:pt x="955" y="321"/>
                </a:lnTo>
                <a:lnTo>
                  <a:pt x="941" y="286"/>
                </a:lnTo>
                <a:lnTo>
                  <a:pt x="926" y="251"/>
                </a:lnTo>
                <a:lnTo>
                  <a:pt x="910" y="218"/>
                </a:lnTo>
                <a:lnTo>
                  <a:pt x="894" y="187"/>
                </a:lnTo>
                <a:lnTo>
                  <a:pt x="879" y="160"/>
                </a:lnTo>
                <a:lnTo>
                  <a:pt x="863" y="134"/>
                </a:lnTo>
                <a:lnTo>
                  <a:pt x="847" y="110"/>
                </a:lnTo>
                <a:lnTo>
                  <a:pt x="831" y="89"/>
                </a:lnTo>
                <a:lnTo>
                  <a:pt x="816" y="71"/>
                </a:lnTo>
                <a:lnTo>
                  <a:pt x="797" y="54"/>
                </a:lnTo>
                <a:lnTo>
                  <a:pt x="782" y="40"/>
                </a:lnTo>
                <a:lnTo>
                  <a:pt x="765" y="27"/>
                </a:lnTo>
                <a:lnTo>
                  <a:pt x="749" y="17"/>
                </a:lnTo>
                <a:lnTo>
                  <a:pt x="731" y="9"/>
                </a:lnTo>
                <a:lnTo>
                  <a:pt x="715" y="3"/>
                </a:lnTo>
                <a:lnTo>
                  <a:pt x="68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未知"/>
          <p:cNvSpPr/>
          <p:nvPr/>
        </p:nvSpPr>
        <p:spPr>
          <a:xfrm>
            <a:off x="4552920" y="2158920"/>
            <a:ext cx="228600" cy="2502000"/>
          </a:xfrm>
          <a:custGeom>
            <a:avLst/>
            <a:gdLst/>
            <a:ahLst/>
            <a:rect l="l" t="t" r="r" b="b"/>
            <a:pathLst>
              <a:path w="720" h="7881">
                <a:moveTo>
                  <a:pt x="614" y="1154"/>
                </a:moveTo>
                <a:lnTo>
                  <a:pt x="607" y="1083"/>
                </a:lnTo>
                <a:lnTo>
                  <a:pt x="600" y="1014"/>
                </a:lnTo>
                <a:lnTo>
                  <a:pt x="593" y="947"/>
                </a:lnTo>
                <a:lnTo>
                  <a:pt x="586" y="882"/>
                </a:lnTo>
                <a:lnTo>
                  <a:pt x="578" y="820"/>
                </a:lnTo>
                <a:lnTo>
                  <a:pt x="572" y="760"/>
                </a:lnTo>
                <a:lnTo>
                  <a:pt x="565" y="702"/>
                </a:lnTo>
                <a:lnTo>
                  <a:pt x="558" y="649"/>
                </a:lnTo>
                <a:lnTo>
                  <a:pt x="549" y="595"/>
                </a:lnTo>
                <a:lnTo>
                  <a:pt x="542" y="544"/>
                </a:lnTo>
                <a:lnTo>
                  <a:pt x="535" y="496"/>
                </a:lnTo>
                <a:lnTo>
                  <a:pt x="529" y="449"/>
                </a:lnTo>
                <a:lnTo>
                  <a:pt x="520" y="405"/>
                </a:lnTo>
                <a:lnTo>
                  <a:pt x="513" y="363"/>
                </a:lnTo>
                <a:lnTo>
                  <a:pt x="505" y="323"/>
                </a:lnTo>
                <a:lnTo>
                  <a:pt x="498" y="288"/>
                </a:lnTo>
                <a:lnTo>
                  <a:pt x="489" y="253"/>
                </a:lnTo>
                <a:lnTo>
                  <a:pt x="481" y="220"/>
                </a:lnTo>
                <a:lnTo>
                  <a:pt x="472" y="189"/>
                </a:lnTo>
                <a:lnTo>
                  <a:pt x="465" y="161"/>
                </a:lnTo>
                <a:lnTo>
                  <a:pt x="456" y="135"/>
                </a:lnTo>
                <a:lnTo>
                  <a:pt x="447" y="111"/>
                </a:lnTo>
                <a:lnTo>
                  <a:pt x="431" y="71"/>
                </a:lnTo>
                <a:lnTo>
                  <a:pt x="422" y="54"/>
                </a:lnTo>
                <a:lnTo>
                  <a:pt x="413" y="40"/>
                </a:lnTo>
                <a:lnTo>
                  <a:pt x="404" y="27"/>
                </a:lnTo>
                <a:lnTo>
                  <a:pt x="396" y="17"/>
                </a:lnTo>
                <a:lnTo>
                  <a:pt x="387" y="9"/>
                </a:lnTo>
                <a:lnTo>
                  <a:pt x="378" y="3"/>
                </a:lnTo>
                <a:lnTo>
                  <a:pt x="360" y="0"/>
                </a:lnTo>
                <a:lnTo>
                  <a:pt x="340" y="3"/>
                </a:lnTo>
                <a:lnTo>
                  <a:pt x="331" y="9"/>
                </a:lnTo>
                <a:lnTo>
                  <a:pt x="322" y="17"/>
                </a:lnTo>
                <a:lnTo>
                  <a:pt x="313" y="27"/>
                </a:lnTo>
                <a:lnTo>
                  <a:pt x="304" y="40"/>
                </a:lnTo>
                <a:lnTo>
                  <a:pt x="295" y="54"/>
                </a:lnTo>
                <a:lnTo>
                  <a:pt x="287" y="71"/>
                </a:lnTo>
                <a:lnTo>
                  <a:pt x="269" y="111"/>
                </a:lnTo>
                <a:lnTo>
                  <a:pt x="260" y="135"/>
                </a:lnTo>
                <a:lnTo>
                  <a:pt x="252" y="161"/>
                </a:lnTo>
                <a:lnTo>
                  <a:pt x="243" y="189"/>
                </a:lnTo>
                <a:lnTo>
                  <a:pt x="236" y="220"/>
                </a:lnTo>
                <a:lnTo>
                  <a:pt x="227" y="253"/>
                </a:lnTo>
                <a:lnTo>
                  <a:pt x="220" y="288"/>
                </a:lnTo>
                <a:lnTo>
                  <a:pt x="211" y="323"/>
                </a:lnTo>
                <a:lnTo>
                  <a:pt x="204" y="363"/>
                </a:lnTo>
                <a:lnTo>
                  <a:pt x="195" y="405"/>
                </a:lnTo>
                <a:lnTo>
                  <a:pt x="188" y="449"/>
                </a:lnTo>
                <a:lnTo>
                  <a:pt x="179" y="496"/>
                </a:lnTo>
                <a:lnTo>
                  <a:pt x="173" y="544"/>
                </a:lnTo>
                <a:lnTo>
                  <a:pt x="166" y="595"/>
                </a:lnTo>
                <a:lnTo>
                  <a:pt x="159" y="649"/>
                </a:lnTo>
                <a:lnTo>
                  <a:pt x="151" y="702"/>
                </a:lnTo>
                <a:lnTo>
                  <a:pt x="144" y="760"/>
                </a:lnTo>
                <a:lnTo>
                  <a:pt x="137" y="820"/>
                </a:lnTo>
                <a:lnTo>
                  <a:pt x="131" y="882"/>
                </a:lnTo>
                <a:lnTo>
                  <a:pt x="124" y="947"/>
                </a:lnTo>
                <a:lnTo>
                  <a:pt x="117" y="1014"/>
                </a:lnTo>
                <a:lnTo>
                  <a:pt x="110" y="1083"/>
                </a:lnTo>
                <a:lnTo>
                  <a:pt x="105" y="1154"/>
                </a:lnTo>
                <a:lnTo>
                  <a:pt x="88" y="1329"/>
                </a:lnTo>
                <a:lnTo>
                  <a:pt x="75" y="1510"/>
                </a:lnTo>
                <a:lnTo>
                  <a:pt x="64" y="1697"/>
                </a:lnTo>
                <a:lnTo>
                  <a:pt x="56" y="1890"/>
                </a:lnTo>
                <a:lnTo>
                  <a:pt x="3" y="3921"/>
                </a:lnTo>
                <a:lnTo>
                  <a:pt x="0" y="3940"/>
                </a:lnTo>
                <a:lnTo>
                  <a:pt x="0" y="3961"/>
                </a:lnTo>
                <a:lnTo>
                  <a:pt x="0" y="3980"/>
                </a:lnTo>
                <a:lnTo>
                  <a:pt x="0" y="4021"/>
                </a:lnTo>
                <a:lnTo>
                  <a:pt x="0" y="4061"/>
                </a:lnTo>
                <a:lnTo>
                  <a:pt x="0" y="4100"/>
                </a:lnTo>
                <a:lnTo>
                  <a:pt x="56" y="6153"/>
                </a:lnTo>
                <a:lnTo>
                  <a:pt x="67" y="6300"/>
                </a:lnTo>
                <a:lnTo>
                  <a:pt x="80" y="6445"/>
                </a:lnTo>
                <a:lnTo>
                  <a:pt x="91" y="6587"/>
                </a:lnTo>
                <a:lnTo>
                  <a:pt x="105" y="6726"/>
                </a:lnTo>
                <a:lnTo>
                  <a:pt x="110" y="6795"/>
                </a:lnTo>
                <a:lnTo>
                  <a:pt x="117" y="6865"/>
                </a:lnTo>
                <a:lnTo>
                  <a:pt x="124" y="6932"/>
                </a:lnTo>
                <a:lnTo>
                  <a:pt x="131" y="6996"/>
                </a:lnTo>
                <a:lnTo>
                  <a:pt x="137" y="7057"/>
                </a:lnTo>
                <a:lnTo>
                  <a:pt x="144" y="7118"/>
                </a:lnTo>
                <a:lnTo>
                  <a:pt x="151" y="7175"/>
                </a:lnTo>
                <a:lnTo>
                  <a:pt x="159" y="7231"/>
                </a:lnTo>
                <a:lnTo>
                  <a:pt x="166" y="7282"/>
                </a:lnTo>
                <a:lnTo>
                  <a:pt x="173" y="7333"/>
                </a:lnTo>
                <a:lnTo>
                  <a:pt x="179" y="7382"/>
                </a:lnTo>
                <a:lnTo>
                  <a:pt x="188" y="7428"/>
                </a:lnTo>
                <a:lnTo>
                  <a:pt x="195" y="7472"/>
                </a:lnTo>
                <a:lnTo>
                  <a:pt x="204" y="7514"/>
                </a:lnTo>
                <a:lnTo>
                  <a:pt x="211" y="7554"/>
                </a:lnTo>
                <a:lnTo>
                  <a:pt x="220" y="7591"/>
                </a:lnTo>
                <a:lnTo>
                  <a:pt x="227" y="7625"/>
                </a:lnTo>
                <a:lnTo>
                  <a:pt x="236" y="7658"/>
                </a:lnTo>
                <a:lnTo>
                  <a:pt x="243" y="7689"/>
                </a:lnTo>
                <a:lnTo>
                  <a:pt x="252" y="7717"/>
                </a:lnTo>
                <a:lnTo>
                  <a:pt x="260" y="7743"/>
                </a:lnTo>
                <a:lnTo>
                  <a:pt x="269" y="7767"/>
                </a:lnTo>
                <a:lnTo>
                  <a:pt x="278" y="7789"/>
                </a:lnTo>
                <a:lnTo>
                  <a:pt x="287" y="7808"/>
                </a:lnTo>
                <a:lnTo>
                  <a:pt x="295" y="7825"/>
                </a:lnTo>
                <a:lnTo>
                  <a:pt x="304" y="7840"/>
                </a:lnTo>
                <a:lnTo>
                  <a:pt x="313" y="7852"/>
                </a:lnTo>
                <a:lnTo>
                  <a:pt x="322" y="7862"/>
                </a:lnTo>
                <a:lnTo>
                  <a:pt x="331" y="7870"/>
                </a:lnTo>
                <a:lnTo>
                  <a:pt x="340" y="7876"/>
                </a:lnTo>
                <a:lnTo>
                  <a:pt x="349" y="7879"/>
                </a:lnTo>
                <a:lnTo>
                  <a:pt x="360" y="7881"/>
                </a:lnTo>
                <a:lnTo>
                  <a:pt x="369" y="7879"/>
                </a:lnTo>
                <a:lnTo>
                  <a:pt x="378" y="7876"/>
                </a:lnTo>
                <a:lnTo>
                  <a:pt x="387" y="7870"/>
                </a:lnTo>
                <a:lnTo>
                  <a:pt x="396" y="7862"/>
                </a:lnTo>
                <a:lnTo>
                  <a:pt x="397" y="7859"/>
                </a:lnTo>
                <a:lnTo>
                  <a:pt x="399" y="7857"/>
                </a:lnTo>
                <a:lnTo>
                  <a:pt x="404" y="7852"/>
                </a:lnTo>
                <a:lnTo>
                  <a:pt x="413" y="7840"/>
                </a:lnTo>
                <a:lnTo>
                  <a:pt x="422" y="7825"/>
                </a:lnTo>
                <a:lnTo>
                  <a:pt x="431" y="7808"/>
                </a:lnTo>
                <a:lnTo>
                  <a:pt x="438" y="7789"/>
                </a:lnTo>
                <a:lnTo>
                  <a:pt x="447" y="7767"/>
                </a:lnTo>
                <a:lnTo>
                  <a:pt x="456" y="7743"/>
                </a:lnTo>
                <a:lnTo>
                  <a:pt x="465" y="7717"/>
                </a:lnTo>
                <a:lnTo>
                  <a:pt x="472" y="7689"/>
                </a:lnTo>
                <a:lnTo>
                  <a:pt x="481" y="7658"/>
                </a:lnTo>
                <a:lnTo>
                  <a:pt x="482" y="7649"/>
                </a:lnTo>
                <a:lnTo>
                  <a:pt x="484" y="7641"/>
                </a:lnTo>
                <a:lnTo>
                  <a:pt x="489" y="7625"/>
                </a:lnTo>
                <a:lnTo>
                  <a:pt x="498" y="7591"/>
                </a:lnTo>
                <a:lnTo>
                  <a:pt x="505" y="7554"/>
                </a:lnTo>
                <a:lnTo>
                  <a:pt x="508" y="7534"/>
                </a:lnTo>
                <a:lnTo>
                  <a:pt x="513" y="7514"/>
                </a:lnTo>
                <a:lnTo>
                  <a:pt x="520" y="7472"/>
                </a:lnTo>
                <a:lnTo>
                  <a:pt x="529" y="7428"/>
                </a:lnTo>
                <a:lnTo>
                  <a:pt x="535" y="7382"/>
                </a:lnTo>
                <a:lnTo>
                  <a:pt x="542" y="7333"/>
                </a:lnTo>
                <a:lnTo>
                  <a:pt x="549" y="7282"/>
                </a:lnTo>
                <a:lnTo>
                  <a:pt x="558" y="7231"/>
                </a:lnTo>
                <a:lnTo>
                  <a:pt x="565" y="7175"/>
                </a:lnTo>
                <a:lnTo>
                  <a:pt x="572" y="7118"/>
                </a:lnTo>
                <a:lnTo>
                  <a:pt x="578" y="7057"/>
                </a:lnTo>
                <a:lnTo>
                  <a:pt x="586" y="6996"/>
                </a:lnTo>
                <a:lnTo>
                  <a:pt x="593" y="6932"/>
                </a:lnTo>
                <a:lnTo>
                  <a:pt x="600" y="6865"/>
                </a:lnTo>
                <a:lnTo>
                  <a:pt x="607" y="6795"/>
                </a:lnTo>
                <a:lnTo>
                  <a:pt x="614" y="6726"/>
                </a:lnTo>
                <a:lnTo>
                  <a:pt x="625" y="6587"/>
                </a:lnTo>
                <a:lnTo>
                  <a:pt x="639" y="6445"/>
                </a:lnTo>
                <a:lnTo>
                  <a:pt x="650" y="6300"/>
                </a:lnTo>
                <a:lnTo>
                  <a:pt x="664" y="6153"/>
                </a:lnTo>
                <a:lnTo>
                  <a:pt x="720" y="4100"/>
                </a:lnTo>
                <a:lnTo>
                  <a:pt x="720" y="4061"/>
                </a:lnTo>
                <a:lnTo>
                  <a:pt x="720" y="4021"/>
                </a:lnTo>
                <a:lnTo>
                  <a:pt x="720" y="3980"/>
                </a:lnTo>
                <a:lnTo>
                  <a:pt x="720" y="3961"/>
                </a:lnTo>
                <a:lnTo>
                  <a:pt x="720" y="3940"/>
                </a:lnTo>
                <a:lnTo>
                  <a:pt x="720" y="3921"/>
                </a:lnTo>
                <a:lnTo>
                  <a:pt x="664" y="1890"/>
                </a:lnTo>
                <a:lnTo>
                  <a:pt x="658" y="1793"/>
                </a:lnTo>
                <a:lnTo>
                  <a:pt x="653" y="1697"/>
                </a:lnTo>
                <a:lnTo>
                  <a:pt x="642" y="1510"/>
                </a:lnTo>
                <a:lnTo>
                  <a:pt x="628" y="1329"/>
                </a:lnTo>
                <a:lnTo>
                  <a:pt x="620" y="1241"/>
                </a:lnTo>
                <a:lnTo>
                  <a:pt x="614" y="1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819160" y="4419720"/>
            <a:ext cx="1066680" cy="144756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19520" y="4419360"/>
            <a:ext cx="1828800" cy="144756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2732040"/>
            <a:ext cx="1066680" cy="163440"/>
            <a:chOff x="1523880" y="2732040"/>
            <a:chExt cx="1066680" cy="163440"/>
          </a:xfrm>
        </p:grpSpPr>
        <p:sp>
          <p:nvSpPr>
            <p:cNvPr id="79" name=""/>
            <p:cNvSpPr/>
            <p:nvPr/>
          </p:nvSpPr>
          <p:spPr>
            <a:xfrm>
              <a:off x="1523880" y="2847960"/>
              <a:ext cx="1066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1904760" y="273204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86200" y="4303800"/>
            <a:ext cx="762120" cy="163440"/>
            <a:chOff x="3886200" y="4303800"/>
            <a:chExt cx="762120" cy="163440"/>
          </a:xfrm>
        </p:grpSpPr>
        <p:sp>
          <p:nvSpPr>
            <p:cNvPr id="82" name=""/>
            <p:cNvSpPr/>
            <p:nvPr/>
          </p:nvSpPr>
          <p:spPr>
            <a:xfrm>
              <a:off x="3886200" y="441972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114800" y="430380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3276360"/>
            <a:ext cx="1428480" cy="1143000"/>
            <a:chOff x="4648320" y="3276360"/>
            <a:chExt cx="1428480" cy="1143000"/>
          </a:xfrm>
        </p:grpSpPr>
        <p:sp>
          <p:nvSpPr>
            <p:cNvPr id="85" name=""/>
            <p:cNvSpPr/>
            <p:nvPr/>
          </p:nvSpPr>
          <p:spPr>
            <a:xfrm flipV="1">
              <a:off x="4648320" y="3276360"/>
              <a:ext cx="1428480" cy="1143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 rot="18893400">
              <a:off x="5021280" y="3879000"/>
              <a:ext cx="304920" cy="16308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886200" y="2819160"/>
            <a:ext cx="1219320" cy="1600200"/>
            <a:chOff x="3886200" y="2819160"/>
            <a:chExt cx="1219320" cy="1600200"/>
          </a:xfrm>
        </p:grpSpPr>
        <p:sp>
          <p:nvSpPr>
            <p:cNvPr id="88" name=""/>
            <p:cNvSpPr/>
            <p:nvPr/>
          </p:nvSpPr>
          <p:spPr>
            <a:xfrm flipV="1">
              <a:off x="3886200" y="2819160"/>
              <a:ext cx="1219320" cy="1600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 rot="17473200">
              <a:off x="4107240" y="3816720"/>
              <a:ext cx="304920" cy="16380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14600" y="2819520"/>
            <a:ext cx="1324080" cy="1600200"/>
            <a:chOff x="2514600" y="2819520"/>
            <a:chExt cx="1324080" cy="1600200"/>
          </a:xfrm>
        </p:grpSpPr>
        <p:sp>
          <p:nvSpPr>
            <p:cNvPr id="91" name=""/>
            <p:cNvSpPr/>
            <p:nvPr/>
          </p:nvSpPr>
          <p:spPr>
            <a:xfrm>
              <a:off x="2514600" y="2819520"/>
              <a:ext cx="1324080" cy="1600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 rot="2926200">
              <a:off x="2692800" y="3083400"/>
              <a:ext cx="304920" cy="16380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828800" y="17524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17524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724280"/>
            <a:ext cx="533412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第一次：“倒立”、放大、实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5867280"/>
            <a:ext cx="5639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第二次：“正立”、放大、虚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858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显微镜的光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10080" y="6858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33526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370880" y="281880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920" y="335268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352680"/>
            <a:ext cx="381240" cy="2438640"/>
          </a:xfrm>
          <a:prstGeom prst="downArrow">
            <a:avLst>
              <a:gd name="adj1" fmla="val 43046"/>
              <a:gd name="adj2" fmla="val 252044"/>
            </a:avLst>
          </a:prstGeom>
          <a:noFill/>
          <a:ln w="3816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1734840" cy="2076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668160" y="3403440"/>
            <a:ext cx="98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635360" y="3371760"/>
            <a:ext cx="63720" cy="63720"/>
          </a:xfrm>
          <a:custGeom>
            <a:avLst/>
            <a:gdLst/>
            <a:ahLst/>
            <a:rect l="l" t="t" r="r" b="b"/>
            <a:pathLst>
              <a:path w="202" h="201">
                <a:moveTo>
                  <a:pt x="103" y="201"/>
                </a:moveTo>
                <a:lnTo>
                  <a:pt x="143" y="191"/>
                </a:lnTo>
                <a:lnTo>
                  <a:pt x="157" y="179"/>
                </a:lnTo>
                <a:lnTo>
                  <a:pt x="163" y="172"/>
                </a:lnTo>
                <a:lnTo>
                  <a:pt x="170" y="167"/>
                </a:lnTo>
                <a:lnTo>
                  <a:pt x="171" y="162"/>
                </a:lnTo>
                <a:lnTo>
                  <a:pt x="173" y="159"/>
                </a:lnTo>
                <a:lnTo>
                  <a:pt x="178" y="152"/>
                </a:lnTo>
                <a:lnTo>
                  <a:pt x="187" y="138"/>
                </a:lnTo>
                <a:lnTo>
                  <a:pt x="188" y="134"/>
                </a:lnTo>
                <a:lnTo>
                  <a:pt x="190" y="131"/>
                </a:lnTo>
                <a:lnTo>
                  <a:pt x="195" y="124"/>
                </a:lnTo>
                <a:lnTo>
                  <a:pt x="202" y="110"/>
                </a:lnTo>
                <a:lnTo>
                  <a:pt x="202" y="101"/>
                </a:lnTo>
                <a:lnTo>
                  <a:pt x="200" y="91"/>
                </a:lnTo>
                <a:lnTo>
                  <a:pt x="199" y="83"/>
                </a:lnTo>
                <a:lnTo>
                  <a:pt x="191" y="66"/>
                </a:lnTo>
                <a:lnTo>
                  <a:pt x="182" y="52"/>
                </a:lnTo>
                <a:lnTo>
                  <a:pt x="172" y="39"/>
                </a:lnTo>
                <a:lnTo>
                  <a:pt x="162" y="28"/>
                </a:lnTo>
                <a:lnTo>
                  <a:pt x="148" y="18"/>
                </a:lnTo>
                <a:lnTo>
                  <a:pt x="134" y="10"/>
                </a:lnTo>
                <a:lnTo>
                  <a:pt x="119" y="4"/>
                </a:lnTo>
                <a:lnTo>
                  <a:pt x="103" y="0"/>
                </a:lnTo>
                <a:lnTo>
                  <a:pt x="65" y="13"/>
                </a:lnTo>
                <a:lnTo>
                  <a:pt x="48" y="18"/>
                </a:lnTo>
                <a:lnTo>
                  <a:pt x="36" y="26"/>
                </a:lnTo>
                <a:lnTo>
                  <a:pt x="23" y="35"/>
                </a:lnTo>
                <a:lnTo>
                  <a:pt x="15" y="47"/>
                </a:lnTo>
                <a:lnTo>
                  <a:pt x="7" y="58"/>
                </a:lnTo>
                <a:lnTo>
                  <a:pt x="3" y="72"/>
                </a:lnTo>
                <a:lnTo>
                  <a:pt x="0" y="85"/>
                </a:lnTo>
                <a:lnTo>
                  <a:pt x="1" y="101"/>
                </a:lnTo>
                <a:lnTo>
                  <a:pt x="3" y="120"/>
                </a:lnTo>
                <a:lnTo>
                  <a:pt x="9" y="137"/>
                </a:lnTo>
                <a:lnTo>
                  <a:pt x="17" y="152"/>
                </a:lnTo>
                <a:lnTo>
                  <a:pt x="26" y="165"/>
                </a:lnTo>
                <a:lnTo>
                  <a:pt x="38" y="176"/>
                </a:lnTo>
                <a:lnTo>
                  <a:pt x="51" y="184"/>
                </a:lnTo>
                <a:lnTo>
                  <a:pt x="66" y="192"/>
                </a:lnTo>
                <a:lnTo>
                  <a:pt x="83" y="197"/>
                </a:lnTo>
                <a:lnTo>
                  <a:pt x="103" y="2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2336760" y="3371760"/>
            <a:ext cx="65160" cy="63720"/>
          </a:xfrm>
          <a:custGeom>
            <a:avLst/>
            <a:gdLst/>
            <a:ahLst/>
            <a:rect l="l" t="t" r="r" b="b"/>
            <a:pathLst>
              <a:path w="203" h="201">
                <a:moveTo>
                  <a:pt x="1" y="101"/>
                </a:moveTo>
                <a:lnTo>
                  <a:pt x="3" y="120"/>
                </a:lnTo>
                <a:lnTo>
                  <a:pt x="8" y="137"/>
                </a:lnTo>
                <a:lnTo>
                  <a:pt x="16" y="152"/>
                </a:lnTo>
                <a:lnTo>
                  <a:pt x="25" y="165"/>
                </a:lnTo>
                <a:lnTo>
                  <a:pt x="37" y="176"/>
                </a:lnTo>
                <a:lnTo>
                  <a:pt x="50" y="184"/>
                </a:lnTo>
                <a:lnTo>
                  <a:pt x="66" y="192"/>
                </a:lnTo>
                <a:lnTo>
                  <a:pt x="83" y="197"/>
                </a:lnTo>
                <a:lnTo>
                  <a:pt x="103" y="201"/>
                </a:lnTo>
                <a:lnTo>
                  <a:pt x="122" y="194"/>
                </a:lnTo>
                <a:lnTo>
                  <a:pt x="143" y="191"/>
                </a:lnTo>
                <a:lnTo>
                  <a:pt x="155" y="179"/>
                </a:lnTo>
                <a:lnTo>
                  <a:pt x="161" y="172"/>
                </a:lnTo>
                <a:lnTo>
                  <a:pt x="163" y="169"/>
                </a:lnTo>
                <a:lnTo>
                  <a:pt x="166" y="167"/>
                </a:lnTo>
                <a:lnTo>
                  <a:pt x="176" y="152"/>
                </a:lnTo>
                <a:lnTo>
                  <a:pt x="186" y="138"/>
                </a:lnTo>
                <a:lnTo>
                  <a:pt x="187" y="134"/>
                </a:lnTo>
                <a:lnTo>
                  <a:pt x="189" y="131"/>
                </a:lnTo>
                <a:lnTo>
                  <a:pt x="194" y="124"/>
                </a:lnTo>
                <a:lnTo>
                  <a:pt x="203" y="110"/>
                </a:lnTo>
                <a:lnTo>
                  <a:pt x="203" y="101"/>
                </a:lnTo>
                <a:lnTo>
                  <a:pt x="199" y="91"/>
                </a:lnTo>
                <a:lnTo>
                  <a:pt x="197" y="83"/>
                </a:lnTo>
                <a:lnTo>
                  <a:pt x="189" y="66"/>
                </a:lnTo>
                <a:lnTo>
                  <a:pt x="180" y="52"/>
                </a:lnTo>
                <a:lnTo>
                  <a:pt x="170" y="39"/>
                </a:lnTo>
                <a:lnTo>
                  <a:pt x="160" y="28"/>
                </a:lnTo>
                <a:lnTo>
                  <a:pt x="147" y="18"/>
                </a:lnTo>
                <a:lnTo>
                  <a:pt x="134" y="10"/>
                </a:lnTo>
                <a:lnTo>
                  <a:pt x="119" y="4"/>
                </a:lnTo>
                <a:lnTo>
                  <a:pt x="103" y="0"/>
                </a:lnTo>
                <a:lnTo>
                  <a:pt x="63" y="13"/>
                </a:lnTo>
                <a:lnTo>
                  <a:pt x="46" y="18"/>
                </a:lnTo>
                <a:lnTo>
                  <a:pt x="34" y="26"/>
                </a:lnTo>
                <a:lnTo>
                  <a:pt x="21" y="35"/>
                </a:lnTo>
                <a:lnTo>
                  <a:pt x="13" y="47"/>
                </a:lnTo>
                <a:lnTo>
                  <a:pt x="5" y="58"/>
                </a:lnTo>
                <a:lnTo>
                  <a:pt x="2" y="72"/>
                </a:lnTo>
                <a:lnTo>
                  <a:pt x="0" y="85"/>
                </a:lnTo>
                <a:lnTo>
                  <a:pt x="1" y="1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1650960" y="3371760"/>
            <a:ext cx="65160" cy="63720"/>
          </a:xfrm>
          <a:custGeom>
            <a:avLst/>
            <a:gdLst/>
            <a:ahLst/>
            <a:rect l="l" t="t" r="r" b="b"/>
            <a:pathLst>
              <a:path w="203" h="201">
                <a:moveTo>
                  <a:pt x="167" y="167"/>
                </a:moveTo>
                <a:lnTo>
                  <a:pt x="176" y="152"/>
                </a:lnTo>
                <a:lnTo>
                  <a:pt x="186" y="138"/>
                </a:lnTo>
                <a:lnTo>
                  <a:pt x="187" y="134"/>
                </a:lnTo>
                <a:lnTo>
                  <a:pt x="189" y="131"/>
                </a:lnTo>
                <a:lnTo>
                  <a:pt x="194" y="124"/>
                </a:lnTo>
                <a:lnTo>
                  <a:pt x="203" y="110"/>
                </a:lnTo>
                <a:lnTo>
                  <a:pt x="203" y="101"/>
                </a:lnTo>
                <a:lnTo>
                  <a:pt x="200" y="91"/>
                </a:lnTo>
                <a:lnTo>
                  <a:pt x="197" y="83"/>
                </a:lnTo>
                <a:lnTo>
                  <a:pt x="189" y="66"/>
                </a:lnTo>
                <a:lnTo>
                  <a:pt x="180" y="52"/>
                </a:lnTo>
                <a:lnTo>
                  <a:pt x="170" y="39"/>
                </a:lnTo>
                <a:lnTo>
                  <a:pt x="160" y="28"/>
                </a:lnTo>
                <a:lnTo>
                  <a:pt x="147" y="18"/>
                </a:lnTo>
                <a:lnTo>
                  <a:pt x="134" y="10"/>
                </a:lnTo>
                <a:lnTo>
                  <a:pt x="119" y="4"/>
                </a:lnTo>
                <a:lnTo>
                  <a:pt x="103" y="0"/>
                </a:lnTo>
                <a:lnTo>
                  <a:pt x="64" y="13"/>
                </a:lnTo>
                <a:lnTo>
                  <a:pt x="47" y="18"/>
                </a:lnTo>
                <a:lnTo>
                  <a:pt x="34" y="26"/>
                </a:lnTo>
                <a:lnTo>
                  <a:pt x="22" y="35"/>
                </a:lnTo>
                <a:lnTo>
                  <a:pt x="14" y="47"/>
                </a:lnTo>
                <a:lnTo>
                  <a:pt x="6" y="58"/>
                </a:lnTo>
                <a:lnTo>
                  <a:pt x="2" y="72"/>
                </a:lnTo>
                <a:lnTo>
                  <a:pt x="0" y="85"/>
                </a:lnTo>
                <a:lnTo>
                  <a:pt x="1" y="101"/>
                </a:lnTo>
                <a:lnTo>
                  <a:pt x="3" y="120"/>
                </a:lnTo>
                <a:lnTo>
                  <a:pt x="8" y="137"/>
                </a:lnTo>
                <a:lnTo>
                  <a:pt x="16" y="152"/>
                </a:lnTo>
                <a:lnTo>
                  <a:pt x="25" y="165"/>
                </a:lnTo>
                <a:lnTo>
                  <a:pt x="37" y="176"/>
                </a:lnTo>
                <a:lnTo>
                  <a:pt x="50" y="184"/>
                </a:lnTo>
                <a:lnTo>
                  <a:pt x="66" y="192"/>
                </a:lnTo>
                <a:lnTo>
                  <a:pt x="83" y="197"/>
                </a:lnTo>
                <a:lnTo>
                  <a:pt x="103" y="201"/>
                </a:lnTo>
                <a:lnTo>
                  <a:pt x="122" y="194"/>
                </a:lnTo>
                <a:lnTo>
                  <a:pt x="143" y="191"/>
                </a:lnTo>
                <a:lnTo>
                  <a:pt x="155" y="179"/>
                </a:lnTo>
                <a:lnTo>
                  <a:pt x="161" y="172"/>
                </a:lnTo>
                <a:lnTo>
                  <a:pt x="163" y="169"/>
                </a:lnTo>
                <a:lnTo>
                  <a:pt x="167" y="167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3390840" y="3371760"/>
            <a:ext cx="65160" cy="63720"/>
          </a:xfrm>
          <a:custGeom>
            <a:avLst/>
            <a:gdLst/>
            <a:ahLst/>
            <a:rect l="l" t="t" r="r" b="b"/>
            <a:pathLst>
              <a:path w="203" h="201">
                <a:moveTo>
                  <a:pt x="203" y="110"/>
                </a:moveTo>
                <a:lnTo>
                  <a:pt x="203" y="101"/>
                </a:lnTo>
                <a:lnTo>
                  <a:pt x="200" y="91"/>
                </a:lnTo>
                <a:lnTo>
                  <a:pt x="198" y="83"/>
                </a:lnTo>
                <a:lnTo>
                  <a:pt x="190" y="66"/>
                </a:lnTo>
                <a:lnTo>
                  <a:pt x="181" y="52"/>
                </a:lnTo>
                <a:lnTo>
                  <a:pt x="170" y="39"/>
                </a:lnTo>
                <a:lnTo>
                  <a:pt x="160" y="28"/>
                </a:lnTo>
                <a:lnTo>
                  <a:pt x="148" y="18"/>
                </a:lnTo>
                <a:lnTo>
                  <a:pt x="134" y="10"/>
                </a:lnTo>
                <a:lnTo>
                  <a:pt x="119" y="4"/>
                </a:lnTo>
                <a:lnTo>
                  <a:pt x="104" y="0"/>
                </a:lnTo>
                <a:lnTo>
                  <a:pt x="64" y="13"/>
                </a:lnTo>
                <a:lnTo>
                  <a:pt x="47" y="18"/>
                </a:lnTo>
                <a:lnTo>
                  <a:pt x="34" y="26"/>
                </a:lnTo>
                <a:lnTo>
                  <a:pt x="22" y="35"/>
                </a:lnTo>
                <a:lnTo>
                  <a:pt x="14" y="47"/>
                </a:lnTo>
                <a:lnTo>
                  <a:pt x="6" y="58"/>
                </a:lnTo>
                <a:lnTo>
                  <a:pt x="3" y="72"/>
                </a:lnTo>
                <a:lnTo>
                  <a:pt x="0" y="85"/>
                </a:lnTo>
                <a:lnTo>
                  <a:pt x="2" y="101"/>
                </a:lnTo>
                <a:lnTo>
                  <a:pt x="4" y="120"/>
                </a:lnTo>
                <a:lnTo>
                  <a:pt x="8" y="137"/>
                </a:lnTo>
                <a:lnTo>
                  <a:pt x="16" y="152"/>
                </a:lnTo>
                <a:lnTo>
                  <a:pt x="25" y="165"/>
                </a:lnTo>
                <a:lnTo>
                  <a:pt x="38" y="176"/>
                </a:lnTo>
                <a:lnTo>
                  <a:pt x="50" y="184"/>
                </a:lnTo>
                <a:lnTo>
                  <a:pt x="66" y="192"/>
                </a:lnTo>
                <a:lnTo>
                  <a:pt x="83" y="197"/>
                </a:lnTo>
                <a:lnTo>
                  <a:pt x="104" y="201"/>
                </a:lnTo>
                <a:lnTo>
                  <a:pt x="123" y="194"/>
                </a:lnTo>
                <a:lnTo>
                  <a:pt x="143" y="191"/>
                </a:lnTo>
                <a:lnTo>
                  <a:pt x="156" y="179"/>
                </a:lnTo>
                <a:lnTo>
                  <a:pt x="161" y="172"/>
                </a:lnTo>
                <a:lnTo>
                  <a:pt x="164" y="169"/>
                </a:lnTo>
                <a:lnTo>
                  <a:pt x="167" y="167"/>
                </a:lnTo>
                <a:lnTo>
                  <a:pt x="176" y="152"/>
                </a:lnTo>
                <a:lnTo>
                  <a:pt x="186" y="138"/>
                </a:lnTo>
                <a:lnTo>
                  <a:pt x="187" y="134"/>
                </a:lnTo>
                <a:lnTo>
                  <a:pt x="190" y="131"/>
                </a:lnTo>
                <a:lnTo>
                  <a:pt x="194" y="124"/>
                </a:lnTo>
                <a:lnTo>
                  <a:pt x="203" y="11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3022560" y="3371760"/>
            <a:ext cx="65160" cy="63720"/>
          </a:xfrm>
          <a:custGeom>
            <a:avLst/>
            <a:gdLst/>
            <a:ahLst/>
            <a:rect l="l" t="t" r="r" b="b"/>
            <a:pathLst>
              <a:path w="203" h="201">
                <a:moveTo>
                  <a:pt x="197" y="83"/>
                </a:moveTo>
                <a:lnTo>
                  <a:pt x="189" y="66"/>
                </a:lnTo>
                <a:lnTo>
                  <a:pt x="180" y="52"/>
                </a:lnTo>
                <a:lnTo>
                  <a:pt x="170" y="39"/>
                </a:lnTo>
                <a:lnTo>
                  <a:pt x="159" y="28"/>
                </a:lnTo>
                <a:lnTo>
                  <a:pt x="147" y="18"/>
                </a:lnTo>
                <a:lnTo>
                  <a:pt x="133" y="10"/>
                </a:lnTo>
                <a:lnTo>
                  <a:pt x="119" y="4"/>
                </a:lnTo>
                <a:lnTo>
                  <a:pt x="103" y="0"/>
                </a:lnTo>
                <a:lnTo>
                  <a:pt x="63" y="13"/>
                </a:lnTo>
                <a:lnTo>
                  <a:pt x="46" y="18"/>
                </a:lnTo>
                <a:lnTo>
                  <a:pt x="34" y="26"/>
                </a:lnTo>
                <a:lnTo>
                  <a:pt x="21" y="35"/>
                </a:lnTo>
                <a:lnTo>
                  <a:pt x="13" y="47"/>
                </a:lnTo>
                <a:lnTo>
                  <a:pt x="5" y="58"/>
                </a:lnTo>
                <a:lnTo>
                  <a:pt x="2" y="72"/>
                </a:lnTo>
                <a:lnTo>
                  <a:pt x="0" y="85"/>
                </a:lnTo>
                <a:lnTo>
                  <a:pt x="1" y="101"/>
                </a:lnTo>
                <a:lnTo>
                  <a:pt x="3" y="120"/>
                </a:lnTo>
                <a:lnTo>
                  <a:pt x="8" y="137"/>
                </a:lnTo>
                <a:lnTo>
                  <a:pt x="15" y="152"/>
                </a:lnTo>
                <a:lnTo>
                  <a:pt x="25" y="165"/>
                </a:lnTo>
                <a:lnTo>
                  <a:pt x="37" y="176"/>
                </a:lnTo>
                <a:lnTo>
                  <a:pt x="49" y="184"/>
                </a:lnTo>
                <a:lnTo>
                  <a:pt x="65" y="192"/>
                </a:lnTo>
                <a:lnTo>
                  <a:pt x="82" y="197"/>
                </a:lnTo>
                <a:lnTo>
                  <a:pt x="103" y="201"/>
                </a:lnTo>
                <a:lnTo>
                  <a:pt x="122" y="194"/>
                </a:lnTo>
                <a:lnTo>
                  <a:pt x="142" y="191"/>
                </a:lnTo>
                <a:lnTo>
                  <a:pt x="155" y="179"/>
                </a:lnTo>
                <a:lnTo>
                  <a:pt x="166" y="167"/>
                </a:lnTo>
                <a:lnTo>
                  <a:pt x="175" y="152"/>
                </a:lnTo>
                <a:lnTo>
                  <a:pt x="186" y="138"/>
                </a:lnTo>
                <a:lnTo>
                  <a:pt x="187" y="134"/>
                </a:lnTo>
                <a:lnTo>
                  <a:pt x="189" y="131"/>
                </a:lnTo>
                <a:lnTo>
                  <a:pt x="193" y="124"/>
                </a:lnTo>
                <a:lnTo>
                  <a:pt x="203" y="110"/>
                </a:lnTo>
                <a:lnTo>
                  <a:pt x="203" y="101"/>
                </a:lnTo>
                <a:lnTo>
                  <a:pt x="199" y="91"/>
                </a:lnTo>
                <a:lnTo>
                  <a:pt x="197" y="83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026040" y="3448080"/>
            <a:ext cx="228600" cy="1263600"/>
          </a:xfrm>
          <a:custGeom>
            <a:avLst/>
            <a:gdLst/>
            <a:ahLst/>
            <a:rect l="l" t="t" r="r" b="b"/>
            <a:pathLst>
              <a:path w="719" h="3979">
                <a:moveTo>
                  <a:pt x="719" y="39"/>
                </a:moveTo>
                <a:lnTo>
                  <a:pt x="719" y="0"/>
                </a:lnTo>
                <a:lnTo>
                  <a:pt x="664" y="2052"/>
                </a:lnTo>
                <a:lnTo>
                  <a:pt x="650" y="2199"/>
                </a:lnTo>
                <a:lnTo>
                  <a:pt x="644" y="2272"/>
                </a:lnTo>
                <a:lnTo>
                  <a:pt x="638" y="2344"/>
                </a:lnTo>
                <a:lnTo>
                  <a:pt x="624" y="2486"/>
                </a:lnTo>
                <a:lnTo>
                  <a:pt x="613" y="2626"/>
                </a:lnTo>
                <a:lnTo>
                  <a:pt x="606" y="2695"/>
                </a:lnTo>
                <a:lnTo>
                  <a:pt x="599" y="2764"/>
                </a:lnTo>
                <a:lnTo>
                  <a:pt x="593" y="2831"/>
                </a:lnTo>
                <a:lnTo>
                  <a:pt x="586" y="2895"/>
                </a:lnTo>
                <a:lnTo>
                  <a:pt x="578" y="2957"/>
                </a:lnTo>
                <a:lnTo>
                  <a:pt x="571" y="3017"/>
                </a:lnTo>
                <a:lnTo>
                  <a:pt x="564" y="3075"/>
                </a:lnTo>
                <a:lnTo>
                  <a:pt x="557" y="3130"/>
                </a:lnTo>
                <a:lnTo>
                  <a:pt x="548" y="3181"/>
                </a:lnTo>
                <a:lnTo>
                  <a:pt x="541" y="3232"/>
                </a:lnTo>
                <a:lnTo>
                  <a:pt x="535" y="3281"/>
                </a:lnTo>
                <a:lnTo>
                  <a:pt x="528" y="3328"/>
                </a:lnTo>
                <a:lnTo>
                  <a:pt x="519" y="3372"/>
                </a:lnTo>
                <a:lnTo>
                  <a:pt x="512" y="3414"/>
                </a:lnTo>
                <a:lnTo>
                  <a:pt x="507" y="3433"/>
                </a:lnTo>
                <a:lnTo>
                  <a:pt x="504" y="3453"/>
                </a:lnTo>
                <a:lnTo>
                  <a:pt x="497" y="3491"/>
                </a:lnTo>
                <a:lnTo>
                  <a:pt x="488" y="3525"/>
                </a:lnTo>
                <a:lnTo>
                  <a:pt x="484" y="3541"/>
                </a:lnTo>
                <a:lnTo>
                  <a:pt x="481" y="3549"/>
                </a:lnTo>
                <a:lnTo>
                  <a:pt x="480" y="3558"/>
                </a:lnTo>
                <a:lnTo>
                  <a:pt x="471" y="3588"/>
                </a:lnTo>
                <a:lnTo>
                  <a:pt x="464" y="3617"/>
                </a:lnTo>
                <a:lnTo>
                  <a:pt x="455" y="3643"/>
                </a:lnTo>
                <a:lnTo>
                  <a:pt x="446" y="3667"/>
                </a:lnTo>
                <a:lnTo>
                  <a:pt x="437" y="3688"/>
                </a:lnTo>
                <a:lnTo>
                  <a:pt x="430" y="3707"/>
                </a:lnTo>
                <a:lnTo>
                  <a:pt x="421" y="3724"/>
                </a:lnTo>
                <a:lnTo>
                  <a:pt x="412" y="3739"/>
                </a:lnTo>
                <a:lnTo>
                  <a:pt x="403" y="3752"/>
                </a:lnTo>
                <a:lnTo>
                  <a:pt x="399" y="3756"/>
                </a:lnTo>
                <a:lnTo>
                  <a:pt x="396" y="3758"/>
                </a:lnTo>
                <a:lnTo>
                  <a:pt x="395" y="3762"/>
                </a:lnTo>
                <a:lnTo>
                  <a:pt x="386" y="3770"/>
                </a:lnTo>
                <a:lnTo>
                  <a:pt x="377" y="3775"/>
                </a:lnTo>
                <a:lnTo>
                  <a:pt x="368" y="3779"/>
                </a:lnTo>
                <a:lnTo>
                  <a:pt x="359" y="3780"/>
                </a:lnTo>
                <a:lnTo>
                  <a:pt x="349" y="3779"/>
                </a:lnTo>
                <a:lnTo>
                  <a:pt x="340" y="3775"/>
                </a:lnTo>
                <a:lnTo>
                  <a:pt x="331" y="3770"/>
                </a:lnTo>
                <a:lnTo>
                  <a:pt x="322" y="3762"/>
                </a:lnTo>
                <a:lnTo>
                  <a:pt x="312" y="3752"/>
                </a:lnTo>
                <a:lnTo>
                  <a:pt x="303" y="3739"/>
                </a:lnTo>
                <a:lnTo>
                  <a:pt x="294" y="3724"/>
                </a:lnTo>
                <a:lnTo>
                  <a:pt x="286" y="3707"/>
                </a:lnTo>
                <a:lnTo>
                  <a:pt x="277" y="3688"/>
                </a:lnTo>
                <a:lnTo>
                  <a:pt x="268" y="3667"/>
                </a:lnTo>
                <a:lnTo>
                  <a:pt x="259" y="3643"/>
                </a:lnTo>
                <a:lnTo>
                  <a:pt x="251" y="3617"/>
                </a:lnTo>
                <a:lnTo>
                  <a:pt x="242" y="3588"/>
                </a:lnTo>
                <a:lnTo>
                  <a:pt x="235" y="3558"/>
                </a:lnTo>
                <a:lnTo>
                  <a:pt x="226" y="3525"/>
                </a:lnTo>
                <a:lnTo>
                  <a:pt x="220" y="3491"/>
                </a:lnTo>
                <a:lnTo>
                  <a:pt x="210" y="3453"/>
                </a:lnTo>
                <a:lnTo>
                  <a:pt x="204" y="3414"/>
                </a:lnTo>
                <a:lnTo>
                  <a:pt x="195" y="3372"/>
                </a:lnTo>
                <a:lnTo>
                  <a:pt x="188" y="3328"/>
                </a:lnTo>
                <a:lnTo>
                  <a:pt x="179" y="3281"/>
                </a:lnTo>
                <a:lnTo>
                  <a:pt x="172" y="3232"/>
                </a:lnTo>
                <a:lnTo>
                  <a:pt x="165" y="3181"/>
                </a:lnTo>
                <a:lnTo>
                  <a:pt x="158" y="3130"/>
                </a:lnTo>
                <a:lnTo>
                  <a:pt x="150" y="3075"/>
                </a:lnTo>
                <a:lnTo>
                  <a:pt x="144" y="3017"/>
                </a:lnTo>
                <a:lnTo>
                  <a:pt x="137" y="2957"/>
                </a:lnTo>
                <a:lnTo>
                  <a:pt x="130" y="2895"/>
                </a:lnTo>
                <a:lnTo>
                  <a:pt x="123" y="2831"/>
                </a:lnTo>
                <a:lnTo>
                  <a:pt x="116" y="2764"/>
                </a:lnTo>
                <a:lnTo>
                  <a:pt x="110" y="2695"/>
                </a:lnTo>
                <a:lnTo>
                  <a:pt x="104" y="2626"/>
                </a:lnTo>
                <a:lnTo>
                  <a:pt x="90" y="2486"/>
                </a:lnTo>
                <a:lnTo>
                  <a:pt x="79" y="2344"/>
                </a:lnTo>
                <a:lnTo>
                  <a:pt x="66" y="2199"/>
                </a:lnTo>
                <a:lnTo>
                  <a:pt x="55" y="2052"/>
                </a:lnTo>
                <a:lnTo>
                  <a:pt x="0" y="0"/>
                </a:lnTo>
                <a:lnTo>
                  <a:pt x="0" y="39"/>
                </a:lnTo>
                <a:lnTo>
                  <a:pt x="55" y="2092"/>
                </a:lnTo>
                <a:lnTo>
                  <a:pt x="63" y="2282"/>
                </a:lnTo>
                <a:lnTo>
                  <a:pt x="74" y="2468"/>
                </a:lnTo>
                <a:lnTo>
                  <a:pt x="80" y="2559"/>
                </a:lnTo>
                <a:lnTo>
                  <a:pt x="87" y="2648"/>
                </a:lnTo>
                <a:lnTo>
                  <a:pt x="104" y="2825"/>
                </a:lnTo>
                <a:lnTo>
                  <a:pt x="110" y="2894"/>
                </a:lnTo>
                <a:lnTo>
                  <a:pt x="116" y="2964"/>
                </a:lnTo>
                <a:lnTo>
                  <a:pt x="123" y="3030"/>
                </a:lnTo>
                <a:lnTo>
                  <a:pt x="130" y="3095"/>
                </a:lnTo>
                <a:lnTo>
                  <a:pt x="137" y="3156"/>
                </a:lnTo>
                <a:lnTo>
                  <a:pt x="144" y="3216"/>
                </a:lnTo>
                <a:lnTo>
                  <a:pt x="150" y="3274"/>
                </a:lnTo>
                <a:lnTo>
                  <a:pt x="158" y="3330"/>
                </a:lnTo>
                <a:lnTo>
                  <a:pt x="165" y="3381"/>
                </a:lnTo>
                <a:lnTo>
                  <a:pt x="172" y="3432"/>
                </a:lnTo>
                <a:lnTo>
                  <a:pt x="179" y="3481"/>
                </a:lnTo>
                <a:lnTo>
                  <a:pt x="188" y="3527"/>
                </a:lnTo>
                <a:lnTo>
                  <a:pt x="195" y="3571"/>
                </a:lnTo>
                <a:lnTo>
                  <a:pt x="204" y="3613"/>
                </a:lnTo>
                <a:lnTo>
                  <a:pt x="210" y="3653"/>
                </a:lnTo>
                <a:lnTo>
                  <a:pt x="220" y="3690"/>
                </a:lnTo>
                <a:lnTo>
                  <a:pt x="226" y="3724"/>
                </a:lnTo>
                <a:lnTo>
                  <a:pt x="235" y="3757"/>
                </a:lnTo>
                <a:lnTo>
                  <a:pt x="242" y="3788"/>
                </a:lnTo>
                <a:lnTo>
                  <a:pt x="251" y="3816"/>
                </a:lnTo>
                <a:lnTo>
                  <a:pt x="259" y="3842"/>
                </a:lnTo>
                <a:lnTo>
                  <a:pt x="268" y="3866"/>
                </a:lnTo>
                <a:lnTo>
                  <a:pt x="277" y="3888"/>
                </a:lnTo>
                <a:lnTo>
                  <a:pt x="286" y="3907"/>
                </a:lnTo>
                <a:lnTo>
                  <a:pt x="294" y="3924"/>
                </a:lnTo>
                <a:lnTo>
                  <a:pt x="303" y="3939"/>
                </a:lnTo>
                <a:lnTo>
                  <a:pt x="312" y="3951"/>
                </a:lnTo>
                <a:lnTo>
                  <a:pt x="322" y="3961"/>
                </a:lnTo>
                <a:lnTo>
                  <a:pt x="331" y="3969"/>
                </a:lnTo>
                <a:lnTo>
                  <a:pt x="340" y="3975"/>
                </a:lnTo>
                <a:lnTo>
                  <a:pt x="349" y="3978"/>
                </a:lnTo>
                <a:lnTo>
                  <a:pt x="359" y="3979"/>
                </a:lnTo>
                <a:lnTo>
                  <a:pt x="368" y="3978"/>
                </a:lnTo>
                <a:lnTo>
                  <a:pt x="377" y="3975"/>
                </a:lnTo>
                <a:lnTo>
                  <a:pt x="386" y="3969"/>
                </a:lnTo>
                <a:lnTo>
                  <a:pt x="395" y="3961"/>
                </a:lnTo>
                <a:lnTo>
                  <a:pt x="396" y="3958"/>
                </a:lnTo>
                <a:lnTo>
                  <a:pt x="399" y="3956"/>
                </a:lnTo>
                <a:lnTo>
                  <a:pt x="403" y="3951"/>
                </a:lnTo>
                <a:lnTo>
                  <a:pt x="412" y="3939"/>
                </a:lnTo>
                <a:lnTo>
                  <a:pt x="421" y="3924"/>
                </a:lnTo>
                <a:lnTo>
                  <a:pt x="430" y="3907"/>
                </a:lnTo>
                <a:lnTo>
                  <a:pt x="437" y="3888"/>
                </a:lnTo>
                <a:lnTo>
                  <a:pt x="446" y="3866"/>
                </a:lnTo>
                <a:lnTo>
                  <a:pt x="455" y="3842"/>
                </a:lnTo>
                <a:lnTo>
                  <a:pt x="464" y="3816"/>
                </a:lnTo>
                <a:lnTo>
                  <a:pt x="471" y="3788"/>
                </a:lnTo>
                <a:lnTo>
                  <a:pt x="480" y="3757"/>
                </a:lnTo>
                <a:lnTo>
                  <a:pt x="481" y="3748"/>
                </a:lnTo>
                <a:lnTo>
                  <a:pt x="484" y="3740"/>
                </a:lnTo>
                <a:lnTo>
                  <a:pt x="488" y="3724"/>
                </a:lnTo>
                <a:lnTo>
                  <a:pt x="497" y="3690"/>
                </a:lnTo>
                <a:lnTo>
                  <a:pt x="504" y="3653"/>
                </a:lnTo>
                <a:lnTo>
                  <a:pt x="507" y="3633"/>
                </a:lnTo>
                <a:lnTo>
                  <a:pt x="512" y="3613"/>
                </a:lnTo>
                <a:lnTo>
                  <a:pt x="519" y="3571"/>
                </a:lnTo>
                <a:lnTo>
                  <a:pt x="528" y="3527"/>
                </a:lnTo>
                <a:lnTo>
                  <a:pt x="535" y="3481"/>
                </a:lnTo>
                <a:lnTo>
                  <a:pt x="541" y="3432"/>
                </a:lnTo>
                <a:lnTo>
                  <a:pt x="548" y="3381"/>
                </a:lnTo>
                <a:lnTo>
                  <a:pt x="557" y="3330"/>
                </a:lnTo>
                <a:lnTo>
                  <a:pt x="564" y="3274"/>
                </a:lnTo>
                <a:lnTo>
                  <a:pt x="571" y="3216"/>
                </a:lnTo>
                <a:lnTo>
                  <a:pt x="578" y="3156"/>
                </a:lnTo>
                <a:lnTo>
                  <a:pt x="586" y="3095"/>
                </a:lnTo>
                <a:lnTo>
                  <a:pt x="593" y="3030"/>
                </a:lnTo>
                <a:lnTo>
                  <a:pt x="599" y="2964"/>
                </a:lnTo>
                <a:lnTo>
                  <a:pt x="606" y="2894"/>
                </a:lnTo>
                <a:lnTo>
                  <a:pt x="613" y="2825"/>
                </a:lnTo>
                <a:lnTo>
                  <a:pt x="620" y="2737"/>
                </a:lnTo>
                <a:lnTo>
                  <a:pt x="628" y="2648"/>
                </a:lnTo>
                <a:lnTo>
                  <a:pt x="634" y="2559"/>
                </a:lnTo>
                <a:lnTo>
                  <a:pt x="641" y="2468"/>
                </a:lnTo>
                <a:lnTo>
                  <a:pt x="647" y="2375"/>
                </a:lnTo>
                <a:lnTo>
                  <a:pt x="654" y="2282"/>
                </a:lnTo>
                <a:lnTo>
                  <a:pt x="658" y="2187"/>
                </a:lnTo>
                <a:lnTo>
                  <a:pt x="664" y="2092"/>
                </a:lnTo>
                <a:lnTo>
                  <a:pt x="71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5878440" y="3384720"/>
            <a:ext cx="65160" cy="63360"/>
          </a:xfrm>
          <a:custGeom>
            <a:avLst/>
            <a:gdLst/>
            <a:ahLst/>
            <a:rect l="l" t="t" r="r" b="b"/>
            <a:pathLst>
              <a:path w="204" h="200">
                <a:moveTo>
                  <a:pt x="103" y="200"/>
                </a:moveTo>
                <a:lnTo>
                  <a:pt x="144" y="189"/>
                </a:lnTo>
                <a:lnTo>
                  <a:pt x="157" y="178"/>
                </a:lnTo>
                <a:lnTo>
                  <a:pt x="163" y="171"/>
                </a:lnTo>
                <a:lnTo>
                  <a:pt x="170" y="166"/>
                </a:lnTo>
                <a:lnTo>
                  <a:pt x="187" y="138"/>
                </a:lnTo>
                <a:lnTo>
                  <a:pt x="188" y="134"/>
                </a:lnTo>
                <a:lnTo>
                  <a:pt x="190" y="130"/>
                </a:lnTo>
                <a:lnTo>
                  <a:pt x="195" y="124"/>
                </a:lnTo>
                <a:lnTo>
                  <a:pt x="204" y="110"/>
                </a:lnTo>
                <a:lnTo>
                  <a:pt x="203" y="94"/>
                </a:lnTo>
                <a:lnTo>
                  <a:pt x="199" y="82"/>
                </a:lnTo>
                <a:lnTo>
                  <a:pt x="195" y="69"/>
                </a:lnTo>
                <a:lnTo>
                  <a:pt x="189" y="60"/>
                </a:lnTo>
                <a:lnTo>
                  <a:pt x="181" y="48"/>
                </a:lnTo>
                <a:lnTo>
                  <a:pt x="173" y="37"/>
                </a:lnTo>
                <a:lnTo>
                  <a:pt x="163" y="28"/>
                </a:lnTo>
                <a:lnTo>
                  <a:pt x="154" y="22"/>
                </a:lnTo>
                <a:lnTo>
                  <a:pt x="142" y="14"/>
                </a:lnTo>
                <a:lnTo>
                  <a:pt x="130" y="8"/>
                </a:lnTo>
                <a:lnTo>
                  <a:pt x="103" y="0"/>
                </a:lnTo>
                <a:lnTo>
                  <a:pt x="84" y="3"/>
                </a:lnTo>
                <a:lnTo>
                  <a:pt x="66" y="11"/>
                </a:lnTo>
                <a:lnTo>
                  <a:pt x="45" y="19"/>
                </a:lnTo>
                <a:lnTo>
                  <a:pt x="30" y="31"/>
                </a:lnTo>
                <a:lnTo>
                  <a:pt x="18" y="43"/>
                </a:lnTo>
                <a:lnTo>
                  <a:pt x="10" y="60"/>
                </a:lnTo>
                <a:lnTo>
                  <a:pt x="4" y="73"/>
                </a:lnTo>
                <a:lnTo>
                  <a:pt x="1" y="87"/>
                </a:lnTo>
                <a:lnTo>
                  <a:pt x="0" y="102"/>
                </a:lnTo>
                <a:lnTo>
                  <a:pt x="3" y="119"/>
                </a:lnTo>
                <a:lnTo>
                  <a:pt x="9" y="136"/>
                </a:lnTo>
                <a:lnTo>
                  <a:pt x="17" y="151"/>
                </a:lnTo>
                <a:lnTo>
                  <a:pt x="26" y="163"/>
                </a:lnTo>
                <a:lnTo>
                  <a:pt x="38" y="175"/>
                </a:lnTo>
                <a:lnTo>
                  <a:pt x="51" y="183"/>
                </a:lnTo>
                <a:lnTo>
                  <a:pt x="67" y="190"/>
                </a:lnTo>
                <a:lnTo>
                  <a:pt x="84" y="196"/>
                </a:lnTo>
                <a:lnTo>
                  <a:pt x="103" y="2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2050920" y="2146320"/>
            <a:ext cx="32040" cy="4680"/>
          </a:xfrm>
          <a:custGeom>
            <a:avLst/>
            <a:gdLst/>
            <a:ahLst/>
            <a:rect l="l" t="t" r="r" b="b"/>
            <a:pathLst>
              <a:path w="99" h="14">
                <a:moveTo>
                  <a:pt x="25" y="0"/>
                </a:moveTo>
                <a:lnTo>
                  <a:pt x="0" y="3"/>
                </a:lnTo>
                <a:lnTo>
                  <a:pt x="3" y="3"/>
                </a:lnTo>
                <a:lnTo>
                  <a:pt x="25" y="3"/>
                </a:lnTo>
                <a:lnTo>
                  <a:pt x="62" y="4"/>
                </a:lnTo>
                <a:lnTo>
                  <a:pt x="80" y="7"/>
                </a:lnTo>
                <a:lnTo>
                  <a:pt x="99" y="14"/>
                </a:lnTo>
                <a:lnTo>
                  <a:pt x="80" y="7"/>
                </a:lnTo>
                <a:lnTo>
                  <a:pt x="62" y="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2166840" y="2514600"/>
            <a:ext cx="424080" cy="1752480"/>
          </a:xfrm>
          <a:custGeom>
            <a:avLst/>
            <a:gdLst/>
            <a:ahLst/>
            <a:rect l="l" t="t" r="r" b="b"/>
            <a:pathLst>
              <a:path w="1361" h="7800">
                <a:moveTo>
                  <a:pt x="681" y="0"/>
                </a:moveTo>
                <a:lnTo>
                  <a:pt x="644" y="3"/>
                </a:lnTo>
                <a:lnTo>
                  <a:pt x="626" y="9"/>
                </a:lnTo>
                <a:lnTo>
                  <a:pt x="610" y="17"/>
                </a:lnTo>
                <a:lnTo>
                  <a:pt x="592" y="27"/>
                </a:lnTo>
                <a:lnTo>
                  <a:pt x="576" y="40"/>
                </a:lnTo>
                <a:lnTo>
                  <a:pt x="559" y="54"/>
                </a:lnTo>
                <a:lnTo>
                  <a:pt x="543" y="71"/>
                </a:lnTo>
                <a:lnTo>
                  <a:pt x="526" y="89"/>
                </a:lnTo>
                <a:lnTo>
                  <a:pt x="511" y="110"/>
                </a:lnTo>
                <a:lnTo>
                  <a:pt x="495" y="134"/>
                </a:lnTo>
                <a:lnTo>
                  <a:pt x="479" y="160"/>
                </a:lnTo>
                <a:lnTo>
                  <a:pt x="448" y="218"/>
                </a:lnTo>
                <a:lnTo>
                  <a:pt x="432" y="251"/>
                </a:lnTo>
                <a:lnTo>
                  <a:pt x="419" y="286"/>
                </a:lnTo>
                <a:lnTo>
                  <a:pt x="403" y="321"/>
                </a:lnTo>
                <a:lnTo>
                  <a:pt x="388" y="361"/>
                </a:lnTo>
                <a:lnTo>
                  <a:pt x="359" y="446"/>
                </a:lnTo>
                <a:lnTo>
                  <a:pt x="344" y="490"/>
                </a:lnTo>
                <a:lnTo>
                  <a:pt x="330" y="539"/>
                </a:lnTo>
                <a:lnTo>
                  <a:pt x="317" y="590"/>
                </a:lnTo>
                <a:lnTo>
                  <a:pt x="303" y="643"/>
                </a:lnTo>
                <a:lnTo>
                  <a:pt x="290" y="696"/>
                </a:lnTo>
                <a:lnTo>
                  <a:pt x="276" y="754"/>
                </a:lnTo>
                <a:lnTo>
                  <a:pt x="262" y="812"/>
                </a:lnTo>
                <a:lnTo>
                  <a:pt x="250" y="874"/>
                </a:lnTo>
                <a:lnTo>
                  <a:pt x="236" y="937"/>
                </a:lnTo>
                <a:lnTo>
                  <a:pt x="224" y="1004"/>
                </a:lnTo>
                <a:lnTo>
                  <a:pt x="199" y="1143"/>
                </a:lnTo>
                <a:lnTo>
                  <a:pt x="174" y="1286"/>
                </a:lnTo>
                <a:lnTo>
                  <a:pt x="151" y="1434"/>
                </a:lnTo>
                <a:lnTo>
                  <a:pt x="130" y="1586"/>
                </a:lnTo>
                <a:lnTo>
                  <a:pt x="112" y="1743"/>
                </a:lnTo>
                <a:lnTo>
                  <a:pt x="92" y="1902"/>
                </a:lnTo>
                <a:lnTo>
                  <a:pt x="76" y="2065"/>
                </a:lnTo>
                <a:lnTo>
                  <a:pt x="62" y="2232"/>
                </a:lnTo>
                <a:lnTo>
                  <a:pt x="49" y="2403"/>
                </a:lnTo>
                <a:lnTo>
                  <a:pt x="37" y="2576"/>
                </a:lnTo>
                <a:lnTo>
                  <a:pt x="26" y="2754"/>
                </a:lnTo>
                <a:lnTo>
                  <a:pt x="17" y="2936"/>
                </a:lnTo>
                <a:lnTo>
                  <a:pt x="12" y="3122"/>
                </a:lnTo>
                <a:lnTo>
                  <a:pt x="6" y="3310"/>
                </a:lnTo>
                <a:lnTo>
                  <a:pt x="3" y="3503"/>
                </a:lnTo>
                <a:lnTo>
                  <a:pt x="0" y="3699"/>
                </a:lnTo>
                <a:lnTo>
                  <a:pt x="0" y="3901"/>
                </a:lnTo>
                <a:lnTo>
                  <a:pt x="0" y="3921"/>
                </a:lnTo>
                <a:lnTo>
                  <a:pt x="0" y="4118"/>
                </a:lnTo>
                <a:lnTo>
                  <a:pt x="3" y="4313"/>
                </a:lnTo>
                <a:lnTo>
                  <a:pt x="6" y="4504"/>
                </a:lnTo>
                <a:lnTo>
                  <a:pt x="13" y="4692"/>
                </a:lnTo>
                <a:lnTo>
                  <a:pt x="19" y="4876"/>
                </a:lnTo>
                <a:lnTo>
                  <a:pt x="28" y="5056"/>
                </a:lnTo>
                <a:lnTo>
                  <a:pt x="38" y="5233"/>
                </a:lnTo>
                <a:lnTo>
                  <a:pt x="50" y="5406"/>
                </a:lnTo>
                <a:lnTo>
                  <a:pt x="63" y="5575"/>
                </a:lnTo>
                <a:lnTo>
                  <a:pt x="78" y="5741"/>
                </a:lnTo>
                <a:lnTo>
                  <a:pt x="93" y="5903"/>
                </a:lnTo>
                <a:lnTo>
                  <a:pt x="112" y="6062"/>
                </a:lnTo>
                <a:lnTo>
                  <a:pt x="130" y="6216"/>
                </a:lnTo>
                <a:lnTo>
                  <a:pt x="151" y="6367"/>
                </a:lnTo>
                <a:lnTo>
                  <a:pt x="174" y="6514"/>
                </a:lnTo>
                <a:lnTo>
                  <a:pt x="199" y="6658"/>
                </a:lnTo>
                <a:lnTo>
                  <a:pt x="210" y="6727"/>
                </a:lnTo>
                <a:lnTo>
                  <a:pt x="224" y="6795"/>
                </a:lnTo>
                <a:lnTo>
                  <a:pt x="236" y="6860"/>
                </a:lnTo>
                <a:lnTo>
                  <a:pt x="250" y="6925"/>
                </a:lnTo>
                <a:lnTo>
                  <a:pt x="262" y="6985"/>
                </a:lnTo>
                <a:lnTo>
                  <a:pt x="276" y="7045"/>
                </a:lnTo>
                <a:lnTo>
                  <a:pt x="290" y="7102"/>
                </a:lnTo>
                <a:lnTo>
                  <a:pt x="303" y="7157"/>
                </a:lnTo>
                <a:lnTo>
                  <a:pt x="317" y="7208"/>
                </a:lnTo>
                <a:lnTo>
                  <a:pt x="330" y="7259"/>
                </a:lnTo>
                <a:lnTo>
                  <a:pt x="344" y="7307"/>
                </a:lnTo>
                <a:lnTo>
                  <a:pt x="359" y="7353"/>
                </a:lnTo>
                <a:lnTo>
                  <a:pt x="372" y="7395"/>
                </a:lnTo>
                <a:lnTo>
                  <a:pt x="388" y="7437"/>
                </a:lnTo>
                <a:lnTo>
                  <a:pt x="403" y="7477"/>
                </a:lnTo>
                <a:lnTo>
                  <a:pt x="419" y="7514"/>
                </a:lnTo>
                <a:lnTo>
                  <a:pt x="432" y="7547"/>
                </a:lnTo>
                <a:lnTo>
                  <a:pt x="448" y="7580"/>
                </a:lnTo>
                <a:lnTo>
                  <a:pt x="463" y="7611"/>
                </a:lnTo>
                <a:lnTo>
                  <a:pt x="479" y="7639"/>
                </a:lnTo>
                <a:lnTo>
                  <a:pt x="495" y="7664"/>
                </a:lnTo>
                <a:lnTo>
                  <a:pt x="511" y="7688"/>
                </a:lnTo>
                <a:lnTo>
                  <a:pt x="526" y="7709"/>
                </a:lnTo>
                <a:lnTo>
                  <a:pt x="543" y="7729"/>
                </a:lnTo>
                <a:lnTo>
                  <a:pt x="559" y="7745"/>
                </a:lnTo>
                <a:lnTo>
                  <a:pt x="576" y="7759"/>
                </a:lnTo>
                <a:lnTo>
                  <a:pt x="592" y="7772"/>
                </a:lnTo>
                <a:lnTo>
                  <a:pt x="610" y="7782"/>
                </a:lnTo>
                <a:lnTo>
                  <a:pt x="626" y="7790"/>
                </a:lnTo>
                <a:lnTo>
                  <a:pt x="644" y="7796"/>
                </a:lnTo>
                <a:lnTo>
                  <a:pt x="663" y="7799"/>
                </a:lnTo>
                <a:lnTo>
                  <a:pt x="681" y="7800"/>
                </a:lnTo>
                <a:lnTo>
                  <a:pt x="697" y="7799"/>
                </a:lnTo>
                <a:lnTo>
                  <a:pt x="715" y="7796"/>
                </a:lnTo>
                <a:lnTo>
                  <a:pt x="731" y="7790"/>
                </a:lnTo>
                <a:lnTo>
                  <a:pt x="749" y="7782"/>
                </a:lnTo>
                <a:lnTo>
                  <a:pt x="765" y="7772"/>
                </a:lnTo>
                <a:lnTo>
                  <a:pt x="772" y="7765"/>
                </a:lnTo>
                <a:lnTo>
                  <a:pt x="782" y="7759"/>
                </a:lnTo>
                <a:lnTo>
                  <a:pt x="797" y="7745"/>
                </a:lnTo>
                <a:lnTo>
                  <a:pt x="816" y="7729"/>
                </a:lnTo>
                <a:lnTo>
                  <a:pt x="831" y="7709"/>
                </a:lnTo>
                <a:lnTo>
                  <a:pt x="847" y="7688"/>
                </a:lnTo>
                <a:lnTo>
                  <a:pt x="863" y="7664"/>
                </a:lnTo>
                <a:lnTo>
                  <a:pt x="879" y="7639"/>
                </a:lnTo>
                <a:lnTo>
                  <a:pt x="886" y="7624"/>
                </a:lnTo>
                <a:lnTo>
                  <a:pt x="894" y="7611"/>
                </a:lnTo>
                <a:lnTo>
                  <a:pt x="910" y="7580"/>
                </a:lnTo>
                <a:lnTo>
                  <a:pt x="926" y="7547"/>
                </a:lnTo>
                <a:lnTo>
                  <a:pt x="941" y="7514"/>
                </a:lnTo>
                <a:lnTo>
                  <a:pt x="955" y="7477"/>
                </a:lnTo>
                <a:lnTo>
                  <a:pt x="962" y="7457"/>
                </a:lnTo>
                <a:lnTo>
                  <a:pt x="965" y="7446"/>
                </a:lnTo>
                <a:lnTo>
                  <a:pt x="970" y="7437"/>
                </a:lnTo>
                <a:lnTo>
                  <a:pt x="983" y="7395"/>
                </a:lnTo>
                <a:lnTo>
                  <a:pt x="999" y="7353"/>
                </a:lnTo>
                <a:lnTo>
                  <a:pt x="1013" y="7307"/>
                </a:lnTo>
                <a:lnTo>
                  <a:pt x="1028" y="7259"/>
                </a:lnTo>
                <a:lnTo>
                  <a:pt x="1041" y="7208"/>
                </a:lnTo>
                <a:lnTo>
                  <a:pt x="1048" y="7182"/>
                </a:lnTo>
                <a:lnTo>
                  <a:pt x="1056" y="7157"/>
                </a:lnTo>
                <a:lnTo>
                  <a:pt x="1058" y="7142"/>
                </a:lnTo>
                <a:lnTo>
                  <a:pt x="1062" y="7129"/>
                </a:lnTo>
                <a:lnTo>
                  <a:pt x="1068" y="7102"/>
                </a:lnTo>
                <a:lnTo>
                  <a:pt x="1082" y="7045"/>
                </a:lnTo>
                <a:lnTo>
                  <a:pt x="1096" y="6985"/>
                </a:lnTo>
                <a:lnTo>
                  <a:pt x="1109" y="6925"/>
                </a:lnTo>
                <a:lnTo>
                  <a:pt x="1111" y="6908"/>
                </a:lnTo>
                <a:lnTo>
                  <a:pt x="1115" y="6892"/>
                </a:lnTo>
                <a:lnTo>
                  <a:pt x="1122" y="6860"/>
                </a:lnTo>
                <a:lnTo>
                  <a:pt x="1135" y="6795"/>
                </a:lnTo>
                <a:lnTo>
                  <a:pt x="1148" y="6727"/>
                </a:lnTo>
                <a:lnTo>
                  <a:pt x="1161" y="6658"/>
                </a:lnTo>
                <a:lnTo>
                  <a:pt x="1184" y="6514"/>
                </a:lnTo>
                <a:lnTo>
                  <a:pt x="1207" y="6367"/>
                </a:lnTo>
                <a:lnTo>
                  <a:pt x="1227" y="6216"/>
                </a:lnTo>
                <a:lnTo>
                  <a:pt x="1248" y="6062"/>
                </a:lnTo>
                <a:lnTo>
                  <a:pt x="1255" y="5982"/>
                </a:lnTo>
                <a:lnTo>
                  <a:pt x="1265" y="5903"/>
                </a:lnTo>
                <a:lnTo>
                  <a:pt x="1272" y="5821"/>
                </a:lnTo>
                <a:lnTo>
                  <a:pt x="1282" y="5741"/>
                </a:lnTo>
                <a:lnTo>
                  <a:pt x="1288" y="5658"/>
                </a:lnTo>
                <a:lnTo>
                  <a:pt x="1289" y="5637"/>
                </a:lnTo>
                <a:lnTo>
                  <a:pt x="1292" y="5616"/>
                </a:lnTo>
                <a:lnTo>
                  <a:pt x="1296" y="5575"/>
                </a:lnTo>
                <a:lnTo>
                  <a:pt x="1310" y="5406"/>
                </a:lnTo>
                <a:lnTo>
                  <a:pt x="1321" y="5233"/>
                </a:lnTo>
                <a:lnTo>
                  <a:pt x="1326" y="5145"/>
                </a:lnTo>
                <a:lnTo>
                  <a:pt x="1331" y="5056"/>
                </a:lnTo>
                <a:lnTo>
                  <a:pt x="1335" y="4965"/>
                </a:lnTo>
                <a:lnTo>
                  <a:pt x="1339" y="4876"/>
                </a:lnTo>
                <a:lnTo>
                  <a:pt x="1339" y="4852"/>
                </a:lnTo>
                <a:lnTo>
                  <a:pt x="1341" y="4829"/>
                </a:lnTo>
                <a:lnTo>
                  <a:pt x="1343" y="4784"/>
                </a:lnTo>
                <a:lnTo>
                  <a:pt x="1347" y="4692"/>
                </a:lnTo>
                <a:lnTo>
                  <a:pt x="1352" y="4504"/>
                </a:lnTo>
                <a:lnTo>
                  <a:pt x="1356" y="4313"/>
                </a:lnTo>
                <a:lnTo>
                  <a:pt x="1359" y="4118"/>
                </a:lnTo>
                <a:lnTo>
                  <a:pt x="1361" y="3921"/>
                </a:lnTo>
                <a:lnTo>
                  <a:pt x="1361" y="3901"/>
                </a:lnTo>
                <a:lnTo>
                  <a:pt x="1360" y="3799"/>
                </a:lnTo>
                <a:lnTo>
                  <a:pt x="1360" y="3699"/>
                </a:lnTo>
                <a:lnTo>
                  <a:pt x="1358" y="3503"/>
                </a:lnTo>
                <a:lnTo>
                  <a:pt x="1353" y="3310"/>
                </a:lnTo>
                <a:lnTo>
                  <a:pt x="1348" y="3122"/>
                </a:lnTo>
                <a:lnTo>
                  <a:pt x="1344" y="3028"/>
                </a:lnTo>
                <a:lnTo>
                  <a:pt x="1341" y="2936"/>
                </a:lnTo>
                <a:lnTo>
                  <a:pt x="1336" y="2844"/>
                </a:lnTo>
                <a:lnTo>
                  <a:pt x="1333" y="2754"/>
                </a:lnTo>
                <a:lnTo>
                  <a:pt x="1322" y="2576"/>
                </a:lnTo>
                <a:lnTo>
                  <a:pt x="1311" y="2403"/>
                </a:lnTo>
                <a:lnTo>
                  <a:pt x="1297" y="2232"/>
                </a:lnTo>
                <a:lnTo>
                  <a:pt x="1283" y="2065"/>
                </a:lnTo>
                <a:lnTo>
                  <a:pt x="1274" y="1982"/>
                </a:lnTo>
                <a:lnTo>
                  <a:pt x="1266" y="1902"/>
                </a:lnTo>
                <a:lnTo>
                  <a:pt x="1257" y="1821"/>
                </a:lnTo>
                <a:lnTo>
                  <a:pt x="1249" y="1743"/>
                </a:lnTo>
                <a:lnTo>
                  <a:pt x="1228" y="1586"/>
                </a:lnTo>
                <a:lnTo>
                  <a:pt x="1208" y="1434"/>
                </a:lnTo>
                <a:lnTo>
                  <a:pt x="1185" y="1286"/>
                </a:lnTo>
                <a:lnTo>
                  <a:pt x="1173" y="1213"/>
                </a:lnTo>
                <a:lnTo>
                  <a:pt x="1161" y="1143"/>
                </a:lnTo>
                <a:lnTo>
                  <a:pt x="1148" y="1072"/>
                </a:lnTo>
                <a:lnTo>
                  <a:pt x="1135" y="1004"/>
                </a:lnTo>
                <a:lnTo>
                  <a:pt x="1122" y="937"/>
                </a:lnTo>
                <a:lnTo>
                  <a:pt x="1109" y="874"/>
                </a:lnTo>
                <a:lnTo>
                  <a:pt x="1096" y="812"/>
                </a:lnTo>
                <a:lnTo>
                  <a:pt x="1082" y="754"/>
                </a:lnTo>
                <a:lnTo>
                  <a:pt x="1068" y="696"/>
                </a:lnTo>
                <a:lnTo>
                  <a:pt x="1056" y="643"/>
                </a:lnTo>
                <a:lnTo>
                  <a:pt x="1041" y="590"/>
                </a:lnTo>
                <a:lnTo>
                  <a:pt x="1028" y="539"/>
                </a:lnTo>
                <a:lnTo>
                  <a:pt x="1013" y="490"/>
                </a:lnTo>
                <a:lnTo>
                  <a:pt x="999" y="446"/>
                </a:lnTo>
                <a:lnTo>
                  <a:pt x="970" y="361"/>
                </a:lnTo>
                <a:lnTo>
                  <a:pt x="955" y="321"/>
                </a:lnTo>
                <a:lnTo>
                  <a:pt x="941" y="286"/>
                </a:lnTo>
                <a:lnTo>
                  <a:pt x="926" y="251"/>
                </a:lnTo>
                <a:lnTo>
                  <a:pt x="910" y="218"/>
                </a:lnTo>
                <a:lnTo>
                  <a:pt x="894" y="187"/>
                </a:lnTo>
                <a:lnTo>
                  <a:pt x="879" y="160"/>
                </a:lnTo>
                <a:lnTo>
                  <a:pt x="863" y="134"/>
                </a:lnTo>
                <a:lnTo>
                  <a:pt x="847" y="110"/>
                </a:lnTo>
                <a:lnTo>
                  <a:pt x="831" y="89"/>
                </a:lnTo>
                <a:lnTo>
                  <a:pt x="816" y="71"/>
                </a:lnTo>
                <a:lnTo>
                  <a:pt x="797" y="54"/>
                </a:lnTo>
                <a:lnTo>
                  <a:pt x="782" y="40"/>
                </a:lnTo>
                <a:lnTo>
                  <a:pt x="765" y="27"/>
                </a:lnTo>
                <a:lnTo>
                  <a:pt x="749" y="17"/>
                </a:lnTo>
                <a:lnTo>
                  <a:pt x="731" y="9"/>
                </a:lnTo>
                <a:lnTo>
                  <a:pt x="715" y="3"/>
                </a:lnTo>
                <a:lnTo>
                  <a:pt x="681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38920" y="3403440"/>
            <a:ext cx="169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4699080" y="3403440"/>
            <a:ext cx="850680" cy="1800"/>
          </a:xfrm>
          <a:custGeom>
            <a:avLst/>
            <a:gdLst/>
            <a:ahLst/>
            <a:rect l="l" t="t" r="r" b="b"/>
            <a:pathLst>
              <a:path w="2678" h="0">
                <a:moveTo>
                  <a:pt x="2678" y="0"/>
                </a:moveTo>
                <a:lnTo>
                  <a:pt x="26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13120" y="3403440"/>
            <a:ext cx="268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652880" y="3403440"/>
            <a:ext cx="824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172200" y="3403440"/>
            <a:ext cx="1424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4552920" y="2158920"/>
            <a:ext cx="228600" cy="2502000"/>
          </a:xfrm>
          <a:custGeom>
            <a:avLst/>
            <a:gdLst/>
            <a:ahLst/>
            <a:rect l="l" t="t" r="r" b="b"/>
            <a:pathLst>
              <a:path w="720" h="7881">
                <a:moveTo>
                  <a:pt x="614" y="1154"/>
                </a:moveTo>
                <a:lnTo>
                  <a:pt x="607" y="1083"/>
                </a:lnTo>
                <a:lnTo>
                  <a:pt x="600" y="1014"/>
                </a:lnTo>
                <a:lnTo>
                  <a:pt x="593" y="947"/>
                </a:lnTo>
                <a:lnTo>
                  <a:pt x="586" y="882"/>
                </a:lnTo>
                <a:lnTo>
                  <a:pt x="578" y="820"/>
                </a:lnTo>
                <a:lnTo>
                  <a:pt x="572" y="760"/>
                </a:lnTo>
                <a:lnTo>
                  <a:pt x="565" y="702"/>
                </a:lnTo>
                <a:lnTo>
                  <a:pt x="558" y="649"/>
                </a:lnTo>
                <a:lnTo>
                  <a:pt x="549" y="595"/>
                </a:lnTo>
                <a:lnTo>
                  <a:pt x="542" y="544"/>
                </a:lnTo>
                <a:lnTo>
                  <a:pt x="535" y="496"/>
                </a:lnTo>
                <a:lnTo>
                  <a:pt x="529" y="449"/>
                </a:lnTo>
                <a:lnTo>
                  <a:pt x="520" y="405"/>
                </a:lnTo>
                <a:lnTo>
                  <a:pt x="513" y="363"/>
                </a:lnTo>
                <a:lnTo>
                  <a:pt x="505" y="323"/>
                </a:lnTo>
                <a:lnTo>
                  <a:pt x="498" y="288"/>
                </a:lnTo>
                <a:lnTo>
                  <a:pt x="489" y="253"/>
                </a:lnTo>
                <a:lnTo>
                  <a:pt x="481" y="220"/>
                </a:lnTo>
                <a:lnTo>
                  <a:pt x="472" y="189"/>
                </a:lnTo>
                <a:lnTo>
                  <a:pt x="465" y="161"/>
                </a:lnTo>
                <a:lnTo>
                  <a:pt x="456" y="135"/>
                </a:lnTo>
                <a:lnTo>
                  <a:pt x="447" y="111"/>
                </a:lnTo>
                <a:lnTo>
                  <a:pt x="431" y="71"/>
                </a:lnTo>
                <a:lnTo>
                  <a:pt x="422" y="54"/>
                </a:lnTo>
                <a:lnTo>
                  <a:pt x="413" y="40"/>
                </a:lnTo>
                <a:lnTo>
                  <a:pt x="404" y="27"/>
                </a:lnTo>
                <a:lnTo>
                  <a:pt x="396" y="17"/>
                </a:lnTo>
                <a:lnTo>
                  <a:pt x="387" y="9"/>
                </a:lnTo>
                <a:lnTo>
                  <a:pt x="378" y="3"/>
                </a:lnTo>
                <a:lnTo>
                  <a:pt x="360" y="0"/>
                </a:lnTo>
                <a:lnTo>
                  <a:pt x="340" y="3"/>
                </a:lnTo>
                <a:lnTo>
                  <a:pt x="331" y="9"/>
                </a:lnTo>
                <a:lnTo>
                  <a:pt x="322" y="17"/>
                </a:lnTo>
                <a:lnTo>
                  <a:pt x="313" y="27"/>
                </a:lnTo>
                <a:lnTo>
                  <a:pt x="304" y="40"/>
                </a:lnTo>
                <a:lnTo>
                  <a:pt x="295" y="54"/>
                </a:lnTo>
                <a:lnTo>
                  <a:pt x="287" y="71"/>
                </a:lnTo>
                <a:lnTo>
                  <a:pt x="269" y="111"/>
                </a:lnTo>
                <a:lnTo>
                  <a:pt x="260" y="135"/>
                </a:lnTo>
                <a:lnTo>
                  <a:pt x="252" y="161"/>
                </a:lnTo>
                <a:lnTo>
                  <a:pt x="243" y="189"/>
                </a:lnTo>
                <a:lnTo>
                  <a:pt x="236" y="220"/>
                </a:lnTo>
                <a:lnTo>
                  <a:pt x="227" y="253"/>
                </a:lnTo>
                <a:lnTo>
                  <a:pt x="220" y="288"/>
                </a:lnTo>
                <a:lnTo>
                  <a:pt x="211" y="323"/>
                </a:lnTo>
                <a:lnTo>
                  <a:pt x="204" y="363"/>
                </a:lnTo>
                <a:lnTo>
                  <a:pt x="195" y="405"/>
                </a:lnTo>
                <a:lnTo>
                  <a:pt x="188" y="449"/>
                </a:lnTo>
                <a:lnTo>
                  <a:pt x="179" y="496"/>
                </a:lnTo>
                <a:lnTo>
                  <a:pt x="173" y="544"/>
                </a:lnTo>
                <a:lnTo>
                  <a:pt x="166" y="595"/>
                </a:lnTo>
                <a:lnTo>
                  <a:pt x="159" y="649"/>
                </a:lnTo>
                <a:lnTo>
                  <a:pt x="151" y="702"/>
                </a:lnTo>
                <a:lnTo>
                  <a:pt x="144" y="760"/>
                </a:lnTo>
                <a:lnTo>
                  <a:pt x="137" y="820"/>
                </a:lnTo>
                <a:lnTo>
                  <a:pt x="131" y="882"/>
                </a:lnTo>
                <a:lnTo>
                  <a:pt x="124" y="947"/>
                </a:lnTo>
                <a:lnTo>
                  <a:pt x="117" y="1014"/>
                </a:lnTo>
                <a:lnTo>
                  <a:pt x="110" y="1083"/>
                </a:lnTo>
                <a:lnTo>
                  <a:pt x="105" y="1154"/>
                </a:lnTo>
                <a:lnTo>
                  <a:pt x="88" y="1329"/>
                </a:lnTo>
                <a:lnTo>
                  <a:pt x="75" y="1510"/>
                </a:lnTo>
                <a:lnTo>
                  <a:pt x="64" y="1697"/>
                </a:lnTo>
                <a:lnTo>
                  <a:pt x="56" y="1890"/>
                </a:lnTo>
                <a:lnTo>
                  <a:pt x="3" y="3921"/>
                </a:lnTo>
                <a:lnTo>
                  <a:pt x="0" y="3940"/>
                </a:lnTo>
                <a:lnTo>
                  <a:pt x="0" y="3961"/>
                </a:lnTo>
                <a:lnTo>
                  <a:pt x="0" y="3980"/>
                </a:lnTo>
                <a:lnTo>
                  <a:pt x="0" y="4021"/>
                </a:lnTo>
                <a:lnTo>
                  <a:pt x="0" y="4061"/>
                </a:lnTo>
                <a:lnTo>
                  <a:pt x="0" y="4100"/>
                </a:lnTo>
                <a:lnTo>
                  <a:pt x="56" y="6153"/>
                </a:lnTo>
                <a:lnTo>
                  <a:pt x="67" y="6300"/>
                </a:lnTo>
                <a:lnTo>
                  <a:pt x="80" y="6445"/>
                </a:lnTo>
                <a:lnTo>
                  <a:pt x="91" y="6587"/>
                </a:lnTo>
                <a:lnTo>
                  <a:pt x="105" y="6726"/>
                </a:lnTo>
                <a:lnTo>
                  <a:pt x="110" y="6795"/>
                </a:lnTo>
                <a:lnTo>
                  <a:pt x="117" y="6865"/>
                </a:lnTo>
                <a:lnTo>
                  <a:pt x="124" y="6932"/>
                </a:lnTo>
                <a:lnTo>
                  <a:pt x="131" y="6996"/>
                </a:lnTo>
                <a:lnTo>
                  <a:pt x="137" y="7057"/>
                </a:lnTo>
                <a:lnTo>
                  <a:pt x="144" y="7118"/>
                </a:lnTo>
                <a:lnTo>
                  <a:pt x="151" y="7175"/>
                </a:lnTo>
                <a:lnTo>
                  <a:pt x="159" y="7231"/>
                </a:lnTo>
                <a:lnTo>
                  <a:pt x="166" y="7282"/>
                </a:lnTo>
                <a:lnTo>
                  <a:pt x="173" y="7333"/>
                </a:lnTo>
                <a:lnTo>
                  <a:pt x="179" y="7382"/>
                </a:lnTo>
                <a:lnTo>
                  <a:pt x="188" y="7428"/>
                </a:lnTo>
                <a:lnTo>
                  <a:pt x="195" y="7472"/>
                </a:lnTo>
                <a:lnTo>
                  <a:pt x="204" y="7514"/>
                </a:lnTo>
                <a:lnTo>
                  <a:pt x="211" y="7554"/>
                </a:lnTo>
                <a:lnTo>
                  <a:pt x="220" y="7591"/>
                </a:lnTo>
                <a:lnTo>
                  <a:pt x="227" y="7625"/>
                </a:lnTo>
                <a:lnTo>
                  <a:pt x="236" y="7658"/>
                </a:lnTo>
                <a:lnTo>
                  <a:pt x="243" y="7689"/>
                </a:lnTo>
                <a:lnTo>
                  <a:pt x="252" y="7717"/>
                </a:lnTo>
                <a:lnTo>
                  <a:pt x="260" y="7743"/>
                </a:lnTo>
                <a:lnTo>
                  <a:pt x="269" y="7767"/>
                </a:lnTo>
                <a:lnTo>
                  <a:pt x="278" y="7789"/>
                </a:lnTo>
                <a:lnTo>
                  <a:pt x="287" y="7808"/>
                </a:lnTo>
                <a:lnTo>
                  <a:pt x="295" y="7825"/>
                </a:lnTo>
                <a:lnTo>
                  <a:pt x="304" y="7840"/>
                </a:lnTo>
                <a:lnTo>
                  <a:pt x="313" y="7852"/>
                </a:lnTo>
                <a:lnTo>
                  <a:pt x="322" y="7862"/>
                </a:lnTo>
                <a:lnTo>
                  <a:pt x="331" y="7870"/>
                </a:lnTo>
                <a:lnTo>
                  <a:pt x="340" y="7876"/>
                </a:lnTo>
                <a:lnTo>
                  <a:pt x="349" y="7879"/>
                </a:lnTo>
                <a:lnTo>
                  <a:pt x="360" y="7881"/>
                </a:lnTo>
                <a:lnTo>
                  <a:pt x="369" y="7879"/>
                </a:lnTo>
                <a:lnTo>
                  <a:pt x="378" y="7876"/>
                </a:lnTo>
                <a:lnTo>
                  <a:pt x="387" y="7870"/>
                </a:lnTo>
                <a:lnTo>
                  <a:pt x="396" y="7862"/>
                </a:lnTo>
                <a:lnTo>
                  <a:pt x="397" y="7859"/>
                </a:lnTo>
                <a:lnTo>
                  <a:pt x="399" y="7857"/>
                </a:lnTo>
                <a:lnTo>
                  <a:pt x="404" y="7852"/>
                </a:lnTo>
                <a:lnTo>
                  <a:pt x="413" y="7840"/>
                </a:lnTo>
                <a:lnTo>
                  <a:pt x="422" y="7825"/>
                </a:lnTo>
                <a:lnTo>
                  <a:pt x="431" y="7808"/>
                </a:lnTo>
                <a:lnTo>
                  <a:pt x="438" y="7789"/>
                </a:lnTo>
                <a:lnTo>
                  <a:pt x="447" y="7767"/>
                </a:lnTo>
                <a:lnTo>
                  <a:pt x="456" y="7743"/>
                </a:lnTo>
                <a:lnTo>
                  <a:pt x="465" y="7717"/>
                </a:lnTo>
                <a:lnTo>
                  <a:pt x="472" y="7689"/>
                </a:lnTo>
                <a:lnTo>
                  <a:pt x="481" y="7658"/>
                </a:lnTo>
                <a:lnTo>
                  <a:pt x="482" y="7649"/>
                </a:lnTo>
                <a:lnTo>
                  <a:pt x="484" y="7641"/>
                </a:lnTo>
                <a:lnTo>
                  <a:pt x="489" y="7625"/>
                </a:lnTo>
                <a:lnTo>
                  <a:pt x="498" y="7591"/>
                </a:lnTo>
                <a:lnTo>
                  <a:pt x="505" y="7554"/>
                </a:lnTo>
                <a:lnTo>
                  <a:pt x="508" y="7534"/>
                </a:lnTo>
                <a:lnTo>
                  <a:pt x="513" y="7514"/>
                </a:lnTo>
                <a:lnTo>
                  <a:pt x="520" y="7472"/>
                </a:lnTo>
                <a:lnTo>
                  <a:pt x="529" y="7428"/>
                </a:lnTo>
                <a:lnTo>
                  <a:pt x="535" y="7382"/>
                </a:lnTo>
                <a:lnTo>
                  <a:pt x="542" y="7333"/>
                </a:lnTo>
                <a:lnTo>
                  <a:pt x="549" y="7282"/>
                </a:lnTo>
                <a:lnTo>
                  <a:pt x="558" y="7231"/>
                </a:lnTo>
                <a:lnTo>
                  <a:pt x="565" y="7175"/>
                </a:lnTo>
                <a:lnTo>
                  <a:pt x="572" y="7118"/>
                </a:lnTo>
                <a:lnTo>
                  <a:pt x="578" y="7057"/>
                </a:lnTo>
                <a:lnTo>
                  <a:pt x="586" y="6996"/>
                </a:lnTo>
                <a:lnTo>
                  <a:pt x="593" y="6932"/>
                </a:lnTo>
                <a:lnTo>
                  <a:pt x="600" y="6865"/>
                </a:lnTo>
                <a:lnTo>
                  <a:pt x="607" y="6795"/>
                </a:lnTo>
                <a:lnTo>
                  <a:pt x="614" y="6726"/>
                </a:lnTo>
                <a:lnTo>
                  <a:pt x="625" y="6587"/>
                </a:lnTo>
                <a:lnTo>
                  <a:pt x="639" y="6445"/>
                </a:lnTo>
                <a:lnTo>
                  <a:pt x="650" y="6300"/>
                </a:lnTo>
                <a:lnTo>
                  <a:pt x="664" y="6153"/>
                </a:lnTo>
                <a:lnTo>
                  <a:pt x="720" y="4100"/>
                </a:lnTo>
                <a:lnTo>
                  <a:pt x="720" y="4061"/>
                </a:lnTo>
                <a:lnTo>
                  <a:pt x="720" y="4021"/>
                </a:lnTo>
                <a:lnTo>
                  <a:pt x="720" y="3980"/>
                </a:lnTo>
                <a:lnTo>
                  <a:pt x="720" y="3961"/>
                </a:lnTo>
                <a:lnTo>
                  <a:pt x="720" y="3940"/>
                </a:lnTo>
                <a:lnTo>
                  <a:pt x="720" y="3921"/>
                </a:lnTo>
                <a:lnTo>
                  <a:pt x="664" y="1890"/>
                </a:lnTo>
                <a:lnTo>
                  <a:pt x="658" y="1793"/>
                </a:lnTo>
                <a:lnTo>
                  <a:pt x="653" y="1697"/>
                </a:lnTo>
                <a:lnTo>
                  <a:pt x="642" y="1510"/>
                </a:lnTo>
                <a:lnTo>
                  <a:pt x="628" y="1329"/>
                </a:lnTo>
                <a:lnTo>
                  <a:pt x="620" y="1241"/>
                </a:lnTo>
                <a:lnTo>
                  <a:pt x="614" y="115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1716120" y="3403440"/>
            <a:ext cx="620640" cy="1800"/>
          </a:xfrm>
          <a:custGeom>
            <a:avLst/>
            <a:gdLst/>
            <a:ahLst/>
            <a:rect l="l" t="t" r="r" b="b"/>
            <a:pathLst>
              <a:path w="1958" h="0">
                <a:moveTo>
                  <a:pt x="1958" y="0"/>
                </a:moveTo>
                <a:lnTo>
                  <a:pt x="141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456000" y="3403440"/>
            <a:ext cx="1166760" cy="1800"/>
          </a:xfrm>
          <a:custGeom>
            <a:avLst/>
            <a:gdLst/>
            <a:ahLst/>
            <a:rect l="l" t="t" r="r" b="b"/>
            <a:pathLst>
              <a:path w="3678" h="0">
                <a:moveTo>
                  <a:pt x="3678" y="0"/>
                </a:moveTo>
                <a:lnTo>
                  <a:pt x="346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2401920" y="3403440"/>
            <a:ext cx="620640" cy="1800"/>
          </a:xfrm>
          <a:custGeom>
            <a:avLst/>
            <a:gdLst/>
            <a:ahLst/>
            <a:rect l="l" t="t" r="r" b="b"/>
            <a:pathLst>
              <a:path w="1958" h="0">
                <a:moveTo>
                  <a:pt x="1958" y="0"/>
                </a:moveTo>
                <a:lnTo>
                  <a:pt x="62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87720" y="340344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2852640"/>
            <a:ext cx="0" cy="581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6200" y="3414600"/>
            <a:ext cx="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19520" y="3352320"/>
            <a:ext cx="0" cy="2514600"/>
          </a:xfrm>
          <a:prstGeom prst="line">
            <a:avLst/>
          </a:prstGeom>
          <a:ln w="57240">
            <a:solidFill>
              <a:srgbClr val="333399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3851280" y="3357720"/>
            <a:ext cx="65160" cy="63360"/>
          </a:xfrm>
          <a:custGeom>
            <a:avLst/>
            <a:gdLst/>
            <a:ahLst/>
            <a:rect l="l" t="t" r="r" b="b"/>
            <a:pathLst>
              <a:path w="203" h="201">
                <a:moveTo>
                  <a:pt x="167" y="167"/>
                </a:moveTo>
                <a:lnTo>
                  <a:pt x="176" y="152"/>
                </a:lnTo>
                <a:lnTo>
                  <a:pt x="186" y="138"/>
                </a:lnTo>
                <a:lnTo>
                  <a:pt x="187" y="134"/>
                </a:lnTo>
                <a:lnTo>
                  <a:pt x="189" y="131"/>
                </a:lnTo>
                <a:lnTo>
                  <a:pt x="194" y="124"/>
                </a:lnTo>
                <a:lnTo>
                  <a:pt x="203" y="110"/>
                </a:lnTo>
                <a:lnTo>
                  <a:pt x="203" y="101"/>
                </a:lnTo>
                <a:lnTo>
                  <a:pt x="200" y="91"/>
                </a:lnTo>
                <a:lnTo>
                  <a:pt x="197" y="83"/>
                </a:lnTo>
                <a:lnTo>
                  <a:pt x="189" y="66"/>
                </a:lnTo>
                <a:lnTo>
                  <a:pt x="180" y="52"/>
                </a:lnTo>
                <a:lnTo>
                  <a:pt x="170" y="39"/>
                </a:lnTo>
                <a:lnTo>
                  <a:pt x="160" y="28"/>
                </a:lnTo>
                <a:lnTo>
                  <a:pt x="147" y="18"/>
                </a:lnTo>
                <a:lnTo>
                  <a:pt x="134" y="10"/>
                </a:lnTo>
                <a:lnTo>
                  <a:pt x="119" y="4"/>
                </a:lnTo>
                <a:lnTo>
                  <a:pt x="103" y="0"/>
                </a:lnTo>
                <a:lnTo>
                  <a:pt x="64" y="13"/>
                </a:lnTo>
                <a:lnTo>
                  <a:pt x="47" y="18"/>
                </a:lnTo>
                <a:lnTo>
                  <a:pt x="34" y="26"/>
                </a:lnTo>
                <a:lnTo>
                  <a:pt x="22" y="35"/>
                </a:lnTo>
                <a:lnTo>
                  <a:pt x="14" y="47"/>
                </a:lnTo>
                <a:lnTo>
                  <a:pt x="6" y="58"/>
                </a:lnTo>
                <a:lnTo>
                  <a:pt x="2" y="72"/>
                </a:lnTo>
                <a:lnTo>
                  <a:pt x="0" y="85"/>
                </a:lnTo>
                <a:lnTo>
                  <a:pt x="1" y="101"/>
                </a:lnTo>
                <a:lnTo>
                  <a:pt x="3" y="120"/>
                </a:lnTo>
                <a:lnTo>
                  <a:pt x="8" y="137"/>
                </a:lnTo>
                <a:lnTo>
                  <a:pt x="16" y="152"/>
                </a:lnTo>
                <a:lnTo>
                  <a:pt x="25" y="165"/>
                </a:lnTo>
                <a:lnTo>
                  <a:pt x="37" y="176"/>
                </a:lnTo>
                <a:lnTo>
                  <a:pt x="50" y="184"/>
                </a:lnTo>
                <a:lnTo>
                  <a:pt x="66" y="192"/>
                </a:lnTo>
                <a:lnTo>
                  <a:pt x="83" y="197"/>
                </a:lnTo>
                <a:lnTo>
                  <a:pt x="103" y="201"/>
                </a:lnTo>
                <a:lnTo>
                  <a:pt x="122" y="194"/>
                </a:lnTo>
                <a:lnTo>
                  <a:pt x="143" y="191"/>
                </a:lnTo>
                <a:lnTo>
                  <a:pt x="155" y="179"/>
                </a:lnTo>
                <a:lnTo>
                  <a:pt x="161" y="172"/>
                </a:lnTo>
                <a:lnTo>
                  <a:pt x="163" y="169"/>
                </a:lnTo>
                <a:lnTo>
                  <a:pt x="167" y="167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57336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120" y="3500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500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3526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352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819160" y="4419720"/>
            <a:ext cx="1066680" cy="1447560"/>
          </a:xfrm>
          <a:prstGeom prst="line">
            <a:avLst/>
          </a:prstGeom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19520" y="4419360"/>
            <a:ext cx="1828800" cy="1447560"/>
          </a:xfrm>
          <a:prstGeom prst="line">
            <a:avLst/>
          </a:prstGeom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4560" y="2684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3880" y="2732040"/>
            <a:ext cx="1066680" cy="163440"/>
            <a:chOff x="1523880" y="2732040"/>
            <a:chExt cx="1066680" cy="163440"/>
          </a:xfrm>
        </p:grpSpPr>
        <p:sp>
          <p:nvSpPr>
            <p:cNvPr id="138" name=""/>
            <p:cNvSpPr/>
            <p:nvPr/>
          </p:nvSpPr>
          <p:spPr>
            <a:xfrm>
              <a:off x="1523880" y="2847960"/>
              <a:ext cx="106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904760" y="273204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886200" y="4303800"/>
            <a:ext cx="762120" cy="163440"/>
            <a:chOff x="3886200" y="4303800"/>
            <a:chExt cx="762120" cy="163440"/>
          </a:xfrm>
        </p:grpSpPr>
        <p:sp>
          <p:nvSpPr>
            <p:cNvPr id="141" name=""/>
            <p:cNvSpPr/>
            <p:nvPr/>
          </p:nvSpPr>
          <p:spPr>
            <a:xfrm>
              <a:off x="3886200" y="4419720"/>
              <a:ext cx="7621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4114800" y="430380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0" y="3365280"/>
            <a:ext cx="1428840" cy="1143000"/>
            <a:chOff x="4572000" y="3365280"/>
            <a:chExt cx="1428840" cy="1143000"/>
          </a:xfrm>
        </p:grpSpPr>
        <p:sp>
          <p:nvSpPr>
            <p:cNvPr id="144" name=""/>
            <p:cNvSpPr/>
            <p:nvPr/>
          </p:nvSpPr>
          <p:spPr>
            <a:xfrm flipV="1">
              <a:off x="4572000" y="3365280"/>
              <a:ext cx="142884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 rot="18893400">
              <a:off x="4946040" y="396756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51280" y="2852280"/>
            <a:ext cx="1219320" cy="1600200"/>
            <a:chOff x="3851280" y="2852280"/>
            <a:chExt cx="1219320" cy="1600200"/>
          </a:xfrm>
        </p:grpSpPr>
        <p:sp>
          <p:nvSpPr>
            <p:cNvPr id="147" name=""/>
            <p:cNvSpPr/>
            <p:nvPr/>
          </p:nvSpPr>
          <p:spPr>
            <a:xfrm flipV="1">
              <a:off x="3851280" y="2852280"/>
              <a:ext cx="1219320" cy="1600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 rot="17473200">
              <a:off x="4072320" y="3849840"/>
              <a:ext cx="304920" cy="16380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47640" y="2852640"/>
            <a:ext cx="2362320" cy="1571760"/>
            <a:chOff x="1547640" y="2852640"/>
            <a:chExt cx="2362320" cy="1571760"/>
          </a:xfrm>
        </p:grpSpPr>
        <p:sp>
          <p:nvSpPr>
            <p:cNvPr id="150" name=""/>
            <p:cNvSpPr/>
            <p:nvPr/>
          </p:nvSpPr>
          <p:spPr>
            <a:xfrm>
              <a:off x="1547640" y="2852640"/>
              <a:ext cx="2362320" cy="15717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 rot="1737600">
              <a:off x="1852560" y="3052800"/>
              <a:ext cx="30456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 rot="1737600">
              <a:off x="3071520" y="385128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56000" y="2781360"/>
            <a:ext cx="1323720" cy="1600200"/>
            <a:chOff x="2556000" y="2781360"/>
            <a:chExt cx="1323720" cy="1600200"/>
          </a:xfrm>
        </p:grpSpPr>
        <p:sp>
          <p:nvSpPr>
            <p:cNvPr id="154" name=""/>
            <p:cNvSpPr/>
            <p:nvPr/>
          </p:nvSpPr>
          <p:spPr>
            <a:xfrm>
              <a:off x="2556000" y="2781360"/>
              <a:ext cx="1323720" cy="1600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 rot="2926200">
              <a:off x="2733840" y="3045600"/>
              <a:ext cx="304920" cy="16344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0" y="0"/>
                  </a:moveTo>
                  <a:cubicBezTo>
                    <a:pt x="68" y="55"/>
                    <a:pt x="136" y="111"/>
                    <a:pt x="144" y="144"/>
                  </a:cubicBezTo>
                  <a:cubicBezTo>
                    <a:pt x="152" y="177"/>
                    <a:pt x="72" y="191"/>
                    <a:pt x="48" y="19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810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物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目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16000" y="260280"/>
            <a:ext cx="4876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显微镜成像原理图</a:t>
            </a:r>
            <a:endParaRPr b="0" lang="en-US" sz="4800" spc="-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429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62120" y="3357720"/>
            <a:ext cx="64800" cy="63360"/>
          </a:xfrm>
          <a:custGeom>
            <a:avLst/>
            <a:gdLst/>
            <a:ahLst/>
            <a:rect l="l" t="t" r="r" b="b"/>
            <a:pathLst>
              <a:path w="203" h="201">
                <a:moveTo>
                  <a:pt x="167" y="167"/>
                </a:moveTo>
                <a:lnTo>
                  <a:pt x="176" y="152"/>
                </a:lnTo>
                <a:lnTo>
                  <a:pt x="186" y="138"/>
                </a:lnTo>
                <a:lnTo>
                  <a:pt x="187" y="134"/>
                </a:lnTo>
                <a:lnTo>
                  <a:pt x="189" y="131"/>
                </a:lnTo>
                <a:lnTo>
                  <a:pt x="194" y="124"/>
                </a:lnTo>
                <a:lnTo>
                  <a:pt x="203" y="110"/>
                </a:lnTo>
                <a:lnTo>
                  <a:pt x="203" y="101"/>
                </a:lnTo>
                <a:lnTo>
                  <a:pt x="200" y="91"/>
                </a:lnTo>
                <a:lnTo>
                  <a:pt x="197" y="83"/>
                </a:lnTo>
                <a:lnTo>
                  <a:pt x="189" y="66"/>
                </a:lnTo>
                <a:lnTo>
                  <a:pt x="180" y="52"/>
                </a:lnTo>
                <a:lnTo>
                  <a:pt x="170" y="39"/>
                </a:lnTo>
                <a:lnTo>
                  <a:pt x="160" y="28"/>
                </a:lnTo>
                <a:lnTo>
                  <a:pt x="147" y="18"/>
                </a:lnTo>
                <a:lnTo>
                  <a:pt x="134" y="10"/>
                </a:lnTo>
                <a:lnTo>
                  <a:pt x="119" y="4"/>
                </a:lnTo>
                <a:lnTo>
                  <a:pt x="103" y="0"/>
                </a:lnTo>
                <a:lnTo>
                  <a:pt x="64" y="13"/>
                </a:lnTo>
                <a:lnTo>
                  <a:pt x="47" y="18"/>
                </a:lnTo>
                <a:lnTo>
                  <a:pt x="34" y="26"/>
                </a:lnTo>
                <a:lnTo>
                  <a:pt x="22" y="35"/>
                </a:lnTo>
                <a:lnTo>
                  <a:pt x="14" y="47"/>
                </a:lnTo>
                <a:lnTo>
                  <a:pt x="6" y="58"/>
                </a:lnTo>
                <a:lnTo>
                  <a:pt x="2" y="72"/>
                </a:lnTo>
                <a:lnTo>
                  <a:pt x="0" y="85"/>
                </a:lnTo>
                <a:lnTo>
                  <a:pt x="1" y="101"/>
                </a:lnTo>
                <a:lnTo>
                  <a:pt x="3" y="120"/>
                </a:lnTo>
                <a:lnTo>
                  <a:pt x="8" y="137"/>
                </a:lnTo>
                <a:lnTo>
                  <a:pt x="16" y="152"/>
                </a:lnTo>
                <a:lnTo>
                  <a:pt x="25" y="165"/>
                </a:lnTo>
                <a:lnTo>
                  <a:pt x="37" y="176"/>
                </a:lnTo>
                <a:lnTo>
                  <a:pt x="50" y="184"/>
                </a:lnTo>
                <a:lnTo>
                  <a:pt x="66" y="192"/>
                </a:lnTo>
                <a:lnTo>
                  <a:pt x="83" y="197"/>
                </a:lnTo>
                <a:lnTo>
                  <a:pt x="103" y="201"/>
                </a:lnTo>
                <a:lnTo>
                  <a:pt x="122" y="194"/>
                </a:lnTo>
                <a:lnTo>
                  <a:pt x="143" y="191"/>
                </a:lnTo>
                <a:lnTo>
                  <a:pt x="155" y="179"/>
                </a:lnTo>
                <a:lnTo>
                  <a:pt x="161" y="172"/>
                </a:lnTo>
                <a:lnTo>
                  <a:pt x="163" y="169"/>
                </a:lnTo>
                <a:lnTo>
                  <a:pt x="167" y="167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/>
          </p:cNvPr>
          <p:cNvSpPr/>
          <p:nvPr/>
        </p:nvSpPr>
        <p:spPr>
          <a:xfrm>
            <a:off x="8028000" y="6165720"/>
            <a:ext cx="504720" cy="432000"/>
          </a:xfrm>
          <a:custGeom>
            <a:avLst/>
            <a:gdLst>
              <a:gd name="textAreaLeft" fmla="*/ 27000 w 504720"/>
              <a:gd name="textAreaRight" fmla="*/ 477720 w 50472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83" y="1350"/>
                </a:lnTo>
                <a:lnTo>
                  <a:pt x="1350" y="135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83" y="20250"/>
                </a:lnTo>
                <a:lnTo>
                  <a:pt x="23883" y="135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83" y="2025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33" h="21600">
                <a:moveTo>
                  <a:pt x="5573" y="3756"/>
                </a:moveTo>
                <a:lnTo>
                  <a:pt x="19660" y="10800"/>
                </a:lnTo>
                <a:lnTo>
                  <a:pt x="557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5335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经过两次放大作用，我们就可以看到肉眼看不见的小物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显微镜下的植物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429080" cy="275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8006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5000" y="1066680"/>
            <a:ext cx="326232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38080" y="685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）显微镜的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0640" y="1944720"/>
            <a:ext cx="31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物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的作用（相当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投影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34680" y="3849840"/>
            <a:ext cx="31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目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的作用（相当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放大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64240" y="2590920"/>
            <a:ext cx="2189520" cy="1096920"/>
          </a:xfrm>
          <a:prstGeom prst="rect">
            <a:avLst/>
          </a:prstGeom>
          <a:noFill/>
          <a:ln w="38160">
            <a:solidFill>
              <a:srgbClr val="ff99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使被观察的物体成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倒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放大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实像</a:t>
            </a:r>
            <a:r>
              <a:rPr b="1" lang="zh-CN" sz="2800" spc="-1" strike="noStrike">
                <a:solidFill>
                  <a:srgbClr val="000000"/>
                </a:solidFill>
                <a:latin typeface="长城粗行楷体"/>
                <a:ea typeface="长城粗行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4800" y="4648320"/>
            <a:ext cx="2327760" cy="1008000"/>
          </a:xfrm>
          <a:prstGeom prst="rect">
            <a:avLst/>
          </a:prstGeom>
          <a:noFill/>
          <a:ln w="38160">
            <a:solidFill>
              <a:srgbClr val="ff99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长城粗行楷体"/>
              </a:rPr>
              <a:t>把物镜成的实像，再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放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虚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长城粗行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2860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5:28:53Z</dcterms:created>
  <dc:creator/>
  <dc:description/>
  <cp:keywords/>
  <dc:language>en-US</dc:language>
  <cp:lastModifiedBy>Microsoft</cp:lastModifiedBy>
  <dcterms:modified xsi:type="dcterms:W3CDTF">2013-07-13T08:02:56Z</dcterms:modified>
  <cp:revision>105</cp:revision>
  <dc:subject/>
  <dc:title>五.显微镜和望远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  <property fmtid="{D5CDD505-2E9C-101B-9397-08002B2CF9AE}" pid="3" name="Version">
    <vt:r8>1</vt:r8>
  </property>
</Properties>
</file>