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4.gif" ContentType="image/gif"/>
  <Override PartName="/ppt/media/image18.gif" ContentType="image/gif"/>
  <Override PartName="/ppt/media/image4.png" ContentType="image/png"/>
  <Override PartName="/ppt/media/image21.jpeg" ContentType="image/jpeg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C62-B3ED-4C8F-B9E2-23D934B2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6CE-655B-4FDA-902D-F97F55FC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BCD7-B09B-4CF8-9C4B-A203C4F5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F5F-D1DD-421F-8156-4ECB8071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582-B981-4574-A40E-C1EC6CB7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ECB-F0D7-4CCA-BF47-1C962639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C81-AD93-46FD-8A92-8F4DFD67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0AA-A4CA-49A0-BA94-1E839FBC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E52-245F-44EC-9DF8-41B62187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890C-8642-49D2-9E0B-603B30E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DA1-5B5E-4F27-A197-428D96B8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4F5-3D0F-4EBC-B8F6-183B44F6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37B8-734F-4ED0-973E-4BBF1FB82A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hyperlink" Target="http://www.dabaoku.com/gif/090/imagepage/image3.htm" TargetMode="External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abaoku.com/gif/090/imagepage/image3.htm" TargetMode="Externa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hyperlink" Target="http://www.dabaoku.com/gif/090/imagepage/image3.htm" TargetMode="External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349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3493"/>
          <p:cNvSpPr/>
          <p:nvPr/>
        </p:nvSpPr>
        <p:spPr>
          <a:xfrm>
            <a:off x="1692360" y="3068640"/>
            <a:ext cx="6696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6600"/>
                </a:solidFill>
                <a:latin typeface="Times New Roman"/>
              </a:rPr>
              <a:t>5.1     </a:t>
            </a:r>
            <a:r>
              <a:rPr b="1" lang="zh-CN" sz="8000" spc="-1" strike="noStrike">
                <a:solidFill>
                  <a:srgbClr val="006600"/>
                </a:solidFill>
                <a:latin typeface="Times New Roman"/>
              </a:rPr>
              <a:t>透   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63496"/>
          <p:cNvSpPr/>
          <p:nvPr/>
        </p:nvSpPr>
        <p:spPr>
          <a:xfrm>
            <a:off x="2484360" y="3645000"/>
            <a:ext cx="15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華康儷粗黑"/>
                <a:ea typeface="華康儷粗黑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57443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pic>
          <p:nvPicPr>
            <p:cNvPr id="239" name="图片 57444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矩形 57446"/>
            <p:cNvSpPr/>
            <p:nvPr/>
          </p:nvSpPr>
          <p:spPr>
            <a:xfrm>
              <a:off x="1371600" y="1524240"/>
              <a:ext cx="6934320" cy="5105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矩形 57355"/>
          <p:cNvSpPr txBox="1"/>
          <p:nvPr/>
        </p:nvSpPr>
        <p:spPr>
          <a:xfrm>
            <a:off x="3924360" y="692280"/>
            <a:ext cx="31082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测凸透镜的焦距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2" name="文本框 57356"/>
          <p:cNvSpPr/>
          <p:nvPr/>
        </p:nvSpPr>
        <p:spPr>
          <a:xfrm>
            <a:off x="1371600" y="21337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用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平行光源、光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次实验测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凸透镜的焦距，将结果填入下面表格：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矩形 57357"/>
          <p:cNvSpPr/>
          <p:nvPr/>
        </p:nvSpPr>
        <p:spPr>
          <a:xfrm>
            <a:off x="1447920" y="48006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已知我们手中老花镜的焦距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米，对比可知，透镜焦距的大小可能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523880" y="3124080"/>
          <a:ext cx="6553080" cy="137160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均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焦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48130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矩形 48132"/>
          <p:cNvSpPr/>
          <p:nvPr/>
        </p:nvSpPr>
        <p:spPr>
          <a:xfrm>
            <a:off x="1371600" y="1523880"/>
            <a:ext cx="6934320" cy="5105520"/>
          </a:xfrm>
          <a:prstGeom prst="rect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矩形 48134"/>
          <p:cNvSpPr/>
          <p:nvPr/>
        </p:nvSpPr>
        <p:spPr>
          <a:xfrm>
            <a:off x="1676520" y="457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華康儷粗黑"/>
                <a:ea typeface="華康儷粗黑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矩形 48138"/>
          <p:cNvSpPr/>
          <p:nvPr/>
        </p:nvSpPr>
        <p:spPr>
          <a:xfrm>
            <a:off x="6248520" y="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華康粗黑體"/>
              </a:rPr>
              <a:t>第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華康粗黑體"/>
              </a:rPr>
              <a:t>3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華康粗黑體"/>
              </a:rPr>
              <a:t>章  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光和眼睛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華康粗黑體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图片 48143" descr="南极风光"/>
          <p:cNvPicPr/>
          <p:nvPr/>
        </p:nvPicPr>
        <p:blipFill>
          <a:blip r:embed="rId2"/>
          <a:stretch/>
        </p:blipFill>
        <p:spPr>
          <a:xfrm>
            <a:off x="1447920" y="1523880"/>
            <a:ext cx="670536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48142" descr="sailing2.gif (18382 bytes)"/>
          <p:cNvPicPr/>
          <p:nvPr/>
        </p:nvPicPr>
        <p:blipFill>
          <a:blip r:embed="rId3"/>
          <a:stretch/>
        </p:blipFill>
        <p:spPr>
          <a:xfrm>
            <a:off x="2514600" y="2209680"/>
            <a:ext cx="2971800" cy="230976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48144"/>
          <p:cNvSpPr/>
          <p:nvPr/>
        </p:nvSpPr>
        <p:spPr>
          <a:xfrm>
            <a:off x="1371600" y="6019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探险队去南极考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48148"/>
          <p:cNvSpPr/>
          <p:nvPr/>
        </p:nvSpPr>
        <p:spPr>
          <a:xfrm>
            <a:off x="838080" y="5335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冰原自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46113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矩形 46115"/>
          <p:cNvSpPr/>
          <p:nvPr/>
        </p:nvSpPr>
        <p:spPr>
          <a:xfrm>
            <a:off x="1371600" y="1523880"/>
            <a:ext cx="6934320" cy="5105520"/>
          </a:xfrm>
          <a:prstGeom prst="rect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图片 46095" descr="ren"/>
          <p:cNvPicPr/>
          <p:nvPr/>
        </p:nvPicPr>
        <p:blipFill>
          <a:blip r:embed="rId2"/>
          <a:stretch/>
        </p:blipFill>
        <p:spPr>
          <a:xfrm>
            <a:off x="2895480" y="3200400"/>
            <a:ext cx="1806840" cy="284940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46100" descr="birdg.gif (7613 bytes)"/>
          <p:cNvPicPr/>
          <p:nvPr/>
        </p:nvPicPr>
        <p:blipFill>
          <a:blip r:embed="rId3"/>
          <a:stretch/>
        </p:blipFill>
        <p:spPr>
          <a:xfrm>
            <a:off x="7010280" y="1143000"/>
            <a:ext cx="1257480" cy="11430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46103" descr="gif003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907920"/>
            <a:ext cx="1728720" cy="172908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46104"/>
          <p:cNvGrpSpPr/>
          <p:nvPr/>
        </p:nvGrpSpPr>
        <p:grpSpPr>
          <a:xfrm>
            <a:off x="6477120" y="5867280"/>
            <a:ext cx="1675800" cy="685800"/>
            <a:chOff x="6477120" y="5867280"/>
            <a:chExt cx="1675800" cy="685800"/>
          </a:xfrm>
        </p:grpSpPr>
        <p:sp>
          <p:nvSpPr>
            <p:cNvPr id="259" name="任意多边形 46105"/>
            <p:cNvSpPr/>
            <p:nvPr/>
          </p:nvSpPr>
          <p:spPr>
            <a:xfrm>
              <a:off x="6477120" y="5945400"/>
              <a:ext cx="1261800" cy="486720"/>
            </a:xfrm>
            <a:custGeom>
              <a:avLst/>
              <a:gdLst/>
              <a:ahLst/>
              <a:rect l="l" t="t" r="r" b="b"/>
              <a:pathLst>
                <a:path w="1069" h="572">
                  <a:moveTo>
                    <a:pt x="61" y="361"/>
                  </a:moveTo>
                  <a:cubicBezTo>
                    <a:pt x="117" y="324"/>
                    <a:pt x="169" y="272"/>
                    <a:pt x="233" y="251"/>
                  </a:cubicBezTo>
                  <a:cubicBezTo>
                    <a:pt x="245" y="235"/>
                    <a:pt x="254" y="214"/>
                    <a:pt x="270" y="202"/>
                  </a:cubicBezTo>
                  <a:cubicBezTo>
                    <a:pt x="288" y="189"/>
                    <a:pt x="311" y="188"/>
                    <a:pt x="331" y="178"/>
                  </a:cubicBezTo>
                  <a:cubicBezTo>
                    <a:pt x="375" y="156"/>
                    <a:pt x="421" y="138"/>
                    <a:pt x="466" y="116"/>
                  </a:cubicBezTo>
                  <a:cubicBezTo>
                    <a:pt x="528" y="85"/>
                    <a:pt x="478" y="95"/>
                    <a:pt x="552" y="67"/>
                  </a:cubicBezTo>
                  <a:cubicBezTo>
                    <a:pt x="588" y="53"/>
                    <a:pt x="626" y="44"/>
                    <a:pt x="662" y="31"/>
                  </a:cubicBezTo>
                  <a:cubicBezTo>
                    <a:pt x="686" y="22"/>
                    <a:pt x="736" y="6"/>
                    <a:pt x="736" y="6"/>
                  </a:cubicBezTo>
                  <a:cubicBezTo>
                    <a:pt x="769" y="10"/>
                    <a:pt x="807" y="0"/>
                    <a:pt x="834" y="18"/>
                  </a:cubicBezTo>
                  <a:cubicBezTo>
                    <a:pt x="866" y="39"/>
                    <a:pt x="912" y="122"/>
                    <a:pt x="944" y="165"/>
                  </a:cubicBezTo>
                  <a:cubicBezTo>
                    <a:pt x="972" y="202"/>
                    <a:pt x="1030" y="276"/>
                    <a:pt x="1030" y="276"/>
                  </a:cubicBezTo>
                  <a:cubicBezTo>
                    <a:pt x="1069" y="394"/>
                    <a:pt x="1053" y="307"/>
                    <a:pt x="785" y="337"/>
                  </a:cubicBezTo>
                  <a:cubicBezTo>
                    <a:pt x="760" y="340"/>
                    <a:pt x="736" y="345"/>
                    <a:pt x="711" y="349"/>
                  </a:cubicBezTo>
                  <a:cubicBezTo>
                    <a:pt x="644" y="383"/>
                    <a:pt x="663" y="371"/>
                    <a:pt x="588" y="423"/>
                  </a:cubicBezTo>
                  <a:cubicBezTo>
                    <a:pt x="571" y="435"/>
                    <a:pt x="539" y="459"/>
                    <a:pt x="539" y="459"/>
                  </a:cubicBezTo>
                  <a:cubicBezTo>
                    <a:pt x="466" y="571"/>
                    <a:pt x="299" y="539"/>
                    <a:pt x="184" y="545"/>
                  </a:cubicBezTo>
                  <a:cubicBezTo>
                    <a:pt x="94" y="564"/>
                    <a:pt x="99" y="572"/>
                    <a:pt x="0" y="558"/>
                  </a:cubicBezTo>
                  <a:cubicBezTo>
                    <a:pt x="73" y="509"/>
                    <a:pt x="52" y="457"/>
                    <a:pt x="61" y="36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任意多边形 46106"/>
            <p:cNvSpPr/>
            <p:nvPr/>
          </p:nvSpPr>
          <p:spPr>
            <a:xfrm>
              <a:off x="7088400" y="5867280"/>
              <a:ext cx="1064520" cy="685800"/>
            </a:xfrm>
            <a:custGeom>
              <a:avLst/>
              <a:gdLst/>
              <a:ahLst/>
              <a:rect l="l" t="t" r="r" b="b"/>
              <a:pathLst>
                <a:path w="1190" h="1046">
                  <a:moveTo>
                    <a:pt x="0" y="68"/>
                  </a:moveTo>
                  <a:cubicBezTo>
                    <a:pt x="105" y="0"/>
                    <a:pt x="158" y="22"/>
                    <a:pt x="294" y="31"/>
                  </a:cubicBezTo>
                  <a:cubicBezTo>
                    <a:pt x="313" y="123"/>
                    <a:pt x="370" y="248"/>
                    <a:pt x="478" y="264"/>
                  </a:cubicBezTo>
                  <a:cubicBezTo>
                    <a:pt x="543" y="273"/>
                    <a:pt x="609" y="273"/>
                    <a:pt x="674" y="277"/>
                  </a:cubicBezTo>
                  <a:cubicBezTo>
                    <a:pt x="751" y="428"/>
                    <a:pt x="622" y="184"/>
                    <a:pt x="760" y="399"/>
                  </a:cubicBezTo>
                  <a:cubicBezTo>
                    <a:pt x="772" y="417"/>
                    <a:pt x="771" y="443"/>
                    <a:pt x="785" y="460"/>
                  </a:cubicBezTo>
                  <a:cubicBezTo>
                    <a:pt x="821" y="505"/>
                    <a:pt x="866" y="542"/>
                    <a:pt x="907" y="583"/>
                  </a:cubicBezTo>
                  <a:cubicBezTo>
                    <a:pt x="925" y="602"/>
                    <a:pt x="935" y="628"/>
                    <a:pt x="956" y="644"/>
                  </a:cubicBezTo>
                  <a:cubicBezTo>
                    <a:pt x="973" y="658"/>
                    <a:pt x="998" y="658"/>
                    <a:pt x="1017" y="669"/>
                  </a:cubicBezTo>
                  <a:cubicBezTo>
                    <a:pt x="1048" y="686"/>
                    <a:pt x="1074" y="711"/>
                    <a:pt x="1103" y="730"/>
                  </a:cubicBezTo>
                  <a:cubicBezTo>
                    <a:pt x="1139" y="783"/>
                    <a:pt x="1190" y="928"/>
                    <a:pt x="1128" y="975"/>
                  </a:cubicBezTo>
                  <a:cubicBezTo>
                    <a:pt x="1066" y="1022"/>
                    <a:pt x="973" y="992"/>
                    <a:pt x="895" y="1000"/>
                  </a:cubicBezTo>
                  <a:cubicBezTo>
                    <a:pt x="891" y="1012"/>
                    <a:pt x="895" y="1031"/>
                    <a:pt x="883" y="1036"/>
                  </a:cubicBezTo>
                  <a:cubicBezTo>
                    <a:pt x="858" y="1046"/>
                    <a:pt x="814" y="1011"/>
                    <a:pt x="797" y="1000"/>
                  </a:cubicBezTo>
                  <a:cubicBezTo>
                    <a:pt x="776" y="958"/>
                    <a:pt x="751" y="921"/>
                    <a:pt x="735" y="877"/>
                  </a:cubicBezTo>
                  <a:cubicBezTo>
                    <a:pt x="731" y="844"/>
                    <a:pt x="735" y="810"/>
                    <a:pt x="723" y="779"/>
                  </a:cubicBezTo>
                  <a:cubicBezTo>
                    <a:pt x="712" y="752"/>
                    <a:pt x="637" y="738"/>
                    <a:pt x="613" y="730"/>
                  </a:cubicBezTo>
                  <a:cubicBezTo>
                    <a:pt x="578" y="684"/>
                    <a:pt x="563" y="639"/>
                    <a:pt x="515" y="607"/>
                  </a:cubicBezTo>
                  <a:cubicBezTo>
                    <a:pt x="481" y="558"/>
                    <a:pt x="425" y="517"/>
                    <a:pt x="405" y="460"/>
                  </a:cubicBezTo>
                  <a:cubicBezTo>
                    <a:pt x="401" y="448"/>
                    <a:pt x="400" y="434"/>
                    <a:pt x="392" y="424"/>
                  </a:cubicBezTo>
                  <a:cubicBezTo>
                    <a:pt x="367" y="393"/>
                    <a:pt x="282" y="375"/>
                    <a:pt x="282" y="375"/>
                  </a:cubicBezTo>
                  <a:cubicBezTo>
                    <a:pt x="231" y="341"/>
                    <a:pt x="192" y="307"/>
                    <a:pt x="135" y="289"/>
                  </a:cubicBezTo>
                  <a:cubicBezTo>
                    <a:pt x="65" y="185"/>
                    <a:pt x="156" y="304"/>
                    <a:pt x="74" y="240"/>
                  </a:cubicBezTo>
                  <a:cubicBezTo>
                    <a:pt x="47" y="219"/>
                    <a:pt x="0" y="166"/>
                    <a:pt x="0" y="166"/>
                  </a:cubicBezTo>
                  <a:cubicBezTo>
                    <a:pt x="4" y="146"/>
                    <a:pt x="0" y="122"/>
                    <a:pt x="12" y="105"/>
                  </a:cubicBezTo>
                  <a:cubicBezTo>
                    <a:pt x="19" y="94"/>
                    <a:pt x="40" y="102"/>
                    <a:pt x="49" y="93"/>
                  </a:cubicBezTo>
                  <a:cubicBezTo>
                    <a:pt x="58" y="84"/>
                    <a:pt x="73" y="62"/>
                    <a:pt x="61" y="56"/>
                  </a:cubicBezTo>
                  <a:cubicBezTo>
                    <a:pt x="43" y="47"/>
                    <a:pt x="20" y="64"/>
                    <a:pt x="0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任意多边形 46107"/>
            <p:cNvSpPr/>
            <p:nvPr/>
          </p:nvSpPr>
          <p:spPr>
            <a:xfrm>
              <a:off x="6748200" y="6071400"/>
              <a:ext cx="452880" cy="16344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0"/>
                  </a:moveTo>
                  <a:cubicBezTo>
                    <a:pt x="344" y="56"/>
                    <a:pt x="304" y="112"/>
                    <a:pt x="240" y="144"/>
                  </a:cubicBezTo>
                  <a:cubicBezTo>
                    <a:pt x="176" y="176"/>
                    <a:pt x="40" y="184"/>
                    <a:pt x="0" y="19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任意多边形 46108"/>
            <p:cNvSpPr/>
            <p:nvPr/>
          </p:nvSpPr>
          <p:spPr>
            <a:xfrm>
              <a:off x="7258320" y="5981040"/>
              <a:ext cx="699840" cy="513000"/>
            </a:xfrm>
            <a:custGeom>
              <a:avLst/>
              <a:gdLst/>
              <a:ahLst/>
              <a:rect l="l" t="t" r="r" b="b"/>
              <a:pathLst>
                <a:path w="593" h="603">
                  <a:moveTo>
                    <a:pt x="0" y="1"/>
                  </a:moveTo>
                  <a:cubicBezTo>
                    <a:pt x="25" y="9"/>
                    <a:pt x="66" y="0"/>
                    <a:pt x="74" y="25"/>
                  </a:cubicBezTo>
                  <a:cubicBezTo>
                    <a:pt x="89" y="72"/>
                    <a:pt x="82" y="151"/>
                    <a:pt x="123" y="185"/>
                  </a:cubicBezTo>
                  <a:cubicBezTo>
                    <a:pt x="136" y="196"/>
                    <a:pt x="156" y="193"/>
                    <a:pt x="172" y="197"/>
                  </a:cubicBezTo>
                  <a:cubicBezTo>
                    <a:pt x="180" y="209"/>
                    <a:pt x="189" y="221"/>
                    <a:pt x="196" y="234"/>
                  </a:cubicBezTo>
                  <a:cubicBezTo>
                    <a:pt x="202" y="245"/>
                    <a:pt x="199" y="261"/>
                    <a:pt x="208" y="270"/>
                  </a:cubicBezTo>
                  <a:cubicBezTo>
                    <a:pt x="238" y="300"/>
                    <a:pt x="290" y="289"/>
                    <a:pt x="331" y="295"/>
                  </a:cubicBezTo>
                  <a:cubicBezTo>
                    <a:pt x="367" y="307"/>
                    <a:pt x="382" y="305"/>
                    <a:pt x="404" y="344"/>
                  </a:cubicBezTo>
                  <a:cubicBezTo>
                    <a:pt x="425" y="381"/>
                    <a:pt x="428" y="426"/>
                    <a:pt x="441" y="467"/>
                  </a:cubicBezTo>
                  <a:cubicBezTo>
                    <a:pt x="446" y="481"/>
                    <a:pt x="466" y="483"/>
                    <a:pt x="478" y="491"/>
                  </a:cubicBezTo>
                  <a:cubicBezTo>
                    <a:pt x="502" y="540"/>
                    <a:pt x="496" y="542"/>
                    <a:pt x="539" y="577"/>
                  </a:cubicBezTo>
                  <a:cubicBezTo>
                    <a:pt x="571" y="603"/>
                    <a:pt x="593" y="601"/>
                    <a:pt x="564" y="6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任意多边形 46109"/>
            <p:cNvSpPr/>
            <p:nvPr/>
          </p:nvSpPr>
          <p:spPr>
            <a:xfrm>
              <a:off x="6665760" y="6124320"/>
              <a:ext cx="697320" cy="243360"/>
            </a:xfrm>
            <a:custGeom>
              <a:avLst/>
              <a:gdLst/>
              <a:ahLst/>
              <a:rect l="l" t="t" r="r" b="b"/>
              <a:pathLst>
                <a:path w="591" h="286">
                  <a:moveTo>
                    <a:pt x="0" y="286"/>
                  </a:moveTo>
                  <a:cubicBezTo>
                    <a:pt x="105" y="252"/>
                    <a:pt x="125" y="248"/>
                    <a:pt x="245" y="237"/>
                  </a:cubicBezTo>
                  <a:cubicBezTo>
                    <a:pt x="257" y="233"/>
                    <a:pt x="270" y="231"/>
                    <a:pt x="281" y="225"/>
                  </a:cubicBezTo>
                  <a:cubicBezTo>
                    <a:pt x="294" y="218"/>
                    <a:pt x="304" y="206"/>
                    <a:pt x="318" y="200"/>
                  </a:cubicBezTo>
                  <a:cubicBezTo>
                    <a:pt x="342" y="190"/>
                    <a:pt x="392" y="176"/>
                    <a:pt x="392" y="176"/>
                  </a:cubicBezTo>
                  <a:cubicBezTo>
                    <a:pt x="412" y="145"/>
                    <a:pt x="423" y="89"/>
                    <a:pt x="453" y="66"/>
                  </a:cubicBezTo>
                  <a:cubicBezTo>
                    <a:pt x="468" y="54"/>
                    <a:pt x="543" y="42"/>
                    <a:pt x="551" y="41"/>
                  </a:cubicBezTo>
                  <a:cubicBezTo>
                    <a:pt x="578" y="0"/>
                    <a:pt x="591" y="4"/>
                    <a:pt x="563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任意多边形 46110"/>
            <p:cNvSpPr/>
            <p:nvPr/>
          </p:nvSpPr>
          <p:spPr>
            <a:xfrm>
              <a:off x="7461360" y="6044040"/>
              <a:ext cx="564120" cy="433080"/>
            </a:xfrm>
            <a:custGeom>
              <a:avLst/>
              <a:gdLst/>
              <a:ahLst/>
              <a:rect l="l" t="t" r="r" b="b"/>
              <a:pathLst>
                <a:path w="478" h="509">
                  <a:moveTo>
                    <a:pt x="0" y="0"/>
                  </a:moveTo>
                  <a:cubicBezTo>
                    <a:pt x="71" y="109"/>
                    <a:pt x="122" y="130"/>
                    <a:pt x="245" y="147"/>
                  </a:cubicBezTo>
                  <a:cubicBezTo>
                    <a:pt x="259" y="191"/>
                    <a:pt x="293" y="216"/>
                    <a:pt x="330" y="245"/>
                  </a:cubicBezTo>
                  <a:cubicBezTo>
                    <a:pt x="353" y="263"/>
                    <a:pt x="404" y="294"/>
                    <a:pt x="404" y="294"/>
                  </a:cubicBezTo>
                  <a:cubicBezTo>
                    <a:pt x="451" y="433"/>
                    <a:pt x="411" y="299"/>
                    <a:pt x="441" y="466"/>
                  </a:cubicBezTo>
                  <a:cubicBezTo>
                    <a:pt x="443" y="479"/>
                    <a:pt x="444" y="494"/>
                    <a:pt x="453" y="503"/>
                  </a:cubicBezTo>
                  <a:cubicBezTo>
                    <a:pt x="459" y="509"/>
                    <a:pt x="470" y="503"/>
                    <a:pt x="478" y="50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文本框 46111"/>
          <p:cNvSpPr/>
          <p:nvPr/>
        </p:nvSpPr>
        <p:spPr>
          <a:xfrm>
            <a:off x="2057400" y="19051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天中午，饥肠辘辘的人们正要生火做饭时，发现火种丢失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49180"/>
          <p:cNvGrpSpPr/>
          <p:nvPr/>
        </p:nvGrpSpPr>
        <p:grpSpPr>
          <a:xfrm>
            <a:off x="-36360" y="88920"/>
            <a:ext cx="9144000" cy="6858000"/>
            <a:chOff x="-36360" y="88920"/>
            <a:chExt cx="9144000" cy="6858000"/>
          </a:xfrm>
        </p:grpSpPr>
        <p:pic>
          <p:nvPicPr>
            <p:cNvPr id="267" name="图片 49181" descr=""/>
            <p:cNvPicPr/>
            <p:nvPr/>
          </p:nvPicPr>
          <p:blipFill>
            <a:blip r:embed="rId1"/>
            <a:stretch/>
          </p:blipFill>
          <p:spPr>
            <a:xfrm>
              <a:off x="-36360" y="889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矩形 49183"/>
            <p:cNvSpPr/>
            <p:nvPr/>
          </p:nvSpPr>
          <p:spPr>
            <a:xfrm>
              <a:off x="1335240" y="1536840"/>
              <a:ext cx="6934320" cy="5105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9" name="图片 49163" descr="gif003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1268280"/>
            <a:ext cx="251460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70" name="组合 49172"/>
          <p:cNvGrpSpPr/>
          <p:nvPr/>
        </p:nvGrpSpPr>
        <p:grpSpPr>
          <a:xfrm>
            <a:off x="6324480" y="5791320"/>
            <a:ext cx="1676160" cy="685800"/>
            <a:chOff x="6324480" y="5791320"/>
            <a:chExt cx="1676160" cy="685800"/>
          </a:xfrm>
        </p:grpSpPr>
        <p:sp>
          <p:nvSpPr>
            <p:cNvPr id="271" name="任意多边形 49173"/>
            <p:cNvSpPr/>
            <p:nvPr/>
          </p:nvSpPr>
          <p:spPr>
            <a:xfrm>
              <a:off x="6324480" y="5869440"/>
              <a:ext cx="1261800" cy="486720"/>
            </a:xfrm>
            <a:custGeom>
              <a:avLst/>
              <a:gdLst/>
              <a:ahLst/>
              <a:rect l="l" t="t" r="r" b="b"/>
              <a:pathLst>
                <a:path w="1069" h="572">
                  <a:moveTo>
                    <a:pt x="61" y="361"/>
                  </a:moveTo>
                  <a:cubicBezTo>
                    <a:pt x="117" y="324"/>
                    <a:pt x="169" y="272"/>
                    <a:pt x="233" y="251"/>
                  </a:cubicBezTo>
                  <a:cubicBezTo>
                    <a:pt x="245" y="235"/>
                    <a:pt x="254" y="214"/>
                    <a:pt x="270" y="202"/>
                  </a:cubicBezTo>
                  <a:cubicBezTo>
                    <a:pt x="288" y="189"/>
                    <a:pt x="311" y="188"/>
                    <a:pt x="331" y="178"/>
                  </a:cubicBezTo>
                  <a:cubicBezTo>
                    <a:pt x="375" y="156"/>
                    <a:pt x="421" y="138"/>
                    <a:pt x="466" y="116"/>
                  </a:cubicBezTo>
                  <a:cubicBezTo>
                    <a:pt x="528" y="85"/>
                    <a:pt x="478" y="95"/>
                    <a:pt x="552" y="67"/>
                  </a:cubicBezTo>
                  <a:cubicBezTo>
                    <a:pt x="588" y="53"/>
                    <a:pt x="626" y="44"/>
                    <a:pt x="662" y="31"/>
                  </a:cubicBezTo>
                  <a:cubicBezTo>
                    <a:pt x="686" y="22"/>
                    <a:pt x="736" y="6"/>
                    <a:pt x="736" y="6"/>
                  </a:cubicBezTo>
                  <a:cubicBezTo>
                    <a:pt x="769" y="10"/>
                    <a:pt x="807" y="0"/>
                    <a:pt x="834" y="18"/>
                  </a:cubicBezTo>
                  <a:cubicBezTo>
                    <a:pt x="866" y="39"/>
                    <a:pt x="912" y="122"/>
                    <a:pt x="944" y="165"/>
                  </a:cubicBezTo>
                  <a:cubicBezTo>
                    <a:pt x="972" y="202"/>
                    <a:pt x="1030" y="276"/>
                    <a:pt x="1030" y="276"/>
                  </a:cubicBezTo>
                  <a:cubicBezTo>
                    <a:pt x="1069" y="394"/>
                    <a:pt x="1053" y="307"/>
                    <a:pt x="785" y="337"/>
                  </a:cubicBezTo>
                  <a:cubicBezTo>
                    <a:pt x="760" y="340"/>
                    <a:pt x="736" y="345"/>
                    <a:pt x="711" y="349"/>
                  </a:cubicBezTo>
                  <a:cubicBezTo>
                    <a:pt x="644" y="383"/>
                    <a:pt x="663" y="371"/>
                    <a:pt x="588" y="423"/>
                  </a:cubicBezTo>
                  <a:cubicBezTo>
                    <a:pt x="571" y="435"/>
                    <a:pt x="539" y="459"/>
                    <a:pt x="539" y="459"/>
                  </a:cubicBezTo>
                  <a:cubicBezTo>
                    <a:pt x="466" y="571"/>
                    <a:pt x="299" y="539"/>
                    <a:pt x="184" y="545"/>
                  </a:cubicBezTo>
                  <a:cubicBezTo>
                    <a:pt x="94" y="564"/>
                    <a:pt x="99" y="572"/>
                    <a:pt x="0" y="558"/>
                  </a:cubicBezTo>
                  <a:cubicBezTo>
                    <a:pt x="73" y="509"/>
                    <a:pt x="52" y="457"/>
                    <a:pt x="61" y="36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任意多边形 49174"/>
            <p:cNvSpPr/>
            <p:nvPr/>
          </p:nvSpPr>
          <p:spPr>
            <a:xfrm>
              <a:off x="6935760" y="5791320"/>
              <a:ext cx="1064880" cy="685800"/>
            </a:xfrm>
            <a:custGeom>
              <a:avLst/>
              <a:gdLst/>
              <a:ahLst/>
              <a:rect l="l" t="t" r="r" b="b"/>
              <a:pathLst>
                <a:path w="1190" h="1046">
                  <a:moveTo>
                    <a:pt x="0" y="68"/>
                  </a:moveTo>
                  <a:cubicBezTo>
                    <a:pt x="105" y="0"/>
                    <a:pt x="158" y="22"/>
                    <a:pt x="294" y="31"/>
                  </a:cubicBezTo>
                  <a:cubicBezTo>
                    <a:pt x="313" y="123"/>
                    <a:pt x="370" y="248"/>
                    <a:pt x="478" y="264"/>
                  </a:cubicBezTo>
                  <a:cubicBezTo>
                    <a:pt x="543" y="273"/>
                    <a:pt x="609" y="273"/>
                    <a:pt x="674" y="277"/>
                  </a:cubicBezTo>
                  <a:cubicBezTo>
                    <a:pt x="751" y="428"/>
                    <a:pt x="622" y="184"/>
                    <a:pt x="760" y="399"/>
                  </a:cubicBezTo>
                  <a:cubicBezTo>
                    <a:pt x="772" y="417"/>
                    <a:pt x="771" y="443"/>
                    <a:pt x="785" y="460"/>
                  </a:cubicBezTo>
                  <a:cubicBezTo>
                    <a:pt x="821" y="505"/>
                    <a:pt x="866" y="542"/>
                    <a:pt x="907" y="583"/>
                  </a:cubicBezTo>
                  <a:cubicBezTo>
                    <a:pt x="925" y="602"/>
                    <a:pt x="935" y="628"/>
                    <a:pt x="956" y="644"/>
                  </a:cubicBezTo>
                  <a:cubicBezTo>
                    <a:pt x="973" y="658"/>
                    <a:pt x="998" y="658"/>
                    <a:pt x="1017" y="669"/>
                  </a:cubicBezTo>
                  <a:cubicBezTo>
                    <a:pt x="1048" y="686"/>
                    <a:pt x="1074" y="711"/>
                    <a:pt x="1103" y="730"/>
                  </a:cubicBezTo>
                  <a:cubicBezTo>
                    <a:pt x="1139" y="783"/>
                    <a:pt x="1190" y="928"/>
                    <a:pt x="1128" y="975"/>
                  </a:cubicBezTo>
                  <a:cubicBezTo>
                    <a:pt x="1066" y="1022"/>
                    <a:pt x="973" y="992"/>
                    <a:pt x="895" y="1000"/>
                  </a:cubicBezTo>
                  <a:cubicBezTo>
                    <a:pt x="891" y="1012"/>
                    <a:pt x="895" y="1031"/>
                    <a:pt x="883" y="1036"/>
                  </a:cubicBezTo>
                  <a:cubicBezTo>
                    <a:pt x="858" y="1046"/>
                    <a:pt x="814" y="1011"/>
                    <a:pt x="797" y="1000"/>
                  </a:cubicBezTo>
                  <a:cubicBezTo>
                    <a:pt x="776" y="958"/>
                    <a:pt x="751" y="921"/>
                    <a:pt x="735" y="877"/>
                  </a:cubicBezTo>
                  <a:cubicBezTo>
                    <a:pt x="731" y="844"/>
                    <a:pt x="735" y="810"/>
                    <a:pt x="723" y="779"/>
                  </a:cubicBezTo>
                  <a:cubicBezTo>
                    <a:pt x="712" y="752"/>
                    <a:pt x="637" y="738"/>
                    <a:pt x="613" y="730"/>
                  </a:cubicBezTo>
                  <a:cubicBezTo>
                    <a:pt x="578" y="684"/>
                    <a:pt x="563" y="639"/>
                    <a:pt x="515" y="607"/>
                  </a:cubicBezTo>
                  <a:cubicBezTo>
                    <a:pt x="481" y="558"/>
                    <a:pt x="425" y="517"/>
                    <a:pt x="405" y="460"/>
                  </a:cubicBezTo>
                  <a:cubicBezTo>
                    <a:pt x="401" y="448"/>
                    <a:pt x="400" y="434"/>
                    <a:pt x="392" y="424"/>
                  </a:cubicBezTo>
                  <a:cubicBezTo>
                    <a:pt x="367" y="393"/>
                    <a:pt x="282" y="375"/>
                    <a:pt x="282" y="375"/>
                  </a:cubicBezTo>
                  <a:cubicBezTo>
                    <a:pt x="231" y="341"/>
                    <a:pt x="192" y="307"/>
                    <a:pt x="135" y="289"/>
                  </a:cubicBezTo>
                  <a:cubicBezTo>
                    <a:pt x="65" y="185"/>
                    <a:pt x="156" y="304"/>
                    <a:pt x="74" y="240"/>
                  </a:cubicBezTo>
                  <a:cubicBezTo>
                    <a:pt x="47" y="219"/>
                    <a:pt x="0" y="166"/>
                    <a:pt x="0" y="166"/>
                  </a:cubicBezTo>
                  <a:cubicBezTo>
                    <a:pt x="4" y="146"/>
                    <a:pt x="0" y="122"/>
                    <a:pt x="12" y="105"/>
                  </a:cubicBezTo>
                  <a:cubicBezTo>
                    <a:pt x="19" y="94"/>
                    <a:pt x="40" y="102"/>
                    <a:pt x="49" y="93"/>
                  </a:cubicBezTo>
                  <a:cubicBezTo>
                    <a:pt x="58" y="84"/>
                    <a:pt x="73" y="62"/>
                    <a:pt x="61" y="56"/>
                  </a:cubicBezTo>
                  <a:cubicBezTo>
                    <a:pt x="43" y="47"/>
                    <a:pt x="20" y="64"/>
                    <a:pt x="0" y="68"/>
                  </a:cubicBez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a50021"/>
                </a:gs>
                <a:gs pos="100000">
                  <a:srgbClr val="ff6600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49175"/>
            <p:cNvSpPr/>
            <p:nvPr/>
          </p:nvSpPr>
          <p:spPr>
            <a:xfrm>
              <a:off x="6595920" y="5995440"/>
              <a:ext cx="453240" cy="163440"/>
            </a:xfrm>
            <a:custGeom>
              <a:avLst/>
              <a:gdLst/>
              <a:ahLst/>
              <a:rect l="l" t="t" r="r" b="b"/>
              <a:pathLst>
                <a:path w="384" h="192">
                  <a:moveTo>
                    <a:pt x="384" y="0"/>
                  </a:moveTo>
                  <a:cubicBezTo>
                    <a:pt x="344" y="56"/>
                    <a:pt x="304" y="112"/>
                    <a:pt x="240" y="144"/>
                  </a:cubicBezTo>
                  <a:cubicBezTo>
                    <a:pt x="176" y="176"/>
                    <a:pt x="40" y="184"/>
                    <a:pt x="0" y="19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任意多边形 49176"/>
            <p:cNvSpPr/>
            <p:nvPr/>
          </p:nvSpPr>
          <p:spPr>
            <a:xfrm>
              <a:off x="7105680" y="5905080"/>
              <a:ext cx="699840" cy="513000"/>
            </a:xfrm>
            <a:custGeom>
              <a:avLst/>
              <a:gdLst/>
              <a:ahLst/>
              <a:rect l="l" t="t" r="r" b="b"/>
              <a:pathLst>
                <a:path w="593" h="603">
                  <a:moveTo>
                    <a:pt x="0" y="1"/>
                  </a:moveTo>
                  <a:cubicBezTo>
                    <a:pt x="25" y="9"/>
                    <a:pt x="66" y="0"/>
                    <a:pt x="74" y="25"/>
                  </a:cubicBezTo>
                  <a:cubicBezTo>
                    <a:pt x="89" y="72"/>
                    <a:pt x="82" y="151"/>
                    <a:pt x="123" y="185"/>
                  </a:cubicBezTo>
                  <a:cubicBezTo>
                    <a:pt x="136" y="196"/>
                    <a:pt x="156" y="193"/>
                    <a:pt x="172" y="197"/>
                  </a:cubicBezTo>
                  <a:cubicBezTo>
                    <a:pt x="180" y="209"/>
                    <a:pt x="189" y="221"/>
                    <a:pt x="196" y="234"/>
                  </a:cubicBezTo>
                  <a:cubicBezTo>
                    <a:pt x="202" y="245"/>
                    <a:pt x="199" y="261"/>
                    <a:pt x="208" y="270"/>
                  </a:cubicBezTo>
                  <a:cubicBezTo>
                    <a:pt x="238" y="300"/>
                    <a:pt x="290" y="289"/>
                    <a:pt x="331" y="295"/>
                  </a:cubicBezTo>
                  <a:cubicBezTo>
                    <a:pt x="367" y="307"/>
                    <a:pt x="382" y="305"/>
                    <a:pt x="404" y="344"/>
                  </a:cubicBezTo>
                  <a:cubicBezTo>
                    <a:pt x="425" y="381"/>
                    <a:pt x="428" y="426"/>
                    <a:pt x="441" y="467"/>
                  </a:cubicBezTo>
                  <a:cubicBezTo>
                    <a:pt x="446" y="481"/>
                    <a:pt x="466" y="483"/>
                    <a:pt x="478" y="491"/>
                  </a:cubicBezTo>
                  <a:cubicBezTo>
                    <a:pt x="502" y="540"/>
                    <a:pt x="496" y="542"/>
                    <a:pt x="539" y="577"/>
                  </a:cubicBezTo>
                  <a:cubicBezTo>
                    <a:pt x="571" y="603"/>
                    <a:pt x="593" y="601"/>
                    <a:pt x="564" y="60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任意多边形 49177"/>
            <p:cNvSpPr/>
            <p:nvPr/>
          </p:nvSpPr>
          <p:spPr>
            <a:xfrm>
              <a:off x="6513120" y="6048360"/>
              <a:ext cx="697680" cy="243360"/>
            </a:xfrm>
            <a:custGeom>
              <a:avLst/>
              <a:gdLst/>
              <a:ahLst/>
              <a:rect l="l" t="t" r="r" b="b"/>
              <a:pathLst>
                <a:path w="591" h="286">
                  <a:moveTo>
                    <a:pt x="0" y="286"/>
                  </a:moveTo>
                  <a:cubicBezTo>
                    <a:pt x="105" y="252"/>
                    <a:pt x="125" y="248"/>
                    <a:pt x="245" y="237"/>
                  </a:cubicBezTo>
                  <a:cubicBezTo>
                    <a:pt x="257" y="233"/>
                    <a:pt x="270" y="231"/>
                    <a:pt x="281" y="225"/>
                  </a:cubicBezTo>
                  <a:cubicBezTo>
                    <a:pt x="294" y="218"/>
                    <a:pt x="304" y="206"/>
                    <a:pt x="318" y="200"/>
                  </a:cubicBezTo>
                  <a:cubicBezTo>
                    <a:pt x="342" y="190"/>
                    <a:pt x="392" y="176"/>
                    <a:pt x="392" y="176"/>
                  </a:cubicBezTo>
                  <a:cubicBezTo>
                    <a:pt x="412" y="145"/>
                    <a:pt x="423" y="89"/>
                    <a:pt x="453" y="66"/>
                  </a:cubicBezTo>
                  <a:cubicBezTo>
                    <a:pt x="468" y="54"/>
                    <a:pt x="543" y="42"/>
                    <a:pt x="551" y="41"/>
                  </a:cubicBezTo>
                  <a:cubicBezTo>
                    <a:pt x="578" y="0"/>
                    <a:pt x="591" y="4"/>
                    <a:pt x="563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任意多边形 49178"/>
            <p:cNvSpPr/>
            <p:nvPr/>
          </p:nvSpPr>
          <p:spPr>
            <a:xfrm>
              <a:off x="7308720" y="5968080"/>
              <a:ext cx="564120" cy="433080"/>
            </a:xfrm>
            <a:custGeom>
              <a:avLst/>
              <a:gdLst/>
              <a:ahLst/>
              <a:rect l="l" t="t" r="r" b="b"/>
              <a:pathLst>
                <a:path w="478" h="509">
                  <a:moveTo>
                    <a:pt x="0" y="0"/>
                  </a:moveTo>
                  <a:cubicBezTo>
                    <a:pt x="71" y="109"/>
                    <a:pt x="122" y="130"/>
                    <a:pt x="245" y="147"/>
                  </a:cubicBezTo>
                  <a:cubicBezTo>
                    <a:pt x="259" y="191"/>
                    <a:pt x="293" y="216"/>
                    <a:pt x="330" y="245"/>
                  </a:cubicBezTo>
                  <a:cubicBezTo>
                    <a:pt x="353" y="263"/>
                    <a:pt x="404" y="294"/>
                    <a:pt x="404" y="294"/>
                  </a:cubicBezTo>
                  <a:cubicBezTo>
                    <a:pt x="451" y="433"/>
                    <a:pt x="411" y="299"/>
                    <a:pt x="441" y="466"/>
                  </a:cubicBezTo>
                  <a:cubicBezTo>
                    <a:pt x="443" y="479"/>
                    <a:pt x="444" y="494"/>
                    <a:pt x="453" y="503"/>
                  </a:cubicBezTo>
                  <a:cubicBezTo>
                    <a:pt x="459" y="509"/>
                    <a:pt x="470" y="503"/>
                    <a:pt x="478" y="50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文本框 49179"/>
          <p:cNvSpPr/>
          <p:nvPr/>
        </p:nvSpPr>
        <p:spPr>
          <a:xfrm>
            <a:off x="2133720" y="297180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零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摄氏度的严寒环境里，丢失火种就意味着死亡！怎么办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10354"/>
          <p:cNvGrpSpPr/>
          <p:nvPr/>
        </p:nvGrpSpPr>
        <p:grpSpPr>
          <a:xfrm>
            <a:off x="-214200" y="88920"/>
            <a:ext cx="9144000" cy="6858000"/>
            <a:chOff x="-214200" y="88920"/>
            <a:chExt cx="9144000" cy="6858000"/>
          </a:xfrm>
        </p:grpSpPr>
        <p:pic>
          <p:nvPicPr>
            <p:cNvPr id="279" name="图片 10355" descr=""/>
            <p:cNvPicPr/>
            <p:nvPr/>
          </p:nvPicPr>
          <p:blipFill>
            <a:blip r:embed="rId1"/>
            <a:stretch/>
          </p:blipFill>
          <p:spPr>
            <a:xfrm>
              <a:off x="-214200" y="889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矩形 10357"/>
            <p:cNvSpPr/>
            <p:nvPr/>
          </p:nvSpPr>
          <p:spPr>
            <a:xfrm>
              <a:off x="1157400" y="1536840"/>
              <a:ext cx="6934320" cy="5105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图片 10324" descr="huo1.gif (4968 bytes)"/>
          <p:cNvPicPr/>
          <p:nvPr/>
        </p:nvPicPr>
        <p:blipFill>
          <a:blip r:embed="rId2"/>
          <a:stretch/>
        </p:blipFill>
        <p:spPr>
          <a:xfrm>
            <a:off x="6237360" y="4694400"/>
            <a:ext cx="1382760" cy="178272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10326" descr="gif003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47640" y="1268280"/>
            <a:ext cx="2033640" cy="1703520"/>
          </a:xfrm>
          <a:prstGeom prst="rect">
            <a:avLst/>
          </a:prstGeom>
          <a:ln w="0">
            <a:noFill/>
          </a:ln>
        </p:spPr>
      </p:pic>
      <p:sp>
        <p:nvSpPr>
          <p:cNvPr id="283" name="椭圆 10327"/>
          <p:cNvSpPr/>
          <p:nvPr/>
        </p:nvSpPr>
        <p:spPr>
          <a:xfrm rot="2787000">
            <a:off x="5105160" y="3417480"/>
            <a:ext cx="839880" cy="2081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组合 10353"/>
          <p:cNvGrpSpPr/>
          <p:nvPr/>
        </p:nvGrpSpPr>
        <p:grpSpPr>
          <a:xfrm>
            <a:off x="2514600" y="1523880"/>
            <a:ext cx="4475520" cy="4514400"/>
            <a:chOff x="2514600" y="1523880"/>
            <a:chExt cx="4475520" cy="4514400"/>
          </a:xfrm>
        </p:grpSpPr>
        <p:grpSp>
          <p:nvGrpSpPr>
            <p:cNvPr id="285" name="组合 10330"/>
            <p:cNvGrpSpPr/>
            <p:nvPr/>
          </p:nvGrpSpPr>
          <p:grpSpPr>
            <a:xfrm>
              <a:off x="3327480" y="1523880"/>
              <a:ext cx="2540160" cy="2361960"/>
              <a:chOff x="3327480" y="1523880"/>
              <a:chExt cx="2540160" cy="2361960"/>
            </a:xfrm>
          </p:grpSpPr>
          <p:sp>
            <p:nvSpPr>
              <p:cNvPr id="286" name="直接连接符 10328"/>
              <p:cNvSpPr/>
              <p:nvPr/>
            </p:nvSpPr>
            <p:spPr>
              <a:xfrm>
                <a:off x="3327480" y="1523880"/>
                <a:ext cx="1355040" cy="122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直接连接符 10329"/>
              <p:cNvSpPr/>
              <p:nvPr/>
            </p:nvSpPr>
            <p:spPr>
              <a:xfrm>
                <a:off x="4343400" y="2486520"/>
                <a:ext cx="1524240" cy="139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组合 10331"/>
            <p:cNvGrpSpPr/>
            <p:nvPr/>
          </p:nvGrpSpPr>
          <p:grpSpPr>
            <a:xfrm>
              <a:off x="2514600" y="2749680"/>
              <a:ext cx="2438280" cy="2207880"/>
              <a:chOff x="2514600" y="2749680"/>
              <a:chExt cx="2438280" cy="2207880"/>
            </a:xfrm>
          </p:grpSpPr>
          <p:sp>
            <p:nvSpPr>
              <p:cNvPr id="289" name="直接连接符 10332"/>
              <p:cNvSpPr/>
              <p:nvPr/>
            </p:nvSpPr>
            <p:spPr>
              <a:xfrm>
                <a:off x="2514600" y="2749680"/>
                <a:ext cx="1300680" cy="114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直接连接符 10333"/>
              <p:cNvSpPr/>
              <p:nvPr/>
            </p:nvSpPr>
            <p:spPr>
              <a:xfrm>
                <a:off x="3489840" y="3649320"/>
                <a:ext cx="1463040" cy="1308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组合 10334"/>
            <p:cNvGrpSpPr/>
            <p:nvPr/>
          </p:nvGrpSpPr>
          <p:grpSpPr>
            <a:xfrm>
              <a:off x="2921040" y="2178000"/>
              <a:ext cx="2440080" cy="2206440"/>
              <a:chOff x="2921040" y="2178000"/>
              <a:chExt cx="2440080" cy="2206440"/>
            </a:xfrm>
          </p:grpSpPr>
          <p:sp>
            <p:nvSpPr>
              <p:cNvPr id="292" name="直接连接符 10335"/>
              <p:cNvSpPr/>
              <p:nvPr/>
            </p:nvSpPr>
            <p:spPr>
              <a:xfrm>
                <a:off x="2921040" y="2178000"/>
                <a:ext cx="1301760" cy="1144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直接连接符 10336"/>
              <p:cNvSpPr/>
              <p:nvPr/>
            </p:nvSpPr>
            <p:spPr>
              <a:xfrm>
                <a:off x="3897000" y="3077280"/>
                <a:ext cx="1464120" cy="1307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组合 10343"/>
            <p:cNvGrpSpPr/>
            <p:nvPr/>
          </p:nvGrpSpPr>
          <p:grpSpPr>
            <a:xfrm>
              <a:off x="6094080" y="4140360"/>
              <a:ext cx="812160" cy="1879200"/>
              <a:chOff x="6094080" y="4140360"/>
              <a:chExt cx="812160" cy="1879200"/>
            </a:xfrm>
          </p:grpSpPr>
          <p:sp>
            <p:nvSpPr>
              <p:cNvPr id="295" name="直接连接符 10340"/>
              <p:cNvSpPr/>
              <p:nvPr/>
            </p:nvSpPr>
            <p:spPr>
              <a:xfrm>
                <a:off x="6094080" y="4140360"/>
                <a:ext cx="406080" cy="898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直接连接符 10342"/>
              <p:cNvSpPr/>
              <p:nvPr/>
            </p:nvSpPr>
            <p:spPr>
              <a:xfrm>
                <a:off x="6337800" y="4712040"/>
                <a:ext cx="568440" cy="130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组合 10344"/>
            <p:cNvGrpSpPr/>
            <p:nvPr/>
          </p:nvGrpSpPr>
          <p:grpSpPr>
            <a:xfrm>
              <a:off x="5104440" y="5180040"/>
              <a:ext cx="1800360" cy="756720"/>
              <a:chOff x="5104440" y="5180040"/>
              <a:chExt cx="1800360" cy="756720"/>
            </a:xfrm>
          </p:grpSpPr>
          <p:sp>
            <p:nvSpPr>
              <p:cNvPr id="298" name="直接连接符 10345"/>
              <p:cNvSpPr/>
              <p:nvPr/>
            </p:nvSpPr>
            <p:spPr>
              <a:xfrm>
                <a:off x="5104440" y="5180040"/>
                <a:ext cx="861120" cy="37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直接连接符 10346"/>
              <p:cNvSpPr/>
              <p:nvPr/>
            </p:nvSpPr>
            <p:spPr>
              <a:xfrm>
                <a:off x="5652000" y="5407200"/>
                <a:ext cx="1252800" cy="52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组合 10348"/>
            <p:cNvGrpSpPr/>
            <p:nvPr/>
          </p:nvGrpSpPr>
          <p:grpSpPr>
            <a:xfrm>
              <a:off x="5622120" y="4735440"/>
              <a:ext cx="1368000" cy="1302840"/>
              <a:chOff x="5622120" y="4735440"/>
              <a:chExt cx="1368000" cy="1302840"/>
            </a:xfrm>
          </p:grpSpPr>
          <p:sp>
            <p:nvSpPr>
              <p:cNvPr id="301" name="直接连接符 10349"/>
              <p:cNvSpPr/>
              <p:nvPr/>
            </p:nvSpPr>
            <p:spPr>
              <a:xfrm>
                <a:off x="5622120" y="4735440"/>
                <a:ext cx="648720" cy="636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直接连接符 10350"/>
              <p:cNvSpPr/>
              <p:nvPr/>
            </p:nvSpPr>
            <p:spPr>
              <a:xfrm>
                <a:off x="6039360" y="5129280"/>
                <a:ext cx="950760" cy="909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" name="文本框 10352"/>
          <p:cNvSpPr/>
          <p:nvPr/>
        </p:nvSpPr>
        <p:spPr>
          <a:xfrm>
            <a:off x="4140360" y="155736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聪明的队员用冰磨了一个大透镜，利用阳光引燃木材，人们得救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5842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矩形 58424"/>
          <p:cNvSpPr/>
          <p:nvPr/>
        </p:nvSpPr>
        <p:spPr>
          <a:xfrm>
            <a:off x="1371600" y="1523880"/>
            <a:ext cx="7377120" cy="5105520"/>
          </a:xfrm>
          <a:prstGeom prst="rect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文本框 58408"/>
          <p:cNvSpPr/>
          <p:nvPr/>
        </p:nvSpPr>
        <p:spPr>
          <a:xfrm>
            <a:off x="1403280" y="765000"/>
            <a:ext cx="43434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日照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在向阳的窗台上，放一个盛水的透明烧瓶，就制成了一种仪器——日照仪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太阳光无论从哪个方向射过来，总能把阳光会聚在焦点，在焦点上放一张纸条，阳光就会灼出焦痕，人们根据焦痕的长短可以来计算太阳照射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组合 58416"/>
          <p:cNvGrpSpPr/>
          <p:nvPr/>
        </p:nvGrpSpPr>
        <p:grpSpPr>
          <a:xfrm>
            <a:off x="5486400" y="3429000"/>
            <a:ext cx="3048120" cy="914400"/>
            <a:chOff x="5486400" y="3429000"/>
            <a:chExt cx="3048120" cy="914400"/>
          </a:xfrm>
        </p:grpSpPr>
        <p:sp>
          <p:nvSpPr>
            <p:cNvPr id="308" name="平行四边形 58412"/>
            <p:cNvSpPr/>
            <p:nvPr/>
          </p:nvSpPr>
          <p:spPr>
            <a:xfrm>
              <a:off x="5486400" y="3429000"/>
              <a:ext cx="3048120" cy="914400"/>
            </a:xfrm>
            <a:prstGeom prst="parallelogram">
              <a:avLst>
                <a:gd name="adj" fmla="val 83337"/>
              </a:avLst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椭圆 58413"/>
            <p:cNvSpPr/>
            <p:nvPr/>
          </p:nvSpPr>
          <p:spPr>
            <a:xfrm>
              <a:off x="7924680" y="3619440"/>
              <a:ext cx="9072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组合 58385"/>
          <p:cNvGrpSpPr/>
          <p:nvPr/>
        </p:nvGrpSpPr>
        <p:grpSpPr>
          <a:xfrm>
            <a:off x="6465960" y="1662120"/>
            <a:ext cx="1198440" cy="1933560"/>
            <a:chOff x="6465960" y="1662120"/>
            <a:chExt cx="1198440" cy="1933560"/>
          </a:xfrm>
        </p:grpSpPr>
        <p:sp>
          <p:nvSpPr>
            <p:cNvPr id="311" name="椭圆 58379"/>
            <p:cNvSpPr/>
            <p:nvPr/>
          </p:nvSpPr>
          <p:spPr>
            <a:xfrm>
              <a:off x="6465960" y="2602800"/>
              <a:ext cx="1198440" cy="99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矩形 58381"/>
            <p:cNvSpPr/>
            <p:nvPr/>
          </p:nvSpPr>
          <p:spPr>
            <a:xfrm>
              <a:off x="6705720" y="1662120"/>
              <a:ext cx="658800" cy="10440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矩形 58383"/>
            <p:cNvSpPr/>
            <p:nvPr/>
          </p:nvSpPr>
          <p:spPr>
            <a:xfrm>
              <a:off x="6825240" y="1766520"/>
              <a:ext cx="419400" cy="88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50000">
                  <a:srgbClr val="ffffff"/>
                </a:gs>
                <a:gs pos="100000">
                  <a:srgbClr val="ccecff"/>
                </a:gs>
              </a:gsLst>
              <a:lin ang="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矩形 58380"/>
            <p:cNvSpPr/>
            <p:nvPr/>
          </p:nvSpPr>
          <p:spPr>
            <a:xfrm>
              <a:off x="6825240" y="2080080"/>
              <a:ext cx="419400" cy="57456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50000">
                  <a:srgbClr val="ffffff"/>
                </a:gs>
                <a:gs pos="100000">
                  <a:srgbClr val="00ccff"/>
                </a:gs>
              </a:gsLst>
              <a:lin ang="0"/>
            </a:gra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组合 58387"/>
          <p:cNvGrpSpPr/>
          <p:nvPr/>
        </p:nvGrpSpPr>
        <p:grpSpPr>
          <a:xfrm>
            <a:off x="5791320" y="1828800"/>
            <a:ext cx="990000" cy="914400"/>
            <a:chOff x="5791320" y="1828800"/>
            <a:chExt cx="990000" cy="914400"/>
          </a:xfrm>
        </p:grpSpPr>
        <p:sp>
          <p:nvSpPr>
            <p:cNvPr id="316" name="直接连接符 58388"/>
            <p:cNvSpPr/>
            <p:nvPr/>
          </p:nvSpPr>
          <p:spPr>
            <a:xfrm>
              <a:off x="5791320" y="1828800"/>
              <a:ext cx="528120" cy="4741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直接连接符 58389"/>
            <p:cNvSpPr/>
            <p:nvPr/>
          </p:nvSpPr>
          <p:spPr>
            <a:xfrm>
              <a:off x="6187320" y="2201400"/>
              <a:ext cx="594000" cy="541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组合 58390"/>
          <p:cNvGrpSpPr/>
          <p:nvPr/>
        </p:nvGrpSpPr>
        <p:grpSpPr>
          <a:xfrm>
            <a:off x="5410080" y="2216160"/>
            <a:ext cx="1066680" cy="984240"/>
            <a:chOff x="5410080" y="2216160"/>
            <a:chExt cx="1066680" cy="984240"/>
          </a:xfrm>
        </p:grpSpPr>
        <p:sp>
          <p:nvSpPr>
            <p:cNvPr id="319" name="直接连接符 58391"/>
            <p:cNvSpPr/>
            <p:nvPr/>
          </p:nvSpPr>
          <p:spPr>
            <a:xfrm>
              <a:off x="5410080" y="2216160"/>
              <a:ext cx="569160" cy="51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直接连接符 58392"/>
            <p:cNvSpPr/>
            <p:nvPr/>
          </p:nvSpPr>
          <p:spPr>
            <a:xfrm>
              <a:off x="5836680" y="2617200"/>
              <a:ext cx="640080" cy="5832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组合 58393"/>
          <p:cNvGrpSpPr/>
          <p:nvPr/>
        </p:nvGrpSpPr>
        <p:grpSpPr>
          <a:xfrm>
            <a:off x="5562720" y="1981080"/>
            <a:ext cx="990000" cy="914400"/>
            <a:chOff x="5562720" y="1981080"/>
            <a:chExt cx="990000" cy="914400"/>
          </a:xfrm>
        </p:grpSpPr>
        <p:sp>
          <p:nvSpPr>
            <p:cNvPr id="322" name="直接连接符 58394"/>
            <p:cNvSpPr/>
            <p:nvPr/>
          </p:nvSpPr>
          <p:spPr>
            <a:xfrm>
              <a:off x="5562720" y="1981080"/>
              <a:ext cx="528120" cy="4741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直接连接符 58395"/>
            <p:cNvSpPr/>
            <p:nvPr/>
          </p:nvSpPr>
          <p:spPr>
            <a:xfrm>
              <a:off x="5958720" y="2353680"/>
              <a:ext cx="594000" cy="541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组合 58396"/>
          <p:cNvGrpSpPr/>
          <p:nvPr/>
        </p:nvGrpSpPr>
        <p:grpSpPr>
          <a:xfrm>
            <a:off x="7543800" y="3276720"/>
            <a:ext cx="434520" cy="532800"/>
            <a:chOff x="7543800" y="3276720"/>
            <a:chExt cx="434520" cy="532800"/>
          </a:xfrm>
        </p:grpSpPr>
        <p:sp>
          <p:nvSpPr>
            <p:cNvPr id="325" name="直接连接符 58397"/>
            <p:cNvSpPr/>
            <p:nvPr/>
          </p:nvSpPr>
          <p:spPr>
            <a:xfrm>
              <a:off x="7543800" y="3276720"/>
              <a:ext cx="217440" cy="254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直接连接符 58398"/>
            <p:cNvSpPr/>
            <p:nvPr/>
          </p:nvSpPr>
          <p:spPr>
            <a:xfrm>
              <a:off x="7674120" y="3438720"/>
              <a:ext cx="304200" cy="3708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组合 58399"/>
          <p:cNvGrpSpPr/>
          <p:nvPr/>
        </p:nvGrpSpPr>
        <p:grpSpPr>
          <a:xfrm>
            <a:off x="7238880" y="3581280"/>
            <a:ext cx="609840" cy="152640"/>
            <a:chOff x="7238880" y="3581280"/>
            <a:chExt cx="609840" cy="152640"/>
          </a:xfrm>
        </p:grpSpPr>
        <p:sp>
          <p:nvSpPr>
            <p:cNvPr id="328" name="直接连接符 58400"/>
            <p:cNvSpPr/>
            <p:nvPr/>
          </p:nvSpPr>
          <p:spPr>
            <a:xfrm>
              <a:off x="7238880" y="3581280"/>
              <a:ext cx="291600" cy="76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直接连接符 58401"/>
            <p:cNvSpPr/>
            <p:nvPr/>
          </p:nvSpPr>
          <p:spPr>
            <a:xfrm>
              <a:off x="7424280" y="3627000"/>
              <a:ext cx="424440" cy="106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组合 58402"/>
          <p:cNvGrpSpPr/>
          <p:nvPr/>
        </p:nvGrpSpPr>
        <p:grpSpPr>
          <a:xfrm>
            <a:off x="7354440" y="3371040"/>
            <a:ext cx="571320" cy="407880"/>
            <a:chOff x="7354440" y="3371040"/>
            <a:chExt cx="571320" cy="407880"/>
          </a:xfrm>
        </p:grpSpPr>
        <p:sp>
          <p:nvSpPr>
            <p:cNvPr id="331" name="直接连接符 58403"/>
            <p:cNvSpPr/>
            <p:nvPr/>
          </p:nvSpPr>
          <p:spPr>
            <a:xfrm>
              <a:off x="7354440" y="3371040"/>
              <a:ext cx="272160" cy="1980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直接连接符 58404"/>
            <p:cNvSpPr/>
            <p:nvPr/>
          </p:nvSpPr>
          <p:spPr>
            <a:xfrm>
              <a:off x="7528680" y="3494520"/>
              <a:ext cx="397080" cy="28440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" name="图片 58420" descr="boy10.gif (4616 bytes)"/>
          <p:cNvPicPr/>
          <p:nvPr/>
        </p:nvPicPr>
        <p:blipFill>
          <a:blip r:embed="rId2"/>
          <a:stretch/>
        </p:blipFill>
        <p:spPr>
          <a:xfrm>
            <a:off x="6553080" y="5105520"/>
            <a:ext cx="122256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组合 55313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pic>
          <p:nvPicPr>
            <p:cNvPr id="335" name="图片 55314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矩形 55316"/>
            <p:cNvSpPr/>
            <p:nvPr/>
          </p:nvSpPr>
          <p:spPr>
            <a:xfrm>
              <a:off x="1371600" y="1524240"/>
              <a:ext cx="6934320" cy="5105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矩形 55307"/>
          <p:cNvSpPr txBox="1"/>
          <p:nvPr/>
        </p:nvSpPr>
        <p:spPr>
          <a:xfrm>
            <a:off x="3780000" y="692280"/>
            <a:ext cx="27795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伴你总结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338" name="组合 55309"/>
          <p:cNvGrpSpPr/>
          <p:nvPr/>
        </p:nvGrpSpPr>
        <p:grpSpPr>
          <a:xfrm>
            <a:off x="1547640" y="2276640"/>
            <a:ext cx="7129080" cy="3835080"/>
            <a:chOff x="1547640" y="2276640"/>
            <a:chExt cx="7129080" cy="3835080"/>
          </a:xfrm>
        </p:grpSpPr>
        <p:sp>
          <p:nvSpPr>
            <p:cNvPr id="339" name="文本框 55310"/>
            <p:cNvSpPr/>
            <p:nvPr/>
          </p:nvSpPr>
          <p:spPr>
            <a:xfrm>
              <a:off x="1547640" y="2965680"/>
              <a:ext cx="6055200" cy="31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1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你应该知道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.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你还想知道的……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左大括号 55311"/>
            <p:cNvSpPr/>
            <p:nvPr/>
          </p:nvSpPr>
          <p:spPr>
            <a:xfrm>
              <a:off x="5844960" y="2356200"/>
              <a:ext cx="292680" cy="2133360"/>
            </a:xfrm>
            <a:custGeom>
              <a:avLst/>
              <a:gdLst>
                <a:gd name="textAreaLeft" fmla="*/ 187200 w 292680"/>
                <a:gd name="textAreaRight" fmla="*/ 293040 w 29268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文本框 55312"/>
            <p:cNvSpPr/>
            <p:nvPr/>
          </p:nvSpPr>
          <p:spPr>
            <a:xfrm>
              <a:off x="6723720" y="2276640"/>
              <a:ext cx="195300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知识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方法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态度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图片 13335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矩形 13320"/>
          <p:cNvSpPr/>
          <p:nvPr/>
        </p:nvSpPr>
        <p:spPr>
          <a:xfrm>
            <a:off x="1219320" y="1219320"/>
            <a:ext cx="44193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请参照这三幅图片，课下讨论：透镜对光为什么有会聚或发散作用？并用光路图进行解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图片 13321" descr="09-光線+稜鏡1-乾"/>
          <p:cNvPicPr/>
          <p:nvPr/>
        </p:nvPicPr>
        <p:blipFill>
          <a:blip r:embed="rId2">
            <a:lum contrast="24000"/>
          </a:blip>
          <a:srcRect l="34341" t="15870" r="31843" b="28599"/>
          <a:stretch/>
        </p:blipFill>
        <p:spPr>
          <a:xfrm>
            <a:off x="6156360" y="1700280"/>
            <a:ext cx="2133720" cy="17571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3322" descr="09-使光線匯聚-乾"/>
          <p:cNvPicPr/>
          <p:nvPr/>
        </p:nvPicPr>
        <p:blipFill>
          <a:blip r:embed="rId3">
            <a:lum contrast="24000"/>
          </a:blip>
          <a:srcRect l="28945" t="19227" r="38065" b="26928"/>
          <a:stretch/>
        </p:blipFill>
        <p:spPr>
          <a:xfrm>
            <a:off x="1905120" y="4038480"/>
            <a:ext cx="2819160" cy="236232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3323" descr="09-使光線發散-乾"/>
          <p:cNvPicPr/>
          <p:nvPr/>
        </p:nvPicPr>
        <p:blipFill>
          <a:blip r:embed="rId4">
            <a:lum contrast="24000"/>
          </a:blip>
          <a:srcRect l="26322" t="23270" r="31583" b="26868"/>
          <a:stretch/>
        </p:blipFill>
        <p:spPr>
          <a:xfrm>
            <a:off x="5029200" y="4038480"/>
            <a:ext cx="2819520" cy="2291040"/>
          </a:xfrm>
          <a:prstGeom prst="rect">
            <a:avLst/>
          </a:prstGeom>
          <a:ln w="0">
            <a:noFill/>
          </a:ln>
        </p:spPr>
      </p:pic>
      <p:sp>
        <p:nvSpPr>
          <p:cNvPr id="347" name="矩形 13348"/>
          <p:cNvSpPr txBox="1"/>
          <p:nvPr/>
        </p:nvSpPr>
        <p:spPr>
          <a:xfrm>
            <a:off x="2124000" y="333360"/>
            <a:ext cx="357336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课外空间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4109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矩形 4117"/>
          <p:cNvSpPr/>
          <p:nvPr/>
        </p:nvSpPr>
        <p:spPr>
          <a:xfrm>
            <a:off x="6248520" y="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華康粗黑體"/>
              </a:rPr>
              <a:t>第</a:t>
            </a:r>
            <a:r>
              <a:rPr b="0" lang="zh-TW" sz="3600" spc="-1" strike="noStrike">
                <a:solidFill>
                  <a:srgbClr val="ffffff"/>
                </a:solidFill>
                <a:latin typeface="Times New Roman"/>
                <a:ea typeface="華康粗黑體"/>
              </a:rPr>
              <a:t>3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華康粗黑體"/>
              </a:rPr>
              <a:t>章  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透镜及其应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22.wmv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66265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15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25617"/>
          <p:cNvSpPr/>
          <p:nvPr/>
        </p:nvSpPr>
        <p:spPr>
          <a:xfrm>
            <a:off x="1403280" y="1773360"/>
            <a:ext cx="6934320" cy="3095640"/>
          </a:xfrm>
          <a:prstGeom prst="rect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25611"/>
          <p:cNvSpPr txBox="1"/>
          <p:nvPr/>
        </p:nvSpPr>
        <p:spPr>
          <a:xfrm>
            <a:off x="2484360" y="907920"/>
            <a:ext cx="2260800" cy="4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区分透镜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文本框 25612"/>
          <p:cNvSpPr/>
          <p:nvPr/>
        </p:nvSpPr>
        <p:spPr>
          <a:xfrm>
            <a:off x="1619280" y="2133720"/>
            <a:ext cx="6705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比区分透镜，思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透镜有哪些不同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能根据透镜的不同特征，给它命名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24634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pic>
          <p:nvPicPr>
            <p:cNvPr id="52" name="图片 24635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矩形 24637"/>
            <p:cNvSpPr/>
            <p:nvPr/>
          </p:nvSpPr>
          <p:spPr>
            <a:xfrm>
              <a:off x="1371600" y="1524240"/>
              <a:ext cx="6934320" cy="5105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矩形 24639"/>
            <p:cNvSpPr/>
            <p:nvPr/>
          </p:nvSpPr>
          <p:spPr>
            <a:xfrm>
              <a:off x="1676520" y="45720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3-</a:t>
              </a:r>
              <a:r>
                <a:rPr b="0" lang="en-US" sz="2000" spc="-1" strike="noStrike">
                  <a:solidFill>
                    <a:srgbClr val="ffffff"/>
                  </a:solidFill>
                  <a:latin typeface="華康儷粗黑"/>
                  <a:ea typeface="華康儷粗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文本框 24600"/>
          <p:cNvSpPr/>
          <p:nvPr/>
        </p:nvSpPr>
        <p:spPr>
          <a:xfrm>
            <a:off x="2209680" y="601992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组合 24629"/>
          <p:cNvGrpSpPr/>
          <p:nvPr/>
        </p:nvGrpSpPr>
        <p:grpSpPr>
          <a:xfrm>
            <a:off x="5029200" y="2438280"/>
            <a:ext cx="2362320" cy="1371600"/>
            <a:chOff x="5029200" y="2438280"/>
            <a:chExt cx="2362320" cy="1371600"/>
          </a:xfrm>
        </p:grpSpPr>
        <p:grpSp>
          <p:nvGrpSpPr>
            <p:cNvPr id="57" name="组合 24612"/>
            <p:cNvGrpSpPr/>
            <p:nvPr/>
          </p:nvGrpSpPr>
          <p:grpSpPr>
            <a:xfrm>
              <a:off x="5867280" y="2438280"/>
              <a:ext cx="1524240" cy="1371600"/>
              <a:chOff x="5867280" y="2438280"/>
              <a:chExt cx="1524240" cy="1371600"/>
            </a:xfrm>
          </p:grpSpPr>
          <p:sp>
            <p:nvSpPr>
              <p:cNvPr id="58" name="圆角矩形 24613"/>
              <p:cNvSpPr/>
              <p:nvPr/>
            </p:nvSpPr>
            <p:spPr>
              <a:xfrm>
                <a:off x="5867280" y="2438280"/>
                <a:ext cx="1524240" cy="1320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9" name="图片 24614" descr="11-6006"/>
              <p:cNvPicPr/>
              <p:nvPr/>
            </p:nvPicPr>
            <p:blipFill>
              <a:blip r:embed="rId2"/>
              <a:stretch/>
            </p:blipFill>
            <p:spPr>
              <a:xfrm>
                <a:off x="5927760" y="2438280"/>
                <a:ext cx="1440720" cy="137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" name="文本框 24615"/>
            <p:cNvSpPr/>
            <p:nvPr/>
          </p:nvSpPr>
          <p:spPr>
            <a:xfrm>
              <a:off x="5029200" y="28195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放大镜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组合 24633"/>
          <p:cNvGrpSpPr/>
          <p:nvPr/>
        </p:nvGrpSpPr>
        <p:grpSpPr>
          <a:xfrm>
            <a:off x="1371600" y="942840"/>
            <a:ext cx="5638680" cy="5305680"/>
            <a:chOff x="1371600" y="942840"/>
            <a:chExt cx="5638680" cy="5305680"/>
          </a:xfrm>
        </p:grpSpPr>
        <p:sp>
          <p:nvSpPr>
            <p:cNvPr id="62" name="文本框 24596"/>
            <p:cNvSpPr/>
            <p:nvPr/>
          </p:nvSpPr>
          <p:spPr>
            <a:xfrm>
              <a:off x="1371600" y="942840"/>
              <a:ext cx="5638680" cy="428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imes New Roman"/>
                  <a:ea typeface="黑体"/>
                </a:rPr>
                <a:t>透镜分类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凸透镜：中间厚，边缘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凹透镜：中间薄，边缘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组合 24632"/>
            <p:cNvGrpSpPr/>
            <p:nvPr/>
          </p:nvGrpSpPr>
          <p:grpSpPr>
            <a:xfrm>
              <a:off x="1905120" y="2286000"/>
              <a:ext cx="2286000" cy="3962520"/>
              <a:chOff x="1905120" y="2286000"/>
              <a:chExt cx="2286000" cy="3962520"/>
            </a:xfrm>
          </p:grpSpPr>
          <p:sp>
            <p:nvSpPr>
              <p:cNvPr id="64" name="文本框 24610"/>
              <p:cNvSpPr/>
              <p:nvPr/>
            </p:nvSpPr>
            <p:spPr>
              <a:xfrm>
                <a:off x="1905120" y="2819520"/>
                <a:ext cx="1744560" cy="26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老花镜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Times New Roman"/>
                  </a:rPr>
                  <a:t>近视镜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" name="图片 24630" descr="11-6009"/>
              <p:cNvPicPr/>
              <p:nvPr/>
            </p:nvPicPr>
            <p:blipFill>
              <a:blip r:embed="rId3"/>
              <a:stretch/>
            </p:blipFill>
            <p:spPr>
              <a:xfrm>
                <a:off x="3657600" y="4572000"/>
                <a:ext cx="533520" cy="167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图片 24631" descr="11-6005"/>
              <p:cNvPicPr/>
              <p:nvPr/>
            </p:nvPicPr>
            <p:blipFill>
              <a:blip r:embed="rId4"/>
              <a:stretch/>
            </p:blipFill>
            <p:spPr>
              <a:xfrm>
                <a:off x="3733920" y="2286000"/>
                <a:ext cx="339480" cy="160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23580"/>
          <p:cNvGrpSpPr/>
          <p:nvPr/>
        </p:nvGrpSpPr>
        <p:grpSpPr>
          <a:xfrm>
            <a:off x="-23760" y="88920"/>
            <a:ext cx="9144000" cy="6858000"/>
            <a:chOff x="-23760" y="88920"/>
            <a:chExt cx="9144000" cy="6858000"/>
          </a:xfrm>
        </p:grpSpPr>
        <p:pic>
          <p:nvPicPr>
            <p:cNvPr id="68" name="图片 23581" descr=""/>
            <p:cNvPicPr/>
            <p:nvPr/>
          </p:nvPicPr>
          <p:blipFill>
            <a:blip r:embed="rId1"/>
            <a:stretch/>
          </p:blipFill>
          <p:spPr>
            <a:xfrm>
              <a:off x="-23760" y="889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3583"/>
            <p:cNvSpPr/>
            <p:nvPr/>
          </p:nvSpPr>
          <p:spPr>
            <a:xfrm>
              <a:off x="1347840" y="1536840"/>
              <a:ext cx="6934320" cy="5105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矩形 23571"/>
          <p:cNvSpPr txBox="1"/>
          <p:nvPr/>
        </p:nvSpPr>
        <p:spPr>
          <a:xfrm>
            <a:off x="1476360" y="981000"/>
            <a:ext cx="344664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透镜对光的作用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1" name="文本框 23572"/>
          <p:cNvSpPr/>
          <p:nvPr/>
        </p:nvSpPr>
        <p:spPr>
          <a:xfrm>
            <a:off x="1476360" y="1844640"/>
            <a:ext cx="66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器材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柱形透镜、两只激光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观察透镜对光的作用，用光路图表示观察到的现象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图片 23578" descr="11-6007"/>
          <p:cNvPicPr/>
          <p:nvPr/>
        </p:nvPicPr>
        <p:blipFill>
          <a:blip r:embed="rId2"/>
          <a:stretch/>
        </p:blipFill>
        <p:spPr>
          <a:xfrm>
            <a:off x="5562720" y="4191120"/>
            <a:ext cx="3762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3579" descr="11-6003"/>
          <p:cNvPicPr/>
          <p:nvPr/>
        </p:nvPicPr>
        <p:blipFill>
          <a:blip r:embed="rId3"/>
          <a:stretch/>
        </p:blipFill>
        <p:spPr>
          <a:xfrm>
            <a:off x="2627280" y="4149720"/>
            <a:ext cx="304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60427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pic>
          <p:nvPicPr>
            <p:cNvPr id="75" name="图片 60428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60430"/>
            <p:cNvSpPr/>
            <p:nvPr/>
          </p:nvSpPr>
          <p:spPr>
            <a:xfrm>
              <a:off x="1371600" y="1524240"/>
              <a:ext cx="6934320" cy="5105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矩形 60420"/>
          <p:cNvSpPr txBox="1"/>
          <p:nvPr/>
        </p:nvSpPr>
        <p:spPr>
          <a:xfrm>
            <a:off x="1476360" y="907920"/>
            <a:ext cx="344664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透镜对光的作用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8" name="凸、凹透镜的原理.wmv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17604"/>
          <p:cNvGrpSpPr/>
          <p:nvPr/>
        </p:nvGrpSpPr>
        <p:grpSpPr>
          <a:xfrm>
            <a:off x="0" y="76320"/>
            <a:ext cx="9144000" cy="6858000"/>
            <a:chOff x="0" y="76320"/>
            <a:chExt cx="9144000" cy="6858000"/>
          </a:xfrm>
        </p:grpSpPr>
        <p:pic>
          <p:nvPicPr>
            <p:cNvPr id="80" name="图片 17605" descr=""/>
            <p:cNvPicPr/>
            <p:nvPr/>
          </p:nvPicPr>
          <p:blipFill>
            <a:blip r:embed="rId1"/>
            <a:stretch/>
          </p:blipFill>
          <p:spPr>
            <a:xfrm>
              <a:off x="0" y="7632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矩形 17607"/>
            <p:cNvSpPr/>
            <p:nvPr/>
          </p:nvSpPr>
          <p:spPr>
            <a:xfrm>
              <a:off x="1371600" y="1524240"/>
              <a:ext cx="6934320" cy="510516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文本框 17429"/>
          <p:cNvSpPr/>
          <p:nvPr/>
        </p:nvSpPr>
        <p:spPr>
          <a:xfrm>
            <a:off x="1332000" y="765000"/>
            <a:ext cx="731520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透镜对光线的作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凸透镜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会聚透镜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对光有会聚作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凹透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发散透镜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：对光有发散作用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7550"/>
          <p:cNvSpPr/>
          <p:nvPr/>
        </p:nvSpPr>
        <p:spPr>
          <a:xfrm>
            <a:off x="1371600" y="1295280"/>
            <a:ext cx="6934320" cy="5105520"/>
          </a:xfrm>
          <a:prstGeom prst="rect">
            <a:avLst/>
          </a:prstGeom>
          <a:noFill/>
          <a:ln w="381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组合 17591"/>
          <p:cNvGrpSpPr/>
          <p:nvPr/>
        </p:nvGrpSpPr>
        <p:grpSpPr>
          <a:xfrm>
            <a:off x="2960640" y="4276440"/>
            <a:ext cx="3694320" cy="2121120"/>
            <a:chOff x="2960640" y="4276440"/>
            <a:chExt cx="3694320" cy="2121120"/>
          </a:xfrm>
        </p:grpSpPr>
        <p:pic>
          <p:nvPicPr>
            <p:cNvPr id="85" name="图片 17551" descr="11-6007"/>
            <p:cNvPicPr/>
            <p:nvPr/>
          </p:nvPicPr>
          <p:blipFill>
            <a:blip r:embed="rId2"/>
            <a:stretch/>
          </p:blipFill>
          <p:spPr>
            <a:xfrm>
              <a:off x="4698720" y="4651560"/>
              <a:ext cx="31752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组合 17564"/>
            <p:cNvGrpSpPr/>
            <p:nvPr/>
          </p:nvGrpSpPr>
          <p:grpSpPr>
            <a:xfrm>
              <a:off x="2960640" y="4880160"/>
              <a:ext cx="1801440" cy="0"/>
              <a:chOff x="2960640" y="4880160"/>
              <a:chExt cx="1801440" cy="0"/>
            </a:xfrm>
          </p:grpSpPr>
          <p:sp>
            <p:nvSpPr>
              <p:cNvPr id="87" name="直接连接符 17562"/>
              <p:cNvSpPr/>
              <p:nvPr/>
            </p:nvSpPr>
            <p:spPr>
              <a:xfrm>
                <a:off x="2960640" y="488016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直接连接符 17563"/>
              <p:cNvSpPr/>
              <p:nvPr/>
            </p:nvSpPr>
            <p:spPr>
              <a:xfrm>
                <a:off x="3603960" y="4880160"/>
                <a:ext cx="115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组合 17565"/>
            <p:cNvGrpSpPr/>
            <p:nvPr/>
          </p:nvGrpSpPr>
          <p:grpSpPr>
            <a:xfrm>
              <a:off x="2960640" y="5794560"/>
              <a:ext cx="1801440" cy="0"/>
              <a:chOff x="2960640" y="5794560"/>
              <a:chExt cx="1801440" cy="0"/>
            </a:xfrm>
          </p:grpSpPr>
          <p:sp>
            <p:nvSpPr>
              <p:cNvPr id="90" name="直接连接符 17566"/>
              <p:cNvSpPr/>
              <p:nvPr/>
            </p:nvSpPr>
            <p:spPr>
              <a:xfrm>
                <a:off x="2960640" y="579456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直接连接符 17567"/>
              <p:cNvSpPr/>
              <p:nvPr/>
            </p:nvSpPr>
            <p:spPr>
              <a:xfrm>
                <a:off x="3603960" y="5794560"/>
                <a:ext cx="115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组合 17568"/>
            <p:cNvGrpSpPr/>
            <p:nvPr/>
          </p:nvGrpSpPr>
          <p:grpSpPr>
            <a:xfrm>
              <a:off x="4941720" y="4276440"/>
              <a:ext cx="1699920" cy="595440"/>
              <a:chOff x="4941720" y="4276440"/>
              <a:chExt cx="1699920" cy="595440"/>
            </a:xfrm>
          </p:grpSpPr>
          <p:sp>
            <p:nvSpPr>
              <p:cNvPr id="93" name="直接连接符 17569"/>
              <p:cNvSpPr/>
              <p:nvPr/>
            </p:nvSpPr>
            <p:spPr>
              <a:xfrm flipV="1">
                <a:off x="4941720" y="4574160"/>
                <a:ext cx="849960" cy="29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直接连接符 17570"/>
              <p:cNvSpPr/>
              <p:nvPr/>
            </p:nvSpPr>
            <p:spPr>
              <a:xfrm flipV="1">
                <a:off x="5548680" y="4276440"/>
                <a:ext cx="1092960" cy="3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组合 17571"/>
            <p:cNvGrpSpPr/>
            <p:nvPr/>
          </p:nvGrpSpPr>
          <p:grpSpPr>
            <a:xfrm>
              <a:off x="4947120" y="5824440"/>
              <a:ext cx="1707840" cy="573120"/>
              <a:chOff x="4947120" y="5824440"/>
              <a:chExt cx="1707840" cy="573120"/>
            </a:xfrm>
          </p:grpSpPr>
          <p:sp>
            <p:nvSpPr>
              <p:cNvPr id="96" name="直接连接符 17572"/>
              <p:cNvSpPr/>
              <p:nvPr/>
            </p:nvSpPr>
            <p:spPr>
              <a:xfrm>
                <a:off x="4947120" y="5824440"/>
                <a:ext cx="853920" cy="286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直接连接符 17573"/>
              <p:cNvSpPr/>
              <p:nvPr/>
            </p:nvSpPr>
            <p:spPr>
              <a:xfrm>
                <a:off x="5556960" y="6029280"/>
                <a:ext cx="1098000" cy="368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组合 17596"/>
          <p:cNvGrpSpPr/>
          <p:nvPr/>
        </p:nvGrpSpPr>
        <p:grpSpPr>
          <a:xfrm>
            <a:off x="2971800" y="2133720"/>
            <a:ext cx="3588480" cy="1523880"/>
            <a:chOff x="2971800" y="2133720"/>
            <a:chExt cx="3588480" cy="1523880"/>
          </a:xfrm>
        </p:grpSpPr>
        <p:pic>
          <p:nvPicPr>
            <p:cNvPr id="99" name="图片 17552" descr="11-6003"/>
            <p:cNvPicPr/>
            <p:nvPr/>
          </p:nvPicPr>
          <p:blipFill>
            <a:blip r:embed="rId3"/>
            <a:stretch/>
          </p:blipFill>
          <p:spPr>
            <a:xfrm>
              <a:off x="4697280" y="2133720"/>
              <a:ext cx="304920" cy="152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组合 17579"/>
            <p:cNvGrpSpPr/>
            <p:nvPr/>
          </p:nvGrpSpPr>
          <p:grpSpPr>
            <a:xfrm>
              <a:off x="2971800" y="2514600"/>
              <a:ext cx="1801440" cy="0"/>
              <a:chOff x="2971800" y="2514600"/>
              <a:chExt cx="1801440" cy="0"/>
            </a:xfrm>
          </p:grpSpPr>
          <p:sp>
            <p:nvSpPr>
              <p:cNvPr id="101" name="直接连接符 17580"/>
              <p:cNvSpPr/>
              <p:nvPr/>
            </p:nvSpPr>
            <p:spPr>
              <a:xfrm>
                <a:off x="2971800" y="251460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直接连接符 17581"/>
              <p:cNvSpPr/>
              <p:nvPr/>
            </p:nvSpPr>
            <p:spPr>
              <a:xfrm>
                <a:off x="3615120" y="2514600"/>
                <a:ext cx="115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组合 17582"/>
            <p:cNvGrpSpPr/>
            <p:nvPr/>
          </p:nvGrpSpPr>
          <p:grpSpPr>
            <a:xfrm>
              <a:off x="2971800" y="3429000"/>
              <a:ext cx="1801440" cy="0"/>
              <a:chOff x="2971800" y="3429000"/>
              <a:chExt cx="1801440" cy="0"/>
            </a:xfrm>
          </p:grpSpPr>
          <p:sp>
            <p:nvSpPr>
              <p:cNvPr id="104" name="直接连接符 17583"/>
              <p:cNvSpPr/>
              <p:nvPr/>
            </p:nvSpPr>
            <p:spPr>
              <a:xfrm>
                <a:off x="2971800" y="342900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直接连接符 17584"/>
              <p:cNvSpPr/>
              <p:nvPr/>
            </p:nvSpPr>
            <p:spPr>
              <a:xfrm>
                <a:off x="3615120" y="3429000"/>
                <a:ext cx="1158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组合 17585"/>
            <p:cNvGrpSpPr/>
            <p:nvPr/>
          </p:nvGrpSpPr>
          <p:grpSpPr>
            <a:xfrm>
              <a:off x="4941720" y="2500200"/>
              <a:ext cx="1618560" cy="791280"/>
              <a:chOff x="4941720" y="2500200"/>
              <a:chExt cx="1618560" cy="791280"/>
            </a:xfrm>
          </p:grpSpPr>
          <p:sp>
            <p:nvSpPr>
              <p:cNvPr id="107" name="直接连接符 17586"/>
              <p:cNvSpPr/>
              <p:nvPr/>
            </p:nvSpPr>
            <p:spPr>
              <a:xfrm>
                <a:off x="4941720" y="2500200"/>
                <a:ext cx="809280" cy="3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直接连接符 17587"/>
              <p:cNvSpPr/>
              <p:nvPr/>
            </p:nvSpPr>
            <p:spPr>
              <a:xfrm>
                <a:off x="5519880" y="2782800"/>
                <a:ext cx="1040400" cy="50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组合 17592"/>
            <p:cNvGrpSpPr/>
            <p:nvPr/>
          </p:nvGrpSpPr>
          <p:grpSpPr>
            <a:xfrm>
              <a:off x="4892400" y="2652480"/>
              <a:ext cx="1618560" cy="791280"/>
              <a:chOff x="4892400" y="2652480"/>
              <a:chExt cx="1618560" cy="791280"/>
            </a:xfrm>
          </p:grpSpPr>
          <p:sp>
            <p:nvSpPr>
              <p:cNvPr id="110" name="直接连接符 17593"/>
              <p:cNvSpPr/>
              <p:nvPr/>
            </p:nvSpPr>
            <p:spPr>
              <a:xfrm flipV="1">
                <a:off x="4892400" y="3048120"/>
                <a:ext cx="809280" cy="39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直接连接符 17594"/>
              <p:cNvSpPr/>
              <p:nvPr/>
            </p:nvSpPr>
            <p:spPr>
              <a:xfrm flipV="1">
                <a:off x="5470560" y="2652480"/>
                <a:ext cx="1040400" cy="50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53250" descr=""/>
          <p:cNvPicPr/>
          <p:nvPr/>
        </p:nvPicPr>
        <p:blipFill>
          <a:blip r:embed="rId1"/>
          <a:stretch/>
        </p:blipFill>
        <p:spPr>
          <a:xfrm>
            <a:off x="0" y="-1219320"/>
            <a:ext cx="9144000" cy="6324840"/>
          </a:xfrm>
          <a:prstGeom prst="rect">
            <a:avLst/>
          </a:prstGeom>
          <a:ln w="0">
            <a:noFill/>
          </a:ln>
        </p:spPr>
      </p:pic>
      <p:sp>
        <p:nvSpPr>
          <p:cNvPr id="113" name="矩形 53259"/>
          <p:cNvSpPr txBox="1"/>
          <p:nvPr/>
        </p:nvSpPr>
        <p:spPr>
          <a:xfrm rot="5400000">
            <a:off x="-2133360" y="2133360"/>
            <a:ext cx="518148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有关透镜的名词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grpSp>
        <p:nvGrpSpPr>
          <p:cNvPr id="114" name="组合 53359"/>
          <p:cNvGrpSpPr/>
          <p:nvPr/>
        </p:nvGrpSpPr>
        <p:grpSpPr>
          <a:xfrm>
            <a:off x="2438280" y="914400"/>
            <a:ext cx="3200400" cy="1828800"/>
            <a:chOff x="2438280" y="914400"/>
            <a:chExt cx="3200400" cy="1828800"/>
          </a:xfrm>
        </p:grpSpPr>
        <p:grpSp>
          <p:nvGrpSpPr>
            <p:cNvPr id="115" name="组合 53360"/>
            <p:cNvGrpSpPr/>
            <p:nvPr/>
          </p:nvGrpSpPr>
          <p:grpSpPr>
            <a:xfrm>
              <a:off x="3962520" y="990360"/>
              <a:ext cx="1676160" cy="1676520"/>
              <a:chOff x="3962520" y="990360"/>
              <a:chExt cx="1676160" cy="1676520"/>
            </a:xfrm>
          </p:grpSpPr>
          <p:sp>
            <p:nvSpPr>
              <p:cNvPr id="116" name="椭圆 53361"/>
              <p:cNvSpPr/>
              <p:nvPr/>
            </p:nvSpPr>
            <p:spPr>
              <a:xfrm>
                <a:off x="3962520" y="990360"/>
                <a:ext cx="1676160" cy="167652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" name="对象 53362" descr=""/>
              <p:cNvPicPr/>
              <p:nvPr/>
            </p:nvPicPr>
            <p:blipFill>
              <a:blip r:embed="rId2"/>
              <a:stretch/>
            </p:blipFill>
            <p:spPr>
              <a:xfrm>
                <a:off x="4724280" y="1752480"/>
                <a:ext cx="2286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组合 53363"/>
            <p:cNvGrpSpPr/>
            <p:nvPr/>
          </p:nvGrpSpPr>
          <p:grpSpPr>
            <a:xfrm>
              <a:off x="2438280" y="914400"/>
              <a:ext cx="1828800" cy="1828800"/>
              <a:chOff x="2438280" y="914400"/>
              <a:chExt cx="1828800" cy="1828800"/>
            </a:xfrm>
          </p:grpSpPr>
          <p:sp>
            <p:nvSpPr>
              <p:cNvPr id="119" name="椭圆 53364"/>
              <p:cNvSpPr/>
              <p:nvPr/>
            </p:nvSpPr>
            <p:spPr>
              <a:xfrm>
                <a:off x="2438280" y="914400"/>
                <a:ext cx="1828800" cy="1828800"/>
              </a:xfrm>
              <a:prstGeom prst="ellips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0" name="对象 53365" descr=""/>
              <p:cNvPicPr/>
              <p:nvPr/>
            </p:nvPicPr>
            <p:blipFill>
              <a:blip r:embed="rId3"/>
              <a:stretch/>
            </p:blipFill>
            <p:spPr>
              <a:xfrm>
                <a:off x="3276720" y="1761840"/>
                <a:ext cx="228600" cy="203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1" name="对象 53366" descr=""/>
          <p:cNvPicPr/>
          <p:nvPr/>
        </p:nvPicPr>
        <p:blipFill>
          <a:blip r:embed="rId4"/>
          <a:stretch/>
        </p:blipFill>
        <p:spPr>
          <a:xfrm>
            <a:off x="3962520" y="1295280"/>
            <a:ext cx="352440" cy="1067040"/>
          </a:xfrm>
          <a:prstGeom prst="rect">
            <a:avLst/>
          </a:prstGeom>
          <a:ln w="0">
            <a:noFill/>
          </a:ln>
        </p:spPr>
      </p:pic>
      <p:grpSp>
        <p:nvGrpSpPr>
          <p:cNvPr id="122" name="组合 53367"/>
          <p:cNvGrpSpPr/>
          <p:nvPr/>
        </p:nvGrpSpPr>
        <p:grpSpPr>
          <a:xfrm>
            <a:off x="1752480" y="914400"/>
            <a:ext cx="5991480" cy="915840"/>
            <a:chOff x="1752480" y="914400"/>
            <a:chExt cx="5991480" cy="915840"/>
          </a:xfrm>
        </p:grpSpPr>
        <p:sp>
          <p:nvSpPr>
            <p:cNvPr id="123" name="直接连接符 53368"/>
            <p:cNvSpPr/>
            <p:nvPr/>
          </p:nvSpPr>
          <p:spPr>
            <a:xfrm>
              <a:off x="1752480" y="1828800"/>
              <a:ext cx="534852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lg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圆角矩形标注 53369"/>
            <p:cNvSpPr/>
            <p:nvPr/>
          </p:nvSpPr>
          <p:spPr>
            <a:xfrm>
              <a:off x="6705720" y="914400"/>
              <a:ext cx="1038240" cy="457200"/>
            </a:xfrm>
            <a:prstGeom prst="wedgeRoundRectCallout">
              <a:avLst>
                <a:gd name="adj1" fmla="val -47250"/>
                <a:gd name="adj2" fmla="val 15347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主光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组合 53370"/>
          <p:cNvGrpSpPr/>
          <p:nvPr/>
        </p:nvGrpSpPr>
        <p:grpSpPr>
          <a:xfrm>
            <a:off x="4038480" y="685800"/>
            <a:ext cx="1328760" cy="1211040"/>
            <a:chOff x="4038480" y="685800"/>
            <a:chExt cx="1328760" cy="1211040"/>
          </a:xfrm>
        </p:grpSpPr>
        <p:pic>
          <p:nvPicPr>
            <p:cNvPr id="126" name="对象 53371" descr=""/>
            <p:cNvPicPr/>
            <p:nvPr/>
          </p:nvPicPr>
          <p:blipFill>
            <a:blip r:embed="rId5"/>
            <a:stretch/>
          </p:blipFill>
          <p:spPr>
            <a:xfrm>
              <a:off x="4038480" y="1752480"/>
              <a:ext cx="162000" cy="1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圆角矩形标注 53372"/>
            <p:cNvSpPr/>
            <p:nvPr/>
          </p:nvSpPr>
          <p:spPr>
            <a:xfrm>
              <a:off x="4648320" y="685800"/>
              <a:ext cx="718920" cy="380880"/>
            </a:xfrm>
            <a:prstGeom prst="wedgeRoundRectCallout">
              <a:avLst>
                <a:gd name="adj1" fmla="val -120199"/>
                <a:gd name="adj2" fmla="val 23416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光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组合 53378"/>
          <p:cNvGrpSpPr/>
          <p:nvPr/>
        </p:nvGrpSpPr>
        <p:grpSpPr>
          <a:xfrm>
            <a:off x="1752480" y="1447920"/>
            <a:ext cx="2286000" cy="723960"/>
            <a:chOff x="1752480" y="1447920"/>
            <a:chExt cx="2286000" cy="723960"/>
          </a:xfrm>
        </p:grpSpPr>
        <p:grpSp>
          <p:nvGrpSpPr>
            <p:cNvPr id="129" name="组合 53379"/>
            <p:cNvGrpSpPr/>
            <p:nvPr/>
          </p:nvGrpSpPr>
          <p:grpSpPr>
            <a:xfrm>
              <a:off x="1752480" y="1447920"/>
              <a:ext cx="2286000" cy="0"/>
              <a:chOff x="1752480" y="1447920"/>
              <a:chExt cx="2286000" cy="0"/>
            </a:xfrm>
          </p:grpSpPr>
          <p:sp>
            <p:nvSpPr>
              <p:cNvPr id="130" name="直接连接符 53380"/>
              <p:cNvSpPr/>
              <p:nvPr/>
            </p:nvSpPr>
            <p:spPr>
              <a:xfrm>
                <a:off x="1752480" y="1447920"/>
                <a:ext cx="144792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直接连接符 53381"/>
              <p:cNvSpPr/>
              <p:nvPr/>
            </p:nvSpPr>
            <p:spPr>
              <a:xfrm>
                <a:off x="3048120" y="1447920"/>
                <a:ext cx="99036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组合 53382"/>
            <p:cNvGrpSpPr/>
            <p:nvPr/>
          </p:nvGrpSpPr>
          <p:grpSpPr>
            <a:xfrm>
              <a:off x="1752480" y="2171880"/>
              <a:ext cx="2286000" cy="0"/>
              <a:chOff x="1752480" y="2171880"/>
              <a:chExt cx="2286000" cy="0"/>
            </a:xfrm>
          </p:grpSpPr>
          <p:sp>
            <p:nvSpPr>
              <p:cNvPr id="133" name="直接连接符 53383"/>
              <p:cNvSpPr/>
              <p:nvPr/>
            </p:nvSpPr>
            <p:spPr>
              <a:xfrm>
                <a:off x="1752480" y="2171880"/>
                <a:ext cx="144792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直接连接符 53384"/>
              <p:cNvSpPr/>
              <p:nvPr/>
            </p:nvSpPr>
            <p:spPr>
              <a:xfrm>
                <a:off x="3048120" y="2171880"/>
                <a:ext cx="99036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组合 53401"/>
          <p:cNvGrpSpPr/>
          <p:nvPr/>
        </p:nvGrpSpPr>
        <p:grpSpPr>
          <a:xfrm>
            <a:off x="4199040" y="1308240"/>
            <a:ext cx="2118240" cy="1002960"/>
            <a:chOff x="4199040" y="1308240"/>
            <a:chExt cx="2118240" cy="1002960"/>
          </a:xfrm>
        </p:grpSpPr>
        <p:grpSp>
          <p:nvGrpSpPr>
            <p:cNvPr id="136" name="组合 53375"/>
            <p:cNvGrpSpPr/>
            <p:nvPr/>
          </p:nvGrpSpPr>
          <p:grpSpPr>
            <a:xfrm>
              <a:off x="4199040" y="1451880"/>
              <a:ext cx="2118240" cy="859320"/>
              <a:chOff x="4199040" y="1451880"/>
              <a:chExt cx="2118240" cy="859320"/>
            </a:xfrm>
          </p:grpSpPr>
          <p:sp>
            <p:nvSpPr>
              <p:cNvPr id="137" name="直接连接符 53376"/>
              <p:cNvSpPr/>
              <p:nvPr/>
            </p:nvSpPr>
            <p:spPr>
              <a:xfrm>
                <a:off x="4199040" y="1451880"/>
                <a:ext cx="1341720" cy="54432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直接连接符 53377"/>
              <p:cNvSpPr/>
              <p:nvPr/>
            </p:nvSpPr>
            <p:spPr>
              <a:xfrm>
                <a:off x="5399640" y="1938960"/>
                <a:ext cx="917640" cy="37224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组合 53385"/>
            <p:cNvGrpSpPr/>
            <p:nvPr/>
          </p:nvGrpSpPr>
          <p:grpSpPr>
            <a:xfrm>
              <a:off x="4199040" y="1308240"/>
              <a:ext cx="2118240" cy="859320"/>
              <a:chOff x="4199040" y="1308240"/>
              <a:chExt cx="2118240" cy="859320"/>
            </a:xfrm>
          </p:grpSpPr>
          <p:sp>
            <p:nvSpPr>
              <p:cNvPr id="140" name="直接连接符 53386"/>
              <p:cNvSpPr/>
              <p:nvPr/>
            </p:nvSpPr>
            <p:spPr>
              <a:xfrm flipV="1">
                <a:off x="4199040" y="1623240"/>
                <a:ext cx="1341720" cy="54432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直接连接符 53387"/>
              <p:cNvSpPr/>
              <p:nvPr/>
            </p:nvSpPr>
            <p:spPr>
              <a:xfrm flipV="1">
                <a:off x="5399640" y="1308240"/>
                <a:ext cx="917640" cy="372240"/>
              </a:xfrm>
              <a:prstGeom prst="line">
                <a:avLst/>
              </a:prstGeom>
              <a:ln w="381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组合 53388"/>
          <p:cNvGrpSpPr/>
          <p:nvPr/>
        </p:nvGrpSpPr>
        <p:grpSpPr>
          <a:xfrm>
            <a:off x="5072040" y="1736640"/>
            <a:ext cx="1033200" cy="1158840"/>
            <a:chOff x="5072040" y="1736640"/>
            <a:chExt cx="1033200" cy="1158840"/>
          </a:xfrm>
        </p:grpSpPr>
        <p:sp>
          <p:nvSpPr>
            <p:cNvPr id="143" name="椭圆 53389"/>
            <p:cNvSpPr/>
            <p:nvPr/>
          </p:nvSpPr>
          <p:spPr>
            <a:xfrm>
              <a:off x="5072040" y="1736640"/>
              <a:ext cx="73800" cy="144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圆角矩形标注 53390"/>
            <p:cNvSpPr/>
            <p:nvPr/>
          </p:nvSpPr>
          <p:spPr>
            <a:xfrm>
              <a:off x="5219640" y="2460960"/>
              <a:ext cx="885600" cy="434520"/>
            </a:xfrm>
            <a:prstGeom prst="wedgeRoundRectCallout">
              <a:avLst>
                <a:gd name="adj1" fmla="val -56250"/>
                <a:gd name="adj2" fmla="val -175694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焦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组合 53391"/>
          <p:cNvGrpSpPr/>
          <p:nvPr/>
        </p:nvGrpSpPr>
        <p:grpSpPr>
          <a:xfrm>
            <a:off x="4114800" y="1828800"/>
            <a:ext cx="990720" cy="1678680"/>
            <a:chOff x="4114800" y="1828800"/>
            <a:chExt cx="990720" cy="1678680"/>
          </a:xfrm>
        </p:grpSpPr>
        <p:sp>
          <p:nvSpPr>
            <p:cNvPr id="146" name="左大括号 53392"/>
            <p:cNvSpPr/>
            <p:nvPr/>
          </p:nvSpPr>
          <p:spPr>
            <a:xfrm flipV="1" rot="16200000">
              <a:off x="4000680" y="1942920"/>
              <a:ext cx="1218960" cy="990720"/>
            </a:xfrm>
            <a:custGeom>
              <a:avLst/>
              <a:gdLst>
                <a:gd name="textAreaLeft" fmla="*/ 778680 w 1218960"/>
                <a:gd name="textAreaRight" fmla="*/ 1219320 w 12189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文本框 53393"/>
            <p:cNvSpPr/>
            <p:nvPr/>
          </p:nvSpPr>
          <p:spPr>
            <a:xfrm>
              <a:off x="4114800" y="30477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焦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组合 53400"/>
          <p:cNvGrpSpPr/>
          <p:nvPr/>
        </p:nvGrpSpPr>
        <p:grpSpPr>
          <a:xfrm>
            <a:off x="228600" y="3886200"/>
            <a:ext cx="8534160" cy="2590920"/>
            <a:chOff x="228600" y="3886200"/>
            <a:chExt cx="8534160" cy="2590920"/>
          </a:xfrm>
        </p:grpSpPr>
        <p:sp>
          <p:nvSpPr>
            <p:cNvPr id="149" name="文本框 53260"/>
            <p:cNvSpPr/>
            <p:nvPr/>
          </p:nvSpPr>
          <p:spPr>
            <a:xfrm>
              <a:off x="914400" y="3962520"/>
              <a:ext cx="78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思考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怎样完成下列光路图，为什么？并体会主光轴的作用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组合 53398"/>
            <p:cNvGrpSpPr/>
            <p:nvPr/>
          </p:nvGrpSpPr>
          <p:grpSpPr>
            <a:xfrm>
              <a:off x="533160" y="5105520"/>
              <a:ext cx="3886200" cy="1218960"/>
              <a:chOff x="533160" y="5105520"/>
              <a:chExt cx="3886200" cy="1218960"/>
            </a:xfrm>
          </p:grpSpPr>
          <p:grpSp>
            <p:nvGrpSpPr>
              <p:cNvPr id="151" name="组合 53265"/>
              <p:cNvGrpSpPr/>
              <p:nvPr/>
            </p:nvGrpSpPr>
            <p:grpSpPr>
              <a:xfrm>
                <a:off x="914040" y="5409360"/>
                <a:ext cx="1792080" cy="0"/>
                <a:chOff x="914040" y="5409360"/>
                <a:chExt cx="1792080" cy="0"/>
              </a:xfrm>
            </p:grpSpPr>
            <p:sp>
              <p:nvSpPr>
                <p:cNvPr id="152" name="直接连接符 53266"/>
                <p:cNvSpPr/>
                <p:nvPr/>
              </p:nvSpPr>
              <p:spPr>
                <a:xfrm>
                  <a:off x="914040" y="5409360"/>
                  <a:ext cx="92484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  <a:tailEnd len="lg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直接连接符 53267"/>
                <p:cNvSpPr/>
                <p:nvPr/>
              </p:nvSpPr>
              <p:spPr>
                <a:xfrm>
                  <a:off x="1665360" y="5409360"/>
                  <a:ext cx="1040760" cy="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4" name="图片 53263" descr="11-6003"/>
              <p:cNvPicPr/>
              <p:nvPr/>
            </p:nvPicPr>
            <p:blipFill>
              <a:blip r:embed="rId6"/>
              <a:stretch/>
            </p:blipFill>
            <p:spPr>
              <a:xfrm>
                <a:off x="2566800" y="5105520"/>
                <a:ext cx="25236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直接连接符 53291"/>
              <p:cNvSpPr/>
              <p:nvPr/>
            </p:nvSpPr>
            <p:spPr>
              <a:xfrm>
                <a:off x="533160" y="5714640"/>
                <a:ext cx="3886200" cy="0"/>
              </a:xfrm>
              <a:prstGeom prst="line">
                <a:avLst/>
              </a:prstGeom>
              <a:ln w="38160">
                <a:solidFill>
                  <a:srgbClr val="ff3399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椭圆 53294"/>
              <p:cNvSpPr/>
              <p:nvPr/>
            </p:nvSpPr>
            <p:spPr>
              <a:xfrm>
                <a:off x="1399680" y="5646600"/>
                <a:ext cx="69840" cy="13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椭圆 53296"/>
              <p:cNvSpPr/>
              <p:nvPr/>
            </p:nvSpPr>
            <p:spPr>
              <a:xfrm>
                <a:off x="3858840" y="5646600"/>
                <a:ext cx="69840" cy="13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椭圆 53297"/>
              <p:cNvSpPr/>
              <p:nvPr/>
            </p:nvSpPr>
            <p:spPr>
              <a:xfrm>
                <a:off x="2663640" y="5646600"/>
                <a:ext cx="71280" cy="13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组合 53399"/>
            <p:cNvGrpSpPr/>
            <p:nvPr/>
          </p:nvGrpSpPr>
          <p:grpSpPr>
            <a:xfrm>
              <a:off x="4952880" y="5181480"/>
              <a:ext cx="3733920" cy="1143000"/>
              <a:chOff x="4952880" y="5181480"/>
              <a:chExt cx="3733920" cy="1143000"/>
            </a:xfrm>
          </p:grpSpPr>
          <p:pic>
            <p:nvPicPr>
              <p:cNvPr id="160" name="图片 53300" descr="11-6003"/>
              <p:cNvPicPr/>
              <p:nvPr/>
            </p:nvPicPr>
            <p:blipFill>
              <a:blip r:embed="rId7"/>
              <a:stretch/>
            </p:blipFill>
            <p:spPr>
              <a:xfrm>
                <a:off x="6848280" y="5181480"/>
                <a:ext cx="221760" cy="114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直接连接符 53301"/>
              <p:cNvSpPr/>
              <p:nvPr/>
            </p:nvSpPr>
            <p:spPr>
              <a:xfrm>
                <a:off x="4952880" y="5719320"/>
                <a:ext cx="3733920" cy="0"/>
              </a:xfrm>
              <a:prstGeom prst="line">
                <a:avLst/>
              </a:prstGeom>
              <a:ln w="38160">
                <a:solidFill>
                  <a:srgbClr val="ff3399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椭圆 53304"/>
              <p:cNvSpPr/>
              <p:nvPr/>
            </p:nvSpPr>
            <p:spPr>
              <a:xfrm>
                <a:off x="6935040" y="5689800"/>
                <a:ext cx="61560" cy="12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组合 53308"/>
              <p:cNvGrpSpPr/>
              <p:nvPr/>
            </p:nvGrpSpPr>
            <p:grpSpPr>
              <a:xfrm>
                <a:off x="6976800" y="5485680"/>
                <a:ext cx="1593000" cy="682200"/>
                <a:chOff x="6976800" y="5485680"/>
                <a:chExt cx="1593000" cy="682200"/>
              </a:xfrm>
            </p:grpSpPr>
            <p:sp>
              <p:nvSpPr>
                <p:cNvPr id="164" name="直接连接符 53309"/>
                <p:cNvSpPr/>
                <p:nvPr/>
              </p:nvSpPr>
              <p:spPr>
                <a:xfrm flipV="1">
                  <a:off x="6976800" y="5997240"/>
                  <a:ext cx="398160" cy="17064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  <a:tailEnd len="lg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直接连接符 53310"/>
                <p:cNvSpPr/>
                <p:nvPr/>
              </p:nvSpPr>
              <p:spPr>
                <a:xfrm flipV="1">
                  <a:off x="7325280" y="5485680"/>
                  <a:ext cx="1244520" cy="53280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椭圆 53303"/>
              <p:cNvSpPr/>
              <p:nvPr/>
            </p:nvSpPr>
            <p:spPr>
              <a:xfrm>
                <a:off x="7979400" y="5689800"/>
                <a:ext cx="61560" cy="12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椭圆 53302"/>
              <p:cNvSpPr/>
              <p:nvPr/>
            </p:nvSpPr>
            <p:spPr>
              <a:xfrm>
                <a:off x="5828400" y="5689800"/>
                <a:ext cx="61920" cy="126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矩形 53395"/>
            <p:cNvSpPr/>
            <p:nvPr/>
          </p:nvSpPr>
          <p:spPr>
            <a:xfrm>
              <a:off x="228600" y="3886200"/>
              <a:ext cx="853416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组合 53402"/>
          <p:cNvGrpSpPr/>
          <p:nvPr/>
        </p:nvGrpSpPr>
        <p:grpSpPr>
          <a:xfrm>
            <a:off x="2057400" y="1752480"/>
            <a:ext cx="1033200" cy="1158840"/>
            <a:chOff x="2057400" y="1752480"/>
            <a:chExt cx="1033200" cy="1158840"/>
          </a:xfrm>
        </p:grpSpPr>
        <p:sp>
          <p:nvSpPr>
            <p:cNvPr id="170" name="椭圆 53403"/>
            <p:cNvSpPr/>
            <p:nvPr/>
          </p:nvSpPr>
          <p:spPr>
            <a:xfrm flipH="1">
              <a:off x="3016440" y="1752480"/>
              <a:ext cx="73800" cy="1447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圆角矩形标注 53404"/>
            <p:cNvSpPr/>
            <p:nvPr/>
          </p:nvSpPr>
          <p:spPr>
            <a:xfrm flipH="1">
              <a:off x="2057400" y="2476800"/>
              <a:ext cx="885600" cy="434520"/>
            </a:xfrm>
            <a:prstGeom prst="wedgeRoundRectCallout">
              <a:avLst>
                <a:gd name="adj1" fmla="val -56250"/>
                <a:gd name="adj2" fmla="val -175694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焦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组合 53405"/>
          <p:cNvGrpSpPr/>
          <p:nvPr/>
        </p:nvGrpSpPr>
        <p:grpSpPr>
          <a:xfrm>
            <a:off x="3048120" y="1828800"/>
            <a:ext cx="1066320" cy="1678680"/>
            <a:chOff x="3048120" y="1828800"/>
            <a:chExt cx="1066320" cy="1678680"/>
          </a:xfrm>
        </p:grpSpPr>
        <p:sp>
          <p:nvSpPr>
            <p:cNvPr id="173" name="左大括号 53406"/>
            <p:cNvSpPr/>
            <p:nvPr/>
          </p:nvSpPr>
          <p:spPr>
            <a:xfrm flipV="1" rot="16200000">
              <a:off x="2971800" y="1905120"/>
              <a:ext cx="1218960" cy="1066320"/>
            </a:xfrm>
            <a:custGeom>
              <a:avLst/>
              <a:gdLst>
                <a:gd name="textAreaLeft" fmla="*/ 778680 w 1218960"/>
                <a:gd name="textAreaRight" fmla="*/ 1219320 w 1218960"/>
                <a:gd name="textAreaTop" fmla="*/ 27720 h 1066320"/>
                <a:gd name="textAreaBottom" fmla="*/ 1038600 h 10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文本框 53407"/>
            <p:cNvSpPr/>
            <p:nvPr/>
          </p:nvSpPr>
          <p:spPr>
            <a:xfrm>
              <a:off x="3048120" y="3047760"/>
              <a:ext cx="9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焦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9233" descr=""/>
          <p:cNvPicPr/>
          <p:nvPr/>
        </p:nvPicPr>
        <p:blipFill>
          <a:blip r:embed="rId1"/>
          <a:stretch/>
        </p:blipFill>
        <p:spPr>
          <a:xfrm>
            <a:off x="-457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9268"/>
          <p:cNvSpPr/>
          <p:nvPr/>
        </p:nvSpPr>
        <p:spPr>
          <a:xfrm>
            <a:off x="5334120" y="1905120"/>
            <a:ext cx="30456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组合 9418"/>
          <p:cNvGrpSpPr/>
          <p:nvPr/>
        </p:nvGrpSpPr>
        <p:grpSpPr>
          <a:xfrm>
            <a:off x="900000" y="620640"/>
            <a:ext cx="8076960" cy="3754440"/>
            <a:chOff x="900000" y="620640"/>
            <a:chExt cx="8076960" cy="3754440"/>
          </a:xfrm>
        </p:grpSpPr>
        <p:grpSp>
          <p:nvGrpSpPr>
            <p:cNvPr id="178" name="组合 9417"/>
            <p:cNvGrpSpPr/>
            <p:nvPr/>
          </p:nvGrpSpPr>
          <p:grpSpPr>
            <a:xfrm>
              <a:off x="2500560" y="3123360"/>
              <a:ext cx="4501800" cy="1111680"/>
              <a:chOff x="2500560" y="3123360"/>
              <a:chExt cx="4501800" cy="1111680"/>
            </a:xfrm>
          </p:grpSpPr>
          <p:sp>
            <p:nvSpPr>
              <p:cNvPr id="179" name="椭圆 9385"/>
              <p:cNvSpPr/>
              <p:nvPr/>
            </p:nvSpPr>
            <p:spPr>
              <a:xfrm flipH="1" flipV="1">
                <a:off x="6484680" y="3123360"/>
                <a:ext cx="517680" cy="111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93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矩形 9335"/>
              <p:cNvSpPr/>
              <p:nvPr/>
            </p:nvSpPr>
            <p:spPr>
              <a:xfrm flipH="1">
                <a:off x="5190120" y="3123360"/>
                <a:ext cx="1465560" cy="10918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1" name="图片 9336" descr="11-6003"/>
              <p:cNvPicPr/>
              <p:nvPr/>
            </p:nvPicPr>
            <p:blipFill>
              <a:blip r:embed="rId2"/>
              <a:stretch/>
            </p:blipFill>
            <p:spPr>
              <a:xfrm flipH="1">
                <a:off x="5067360" y="3214080"/>
                <a:ext cx="258480" cy="1000800"/>
              </a:xfrm>
              <a:prstGeom prst="rect">
                <a:avLst/>
              </a:prstGeom>
              <a:ln w="9360">
                <a:solidFill>
                  <a:srgbClr val="339966"/>
                </a:solidFill>
                <a:miter/>
              </a:ln>
            </p:spPr>
          </p:pic>
          <p:grpSp>
            <p:nvGrpSpPr>
              <p:cNvPr id="182" name="组合 9343"/>
              <p:cNvGrpSpPr/>
              <p:nvPr/>
            </p:nvGrpSpPr>
            <p:grpSpPr>
              <a:xfrm>
                <a:off x="5933880" y="3486600"/>
                <a:ext cx="603360" cy="546840"/>
                <a:chOff x="5933880" y="3486600"/>
                <a:chExt cx="603360" cy="546840"/>
              </a:xfrm>
            </p:grpSpPr>
            <p:grpSp>
              <p:nvGrpSpPr>
                <p:cNvPr id="183" name="组合 9344"/>
                <p:cNvGrpSpPr/>
                <p:nvPr/>
              </p:nvGrpSpPr>
              <p:grpSpPr>
                <a:xfrm>
                  <a:off x="6100200" y="3905280"/>
                  <a:ext cx="272520" cy="128160"/>
                  <a:chOff x="6100200" y="3905280"/>
                  <a:chExt cx="272520" cy="128160"/>
                </a:xfrm>
              </p:grpSpPr>
              <p:grpSp>
                <p:nvGrpSpPr>
                  <p:cNvPr id="184" name="组合 9345"/>
                  <p:cNvGrpSpPr/>
                  <p:nvPr/>
                </p:nvGrpSpPr>
                <p:grpSpPr>
                  <a:xfrm>
                    <a:off x="6100200" y="3905280"/>
                    <a:ext cx="272520" cy="128160"/>
                    <a:chOff x="6100200" y="3905280"/>
                    <a:chExt cx="272520" cy="128160"/>
                  </a:xfrm>
                </p:grpSpPr>
                <p:grpSp>
                  <p:nvGrpSpPr>
                    <p:cNvPr id="185" name="组合 9346"/>
                    <p:cNvGrpSpPr/>
                    <p:nvPr/>
                  </p:nvGrpSpPr>
                  <p:grpSpPr>
                    <a:xfrm>
                      <a:off x="6155640" y="4003920"/>
                      <a:ext cx="148680" cy="29520"/>
                      <a:chOff x="6155640" y="4003920"/>
                      <a:chExt cx="148680" cy="29520"/>
                    </a:xfrm>
                  </p:grpSpPr>
                  <p:sp>
                    <p:nvSpPr>
                      <p:cNvPr id="186" name="任意多边形 9347"/>
                      <p:cNvSpPr/>
                      <p:nvPr/>
                    </p:nvSpPr>
                    <p:spPr>
                      <a:xfrm flipH="1">
                        <a:off x="6155280" y="4003920"/>
                        <a:ext cx="14868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8" h="198">
                            <a:moveTo>
                              <a:pt x="0" y="0"/>
                            </a:moveTo>
                            <a:lnTo>
                              <a:pt x="101" y="157"/>
                            </a:lnTo>
                            <a:lnTo>
                              <a:pt x="110" y="167"/>
                            </a:lnTo>
                            <a:lnTo>
                              <a:pt x="121" y="173"/>
                            </a:lnTo>
                            <a:lnTo>
                              <a:pt x="136" y="178"/>
                            </a:lnTo>
                            <a:lnTo>
                              <a:pt x="153" y="186"/>
                            </a:lnTo>
                            <a:lnTo>
                              <a:pt x="174" y="190"/>
                            </a:lnTo>
                            <a:lnTo>
                              <a:pt x="188" y="191"/>
                            </a:lnTo>
                            <a:lnTo>
                              <a:pt x="205" y="194"/>
                            </a:lnTo>
                            <a:lnTo>
                              <a:pt x="222" y="195"/>
                            </a:lnTo>
                            <a:lnTo>
                              <a:pt x="243" y="198"/>
                            </a:lnTo>
                            <a:lnTo>
                              <a:pt x="257" y="198"/>
                            </a:lnTo>
                            <a:lnTo>
                              <a:pt x="278" y="195"/>
                            </a:lnTo>
                            <a:lnTo>
                              <a:pt x="295" y="194"/>
                            </a:lnTo>
                            <a:lnTo>
                              <a:pt x="315" y="191"/>
                            </a:lnTo>
                            <a:lnTo>
                              <a:pt x="332" y="190"/>
                            </a:lnTo>
                            <a:lnTo>
                              <a:pt x="349" y="185"/>
                            </a:lnTo>
                            <a:lnTo>
                              <a:pt x="366" y="181"/>
                            </a:lnTo>
                            <a:lnTo>
                              <a:pt x="380" y="173"/>
                            </a:lnTo>
                            <a:lnTo>
                              <a:pt x="392" y="165"/>
                            </a:lnTo>
                            <a:lnTo>
                              <a:pt x="397" y="160"/>
                            </a:lnTo>
                            <a:lnTo>
                              <a:pt x="405" y="152"/>
                            </a:lnTo>
                            <a:lnTo>
                              <a:pt x="49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任意多边形 9348"/>
                      <p:cNvSpPr/>
                      <p:nvPr/>
                    </p:nvSpPr>
                    <p:spPr>
                      <a:xfrm flipH="1">
                        <a:off x="6215040" y="4003920"/>
                        <a:ext cx="6624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2" h="198">
                            <a:moveTo>
                              <a:pt x="0" y="0"/>
                            </a:moveTo>
                            <a:lnTo>
                              <a:pt x="62" y="178"/>
                            </a:lnTo>
                            <a:lnTo>
                              <a:pt x="75" y="186"/>
                            </a:lnTo>
                            <a:lnTo>
                              <a:pt x="96" y="190"/>
                            </a:lnTo>
                            <a:lnTo>
                              <a:pt x="110" y="191"/>
                            </a:lnTo>
                            <a:lnTo>
                              <a:pt x="127" y="194"/>
                            </a:lnTo>
                            <a:lnTo>
                              <a:pt x="144" y="195"/>
                            </a:lnTo>
                            <a:lnTo>
                              <a:pt x="165" y="198"/>
                            </a:lnTo>
                            <a:lnTo>
                              <a:pt x="179" y="198"/>
                            </a:lnTo>
                            <a:lnTo>
                              <a:pt x="200" y="195"/>
                            </a:lnTo>
                            <a:lnTo>
                              <a:pt x="222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8" name="组合 9349"/>
                    <p:cNvGrpSpPr/>
                    <p:nvPr/>
                  </p:nvGrpSpPr>
                  <p:grpSpPr>
                    <a:xfrm>
                      <a:off x="6100200" y="3905280"/>
                      <a:ext cx="272520" cy="106920"/>
                      <a:chOff x="6100200" y="3905280"/>
                      <a:chExt cx="272520" cy="106920"/>
                    </a:xfrm>
                  </p:grpSpPr>
                  <p:sp>
                    <p:nvSpPr>
                      <p:cNvPr id="189" name="任意多边形 9350"/>
                      <p:cNvSpPr/>
                      <p:nvPr/>
                    </p:nvSpPr>
                    <p:spPr>
                      <a:xfrm flipH="1">
                        <a:off x="6099840" y="3905280"/>
                        <a:ext cx="272520" cy="106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3" h="718">
                            <a:moveTo>
                              <a:pt x="26" y="0"/>
                            </a:moveTo>
                            <a:lnTo>
                              <a:pt x="21" y="20"/>
                            </a:lnTo>
                            <a:lnTo>
                              <a:pt x="23" y="29"/>
                            </a:lnTo>
                            <a:lnTo>
                              <a:pt x="25" y="38"/>
                            </a:lnTo>
                            <a:lnTo>
                              <a:pt x="26" y="59"/>
                            </a:lnTo>
                            <a:lnTo>
                              <a:pt x="23" y="73"/>
                            </a:lnTo>
                            <a:lnTo>
                              <a:pt x="17" y="86"/>
                            </a:lnTo>
                            <a:lnTo>
                              <a:pt x="12" y="96"/>
                            </a:lnTo>
                            <a:lnTo>
                              <a:pt x="6" y="113"/>
                            </a:lnTo>
                            <a:lnTo>
                              <a:pt x="6" y="126"/>
                            </a:lnTo>
                            <a:lnTo>
                              <a:pt x="12" y="138"/>
                            </a:lnTo>
                            <a:lnTo>
                              <a:pt x="17" y="149"/>
                            </a:lnTo>
                            <a:lnTo>
                              <a:pt x="29" y="162"/>
                            </a:lnTo>
                            <a:lnTo>
                              <a:pt x="34" y="176"/>
                            </a:lnTo>
                            <a:lnTo>
                              <a:pt x="34" y="185"/>
                            </a:lnTo>
                            <a:lnTo>
                              <a:pt x="30" y="195"/>
                            </a:lnTo>
                            <a:lnTo>
                              <a:pt x="21" y="204"/>
                            </a:lnTo>
                            <a:lnTo>
                              <a:pt x="13" y="216"/>
                            </a:lnTo>
                            <a:lnTo>
                              <a:pt x="8" y="225"/>
                            </a:lnTo>
                            <a:lnTo>
                              <a:pt x="6" y="236"/>
                            </a:lnTo>
                            <a:lnTo>
                              <a:pt x="12" y="248"/>
                            </a:lnTo>
                            <a:lnTo>
                              <a:pt x="19" y="259"/>
                            </a:lnTo>
                            <a:lnTo>
                              <a:pt x="26" y="269"/>
                            </a:lnTo>
                            <a:lnTo>
                              <a:pt x="30" y="278"/>
                            </a:lnTo>
                            <a:lnTo>
                              <a:pt x="34" y="288"/>
                            </a:lnTo>
                            <a:lnTo>
                              <a:pt x="30" y="301"/>
                            </a:lnTo>
                            <a:lnTo>
                              <a:pt x="21" y="313"/>
                            </a:lnTo>
                            <a:lnTo>
                              <a:pt x="12" y="322"/>
                            </a:lnTo>
                            <a:lnTo>
                              <a:pt x="2" y="337"/>
                            </a:lnTo>
                            <a:lnTo>
                              <a:pt x="0" y="349"/>
                            </a:lnTo>
                            <a:lnTo>
                              <a:pt x="4" y="362"/>
                            </a:lnTo>
                            <a:lnTo>
                              <a:pt x="13" y="372"/>
                            </a:lnTo>
                            <a:lnTo>
                              <a:pt x="23" y="383"/>
                            </a:lnTo>
                            <a:lnTo>
                              <a:pt x="33" y="396"/>
                            </a:lnTo>
                            <a:lnTo>
                              <a:pt x="38" y="414"/>
                            </a:lnTo>
                            <a:lnTo>
                              <a:pt x="33" y="431"/>
                            </a:lnTo>
                            <a:lnTo>
                              <a:pt x="23" y="444"/>
                            </a:lnTo>
                            <a:lnTo>
                              <a:pt x="19" y="455"/>
                            </a:lnTo>
                            <a:lnTo>
                              <a:pt x="19" y="466"/>
                            </a:lnTo>
                            <a:lnTo>
                              <a:pt x="21" y="473"/>
                            </a:lnTo>
                            <a:lnTo>
                              <a:pt x="29" y="484"/>
                            </a:lnTo>
                            <a:lnTo>
                              <a:pt x="42" y="499"/>
                            </a:lnTo>
                            <a:lnTo>
                              <a:pt x="64" y="528"/>
                            </a:lnTo>
                            <a:lnTo>
                              <a:pt x="107" y="573"/>
                            </a:lnTo>
                            <a:lnTo>
                              <a:pt x="144" y="609"/>
                            </a:lnTo>
                            <a:lnTo>
                              <a:pt x="166" y="629"/>
                            </a:lnTo>
                            <a:lnTo>
                              <a:pt x="190" y="643"/>
                            </a:lnTo>
                            <a:lnTo>
                              <a:pt x="217" y="660"/>
                            </a:lnTo>
                            <a:lnTo>
                              <a:pt x="255" y="681"/>
                            </a:lnTo>
                            <a:lnTo>
                              <a:pt x="313" y="701"/>
                            </a:lnTo>
                            <a:lnTo>
                              <a:pt x="356" y="710"/>
                            </a:lnTo>
                            <a:lnTo>
                              <a:pt x="401" y="716"/>
                            </a:lnTo>
                            <a:lnTo>
                              <a:pt x="460" y="718"/>
                            </a:lnTo>
                            <a:lnTo>
                              <a:pt x="523" y="716"/>
                            </a:lnTo>
                            <a:lnTo>
                              <a:pt x="578" y="714"/>
                            </a:lnTo>
                            <a:lnTo>
                              <a:pt x="625" y="706"/>
                            </a:lnTo>
                            <a:lnTo>
                              <a:pt x="667" y="697"/>
                            </a:lnTo>
                            <a:lnTo>
                              <a:pt x="697" y="685"/>
                            </a:lnTo>
                            <a:lnTo>
                              <a:pt x="723" y="672"/>
                            </a:lnTo>
                            <a:lnTo>
                              <a:pt x="744" y="659"/>
                            </a:lnTo>
                            <a:lnTo>
                              <a:pt x="761" y="647"/>
                            </a:lnTo>
                            <a:lnTo>
                              <a:pt x="778" y="629"/>
                            </a:lnTo>
                            <a:lnTo>
                              <a:pt x="832" y="556"/>
                            </a:lnTo>
                            <a:lnTo>
                              <a:pt x="874" y="493"/>
                            </a:lnTo>
                            <a:lnTo>
                              <a:pt x="890" y="461"/>
                            </a:lnTo>
                            <a:lnTo>
                              <a:pt x="894" y="448"/>
                            </a:lnTo>
                            <a:lnTo>
                              <a:pt x="895" y="438"/>
                            </a:lnTo>
                            <a:lnTo>
                              <a:pt x="895" y="427"/>
                            </a:lnTo>
                            <a:lnTo>
                              <a:pt x="887" y="414"/>
                            </a:lnTo>
                            <a:lnTo>
                              <a:pt x="882" y="406"/>
                            </a:lnTo>
                            <a:lnTo>
                              <a:pt x="879" y="394"/>
                            </a:lnTo>
                            <a:lnTo>
                              <a:pt x="882" y="381"/>
                            </a:lnTo>
                            <a:lnTo>
                              <a:pt x="887" y="372"/>
                            </a:lnTo>
                            <a:lnTo>
                              <a:pt x="894" y="362"/>
                            </a:lnTo>
                            <a:lnTo>
                              <a:pt x="900" y="352"/>
                            </a:lnTo>
                            <a:lnTo>
                              <a:pt x="908" y="341"/>
                            </a:lnTo>
                            <a:lnTo>
                              <a:pt x="913" y="330"/>
                            </a:lnTo>
                            <a:lnTo>
                              <a:pt x="912" y="316"/>
                            </a:lnTo>
                            <a:lnTo>
                              <a:pt x="907" y="305"/>
                            </a:lnTo>
                            <a:lnTo>
                              <a:pt x="900" y="295"/>
                            </a:lnTo>
                            <a:lnTo>
                              <a:pt x="894" y="286"/>
                            </a:lnTo>
                            <a:lnTo>
                              <a:pt x="886" y="275"/>
                            </a:lnTo>
                            <a:lnTo>
                              <a:pt x="883" y="263"/>
                            </a:lnTo>
                            <a:lnTo>
                              <a:pt x="886" y="254"/>
                            </a:lnTo>
                            <a:lnTo>
                              <a:pt x="895" y="240"/>
                            </a:lnTo>
                            <a:lnTo>
                              <a:pt x="904" y="229"/>
                            </a:lnTo>
                            <a:lnTo>
                              <a:pt x="908" y="217"/>
                            </a:lnTo>
                            <a:lnTo>
                              <a:pt x="908" y="202"/>
                            </a:lnTo>
                            <a:lnTo>
                              <a:pt x="903" y="187"/>
                            </a:lnTo>
                            <a:lnTo>
                              <a:pt x="894" y="176"/>
                            </a:lnTo>
                            <a:lnTo>
                              <a:pt x="890" y="168"/>
                            </a:lnTo>
                            <a:lnTo>
                              <a:pt x="886" y="155"/>
                            </a:lnTo>
                            <a:lnTo>
                              <a:pt x="887" y="141"/>
                            </a:lnTo>
                            <a:lnTo>
                              <a:pt x="895" y="130"/>
                            </a:lnTo>
                            <a:lnTo>
                              <a:pt x="900" y="122"/>
                            </a:lnTo>
                            <a:lnTo>
                              <a:pt x="908" y="113"/>
                            </a:lnTo>
                            <a:lnTo>
                              <a:pt x="912" y="101"/>
                            </a:lnTo>
                            <a:lnTo>
                              <a:pt x="913" y="88"/>
                            </a:lnTo>
                            <a:lnTo>
                              <a:pt x="911" y="80"/>
                            </a:lnTo>
                            <a:lnTo>
                              <a:pt x="903" y="67"/>
                            </a:lnTo>
                            <a:lnTo>
                              <a:pt x="895" y="56"/>
                            </a:lnTo>
                            <a:lnTo>
                              <a:pt x="890" y="42"/>
                            </a:lnTo>
                            <a:lnTo>
                              <a:pt x="890" y="29"/>
                            </a:lnTo>
                            <a:lnTo>
                              <a:pt x="894" y="18"/>
                            </a:lnTo>
                            <a:lnTo>
                              <a:pt x="891" y="0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任意多边形 9351"/>
                      <p:cNvSpPr/>
                      <p:nvPr/>
                    </p:nvSpPr>
                    <p:spPr>
                      <a:xfrm flipH="1">
                        <a:off x="6337080" y="3919320"/>
                        <a:ext cx="3348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99">
                            <a:moveTo>
                              <a:pt x="6" y="0"/>
                            </a:moveTo>
                            <a:lnTo>
                              <a:pt x="13" y="13"/>
                            </a:lnTo>
                            <a:lnTo>
                              <a:pt x="24" y="26"/>
                            </a:lnTo>
                            <a:lnTo>
                              <a:pt x="44" y="43"/>
                            </a:lnTo>
                            <a:lnTo>
                              <a:pt x="68" y="57"/>
                            </a:lnTo>
                            <a:lnTo>
                              <a:pt x="91" y="66"/>
                            </a:lnTo>
                            <a:lnTo>
                              <a:pt x="113" y="72"/>
                            </a:lnTo>
                            <a:lnTo>
                              <a:pt x="104" y="89"/>
                            </a:lnTo>
                            <a:lnTo>
                              <a:pt x="75" y="85"/>
                            </a:lnTo>
                            <a:lnTo>
                              <a:pt x="44" y="87"/>
                            </a:lnTo>
                            <a:lnTo>
                              <a:pt x="24" y="99"/>
                            </a:lnTo>
                            <a:lnTo>
                              <a:pt x="28" y="89"/>
                            </a:lnTo>
                            <a:lnTo>
                              <a:pt x="27" y="78"/>
                            </a:lnTo>
                            <a:lnTo>
                              <a:pt x="20" y="62"/>
                            </a:lnTo>
                            <a:lnTo>
                              <a:pt x="11" y="49"/>
                            </a:lnTo>
                            <a:lnTo>
                              <a:pt x="2" y="34"/>
                            </a:lnTo>
                            <a:lnTo>
                              <a:pt x="0" y="17"/>
                            </a:lnTo>
                            <a:lnTo>
                              <a:pt x="6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1" name="任意多边形 9352"/>
                      <p:cNvSpPr/>
                      <p:nvPr/>
                    </p:nvSpPr>
                    <p:spPr>
                      <a:xfrm flipH="1">
                        <a:off x="6325920" y="3937680"/>
                        <a:ext cx="44280" cy="1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84">
                            <a:moveTo>
                              <a:pt x="0" y="10"/>
                            </a:moveTo>
                            <a:lnTo>
                              <a:pt x="4" y="0"/>
                            </a:lnTo>
                            <a:lnTo>
                              <a:pt x="9" y="10"/>
                            </a:lnTo>
                            <a:lnTo>
                              <a:pt x="21" y="15"/>
                            </a:lnTo>
                            <a:lnTo>
                              <a:pt x="42" y="25"/>
                            </a:lnTo>
                            <a:lnTo>
                              <a:pt x="64" y="31"/>
                            </a:lnTo>
                            <a:lnTo>
                              <a:pt x="98" y="38"/>
                            </a:lnTo>
                            <a:lnTo>
                              <a:pt x="137" y="44"/>
                            </a:lnTo>
                            <a:lnTo>
                              <a:pt x="149" y="80"/>
                            </a:lnTo>
                            <a:lnTo>
                              <a:pt x="106" y="69"/>
                            </a:lnTo>
                            <a:lnTo>
                              <a:pt x="72" y="65"/>
                            </a:lnTo>
                            <a:lnTo>
                              <a:pt x="45" y="71"/>
                            </a:lnTo>
                            <a:lnTo>
                              <a:pt x="25" y="84"/>
                            </a:lnTo>
                            <a:lnTo>
                              <a:pt x="25" y="73"/>
                            </a:lnTo>
                            <a:lnTo>
                              <a:pt x="25" y="63"/>
                            </a:lnTo>
                            <a:lnTo>
                              <a:pt x="21" y="52"/>
                            </a:lnTo>
                            <a:lnTo>
                              <a:pt x="9" y="36"/>
                            </a:lnTo>
                            <a:lnTo>
                              <a:pt x="0" y="23"/>
                            </a:lnTo>
                            <a:lnTo>
                              <a:pt x="0" y="1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560" bIns="-3456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任意多边形 9353"/>
                      <p:cNvSpPr/>
                      <p:nvPr/>
                    </p:nvSpPr>
                    <p:spPr>
                      <a:xfrm flipH="1">
                        <a:off x="6319800" y="3953520"/>
                        <a:ext cx="5220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04">
                            <a:moveTo>
                              <a:pt x="2" y="13"/>
                            </a:moveTo>
                            <a:lnTo>
                              <a:pt x="10" y="0"/>
                            </a:lnTo>
                            <a:lnTo>
                              <a:pt x="21" y="17"/>
                            </a:lnTo>
                            <a:lnTo>
                              <a:pt x="32" y="25"/>
                            </a:lnTo>
                            <a:lnTo>
                              <a:pt x="45" y="34"/>
                            </a:lnTo>
                            <a:lnTo>
                              <a:pt x="69" y="42"/>
                            </a:lnTo>
                            <a:lnTo>
                              <a:pt x="96" y="49"/>
                            </a:lnTo>
                            <a:lnTo>
                              <a:pt x="126" y="59"/>
                            </a:lnTo>
                            <a:lnTo>
                              <a:pt x="167" y="72"/>
                            </a:lnTo>
                            <a:lnTo>
                              <a:pt x="175" y="104"/>
                            </a:lnTo>
                            <a:lnTo>
                              <a:pt x="133" y="87"/>
                            </a:lnTo>
                            <a:lnTo>
                              <a:pt x="103" y="76"/>
                            </a:lnTo>
                            <a:lnTo>
                              <a:pt x="78" y="72"/>
                            </a:lnTo>
                            <a:lnTo>
                              <a:pt x="58" y="72"/>
                            </a:lnTo>
                            <a:lnTo>
                              <a:pt x="48" y="80"/>
                            </a:lnTo>
                            <a:lnTo>
                              <a:pt x="36" y="91"/>
                            </a:lnTo>
                            <a:lnTo>
                              <a:pt x="34" y="78"/>
                            </a:lnTo>
                            <a:lnTo>
                              <a:pt x="21" y="59"/>
                            </a:lnTo>
                            <a:lnTo>
                              <a:pt x="10" y="45"/>
                            </a:lnTo>
                            <a:lnTo>
                              <a:pt x="0" y="31"/>
                            </a:lnTo>
                            <a:lnTo>
                              <a:pt x="2" y="13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3" name="任意多边形 9354"/>
                      <p:cNvSpPr/>
                      <p:nvPr/>
                    </p:nvSpPr>
                    <p:spPr>
                      <a:xfrm flipH="1">
                        <a:off x="6304680" y="3970440"/>
                        <a:ext cx="61920" cy="34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8" h="230">
                            <a:moveTo>
                              <a:pt x="2" y="35"/>
                            </a:moveTo>
                            <a:lnTo>
                              <a:pt x="0" y="21"/>
                            </a:lnTo>
                            <a:lnTo>
                              <a:pt x="0" y="11"/>
                            </a:lnTo>
                            <a:lnTo>
                              <a:pt x="8" y="0"/>
                            </a:lnTo>
                            <a:lnTo>
                              <a:pt x="22" y="17"/>
                            </a:lnTo>
                            <a:lnTo>
                              <a:pt x="47" y="32"/>
                            </a:lnTo>
                            <a:lnTo>
                              <a:pt x="72" y="44"/>
                            </a:lnTo>
                            <a:lnTo>
                              <a:pt x="106" y="55"/>
                            </a:lnTo>
                            <a:lnTo>
                              <a:pt x="156" y="65"/>
                            </a:lnTo>
                            <a:lnTo>
                              <a:pt x="166" y="91"/>
                            </a:lnTo>
                            <a:lnTo>
                              <a:pt x="140" y="84"/>
                            </a:lnTo>
                            <a:lnTo>
                              <a:pt x="114" y="80"/>
                            </a:lnTo>
                            <a:lnTo>
                              <a:pt x="101" y="82"/>
                            </a:lnTo>
                            <a:lnTo>
                              <a:pt x="97" y="95"/>
                            </a:lnTo>
                            <a:lnTo>
                              <a:pt x="105" y="112"/>
                            </a:lnTo>
                            <a:lnTo>
                              <a:pt x="115" y="128"/>
                            </a:lnTo>
                            <a:lnTo>
                              <a:pt x="136" y="153"/>
                            </a:lnTo>
                            <a:lnTo>
                              <a:pt x="166" y="179"/>
                            </a:lnTo>
                            <a:lnTo>
                              <a:pt x="208" y="209"/>
                            </a:lnTo>
                            <a:lnTo>
                              <a:pt x="208" y="230"/>
                            </a:lnTo>
                            <a:lnTo>
                              <a:pt x="190" y="219"/>
                            </a:lnTo>
                            <a:lnTo>
                              <a:pt x="166" y="205"/>
                            </a:lnTo>
                            <a:lnTo>
                              <a:pt x="132" y="179"/>
                            </a:lnTo>
                            <a:lnTo>
                              <a:pt x="105" y="150"/>
                            </a:lnTo>
                            <a:lnTo>
                              <a:pt x="80" y="128"/>
                            </a:lnTo>
                            <a:lnTo>
                              <a:pt x="56" y="101"/>
                            </a:lnTo>
                            <a:lnTo>
                              <a:pt x="36" y="78"/>
                            </a:lnTo>
                            <a:lnTo>
                              <a:pt x="15" y="57"/>
                            </a:lnTo>
                            <a:lnTo>
                              <a:pt x="2" y="35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600" bIns="-126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4" name="任意多边形 9355"/>
                      <p:cNvSpPr/>
                      <p:nvPr/>
                    </p:nvSpPr>
                    <p:spPr>
                      <a:xfrm flipH="1">
                        <a:off x="6339600" y="3908880"/>
                        <a:ext cx="255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69">
                            <a:moveTo>
                              <a:pt x="0" y="0"/>
                            </a:moveTo>
                            <a:lnTo>
                              <a:pt x="11" y="10"/>
                            </a:lnTo>
                            <a:lnTo>
                              <a:pt x="25" y="21"/>
                            </a:lnTo>
                            <a:lnTo>
                              <a:pt x="42" y="33"/>
                            </a:lnTo>
                            <a:lnTo>
                              <a:pt x="60" y="44"/>
                            </a:lnTo>
                            <a:lnTo>
                              <a:pt x="77" y="54"/>
                            </a:lnTo>
                            <a:lnTo>
                              <a:pt x="86" y="61"/>
                            </a:lnTo>
                            <a:lnTo>
                              <a:pt x="65" y="69"/>
                            </a:lnTo>
                            <a:lnTo>
                              <a:pt x="42" y="61"/>
                            </a:lnTo>
                            <a:lnTo>
                              <a:pt x="18" y="52"/>
                            </a:lnTo>
                            <a:lnTo>
                              <a:pt x="0" y="42"/>
                            </a:lnTo>
                            <a:lnTo>
                              <a:pt x="1" y="33"/>
                            </a:lnTo>
                            <a:lnTo>
                              <a:pt x="4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" name="任意多边形 9356"/>
                      <p:cNvSpPr/>
                      <p:nvPr/>
                    </p:nvSpPr>
                    <p:spPr>
                      <a:xfrm flipH="1">
                        <a:off x="6099840" y="3906360"/>
                        <a:ext cx="218520" cy="10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2" h="689">
                            <a:moveTo>
                              <a:pt x="294" y="135"/>
                            </a:moveTo>
                            <a:lnTo>
                              <a:pt x="186" y="143"/>
                            </a:lnTo>
                            <a:lnTo>
                              <a:pt x="348" y="158"/>
                            </a:lnTo>
                            <a:lnTo>
                              <a:pt x="338" y="166"/>
                            </a:lnTo>
                            <a:lnTo>
                              <a:pt x="318" y="173"/>
                            </a:lnTo>
                            <a:lnTo>
                              <a:pt x="292" y="181"/>
                            </a:lnTo>
                            <a:lnTo>
                              <a:pt x="258" y="190"/>
                            </a:lnTo>
                            <a:lnTo>
                              <a:pt x="222" y="196"/>
                            </a:lnTo>
                            <a:lnTo>
                              <a:pt x="175" y="200"/>
                            </a:lnTo>
                            <a:lnTo>
                              <a:pt x="120" y="206"/>
                            </a:lnTo>
                            <a:lnTo>
                              <a:pt x="61" y="209"/>
                            </a:lnTo>
                            <a:lnTo>
                              <a:pt x="0" y="209"/>
                            </a:lnTo>
                            <a:lnTo>
                              <a:pt x="95" y="232"/>
                            </a:lnTo>
                            <a:lnTo>
                              <a:pt x="154" y="244"/>
                            </a:lnTo>
                            <a:lnTo>
                              <a:pt x="205" y="244"/>
                            </a:lnTo>
                            <a:lnTo>
                              <a:pt x="267" y="244"/>
                            </a:lnTo>
                            <a:lnTo>
                              <a:pt x="359" y="236"/>
                            </a:lnTo>
                            <a:lnTo>
                              <a:pt x="435" y="225"/>
                            </a:lnTo>
                            <a:lnTo>
                              <a:pt x="499" y="209"/>
                            </a:lnTo>
                            <a:lnTo>
                              <a:pt x="567" y="188"/>
                            </a:lnTo>
                            <a:lnTo>
                              <a:pt x="597" y="177"/>
                            </a:lnTo>
                            <a:lnTo>
                              <a:pt x="625" y="168"/>
                            </a:lnTo>
                            <a:lnTo>
                              <a:pt x="640" y="164"/>
                            </a:lnTo>
                            <a:lnTo>
                              <a:pt x="648" y="169"/>
                            </a:lnTo>
                            <a:lnTo>
                              <a:pt x="648" y="181"/>
                            </a:lnTo>
                            <a:lnTo>
                              <a:pt x="642" y="194"/>
                            </a:lnTo>
                            <a:lnTo>
                              <a:pt x="625" y="208"/>
                            </a:lnTo>
                            <a:lnTo>
                              <a:pt x="597" y="226"/>
                            </a:lnTo>
                            <a:lnTo>
                              <a:pt x="557" y="244"/>
                            </a:lnTo>
                            <a:lnTo>
                              <a:pt x="510" y="263"/>
                            </a:lnTo>
                            <a:lnTo>
                              <a:pt x="448" y="282"/>
                            </a:lnTo>
                            <a:lnTo>
                              <a:pt x="376" y="297"/>
                            </a:lnTo>
                            <a:lnTo>
                              <a:pt x="304" y="308"/>
                            </a:lnTo>
                            <a:lnTo>
                              <a:pt x="228" y="320"/>
                            </a:lnTo>
                            <a:lnTo>
                              <a:pt x="95" y="333"/>
                            </a:lnTo>
                            <a:lnTo>
                              <a:pt x="177" y="352"/>
                            </a:lnTo>
                            <a:lnTo>
                              <a:pt x="243" y="360"/>
                            </a:lnTo>
                            <a:lnTo>
                              <a:pt x="326" y="358"/>
                            </a:lnTo>
                            <a:lnTo>
                              <a:pt x="411" y="347"/>
                            </a:lnTo>
                            <a:lnTo>
                              <a:pt x="474" y="333"/>
                            </a:lnTo>
                            <a:lnTo>
                              <a:pt x="525" y="320"/>
                            </a:lnTo>
                            <a:lnTo>
                              <a:pt x="567" y="308"/>
                            </a:lnTo>
                            <a:lnTo>
                              <a:pt x="610" y="293"/>
                            </a:lnTo>
                            <a:lnTo>
                              <a:pt x="644" y="280"/>
                            </a:lnTo>
                            <a:lnTo>
                              <a:pt x="659" y="276"/>
                            </a:lnTo>
                            <a:lnTo>
                              <a:pt x="668" y="276"/>
                            </a:lnTo>
                            <a:lnTo>
                              <a:pt x="667" y="287"/>
                            </a:lnTo>
                            <a:lnTo>
                              <a:pt x="661" y="299"/>
                            </a:lnTo>
                            <a:lnTo>
                              <a:pt x="648" y="314"/>
                            </a:lnTo>
                            <a:lnTo>
                              <a:pt x="617" y="335"/>
                            </a:lnTo>
                            <a:lnTo>
                              <a:pt x="584" y="354"/>
                            </a:lnTo>
                            <a:lnTo>
                              <a:pt x="546" y="371"/>
                            </a:lnTo>
                            <a:lnTo>
                              <a:pt x="496" y="390"/>
                            </a:lnTo>
                            <a:lnTo>
                              <a:pt x="439" y="407"/>
                            </a:lnTo>
                            <a:lnTo>
                              <a:pt x="352" y="426"/>
                            </a:lnTo>
                            <a:lnTo>
                              <a:pt x="294" y="438"/>
                            </a:lnTo>
                            <a:lnTo>
                              <a:pt x="237" y="444"/>
                            </a:lnTo>
                            <a:lnTo>
                              <a:pt x="154" y="449"/>
                            </a:lnTo>
                            <a:lnTo>
                              <a:pt x="239" y="461"/>
                            </a:lnTo>
                            <a:lnTo>
                              <a:pt x="305" y="466"/>
                            </a:lnTo>
                            <a:lnTo>
                              <a:pt x="360" y="468"/>
                            </a:lnTo>
                            <a:lnTo>
                              <a:pt x="423" y="466"/>
                            </a:lnTo>
                            <a:lnTo>
                              <a:pt x="482" y="458"/>
                            </a:lnTo>
                            <a:lnTo>
                              <a:pt x="530" y="447"/>
                            </a:lnTo>
                            <a:lnTo>
                              <a:pt x="568" y="434"/>
                            </a:lnTo>
                            <a:lnTo>
                              <a:pt x="629" y="413"/>
                            </a:lnTo>
                            <a:lnTo>
                              <a:pt x="637" y="413"/>
                            </a:lnTo>
                            <a:lnTo>
                              <a:pt x="644" y="417"/>
                            </a:lnTo>
                            <a:lnTo>
                              <a:pt x="642" y="430"/>
                            </a:lnTo>
                            <a:lnTo>
                              <a:pt x="634" y="444"/>
                            </a:lnTo>
                            <a:lnTo>
                              <a:pt x="620" y="458"/>
                            </a:lnTo>
                            <a:lnTo>
                              <a:pt x="599" y="474"/>
                            </a:lnTo>
                            <a:lnTo>
                              <a:pt x="563" y="493"/>
                            </a:lnTo>
                            <a:lnTo>
                              <a:pt x="525" y="510"/>
                            </a:lnTo>
                            <a:lnTo>
                              <a:pt x="489" y="521"/>
                            </a:lnTo>
                            <a:lnTo>
                              <a:pt x="448" y="531"/>
                            </a:lnTo>
                            <a:lnTo>
                              <a:pt x="410" y="537"/>
                            </a:lnTo>
                            <a:lnTo>
                              <a:pt x="360" y="542"/>
                            </a:lnTo>
                            <a:lnTo>
                              <a:pt x="305" y="545"/>
                            </a:lnTo>
                            <a:lnTo>
                              <a:pt x="250" y="546"/>
                            </a:lnTo>
                            <a:lnTo>
                              <a:pt x="166" y="546"/>
                            </a:lnTo>
                            <a:lnTo>
                              <a:pt x="211" y="562"/>
                            </a:lnTo>
                            <a:lnTo>
                              <a:pt x="253" y="573"/>
                            </a:lnTo>
                            <a:lnTo>
                              <a:pt x="301" y="579"/>
                            </a:lnTo>
                            <a:lnTo>
                              <a:pt x="342" y="580"/>
                            </a:lnTo>
                            <a:lnTo>
                              <a:pt x="384" y="583"/>
                            </a:lnTo>
                            <a:lnTo>
                              <a:pt x="427" y="580"/>
                            </a:lnTo>
                            <a:lnTo>
                              <a:pt x="462" y="579"/>
                            </a:lnTo>
                            <a:lnTo>
                              <a:pt x="495" y="573"/>
                            </a:lnTo>
                            <a:lnTo>
                              <a:pt x="540" y="562"/>
                            </a:lnTo>
                            <a:lnTo>
                              <a:pt x="574" y="554"/>
                            </a:lnTo>
                            <a:lnTo>
                              <a:pt x="587" y="555"/>
                            </a:lnTo>
                            <a:lnTo>
                              <a:pt x="589" y="565"/>
                            </a:lnTo>
                            <a:lnTo>
                              <a:pt x="585" y="575"/>
                            </a:lnTo>
                            <a:lnTo>
                              <a:pt x="576" y="586"/>
                            </a:lnTo>
                            <a:lnTo>
                              <a:pt x="561" y="597"/>
                            </a:lnTo>
                            <a:lnTo>
                              <a:pt x="544" y="605"/>
                            </a:lnTo>
                            <a:lnTo>
                              <a:pt x="525" y="614"/>
                            </a:lnTo>
                            <a:lnTo>
                              <a:pt x="495" y="622"/>
                            </a:lnTo>
                            <a:lnTo>
                              <a:pt x="432" y="631"/>
                            </a:lnTo>
                            <a:lnTo>
                              <a:pt x="372" y="639"/>
                            </a:lnTo>
                            <a:lnTo>
                              <a:pt x="253" y="649"/>
                            </a:lnTo>
                            <a:lnTo>
                              <a:pt x="407" y="656"/>
                            </a:lnTo>
                            <a:lnTo>
                              <a:pt x="439" y="656"/>
                            </a:lnTo>
                            <a:lnTo>
                              <a:pt x="453" y="663"/>
                            </a:lnTo>
                            <a:lnTo>
                              <a:pt x="461" y="670"/>
                            </a:lnTo>
                            <a:lnTo>
                              <a:pt x="458" y="681"/>
                            </a:lnTo>
                            <a:lnTo>
                              <a:pt x="466" y="687"/>
                            </a:lnTo>
                            <a:lnTo>
                              <a:pt x="486" y="689"/>
                            </a:lnTo>
                            <a:lnTo>
                              <a:pt x="516" y="677"/>
                            </a:lnTo>
                            <a:lnTo>
                              <a:pt x="542" y="664"/>
                            </a:lnTo>
                            <a:lnTo>
                              <a:pt x="563" y="651"/>
                            </a:lnTo>
                            <a:lnTo>
                              <a:pt x="580" y="639"/>
                            </a:lnTo>
                            <a:lnTo>
                              <a:pt x="597" y="621"/>
                            </a:lnTo>
                            <a:lnTo>
                              <a:pt x="651" y="548"/>
                            </a:lnTo>
                            <a:lnTo>
                              <a:pt x="693" y="485"/>
                            </a:lnTo>
                            <a:lnTo>
                              <a:pt x="709" y="453"/>
                            </a:lnTo>
                            <a:lnTo>
                              <a:pt x="713" y="440"/>
                            </a:lnTo>
                            <a:lnTo>
                              <a:pt x="714" y="430"/>
                            </a:lnTo>
                            <a:lnTo>
                              <a:pt x="714" y="419"/>
                            </a:lnTo>
                            <a:lnTo>
                              <a:pt x="706" y="406"/>
                            </a:lnTo>
                            <a:lnTo>
                              <a:pt x="701" y="398"/>
                            </a:lnTo>
                            <a:lnTo>
                              <a:pt x="698" y="386"/>
                            </a:lnTo>
                            <a:lnTo>
                              <a:pt x="701" y="373"/>
                            </a:lnTo>
                            <a:lnTo>
                              <a:pt x="706" y="364"/>
                            </a:lnTo>
                            <a:lnTo>
                              <a:pt x="713" y="354"/>
                            </a:lnTo>
                            <a:lnTo>
                              <a:pt x="719" y="344"/>
                            </a:lnTo>
                            <a:lnTo>
                              <a:pt x="727" y="333"/>
                            </a:lnTo>
                            <a:lnTo>
                              <a:pt x="732" y="322"/>
                            </a:lnTo>
                            <a:lnTo>
                              <a:pt x="731" y="308"/>
                            </a:lnTo>
                            <a:lnTo>
                              <a:pt x="726" y="297"/>
                            </a:lnTo>
                            <a:lnTo>
                              <a:pt x="719" y="287"/>
                            </a:lnTo>
                            <a:lnTo>
                              <a:pt x="713" y="278"/>
                            </a:lnTo>
                            <a:lnTo>
                              <a:pt x="705" y="267"/>
                            </a:lnTo>
                            <a:lnTo>
                              <a:pt x="702" y="255"/>
                            </a:lnTo>
                            <a:lnTo>
                              <a:pt x="705" y="246"/>
                            </a:lnTo>
                            <a:lnTo>
                              <a:pt x="714" y="232"/>
                            </a:lnTo>
                            <a:lnTo>
                              <a:pt x="723" y="221"/>
                            </a:lnTo>
                            <a:lnTo>
                              <a:pt x="727" y="209"/>
                            </a:lnTo>
                            <a:lnTo>
                              <a:pt x="727" y="194"/>
                            </a:lnTo>
                            <a:lnTo>
                              <a:pt x="722" y="179"/>
                            </a:lnTo>
                            <a:lnTo>
                              <a:pt x="713" y="168"/>
                            </a:lnTo>
                            <a:lnTo>
                              <a:pt x="709" y="160"/>
                            </a:lnTo>
                            <a:lnTo>
                              <a:pt x="705" y="147"/>
                            </a:lnTo>
                            <a:lnTo>
                              <a:pt x="706" y="133"/>
                            </a:lnTo>
                            <a:lnTo>
                              <a:pt x="714" y="122"/>
                            </a:lnTo>
                            <a:lnTo>
                              <a:pt x="719" y="114"/>
                            </a:lnTo>
                            <a:lnTo>
                              <a:pt x="727" y="105"/>
                            </a:lnTo>
                            <a:lnTo>
                              <a:pt x="731" y="93"/>
                            </a:lnTo>
                            <a:lnTo>
                              <a:pt x="732" y="80"/>
                            </a:lnTo>
                            <a:lnTo>
                              <a:pt x="730" y="72"/>
                            </a:lnTo>
                            <a:lnTo>
                              <a:pt x="722" y="59"/>
                            </a:lnTo>
                            <a:lnTo>
                              <a:pt x="714" y="48"/>
                            </a:lnTo>
                            <a:lnTo>
                              <a:pt x="709" y="34"/>
                            </a:lnTo>
                            <a:lnTo>
                              <a:pt x="709" y="0"/>
                            </a:lnTo>
                            <a:lnTo>
                              <a:pt x="634" y="50"/>
                            </a:lnTo>
                            <a:lnTo>
                              <a:pt x="589" y="69"/>
                            </a:lnTo>
                            <a:lnTo>
                              <a:pt x="536" y="86"/>
                            </a:lnTo>
                            <a:lnTo>
                              <a:pt x="475" y="105"/>
                            </a:lnTo>
                            <a:lnTo>
                              <a:pt x="420" y="116"/>
                            </a:lnTo>
                            <a:lnTo>
                              <a:pt x="365" y="126"/>
                            </a:lnTo>
                            <a:lnTo>
                              <a:pt x="294" y="135"/>
                            </a:lnTo>
                            <a:close/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ffffff"/>
                          </a:gs>
                          <a:gs pos="100000">
                            <a:srgbClr val="66ccff"/>
                          </a:gs>
                        </a:gsLst>
                        <a:path path="rect">
                          <a:fillToRect l="50000" t="50000" r="50000" b="50000"/>
                        </a:path>
                      </a:gradFill>
                      <a:ln w="9360">
                        <a:solidFill>
                          <a:srgbClr val="3399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96" name="组合 9357"/>
                  <p:cNvGrpSpPr/>
                  <p:nvPr/>
                </p:nvGrpSpPr>
                <p:grpSpPr>
                  <a:xfrm>
                    <a:off x="6126120" y="3922560"/>
                    <a:ext cx="64800" cy="64440"/>
                    <a:chOff x="6126120" y="3922560"/>
                    <a:chExt cx="64800" cy="64440"/>
                  </a:xfrm>
                </p:grpSpPr>
                <p:sp>
                  <p:nvSpPr>
                    <p:cNvPr id="197" name="任意多边形 9358"/>
                    <p:cNvSpPr/>
                    <p:nvPr/>
                  </p:nvSpPr>
                  <p:spPr>
                    <a:xfrm flipH="1">
                      <a:off x="6129000" y="3939840"/>
                      <a:ext cx="4968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7" h="70">
                          <a:moveTo>
                            <a:pt x="167" y="13"/>
                          </a:moveTo>
                          <a:lnTo>
                            <a:pt x="151" y="0"/>
                          </a:lnTo>
                          <a:lnTo>
                            <a:pt x="100" y="26"/>
                          </a:lnTo>
                          <a:lnTo>
                            <a:pt x="49" y="45"/>
                          </a:lnTo>
                          <a:lnTo>
                            <a:pt x="0" y="59"/>
                          </a:lnTo>
                          <a:lnTo>
                            <a:pt x="9" y="70"/>
                          </a:lnTo>
                          <a:lnTo>
                            <a:pt x="43" y="70"/>
                          </a:lnTo>
                          <a:lnTo>
                            <a:pt x="89" y="60"/>
                          </a:lnTo>
                          <a:lnTo>
                            <a:pt x="130" y="40"/>
                          </a:lnTo>
                          <a:lnTo>
                            <a:pt x="167" y="1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任意多边形 9359"/>
                    <p:cNvSpPr/>
                    <p:nvPr/>
                  </p:nvSpPr>
                  <p:spPr>
                    <a:xfrm flipH="1">
                      <a:off x="6125760" y="3956400"/>
                      <a:ext cx="435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78">
                          <a:moveTo>
                            <a:pt x="146" y="15"/>
                          </a:moveTo>
                          <a:lnTo>
                            <a:pt x="138" y="0"/>
                          </a:lnTo>
                          <a:lnTo>
                            <a:pt x="89" y="34"/>
                          </a:lnTo>
                          <a:lnTo>
                            <a:pt x="50" y="51"/>
                          </a:lnTo>
                          <a:lnTo>
                            <a:pt x="0" y="66"/>
                          </a:lnTo>
                          <a:lnTo>
                            <a:pt x="10" y="78"/>
                          </a:lnTo>
                          <a:lnTo>
                            <a:pt x="42" y="78"/>
                          </a:lnTo>
                          <a:lnTo>
                            <a:pt x="74" y="69"/>
                          </a:lnTo>
                          <a:lnTo>
                            <a:pt x="112" y="45"/>
                          </a:lnTo>
                          <a:lnTo>
                            <a:pt x="146" y="15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任意多边形 9360"/>
                    <p:cNvSpPr/>
                    <p:nvPr/>
                  </p:nvSpPr>
                  <p:spPr>
                    <a:xfrm flipH="1">
                      <a:off x="6127560" y="3975840"/>
                      <a:ext cx="442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" h="77">
                          <a:moveTo>
                            <a:pt x="149" y="11"/>
                          </a:moveTo>
                          <a:lnTo>
                            <a:pt x="138" y="0"/>
                          </a:lnTo>
                          <a:lnTo>
                            <a:pt x="93" y="31"/>
                          </a:lnTo>
                          <a:lnTo>
                            <a:pt x="49" y="49"/>
                          </a:lnTo>
                          <a:lnTo>
                            <a:pt x="0" y="63"/>
                          </a:lnTo>
                          <a:lnTo>
                            <a:pt x="9" y="77"/>
                          </a:lnTo>
                          <a:lnTo>
                            <a:pt x="42" y="74"/>
                          </a:lnTo>
                          <a:lnTo>
                            <a:pt x="81" y="65"/>
                          </a:lnTo>
                          <a:lnTo>
                            <a:pt x="121" y="40"/>
                          </a:lnTo>
                          <a:lnTo>
                            <a:pt x="149" y="11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任意多边形 9361"/>
                    <p:cNvSpPr/>
                    <p:nvPr/>
                  </p:nvSpPr>
                  <p:spPr>
                    <a:xfrm flipH="1">
                      <a:off x="6139800" y="3922560"/>
                      <a:ext cx="507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68">
                          <a:moveTo>
                            <a:pt x="171" y="13"/>
                          </a:moveTo>
                          <a:lnTo>
                            <a:pt x="154" y="0"/>
                          </a:lnTo>
                          <a:lnTo>
                            <a:pt x="97" y="26"/>
                          </a:lnTo>
                          <a:lnTo>
                            <a:pt x="50" y="41"/>
                          </a:lnTo>
                          <a:lnTo>
                            <a:pt x="0" y="55"/>
                          </a:lnTo>
                          <a:lnTo>
                            <a:pt x="11" y="68"/>
                          </a:lnTo>
                          <a:lnTo>
                            <a:pt x="42" y="66"/>
                          </a:lnTo>
                          <a:lnTo>
                            <a:pt x="82" y="57"/>
                          </a:lnTo>
                          <a:lnTo>
                            <a:pt x="127" y="40"/>
                          </a:lnTo>
                          <a:lnTo>
                            <a:pt x="171" y="1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1" name="任意多边形 9362"/>
                <p:cNvSpPr/>
                <p:nvPr/>
              </p:nvSpPr>
              <p:spPr>
                <a:xfrm flipH="1">
                  <a:off x="5933880" y="3486600"/>
                  <a:ext cx="603360" cy="432720"/>
                </a:xfrm>
                <a:custGeom>
                  <a:avLst/>
                  <a:gdLst/>
                  <a:ahLst/>
                  <a:rect l="l" t="t" r="r" b="b"/>
                  <a:pathLst>
                    <a:path w="2019" h="2908">
                      <a:moveTo>
                        <a:pt x="1415" y="2830"/>
                      </a:moveTo>
                      <a:lnTo>
                        <a:pt x="1432" y="2818"/>
                      </a:lnTo>
                      <a:lnTo>
                        <a:pt x="1445" y="2807"/>
                      </a:lnTo>
                      <a:lnTo>
                        <a:pt x="1453" y="2799"/>
                      </a:lnTo>
                      <a:lnTo>
                        <a:pt x="1458" y="2790"/>
                      </a:lnTo>
                      <a:lnTo>
                        <a:pt x="1463" y="2784"/>
                      </a:lnTo>
                      <a:lnTo>
                        <a:pt x="1466" y="2778"/>
                      </a:lnTo>
                      <a:lnTo>
                        <a:pt x="1470" y="2773"/>
                      </a:lnTo>
                      <a:lnTo>
                        <a:pt x="1471" y="2765"/>
                      </a:lnTo>
                      <a:lnTo>
                        <a:pt x="1474" y="2756"/>
                      </a:lnTo>
                      <a:lnTo>
                        <a:pt x="1475" y="2744"/>
                      </a:lnTo>
                      <a:lnTo>
                        <a:pt x="1484" y="2698"/>
                      </a:lnTo>
                      <a:lnTo>
                        <a:pt x="1543" y="2322"/>
                      </a:lnTo>
                      <a:lnTo>
                        <a:pt x="1554" y="2268"/>
                      </a:lnTo>
                      <a:lnTo>
                        <a:pt x="1563" y="2229"/>
                      </a:lnTo>
                      <a:lnTo>
                        <a:pt x="1577" y="2175"/>
                      </a:lnTo>
                      <a:lnTo>
                        <a:pt x="1598" y="2115"/>
                      </a:lnTo>
                      <a:lnTo>
                        <a:pt x="1619" y="2062"/>
                      </a:lnTo>
                      <a:lnTo>
                        <a:pt x="1638" y="2018"/>
                      </a:lnTo>
                      <a:lnTo>
                        <a:pt x="1655" y="1980"/>
                      </a:lnTo>
                      <a:lnTo>
                        <a:pt x="1672" y="1943"/>
                      </a:lnTo>
                      <a:lnTo>
                        <a:pt x="1706" y="1880"/>
                      </a:lnTo>
                      <a:lnTo>
                        <a:pt x="1740" y="1821"/>
                      </a:lnTo>
                      <a:lnTo>
                        <a:pt x="1773" y="1766"/>
                      </a:lnTo>
                      <a:lnTo>
                        <a:pt x="1799" y="1724"/>
                      </a:lnTo>
                      <a:lnTo>
                        <a:pt x="1846" y="1645"/>
                      </a:lnTo>
                      <a:lnTo>
                        <a:pt x="1879" y="1590"/>
                      </a:lnTo>
                      <a:lnTo>
                        <a:pt x="1905" y="1544"/>
                      </a:lnTo>
                      <a:lnTo>
                        <a:pt x="1927" y="1492"/>
                      </a:lnTo>
                      <a:lnTo>
                        <a:pt x="1952" y="1429"/>
                      </a:lnTo>
                      <a:lnTo>
                        <a:pt x="1969" y="1374"/>
                      </a:lnTo>
                      <a:lnTo>
                        <a:pt x="1985" y="1316"/>
                      </a:lnTo>
                      <a:lnTo>
                        <a:pt x="1995" y="1267"/>
                      </a:lnTo>
                      <a:lnTo>
                        <a:pt x="2007" y="1212"/>
                      </a:lnTo>
                      <a:lnTo>
                        <a:pt x="2015" y="1142"/>
                      </a:lnTo>
                      <a:lnTo>
                        <a:pt x="2019" y="1062"/>
                      </a:lnTo>
                      <a:lnTo>
                        <a:pt x="2019" y="987"/>
                      </a:lnTo>
                      <a:lnTo>
                        <a:pt x="2012" y="928"/>
                      </a:lnTo>
                      <a:lnTo>
                        <a:pt x="2003" y="873"/>
                      </a:lnTo>
                      <a:lnTo>
                        <a:pt x="1994" y="824"/>
                      </a:lnTo>
                      <a:lnTo>
                        <a:pt x="1978" y="759"/>
                      </a:lnTo>
                      <a:lnTo>
                        <a:pt x="1960" y="694"/>
                      </a:lnTo>
                      <a:lnTo>
                        <a:pt x="1940" y="634"/>
                      </a:lnTo>
                      <a:lnTo>
                        <a:pt x="1917" y="578"/>
                      </a:lnTo>
                      <a:lnTo>
                        <a:pt x="1888" y="529"/>
                      </a:lnTo>
                      <a:lnTo>
                        <a:pt x="1850" y="466"/>
                      </a:lnTo>
                      <a:lnTo>
                        <a:pt x="1807" y="403"/>
                      </a:lnTo>
                      <a:lnTo>
                        <a:pt x="1765" y="354"/>
                      </a:lnTo>
                      <a:lnTo>
                        <a:pt x="1727" y="312"/>
                      </a:lnTo>
                      <a:lnTo>
                        <a:pt x="1683" y="272"/>
                      </a:lnTo>
                      <a:lnTo>
                        <a:pt x="1636" y="232"/>
                      </a:lnTo>
                      <a:lnTo>
                        <a:pt x="1590" y="196"/>
                      </a:lnTo>
                      <a:lnTo>
                        <a:pt x="1535" y="159"/>
                      </a:lnTo>
                      <a:lnTo>
                        <a:pt x="1471" y="120"/>
                      </a:lnTo>
                      <a:lnTo>
                        <a:pt x="1411" y="90"/>
                      </a:lnTo>
                      <a:lnTo>
                        <a:pt x="1341" y="61"/>
                      </a:lnTo>
                      <a:lnTo>
                        <a:pt x="1277" y="40"/>
                      </a:lnTo>
                      <a:lnTo>
                        <a:pt x="1224" y="27"/>
                      </a:lnTo>
                      <a:lnTo>
                        <a:pt x="1167" y="14"/>
                      </a:lnTo>
                      <a:lnTo>
                        <a:pt x="1115" y="6"/>
                      </a:lnTo>
                      <a:lnTo>
                        <a:pt x="1053" y="0"/>
                      </a:lnTo>
                      <a:lnTo>
                        <a:pt x="997" y="0"/>
                      </a:lnTo>
                      <a:lnTo>
                        <a:pt x="936" y="0"/>
                      </a:lnTo>
                      <a:lnTo>
                        <a:pt x="885" y="6"/>
                      </a:lnTo>
                      <a:lnTo>
                        <a:pt x="826" y="19"/>
                      </a:lnTo>
                      <a:lnTo>
                        <a:pt x="782" y="28"/>
                      </a:lnTo>
                      <a:lnTo>
                        <a:pt x="727" y="44"/>
                      </a:lnTo>
                      <a:lnTo>
                        <a:pt x="676" y="59"/>
                      </a:lnTo>
                      <a:lnTo>
                        <a:pt x="630" y="78"/>
                      </a:lnTo>
                      <a:lnTo>
                        <a:pt x="586" y="97"/>
                      </a:lnTo>
                      <a:lnTo>
                        <a:pt x="541" y="121"/>
                      </a:lnTo>
                      <a:lnTo>
                        <a:pt x="501" y="145"/>
                      </a:lnTo>
                      <a:lnTo>
                        <a:pt x="456" y="175"/>
                      </a:lnTo>
                      <a:lnTo>
                        <a:pt x="408" y="209"/>
                      </a:lnTo>
                      <a:lnTo>
                        <a:pt x="365" y="242"/>
                      </a:lnTo>
                      <a:lnTo>
                        <a:pt x="326" y="277"/>
                      </a:lnTo>
                      <a:lnTo>
                        <a:pt x="284" y="316"/>
                      </a:lnTo>
                      <a:lnTo>
                        <a:pt x="242" y="360"/>
                      </a:lnTo>
                      <a:lnTo>
                        <a:pt x="206" y="402"/>
                      </a:lnTo>
                      <a:lnTo>
                        <a:pt x="175" y="441"/>
                      </a:lnTo>
                      <a:lnTo>
                        <a:pt x="140" y="495"/>
                      </a:lnTo>
                      <a:lnTo>
                        <a:pt x="106" y="554"/>
                      </a:lnTo>
                      <a:lnTo>
                        <a:pt x="75" y="620"/>
                      </a:lnTo>
                      <a:lnTo>
                        <a:pt x="53" y="685"/>
                      </a:lnTo>
                      <a:lnTo>
                        <a:pt x="34" y="752"/>
                      </a:lnTo>
                      <a:lnTo>
                        <a:pt x="17" y="818"/>
                      </a:lnTo>
                      <a:lnTo>
                        <a:pt x="7" y="879"/>
                      </a:lnTo>
                      <a:lnTo>
                        <a:pt x="0" y="940"/>
                      </a:lnTo>
                      <a:lnTo>
                        <a:pt x="0" y="999"/>
                      </a:lnTo>
                      <a:lnTo>
                        <a:pt x="0" y="1052"/>
                      </a:lnTo>
                      <a:lnTo>
                        <a:pt x="0" y="1115"/>
                      </a:lnTo>
                      <a:lnTo>
                        <a:pt x="3" y="1170"/>
                      </a:lnTo>
                      <a:lnTo>
                        <a:pt x="14" y="1239"/>
                      </a:lnTo>
                      <a:lnTo>
                        <a:pt x="24" y="1299"/>
                      </a:lnTo>
                      <a:lnTo>
                        <a:pt x="40" y="1358"/>
                      </a:lnTo>
                      <a:lnTo>
                        <a:pt x="62" y="1427"/>
                      </a:lnTo>
                      <a:lnTo>
                        <a:pt x="87" y="1488"/>
                      </a:lnTo>
                      <a:lnTo>
                        <a:pt x="113" y="1542"/>
                      </a:lnTo>
                      <a:lnTo>
                        <a:pt x="144" y="1602"/>
                      </a:lnTo>
                      <a:lnTo>
                        <a:pt x="178" y="1660"/>
                      </a:lnTo>
                      <a:lnTo>
                        <a:pt x="208" y="1715"/>
                      </a:lnTo>
                      <a:lnTo>
                        <a:pt x="239" y="1770"/>
                      </a:lnTo>
                      <a:lnTo>
                        <a:pt x="272" y="1830"/>
                      </a:lnTo>
                      <a:lnTo>
                        <a:pt x="323" y="1917"/>
                      </a:lnTo>
                      <a:lnTo>
                        <a:pt x="370" y="2007"/>
                      </a:lnTo>
                      <a:lnTo>
                        <a:pt x="398" y="2053"/>
                      </a:lnTo>
                      <a:lnTo>
                        <a:pt x="412" y="2091"/>
                      </a:lnTo>
                      <a:lnTo>
                        <a:pt x="429" y="2138"/>
                      </a:lnTo>
                      <a:lnTo>
                        <a:pt x="445" y="2192"/>
                      </a:lnTo>
                      <a:lnTo>
                        <a:pt x="458" y="2239"/>
                      </a:lnTo>
                      <a:lnTo>
                        <a:pt x="469" y="2292"/>
                      </a:lnTo>
                      <a:lnTo>
                        <a:pt x="479" y="2365"/>
                      </a:lnTo>
                      <a:lnTo>
                        <a:pt x="492" y="2444"/>
                      </a:lnTo>
                      <a:lnTo>
                        <a:pt x="501" y="2506"/>
                      </a:lnTo>
                      <a:lnTo>
                        <a:pt x="511" y="2586"/>
                      </a:lnTo>
                      <a:lnTo>
                        <a:pt x="518" y="2643"/>
                      </a:lnTo>
                      <a:lnTo>
                        <a:pt x="526" y="2693"/>
                      </a:lnTo>
                      <a:lnTo>
                        <a:pt x="537" y="2742"/>
                      </a:lnTo>
                      <a:lnTo>
                        <a:pt x="541" y="2756"/>
                      </a:lnTo>
                      <a:lnTo>
                        <a:pt x="543" y="2767"/>
                      </a:lnTo>
                      <a:lnTo>
                        <a:pt x="545" y="2773"/>
                      </a:lnTo>
                      <a:lnTo>
                        <a:pt x="546" y="2778"/>
                      </a:lnTo>
                      <a:lnTo>
                        <a:pt x="552" y="2784"/>
                      </a:lnTo>
                      <a:lnTo>
                        <a:pt x="558" y="2794"/>
                      </a:lnTo>
                      <a:lnTo>
                        <a:pt x="567" y="2803"/>
                      </a:lnTo>
                      <a:lnTo>
                        <a:pt x="576" y="2812"/>
                      </a:lnTo>
                      <a:lnTo>
                        <a:pt x="592" y="2824"/>
                      </a:lnTo>
                      <a:lnTo>
                        <a:pt x="610" y="2833"/>
                      </a:lnTo>
                      <a:lnTo>
                        <a:pt x="635" y="2847"/>
                      </a:lnTo>
                      <a:lnTo>
                        <a:pt x="657" y="2856"/>
                      </a:lnTo>
                      <a:lnTo>
                        <a:pt x="681" y="2864"/>
                      </a:lnTo>
                      <a:lnTo>
                        <a:pt x="703" y="2870"/>
                      </a:lnTo>
                      <a:lnTo>
                        <a:pt x="723" y="2875"/>
                      </a:lnTo>
                      <a:lnTo>
                        <a:pt x="753" y="2883"/>
                      </a:lnTo>
                      <a:lnTo>
                        <a:pt x="778" y="2889"/>
                      </a:lnTo>
                      <a:lnTo>
                        <a:pt x="802" y="2892"/>
                      </a:lnTo>
                      <a:lnTo>
                        <a:pt x="829" y="2896"/>
                      </a:lnTo>
                      <a:lnTo>
                        <a:pt x="857" y="2900"/>
                      </a:lnTo>
                      <a:lnTo>
                        <a:pt x="883" y="2902"/>
                      </a:lnTo>
                      <a:lnTo>
                        <a:pt x="906" y="2904"/>
                      </a:lnTo>
                      <a:lnTo>
                        <a:pt x="934" y="2906"/>
                      </a:lnTo>
                      <a:lnTo>
                        <a:pt x="959" y="2908"/>
                      </a:lnTo>
                      <a:lnTo>
                        <a:pt x="984" y="2908"/>
                      </a:lnTo>
                      <a:lnTo>
                        <a:pt x="1006" y="2908"/>
                      </a:lnTo>
                      <a:lnTo>
                        <a:pt x="1031" y="2908"/>
                      </a:lnTo>
                      <a:lnTo>
                        <a:pt x="1061" y="2908"/>
                      </a:lnTo>
                      <a:lnTo>
                        <a:pt x="1086" y="2906"/>
                      </a:lnTo>
                      <a:lnTo>
                        <a:pt x="1108" y="2906"/>
                      </a:lnTo>
                      <a:lnTo>
                        <a:pt x="1134" y="2902"/>
                      </a:lnTo>
                      <a:lnTo>
                        <a:pt x="1166" y="2900"/>
                      </a:lnTo>
                      <a:lnTo>
                        <a:pt x="1188" y="2896"/>
                      </a:lnTo>
                      <a:lnTo>
                        <a:pt x="1217" y="2892"/>
                      </a:lnTo>
                      <a:lnTo>
                        <a:pt x="1241" y="2887"/>
                      </a:lnTo>
                      <a:lnTo>
                        <a:pt x="1265" y="2883"/>
                      </a:lnTo>
                      <a:lnTo>
                        <a:pt x="1288" y="2877"/>
                      </a:lnTo>
                      <a:lnTo>
                        <a:pt x="1309" y="2871"/>
                      </a:lnTo>
                      <a:lnTo>
                        <a:pt x="1334" y="2864"/>
                      </a:lnTo>
                      <a:lnTo>
                        <a:pt x="1354" y="2856"/>
                      </a:lnTo>
                      <a:lnTo>
                        <a:pt x="1375" y="2849"/>
                      </a:lnTo>
                      <a:lnTo>
                        <a:pt x="1395" y="2839"/>
                      </a:lnTo>
                      <a:lnTo>
                        <a:pt x="1415" y="283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椭圆 9363"/>
                <p:cNvSpPr/>
                <p:nvPr/>
              </p:nvSpPr>
              <p:spPr>
                <a:xfrm flipH="1">
                  <a:off x="6103080" y="3870720"/>
                  <a:ext cx="264600" cy="4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任意多边形 9364"/>
                <p:cNvSpPr/>
                <p:nvPr/>
              </p:nvSpPr>
              <p:spPr>
                <a:xfrm flipH="1">
                  <a:off x="5990400" y="3529440"/>
                  <a:ext cx="100440" cy="64800"/>
                </a:xfrm>
                <a:custGeom>
                  <a:avLst/>
                  <a:gdLst/>
                  <a:ahLst/>
                  <a:rect l="l" t="t" r="r" b="b"/>
                  <a:pathLst>
                    <a:path w="338" h="432">
                      <a:moveTo>
                        <a:pt x="0" y="0"/>
                      </a:moveTo>
                      <a:lnTo>
                        <a:pt x="90" y="46"/>
                      </a:lnTo>
                      <a:lnTo>
                        <a:pt x="172" y="97"/>
                      </a:lnTo>
                      <a:lnTo>
                        <a:pt x="234" y="148"/>
                      </a:lnTo>
                      <a:lnTo>
                        <a:pt x="275" y="203"/>
                      </a:lnTo>
                      <a:lnTo>
                        <a:pt x="304" y="259"/>
                      </a:lnTo>
                      <a:lnTo>
                        <a:pt x="325" y="308"/>
                      </a:lnTo>
                      <a:lnTo>
                        <a:pt x="338" y="358"/>
                      </a:lnTo>
                      <a:lnTo>
                        <a:pt x="219" y="432"/>
                      </a:lnTo>
                      <a:lnTo>
                        <a:pt x="208" y="362"/>
                      </a:lnTo>
                      <a:lnTo>
                        <a:pt x="189" y="287"/>
                      </a:lnTo>
                      <a:lnTo>
                        <a:pt x="161" y="209"/>
                      </a:lnTo>
                      <a:lnTo>
                        <a:pt x="124" y="144"/>
                      </a:lnTo>
                      <a:lnTo>
                        <a:pt x="73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组合 9365"/>
                <p:cNvGrpSpPr/>
                <p:nvPr/>
              </p:nvGrpSpPr>
              <p:grpSpPr>
                <a:xfrm>
                  <a:off x="6152760" y="3616920"/>
                  <a:ext cx="167400" cy="268560"/>
                  <a:chOff x="6152760" y="3616920"/>
                  <a:chExt cx="167400" cy="268560"/>
                </a:xfrm>
              </p:grpSpPr>
              <p:sp>
                <p:nvSpPr>
                  <p:cNvPr id="205" name="任意多边形 9366"/>
                  <p:cNvSpPr/>
                  <p:nvPr/>
                </p:nvSpPr>
                <p:spPr>
                  <a:xfrm flipH="1">
                    <a:off x="6185880" y="3728880"/>
                    <a:ext cx="10260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5" h="1053">
                        <a:moveTo>
                          <a:pt x="0" y="80"/>
                        </a:moveTo>
                        <a:lnTo>
                          <a:pt x="6" y="252"/>
                        </a:lnTo>
                        <a:lnTo>
                          <a:pt x="23" y="274"/>
                        </a:lnTo>
                        <a:lnTo>
                          <a:pt x="17" y="975"/>
                        </a:lnTo>
                        <a:lnTo>
                          <a:pt x="40" y="1053"/>
                        </a:lnTo>
                        <a:lnTo>
                          <a:pt x="98" y="1053"/>
                        </a:lnTo>
                        <a:lnTo>
                          <a:pt x="146" y="1015"/>
                        </a:lnTo>
                        <a:lnTo>
                          <a:pt x="201" y="1015"/>
                        </a:lnTo>
                        <a:lnTo>
                          <a:pt x="245" y="1053"/>
                        </a:lnTo>
                        <a:lnTo>
                          <a:pt x="307" y="1053"/>
                        </a:lnTo>
                        <a:lnTo>
                          <a:pt x="328" y="975"/>
                        </a:lnTo>
                        <a:lnTo>
                          <a:pt x="317" y="274"/>
                        </a:lnTo>
                        <a:lnTo>
                          <a:pt x="333" y="252"/>
                        </a:lnTo>
                        <a:lnTo>
                          <a:pt x="345" y="80"/>
                        </a:lnTo>
                        <a:lnTo>
                          <a:pt x="269" y="17"/>
                        </a:lnTo>
                        <a:lnTo>
                          <a:pt x="231" y="17"/>
                        </a:lnTo>
                        <a:lnTo>
                          <a:pt x="210" y="0"/>
                        </a:lnTo>
                        <a:lnTo>
                          <a:pt x="123" y="0"/>
                        </a:lnTo>
                        <a:lnTo>
                          <a:pt x="104" y="17"/>
                        </a:lnTo>
                        <a:lnTo>
                          <a:pt x="72" y="17"/>
                        </a:lnTo>
                        <a:lnTo>
                          <a:pt x="0" y="8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cc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椭圆 9367"/>
                  <p:cNvSpPr/>
                  <p:nvPr/>
                </p:nvSpPr>
                <p:spPr>
                  <a:xfrm flipH="1">
                    <a:off x="6222240" y="3733920"/>
                    <a:ext cx="13320" cy="10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ccff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7" name="组合 9368"/>
                  <p:cNvGrpSpPr/>
                  <p:nvPr/>
                </p:nvGrpSpPr>
                <p:grpSpPr>
                  <a:xfrm>
                    <a:off x="6152760" y="3616920"/>
                    <a:ext cx="167400" cy="123120"/>
                    <a:chOff x="6152760" y="3616920"/>
                    <a:chExt cx="167400" cy="123120"/>
                  </a:xfrm>
                </p:grpSpPr>
                <p:sp>
                  <p:nvSpPr>
                    <p:cNvPr id="208" name="椭圆 9369"/>
                    <p:cNvSpPr/>
                    <p:nvPr/>
                  </p:nvSpPr>
                  <p:spPr>
                    <a:xfrm flipH="1">
                      <a:off x="6157080" y="3616920"/>
                      <a:ext cx="153000" cy="41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任意多边形 9370"/>
                    <p:cNvSpPr/>
                    <p:nvPr/>
                  </p:nvSpPr>
                  <p:spPr>
                    <a:xfrm flipH="1">
                      <a:off x="6152400" y="3636000"/>
                      <a:ext cx="167400" cy="10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2" h="699">
                          <a:moveTo>
                            <a:pt x="358" y="699"/>
                          </a:moveTo>
                          <a:lnTo>
                            <a:pt x="562" y="69"/>
                          </a:lnTo>
                          <a:lnTo>
                            <a:pt x="526" y="56"/>
                          </a:lnTo>
                          <a:lnTo>
                            <a:pt x="485" y="38"/>
                          </a:lnTo>
                          <a:lnTo>
                            <a:pt x="431" y="24"/>
                          </a:lnTo>
                          <a:lnTo>
                            <a:pt x="384" y="12"/>
                          </a:lnTo>
                          <a:lnTo>
                            <a:pt x="342" y="4"/>
                          </a:lnTo>
                          <a:lnTo>
                            <a:pt x="297" y="0"/>
                          </a:lnTo>
                          <a:lnTo>
                            <a:pt x="248" y="3"/>
                          </a:lnTo>
                          <a:lnTo>
                            <a:pt x="185" y="10"/>
                          </a:lnTo>
                          <a:lnTo>
                            <a:pt x="132" y="24"/>
                          </a:lnTo>
                          <a:lnTo>
                            <a:pt x="80" y="38"/>
                          </a:lnTo>
                          <a:lnTo>
                            <a:pt x="34" y="58"/>
                          </a:lnTo>
                          <a:lnTo>
                            <a:pt x="0" y="76"/>
                          </a:lnTo>
                          <a:lnTo>
                            <a:pt x="197" y="69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6cc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组合 9371"/>
                  <p:cNvGrpSpPr/>
                  <p:nvPr/>
                </p:nvGrpSpPr>
                <p:grpSpPr>
                  <a:xfrm>
                    <a:off x="6210000" y="3751200"/>
                    <a:ext cx="57600" cy="119520"/>
                    <a:chOff x="6210000" y="3751200"/>
                    <a:chExt cx="57600" cy="119520"/>
                  </a:xfrm>
                </p:grpSpPr>
                <p:sp>
                  <p:nvSpPr>
                    <p:cNvPr id="211" name="直接连接符 9372"/>
                    <p:cNvSpPr/>
                    <p:nvPr/>
                  </p:nvSpPr>
                  <p:spPr>
                    <a:xfrm>
                      <a:off x="6257880" y="3754080"/>
                      <a:ext cx="0" cy="116640"/>
                    </a:xfrm>
                    <a:prstGeom prst="line">
                      <a:avLst/>
                    </a:prstGeom>
                    <a:ln w="648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直接连接符 9373"/>
                    <p:cNvSpPr/>
                    <p:nvPr/>
                  </p:nvSpPr>
                  <p:spPr>
                    <a:xfrm flipH="1" flipV="1">
                      <a:off x="6218640" y="3754080"/>
                      <a:ext cx="1080" cy="115920"/>
                    </a:xfrm>
                    <a:prstGeom prst="line">
                      <a:avLst/>
                    </a:prstGeom>
                    <a:ln w="648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直接连接符 9374"/>
                    <p:cNvSpPr/>
                    <p:nvPr/>
                  </p:nvSpPr>
                  <p:spPr>
                    <a:xfrm flipH="1" flipV="1">
                      <a:off x="6210000" y="3751200"/>
                      <a:ext cx="720" cy="115920"/>
                    </a:xfrm>
                    <a:prstGeom prst="line">
                      <a:avLst/>
                    </a:prstGeom>
                    <a:ln w="648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直接连接符 9375"/>
                    <p:cNvSpPr/>
                    <p:nvPr/>
                  </p:nvSpPr>
                  <p:spPr>
                    <a:xfrm flipV="1">
                      <a:off x="6267240" y="3751200"/>
                      <a:ext cx="360" cy="115920"/>
                    </a:xfrm>
                    <a:prstGeom prst="line">
                      <a:avLst/>
                    </a:prstGeom>
                    <a:ln w="6480">
                      <a:solidFill>
                        <a:srgbClr val="3399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5" name="任意多边形 9376"/>
                <p:cNvSpPr/>
                <p:nvPr/>
              </p:nvSpPr>
              <p:spPr>
                <a:xfrm flipH="1">
                  <a:off x="6084000" y="3808080"/>
                  <a:ext cx="162720" cy="101520"/>
                </a:xfrm>
                <a:custGeom>
                  <a:avLst/>
                  <a:gdLst/>
                  <a:ahLst/>
                  <a:rect l="l" t="t" r="r" b="b"/>
                  <a:pathLst>
                    <a:path w="546" h="681">
                      <a:moveTo>
                        <a:pt x="546" y="0"/>
                      </a:moveTo>
                      <a:lnTo>
                        <a:pt x="523" y="20"/>
                      </a:lnTo>
                      <a:lnTo>
                        <a:pt x="432" y="441"/>
                      </a:lnTo>
                      <a:lnTo>
                        <a:pt x="415" y="483"/>
                      </a:lnTo>
                      <a:lnTo>
                        <a:pt x="388" y="518"/>
                      </a:lnTo>
                      <a:lnTo>
                        <a:pt x="347" y="550"/>
                      </a:lnTo>
                      <a:lnTo>
                        <a:pt x="307" y="575"/>
                      </a:lnTo>
                      <a:lnTo>
                        <a:pt x="262" y="598"/>
                      </a:lnTo>
                      <a:lnTo>
                        <a:pt x="215" y="618"/>
                      </a:lnTo>
                      <a:lnTo>
                        <a:pt x="163" y="637"/>
                      </a:lnTo>
                      <a:lnTo>
                        <a:pt x="119" y="647"/>
                      </a:lnTo>
                      <a:lnTo>
                        <a:pt x="65" y="656"/>
                      </a:lnTo>
                      <a:lnTo>
                        <a:pt x="0" y="652"/>
                      </a:lnTo>
                      <a:lnTo>
                        <a:pt x="10" y="677"/>
                      </a:lnTo>
                      <a:lnTo>
                        <a:pt x="55" y="681"/>
                      </a:lnTo>
                      <a:lnTo>
                        <a:pt x="86" y="681"/>
                      </a:lnTo>
                      <a:lnTo>
                        <a:pt x="134" y="677"/>
                      </a:lnTo>
                      <a:lnTo>
                        <a:pt x="173" y="674"/>
                      </a:lnTo>
                      <a:lnTo>
                        <a:pt x="227" y="665"/>
                      </a:lnTo>
                      <a:lnTo>
                        <a:pt x="269" y="657"/>
                      </a:lnTo>
                      <a:lnTo>
                        <a:pt x="316" y="643"/>
                      </a:lnTo>
                      <a:lnTo>
                        <a:pt x="343" y="635"/>
                      </a:lnTo>
                      <a:lnTo>
                        <a:pt x="384" y="618"/>
                      </a:lnTo>
                      <a:lnTo>
                        <a:pt x="427" y="590"/>
                      </a:lnTo>
                      <a:lnTo>
                        <a:pt x="440" y="575"/>
                      </a:lnTo>
                      <a:lnTo>
                        <a:pt x="452" y="554"/>
                      </a:lnTo>
                      <a:lnTo>
                        <a:pt x="462" y="512"/>
                      </a:lnTo>
                      <a:lnTo>
                        <a:pt x="471" y="470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6cc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组合 9406"/>
              <p:cNvGrpSpPr/>
              <p:nvPr/>
            </p:nvGrpSpPr>
            <p:grpSpPr>
              <a:xfrm>
                <a:off x="2500560" y="3291120"/>
                <a:ext cx="2749320" cy="833760"/>
                <a:chOff x="2500560" y="3291120"/>
                <a:chExt cx="2749320" cy="833760"/>
              </a:xfrm>
            </p:grpSpPr>
            <p:sp>
              <p:nvSpPr>
                <p:cNvPr id="217" name="矩形 9342"/>
                <p:cNvSpPr/>
                <p:nvPr/>
              </p:nvSpPr>
              <p:spPr>
                <a:xfrm flipH="1">
                  <a:off x="2516040" y="3305520"/>
                  <a:ext cx="2587680" cy="819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00"/>
                    </a:gs>
                    <a:gs pos="5000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ln w="93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组合 9377"/>
                <p:cNvGrpSpPr/>
                <p:nvPr/>
              </p:nvGrpSpPr>
              <p:grpSpPr>
                <a:xfrm>
                  <a:off x="2500560" y="4124880"/>
                  <a:ext cx="2673000" cy="0"/>
                  <a:chOff x="2500560" y="4124880"/>
                  <a:chExt cx="2673000" cy="0"/>
                </a:xfrm>
              </p:grpSpPr>
              <p:sp>
                <p:nvSpPr>
                  <p:cNvPr id="219" name="直接连接符 9378"/>
                  <p:cNvSpPr/>
                  <p:nvPr/>
                </p:nvSpPr>
                <p:spPr>
                  <a:xfrm flipH="1">
                    <a:off x="3794040" y="4124880"/>
                    <a:ext cx="1379520" cy="0"/>
                  </a:xfrm>
                  <a:prstGeom prst="line">
                    <a:avLst/>
                  </a:prstGeom>
                  <a:ln w="38160">
                    <a:solidFill>
                      <a:srgbClr val="339966"/>
                    </a:solidFill>
                    <a:round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直接连接符 9379"/>
                  <p:cNvSpPr/>
                  <p:nvPr/>
                </p:nvSpPr>
                <p:spPr>
                  <a:xfrm flipH="1">
                    <a:off x="2500560" y="4124880"/>
                    <a:ext cx="1552320" cy="0"/>
                  </a:xfrm>
                  <a:prstGeom prst="line">
                    <a:avLst/>
                  </a:prstGeom>
                  <a:ln w="381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1" name="组合 9380"/>
                <p:cNvGrpSpPr/>
                <p:nvPr/>
              </p:nvGrpSpPr>
              <p:grpSpPr>
                <a:xfrm>
                  <a:off x="2576880" y="3291120"/>
                  <a:ext cx="2673000" cy="0"/>
                  <a:chOff x="2576880" y="3291120"/>
                  <a:chExt cx="2673000" cy="0"/>
                </a:xfrm>
              </p:grpSpPr>
              <p:sp>
                <p:nvSpPr>
                  <p:cNvPr id="222" name="直接连接符 9381"/>
                  <p:cNvSpPr/>
                  <p:nvPr/>
                </p:nvSpPr>
                <p:spPr>
                  <a:xfrm flipH="1">
                    <a:off x="3870360" y="3291120"/>
                    <a:ext cx="1379520" cy="0"/>
                  </a:xfrm>
                  <a:prstGeom prst="line">
                    <a:avLst/>
                  </a:prstGeom>
                  <a:ln w="38160">
                    <a:solidFill>
                      <a:srgbClr val="339966"/>
                    </a:solidFill>
                    <a:round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直接连接符 9382"/>
                  <p:cNvSpPr/>
                  <p:nvPr/>
                </p:nvSpPr>
                <p:spPr>
                  <a:xfrm flipH="1">
                    <a:off x="2576880" y="3291120"/>
                    <a:ext cx="1552320" cy="0"/>
                  </a:xfrm>
                  <a:prstGeom prst="line">
                    <a:avLst/>
                  </a:prstGeom>
                  <a:ln w="38160">
                    <a:solidFill>
                      <a:srgbClr val="33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24" name="组合 9409"/>
            <p:cNvGrpSpPr/>
            <p:nvPr/>
          </p:nvGrpSpPr>
          <p:grpSpPr>
            <a:xfrm>
              <a:off x="900000" y="620640"/>
              <a:ext cx="8076960" cy="3754440"/>
              <a:chOff x="900000" y="620640"/>
              <a:chExt cx="8076960" cy="3754440"/>
            </a:xfrm>
          </p:grpSpPr>
          <p:sp>
            <p:nvSpPr>
              <p:cNvPr id="225" name="文本框 9387"/>
              <p:cNvSpPr/>
              <p:nvPr/>
            </p:nvSpPr>
            <p:spPr>
              <a:xfrm>
                <a:off x="1052280" y="759600"/>
                <a:ext cx="7848000" cy="1556640"/>
              </a:xfrm>
              <a:prstGeom prst="rect">
                <a:avLst/>
              </a:prstGeom>
              <a:noFill/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00cc"/>
                    </a:solidFill>
                    <a:latin typeface="Times New Roman"/>
                  </a:rPr>
                  <a:t>讨论：</a:t>
                </a:r>
                <a:br>
                  <a:rPr sz="4000"/>
                </a:b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如图所示是我们实验中所使用的平行光源，其前端是一个凸透镜，</a:t>
                </a:r>
                <a:br>
                  <a:rPr sz="2800"/>
                </a:b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思考：为使小灯泡发出的光变成一束平行光，应把小灯泡放在凸透镜的什么位置，为什么？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矩形 9408"/>
              <p:cNvSpPr/>
              <p:nvPr/>
            </p:nvSpPr>
            <p:spPr>
              <a:xfrm>
                <a:off x="900000" y="620640"/>
                <a:ext cx="8076960" cy="3754440"/>
              </a:xfrm>
              <a:prstGeom prst="rect">
                <a:avLst/>
              </a:prstGeom>
              <a:noFill/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" name="组合 9404"/>
          <p:cNvGrpSpPr/>
          <p:nvPr/>
        </p:nvGrpSpPr>
        <p:grpSpPr>
          <a:xfrm>
            <a:off x="1143000" y="3277440"/>
            <a:ext cx="6781680" cy="892080"/>
            <a:chOff x="1143000" y="3277440"/>
            <a:chExt cx="6781680" cy="892080"/>
          </a:xfrm>
        </p:grpSpPr>
        <p:grpSp>
          <p:nvGrpSpPr>
            <p:cNvPr id="228" name="组合 9401"/>
            <p:cNvGrpSpPr/>
            <p:nvPr/>
          </p:nvGrpSpPr>
          <p:grpSpPr>
            <a:xfrm>
              <a:off x="1143000" y="3277440"/>
              <a:ext cx="6781680" cy="892080"/>
              <a:chOff x="1143000" y="3277440"/>
              <a:chExt cx="6781680" cy="892080"/>
            </a:xfrm>
          </p:grpSpPr>
          <p:grpSp>
            <p:nvGrpSpPr>
              <p:cNvPr id="229" name="组合 9390"/>
              <p:cNvGrpSpPr/>
              <p:nvPr/>
            </p:nvGrpSpPr>
            <p:grpSpPr>
              <a:xfrm>
                <a:off x="4981680" y="3735360"/>
                <a:ext cx="1057320" cy="434160"/>
                <a:chOff x="4981680" y="3735360"/>
                <a:chExt cx="1057320" cy="434160"/>
              </a:xfrm>
            </p:grpSpPr>
            <p:sp>
              <p:nvSpPr>
                <p:cNvPr id="230" name="直接连接符 9391"/>
                <p:cNvSpPr/>
                <p:nvPr/>
              </p:nvSpPr>
              <p:spPr>
                <a:xfrm flipH="1">
                  <a:off x="5493600" y="3735360"/>
                  <a:ext cx="545400" cy="22392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lg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直接连接符 9392"/>
                <p:cNvSpPr/>
                <p:nvPr/>
              </p:nvSpPr>
              <p:spPr>
                <a:xfrm flipH="1">
                  <a:off x="4981680" y="3917160"/>
                  <a:ext cx="614160" cy="252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组合 9393"/>
              <p:cNvGrpSpPr/>
              <p:nvPr/>
            </p:nvGrpSpPr>
            <p:grpSpPr>
              <a:xfrm>
                <a:off x="4984920" y="3277440"/>
                <a:ext cx="1036440" cy="477720"/>
                <a:chOff x="4984920" y="3277440"/>
                <a:chExt cx="1036440" cy="477720"/>
              </a:xfrm>
            </p:grpSpPr>
            <p:sp>
              <p:nvSpPr>
                <p:cNvPr id="233" name="直接连接符 9394"/>
                <p:cNvSpPr/>
                <p:nvPr/>
              </p:nvSpPr>
              <p:spPr>
                <a:xfrm flipH="1" flipV="1">
                  <a:off x="5486760" y="3508560"/>
                  <a:ext cx="534600" cy="24660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lg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直接连接符 9395"/>
                <p:cNvSpPr/>
                <p:nvPr/>
              </p:nvSpPr>
              <p:spPr>
                <a:xfrm flipH="1" flipV="1">
                  <a:off x="4984920" y="3277440"/>
                  <a:ext cx="601920" cy="2775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直接连接符 9396"/>
              <p:cNvSpPr/>
              <p:nvPr/>
            </p:nvSpPr>
            <p:spPr>
              <a:xfrm flipH="1">
                <a:off x="1143000" y="3719520"/>
                <a:ext cx="678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lg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椭圆 9403"/>
            <p:cNvSpPr/>
            <p:nvPr/>
          </p:nvSpPr>
          <p:spPr>
            <a:xfrm flipH="1">
              <a:off x="6019560" y="3566880"/>
              <a:ext cx="152280" cy="228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文本框 9419"/>
          <p:cNvSpPr/>
          <p:nvPr/>
        </p:nvSpPr>
        <p:spPr>
          <a:xfrm>
            <a:off x="762120" y="4572000"/>
            <a:ext cx="784836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讨论：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怎样用实验测出凸透镜的焦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了使实验结果尽可能准确，需要注意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6T09:49:50Z</dcterms:created>
  <dc:creator/>
  <dc:description/>
  <dc:language>en-US</dc:language>
  <cp:lastModifiedBy>xdcheng</cp:lastModifiedBy>
  <dcterms:modified xsi:type="dcterms:W3CDTF">2018-03-16T09:53:1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</Properties>
</file>