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CAMERA.WAV" ContentType="audio/x-wav"/>
  <Override PartName="/ppt/media/image24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gif" ContentType="image/gif"/>
  <Override PartName="/ppt/media/image21.png" ContentType="image/pn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AEC-1F85-4DC1-BF8F-DD3A3F51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694-7D58-4518-9E86-17031A27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3184-14F1-4D07-8843-6B754867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FC166-2083-4064-9FD9-45A28A13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51107-3F99-40D7-952D-0C3E7B0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BF45E-E9A2-40FC-8712-76A419D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F8D9F-4EED-458E-9A4F-8DD6891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733A0-916D-40BB-85CD-38860C7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95A2-6938-4BBF-B32F-C264724B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1DB81-6879-49B5-87A3-6BB21995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791F7-BA9E-4DF3-AEF1-F6D4D514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35B2-606E-47C0-ABEF-BA27098C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760-A5B4-4A5C-BAE8-BE2BF0B0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619F9-5DB5-4FD8-AAA4-70BC39BD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5D6FA-69B8-4F7C-B503-61B1907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FA81B-7E12-441D-AD50-AABBEEC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0A82D-2D1C-44BA-958E-C2DC0A7D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2D04D-804B-419D-BCB0-3B4459E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4F9A9-0BCB-4512-84BB-ACBB6B06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88712-081E-426F-88C2-44DFBC4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04D44-AB02-46F4-AE8F-74250CA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5B8A6-B688-4F41-984F-906297B7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27439-E067-42C8-8262-1F94E98B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095-9F20-4E19-9E2B-892752FF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B420E-70A5-4716-B781-D17C063B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920BB-BBF1-4B8F-AB86-81118A40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E16C4-9CE6-4A5C-B197-E9506D7B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1D92D-6EC7-4290-8167-F356C13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F5EF8-52F4-4B3B-994C-AD6930C7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0709-81BD-4F6D-9F23-379D6C0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D4EC8-927B-4F01-9FD0-94ADB7B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0930-137D-4F7D-AB10-5CA9116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23532-CA7A-4A05-BC0B-FE77A3F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816A-7199-4B88-8A4F-8B5362F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17D-BF15-40EB-B827-F396F4B4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C7141-BD5D-4528-87D7-7E8D998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7A7FF-F84D-4C94-AA18-AF54A787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A58F-A794-4855-96DE-3A95F493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B83D6-5E7D-4BE7-BB71-430E5EF6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0F22D-DD1C-46D1-8470-6199D18E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02C1D-7F8A-448B-A621-69A7C33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EDB67-B2EC-442C-B81F-119010B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EA9DB-0838-4E8F-BF0D-C015DE13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02B4F-7F50-4B9E-BAF9-12AC574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B587-20E3-4D5E-9267-26F2C2D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5787-EAE2-4218-9547-2C90AFAE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D9278-AB4F-4A91-AF54-D401710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D2855-1E66-4CFC-8F97-2736F62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13CD7-B816-4039-9FA9-58FFE3CC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925E9-4477-4F70-86F0-A55CA328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E394-B2F4-4652-83AF-064F599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990-E792-4203-B6CF-96D2D047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F257-B8EE-4361-B147-8EF8733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765A-9078-466B-9E11-DA010A2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24A-E92B-4AF9-B3A0-4AB86912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9D7-6E7E-4DD5-876E-0A7BE70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6D8-AD21-4F12-9138-5AD1D4B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968D-AA5F-44FF-A37C-7F0628DF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E651-BC7A-47E7-9D31-010D56C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6372-4D1C-46F9-ACC1-BF37EEA8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0334-D1FA-42EE-95B0-09FA3835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6A16-D010-41C8-8288-03A0B494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87C0-BD61-4CA8-8FAC-7928393C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10F9-007C-4F49-A07C-F3FEB2A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D8C3-E14C-4E34-AE4A-E97B68F5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6A62-D25B-4016-8F16-2B4FE737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8967-5089-4F2E-994B-A0DE5090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1B6-45AA-4E6A-9E49-11EF95F4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42F2-F8B6-49B5-A71D-C0BD085E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5363-172A-42C7-8619-991E41D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BCFE-61A5-48B5-8928-C014C2C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B389-72DD-4E22-B1A5-9E3B3A9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9E53-1954-455C-9CD5-B434127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D5C0-3E0A-4A63-BFE3-BDB4D8CE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85B6-F8C8-4589-BE45-BB6DF923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9590-DD81-4CFA-9E54-2AC29FF7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4B944-92D5-4490-B188-AAFB54AC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2CB7-5133-453A-91C1-BB2C72B6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C08-BF37-4BEC-9865-C9348F6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0875-F72E-4F34-B511-B0DD6E94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A8DC-D7A0-481C-AA65-B90CC2D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BA34-5442-40A9-A167-30F518C9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1B0F-743D-4200-9418-93DF937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E58A-4712-475A-B1B7-9B2F6DC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97E74-C1C0-4F10-832D-5FEFF69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835F-5FA0-45F0-B7C7-9877613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0B9B-7D1B-4DCB-93F9-275DC1D7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3A55-49DE-481D-855B-D3C54CD0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968E-2759-4313-8C89-22866BB8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884-62DE-4498-B0D5-F8853596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0A29-FC6E-4C78-84E4-EF41EB7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C3F2-1DA5-4D55-A197-4C3D966E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8F540-B857-439B-942F-B400B6F4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B1D4-E1D2-46A0-BA40-545134D9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A611-E6DF-41BC-9B74-3BD652AC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C02B8-B956-4436-8198-FE646CB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C200-519D-458C-BE3D-0A7AC63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EB708-1BC1-4173-AB4D-94B685C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DA8A-3819-46E6-9D42-3FAA758A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5D4E-AE78-4689-9A25-41A0A3AD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CEC-89A8-4D88-AAF8-63675FF4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5A9E-28F6-401B-8934-F8BA987E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6165-87C2-4371-9F45-8C64E918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9373-890C-4C62-BE57-93510C5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7FB34-0CF2-4478-BC73-915A879C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B7D1C-1BE1-4FDE-9F5E-036E81D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8739-C6B7-4629-A898-539B1FF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E844-4886-4B99-86F4-9A3CABE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7059-02C6-4663-AF4D-C61C970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732C-D752-49DB-B527-CA41703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431E-18D2-461C-9DEF-272AAE0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2BA-0DF6-44C4-9D7F-FA79501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B945-12F9-48AA-A3CE-B6FDF48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49AC-2594-4507-B7D3-161E6593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E60A-3C58-4144-9AAB-F6D0CAC5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5A483-DFF2-4613-9393-0465C204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4EEC-5E9F-499B-B239-A2BD888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8D1E-506F-4D6B-AFC8-B7D250C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ECA30-577E-4148-9252-BC220B0A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F20F-B908-43CE-B29B-9A171BA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3AD4-1BA7-45D4-9B53-D8A6B67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87D4-513B-42A3-B1A8-D17DFD6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772-66B7-499B-B106-9317C62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3BB98-B9CA-452B-9833-CE936D2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8219-B0A2-4F2D-A29B-141289C4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6D86C-669F-4DC4-A691-093381F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7288-F16A-4177-90B2-EFC21F7C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D6085-EA58-45C2-B100-1B547B9F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57877-B4D9-4005-B7B6-8F1BDFD2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1D054-59EF-421F-ABA7-92A2115B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3917-385A-4495-A9A3-9A4862B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072A-6FB8-43C5-95AB-F52D5DC6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8A9F9-73CB-4AA6-B446-D76FFC5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9C1-A0DE-4482-A984-04FE173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B5197-AEE6-42D9-AA61-9600B5F0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57995-6D95-4E1C-84AF-7DACB00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8DE2E-E5C0-4EAC-9063-3A8C5142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5639-93A5-4699-92D2-5C0FC39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CD09C-D476-4696-A105-E342E29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B14B4-CDEE-4D86-950B-772F75CF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34A17-4096-440C-8083-2448AEB2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E8EFE-E5F4-4C92-9C21-E93FCAB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7B32E-2310-4A44-AA35-3715DA2F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542B2-4CED-4D84-8540-4729EE3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26DC-CD0F-4234-B85B-BB2823A56BE5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4DC9-C004-4013-82B1-1FAD4FEADD0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58E-E445-407B-AECB-C29A0912101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940-6712-4FC1-AA7E-0633AF01715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602-D50A-4AB7-B31F-100CCFB28E6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5121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椭圆 512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512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512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512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512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512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AB74-0454-469A-99C2-7EB22AE90ED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26D-C7F8-4756-A78D-168E17E8892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77F-0692-427F-8629-2FFCFE00E97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6FA-465B-4E29-A52F-C4715B65D61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6182-E793-42C6-AA3C-C36CEBA94B9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5DB3-33BF-4CBE-ADA6-EAC78AD7333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D8DA-D817-4872-A7E4-C0D5033ACCE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组合 4097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椭圆 4098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4099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4100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4101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4102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DBF-42B9-482E-A728-BB5AC785954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C8%C6%F8%C7%F2&amp;in=22263&amp;cl=2&amp;cm=1&amp;sc=0&amp;lm=-1&amp;pn=17&amp;rn=1&amp;di=2513532976&amp;ln=200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01401.exe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22529" descr="niudun"/>
          <p:cNvPicPr/>
          <p:nvPr/>
        </p:nvPicPr>
        <p:blipFill>
          <a:blip r:embed="rId1"/>
          <a:stretch/>
        </p:blipFill>
        <p:spPr>
          <a:xfrm>
            <a:off x="755640" y="270828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566" name="文本框 22530"/>
          <p:cNvSpPr/>
          <p:nvPr/>
        </p:nvSpPr>
        <p:spPr>
          <a:xfrm>
            <a:off x="179280" y="98100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</a:rPr>
              <a:t>8.1     </a:t>
            </a:r>
            <a:r>
              <a:rPr b="1" lang="zh-CN" sz="4800" spc="-1" strike="noStrike">
                <a:solidFill>
                  <a:srgbClr val="ff00ff"/>
                </a:solidFill>
                <a:latin typeface="Tahoma"/>
              </a:rPr>
              <a:t>科学探究：牛顿第一定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2531"/>
          <p:cNvSpPr/>
          <p:nvPr/>
        </p:nvSpPr>
        <p:spPr>
          <a:xfrm>
            <a:off x="3565800" y="189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新人教版新教材同步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130320" y="476280"/>
          <a:ext cx="9013680" cy="3724200"/>
        </p:xfrm>
        <a:graphic>
          <a:graphicData uri="http://schemas.openxmlformats.org/drawingml/2006/table">
            <a:tbl>
              <a:tblPr/>
              <a:tblGrid>
                <a:gridCol w="1612800"/>
                <a:gridCol w="1763640"/>
                <a:gridCol w="1654200"/>
                <a:gridCol w="1586160"/>
                <a:gridCol w="2396880"/>
              </a:tblGrid>
              <a:tr h="9446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表面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阻力大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滑行距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速度变化快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华文行楷"/>
                        </a:rPr>
                        <a:t>推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某材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推理想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光滑表面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4" name="文本框 30782"/>
          <p:cNvSpPr/>
          <p:nvPr/>
        </p:nvSpPr>
        <p:spPr>
          <a:xfrm>
            <a:off x="3708360" y="1628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0783"/>
          <p:cNvSpPr/>
          <p:nvPr/>
        </p:nvSpPr>
        <p:spPr>
          <a:xfrm>
            <a:off x="7093080" y="17733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最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0784"/>
          <p:cNvSpPr/>
          <p:nvPr/>
        </p:nvSpPr>
        <p:spPr>
          <a:xfrm>
            <a:off x="5292720" y="17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最 长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0786"/>
          <p:cNvSpPr/>
          <p:nvPr/>
        </p:nvSpPr>
        <p:spPr>
          <a:xfrm>
            <a:off x="5364000" y="278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0787"/>
          <p:cNvSpPr/>
          <p:nvPr/>
        </p:nvSpPr>
        <p:spPr>
          <a:xfrm>
            <a:off x="7236000" y="28526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0838"/>
          <p:cNvSpPr/>
          <p:nvPr/>
        </p:nvSpPr>
        <p:spPr>
          <a:xfrm>
            <a:off x="3441600" y="27496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阻力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0839"/>
          <p:cNvSpPr/>
          <p:nvPr/>
        </p:nvSpPr>
        <p:spPr>
          <a:xfrm>
            <a:off x="468360" y="537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推理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果运动的物体不受力，它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30840"/>
          <p:cNvSpPr/>
          <p:nvPr/>
        </p:nvSpPr>
        <p:spPr>
          <a:xfrm>
            <a:off x="6659640" y="522936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匀速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78849" descr="笛卡尔"/>
          <p:cNvPicPr/>
          <p:nvPr/>
        </p:nvPicPr>
        <p:blipFill>
          <a:blip r:embed="rId1"/>
          <a:stretch/>
        </p:blipFill>
        <p:spPr>
          <a:xfrm>
            <a:off x="684360" y="2997360"/>
            <a:ext cx="2255760" cy="2879640"/>
          </a:xfrm>
          <a:prstGeom prst="rect">
            <a:avLst/>
          </a:prstGeom>
          <a:ln w="0">
            <a:noFill/>
          </a:ln>
        </p:spPr>
      </p:pic>
      <p:sp>
        <p:nvSpPr>
          <p:cNvPr id="653" name="文本框 78850"/>
          <p:cNvSpPr/>
          <p:nvPr/>
        </p:nvSpPr>
        <p:spPr>
          <a:xfrm>
            <a:off x="684360" y="765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Arial"/>
                <a:ea typeface="隶书"/>
              </a:rPr>
              <a:t>伽利略得出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运动物体如果不受外力的作用，其运动会是匀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78851"/>
          <p:cNvSpPr/>
          <p:nvPr/>
        </p:nvSpPr>
        <p:spPr>
          <a:xfrm>
            <a:off x="1365480" y="5855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笛卡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云形标注 78852"/>
          <p:cNvSpPr/>
          <p:nvPr/>
        </p:nvSpPr>
        <p:spPr>
          <a:xfrm>
            <a:off x="1403280" y="2060640"/>
            <a:ext cx="2232000" cy="1152360"/>
          </a:xfrm>
          <a:prstGeom prst="cloudCallout">
            <a:avLst>
              <a:gd name="adj1" fmla="val -31435"/>
              <a:gd name="adj2" fmla="val 7258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只是匀速运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78853"/>
          <p:cNvSpPr/>
          <p:nvPr/>
        </p:nvSpPr>
        <p:spPr>
          <a:xfrm>
            <a:off x="3059280" y="3141720"/>
            <a:ext cx="55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2c6b"/>
                </a:solidFill>
                <a:latin typeface="Arial"/>
              </a:rPr>
              <a:t>笛卡儿的补充</a:t>
            </a:r>
            <a:r>
              <a:rPr b="0" lang="zh-CN" sz="4000" spc="-1" strike="noStrike">
                <a:solidFill>
                  <a:srgbClr val="0d2c6b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果运动物体不受任何力的作用，不仅速度大小不变，而且运动方向也不变，将作匀速直线运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79873" descr="牛顿"/>
          <p:cNvPicPr/>
          <p:nvPr/>
        </p:nvPicPr>
        <p:blipFill>
          <a:blip r:embed="rId1"/>
          <a:stretch/>
        </p:blipFill>
        <p:spPr>
          <a:xfrm>
            <a:off x="5076720" y="620640"/>
            <a:ext cx="3724560" cy="583272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79874"/>
          <p:cNvSpPr/>
          <p:nvPr/>
        </p:nvSpPr>
        <p:spPr>
          <a:xfrm>
            <a:off x="684360" y="1125360"/>
            <a:ext cx="41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2c6b"/>
                </a:solidFill>
                <a:latin typeface="Times New Roman"/>
              </a:rPr>
              <a:t>牛顿分析：物体除了运动的以外</a:t>
            </a:r>
            <a:r>
              <a:rPr b="1" lang="en-US" sz="4000" spc="-1" strike="noStrike">
                <a:solidFill>
                  <a:srgbClr val="0d2c6b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d2c6b"/>
                </a:solidFill>
                <a:latin typeface="Times New Roman"/>
              </a:rPr>
              <a:t>还有静止的，那么，静止的物体在没有受到外力作用时，将保持静止状态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文本框 8197"/>
          <p:cNvSpPr/>
          <p:nvPr/>
        </p:nvSpPr>
        <p:spPr>
          <a:xfrm>
            <a:off x="3348000" y="322200"/>
            <a:ext cx="4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200"/>
          <p:cNvSpPr/>
          <p:nvPr/>
        </p:nvSpPr>
        <p:spPr>
          <a:xfrm>
            <a:off x="339840" y="1906560"/>
            <a:ext cx="192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204"/>
          <p:cNvSpPr/>
          <p:nvPr/>
        </p:nvSpPr>
        <p:spPr>
          <a:xfrm>
            <a:off x="542880" y="5796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8205"/>
          <p:cNvSpPr/>
          <p:nvPr/>
        </p:nvSpPr>
        <p:spPr>
          <a:xfrm>
            <a:off x="34920" y="154944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切物体在没有受到力的作用时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总保持静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状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匀速直线运动状态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219"/>
          <p:cNvSpPr/>
          <p:nvPr/>
        </p:nvSpPr>
        <p:spPr>
          <a:xfrm>
            <a:off x="1239840" y="5772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3"/>
          <p:cNvSpPr/>
          <p:nvPr/>
        </p:nvSpPr>
        <p:spPr>
          <a:xfrm>
            <a:off x="3645000" y="290664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静止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4"/>
          <p:cNvSpPr/>
          <p:nvPr/>
        </p:nvSpPr>
        <p:spPr>
          <a:xfrm>
            <a:off x="4088160" y="4067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匀速直线运动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7"/>
          <p:cNvGrpSpPr/>
          <p:nvPr/>
        </p:nvGrpSpPr>
        <p:grpSpPr>
          <a:xfrm>
            <a:off x="755640" y="3189240"/>
            <a:ext cx="2515680" cy="1276560"/>
            <a:chOff x="755640" y="3189240"/>
            <a:chExt cx="2515680" cy="1276560"/>
          </a:xfrm>
        </p:grpSpPr>
        <p:sp>
          <p:nvSpPr>
            <p:cNvPr id="667" name="文本框 1"/>
            <p:cNvSpPr/>
            <p:nvPr/>
          </p:nvSpPr>
          <p:spPr>
            <a:xfrm>
              <a:off x="755640" y="3507120"/>
              <a:ext cx="235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不受力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左大括号 5"/>
            <p:cNvSpPr/>
            <p:nvPr/>
          </p:nvSpPr>
          <p:spPr>
            <a:xfrm>
              <a:off x="2994120" y="3189240"/>
              <a:ext cx="277200" cy="1276560"/>
            </a:xfrm>
            <a:custGeom>
              <a:avLst/>
              <a:gdLst>
                <a:gd name="textAreaLeft" fmla="*/ 177120 w 277200"/>
                <a:gd name="textAreaRight" fmla="*/ 277560 w 277200"/>
                <a:gd name="textAreaTop" fmla="*/ 0 h 1276560"/>
                <a:gd name="textAreaBottom" fmla="*/ 1276560 h 12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6"/>
          <p:cNvSpPr/>
          <p:nvPr/>
        </p:nvSpPr>
        <p:spPr>
          <a:xfrm>
            <a:off x="673200" y="5038560"/>
            <a:ext cx="75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物体不受力时处于哪种状态由原来的运动状态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文本框 83971"/>
          <p:cNvSpPr/>
          <p:nvPr/>
        </p:nvSpPr>
        <p:spPr>
          <a:xfrm>
            <a:off x="1023840" y="371520"/>
            <a:ext cx="390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3972"/>
          <p:cNvSpPr/>
          <p:nvPr/>
        </p:nvSpPr>
        <p:spPr>
          <a:xfrm>
            <a:off x="324000" y="26028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对定律的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83973"/>
          <p:cNvSpPr/>
          <p:nvPr/>
        </p:nvSpPr>
        <p:spPr>
          <a:xfrm>
            <a:off x="3059280" y="1052640"/>
            <a:ext cx="3260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83974"/>
          <p:cNvSpPr/>
          <p:nvPr/>
        </p:nvSpPr>
        <p:spPr>
          <a:xfrm>
            <a:off x="250920" y="1052640"/>
            <a:ext cx="31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１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一切物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83975"/>
          <p:cNvSpPr/>
          <p:nvPr/>
        </p:nvSpPr>
        <p:spPr>
          <a:xfrm>
            <a:off x="3708360" y="105264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表明该定律对任何物体都适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83976"/>
          <p:cNvSpPr/>
          <p:nvPr/>
        </p:nvSpPr>
        <p:spPr>
          <a:xfrm>
            <a:off x="324000" y="1773360"/>
            <a:ext cx="39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２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没有受外力      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83977"/>
          <p:cNvSpPr/>
          <p:nvPr/>
        </p:nvSpPr>
        <p:spPr>
          <a:xfrm>
            <a:off x="7885080" y="2349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83978"/>
          <p:cNvSpPr/>
          <p:nvPr/>
        </p:nvSpPr>
        <p:spPr>
          <a:xfrm>
            <a:off x="4140360" y="1773360"/>
            <a:ext cx="441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是该定律成立的条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83979"/>
          <p:cNvSpPr/>
          <p:nvPr/>
        </p:nvSpPr>
        <p:spPr>
          <a:xfrm>
            <a:off x="900000" y="3213000"/>
            <a:ext cx="318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83980"/>
          <p:cNvSpPr/>
          <p:nvPr/>
        </p:nvSpPr>
        <p:spPr>
          <a:xfrm>
            <a:off x="250920" y="302724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３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83982"/>
          <p:cNvSpPr/>
          <p:nvPr/>
        </p:nvSpPr>
        <p:spPr>
          <a:xfrm>
            <a:off x="3059280" y="302724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直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83983"/>
          <p:cNvSpPr/>
          <p:nvPr/>
        </p:nvSpPr>
        <p:spPr>
          <a:xfrm>
            <a:off x="611280" y="4076640"/>
            <a:ext cx="268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83984"/>
          <p:cNvSpPr/>
          <p:nvPr/>
        </p:nvSpPr>
        <p:spPr>
          <a:xfrm>
            <a:off x="87480" y="3792600"/>
            <a:ext cx="27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４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83985"/>
          <p:cNvSpPr/>
          <p:nvPr/>
        </p:nvSpPr>
        <p:spPr>
          <a:xfrm>
            <a:off x="2065320" y="3857760"/>
            <a:ext cx="60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指一个物体只能处于一种状态，到底处于哪种状态，由原来的状态决定，原来静止就保持静止，原来运动就保持匀速直线运动状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84995"/>
          <p:cNvSpPr/>
          <p:nvPr/>
        </p:nvSpPr>
        <p:spPr>
          <a:xfrm>
            <a:off x="231840" y="371520"/>
            <a:ext cx="41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需要说明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84996"/>
          <p:cNvSpPr/>
          <p:nvPr/>
        </p:nvSpPr>
        <p:spPr>
          <a:xfrm>
            <a:off x="2627280" y="3333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牛顿第一定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是由实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直接得到的，它是在实验的基础上经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推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得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84997"/>
          <p:cNvSpPr/>
          <p:nvPr/>
        </p:nvSpPr>
        <p:spPr>
          <a:xfrm>
            <a:off x="1619280" y="2708280"/>
            <a:ext cx="635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84998"/>
          <p:cNvSpPr/>
          <p:nvPr/>
        </p:nvSpPr>
        <p:spPr>
          <a:xfrm>
            <a:off x="1042920" y="2421000"/>
            <a:ext cx="743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力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改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物体运动状态的原因  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是产生或维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物体运动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84999"/>
          <p:cNvSpPr/>
          <p:nvPr/>
        </p:nvSpPr>
        <p:spPr>
          <a:xfrm>
            <a:off x="1241280" y="52084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Verdana"/>
                <a:ea typeface="华文新魏"/>
              </a:rPr>
              <a:t>物体的运动</a:t>
            </a: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华文新魏"/>
              </a:rPr>
              <a:t>不需要</a:t>
            </a:r>
            <a:r>
              <a:rPr b="0" lang="zh-CN" sz="3600" spc="-1" strike="noStrike">
                <a:solidFill>
                  <a:srgbClr val="0d0d0d"/>
                </a:solidFill>
                <a:latin typeface="Verdana"/>
                <a:ea typeface="华文新魏"/>
              </a:rPr>
              <a:t>力来维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85000"/>
          <p:cNvSpPr/>
          <p:nvPr/>
        </p:nvSpPr>
        <p:spPr>
          <a:xfrm>
            <a:off x="971640" y="39337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能经过实践检验，因为实际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力 的环境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找不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35841" descr="B_W"/>
          <p:cNvPicPr/>
          <p:nvPr/>
        </p:nvPicPr>
        <p:blipFill>
          <a:blip r:embed="rId1"/>
          <a:stretch/>
        </p:blipFill>
        <p:spPr>
          <a:xfrm>
            <a:off x="395280" y="5657760"/>
            <a:ext cx="1600200" cy="1200240"/>
          </a:xfrm>
          <a:prstGeom prst="rect">
            <a:avLst/>
          </a:prstGeom>
          <a:ln w="0">
            <a:noFill/>
          </a:ln>
        </p:spPr>
      </p:pic>
      <p:grpSp>
        <p:nvGrpSpPr>
          <p:cNvPr id="691" name="组合 35842"/>
          <p:cNvGrpSpPr/>
          <p:nvPr/>
        </p:nvGrpSpPr>
        <p:grpSpPr>
          <a:xfrm>
            <a:off x="755640" y="5589720"/>
            <a:ext cx="7921080" cy="215280"/>
            <a:chOff x="755640" y="5589720"/>
            <a:chExt cx="7921080" cy="215280"/>
          </a:xfrm>
        </p:grpSpPr>
        <p:sp>
          <p:nvSpPr>
            <p:cNvPr id="692" name="直接连接符 35843"/>
            <p:cNvSpPr/>
            <p:nvPr/>
          </p:nvSpPr>
          <p:spPr>
            <a:xfrm>
              <a:off x="789120" y="5589720"/>
              <a:ext cx="25398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直接连接符 35844"/>
            <p:cNvSpPr/>
            <p:nvPr/>
          </p:nvSpPr>
          <p:spPr>
            <a:xfrm>
              <a:off x="3329280" y="5589720"/>
              <a:ext cx="200520" cy="1119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直接连接符 35845"/>
            <p:cNvSpPr/>
            <p:nvPr/>
          </p:nvSpPr>
          <p:spPr>
            <a:xfrm>
              <a:off x="3530160" y="5701680"/>
              <a:ext cx="5113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组合 35846"/>
            <p:cNvGrpSpPr/>
            <p:nvPr/>
          </p:nvGrpSpPr>
          <p:grpSpPr>
            <a:xfrm>
              <a:off x="755640" y="5655600"/>
              <a:ext cx="7921080" cy="149400"/>
              <a:chOff x="755640" y="5655600"/>
              <a:chExt cx="7921080" cy="149400"/>
            </a:xfrm>
          </p:grpSpPr>
          <p:sp>
            <p:nvSpPr>
              <p:cNvPr id="696" name="直接连接符 35847"/>
              <p:cNvSpPr/>
              <p:nvPr/>
            </p:nvSpPr>
            <p:spPr>
              <a:xfrm>
                <a:off x="1893600" y="5805000"/>
                <a:ext cx="678312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35848"/>
              <p:cNvSpPr/>
              <p:nvPr/>
            </p:nvSpPr>
            <p:spPr>
              <a:xfrm>
                <a:off x="1657080" y="5655600"/>
                <a:ext cx="268200" cy="149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直接连接符 35849"/>
              <p:cNvSpPr/>
              <p:nvPr/>
            </p:nvSpPr>
            <p:spPr>
              <a:xfrm>
                <a:off x="755640" y="5655600"/>
                <a:ext cx="90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99" name="图片 35850" descr="图片2"/>
          <p:cNvPicPr/>
          <p:nvPr/>
        </p:nvPicPr>
        <p:blipFill>
          <a:blip r:embed="rId2"/>
          <a:stretch/>
        </p:blipFill>
        <p:spPr>
          <a:xfrm>
            <a:off x="6948360" y="6093000"/>
            <a:ext cx="1047960" cy="361800"/>
          </a:xfrm>
          <a:prstGeom prst="rect">
            <a:avLst/>
          </a:prstGeom>
          <a:ln w="0">
            <a:noFill/>
          </a:ln>
        </p:spPr>
      </p:pic>
      <p:sp>
        <p:nvSpPr>
          <p:cNvPr id="700" name="文本框 35851"/>
          <p:cNvSpPr/>
          <p:nvPr/>
        </p:nvSpPr>
        <p:spPr>
          <a:xfrm>
            <a:off x="7093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35853"/>
          <p:cNvSpPr/>
          <p:nvPr/>
        </p:nvSpPr>
        <p:spPr>
          <a:xfrm>
            <a:off x="46836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水平桌面上，物体在水平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作用下向右运动，当它离开桌面时，假如一切外力同时消失，那么它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35854" descr="212"/>
          <p:cNvPicPr/>
          <p:nvPr/>
        </p:nvPicPr>
        <p:blipFill>
          <a:blip r:embed="rId3"/>
          <a:stretch/>
        </p:blipFill>
        <p:spPr>
          <a:xfrm>
            <a:off x="539640" y="404640"/>
            <a:ext cx="1587600" cy="1081440"/>
          </a:xfrm>
          <a:prstGeom prst="rect">
            <a:avLst/>
          </a:prstGeom>
          <a:ln w="0">
            <a:noFill/>
          </a:ln>
        </p:spPr>
      </p:pic>
      <p:sp>
        <p:nvSpPr>
          <p:cNvPr id="703" name="文本框 35855"/>
          <p:cNvSpPr/>
          <p:nvPr/>
        </p:nvSpPr>
        <p:spPr>
          <a:xfrm>
            <a:off x="539640" y="278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沿竖直方向向下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35856"/>
          <p:cNvSpPr/>
          <p:nvPr/>
        </p:nvSpPr>
        <p:spPr>
          <a:xfrm>
            <a:off x="539640" y="3357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沿水平方向向右作匀速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35857"/>
          <p:cNvSpPr/>
          <p:nvPr/>
        </p:nvSpPr>
        <p:spPr>
          <a:xfrm>
            <a:off x="539640" y="3933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做曲线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35858"/>
          <p:cNvSpPr/>
          <p:nvPr/>
        </p:nvSpPr>
        <p:spPr>
          <a:xfrm>
            <a:off x="539640" y="4508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法确定运动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圆角矩形标注 35859"/>
          <p:cNvSpPr/>
          <p:nvPr/>
        </p:nvSpPr>
        <p:spPr>
          <a:xfrm>
            <a:off x="5796000" y="2421000"/>
            <a:ext cx="2881440" cy="3095640"/>
          </a:xfrm>
          <a:prstGeom prst="wedgeRoundRectCallout">
            <a:avLst>
              <a:gd name="adj1" fmla="val -135837"/>
              <a:gd name="adj2" fmla="val -43180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学法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分析物体不受力时的运动状态，先分析物体原来的运动状态是什么样的，不受力保持这种运动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35860"/>
          <p:cNvSpPr/>
          <p:nvPr/>
        </p:nvSpPr>
        <p:spPr>
          <a:xfrm>
            <a:off x="-466560" y="295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宋体"/>
              </a:rPr>
              <a:t>有关牛顿第一定律的例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7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文本框 89089"/>
          <p:cNvSpPr/>
          <p:nvPr/>
        </p:nvSpPr>
        <p:spPr>
          <a:xfrm>
            <a:off x="380880" y="53352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个物体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牛的拉力作用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秒的速度做匀速直线运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当物体所受外力全部消失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个物体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马上停下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秒的速度做匀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运动越来越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 不能够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89090"/>
          <p:cNvSpPr/>
          <p:nvPr/>
        </p:nvSpPr>
        <p:spPr>
          <a:xfrm>
            <a:off x="3635280" y="1484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46081"/>
          <p:cNvSpPr/>
          <p:nvPr/>
        </p:nvSpPr>
        <p:spPr>
          <a:xfrm>
            <a:off x="0" y="1143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【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绳子栓住一个小球在光滑的水平面上作圆周运动，当绳子突然断裂，小球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    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保持原来的圆周运动状态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保持绳断时的速度作匀速直线运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球运动速度减小，但保持直线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以上三种都有可能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46082"/>
          <p:cNvSpPr/>
          <p:nvPr/>
        </p:nvSpPr>
        <p:spPr>
          <a:xfrm>
            <a:off x="0" y="3809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分析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来小球受绳拉力作用在作圆周运动，当绳子突然断裂，小球在光滑水平方向上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受到力了，因此小球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保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断时刻的速度大小和方向而运动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46083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【解答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46084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有关牛顿第一定律的例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图片 46085" descr="0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772400" y="0"/>
            <a:ext cx="137160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47105"/>
          <p:cNvSpPr/>
          <p:nvPr/>
        </p:nvSpPr>
        <p:spPr>
          <a:xfrm>
            <a:off x="304920" y="106668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【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说法正确的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     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物体不受力作用就一定静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物体不受力作用就一定是匀速直线运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物体受力才能运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以上说法都是错误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7106"/>
          <p:cNvSpPr/>
          <p:nvPr/>
        </p:nvSpPr>
        <p:spPr>
          <a:xfrm>
            <a:off x="457200" y="35733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分析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牛顿第一定律指出，物体不受外力作用时，物体将保持静止或匀速直线运动．说明物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以有两种表现状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同时也说明物体不受力时也能运动，</a:t>
            </a:r>
            <a:r>
              <a:rPr b="1" lang="zh-CN" sz="2800" spc="-1" strike="noStrike">
                <a:solidFill>
                  <a:srgbClr val="f80035"/>
                </a:solidFill>
                <a:latin typeface="Times New Roman"/>
              </a:rPr>
              <a:t>力不是维持物体运动的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47107"/>
          <p:cNvSpPr/>
          <p:nvPr/>
        </p:nvSpPr>
        <p:spPr>
          <a:xfrm>
            <a:off x="395280" y="566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【解答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47108" descr="0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772400" y="0"/>
            <a:ext cx="137160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25601"/>
          <p:cNvSpPr/>
          <p:nvPr/>
        </p:nvSpPr>
        <p:spPr>
          <a:xfrm>
            <a:off x="457200" y="2590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发现以上现象似乎有一个共同特征：物体受力时才能运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受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体不会运动或停止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图片 25602" descr="推箱子"/>
          <p:cNvPicPr/>
          <p:nvPr/>
        </p:nvPicPr>
        <p:blipFill>
          <a:blip r:embed="rId1"/>
          <a:stretch/>
        </p:blipFill>
        <p:spPr>
          <a:xfrm>
            <a:off x="380880" y="457200"/>
            <a:ext cx="1981440" cy="1828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570" name="图片 25603" descr="敲铁钉"/>
          <p:cNvPicPr/>
          <p:nvPr/>
        </p:nvPicPr>
        <p:blipFill>
          <a:blip r:embed="rId2"/>
          <a:stretch/>
        </p:blipFill>
        <p:spPr>
          <a:xfrm>
            <a:off x="3203640" y="404640"/>
            <a:ext cx="1981080" cy="1828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571" name="图片 25604" descr="6-3"/>
          <p:cNvPicPr/>
          <p:nvPr/>
        </p:nvPicPr>
        <p:blipFill>
          <a:blip r:embed="rId3"/>
          <a:stretch/>
        </p:blipFill>
        <p:spPr>
          <a:xfrm>
            <a:off x="6084720" y="333360"/>
            <a:ext cx="1981440" cy="1828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572" name="图片 25606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573" name="文本框 25607"/>
          <p:cNvSpPr/>
          <p:nvPr/>
        </p:nvSpPr>
        <p:spPr>
          <a:xfrm>
            <a:off x="2971800" y="3886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必须有力作用在物体上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物体才能运动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力而一直运动的物体是不存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25608"/>
          <p:cNvSpPr/>
          <p:nvPr/>
        </p:nvSpPr>
        <p:spPr>
          <a:xfrm>
            <a:off x="2895480" y="5334120"/>
            <a:ext cx="594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力是维持物体运动的原因</a:t>
            </a:r>
            <a:r>
              <a:rPr b="1" lang="zh-CN" sz="4000" spc="-1" strike="noStrike">
                <a:solidFill>
                  <a:srgbClr val="111111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黑体"/>
              </a:rPr>
              <a:t>没有力的作用，物体就不能运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图片 36865" descr="B_W"/>
          <p:cNvPicPr/>
          <p:nvPr/>
        </p:nvPicPr>
        <p:blipFill>
          <a:blip r:embed="rId1"/>
          <a:stretch/>
        </p:blipFill>
        <p:spPr>
          <a:xfrm>
            <a:off x="395280" y="5657760"/>
            <a:ext cx="1600200" cy="1200240"/>
          </a:xfrm>
          <a:prstGeom prst="rect">
            <a:avLst/>
          </a:prstGeom>
          <a:ln w="0">
            <a:noFill/>
          </a:ln>
        </p:spPr>
      </p:pic>
      <p:grpSp>
        <p:nvGrpSpPr>
          <p:cNvPr id="721" name="组合 36866"/>
          <p:cNvGrpSpPr/>
          <p:nvPr/>
        </p:nvGrpSpPr>
        <p:grpSpPr>
          <a:xfrm>
            <a:off x="755640" y="5589720"/>
            <a:ext cx="7921080" cy="215280"/>
            <a:chOff x="755640" y="5589720"/>
            <a:chExt cx="7921080" cy="215280"/>
          </a:xfrm>
        </p:grpSpPr>
        <p:sp>
          <p:nvSpPr>
            <p:cNvPr id="722" name="直接连接符 36867"/>
            <p:cNvSpPr/>
            <p:nvPr/>
          </p:nvSpPr>
          <p:spPr>
            <a:xfrm>
              <a:off x="789120" y="5589720"/>
              <a:ext cx="25398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直接连接符 36868"/>
            <p:cNvSpPr/>
            <p:nvPr/>
          </p:nvSpPr>
          <p:spPr>
            <a:xfrm>
              <a:off x="3329280" y="5589720"/>
              <a:ext cx="200520" cy="1119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直接连接符 36869"/>
            <p:cNvSpPr/>
            <p:nvPr/>
          </p:nvSpPr>
          <p:spPr>
            <a:xfrm>
              <a:off x="3530160" y="5701680"/>
              <a:ext cx="5113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组合 36870"/>
            <p:cNvGrpSpPr/>
            <p:nvPr/>
          </p:nvGrpSpPr>
          <p:grpSpPr>
            <a:xfrm>
              <a:off x="755640" y="5655600"/>
              <a:ext cx="7921080" cy="149400"/>
              <a:chOff x="755640" y="5655600"/>
              <a:chExt cx="7921080" cy="149400"/>
            </a:xfrm>
          </p:grpSpPr>
          <p:sp>
            <p:nvSpPr>
              <p:cNvPr id="726" name="直接连接符 36871"/>
              <p:cNvSpPr/>
              <p:nvPr/>
            </p:nvSpPr>
            <p:spPr>
              <a:xfrm>
                <a:off x="1893600" y="5805000"/>
                <a:ext cx="678312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直接连接符 36872"/>
              <p:cNvSpPr/>
              <p:nvPr/>
            </p:nvSpPr>
            <p:spPr>
              <a:xfrm>
                <a:off x="1657080" y="5655600"/>
                <a:ext cx="268200" cy="149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直接连接符 36873"/>
              <p:cNvSpPr/>
              <p:nvPr/>
            </p:nvSpPr>
            <p:spPr>
              <a:xfrm>
                <a:off x="755640" y="5655600"/>
                <a:ext cx="901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29" name="图片 36874" descr="图片2"/>
          <p:cNvPicPr/>
          <p:nvPr/>
        </p:nvPicPr>
        <p:blipFill>
          <a:blip r:embed="rId2"/>
          <a:stretch/>
        </p:blipFill>
        <p:spPr>
          <a:xfrm>
            <a:off x="6948360" y="6093000"/>
            <a:ext cx="1047960" cy="36180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36875"/>
          <p:cNvSpPr/>
          <p:nvPr/>
        </p:nvSpPr>
        <p:spPr>
          <a:xfrm>
            <a:off x="7093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36876"/>
          <p:cNvSpPr/>
          <p:nvPr/>
        </p:nvSpPr>
        <p:spPr>
          <a:xfrm>
            <a:off x="2556000" y="54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针对性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36877"/>
          <p:cNvSpPr/>
          <p:nvPr/>
        </p:nvSpPr>
        <p:spPr>
          <a:xfrm>
            <a:off x="46836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于牛顿第一定律建立，下列说法中正确的是：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6878"/>
          <p:cNvSpPr/>
          <p:nvPr/>
        </p:nvSpPr>
        <p:spPr>
          <a:xfrm>
            <a:off x="539640" y="278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是通过日常生活得出的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36879"/>
          <p:cNvSpPr/>
          <p:nvPr/>
        </p:nvSpPr>
        <p:spPr>
          <a:xfrm>
            <a:off x="539640" y="3357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是通过理论推导出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36880"/>
          <p:cNvSpPr/>
          <p:nvPr/>
        </p:nvSpPr>
        <p:spPr>
          <a:xfrm>
            <a:off x="539640" y="39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是通过实验直接证明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36881"/>
          <p:cNvSpPr/>
          <p:nvPr/>
        </p:nvSpPr>
        <p:spPr>
          <a:xfrm>
            <a:off x="539640" y="4508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是以实验事实为基出，通过推理而概括出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圆角矩形标注 36882"/>
          <p:cNvSpPr/>
          <p:nvPr/>
        </p:nvSpPr>
        <p:spPr>
          <a:xfrm>
            <a:off x="5796000" y="2421000"/>
            <a:ext cx="2881440" cy="3095640"/>
          </a:xfrm>
          <a:prstGeom prst="wedgeRoundRectCallout">
            <a:avLst>
              <a:gd name="adj1" fmla="val -135837"/>
              <a:gd name="adj2" fmla="val -43180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学法突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第一牛顿定律是以实验事实为基出，通过推理而概括出来的。它是一种科学研究的重要方法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36883"/>
          <p:cNvSpPr/>
          <p:nvPr/>
        </p:nvSpPr>
        <p:spPr>
          <a:xfrm>
            <a:off x="1835280" y="17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图片 36884" descr="215"/>
          <p:cNvPicPr/>
          <p:nvPr/>
        </p:nvPicPr>
        <p:blipFill>
          <a:blip r:embed="rId3"/>
          <a:stretch/>
        </p:blipFill>
        <p:spPr>
          <a:xfrm>
            <a:off x="611280" y="260280"/>
            <a:ext cx="1600200" cy="10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77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770" fill="hold"/>
                                        <p:tgtEl>
                                          <p:spTgt spid="7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3" dur="77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34817" descr="u=1299129679,1073738&amp;fm=0&amp;gp=-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14400"/>
            <a:ext cx="1359000" cy="190512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2"/>
          <p:cNvSpPr/>
          <p:nvPr/>
        </p:nvSpPr>
        <p:spPr>
          <a:xfrm>
            <a:off x="1981080" y="457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有人设想，乘坐气球飘在高空，由于地球的自转，一昼夜就能周游世界，请你评价一下，这个设想可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1066680" y="297180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因为地球上的一切物体（包括地球周围的大气）都随着地球一起在自转．气球升空后，由于惯性，它仍保持原来的自转速度．所以升空的气球与它下方的地面处于相对静止的状态．不可能使它相对地球绕行一周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答　 这个设想不符合物理原理，不可行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4"/>
          <p:cNvSpPr txBox="1"/>
          <p:nvPr/>
        </p:nvSpPr>
        <p:spPr>
          <a:xfrm>
            <a:off x="250920" y="260280"/>
            <a:ext cx="165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讨论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97283"/>
          <p:cNvSpPr/>
          <p:nvPr/>
        </p:nvSpPr>
        <p:spPr>
          <a:xfrm>
            <a:off x="250920" y="549360"/>
            <a:ext cx="864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6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伽利略斜面实验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实验时让小车从斜面上同一高度滑下，目的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                     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在分析现象时，一般人注意到的是：小车在毛巾上运动时所受的阻力大，所以运动距离短，而科学家却注意到：小车在较平滑的木板上运动的距离更远，并由此推想，运动着的物体如果不受外力作用，物体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著名的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             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定律就是在这样的基础上总结和推理得到的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文本框 98307"/>
          <p:cNvSpPr/>
          <p:nvPr/>
        </p:nvSpPr>
        <p:spPr>
          <a:xfrm>
            <a:off x="395280" y="83664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为什么要使小车从斜面的同一高度滑下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小车在不同平面上运动的距离不等，说明了什么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从这个实验可以推理得出什么结论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文本框 81921"/>
          <p:cNvSpPr/>
          <p:nvPr/>
        </p:nvSpPr>
        <p:spPr>
          <a:xfrm>
            <a:off x="195120" y="250920"/>
            <a:ext cx="63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81924"/>
          <p:cNvSpPr/>
          <p:nvPr/>
        </p:nvSpPr>
        <p:spPr>
          <a:xfrm>
            <a:off x="1619280" y="5516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81925"/>
          <p:cNvSpPr/>
          <p:nvPr/>
        </p:nvSpPr>
        <p:spPr>
          <a:xfrm>
            <a:off x="539640" y="98100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匀速圆周运动的小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外力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失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球将沿切线方向作匀速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81926"/>
          <p:cNvSpPr/>
          <p:nvPr/>
        </p:nvSpPr>
        <p:spPr>
          <a:xfrm>
            <a:off x="7107120" y="4282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81928"/>
          <p:cNvSpPr/>
          <p:nvPr/>
        </p:nvSpPr>
        <p:spPr>
          <a:xfrm>
            <a:off x="0" y="3500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81933"/>
          <p:cNvSpPr/>
          <p:nvPr/>
        </p:nvSpPr>
        <p:spPr>
          <a:xfrm>
            <a:off x="195120" y="5291280"/>
            <a:ext cx="7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81939"/>
          <p:cNvSpPr/>
          <p:nvPr/>
        </p:nvSpPr>
        <p:spPr>
          <a:xfrm>
            <a:off x="6804000" y="2421000"/>
            <a:ext cx="2014560" cy="194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81940"/>
          <p:cNvSpPr/>
          <p:nvPr/>
        </p:nvSpPr>
        <p:spPr>
          <a:xfrm>
            <a:off x="6732720" y="2924280"/>
            <a:ext cx="217440" cy="2174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>
                <a:alpha val="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81941"/>
          <p:cNvSpPr/>
          <p:nvPr/>
        </p:nvSpPr>
        <p:spPr>
          <a:xfrm>
            <a:off x="8244000" y="4076640"/>
            <a:ext cx="217440" cy="217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81942"/>
          <p:cNvSpPr/>
          <p:nvPr/>
        </p:nvSpPr>
        <p:spPr>
          <a:xfrm>
            <a:off x="8317080" y="2492280"/>
            <a:ext cx="217440" cy="217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任意多边形 81943"/>
          <p:cNvSpPr/>
          <p:nvPr/>
        </p:nvSpPr>
        <p:spPr>
          <a:xfrm flipV="1">
            <a:off x="7018200" y="2892600"/>
            <a:ext cx="865440" cy="637920"/>
          </a:xfrm>
          <a:custGeom>
            <a:avLst/>
            <a:gdLst/>
            <a:ahLst/>
            <a:rect l="l" t="t" r="r" b="b"/>
            <a:pathLst>
              <a:path fill="none" w="21600" h="27389">
                <a:moveTo>
                  <a:pt x="8106" y="27389"/>
                </a:moveTo>
                <a:cubicBezTo>
                  <a:pt x="3164" y="23431"/>
                  <a:pt x="0" y="17347"/>
                  <a:pt x="0" y="10523"/>
                </a:cubicBezTo>
                <a:cubicBezTo>
                  <a:pt x="0" y="6701"/>
                  <a:pt x="993" y="3111"/>
                  <a:pt x="2734" y="-3"/>
                </a:cubicBezTo>
              </a:path>
              <a:path stroke="0" w="21600" h="27389">
                <a:moveTo>
                  <a:pt x="8106" y="27389"/>
                </a:moveTo>
                <a:cubicBezTo>
                  <a:pt x="3164" y="23431"/>
                  <a:pt x="0" y="17347"/>
                  <a:pt x="0" y="10523"/>
                </a:cubicBezTo>
                <a:cubicBezTo>
                  <a:pt x="0" y="6701"/>
                  <a:pt x="993" y="3111"/>
                  <a:pt x="2734" y="-3"/>
                </a:cubicBezTo>
                <a:lnTo>
                  <a:pt x="21600" y="1052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81944"/>
          <p:cNvSpPr/>
          <p:nvPr/>
        </p:nvSpPr>
        <p:spPr>
          <a:xfrm flipH="1">
            <a:off x="6227280" y="3141720"/>
            <a:ext cx="576360" cy="143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81945"/>
          <p:cNvSpPr/>
          <p:nvPr/>
        </p:nvSpPr>
        <p:spPr>
          <a:xfrm flipH="1">
            <a:off x="6516720" y="3141720"/>
            <a:ext cx="287280" cy="72072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文本框 86017"/>
          <p:cNvSpPr/>
          <p:nvPr/>
        </p:nvSpPr>
        <p:spPr>
          <a:xfrm>
            <a:off x="214200" y="90792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牛顿第一定律是在大量的经验事实的基础上，通过进一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概括出来的，是不能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直接证明的，这是因为我们周围事实上没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86018"/>
          <p:cNvSpPr/>
          <p:nvPr/>
        </p:nvSpPr>
        <p:spPr>
          <a:xfrm>
            <a:off x="250920" y="2708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牛顿第一定律适用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，原来静止的物体在不受外力作用时总保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，而原来运动的物体在不受外力作用时总保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86019"/>
          <p:cNvSpPr/>
          <p:nvPr/>
        </p:nvSpPr>
        <p:spPr>
          <a:xfrm>
            <a:off x="1763640" y="126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推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86020"/>
          <p:cNvSpPr/>
          <p:nvPr/>
        </p:nvSpPr>
        <p:spPr>
          <a:xfrm>
            <a:off x="7381800" y="1268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6021"/>
          <p:cNvSpPr/>
          <p:nvPr/>
        </p:nvSpPr>
        <p:spPr>
          <a:xfrm>
            <a:off x="7093080" y="16858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受外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86022"/>
          <p:cNvSpPr/>
          <p:nvPr/>
        </p:nvSpPr>
        <p:spPr>
          <a:xfrm>
            <a:off x="421164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86023"/>
          <p:cNvSpPr/>
          <p:nvPr/>
        </p:nvSpPr>
        <p:spPr>
          <a:xfrm>
            <a:off x="4427640" y="306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86024"/>
          <p:cNvSpPr/>
          <p:nvPr/>
        </p:nvSpPr>
        <p:spPr>
          <a:xfrm>
            <a:off x="4586400" y="348768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86025"/>
          <p:cNvSpPr txBox="1"/>
          <p:nvPr/>
        </p:nvSpPr>
        <p:spPr>
          <a:xfrm>
            <a:off x="324000" y="260280"/>
            <a:ext cx="1320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练习</a:t>
            </a:r>
            <a:endParaRPr b="0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8" name="文本框 86026"/>
          <p:cNvSpPr/>
          <p:nvPr/>
        </p:nvSpPr>
        <p:spPr>
          <a:xfrm>
            <a:off x="324000" y="4248000"/>
            <a:ext cx="88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说法正确的是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    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不受力作用就一定静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不受力作用就一定是匀速直线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受力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说法都是错误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86027"/>
          <p:cNvSpPr/>
          <p:nvPr/>
        </p:nvSpPr>
        <p:spPr>
          <a:xfrm>
            <a:off x="450072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动作按钮: 第一张 86028"/>
          <p:cNvSpPr/>
          <p:nvPr/>
        </p:nvSpPr>
        <p:spPr>
          <a:xfrm>
            <a:off x="7885080" y="616572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文本框 87041"/>
          <p:cNvSpPr/>
          <p:nvPr/>
        </p:nvSpPr>
        <p:spPr>
          <a:xfrm>
            <a:off x="468360" y="126828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乒乓球在上抛过程中，假如它受到的所有的力突然全部消失，它将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先上升，后下落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匀速上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保持静止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可以向各个方向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87042"/>
          <p:cNvSpPr/>
          <p:nvPr/>
        </p:nvSpPr>
        <p:spPr>
          <a:xfrm>
            <a:off x="5076720" y="1700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87043"/>
          <p:cNvSpPr/>
          <p:nvPr/>
        </p:nvSpPr>
        <p:spPr>
          <a:xfrm>
            <a:off x="395280" y="3860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 原来作曲线运动的物体，突然去掉所有外力，物体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87044"/>
          <p:cNvSpPr/>
          <p:nvPr/>
        </p:nvSpPr>
        <p:spPr>
          <a:xfrm>
            <a:off x="2124000" y="4365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匀速直线运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动作按钮: 第一张 87045"/>
          <p:cNvSpPr/>
          <p:nvPr/>
        </p:nvSpPr>
        <p:spPr>
          <a:xfrm>
            <a:off x="7524720" y="5877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2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2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88065"/>
          <p:cNvSpPr/>
          <p:nvPr/>
        </p:nvSpPr>
        <p:spPr>
          <a:xfrm>
            <a:off x="324000" y="335772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用绳子栓住一个小球在光滑的水平面上作圆周运动，当绳子突然断裂，小球将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原来的圆周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绳断时的速度作匀速直线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球运动速度减小，但保持直线运动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上三种都有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88066"/>
          <p:cNvSpPr/>
          <p:nvPr/>
        </p:nvSpPr>
        <p:spPr>
          <a:xfrm>
            <a:off x="4788000" y="3701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88067"/>
          <p:cNvSpPr/>
          <p:nvPr/>
        </p:nvSpPr>
        <p:spPr>
          <a:xfrm>
            <a:off x="250920" y="134172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关于运动和力的关系，下列说法中正确的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必须有力作用在物体上，物体才能运动，没有力的作用物体就静止下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物体的运动状态发生改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力作用在物体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物体做直线运动时，一定受到了力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8068"/>
          <p:cNvSpPr/>
          <p:nvPr/>
        </p:nvSpPr>
        <p:spPr>
          <a:xfrm>
            <a:off x="6948360" y="98100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45057"/>
          <p:cNvGrpSpPr/>
          <p:nvPr/>
        </p:nvGrpSpPr>
        <p:grpSpPr>
          <a:xfrm>
            <a:off x="0" y="228600"/>
            <a:ext cx="9143640" cy="1219320"/>
            <a:chOff x="0" y="228600"/>
            <a:chExt cx="9143640" cy="1219320"/>
          </a:xfrm>
        </p:grpSpPr>
        <p:sp>
          <p:nvSpPr>
            <p:cNvPr id="781" name="矩形 45058"/>
            <p:cNvSpPr/>
            <p:nvPr/>
          </p:nvSpPr>
          <p:spPr>
            <a:xfrm>
              <a:off x="0" y="228600"/>
              <a:ext cx="91436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关于力和运动的关系，下列说法正确的是（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Ａ．物体受力才会运动　　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Ｂ．力使物体的运动状态发生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Ｃ．停止用力，运动的物体就会停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　Ｄ．力是使物体保持静止或匀速直线运动状态的原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矩形 45059"/>
            <p:cNvSpPr/>
            <p:nvPr/>
          </p:nvSpPr>
          <p:spPr>
            <a:xfrm>
              <a:off x="0" y="228600"/>
              <a:ext cx="9143640" cy="12193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45060"/>
          <p:cNvGrpSpPr/>
          <p:nvPr/>
        </p:nvGrpSpPr>
        <p:grpSpPr>
          <a:xfrm>
            <a:off x="380880" y="2438280"/>
            <a:ext cx="8762760" cy="1219320"/>
            <a:chOff x="380880" y="2438280"/>
            <a:chExt cx="8762760" cy="1219320"/>
          </a:xfrm>
        </p:grpSpPr>
        <p:sp>
          <p:nvSpPr>
            <p:cNvPr id="784" name="矩形 45061"/>
            <p:cNvSpPr/>
            <p:nvPr/>
          </p:nvSpPr>
          <p:spPr>
            <a:xfrm>
              <a:off x="380880" y="2438280"/>
              <a:ext cx="876276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解析：关于力和运动的关系，必须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明确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力和物体的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运动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无关，力只与物体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运动状态的改变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有关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由牛顿第一定律可知，力的作用不是使物体产生运动，而是使物体的运动状态改变。物体如果原来的状态是运动的，不受力仍将永远运动下去，即物体的运动不需要力来维持，因此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是错误的。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物体保持静止或匀速直线运动状态，是物体不受力时的</a:t>
              </a:r>
              <a:r>
                <a:rPr b="1" lang="zh-CN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运动规律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，并不是力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作用的结果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因此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是错误的。正确答案是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　　如果物体所受合力为零时，对物体的作用效果等同于物体不受力，运动规律也与物体不受力时的运动规律相同。因此力与物体运动的关系可表达为：</a:t>
              </a: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</a:rPr>
                <a:t>当物体所受合力为零时，物体的运动状态不变，当物体所受的合力不为零时，其运动状态发生改变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矩形 45062"/>
            <p:cNvSpPr/>
            <p:nvPr/>
          </p:nvSpPr>
          <p:spPr>
            <a:xfrm>
              <a:off x="380880" y="2438280"/>
              <a:ext cx="8762760" cy="12193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6" name="图片 45063" descr="0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137160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52225"/>
          <p:cNvSpPr/>
          <p:nvPr/>
        </p:nvSpPr>
        <p:spPr>
          <a:xfrm>
            <a:off x="990720" y="914400"/>
            <a:ext cx="685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一颗石头在上抛的过程中上升到最高点，刚要下来的时候突然所有的外力都消失，那么石头将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静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向上做匀速直线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向下做匀速直线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向下加速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52226"/>
          <p:cNvSpPr/>
          <p:nvPr/>
        </p:nvSpPr>
        <p:spPr>
          <a:xfrm>
            <a:off x="1447920" y="2514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51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52227"/>
          <p:cNvSpPr/>
          <p:nvPr/>
        </p:nvSpPr>
        <p:spPr>
          <a:xfrm>
            <a:off x="22860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517"/>
                </a:solidFill>
                <a:latin typeface="Times New Roman"/>
              </a:rPr>
              <a:t>你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云形标注 67585"/>
          <p:cNvSpPr/>
          <p:nvPr/>
        </p:nvSpPr>
        <p:spPr>
          <a:xfrm>
            <a:off x="5364000" y="620640"/>
            <a:ext cx="3313440" cy="2016360"/>
          </a:xfrm>
          <a:prstGeom prst="cloudCallout">
            <a:avLst>
              <a:gd name="adj1" fmla="val 41949"/>
              <a:gd name="adj2" fmla="val 84328"/>
            </a:avLst>
          </a:prstGeom>
          <a:solidFill>
            <a:srgbClr val="08080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物体的运动不需要靠力来维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67586" descr="xin_a4dc8694fcaf46289df5f9251cb40399"/>
          <p:cNvPicPr/>
          <p:nvPr/>
        </p:nvPicPr>
        <p:blipFill>
          <a:blip r:embed="rId1"/>
          <a:srcRect l="0" t="0" r="0" b="2256"/>
          <a:stretch/>
        </p:blipFill>
        <p:spPr>
          <a:xfrm>
            <a:off x="6443640" y="3213000"/>
            <a:ext cx="2700360" cy="3168720"/>
          </a:xfrm>
          <a:prstGeom prst="rect">
            <a:avLst/>
          </a:prstGeom>
          <a:ln w="0">
            <a:noFill/>
          </a:ln>
        </p:spPr>
      </p:pic>
      <p:sp>
        <p:nvSpPr>
          <p:cNvPr id="577" name="矩形 67587"/>
          <p:cNvSpPr/>
          <p:nvPr/>
        </p:nvSpPr>
        <p:spPr>
          <a:xfrm>
            <a:off x="3492360" y="475632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隶书"/>
              </a:rPr>
              <a:t>两种说法哪个是正确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67588" descr="006"/>
          <p:cNvPicPr/>
          <p:nvPr/>
        </p:nvPicPr>
        <p:blipFill>
          <a:blip r:embed="rId2"/>
          <a:stretch/>
        </p:blipFill>
        <p:spPr>
          <a:xfrm>
            <a:off x="468360" y="3186000"/>
            <a:ext cx="2833560" cy="3672000"/>
          </a:xfrm>
          <a:prstGeom prst="rect">
            <a:avLst/>
          </a:prstGeom>
          <a:ln w="0">
            <a:noFill/>
          </a:ln>
        </p:spPr>
      </p:pic>
      <p:sp>
        <p:nvSpPr>
          <p:cNvPr id="579" name="云形标注 67589"/>
          <p:cNvSpPr/>
          <p:nvPr/>
        </p:nvSpPr>
        <p:spPr>
          <a:xfrm>
            <a:off x="539640" y="0"/>
            <a:ext cx="4105440" cy="2519280"/>
          </a:xfrm>
          <a:prstGeom prst="cloudCallout">
            <a:avLst>
              <a:gd name="adj1" fmla="val -2282"/>
              <a:gd name="adj2" fmla="val 87745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Verdana"/>
                <a:ea typeface="华文行楷"/>
              </a:rPr>
              <a:t>力是维持物体运动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文本框 53249"/>
          <p:cNvSpPr/>
          <p:nvPr/>
        </p:nvSpPr>
        <p:spPr>
          <a:xfrm>
            <a:off x="1371600" y="19051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53250"/>
          <p:cNvSpPr/>
          <p:nvPr/>
        </p:nvSpPr>
        <p:spPr>
          <a:xfrm>
            <a:off x="1371600" y="1295280"/>
            <a:ext cx="5791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正在做曲线运动的物体，假设它所受的外力都同时消失，则它就做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匀速直线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匀速曲线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立即静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原来的曲线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53251"/>
          <p:cNvSpPr/>
          <p:nvPr/>
        </p:nvSpPr>
        <p:spPr>
          <a:xfrm>
            <a:off x="4572000" y="23623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51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文本框 54273"/>
          <p:cNvSpPr/>
          <p:nvPr/>
        </p:nvSpPr>
        <p:spPr>
          <a:xfrm>
            <a:off x="380880" y="998640"/>
            <a:ext cx="80773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20f01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20f01"/>
                </a:solidFill>
                <a:latin typeface="宋体"/>
              </a:rPr>
              <a:t>一个物体，在力</a:t>
            </a:r>
            <a:r>
              <a:rPr b="1" lang="en-US" sz="3600" spc="-1" strike="noStrike">
                <a:solidFill>
                  <a:srgbClr val="020f01"/>
                </a:solidFill>
                <a:latin typeface="宋体"/>
              </a:rPr>
              <a:t>F</a:t>
            </a:r>
            <a:r>
              <a:rPr b="1" lang="zh-CN" sz="3600" spc="-1" strike="noStrike">
                <a:solidFill>
                  <a:srgbClr val="020f01"/>
                </a:solidFill>
                <a:latin typeface="宋体"/>
              </a:rPr>
              <a:t>的作用下，在水平面上由静止开始运动，当速度达到</a:t>
            </a:r>
            <a:r>
              <a:rPr b="1" lang="en-US" sz="3600" spc="-1" strike="noStrike">
                <a:solidFill>
                  <a:srgbClr val="020f01"/>
                </a:solidFill>
                <a:latin typeface="宋体"/>
              </a:rPr>
              <a:t>3m/s</a:t>
            </a:r>
            <a:r>
              <a:rPr b="1" lang="zh-CN" sz="3600" spc="-1" strike="noStrike">
                <a:solidFill>
                  <a:srgbClr val="020f01"/>
                </a:solidFill>
                <a:latin typeface="宋体"/>
              </a:rPr>
              <a:t>时，作用在它上面的力突然全部消失，则物体将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慢慢停下来       </a:t>
            </a: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仍做匀速直线运动，但速度小于</a:t>
            </a: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3m/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立即停下来       </a:t>
            </a: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仍做匀速直线运动，且速度为</a:t>
            </a: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3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54274"/>
          <p:cNvSpPr/>
          <p:nvPr/>
        </p:nvSpPr>
        <p:spPr>
          <a:xfrm>
            <a:off x="365760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517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文本框 55297"/>
          <p:cNvSpPr/>
          <p:nvPr/>
        </p:nvSpPr>
        <p:spPr>
          <a:xfrm>
            <a:off x="609480" y="685800"/>
            <a:ext cx="8534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f01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、关于运动和力的关系，下列说法中正确的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20f01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、只要有力作用在物体上，物体就能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f01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、只要有力作用在物体上，物体的运动状态就一定要发生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20f01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、只要物体的运动状态发生变化，就一定有力作用在物体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f01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20f01"/>
                </a:solidFill>
                <a:latin typeface="Times New Roman"/>
              </a:rPr>
              <a:t>、只要物体在运动，就一定有力作用在物体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55298"/>
          <p:cNvSpPr/>
          <p:nvPr/>
        </p:nvSpPr>
        <p:spPr>
          <a:xfrm>
            <a:off x="137160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517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文本框 56321"/>
          <p:cNvSpPr/>
          <p:nvPr/>
        </p:nvSpPr>
        <p:spPr>
          <a:xfrm>
            <a:off x="1143000" y="1295280"/>
            <a:ext cx="74674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牛顿第一定律是（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有斜面小车实验直接得到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有理论分析得到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在实验的基础上，经过合理分析、推理得到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f01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20f01"/>
                </a:solidFill>
                <a:latin typeface="Times New Roman"/>
              </a:rPr>
              <a:t>、建立在生活经验 基础上的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56322"/>
          <p:cNvSpPr/>
          <p:nvPr/>
        </p:nvSpPr>
        <p:spPr>
          <a:xfrm flipH="1">
            <a:off x="5333400" y="1295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517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对象 48129" descr=""/>
          <p:cNvPicPr/>
          <p:nvPr/>
        </p:nvPicPr>
        <p:blipFill>
          <a:blip r:embed="rId1"/>
          <a:stretch/>
        </p:blipFill>
        <p:spPr>
          <a:xfrm>
            <a:off x="6502320" y="5486400"/>
            <a:ext cx="2641680" cy="1371600"/>
          </a:xfrm>
          <a:prstGeom prst="rect">
            <a:avLst/>
          </a:prstGeom>
          <a:ln w="0">
            <a:noFill/>
          </a:ln>
        </p:spPr>
      </p:pic>
      <p:sp>
        <p:nvSpPr>
          <p:cNvPr id="800" name="矩形 48130"/>
          <p:cNvSpPr/>
          <p:nvPr/>
        </p:nvSpPr>
        <p:spPr>
          <a:xfrm>
            <a:off x="304920" y="762120"/>
            <a:ext cx="86104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在运动的物体，如果受到的外力突然消失，则它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立即停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速度减小，最后停止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动方向变为与原来相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匀速直线运动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48131"/>
          <p:cNvSpPr/>
          <p:nvPr/>
        </p:nvSpPr>
        <p:spPr>
          <a:xfrm>
            <a:off x="297180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文本框 99331"/>
          <p:cNvSpPr/>
          <p:nvPr/>
        </p:nvSpPr>
        <p:spPr>
          <a:xfrm>
            <a:off x="971640" y="130824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教室里悬挂着的电灯处于静止状态，假如它受到的所有的力突然全部消失，它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: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加速下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    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匀速下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        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保持静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         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可以向各个方向运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文本框 100355"/>
          <p:cNvSpPr/>
          <p:nvPr/>
        </p:nvSpPr>
        <p:spPr>
          <a:xfrm>
            <a:off x="684360" y="620640"/>
            <a:ext cx="801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一辆汽车正在沿坡路向上行驶，如果假想在上行的过程中，失去了一切力的作用，汽车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: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停在坡路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        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沿坡路下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继续向坡顶运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      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以上三种均有可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文本框 101379"/>
          <p:cNvSpPr/>
          <p:nvPr/>
        </p:nvSpPr>
        <p:spPr>
          <a:xfrm>
            <a:off x="539640" y="981000"/>
            <a:ext cx="74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获得牛顿第一运动定律的研究方法是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只用推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    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只用实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    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数学推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;    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．实验和推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文本框 82947"/>
          <p:cNvSpPr/>
          <p:nvPr/>
        </p:nvSpPr>
        <p:spPr>
          <a:xfrm>
            <a:off x="1023840" y="803160"/>
            <a:ext cx="70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82948"/>
          <p:cNvSpPr/>
          <p:nvPr/>
        </p:nvSpPr>
        <p:spPr>
          <a:xfrm>
            <a:off x="1023840" y="712800"/>
            <a:ext cx="570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惯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文本框 9219"/>
          <p:cNvSpPr/>
          <p:nvPr/>
        </p:nvSpPr>
        <p:spPr>
          <a:xfrm>
            <a:off x="195120" y="250920"/>
            <a:ext cx="63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9220"/>
          <p:cNvSpPr/>
          <p:nvPr/>
        </p:nvSpPr>
        <p:spPr>
          <a:xfrm>
            <a:off x="19080" y="765000"/>
            <a:ext cx="937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告诉我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力是改变物体运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原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是产生、维持物体运动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9221"/>
          <p:cNvSpPr/>
          <p:nvPr/>
        </p:nvSpPr>
        <p:spPr>
          <a:xfrm>
            <a:off x="0" y="189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体不受力是一种理想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际不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9222"/>
          <p:cNvSpPr/>
          <p:nvPr/>
        </p:nvSpPr>
        <p:spPr>
          <a:xfrm>
            <a:off x="1619280" y="5516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9223"/>
          <p:cNvSpPr/>
          <p:nvPr/>
        </p:nvSpPr>
        <p:spPr>
          <a:xfrm>
            <a:off x="250920" y="1916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匀速圆周运动的小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外力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失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球将沿切线方向作匀速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9232"/>
          <p:cNvSpPr/>
          <p:nvPr/>
        </p:nvSpPr>
        <p:spPr>
          <a:xfrm>
            <a:off x="7107120" y="4282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9233"/>
          <p:cNvSpPr/>
          <p:nvPr/>
        </p:nvSpPr>
        <p:spPr>
          <a:xfrm>
            <a:off x="6877080" y="4005360"/>
            <a:ext cx="633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9235"/>
          <p:cNvSpPr/>
          <p:nvPr/>
        </p:nvSpPr>
        <p:spPr>
          <a:xfrm>
            <a:off x="0" y="350028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9239"/>
          <p:cNvSpPr/>
          <p:nvPr/>
        </p:nvSpPr>
        <p:spPr>
          <a:xfrm>
            <a:off x="179280" y="342900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物体运动不需要力来维持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那么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什么维持了物体的运动呢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9250"/>
          <p:cNvSpPr/>
          <p:nvPr/>
        </p:nvSpPr>
        <p:spPr>
          <a:xfrm>
            <a:off x="0" y="443700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9251"/>
          <p:cNvSpPr/>
          <p:nvPr/>
        </p:nvSpPr>
        <p:spPr>
          <a:xfrm>
            <a:off x="1403280" y="4797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9252"/>
          <p:cNvSpPr/>
          <p:nvPr/>
        </p:nvSpPr>
        <p:spPr>
          <a:xfrm>
            <a:off x="1979640" y="4437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物体保持运动状态不变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9253"/>
          <p:cNvSpPr/>
          <p:nvPr/>
        </p:nvSpPr>
        <p:spPr>
          <a:xfrm>
            <a:off x="195120" y="5291280"/>
            <a:ext cx="7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9254"/>
          <p:cNvSpPr/>
          <p:nvPr/>
        </p:nvSpPr>
        <p:spPr>
          <a:xfrm>
            <a:off x="0" y="5013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切物体都有惯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惯性是物体的一种属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9255"/>
          <p:cNvSpPr/>
          <p:nvPr/>
        </p:nvSpPr>
        <p:spPr>
          <a:xfrm>
            <a:off x="0" y="580536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保持运动状态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左大括号 9256"/>
          <p:cNvSpPr/>
          <p:nvPr/>
        </p:nvSpPr>
        <p:spPr>
          <a:xfrm>
            <a:off x="341964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文本框 9258"/>
          <p:cNvSpPr/>
          <p:nvPr/>
        </p:nvSpPr>
        <p:spPr>
          <a:xfrm>
            <a:off x="3564000" y="5589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静止的物体保持静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9259"/>
          <p:cNvSpPr/>
          <p:nvPr/>
        </p:nvSpPr>
        <p:spPr>
          <a:xfrm>
            <a:off x="3492360" y="609300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运动的物体保持匀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9260"/>
          <p:cNvSpPr/>
          <p:nvPr/>
        </p:nvSpPr>
        <p:spPr>
          <a:xfrm>
            <a:off x="6804000" y="2421000"/>
            <a:ext cx="2014560" cy="194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9261"/>
          <p:cNvSpPr/>
          <p:nvPr/>
        </p:nvSpPr>
        <p:spPr>
          <a:xfrm>
            <a:off x="6732720" y="2924280"/>
            <a:ext cx="217440" cy="2174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>
                <a:alpha val="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9262"/>
          <p:cNvSpPr/>
          <p:nvPr/>
        </p:nvSpPr>
        <p:spPr>
          <a:xfrm>
            <a:off x="8244000" y="4076640"/>
            <a:ext cx="217440" cy="217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9263"/>
          <p:cNvSpPr/>
          <p:nvPr/>
        </p:nvSpPr>
        <p:spPr>
          <a:xfrm>
            <a:off x="8317080" y="2492280"/>
            <a:ext cx="217440" cy="217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任意多边形 9267"/>
          <p:cNvSpPr/>
          <p:nvPr/>
        </p:nvSpPr>
        <p:spPr>
          <a:xfrm flipV="1">
            <a:off x="7018200" y="2892600"/>
            <a:ext cx="865440" cy="637920"/>
          </a:xfrm>
          <a:custGeom>
            <a:avLst/>
            <a:gdLst/>
            <a:ahLst/>
            <a:rect l="l" t="t" r="r" b="b"/>
            <a:pathLst>
              <a:path fill="none" w="21600" h="27389">
                <a:moveTo>
                  <a:pt x="8106" y="27389"/>
                </a:moveTo>
                <a:cubicBezTo>
                  <a:pt x="3164" y="23431"/>
                  <a:pt x="0" y="17347"/>
                  <a:pt x="0" y="10523"/>
                </a:cubicBezTo>
                <a:cubicBezTo>
                  <a:pt x="0" y="6701"/>
                  <a:pt x="993" y="3111"/>
                  <a:pt x="2734" y="-3"/>
                </a:cubicBezTo>
              </a:path>
              <a:path stroke="0" w="21600" h="27389">
                <a:moveTo>
                  <a:pt x="8106" y="27389"/>
                </a:moveTo>
                <a:cubicBezTo>
                  <a:pt x="3164" y="23431"/>
                  <a:pt x="0" y="17347"/>
                  <a:pt x="0" y="10523"/>
                </a:cubicBezTo>
                <a:cubicBezTo>
                  <a:pt x="0" y="6701"/>
                  <a:pt x="993" y="3111"/>
                  <a:pt x="2734" y="-3"/>
                </a:cubicBezTo>
                <a:lnTo>
                  <a:pt x="21600" y="1052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9269"/>
          <p:cNvSpPr/>
          <p:nvPr/>
        </p:nvSpPr>
        <p:spPr>
          <a:xfrm flipH="1">
            <a:off x="6227280" y="3141720"/>
            <a:ext cx="576360" cy="143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9270"/>
          <p:cNvSpPr/>
          <p:nvPr/>
        </p:nvSpPr>
        <p:spPr>
          <a:xfrm flipH="1">
            <a:off x="6516720" y="3141720"/>
            <a:ext cx="287280" cy="72072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提出问题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运动物体如果不受力的作用，会一直运动下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92163"/>
          <p:cNvSpPr/>
          <p:nvPr/>
        </p:nvSpPr>
        <p:spPr>
          <a:xfrm>
            <a:off x="7661160" y="152280"/>
            <a:ext cx="115596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实验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文本框 10243"/>
          <p:cNvSpPr/>
          <p:nvPr/>
        </p:nvSpPr>
        <p:spPr>
          <a:xfrm>
            <a:off x="250920" y="18900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黑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牛顿第一定律也叫惯性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0244"/>
          <p:cNvSpPr/>
          <p:nvPr/>
        </p:nvSpPr>
        <p:spPr>
          <a:xfrm>
            <a:off x="392040" y="876240"/>
            <a:ext cx="7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10245"/>
          <p:cNvSpPr/>
          <p:nvPr/>
        </p:nvSpPr>
        <p:spPr>
          <a:xfrm>
            <a:off x="2124000" y="83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惯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惯性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10246"/>
          <p:cNvSpPr/>
          <p:nvPr/>
        </p:nvSpPr>
        <p:spPr>
          <a:xfrm>
            <a:off x="2050920" y="1413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文本框 10247"/>
          <p:cNvSpPr/>
          <p:nvPr/>
        </p:nvSpPr>
        <p:spPr>
          <a:xfrm>
            <a:off x="1713600" y="17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10249"/>
          <p:cNvSpPr/>
          <p:nvPr/>
        </p:nvSpPr>
        <p:spPr>
          <a:xfrm>
            <a:off x="3564000" y="1413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0250"/>
          <p:cNvSpPr/>
          <p:nvPr/>
        </p:nvSpPr>
        <p:spPr>
          <a:xfrm>
            <a:off x="2843280" y="162864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运动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0251"/>
          <p:cNvSpPr/>
          <p:nvPr/>
        </p:nvSpPr>
        <p:spPr>
          <a:xfrm>
            <a:off x="4716360" y="76500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行楷"/>
              </a:rPr>
              <a:t>惯性不能说成是“产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行楷"/>
              </a:rPr>
              <a:t>惯性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行楷"/>
              </a:rPr>
              <a:t> 受到惯性作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0253"/>
          <p:cNvSpPr/>
          <p:nvPr/>
        </p:nvSpPr>
        <p:spPr>
          <a:xfrm>
            <a:off x="390240" y="2455920"/>
            <a:ext cx="20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惯性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0256"/>
          <p:cNvSpPr/>
          <p:nvPr/>
        </p:nvSpPr>
        <p:spPr>
          <a:xfrm>
            <a:off x="195120" y="3562200"/>
            <a:ext cx="63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10257"/>
          <p:cNvSpPr/>
          <p:nvPr/>
        </p:nvSpPr>
        <p:spPr>
          <a:xfrm>
            <a:off x="117360" y="3035160"/>
            <a:ext cx="88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惯性与物体是否运动、运动快慢、受力与否等无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0258"/>
          <p:cNvSpPr/>
          <p:nvPr/>
        </p:nvSpPr>
        <p:spPr>
          <a:xfrm>
            <a:off x="179280" y="4653000"/>
            <a:ext cx="48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10259"/>
          <p:cNvSpPr/>
          <p:nvPr/>
        </p:nvSpPr>
        <p:spPr>
          <a:xfrm>
            <a:off x="1375560" y="4102200"/>
            <a:ext cx="58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惯性的大小与物体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质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大惯性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0260"/>
          <p:cNvSpPr/>
          <p:nvPr/>
        </p:nvSpPr>
        <p:spPr>
          <a:xfrm>
            <a:off x="452520" y="4797360"/>
            <a:ext cx="23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释惯性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10261"/>
          <p:cNvSpPr/>
          <p:nvPr/>
        </p:nvSpPr>
        <p:spPr>
          <a:xfrm>
            <a:off x="97560" y="534996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演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0263"/>
          <p:cNvSpPr/>
          <p:nvPr/>
        </p:nvSpPr>
        <p:spPr>
          <a:xfrm>
            <a:off x="1197360" y="5300640"/>
            <a:ext cx="43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P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.1-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球的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10264"/>
          <p:cNvSpPr/>
          <p:nvPr/>
        </p:nvSpPr>
        <p:spPr>
          <a:xfrm>
            <a:off x="2891880" y="5950080"/>
            <a:ext cx="9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车突然开动、紧急刹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右大括号 10266"/>
          <p:cNvSpPr/>
          <p:nvPr/>
        </p:nvSpPr>
        <p:spPr>
          <a:xfrm>
            <a:off x="5867280" y="5445000"/>
            <a:ext cx="144720" cy="1008360"/>
          </a:xfrm>
          <a:custGeom>
            <a:avLst/>
            <a:gdLst>
              <a:gd name="textAreaLeft" fmla="*/ 0 w 144720"/>
              <a:gd name="textAreaRight" fmla="*/ 52200 w 144720"/>
              <a:gd name="textAreaTop" fmla="*/ 25920 h 1008360"/>
              <a:gd name="textAreaBottom" fmla="*/ 98244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10267"/>
          <p:cNvSpPr/>
          <p:nvPr/>
        </p:nvSpPr>
        <p:spPr>
          <a:xfrm>
            <a:off x="6172200" y="5506920"/>
            <a:ext cx="142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10268"/>
          <p:cNvSpPr/>
          <p:nvPr/>
        </p:nvSpPr>
        <p:spPr>
          <a:xfrm>
            <a:off x="6692040" y="5057640"/>
            <a:ext cx="188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先说研究对象处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什么状态；由于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性将要怎样；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是什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00"/>
                </a:solidFill>
                <a:latin typeface="黑体"/>
                <a:ea typeface="黑体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13314"/>
          <p:cNvSpPr/>
          <p:nvPr/>
        </p:nvSpPr>
        <p:spPr>
          <a:xfrm>
            <a:off x="1403280" y="2276640"/>
            <a:ext cx="2057400" cy="152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13315"/>
          <p:cNvSpPr/>
          <p:nvPr/>
        </p:nvSpPr>
        <p:spPr>
          <a:xfrm>
            <a:off x="1835280" y="2421000"/>
            <a:ext cx="380880" cy="380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13316"/>
          <p:cNvSpPr/>
          <p:nvPr/>
        </p:nvSpPr>
        <p:spPr>
          <a:xfrm>
            <a:off x="2627280" y="2421000"/>
            <a:ext cx="380880" cy="380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矩形 13317"/>
          <p:cNvSpPr/>
          <p:nvPr/>
        </p:nvSpPr>
        <p:spPr>
          <a:xfrm>
            <a:off x="5508720" y="2205000"/>
            <a:ext cx="2057400" cy="152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椭圆 13318"/>
          <p:cNvSpPr/>
          <p:nvPr/>
        </p:nvSpPr>
        <p:spPr>
          <a:xfrm>
            <a:off x="5867280" y="2349360"/>
            <a:ext cx="381240" cy="381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椭圆 13319"/>
          <p:cNvSpPr/>
          <p:nvPr/>
        </p:nvSpPr>
        <p:spPr>
          <a:xfrm>
            <a:off x="6732720" y="2349360"/>
            <a:ext cx="380880" cy="381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矩形 13320"/>
          <p:cNvSpPr/>
          <p:nvPr/>
        </p:nvSpPr>
        <p:spPr>
          <a:xfrm rot="20082000">
            <a:off x="2123640" y="1413000"/>
            <a:ext cx="38124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13321"/>
          <p:cNvSpPr/>
          <p:nvPr/>
        </p:nvSpPr>
        <p:spPr>
          <a:xfrm>
            <a:off x="3419640" y="234936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13322"/>
          <p:cNvSpPr/>
          <p:nvPr/>
        </p:nvSpPr>
        <p:spPr>
          <a:xfrm rot="1440600">
            <a:off x="6372000" y="1341000"/>
            <a:ext cx="380880" cy="838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13323"/>
          <p:cNvSpPr/>
          <p:nvPr/>
        </p:nvSpPr>
        <p:spPr>
          <a:xfrm>
            <a:off x="7093080" y="2421000"/>
            <a:ext cx="4572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13325"/>
          <p:cNvSpPr/>
          <p:nvPr/>
        </p:nvSpPr>
        <p:spPr>
          <a:xfrm>
            <a:off x="1150560" y="3213000"/>
            <a:ext cx="268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木块处于静止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突然拉动小车时， 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块下部随车一起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部由于惯性保持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来的静止状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向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13326"/>
          <p:cNvSpPr/>
          <p:nvPr/>
        </p:nvSpPr>
        <p:spPr>
          <a:xfrm>
            <a:off x="5689080" y="3068640"/>
            <a:ext cx="268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木块处于运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车突然停下时，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块下部随车一起停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运动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部由于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持原来的运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向前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13327"/>
          <p:cNvSpPr/>
          <p:nvPr/>
        </p:nvSpPr>
        <p:spPr>
          <a:xfrm>
            <a:off x="7524720" y="22766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组合 13333"/>
          <p:cNvGrpSpPr/>
          <p:nvPr/>
        </p:nvGrpSpPr>
        <p:grpSpPr>
          <a:xfrm>
            <a:off x="971640" y="2781360"/>
            <a:ext cx="3600000" cy="71280"/>
            <a:chOff x="971640" y="2781360"/>
            <a:chExt cx="3600000" cy="71280"/>
          </a:xfrm>
        </p:grpSpPr>
        <p:sp>
          <p:nvSpPr>
            <p:cNvPr id="867" name="直接连接符 13334"/>
            <p:cNvSpPr/>
            <p:nvPr/>
          </p:nvSpPr>
          <p:spPr>
            <a:xfrm flipH="1">
              <a:off x="97164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直接连接符 13335"/>
            <p:cNvSpPr/>
            <p:nvPr/>
          </p:nvSpPr>
          <p:spPr>
            <a:xfrm flipH="1">
              <a:off x="1293840" y="2785680"/>
              <a:ext cx="32580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3336"/>
            <p:cNvSpPr/>
            <p:nvPr/>
          </p:nvSpPr>
          <p:spPr>
            <a:xfrm flipH="1">
              <a:off x="162000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直接连接符 13337"/>
            <p:cNvSpPr/>
            <p:nvPr/>
          </p:nvSpPr>
          <p:spPr>
            <a:xfrm flipH="1">
              <a:off x="194292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13338"/>
            <p:cNvSpPr/>
            <p:nvPr/>
          </p:nvSpPr>
          <p:spPr>
            <a:xfrm flipH="1">
              <a:off x="226584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13339"/>
            <p:cNvSpPr/>
            <p:nvPr/>
          </p:nvSpPr>
          <p:spPr>
            <a:xfrm flipH="1">
              <a:off x="2588040" y="2785680"/>
              <a:ext cx="32580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13340"/>
            <p:cNvSpPr/>
            <p:nvPr/>
          </p:nvSpPr>
          <p:spPr>
            <a:xfrm flipH="1">
              <a:off x="291420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13341"/>
            <p:cNvSpPr/>
            <p:nvPr/>
          </p:nvSpPr>
          <p:spPr>
            <a:xfrm flipH="1">
              <a:off x="323712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13342"/>
            <p:cNvSpPr/>
            <p:nvPr/>
          </p:nvSpPr>
          <p:spPr>
            <a:xfrm flipH="1">
              <a:off x="356004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直接连接符 13343"/>
            <p:cNvSpPr/>
            <p:nvPr/>
          </p:nvSpPr>
          <p:spPr>
            <a:xfrm flipH="1">
              <a:off x="3882240" y="2785680"/>
              <a:ext cx="32580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直接连接符 13344"/>
            <p:cNvSpPr/>
            <p:nvPr/>
          </p:nvSpPr>
          <p:spPr>
            <a:xfrm flipH="1">
              <a:off x="4208400" y="2785680"/>
              <a:ext cx="322560" cy="66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直接连接符 13345"/>
            <p:cNvSpPr/>
            <p:nvPr/>
          </p:nvSpPr>
          <p:spPr>
            <a:xfrm>
              <a:off x="1033200" y="2781360"/>
              <a:ext cx="3538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3346"/>
          <p:cNvGrpSpPr/>
          <p:nvPr/>
        </p:nvGrpSpPr>
        <p:grpSpPr>
          <a:xfrm>
            <a:off x="5292720" y="2708280"/>
            <a:ext cx="3455640" cy="73080"/>
            <a:chOff x="5292720" y="2708280"/>
            <a:chExt cx="3455640" cy="73080"/>
          </a:xfrm>
        </p:grpSpPr>
        <p:sp>
          <p:nvSpPr>
            <p:cNvPr id="880" name="直接连接符 13347"/>
            <p:cNvSpPr/>
            <p:nvPr/>
          </p:nvSpPr>
          <p:spPr>
            <a:xfrm flipH="1">
              <a:off x="529272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3348"/>
            <p:cNvSpPr/>
            <p:nvPr/>
          </p:nvSpPr>
          <p:spPr>
            <a:xfrm flipH="1">
              <a:off x="5602320" y="2712600"/>
              <a:ext cx="31248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13349"/>
            <p:cNvSpPr/>
            <p:nvPr/>
          </p:nvSpPr>
          <p:spPr>
            <a:xfrm flipH="1">
              <a:off x="591516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直接连接符 13350"/>
            <p:cNvSpPr/>
            <p:nvPr/>
          </p:nvSpPr>
          <p:spPr>
            <a:xfrm flipH="1">
              <a:off x="622512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直接连接符 13351"/>
            <p:cNvSpPr/>
            <p:nvPr/>
          </p:nvSpPr>
          <p:spPr>
            <a:xfrm flipH="1">
              <a:off x="653472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13352"/>
            <p:cNvSpPr/>
            <p:nvPr/>
          </p:nvSpPr>
          <p:spPr>
            <a:xfrm flipH="1">
              <a:off x="6844680" y="2712600"/>
              <a:ext cx="31248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直接连接符 13353"/>
            <p:cNvSpPr/>
            <p:nvPr/>
          </p:nvSpPr>
          <p:spPr>
            <a:xfrm flipH="1">
              <a:off x="715752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直接连接符 13354"/>
            <p:cNvSpPr/>
            <p:nvPr/>
          </p:nvSpPr>
          <p:spPr>
            <a:xfrm flipH="1">
              <a:off x="746748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13355"/>
            <p:cNvSpPr/>
            <p:nvPr/>
          </p:nvSpPr>
          <p:spPr>
            <a:xfrm flipH="1">
              <a:off x="777708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13356"/>
            <p:cNvSpPr/>
            <p:nvPr/>
          </p:nvSpPr>
          <p:spPr>
            <a:xfrm flipH="1">
              <a:off x="8087040" y="2712600"/>
              <a:ext cx="31248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13357"/>
            <p:cNvSpPr/>
            <p:nvPr/>
          </p:nvSpPr>
          <p:spPr>
            <a:xfrm flipH="1">
              <a:off x="8399880" y="2712600"/>
              <a:ext cx="309600" cy="68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13358"/>
            <p:cNvSpPr/>
            <p:nvPr/>
          </p:nvSpPr>
          <p:spPr>
            <a:xfrm>
              <a:off x="5351760" y="2708280"/>
              <a:ext cx="33966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矩形 13360"/>
          <p:cNvSpPr txBox="1"/>
          <p:nvPr/>
        </p:nvSpPr>
        <p:spPr>
          <a:xfrm>
            <a:off x="1187280" y="476280"/>
            <a:ext cx="76042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突然拉动小车      小车突然停下来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11268" descr="锤头"/>
          <p:cNvPicPr/>
          <p:nvPr/>
        </p:nvPicPr>
        <p:blipFill>
          <a:blip r:embed="rId1"/>
          <a:stretch/>
        </p:blipFill>
        <p:spPr>
          <a:xfrm>
            <a:off x="5292720" y="3500280"/>
            <a:ext cx="3564000" cy="29289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11269" descr="锅炉加煤"/>
          <p:cNvPicPr/>
          <p:nvPr/>
        </p:nvPicPr>
        <p:blipFill>
          <a:blip r:embed="rId2"/>
          <a:stretch/>
        </p:blipFill>
        <p:spPr>
          <a:xfrm>
            <a:off x="324000" y="4049640"/>
            <a:ext cx="4321080" cy="28083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11271" descr="敲旗子"/>
          <p:cNvPicPr/>
          <p:nvPr/>
        </p:nvPicPr>
        <p:blipFill>
          <a:blip r:embed="rId3"/>
          <a:stretch/>
        </p:blipFill>
        <p:spPr>
          <a:xfrm>
            <a:off x="0" y="0"/>
            <a:ext cx="5148360" cy="40053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11272" descr="摔交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矩形 12294"/>
          <p:cNvSpPr/>
          <p:nvPr/>
        </p:nvSpPr>
        <p:spPr>
          <a:xfrm>
            <a:off x="2166840" y="1461960"/>
            <a:ext cx="48103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2296"/>
          <p:cNvSpPr/>
          <p:nvPr/>
        </p:nvSpPr>
        <p:spPr>
          <a:xfrm>
            <a:off x="836640" y="3333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析下列惯性现象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利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2297"/>
          <p:cNvSpPr/>
          <p:nvPr/>
        </p:nvSpPr>
        <p:spPr>
          <a:xfrm>
            <a:off x="250920" y="9079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拍打衣服除去灰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2298"/>
          <p:cNvSpPr/>
          <p:nvPr/>
        </p:nvSpPr>
        <p:spPr>
          <a:xfrm>
            <a:off x="4356000" y="9079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跳高跳远要助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12299"/>
          <p:cNvSpPr/>
          <p:nvPr/>
        </p:nvSpPr>
        <p:spPr>
          <a:xfrm>
            <a:off x="324000" y="141300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洗手后用力甩去手上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2300"/>
          <p:cNvSpPr/>
          <p:nvPr/>
        </p:nvSpPr>
        <p:spPr>
          <a:xfrm>
            <a:off x="5724360" y="1413000"/>
            <a:ext cx="31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套紧锤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文本框 12301"/>
          <p:cNvSpPr/>
          <p:nvPr/>
        </p:nvSpPr>
        <p:spPr>
          <a:xfrm>
            <a:off x="324000" y="1916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汽车安全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12302"/>
          <p:cNvSpPr/>
          <p:nvPr/>
        </p:nvSpPr>
        <p:spPr>
          <a:xfrm>
            <a:off x="4427640" y="19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甩体温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12311"/>
          <p:cNvSpPr/>
          <p:nvPr/>
        </p:nvSpPr>
        <p:spPr>
          <a:xfrm>
            <a:off x="395280" y="2492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火车刹车后要滑行一段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12313"/>
          <p:cNvSpPr/>
          <p:nvPr/>
        </p:nvSpPr>
        <p:spPr>
          <a:xfrm>
            <a:off x="0" y="39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匀速行驶的轮船上跳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论向什么方向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绩都一样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2314"/>
          <p:cNvSpPr/>
          <p:nvPr/>
        </p:nvSpPr>
        <p:spPr>
          <a:xfrm>
            <a:off x="482760" y="4859280"/>
            <a:ext cx="113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2315"/>
          <p:cNvSpPr/>
          <p:nvPr/>
        </p:nvSpPr>
        <p:spPr>
          <a:xfrm>
            <a:off x="1334520" y="5013360"/>
            <a:ext cx="628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匀速行驶的火车顶上吊一个小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绳剪断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球会落在什么地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2316"/>
          <p:cNvSpPr/>
          <p:nvPr/>
        </p:nvSpPr>
        <p:spPr>
          <a:xfrm>
            <a:off x="411120" y="5867280"/>
            <a:ext cx="63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2317"/>
          <p:cNvSpPr/>
          <p:nvPr/>
        </p:nvSpPr>
        <p:spPr>
          <a:xfrm>
            <a:off x="1334880" y="6093000"/>
            <a:ext cx="62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匀速飞行的飞机上落下一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运动情况怎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矩形 12324"/>
          <p:cNvSpPr txBox="1"/>
          <p:nvPr/>
        </p:nvSpPr>
        <p:spPr>
          <a:xfrm>
            <a:off x="250920" y="2997360"/>
            <a:ext cx="216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题</a:t>
            </a:r>
            <a:r>
              <a:rPr b="0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文本框 77825"/>
          <p:cNvSpPr/>
          <p:nvPr/>
        </p:nvSpPr>
        <p:spPr>
          <a:xfrm>
            <a:off x="539640" y="4505400"/>
            <a:ext cx="80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平面越光滑，小车运动的距离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这说明小车受到的阻力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速度减小得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文本框 77827"/>
          <p:cNvSpPr/>
          <p:nvPr/>
        </p:nvSpPr>
        <p:spPr>
          <a:xfrm>
            <a:off x="539640" y="37846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题：为什么小车要从斜面的同一高度滑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77828"/>
          <p:cNvSpPr/>
          <p:nvPr/>
        </p:nvSpPr>
        <p:spPr>
          <a:xfrm>
            <a:off x="539640" y="56577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推理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果运动的物体不受力，它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ShockwaveFlash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464000" cy="316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理想斜面实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未知"/>
          <p:cNvSpPr/>
          <p:nvPr/>
        </p:nvSpPr>
        <p:spPr>
          <a:xfrm>
            <a:off x="611280" y="1628640"/>
            <a:ext cx="4465440" cy="3672000"/>
          </a:xfrm>
          <a:custGeom>
            <a:avLst/>
            <a:gdLst/>
            <a:ahLst/>
            <a:rect l="l" t="t" r="r" b="b"/>
            <a:pathLst>
              <a:path w="2813" h="2313">
                <a:moveTo>
                  <a:pt x="0" y="816"/>
                </a:moveTo>
                <a:cubicBezTo>
                  <a:pt x="355" y="1564"/>
                  <a:pt x="711" y="2313"/>
                  <a:pt x="1180" y="2177"/>
                </a:cubicBezTo>
                <a:cubicBezTo>
                  <a:pt x="1649" y="2041"/>
                  <a:pt x="2231" y="1020"/>
                  <a:pt x="2813" y="0"/>
                </a:cubicBez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11267"/>
          <p:cNvSpPr/>
          <p:nvPr/>
        </p:nvSpPr>
        <p:spPr>
          <a:xfrm flipV="1">
            <a:off x="2627280" y="2134800"/>
            <a:ext cx="4032360" cy="294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268"/>
          <p:cNvSpPr/>
          <p:nvPr/>
        </p:nvSpPr>
        <p:spPr>
          <a:xfrm flipV="1">
            <a:off x="2627280" y="2565360"/>
            <a:ext cx="4970520" cy="2448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1269"/>
          <p:cNvSpPr/>
          <p:nvPr/>
        </p:nvSpPr>
        <p:spPr>
          <a:xfrm>
            <a:off x="2124000" y="508464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11270"/>
          <p:cNvSpPr/>
          <p:nvPr/>
        </p:nvSpPr>
        <p:spPr>
          <a:xfrm>
            <a:off x="755640" y="2997360"/>
            <a:ext cx="289080" cy="287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接连接符 11271"/>
          <p:cNvSpPr/>
          <p:nvPr/>
        </p:nvSpPr>
        <p:spPr>
          <a:xfrm>
            <a:off x="611280" y="3141720"/>
            <a:ext cx="792144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任意多边形 11272"/>
          <p:cNvSpPr/>
          <p:nvPr/>
        </p:nvSpPr>
        <p:spPr>
          <a:xfrm>
            <a:off x="7451640" y="4797360"/>
            <a:ext cx="1008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11273"/>
          <p:cNvSpPr/>
          <p:nvPr/>
        </p:nvSpPr>
        <p:spPr>
          <a:xfrm>
            <a:off x="0" y="2924280"/>
            <a:ext cx="3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1274"/>
          <p:cNvSpPr/>
          <p:nvPr/>
        </p:nvSpPr>
        <p:spPr>
          <a:xfrm>
            <a:off x="3473280" y="22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1275"/>
          <p:cNvSpPr/>
          <p:nvPr/>
        </p:nvSpPr>
        <p:spPr>
          <a:xfrm>
            <a:off x="4859280" y="2276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11276"/>
          <p:cNvSpPr/>
          <p:nvPr/>
        </p:nvSpPr>
        <p:spPr>
          <a:xfrm>
            <a:off x="6281640" y="22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1277"/>
          <p:cNvSpPr/>
          <p:nvPr/>
        </p:nvSpPr>
        <p:spPr>
          <a:xfrm>
            <a:off x="6877080" y="400536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11278"/>
          <p:cNvSpPr/>
          <p:nvPr/>
        </p:nvSpPr>
        <p:spPr>
          <a:xfrm>
            <a:off x="755640" y="2997360"/>
            <a:ext cx="289080" cy="287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11279"/>
          <p:cNvSpPr/>
          <p:nvPr/>
        </p:nvSpPr>
        <p:spPr>
          <a:xfrm>
            <a:off x="7958160" y="4119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直接连接符 11280"/>
          <p:cNvSpPr/>
          <p:nvPr/>
        </p:nvSpPr>
        <p:spPr>
          <a:xfrm>
            <a:off x="3132000" y="4653000"/>
            <a:ext cx="216000" cy="431640"/>
          </a:xfrm>
          <a:prstGeom prst="line">
            <a:avLst/>
          </a:prstGeom>
          <a:ln w="88920">
            <a:solidFill>
              <a:srgbClr val="ff0000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1281"/>
          <p:cNvSpPr/>
          <p:nvPr/>
        </p:nvSpPr>
        <p:spPr>
          <a:xfrm>
            <a:off x="368784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1282"/>
          <p:cNvSpPr/>
          <p:nvPr/>
        </p:nvSpPr>
        <p:spPr>
          <a:xfrm>
            <a:off x="3637080" y="4456080"/>
            <a:ext cx="4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905120" y="563868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00e2"/>
                </a:solidFill>
                <a:latin typeface="Arial"/>
                <a:ea typeface="楷体_GB2312"/>
              </a:rPr>
              <a:t>物体的运动不需要力来维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3.48972E-007 C 0.04653 0.13589 0.09166 0.27201 0.14791 0.27247 C 0.20399 0.27294 0.30798 0.04691 0.33854 0.003 E">
                                      <p:cBhvr>
                                        <p:cTn id="42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69771E-008 C 0.0349 0.13589 0.06979 0.27201 0.14427 0.27247 C 0.21875 0.27294 0.39618 0.04761 0.44653 0.00324 E">
                                      <p:cBhvr>
                                        <p:cTn id="58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69771E-008 C 0.02309 0.13474 0.04618 0.26947 0.14184 0.26947 C 0.2375 0.26947 0.50243 0.04483 0.57448 -3.69771E-008 E">
                                      <p:cBhvr>
                                        <p:cTn id="62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23 C 0.01701 0.10816 0.0342 0.21632 0.14653 0.26023 C 0.25885 0.30414 0.58628 0.263 0.67448 0.26346 E">
                                      <p:cBhvr>
                                        <p:cTn id="66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12289"/>
          <p:cNvSpPr/>
          <p:nvPr/>
        </p:nvSpPr>
        <p:spPr>
          <a:xfrm>
            <a:off x="971640" y="620640"/>
            <a:ext cx="748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767ff"/>
                </a:solidFill>
                <a:uFillTx/>
                <a:latin typeface="Arial"/>
                <a:ea typeface="黑体"/>
                <a:hlinkClick r:id="rId1"/>
              </a:rPr>
              <a:t>伽利略的理想实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的过程认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2290"/>
          <p:cNvSpPr/>
          <p:nvPr/>
        </p:nvSpPr>
        <p:spPr>
          <a:xfrm>
            <a:off x="395280" y="1268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现实出发，从一个斜面上能到另一个斜面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2291"/>
          <p:cNvSpPr/>
          <p:nvPr/>
        </p:nvSpPr>
        <p:spPr>
          <a:xfrm>
            <a:off x="468360" y="256536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理想出发，不计阻力，能达到另一个斜面上等高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12292"/>
          <p:cNvSpPr/>
          <p:nvPr/>
        </p:nvSpPr>
        <p:spPr>
          <a:xfrm>
            <a:off x="468360" y="400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现实出发，减小倾角，小球运动越来越远，时间越来越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12293"/>
          <p:cNvSpPr/>
          <p:nvPr/>
        </p:nvSpPr>
        <p:spPr>
          <a:xfrm>
            <a:off x="468360" y="5229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理想出发，角度减为零小球将永远运动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伽利略的观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23640" y="1052640"/>
            <a:ext cx="8521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伽利略的理想实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伽利略的观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球会以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恒定的速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永远运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水平面上做匀速直线运动的物体并不需要外力来维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17428"/>
          <p:cNvGrpSpPr/>
          <p:nvPr/>
        </p:nvGrpSpPr>
        <p:grpSpPr>
          <a:xfrm>
            <a:off x="222120" y="322200"/>
            <a:ext cx="2160360" cy="682560"/>
            <a:chOff x="222120" y="322200"/>
            <a:chExt cx="2160360" cy="682560"/>
          </a:xfrm>
        </p:grpSpPr>
        <p:pic>
          <p:nvPicPr>
            <p:cNvPr id="610" name="TextBox 1" descr=""/>
            <p:cNvPicPr/>
            <p:nvPr/>
          </p:nvPicPr>
          <p:blipFill>
            <a:blip r:embed="rId1"/>
            <a:stretch/>
          </p:blipFill>
          <p:spPr>
            <a:xfrm>
              <a:off x="222120" y="322200"/>
              <a:ext cx="2160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文本框 17409"/>
            <p:cNvSpPr/>
            <p:nvPr/>
          </p:nvSpPr>
          <p:spPr>
            <a:xfrm>
              <a:off x="732960" y="3668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演示实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2" descr=""/>
          <p:cNvPicPr/>
          <p:nvPr/>
        </p:nvPicPr>
        <p:blipFill>
          <a:blip r:embed="rId2"/>
          <a:srcRect l="0" t="0" r="0" b="73991"/>
          <a:stretch/>
        </p:blipFill>
        <p:spPr>
          <a:xfrm>
            <a:off x="428760" y="278604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3"/>
          <a:srcRect l="0" t="37395" r="0" b="33352"/>
          <a:stretch/>
        </p:blipFill>
        <p:spPr>
          <a:xfrm>
            <a:off x="428760" y="4357800"/>
            <a:ext cx="6705360" cy="1285920"/>
          </a:xfrm>
          <a:prstGeom prst="rect">
            <a:avLst/>
          </a:prstGeom>
          <a:ln w="0">
            <a:noFill/>
          </a:ln>
        </p:spPr>
      </p:pic>
      <p:sp>
        <p:nvSpPr>
          <p:cNvPr id="614" name="直接连接符 6"/>
          <p:cNvSpPr/>
          <p:nvPr/>
        </p:nvSpPr>
        <p:spPr>
          <a:xfrm>
            <a:off x="1287360" y="2786040"/>
            <a:ext cx="0" cy="2644920"/>
          </a:xfrm>
          <a:prstGeom prst="line">
            <a:avLst/>
          </a:prstGeom>
          <a:ln w="38160">
            <a:solidFill>
              <a:srgbClr val="d9d8e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圆角矩形标注 11"/>
          <p:cNvSpPr/>
          <p:nvPr/>
        </p:nvSpPr>
        <p:spPr>
          <a:xfrm>
            <a:off x="357120" y="5786280"/>
            <a:ext cx="2428920" cy="857520"/>
          </a:xfrm>
          <a:prstGeom prst="wedgeRoundRectCallout">
            <a:avLst>
              <a:gd name="adj1" fmla="val -22212"/>
              <a:gd name="adj2" fmla="val -93500"/>
              <a:gd name="adj3" fmla="val 16667"/>
            </a:avLst>
          </a:prstGeom>
          <a:solidFill>
            <a:srgbClr val="e2e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同一斜面的同一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圆角矩形标注 12"/>
          <p:cNvSpPr/>
          <p:nvPr/>
        </p:nvSpPr>
        <p:spPr>
          <a:xfrm>
            <a:off x="714240" y="1714680"/>
            <a:ext cx="2273400" cy="1000080"/>
          </a:xfrm>
          <a:prstGeom prst="wedgeRoundRectCallout">
            <a:avLst>
              <a:gd name="adj1" fmla="val 3699"/>
              <a:gd name="adj2" fmla="val 73490"/>
              <a:gd name="adj3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同一小车从静止下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圆角矩形标注 13"/>
          <p:cNvSpPr/>
          <p:nvPr/>
        </p:nvSpPr>
        <p:spPr>
          <a:xfrm>
            <a:off x="4284720" y="1773360"/>
            <a:ext cx="2428920" cy="857160"/>
          </a:xfrm>
          <a:prstGeom prst="wedgeRoundRectCallout">
            <a:avLst>
              <a:gd name="adj1" fmla="val -115620"/>
              <a:gd name="adj2" fmla="val 128888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达斜面底端速度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左大括号 14"/>
          <p:cNvSpPr/>
          <p:nvPr/>
        </p:nvSpPr>
        <p:spPr>
          <a:xfrm rot="16200000">
            <a:off x="3034440" y="2677320"/>
            <a:ext cx="285840" cy="2357280"/>
          </a:xfrm>
          <a:custGeom>
            <a:avLst/>
            <a:gdLst>
              <a:gd name="textAreaLeft" fmla="*/ 182520 w 285840"/>
              <a:gd name="textAreaRight" fmla="*/ 286200 w 285840"/>
              <a:gd name="textAreaTop" fmla="*/ 36000 h 2357280"/>
              <a:gd name="textAreaBottom" fmla="*/ 2321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7"/>
                  <a:pt x="10800" y="1054"/>
                </a:cubicBezTo>
                <a:lnTo>
                  <a:pt x="10800" y="9877"/>
                </a:lnTo>
                <a:cubicBezTo>
                  <a:pt x="10800" y="10404"/>
                  <a:pt x="5400" y="10931"/>
                  <a:pt x="0" y="10931"/>
                </a:cubicBezTo>
                <a:cubicBezTo>
                  <a:pt x="5400" y="10931"/>
                  <a:pt x="10800" y="11458"/>
                  <a:pt x="10800" y="11985"/>
                </a:cubicBezTo>
                <a:lnTo>
                  <a:pt x="10800" y="20546"/>
                </a:lnTo>
                <a:cubicBezTo>
                  <a:pt x="10800" y="210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左大括号 15"/>
          <p:cNvSpPr/>
          <p:nvPr/>
        </p:nvSpPr>
        <p:spPr>
          <a:xfrm rot="16200000">
            <a:off x="3474720" y="3898800"/>
            <a:ext cx="198720" cy="3290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47160 h 3290760"/>
              <a:gd name="textAreaBottom" fmla="*/ 3243600 h 32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7"/>
                  <a:pt x="10800" y="993"/>
                </a:cubicBezTo>
                <a:lnTo>
                  <a:pt x="10800" y="9708"/>
                </a:lnTo>
                <a:cubicBezTo>
                  <a:pt x="10800" y="10205"/>
                  <a:pt x="5400" y="10701"/>
                  <a:pt x="0" y="10701"/>
                </a:cubicBezTo>
                <a:cubicBezTo>
                  <a:pt x="5400" y="10701"/>
                  <a:pt x="10800" y="11198"/>
                  <a:pt x="10800" y="11694"/>
                </a:cubicBezTo>
                <a:lnTo>
                  <a:pt x="10800" y="20607"/>
                </a:lnTo>
                <a:cubicBezTo>
                  <a:pt x="10800" y="211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6"/>
          <p:cNvSpPr/>
          <p:nvPr/>
        </p:nvSpPr>
        <p:spPr>
          <a:xfrm>
            <a:off x="7355160" y="3076560"/>
            <a:ext cx="1034640" cy="520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棉布表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7"/>
          <p:cNvSpPr/>
          <p:nvPr/>
        </p:nvSpPr>
        <p:spPr>
          <a:xfrm>
            <a:off x="7355160" y="4635360"/>
            <a:ext cx="1034640" cy="5205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木板表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8"/>
          <p:cNvSpPr/>
          <p:nvPr/>
        </p:nvSpPr>
        <p:spPr>
          <a:xfrm>
            <a:off x="4161960" y="5786280"/>
            <a:ext cx="21009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较小车滑行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17427"/>
          <p:cNvGrpSpPr/>
          <p:nvPr/>
        </p:nvGrpSpPr>
        <p:grpSpPr>
          <a:xfrm>
            <a:off x="2778120" y="382680"/>
            <a:ext cx="3986280" cy="576720"/>
            <a:chOff x="2778120" y="382680"/>
            <a:chExt cx="3986280" cy="576720"/>
          </a:xfrm>
        </p:grpSpPr>
        <p:sp>
          <p:nvSpPr>
            <p:cNvPr id="624" name="动作按钮: 自定义 17425"/>
            <p:cNvSpPr/>
            <p:nvPr/>
          </p:nvSpPr>
          <p:spPr>
            <a:xfrm>
              <a:off x="2778120" y="444600"/>
              <a:ext cx="3986280" cy="514080"/>
            </a:xfrm>
            <a:custGeom>
              <a:avLst/>
              <a:gdLst>
                <a:gd name="textAreaLeft" fmla="*/ 33120 w 3986280"/>
                <a:gd name="textAreaRight" fmla="*/ 3953160 w 398628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167389" h="21600">
                  <a:moveTo>
                    <a:pt x="0" y="0"/>
                  </a:moveTo>
                  <a:lnTo>
                    <a:pt x="167389" y="0"/>
                  </a:lnTo>
                  <a:lnTo>
                    <a:pt x="167389" y="21600"/>
                  </a:lnTo>
                  <a:lnTo>
                    <a:pt x="0" y="21600"/>
                  </a:lnTo>
                  <a:close/>
                </a:path>
                <a:path fill="lightenLess" w="167389" h="21600">
                  <a:moveTo>
                    <a:pt x="0" y="0"/>
                  </a:moveTo>
                  <a:lnTo>
                    <a:pt x="167389" y="0"/>
                  </a:lnTo>
                  <a:lnTo>
                    <a:pt x="165989" y="1400"/>
                  </a:lnTo>
                  <a:lnTo>
                    <a:pt x="1400" y="1400"/>
                  </a:lnTo>
                  <a:close/>
                </a:path>
                <a:path fill="darken" w="167389" h="21600">
                  <a:moveTo>
                    <a:pt x="167389" y="0"/>
                  </a:moveTo>
                  <a:lnTo>
                    <a:pt x="167389" y="21600"/>
                  </a:lnTo>
                  <a:lnTo>
                    <a:pt x="165989" y="20200"/>
                  </a:lnTo>
                  <a:lnTo>
                    <a:pt x="165989" y="1400"/>
                  </a:lnTo>
                  <a:close/>
                </a:path>
                <a:path fill="darkenLess" w="167389" h="21600">
                  <a:moveTo>
                    <a:pt x="1673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65989" y="20200"/>
                  </a:lnTo>
                  <a:close/>
                </a:path>
                <a:path fill="lighten" w="1673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ffdbb7"/>
                </a:gs>
                <a:gs pos="100000">
                  <a:srgbClr val="ffc5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2"/>
            <p:cNvSpPr/>
            <p:nvPr/>
          </p:nvSpPr>
          <p:spPr>
            <a:xfrm>
              <a:off x="3571200" y="382680"/>
              <a:ext cx="2370600" cy="576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阻力对物体运动的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6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80902"/>
          <p:cNvSpPr/>
          <p:nvPr/>
        </p:nvSpPr>
        <p:spPr>
          <a:xfrm>
            <a:off x="2016000" y="100476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同条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"/>
          <p:cNvSpPr/>
          <p:nvPr/>
        </p:nvSpPr>
        <p:spPr>
          <a:xfrm>
            <a:off x="4692240" y="10065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面不同即阻力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260280"/>
          <a:ext cx="8229600" cy="3456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实验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表面材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阻力大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滑行距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速度变化快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毛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棉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木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文本框 63534"/>
          <p:cNvSpPr/>
          <p:nvPr/>
        </p:nvSpPr>
        <p:spPr>
          <a:xfrm>
            <a:off x="3851280" y="148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63535"/>
          <p:cNvSpPr/>
          <p:nvPr/>
        </p:nvSpPr>
        <p:spPr>
          <a:xfrm>
            <a:off x="5580000" y="148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63536"/>
          <p:cNvSpPr/>
          <p:nvPr/>
        </p:nvSpPr>
        <p:spPr>
          <a:xfrm>
            <a:off x="7093080" y="148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63537"/>
          <p:cNvSpPr/>
          <p:nvPr/>
        </p:nvSpPr>
        <p:spPr>
          <a:xfrm>
            <a:off x="3924360" y="220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63538"/>
          <p:cNvSpPr/>
          <p:nvPr/>
        </p:nvSpPr>
        <p:spPr>
          <a:xfrm>
            <a:off x="52927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63539"/>
          <p:cNvSpPr/>
          <p:nvPr/>
        </p:nvSpPr>
        <p:spPr>
          <a:xfrm>
            <a:off x="7164360" y="220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63540"/>
          <p:cNvSpPr/>
          <p:nvPr/>
        </p:nvSpPr>
        <p:spPr>
          <a:xfrm>
            <a:off x="3851280" y="29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63541"/>
          <p:cNvSpPr/>
          <p:nvPr/>
        </p:nvSpPr>
        <p:spPr>
          <a:xfrm>
            <a:off x="5651640" y="2997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3544"/>
          <p:cNvSpPr/>
          <p:nvPr/>
        </p:nvSpPr>
        <p:spPr>
          <a:xfrm>
            <a:off x="7164360" y="306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1"/>
          <p:cNvSpPr/>
          <p:nvPr/>
        </p:nvSpPr>
        <p:spPr>
          <a:xfrm>
            <a:off x="228600" y="4327560"/>
            <a:ext cx="8550360" cy="1338120"/>
          </a:xfrm>
          <a:prstGeom prst="roundRect">
            <a:avLst>
              <a:gd name="adj" fmla="val 9491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  <a:ea typeface="华文中宋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结论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平面越光滑，受到的阻力越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，小车运动的距离越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________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，速度减小得越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______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"/>
          <p:cNvSpPr/>
          <p:nvPr/>
        </p:nvSpPr>
        <p:spPr>
          <a:xfrm>
            <a:off x="6846840" y="4395960"/>
            <a:ext cx="11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3481560" y="4976640"/>
            <a:ext cx="59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"/>
          <p:cNvSpPr/>
          <p:nvPr/>
        </p:nvSpPr>
        <p:spPr>
          <a:xfrm>
            <a:off x="7512120" y="4976640"/>
            <a:ext cx="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1:05:19Z</dcterms:created>
  <dc:creator/>
  <dc:description/>
  <dc:language>en-US</dc:language>
  <cp:lastModifiedBy>小慕</cp:lastModifiedBy>
  <dcterms:modified xsi:type="dcterms:W3CDTF">2018-03-23T01:31:30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