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wmf" ContentType="image/x-wmf"/>
  <Override PartName="/ppt/media/image8.gif" ContentType="image/gif"/>
  <Override PartName="/ppt/media/image9.wmf" ContentType="image/x-wmf"/>
  <Override PartName="/ppt/media/image11.gif" ContentType="image/gif"/>
  <Override PartName="/ppt/media/image10.wmf" ContentType="image/x-wmf"/>
  <Override PartName="/ppt/media/image12.png" ContentType="image/png"/>
  <Override PartName="/ppt/media/click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7A1-0B43-43E6-A122-E65E8512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0DF-EC31-4C6D-833E-83CE8C8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A00-DB5F-4EA1-9ECA-257C7D91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A92-7ED8-4593-89A0-F0BA23F6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A703-C09B-4C90-9336-9C5AE391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DEA9-6E6F-4299-912E-A4865557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5FBC-2CD0-4A6F-87C4-ABB00ED1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7A4C-144B-4107-98B6-11090F50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BA74-917B-4416-A517-C9187A49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3EF5-79C9-4629-A973-0421EEB6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FB68-6417-49D9-A144-44F4D09C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B32-73B8-4121-9734-4CF3F665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85F5-3217-4DD6-9D27-775572B8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7F9E-9C62-480A-9DC3-AEFC4C12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36E8-4AA7-4232-B7C7-AA09629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1E65-0C63-4BD6-81FA-407F3B04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E0DE-0014-4D42-9ABF-8F031C9E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4616-F81B-46F8-8A6D-5964DBA0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CAF1B-A0CD-44F0-BBA7-350AFACB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BD20-659F-4753-83BC-76064CA2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8A86-6C00-453E-B1DA-8CB0EE11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D90D1-7F5D-487C-BE28-995C60CC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677-1FE1-460E-8135-9C17EB46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212B-70AC-437C-B16C-2DC34435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5195-6247-4E52-9156-73A83C8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D5CDA-18A6-4C11-B66D-C58063C3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F8F5-61E1-4AD9-B60A-CCE0221D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BA98-D4A7-4667-8C89-C9B826B5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9378-7E85-458E-B001-982C1ADD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789C2-4F6E-4CE8-9BDF-FFD6B22C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F619D-A3BC-438C-8C72-9666E50C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B1FC7-CD0F-48F3-8622-6467F765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5CEE1-33D9-47FA-B694-D67F9E8C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5D1-2119-475D-81E6-671143C3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77D4E-F98C-424A-A57C-093C3314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75B3-8648-4623-9EB4-698769EE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87BFE-FE31-4868-B2DF-277AB4E5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1161-75E7-4D41-9632-6D75308C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22566-3296-4447-8209-11FEB768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242F-EEF4-49D2-83CC-E9BFBD83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58D1-FBD2-4C96-9311-01F35FEE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3C162-AB17-4752-8BA6-B757F502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D540-1B2C-423E-9234-A8FC220B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6BC5E-487B-4B66-9310-95C2599C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E8A-2B07-44B5-A12A-A7FDC5F2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BBB60-9AB0-4430-92FF-3A3C0D4B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DD1FF-EA16-4F3E-AB1F-989BB245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99D7E-7F4F-48CA-A82E-DD4C2A22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10FB0-EA53-4052-B4FB-9F1A467A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E60CD-6DAA-4F13-BEBC-05CCD22E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0906F-287F-4B33-A3AC-333D4A06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0464B-C5E0-4811-8C8C-317163F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227B1-42D1-47D5-B8E3-6A3E03C9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FC246-0850-49FC-91B4-1CF1823C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10169-DF7D-4039-82F6-101A70F8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271-77BD-413F-BBFC-38503F81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0F7DF-9CF8-43FE-BC4C-0D30D283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904-2446-4C57-9598-61CB0CDE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A90-48B3-422B-A12A-B1260A8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A2C-9FF2-4130-81F6-E29FDAF2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5C76-95CD-4F6A-96E0-70CB37DCCC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2ABB-18DD-4DC7-91DF-5A7935BB92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103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107" name="未知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51" name="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9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31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32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3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5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6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34320" y="-4680"/>
            <a:ext cx="2317680" cy="2060280"/>
            <a:chOff x="6934320" y="-4680"/>
            <a:chExt cx="2317680" cy="2060280"/>
          </a:xfrm>
        </p:grpSpPr>
        <p:sp>
          <p:nvSpPr>
            <p:cNvPr id="381" name="未知"/>
            <p:cNvSpPr/>
            <p:nvPr/>
          </p:nvSpPr>
          <p:spPr>
            <a:xfrm>
              <a:off x="7041600" y="-4680"/>
              <a:ext cx="2102760" cy="19105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6934320" y="1800"/>
              <a:ext cx="2317680" cy="2053800"/>
              <a:chOff x="6934320" y="1800"/>
              <a:chExt cx="2317680" cy="2053800"/>
            </a:xfrm>
          </p:grpSpPr>
          <p:sp>
            <p:nvSpPr>
              <p:cNvPr id="383" name="未知"/>
              <p:cNvSpPr/>
              <p:nvPr/>
            </p:nvSpPr>
            <p:spPr>
              <a:xfrm>
                <a:off x="7045200" y="1800"/>
                <a:ext cx="383760" cy="14220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>
                <a:off x="6934320" y="1800"/>
                <a:ext cx="2317680" cy="205380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7485120" y="967320"/>
                <a:ext cx="186480" cy="21528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>
                <a:off x="7314120" y="1055520"/>
                <a:ext cx="162720" cy="28836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>
                <a:off x="7211520" y="47880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>
                <a:off x="7818120" y="1163880"/>
                <a:ext cx="383760" cy="39168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>
                <a:off x="8701200" y="7671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>
                <a:off x="8831880" y="752040"/>
                <a:ext cx="301680" cy="18000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>
                <a:off x="8820360" y="90180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>
                <a:off x="8566200" y="103644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>
                <a:off x="8625960" y="115992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>
                <a:off x="859860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>
                <a:off x="8895600" y="1101960"/>
                <a:ext cx="257400" cy="64980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2ABA-1E76-4C3A-AAA2-0865CE29F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3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53" name="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EB6E-4280-48D3-A87A-80ECB0585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03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F71F-ADFE-47B4-9664-4C19A889D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539640" y="1989000"/>
            <a:ext cx="78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一元二次方程的解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用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方正舒体"/>
              </a:rPr>
              <a:t>因式分解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解一元二次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24000" y="10641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2988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解下列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2988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=0      2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+3)(</a:t>
            </a:r>
            <a:r>
              <a:rPr b="1" i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1)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2349360"/>
            <a:ext cx="8280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解：原方程可变形为  解：原方程可变形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)(</a:t>
            </a:r>
            <a:r>
              <a:rPr b="1" i="1" lang="en-US" sz="3200" spc="-1" strike="noStrike">
                <a:solidFill>
                  <a:srgbClr val="703dff"/>
                </a:solidFill>
                <a:latin typeface="华文中宋"/>
                <a:ea typeface="华文中宋"/>
              </a:rPr>
              <a:t>x</a:t>
            </a:r>
            <a:r>
              <a:rPr b="1" lang="en-US" sz="3200" spc="-1" strike="noStrike">
                <a:solidFill>
                  <a:srgbClr val="703dff"/>
                </a:solidFill>
                <a:latin typeface="华文中宋"/>
                <a:ea typeface="华文中宋"/>
              </a:rPr>
              <a:t>+2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)=0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</a:t>
            </a:r>
            <a:r>
              <a:rPr b="1" i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+2</a:t>
            </a:r>
            <a:r>
              <a:rPr b="1" i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=0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            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)(</a:t>
            </a:r>
            <a:r>
              <a:rPr b="1" i="1" lang="en-US" sz="3200" spc="-1" strike="noStrike">
                <a:solidFill>
                  <a:srgbClr val="703dff"/>
                </a:solidFill>
                <a:latin typeface="华文中宋"/>
                <a:ea typeface="华文中宋"/>
              </a:rPr>
              <a:t>x</a:t>
            </a:r>
            <a:r>
              <a:rPr b="1" lang="en-US" sz="3200" spc="-1" strike="noStrike">
                <a:solidFill>
                  <a:srgbClr val="703dff"/>
                </a:solidFill>
                <a:latin typeface="华文中宋"/>
                <a:ea typeface="华文中宋"/>
              </a:rPr>
              <a:t>+4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=0</a:t>
            </a: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或</a:t>
            </a:r>
            <a:r>
              <a:rPr b="1" i="1" lang="en-US" sz="3200" spc="-1" strike="noStrike">
                <a:solidFill>
                  <a:srgbClr val="703dff"/>
                </a:solidFill>
                <a:latin typeface="华文中宋"/>
                <a:ea typeface="华文中宋"/>
              </a:rPr>
              <a:t>x</a:t>
            </a:r>
            <a:r>
              <a:rPr b="1" lang="en-US" sz="3200" spc="-1" strike="noStrike">
                <a:solidFill>
                  <a:srgbClr val="703dff"/>
                </a:solidFill>
                <a:latin typeface="华文中宋"/>
                <a:ea typeface="华文中宋"/>
              </a:rPr>
              <a:t>+2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=0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=0</a:t>
            </a: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或</a:t>
            </a:r>
            <a:r>
              <a:rPr b="1" i="1" lang="en-US" sz="3200" spc="-1" strike="noStrike">
                <a:solidFill>
                  <a:srgbClr val="703dff"/>
                </a:solidFill>
                <a:latin typeface="华文中宋"/>
                <a:ea typeface="华文中宋"/>
              </a:rPr>
              <a:t>x</a:t>
            </a:r>
            <a:r>
              <a:rPr b="1" lang="en-US" sz="3200" spc="-1" strike="noStrike">
                <a:solidFill>
                  <a:srgbClr val="703dff"/>
                </a:solidFill>
                <a:latin typeface="华文中宋"/>
                <a:ea typeface="华文中宋"/>
              </a:rPr>
              <a:t>+4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∴  </a:t>
            </a:r>
            <a:r>
              <a:rPr b="1" i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x</a:t>
            </a:r>
            <a:r>
              <a:rPr b="1" lang="en-US" sz="3200" spc="-1" strike="noStrike" baseline="-25000">
                <a:solidFill>
                  <a:srgbClr val="ff00ff"/>
                </a:solidFill>
                <a:latin typeface="华文中宋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 ,</a:t>
            </a:r>
            <a:r>
              <a:rPr b="1" i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x</a:t>
            </a:r>
            <a:r>
              <a:rPr b="1" i="1" lang="en-US" sz="3200" spc="-1" strike="noStrike" baseline="-25000">
                <a:solidFill>
                  <a:srgbClr val="ff00ff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=</a:t>
            </a:r>
            <a:r>
              <a:rPr b="1" lang="en-US" sz="3200" spc="-1" strike="noStrike">
                <a:solidFill>
                  <a:srgbClr val="703dff"/>
                </a:solidFill>
                <a:latin typeface="华文中宋"/>
                <a:ea typeface="华文中宋"/>
              </a:rPr>
              <a:t>-2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   ∴ </a:t>
            </a:r>
            <a:r>
              <a:rPr b="1" i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x</a:t>
            </a:r>
            <a:r>
              <a:rPr b="1" lang="en-US" sz="3200" spc="-1" strike="noStrike" baseline="-25000">
                <a:solidFill>
                  <a:srgbClr val="ff00ff"/>
                </a:solidFill>
                <a:latin typeface="华文中宋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 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,</a:t>
            </a:r>
            <a:r>
              <a:rPr b="1" i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x</a:t>
            </a:r>
            <a:r>
              <a:rPr b="1" lang="en-US" sz="3200" spc="-1" strike="noStrike" baseline="-25000">
                <a:solidFill>
                  <a:srgbClr val="ff00ff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=</a:t>
            </a:r>
            <a:r>
              <a:rPr b="1" lang="en-US" sz="3200" spc="-1" strike="noStrike">
                <a:solidFill>
                  <a:srgbClr val="703dff"/>
                </a:solidFill>
                <a:latin typeface="华文中宋"/>
                <a:ea typeface="华文中宋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26920" y="33336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少儿简体"/>
              </a:rPr>
              <a:t>十字相乘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476360" y="134136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3)(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)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562480" y="206064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解：原方程可变形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466000" y="3500280"/>
            <a:ext cx="373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)(</a:t>
            </a: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x+4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)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301120" y="4292640"/>
            <a:ext cx="423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=0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或</a:t>
            </a: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x+4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525400" y="5157720"/>
            <a:ext cx="3477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∴ 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en-US" sz="44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,x</a:t>
            </a:r>
            <a:r>
              <a:rPr b="1" lang="en-US" sz="4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-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92360" y="404640"/>
            <a:ext cx="4824360" cy="825120"/>
          </a:xfrm>
          <a:prstGeom prst="rect">
            <a:avLst/>
          </a:prstGeom>
          <a:solidFill>
            <a:srgbClr val="8ff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03dff"/>
                </a:solidFill>
                <a:latin typeface="Arial"/>
                <a:ea typeface="华文新魏"/>
              </a:rPr>
              <a:t>解题步骤演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124000" y="2781360"/>
            <a:ext cx="43927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方程右边化为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43280" y="2781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+2x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39000" y="3573360"/>
            <a:ext cx="4237560" cy="764280"/>
          </a:xfrm>
          <a:prstGeom prst="rect">
            <a:avLst/>
          </a:prstGeom>
          <a:solidFill>
            <a:srgbClr val="8ff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左边分解成两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一次因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的乘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4436280"/>
            <a:ext cx="8820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至少有一个</a:t>
            </a:r>
            <a:r>
              <a:rPr b="0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一次因式为零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得到两个一元一次方程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1280" y="5303160"/>
            <a:ext cx="809604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两个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元一次方程的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就是原方程的解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3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216080" y="906840"/>
            <a:ext cx="581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因式分解法解下列方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908000" y="3789360"/>
            <a:ext cx="1152720" cy="10764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2783160" y="385956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3</a:t>
            </a:r>
            <a:r>
              <a:rPr b="1" i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73200" y="2781360"/>
            <a:ext cx="802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)(3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55640" y="3860640"/>
            <a:ext cx="87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55640" y="4941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7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12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4360" y="1628640"/>
            <a:ext cx="69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 )(</a:t>
            </a:r>
            <a:r>
              <a:rPr b="1" i="1" lang="zh-CN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+2)=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6948360" y="3645000"/>
            <a:ext cx="15973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7559640" cy="144144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539640" y="112428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  <a:ea typeface="Times New Roman"/>
              </a:rPr>
              <a:t>⑤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(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+3)=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7775280" cy="88272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539640" y="220500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3)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7164360" y="907920"/>
            <a:ext cx="152568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11280" y="691560"/>
            <a:ext cx="7561080" cy="642600"/>
          </a:xfrm>
          <a:prstGeom prst="rect">
            <a:avLst/>
          </a:prstGeom>
          <a:solidFill>
            <a:srgbClr val="ffcc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用因式分解法解一元二次方程的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00000" y="1628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程右边化为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方程左边分解成两个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乘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至少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式为零，得到两个一元一次方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是原方程的解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140360" y="15573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940360" y="21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一次因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411280" y="3213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有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484360" y="4365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一元一次方程的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547640" y="2637000"/>
            <a:ext cx="5832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右化零　　左分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两因式　　各求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643280" y="1484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  <a:ea typeface="华文行楷"/>
              </a:rPr>
              <a:t>简记歌诀</a:t>
            </a: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5435640" y="404640"/>
            <a:ext cx="1333440" cy="118116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468360" y="4652640"/>
            <a:ext cx="8280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一元二次方程的方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直接开平方法　 配方法 　公式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因式分解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771640" y="260280"/>
            <a:ext cx="230508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   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5280" y="155736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程右边化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方程左边分解成两个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乘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少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　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式为零，得到两个一元一次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原方程的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348000" y="1413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861080" y="191772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一次因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692360" y="29257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有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619280" y="3860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一元一次方程的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95280" y="8604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因式分解法解一元二次方程的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282960" y="1052640"/>
            <a:ext cx="1277640" cy="23050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华文行楷"/>
              </a:rPr>
              <a:t>重点 难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92360" y="105264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华文琥珀"/>
                <a:ea typeface="华文琥珀"/>
              </a:rPr>
              <a:t>重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华文琥珀"/>
                <a:ea typeface="华文琥珀"/>
              </a:rPr>
              <a:t>用因式分解法解一元二次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华文琥珀"/>
                <a:ea typeface="华文琥珀"/>
              </a:rPr>
              <a:t>难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华文琥珀"/>
                <a:ea typeface="华文琥珀"/>
              </a:rPr>
              <a:t>正确理解</a:t>
            </a:r>
            <a:r>
              <a:rPr b="1" i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AB</a:t>
            </a: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=0</a:t>
            </a:r>
            <a:r>
              <a:rPr b="1" lang="zh-CN" sz="3600" spc="-1" strike="noStrike">
                <a:solidFill>
                  <a:srgbClr val="000000"/>
                </a:solidFill>
                <a:latin typeface="바탕"/>
                <a:ea typeface="바탕"/>
              </a:rPr>
              <a:t>〈</a:t>
            </a: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바탕"/>
                <a:ea typeface="바탕"/>
              </a:rPr>
              <a:t>〉</a:t>
            </a:r>
            <a:r>
              <a:rPr b="1" i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=0</a:t>
            </a:r>
            <a:r>
              <a:rPr b="1" lang="zh-CN" sz="3600" spc="-1" strike="noStrike">
                <a:solidFill>
                  <a:srgbClr val="000000"/>
                </a:solidFill>
                <a:latin typeface="바탕"/>
                <a:ea typeface="바탕"/>
              </a:rPr>
              <a:t>或</a:t>
            </a:r>
            <a:r>
              <a:rPr b="1" i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바탕"/>
                <a:ea typeface="바탕"/>
              </a:rPr>
              <a:t>=0</a:t>
            </a:r>
            <a:r>
              <a:rPr b="1" lang="zh-CN" sz="3600" spc="-1" strike="noStrike">
                <a:solidFill>
                  <a:srgbClr val="cc00cc"/>
                </a:solidFill>
                <a:latin typeface="바탕"/>
                <a:ea typeface="바탕"/>
              </a:rPr>
              <a:t>（ </a:t>
            </a:r>
            <a:r>
              <a:rPr b="1" i="1" lang="en-US" sz="3600" spc="-1" strike="noStrike">
                <a:solidFill>
                  <a:srgbClr val="cc00cc"/>
                </a:solidFill>
                <a:latin typeface="바탕"/>
                <a:ea typeface="바탕"/>
              </a:rPr>
              <a:t>A</a:t>
            </a:r>
            <a:r>
              <a:rPr b="1" i="1" lang="zh-CN" sz="3600" spc="-1" strike="noStrike">
                <a:solidFill>
                  <a:srgbClr val="cc00cc"/>
                </a:solidFill>
                <a:latin typeface="바탕"/>
                <a:ea typeface="바탕"/>
              </a:rPr>
              <a:t>、</a:t>
            </a:r>
            <a:r>
              <a:rPr b="1" i="1" lang="en-US" sz="3600" spc="-1" strike="noStrike">
                <a:solidFill>
                  <a:srgbClr val="cc00cc"/>
                </a:solidFill>
                <a:latin typeface="바탕"/>
                <a:ea typeface="바탕"/>
              </a:rPr>
              <a:t>B</a:t>
            </a:r>
            <a:r>
              <a:rPr b="0" lang="zh-CN" sz="3600" spc="-1" strike="noStrike">
                <a:solidFill>
                  <a:srgbClr val="cc00cc"/>
                </a:solidFill>
                <a:latin typeface="华文琥珀"/>
                <a:ea typeface="华文琥珀"/>
              </a:rPr>
              <a:t>表示两个因式</a:t>
            </a:r>
            <a:r>
              <a:rPr b="0" lang="zh-CN" sz="3600" spc="-1" strike="noStrike">
                <a:solidFill>
                  <a:srgbClr val="cc00cc"/>
                </a:solidFill>
                <a:latin typeface="바탕"/>
                <a:ea typeface="바탕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187280" y="1916280"/>
            <a:ext cx="302436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复习引入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11280" y="2708280"/>
            <a:ext cx="81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、已学过的一元二次方程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法有哪些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、请用已学过的方法解方程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       </a:t>
            </a:r>
            <a:r>
              <a:rPr b="1" i="1" lang="en-US" sz="4800" spc="-1" strike="noStrike">
                <a:solidFill>
                  <a:srgbClr val="6600ff"/>
                </a:solidFill>
                <a:latin typeface="Arial"/>
              </a:rPr>
              <a:t>x</a:t>
            </a:r>
            <a:r>
              <a:rPr b="1" lang="en-US" sz="4800" spc="-1" strike="noStrike" baseline="30000">
                <a:solidFill>
                  <a:srgbClr val="6600ff"/>
                </a:solidFill>
                <a:latin typeface="Arial"/>
              </a:rPr>
              <a:t>2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－ 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2484360" y="54936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516400" y="14130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新宋体"/>
              </a:rPr>
              <a:t>解：原方程可变形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529720" y="2205000"/>
            <a:ext cx="454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2)(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)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147760" y="3357720"/>
            <a:ext cx="55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2=0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622600" y="4221000"/>
            <a:ext cx="4225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=-2 ,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971640" y="522936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en-US" sz="40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4= (</a:t>
            </a:r>
            <a:r>
              <a:rPr b="1" i="1" lang="en-US" sz="40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+2)(</a:t>
            </a:r>
            <a:r>
              <a:rPr b="1" i="1" lang="en-US" sz="40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－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11280" y="2997360"/>
            <a:ext cx="43196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B=0</a:t>
            </a:r>
            <a:r>
              <a:rPr b="1" lang="en-US" sz="3200" spc="-1" strike="noStrike">
                <a:solidFill>
                  <a:srgbClr val="ff00ff"/>
                </a:solidFill>
                <a:latin typeface="Wingdings"/>
                <a:ea typeface="Wingdings"/>
              </a:rPr>
              <a:t>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=0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或Ｂ＝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24000" y="76392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解下列方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755640" y="1700280"/>
                <a:ext cx="6877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755640" y="2708280"/>
                <a:ext cx="61200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移项，得</m:t>
                        </m:r>
                      </m:e>
                      <m:e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24000" y="404640"/>
                <a:ext cx="662616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826920" y="1268280"/>
                <a:ext cx="612144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3708360" y="3068640"/>
                <a:ext cx="24354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724360" y="4724280"/>
                <a:ext cx="57492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6948360" y="2276640"/>
                <a:ext cx="9367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1979640" y="3068640"/>
                <a:ext cx="172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6156360" y="3141720"/>
                <a:ext cx="936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14" name=""/>
          <p:cNvSpPr/>
          <p:nvPr/>
        </p:nvSpPr>
        <p:spPr>
          <a:xfrm>
            <a:off x="1979640" y="40446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+2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=0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或</a:t>
            </a:r>
            <a:r>
              <a:rPr b="1" lang="en-US" sz="4800" spc="-1" strike="noStrike">
                <a:solidFill>
                  <a:srgbClr val="703dff"/>
                </a:solidFill>
                <a:latin typeface="Arial"/>
              </a:rPr>
              <a:t>3</a:t>
            </a:r>
            <a:r>
              <a:rPr b="1" i="1" lang="en-US" sz="4800" spc="-1" strike="noStrike">
                <a:solidFill>
                  <a:srgbClr val="703dff"/>
                </a:solidFill>
                <a:latin typeface="Arial"/>
              </a:rPr>
              <a:t>x</a:t>
            </a:r>
            <a:r>
              <a:rPr b="1" lang="zh-CN" sz="4800" spc="-1" strike="noStrike">
                <a:solidFill>
                  <a:srgbClr val="703dff"/>
                </a:solidFill>
                <a:latin typeface="Arial"/>
              </a:rPr>
              <a:t>－</a:t>
            </a:r>
            <a:r>
              <a:rPr b="1" lang="en-US" sz="4800" spc="-1" strike="noStrike">
                <a:solidFill>
                  <a:srgbClr val="703dff"/>
                </a:solidFill>
                <a:latin typeface="Arial"/>
              </a:rPr>
              <a:t>5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=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50560" y="5003640"/>
            <a:ext cx="3566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∴ </a:t>
            </a:r>
            <a:r>
              <a:rPr b="0" i="1" lang="en-US" sz="4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48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=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4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48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268360" y="6093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少儿简体"/>
              </a:rPr>
              <a:t>提公因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efefe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1187280" y="567360"/>
            <a:ext cx="453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3x+1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=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042920" y="1286280"/>
            <a:ext cx="62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：原方程可变形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188360" y="2174400"/>
            <a:ext cx="195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2916360" y="2060640"/>
                <a:ext cx="10792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>
            <a:off x="3846960" y="2203920"/>
            <a:ext cx="224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lang="en-US" sz="4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3</a:t>
            </a:r>
            <a:r>
              <a:rPr b="0" i="1" lang="en-US" sz="4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x</a:t>
            </a:r>
            <a:r>
              <a:rPr b="0" lang="en-US" sz="4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+1</a:t>
            </a:r>
            <a:r>
              <a:rPr b="0" lang="zh-CN" sz="4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5940360" y="2060640"/>
                <a:ext cx="1057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>
            <a:off x="6805800" y="2174400"/>
            <a:ext cx="113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4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=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8360" y="3182400"/>
            <a:ext cx="172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1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2700360" y="3141720"/>
                <a:ext cx="1019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１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3553560" y="3182400"/>
            <a:ext cx="328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=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0" lang="en-US" sz="48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3</a:t>
            </a:r>
            <a:r>
              <a:rPr b="0" i="1" lang="en-US" sz="48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x</a:t>
            </a:r>
            <a:r>
              <a:rPr b="0" lang="en-US" sz="48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+1</a:t>
            </a:r>
            <a:r>
              <a:rPr b="0" lang="zh-CN" sz="4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6516720" y="3213000"/>
                <a:ext cx="934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１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8" name=""/>
          <p:cNvSpPr/>
          <p:nvPr/>
        </p:nvSpPr>
        <p:spPr>
          <a:xfrm>
            <a:off x="7382160" y="3211920"/>
            <a:ext cx="9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=0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027080" y="4586760"/>
            <a:ext cx="15951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  <a:ea typeface="Times New Roman"/>
              </a:rPr>
              <a:t>∴ 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  <a:ea typeface="Times New Roman"/>
              </a:rPr>
              <a:t>x</a:t>
            </a:r>
            <a:r>
              <a:rPr b="0" lang="en-US" sz="4800" spc="-1" strike="noStrike" baseline="-30000">
                <a:solidFill>
                  <a:srgbClr val="ff00ff"/>
                </a:solidFill>
                <a:latin typeface="Arial"/>
                <a:ea typeface="Times New Roman"/>
              </a:rPr>
              <a:t>1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2700360" y="4149720"/>
                <a:ext cx="2017800" cy="17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1" name=""/>
          <p:cNvSpPr/>
          <p:nvPr/>
        </p:nvSpPr>
        <p:spPr>
          <a:xfrm>
            <a:off x="4444560" y="4658040"/>
            <a:ext cx="1672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  <a:ea typeface="Times New Roman"/>
              </a:rPr>
              <a:t>, x</a:t>
            </a:r>
            <a:r>
              <a:rPr b="0" lang="en-US" sz="4800" spc="-1" strike="noStrike" baseline="-30000">
                <a:solidFill>
                  <a:srgbClr val="ff00ff"/>
                </a:solidFill>
                <a:latin typeface="Arial"/>
                <a:ea typeface="Times New Roman"/>
              </a:rPr>
              <a:t>2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  <a:ea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5867280" y="4076640"/>
                <a:ext cx="201780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3" name=""/>
          <p:cNvSpPr/>
          <p:nvPr/>
        </p:nvSpPr>
        <p:spPr>
          <a:xfrm>
            <a:off x="2268360" y="6021360"/>
            <a:ext cx="33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少儿简体"/>
              </a:rPr>
              <a:t>公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457200" y="533520"/>
            <a:ext cx="749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快速回答：下列各方程的根分别是多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304920" y="2057400"/>
                <a:ext cx="358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04920" y="2971800"/>
                <a:ext cx="46479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181480" y="1981080"/>
                <a:ext cx="312444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219640" y="2924280"/>
                <a:ext cx="34290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50920" y="4005360"/>
                <a:ext cx="50292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257800" y="3672000"/>
                <a:ext cx="356220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方程</m:t>
                        </m:r>
                        <m:m>
                          <m:mr>
                            <m:e/>
                            <m:e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解：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原方程化为</m:t>
                              </m:r>
                            </m:e>
                            <m:e/>
                            <m:e/>
                          </m:mr>
                        </m:m>
                      </m:e>
                      <m:e>
                        <m:m>
                          <m:mr>
                            <m:e/>
                            <m:e/>
                            <m:e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  <m:r>
                          <m:t xml:space="preserve">×</m:t>
                        </m:r>
                        <m:r>
                          <m:t xml:space="preserve">6</m:t>
                        </m:r>
                      </m:e>
                      <m:e>
                        <m:m>
                          <m:mr>
                            <m:e/>
                            <m:e>
                              <m:eqArr>
                                <m:e>
                                  <m:r>
                                    <m:t xml:space="preserve">由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5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，得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;</m:t>
                                  </m:r>
                                </m:e>
                                <m:e>
                                  <m:r>
                                    <m:t xml:space="preserve">由x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6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，得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t xml:space="preserve">∴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原方程的解为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8</m:t>
                                  </m:r>
                                  <m:sSub>
                                    <m:e>
                                      <m:r>
                                        <m:t xml:space="preserve">或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50920" y="4869000"/>
                <a:ext cx="25146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5364000" y="5084640"/>
            <a:ext cx="2756160" cy="757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395280" y="260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下面的解法正确吗？如果不正确，错误在哪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684360" y="1773360"/>
                <a:ext cx="7238880" cy="46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45" name=""/>
          <p:cNvGrpSpPr/>
          <p:nvPr/>
        </p:nvGrpSpPr>
        <p:grpSpPr>
          <a:xfrm>
            <a:off x="6804000" y="3284640"/>
            <a:ext cx="2057400" cy="914400"/>
            <a:chOff x="6804000" y="3284640"/>
            <a:chExt cx="2057400" cy="914400"/>
          </a:xfrm>
        </p:grpSpPr>
        <p:sp>
          <p:nvSpPr>
            <p:cNvPr id="746" name=""/>
            <p:cNvSpPr/>
            <p:nvPr/>
          </p:nvSpPr>
          <p:spPr>
            <a:xfrm>
              <a:off x="6804000" y="3284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(     )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7032600" y="3284640"/>
                  <a:ext cx="8222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f>
                        <m:num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700360" y="333360"/>
            <a:ext cx="338436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解题框架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26920" y="1197000"/>
            <a:ext cx="74901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：原方程可变形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    )(                 )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或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∴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        , x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748160" y="3357000"/>
            <a:ext cx="11422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次因式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116000" y="4365000"/>
            <a:ext cx="234936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次因式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04120" y="3331440"/>
            <a:ext cx="114228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次因式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424840" y="4296600"/>
            <a:ext cx="1142280" cy="64260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次因式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96000" y="5237640"/>
            <a:ext cx="1008000" cy="916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059280" y="5028840"/>
            <a:ext cx="1008000" cy="119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692360" y="2347200"/>
            <a:ext cx="403200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02:54:09Z</dcterms:created>
  <dc:creator/>
  <dc:description/>
  <dc:language>en-US</dc:language>
  <cp:lastModifiedBy>User</cp:lastModifiedBy>
  <dcterms:modified xsi:type="dcterms:W3CDTF">2014-04-01T23:54:28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