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944-83F3-47F8-A994-083A11250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122-686B-4F76-9914-20132A33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7711-7F84-43C7-A451-49FF2BE8D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F12-1DB4-4922-8B25-5C95C431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BA5-F290-4C79-80EA-497A0038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C78-52B2-4F0E-9CFD-E701CBD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9951E-265A-4D7B-92C0-6463987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7FEB2-49EC-44C5-BDDE-23662B87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42161-695C-4D68-9760-63F7D9B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16E2F-D6E8-427F-901D-6116BAEF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BFB1A-F805-4C2D-8157-34CE33C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0C4B5-57D5-4856-88E6-923C20C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E2FAC-E25F-44A6-96A1-9442A7F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C6DAF-A3E6-48E6-A8B6-81BF316F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24DC9-92A7-465B-A301-92B9AFEF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C2F1F-FF86-4E25-9CC4-B6D0DA7D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613-732E-4F94-9DFC-4C07C11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71973-9389-4AFC-A56A-06B4D6A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17309-4421-4C94-BEEC-6CF67638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F25F9-0864-43F2-9C0E-EF51AD8A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DFF79-D8AA-4C13-9976-DC62E499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EFD7A-EC7C-4CA4-BA3C-82C3D91D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37EF-C4E6-4936-B5E5-9A881A3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44BBA-0CCF-4375-AB1F-75EC38A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EB87F-F2EC-4CE4-A572-4046F94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047B9-7D80-472B-983B-81FC21B1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9328B-0C2E-41C1-A733-C667091C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B68-4189-4EBD-8A37-9F6F0B7B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AD631-D5DD-4376-9C13-A9B1AAE3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158B-3A35-4015-99C9-0528D284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F71D-52E3-419D-B84E-E1EFD19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7B25-2AB4-42D7-97DE-4004297C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1AF35-B5CD-4C29-87F8-DF9DC89A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94B9B-97F4-46AA-A667-F713645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FB29-5155-4602-9FA6-CCD64378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C25FB-3FC6-4E5B-8558-7733B3A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AEC6A-1465-434D-AAF3-C2F51B3E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57796-F8A9-4D7D-9814-0CE10DB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B6BD-C042-4FBD-B515-BFE62A03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279E3-748D-4CE8-BB1A-51D46871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64971-5637-4B5D-8429-DC6EF087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592F0-B23D-42C8-8DDE-ABC0E54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C52AC-427B-4CDD-BC1C-3886E19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A4942-155E-4953-9898-54CE8710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AF8CA-4518-4718-931C-8477645D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AE007-DAA3-43D0-B3FE-4B592DBE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9376A-44F9-4D6B-8021-876FB699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D42E4-C68B-4663-81B0-10C18024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522EC-841B-42FD-B855-1E7CACD7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9DD4-4847-44A1-890C-5967DE09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859FB-47D6-4263-8486-7809522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D72B2-1C9D-4228-9600-CF6ADD1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33544-ACFE-467D-A049-CF8294FC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DED9C-78EB-4B6E-854C-73758C85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AEC8F-C9BD-422C-B39D-F8EA6197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B661F-E4DD-4677-A4BA-D4D02099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B9F54-55F9-4EE6-88C3-9D96D852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F9626-F128-4EFB-ACD6-B4D5D427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6796F-C9A9-47A4-9D8D-5B3B433D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208CF-C64D-4641-9B30-344B24DF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768-A3C5-4FE3-B9F8-DDBC92C0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13380-69BF-40D3-9812-C1E6AB18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5FBCB-43DB-4F2C-9DEC-997FBC0A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5F1FD-8DE9-4DDC-80E9-08A3D23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DC9B3-33E1-4B74-955B-3CFD3FAB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73ACB-CA54-419C-84D8-5758A32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BA14B-2C48-4CC8-88D4-E4983D08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C6145-9703-4B36-808A-0DC6CC8F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BE5-C4BF-4FEB-ABAB-C9DF126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8FC4-D1CC-4343-820B-CAA5CED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E825-994E-4C3D-83F6-D9D3E868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5491-D4DA-48AB-9E60-2ADF0EA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524-5728-4A00-A3C3-2D63BA16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1493-F838-4B1A-980A-E31F526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CC2C-CCA7-4924-A5B7-FE6D256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409D-9719-4778-8462-BBA75E1A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72A-F41E-49E9-B0B7-13426555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FD58-9138-4AC9-AF9D-2B7C9682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DEB4-FB64-4889-92D6-88F3126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B47A-272C-4C49-82DD-9094CCB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BED6-D095-4B32-93AB-F5B207B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FB6C6-D6EB-4708-8B56-33E55DB5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44C9-AD14-4BDD-9F53-FC103632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408-D8CE-4C53-B889-37C4D274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8BC7-92D0-4163-AC9D-44CF5736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72057-6025-4EEB-BD96-98F426A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209D3-28D4-409C-BBE5-493A1CA4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C88C-72A3-4903-9071-61B90DE5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90C3-F0B7-4528-BAE6-FBE3894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D227-5A31-4503-929D-D91867DE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C059-0ED3-4C74-AF9A-68216213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8CFB-C912-4A12-A8E7-91C8C33A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27B7-7632-49D7-9F51-BBEEF4E1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B5274-2317-44A8-A2D1-28716974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977-4F5E-4448-955D-0A98D094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F5561-44F3-45E0-A368-B18F617C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0E6C0-AE50-4B22-9490-8A47EEE4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5B21-86BC-4980-8B62-8C14E12A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374C-E200-4E9F-9361-19DBE94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1796-2A47-445C-BFDB-8737FB0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782E-03BE-422A-A797-8E367C0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8ACD-65F6-466F-80E7-9A7932AE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ADC7-006E-4049-A780-8F6E16B6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77A62-7E53-42E1-9139-3836E798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E9C0-EF28-4AFD-B071-3C43567E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4CF-A62C-48FF-9B9E-FB1B1D2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5C495-B3D6-47BE-8E70-C2B2EFBD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BD6E-8AF6-4DE0-85ED-424DB14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9450-7580-4450-90FC-8EFD1C9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14F5C-5810-4291-8623-347407D4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13BAA-0101-49A4-8639-18191B54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CC55-9D47-4DAC-A532-6EE0089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325E3-2BBF-4E24-AA09-87BE90E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8DFAF-4353-48B9-A77D-CCA956D8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8647-D917-4146-BD6B-B716BC1C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AD01-3179-42BA-A99B-AA52B54C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6CE-3A0C-465D-84BE-CA2C96D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CDA5-C347-44C6-B105-2036F5A2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A0BCD-5BEA-4830-983D-6331CDEA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A5D50-70FD-45BE-B171-90AEC1C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BFA33-EF66-474E-A981-9EFEB89A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BC14-AD58-4D39-B4A6-1D4F98B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C7051-2282-43B2-A475-CE7BD6E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63C3-50E1-4FDB-8F29-B5161035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11350-8D70-4517-9D61-622799F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51B7-EE74-4044-94EC-9E239EC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AA41-75B3-432A-BC82-37A8342D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EAA-3AC4-4250-9D15-B95907B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F0B5D-BB1C-4DBA-95FB-18A45B4A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88D1-0FEB-4B65-BF63-E6484CA1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C1C6-DD79-457B-A68C-1246FA2B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CC0E-8EFA-4934-8236-712C6472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03A9-8F3D-44BD-83EB-4538A75F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501B-A57C-412B-BB1A-A611D193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F8B10-6831-40FC-83E3-B5529E3F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1CF97-C3B2-4765-814D-E4724E5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6A94-88CF-46F3-988B-DEC88A93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A009E-3666-4327-830B-DD80B1F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40C-62A3-43BC-9AC8-F558D351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5FD72-A60A-41E5-B11E-6ED4284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6DA5F-511C-4865-B331-272B3A18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8384-D807-436A-94C6-1AD1730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29D8-37D9-41FF-8BAA-A69D949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FB1F8-C0AB-4C0A-8D48-B7C8D89D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995EA-EC60-498E-8B4A-0541048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EA01-1346-4020-BC87-E0D6D719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2CE76-DE43-4F13-AEAE-825ECDE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F98FE-CD8C-40CF-8563-B4DED90E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130A-11CB-4D88-B90A-D93DCCE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CA5-AB9C-48BF-BEBE-4C589D57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012E0-A394-4E19-9B43-AEB8093B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2296-60B0-4AE6-B481-E0D997C0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6EC83-C81D-4BDB-B684-F634C980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D44B-3402-425E-88E3-71D468A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C4D2B-273D-4B70-8379-485702F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B338-285A-418B-9967-E2814CAC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80843-9296-4450-BF21-98987178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1F42C-DC7A-4B9C-8865-FBF029CE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73CF5-0BF5-416E-AFD9-B687173D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AFDA3-27BC-4191-ADB1-F9011D2C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>
                <a:gd name="textAreaLeft" fmla="*/ 0 w 2101320"/>
                <a:gd name="textAreaRight" fmla="*/ 2101680 w 2101320"/>
                <a:gd name="textAreaTop" fmla="*/ 0 h 1914120"/>
                <a:gd name="textAreaBottom" fmla="*/ 1914480 h 191412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57040"/>
                  <a:gd name="textAreaBottom" fmla="*/ 2057400 h 205704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>
                  <a:gd name="textAreaLeft" fmla="*/ 0 w 163800"/>
                  <a:gd name="textAreaRight" fmla="*/ 163800 w 16380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>
                  <a:gd name="textAreaLeft" fmla="*/ 0 w 391680"/>
                  <a:gd name="textAreaRight" fmla="*/ 392040 w 3916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80360"/>
                  <a:gd name="textAreaBottom" fmla="*/ 180360 h 1803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>
                  <a:gd name="textAreaLeft" fmla="*/ 0 w 547560"/>
                  <a:gd name="textAreaRight" fmla="*/ 547920 w 5475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5040"/>
                  <a:gd name="textAreaBottom" fmla="*/ 365400 h 36504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2907-2661-4447-AD6E-B6C58FD7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9434-CAA2-44CF-987C-19F9CDB5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EE11-4199-440F-97BA-286C795B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D96D-BA3A-4BBD-A0BB-9331BF31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248-7678-4ECB-8B77-6CCBDA8DF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6200" cy="511200"/>
            </a:xfrm>
            <a:custGeom>
              <a:avLst/>
              <a:gdLst>
                <a:gd name="textAreaLeft" fmla="*/ 0 w 1096200"/>
                <a:gd name="textAreaRight" fmla="*/ 1096560 w 109620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9120" cy="8290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>
                <a:gd name="textAreaLeft" fmla="*/ 0 w 805680"/>
                <a:gd name="textAreaRight" fmla="*/ 806040 w 805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5640" cy="771120"/>
            </a:xfrm>
            <a:custGeom>
              <a:avLst/>
              <a:gdLst>
                <a:gd name="textAreaLeft" fmla="*/ 0 w 935640"/>
                <a:gd name="textAreaRight" fmla="*/ 936000 w 93564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8683-64A4-4800-BD69-B61D553A7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235B-B1F9-44CE-AA5B-4EE9FAA7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D24D-72D6-415A-B1CE-80A86EAE8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6B8-EBBB-4526-9D72-CD832B14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1D6-E6FD-43CB-B9E9-D7F9F3B83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230-A0AC-4718-B208-3C8F4F51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9A3-47A2-4A6C-8C43-684F39423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A22A-191F-466A-BADB-C83200165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WordArt 2"/>
          <p:cNvGrpSpPr/>
          <p:nvPr/>
        </p:nvGrpSpPr>
        <p:grpSpPr>
          <a:xfrm>
            <a:off x="822240" y="2200320"/>
            <a:ext cx="7712280" cy="2243160"/>
            <a:chOff x="822240" y="2200320"/>
            <a:chExt cx="7712280" cy="2243160"/>
          </a:xfrm>
        </p:grpSpPr>
        <p:pic>
          <p:nvPicPr>
            <p:cNvPr id="962" name="WordArt 2" descr=""/>
            <p:cNvPicPr/>
            <p:nvPr/>
          </p:nvPicPr>
          <p:blipFill>
            <a:blip r:embed="rId1"/>
            <a:stretch/>
          </p:blipFill>
          <p:spPr>
            <a:xfrm>
              <a:off x="822240" y="2200320"/>
              <a:ext cx="7712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826920" y="2205000"/>
              <a:ext cx="77043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000000"/>
                  </a:solidFill>
                  <a:latin typeface="宋体"/>
                </a:rPr>
                <a:t>实际问题与二次函数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WordArt 2"/>
          <p:cNvSpPr txBox="1"/>
          <p:nvPr/>
        </p:nvSpPr>
        <p:spPr>
          <a:xfrm rot="5400000">
            <a:off x="2482200" y="299736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精彩的投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9" name="Picture 3" descr="20060819152942524617"/>
          <p:cNvPicPr/>
          <p:nvPr/>
        </p:nvPicPr>
        <p:blipFill>
          <a:blip r:embed="rId1"/>
          <a:stretch/>
        </p:blipFill>
        <p:spPr>
          <a:xfrm>
            <a:off x="5435640" y="1197000"/>
            <a:ext cx="310176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90" name="Picture 4" descr="1_6-12-44-312_20030413105859"/>
          <p:cNvPicPr/>
          <p:nvPr/>
        </p:nvPicPr>
        <p:blipFill>
          <a:blip r:embed="rId2"/>
          <a:stretch/>
        </p:blipFill>
        <p:spPr>
          <a:xfrm>
            <a:off x="826920" y="1197000"/>
            <a:ext cx="276732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2"/>
          <p:cNvSpPr/>
          <p:nvPr/>
        </p:nvSpPr>
        <p:spPr>
          <a:xfrm>
            <a:off x="324000" y="692280"/>
            <a:ext cx="85690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图，一位运动员在距篮下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处起跳投篮，球运行的路线是抛物线，当球运行的水平距离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.5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时，球达到最大高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.5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已知篮筐中心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到地面的距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3.05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                                         问：球出手时离地面                                            多高时才能投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3"/>
          <p:cNvGrpSpPr/>
          <p:nvPr/>
        </p:nvGrpSpPr>
        <p:grpSpPr>
          <a:xfrm>
            <a:off x="4716360" y="2852640"/>
            <a:ext cx="3962520" cy="3050640"/>
            <a:chOff x="4716360" y="2852640"/>
            <a:chExt cx="3962520" cy="3050640"/>
          </a:xfrm>
        </p:grpSpPr>
        <p:sp>
          <p:nvSpPr>
            <p:cNvPr id="1093" name="Line 4"/>
            <p:cNvSpPr/>
            <p:nvPr/>
          </p:nvSpPr>
          <p:spPr>
            <a:xfrm>
              <a:off x="4716360" y="530064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5"/>
            <p:cNvSpPr/>
            <p:nvPr/>
          </p:nvSpPr>
          <p:spPr>
            <a:xfrm flipH="1">
              <a:off x="5639760" y="5672160"/>
              <a:ext cx="6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6"/>
            <p:cNvSpPr/>
            <p:nvPr/>
          </p:nvSpPr>
          <p:spPr>
            <a:xfrm rot="5400000">
              <a:off x="7802280" y="3043080"/>
              <a:ext cx="609480" cy="685800"/>
            </a:xfrm>
            <a:prstGeom prst="parallelogram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7"/>
            <p:cNvSpPr/>
            <p:nvPr/>
          </p:nvSpPr>
          <p:spPr>
            <a:xfrm>
              <a:off x="7916760" y="3462120"/>
              <a:ext cx="22860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Group 8"/>
            <p:cNvGrpSpPr/>
            <p:nvPr/>
          </p:nvGrpSpPr>
          <p:grpSpPr>
            <a:xfrm>
              <a:off x="5173200" y="4452840"/>
              <a:ext cx="381240" cy="838080"/>
              <a:chOff x="5173200" y="4452840"/>
              <a:chExt cx="381240" cy="838080"/>
            </a:xfrm>
          </p:grpSpPr>
          <p:sp>
            <p:nvSpPr>
              <p:cNvPr id="1098" name="Line 9"/>
              <p:cNvSpPr/>
              <p:nvPr/>
            </p:nvSpPr>
            <p:spPr>
              <a:xfrm>
                <a:off x="5325840" y="46814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10"/>
              <p:cNvSpPr/>
              <p:nvPr/>
            </p:nvSpPr>
            <p:spPr>
              <a:xfrm>
                <a:off x="5325840" y="483372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0" name="Group 11"/>
              <p:cNvGrpSpPr/>
              <p:nvPr/>
            </p:nvGrpSpPr>
            <p:grpSpPr>
              <a:xfrm>
                <a:off x="5173200" y="4452840"/>
                <a:ext cx="381240" cy="838080"/>
                <a:chOff x="5173200" y="4452840"/>
                <a:chExt cx="381240" cy="838080"/>
              </a:xfrm>
            </p:grpSpPr>
            <p:sp>
              <p:nvSpPr>
                <p:cNvPr id="1101" name="Line 12"/>
                <p:cNvSpPr/>
                <p:nvPr/>
              </p:nvSpPr>
              <p:spPr>
                <a:xfrm flipV="1">
                  <a:off x="5402160" y="4529160"/>
                  <a:ext cx="1522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2" name="Group 13"/>
                <p:cNvGrpSpPr/>
                <p:nvPr/>
              </p:nvGrpSpPr>
              <p:grpSpPr>
                <a:xfrm>
                  <a:off x="5173200" y="4452840"/>
                  <a:ext cx="305280" cy="838080"/>
                  <a:chOff x="5173200" y="4452840"/>
                  <a:chExt cx="305280" cy="838080"/>
                </a:xfrm>
              </p:grpSpPr>
              <p:sp>
                <p:nvSpPr>
                  <p:cNvPr id="1103" name="AutoShape 14"/>
                  <p:cNvSpPr/>
                  <p:nvPr/>
                </p:nvSpPr>
                <p:spPr>
                  <a:xfrm>
                    <a:off x="5249880" y="4452840"/>
                    <a:ext cx="152280" cy="22860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15"/>
                  <p:cNvSpPr/>
                  <p:nvPr/>
                </p:nvSpPr>
                <p:spPr>
                  <a:xfrm flipH="1">
                    <a:off x="5173200" y="4986360"/>
                    <a:ext cx="15228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16"/>
                  <p:cNvSpPr/>
                  <p:nvPr/>
                </p:nvSpPr>
                <p:spPr>
                  <a:xfrm>
                    <a:off x="5325840" y="4986360"/>
                    <a:ext cx="15264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17"/>
                  <p:cNvSpPr/>
                  <p:nvPr/>
                </p:nvSpPr>
                <p:spPr>
                  <a:xfrm flipV="1">
                    <a:off x="5325840" y="4605120"/>
                    <a:ext cx="1526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07" name="Arc 18"/>
            <p:cNvSpPr/>
            <p:nvPr/>
          </p:nvSpPr>
          <p:spPr>
            <a:xfrm flipV="1" rot="16200000">
              <a:off x="6030720" y="2647800"/>
              <a:ext cx="1524240" cy="24004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400480"/>
                <a:gd name="textAreaBottom" fmla="*/ 2400480 h 2400480"/>
              </a:gdLst>
              <a:ahLst/>
              <a:rect l="textAreaLeft" t="textAreaTop" r="textAreaRight" b="textAreaBottom"/>
              <a:pathLst>
                <a:path fill="none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</a:path>
                <a:path stroke="0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  <a:lnTo>
                    <a:pt x="0" y="1425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19"/>
            <p:cNvSpPr/>
            <p:nvPr/>
          </p:nvSpPr>
          <p:spPr>
            <a:xfrm>
              <a:off x="8069040" y="35384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20"/>
            <p:cNvSpPr/>
            <p:nvPr/>
          </p:nvSpPr>
          <p:spPr>
            <a:xfrm>
              <a:off x="5554440" y="4224240"/>
              <a:ext cx="162000" cy="162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21"/>
            <p:cNvSpPr/>
            <p:nvPr/>
          </p:nvSpPr>
          <p:spPr>
            <a:xfrm>
              <a:off x="5640120" y="529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22"/>
            <p:cNvSpPr/>
            <p:nvPr/>
          </p:nvSpPr>
          <p:spPr>
            <a:xfrm>
              <a:off x="8069040" y="52909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23"/>
            <p:cNvSpPr/>
            <p:nvPr/>
          </p:nvSpPr>
          <p:spPr>
            <a:xfrm flipH="1">
              <a:off x="5682960" y="544356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Text Box 24"/>
            <p:cNvSpPr/>
            <p:nvPr/>
          </p:nvSpPr>
          <p:spPr>
            <a:xfrm>
              <a:off x="5881680" y="5186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25"/>
            <p:cNvSpPr/>
            <p:nvPr/>
          </p:nvSpPr>
          <p:spPr>
            <a:xfrm>
              <a:off x="6316560" y="5443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26"/>
            <p:cNvSpPr/>
            <p:nvPr/>
          </p:nvSpPr>
          <p:spPr>
            <a:xfrm>
              <a:off x="6926040" y="5672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27"/>
            <p:cNvSpPr/>
            <p:nvPr/>
          </p:nvSpPr>
          <p:spPr>
            <a:xfrm>
              <a:off x="7764480" y="43765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28"/>
            <p:cNvSpPr/>
            <p:nvPr/>
          </p:nvSpPr>
          <p:spPr>
            <a:xfrm>
              <a:off x="5630760" y="4071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29"/>
            <p:cNvSpPr/>
            <p:nvPr/>
          </p:nvSpPr>
          <p:spPr>
            <a:xfrm>
              <a:off x="6850080" y="2928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30"/>
            <p:cNvSpPr/>
            <p:nvPr/>
          </p:nvSpPr>
          <p:spPr>
            <a:xfrm>
              <a:off x="7764480" y="2852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31"/>
            <p:cNvSpPr/>
            <p:nvPr/>
          </p:nvSpPr>
          <p:spPr>
            <a:xfrm>
              <a:off x="6926040" y="4910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2"/>
            <p:cNvSpPr/>
            <p:nvPr/>
          </p:nvSpPr>
          <p:spPr>
            <a:xfrm>
              <a:off x="6575400" y="5443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33"/>
            <p:cNvSpPr/>
            <p:nvPr/>
          </p:nvSpPr>
          <p:spPr>
            <a:xfrm>
              <a:off x="6697440" y="4071960"/>
              <a:ext cx="609840" cy="459720"/>
            </a:xfrm>
            <a:prstGeom prst="rect">
              <a:avLst/>
            </a:prstGeom>
            <a:solidFill>
              <a:srgbClr val="8d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Group 2"/>
          <p:cNvGrpSpPr/>
          <p:nvPr/>
        </p:nvGrpSpPr>
        <p:grpSpPr>
          <a:xfrm>
            <a:off x="5159520" y="547560"/>
            <a:ext cx="3733200" cy="3733560"/>
            <a:chOff x="5159520" y="547560"/>
            <a:chExt cx="3733200" cy="3733560"/>
          </a:xfrm>
        </p:grpSpPr>
        <p:sp>
          <p:nvSpPr>
            <p:cNvPr id="1124" name="Line 3"/>
            <p:cNvSpPr/>
            <p:nvPr/>
          </p:nvSpPr>
          <p:spPr>
            <a:xfrm>
              <a:off x="5159520" y="3747960"/>
              <a:ext cx="35809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4"/>
            <p:cNvSpPr/>
            <p:nvPr/>
          </p:nvSpPr>
          <p:spPr>
            <a:xfrm flipV="1">
              <a:off x="6911640" y="775800"/>
              <a:ext cx="0" cy="35053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Text Box 5"/>
            <p:cNvSpPr/>
            <p:nvPr/>
          </p:nvSpPr>
          <p:spPr>
            <a:xfrm>
              <a:off x="8664480" y="336708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6"/>
            <p:cNvSpPr/>
            <p:nvPr/>
          </p:nvSpPr>
          <p:spPr>
            <a:xfrm>
              <a:off x="6835680" y="547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7"/>
          <p:cNvGrpSpPr/>
          <p:nvPr/>
        </p:nvGrpSpPr>
        <p:grpSpPr>
          <a:xfrm>
            <a:off x="4653000" y="1268280"/>
            <a:ext cx="3962520" cy="3050640"/>
            <a:chOff x="4653000" y="1268280"/>
            <a:chExt cx="3962520" cy="3050640"/>
          </a:xfrm>
        </p:grpSpPr>
        <p:sp>
          <p:nvSpPr>
            <p:cNvPr id="1129" name="Line 8"/>
            <p:cNvSpPr/>
            <p:nvPr/>
          </p:nvSpPr>
          <p:spPr>
            <a:xfrm>
              <a:off x="4653000" y="371628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9"/>
            <p:cNvSpPr/>
            <p:nvPr/>
          </p:nvSpPr>
          <p:spPr>
            <a:xfrm flipH="1">
              <a:off x="5576400" y="4087800"/>
              <a:ext cx="6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AutoShape 10"/>
            <p:cNvSpPr/>
            <p:nvPr/>
          </p:nvSpPr>
          <p:spPr>
            <a:xfrm rot="5400000">
              <a:off x="7738920" y="1458720"/>
              <a:ext cx="609480" cy="685800"/>
            </a:xfrm>
            <a:prstGeom prst="parallelogram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11"/>
            <p:cNvSpPr/>
            <p:nvPr/>
          </p:nvSpPr>
          <p:spPr>
            <a:xfrm>
              <a:off x="7853400" y="1877760"/>
              <a:ext cx="22860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3" name="Group 12"/>
            <p:cNvGrpSpPr/>
            <p:nvPr/>
          </p:nvGrpSpPr>
          <p:grpSpPr>
            <a:xfrm>
              <a:off x="5109840" y="2868480"/>
              <a:ext cx="381240" cy="838080"/>
              <a:chOff x="5109840" y="2868480"/>
              <a:chExt cx="381240" cy="838080"/>
            </a:xfrm>
          </p:grpSpPr>
          <p:sp>
            <p:nvSpPr>
              <p:cNvPr id="1134" name="Line 13"/>
              <p:cNvSpPr/>
              <p:nvPr/>
            </p:nvSpPr>
            <p:spPr>
              <a:xfrm>
                <a:off x="5262480" y="30970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Line 14"/>
              <p:cNvSpPr/>
              <p:nvPr/>
            </p:nvSpPr>
            <p:spPr>
              <a:xfrm>
                <a:off x="5262480" y="324936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6" name="Group 15"/>
              <p:cNvGrpSpPr/>
              <p:nvPr/>
            </p:nvGrpSpPr>
            <p:grpSpPr>
              <a:xfrm>
                <a:off x="5109840" y="2868480"/>
                <a:ext cx="381240" cy="838080"/>
                <a:chOff x="5109840" y="2868480"/>
                <a:chExt cx="381240" cy="838080"/>
              </a:xfrm>
            </p:grpSpPr>
            <p:sp>
              <p:nvSpPr>
                <p:cNvPr id="1137" name="Line 16"/>
                <p:cNvSpPr/>
                <p:nvPr/>
              </p:nvSpPr>
              <p:spPr>
                <a:xfrm flipV="1">
                  <a:off x="5338800" y="2944800"/>
                  <a:ext cx="1522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8" name="Group 17"/>
                <p:cNvGrpSpPr/>
                <p:nvPr/>
              </p:nvGrpSpPr>
              <p:grpSpPr>
                <a:xfrm>
                  <a:off x="5109840" y="2868480"/>
                  <a:ext cx="305280" cy="838080"/>
                  <a:chOff x="5109840" y="2868480"/>
                  <a:chExt cx="305280" cy="838080"/>
                </a:xfrm>
              </p:grpSpPr>
              <p:sp>
                <p:nvSpPr>
                  <p:cNvPr id="1139" name="AutoShape 18"/>
                  <p:cNvSpPr/>
                  <p:nvPr/>
                </p:nvSpPr>
                <p:spPr>
                  <a:xfrm>
                    <a:off x="5186520" y="2868480"/>
                    <a:ext cx="152280" cy="22860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19"/>
                  <p:cNvSpPr/>
                  <p:nvPr/>
                </p:nvSpPr>
                <p:spPr>
                  <a:xfrm flipH="1">
                    <a:off x="5109840" y="3402000"/>
                    <a:ext cx="15228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20"/>
                  <p:cNvSpPr/>
                  <p:nvPr/>
                </p:nvSpPr>
                <p:spPr>
                  <a:xfrm>
                    <a:off x="5262480" y="3402000"/>
                    <a:ext cx="15264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21"/>
                  <p:cNvSpPr/>
                  <p:nvPr/>
                </p:nvSpPr>
                <p:spPr>
                  <a:xfrm flipV="1">
                    <a:off x="5262480" y="3020760"/>
                    <a:ext cx="1526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43" name="Arc 22"/>
            <p:cNvSpPr/>
            <p:nvPr/>
          </p:nvSpPr>
          <p:spPr>
            <a:xfrm flipV="1" rot="16200000">
              <a:off x="5967360" y="1063440"/>
              <a:ext cx="1524240" cy="24004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400480"/>
                <a:gd name="textAreaBottom" fmla="*/ 2400480 h 2400480"/>
              </a:gdLst>
              <a:ahLst/>
              <a:rect l="textAreaLeft" t="textAreaTop" r="textAreaRight" b="textAreaBottom"/>
              <a:pathLst>
                <a:path fill="none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</a:path>
                <a:path stroke="0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  <a:lnTo>
                    <a:pt x="0" y="1425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>
              <a:off x="8005680" y="19540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24"/>
            <p:cNvSpPr/>
            <p:nvPr/>
          </p:nvSpPr>
          <p:spPr>
            <a:xfrm>
              <a:off x="5491080" y="2639880"/>
              <a:ext cx="162000" cy="162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25"/>
            <p:cNvSpPr/>
            <p:nvPr/>
          </p:nvSpPr>
          <p:spPr>
            <a:xfrm>
              <a:off x="5576760" y="3706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26"/>
            <p:cNvSpPr/>
            <p:nvPr/>
          </p:nvSpPr>
          <p:spPr>
            <a:xfrm>
              <a:off x="8005680" y="3706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 flipH="1">
              <a:off x="5619600" y="38592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8"/>
            <p:cNvSpPr/>
            <p:nvPr/>
          </p:nvSpPr>
          <p:spPr>
            <a:xfrm>
              <a:off x="5818320" y="360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9"/>
            <p:cNvSpPr/>
            <p:nvPr/>
          </p:nvSpPr>
          <p:spPr>
            <a:xfrm>
              <a:off x="6253200" y="385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30"/>
            <p:cNvSpPr/>
            <p:nvPr/>
          </p:nvSpPr>
          <p:spPr>
            <a:xfrm>
              <a:off x="6862680" y="408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1"/>
            <p:cNvSpPr/>
            <p:nvPr/>
          </p:nvSpPr>
          <p:spPr>
            <a:xfrm>
              <a:off x="7701120" y="2792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2"/>
            <p:cNvSpPr/>
            <p:nvPr/>
          </p:nvSpPr>
          <p:spPr>
            <a:xfrm>
              <a:off x="5567400" y="248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3"/>
            <p:cNvSpPr/>
            <p:nvPr/>
          </p:nvSpPr>
          <p:spPr>
            <a:xfrm>
              <a:off x="6786720" y="134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4"/>
            <p:cNvSpPr/>
            <p:nvPr/>
          </p:nvSpPr>
          <p:spPr>
            <a:xfrm>
              <a:off x="7701120" y="126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5"/>
            <p:cNvSpPr/>
            <p:nvPr/>
          </p:nvSpPr>
          <p:spPr>
            <a:xfrm>
              <a:off x="6862680" y="332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36"/>
            <p:cNvSpPr/>
            <p:nvPr/>
          </p:nvSpPr>
          <p:spPr>
            <a:xfrm>
              <a:off x="6512040" y="3859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7"/>
            <p:cNvSpPr/>
            <p:nvPr/>
          </p:nvSpPr>
          <p:spPr>
            <a:xfrm>
              <a:off x="6634080" y="2487600"/>
              <a:ext cx="609840" cy="459720"/>
            </a:xfrm>
            <a:prstGeom prst="rect">
              <a:avLst/>
            </a:prstGeom>
            <a:solidFill>
              <a:srgbClr val="8d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Rectangle 38"/>
          <p:cNvSpPr/>
          <p:nvPr/>
        </p:nvSpPr>
        <p:spPr>
          <a:xfrm>
            <a:off x="250920" y="765000"/>
            <a:ext cx="5329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解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建立如图所示的直角坐标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则球的最高点和球篮的坐标分别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(0,3.5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(1.5,3.0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39"/>
          <p:cNvSpPr/>
          <p:nvPr/>
        </p:nvSpPr>
        <p:spPr>
          <a:xfrm>
            <a:off x="867600" y="3795840"/>
            <a:ext cx="35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设所求函数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a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+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Group 40"/>
          <p:cNvGrpSpPr/>
          <p:nvPr/>
        </p:nvGrpSpPr>
        <p:grpSpPr>
          <a:xfrm>
            <a:off x="1763640" y="4456080"/>
            <a:ext cx="2502000" cy="1082880"/>
            <a:chOff x="1763640" y="4456080"/>
            <a:chExt cx="2502000" cy="1082880"/>
          </a:xfrm>
        </p:grpSpPr>
        <p:sp>
          <p:nvSpPr>
            <p:cNvPr id="1162" name="Text Box 41"/>
            <p:cNvSpPr/>
            <p:nvPr/>
          </p:nvSpPr>
          <p:spPr>
            <a:xfrm>
              <a:off x="1879560" y="445608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.5=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2"/>
            <p:cNvSpPr/>
            <p:nvPr/>
          </p:nvSpPr>
          <p:spPr>
            <a:xfrm>
              <a:off x="1836720" y="4957560"/>
              <a:ext cx="242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.05=1.5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+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AutoShape 43"/>
            <p:cNvSpPr/>
            <p:nvPr/>
          </p:nvSpPr>
          <p:spPr>
            <a:xfrm>
              <a:off x="1763640" y="4668840"/>
              <a:ext cx="144360" cy="64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920 h 649080"/>
                <a:gd name="textAreaBottom" fmla="*/ 63216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Text Box 44"/>
          <p:cNvSpPr/>
          <p:nvPr/>
        </p:nvSpPr>
        <p:spPr>
          <a:xfrm>
            <a:off x="395280" y="4600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则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45"/>
          <p:cNvSpPr/>
          <p:nvPr/>
        </p:nvSpPr>
        <p:spPr>
          <a:xfrm>
            <a:off x="4427640" y="4668840"/>
            <a:ext cx="11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解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46"/>
          <p:cNvGrpSpPr/>
          <p:nvPr/>
        </p:nvGrpSpPr>
        <p:grpSpPr>
          <a:xfrm>
            <a:off x="5435640" y="4413240"/>
            <a:ext cx="1511280" cy="1178280"/>
            <a:chOff x="5435640" y="4413240"/>
            <a:chExt cx="1511280" cy="1178280"/>
          </a:xfrm>
        </p:grpSpPr>
        <p:sp>
          <p:nvSpPr>
            <p:cNvPr id="1168" name="AutoShape 47"/>
            <p:cNvSpPr/>
            <p:nvPr/>
          </p:nvSpPr>
          <p:spPr>
            <a:xfrm>
              <a:off x="5435640" y="47052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5511960" y="4413240"/>
              <a:ext cx="143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= -0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Text Box 49"/>
            <p:cNvSpPr/>
            <p:nvPr/>
          </p:nvSpPr>
          <p:spPr>
            <a:xfrm>
              <a:off x="5511960" y="5010120"/>
              <a:ext cx="121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= 3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Rectangle 50"/>
          <p:cNvSpPr/>
          <p:nvPr/>
        </p:nvSpPr>
        <p:spPr>
          <a:xfrm>
            <a:off x="971640" y="5516640"/>
            <a:ext cx="55872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该抛物线的表达式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-0.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+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2"/>
          <p:cNvSpPr/>
          <p:nvPr/>
        </p:nvSpPr>
        <p:spPr>
          <a:xfrm>
            <a:off x="468360" y="1125360"/>
            <a:ext cx="799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球的出手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横坐标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-2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将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=-2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代入抛物线表                                    达式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2.2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所以                                        当出手高度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.25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时，才能投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"/>
          <p:cNvGrpSpPr/>
          <p:nvPr/>
        </p:nvGrpSpPr>
        <p:grpSpPr>
          <a:xfrm>
            <a:off x="5159520" y="547560"/>
            <a:ext cx="3733200" cy="3733560"/>
            <a:chOff x="5159520" y="547560"/>
            <a:chExt cx="3733200" cy="3733560"/>
          </a:xfrm>
        </p:grpSpPr>
        <p:sp>
          <p:nvSpPr>
            <p:cNvPr id="1174" name="Line 4"/>
            <p:cNvSpPr/>
            <p:nvPr/>
          </p:nvSpPr>
          <p:spPr>
            <a:xfrm>
              <a:off x="5159520" y="3747960"/>
              <a:ext cx="358092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5"/>
            <p:cNvSpPr/>
            <p:nvPr/>
          </p:nvSpPr>
          <p:spPr>
            <a:xfrm flipV="1">
              <a:off x="6911640" y="775800"/>
              <a:ext cx="0" cy="35053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Text Box 6"/>
            <p:cNvSpPr/>
            <p:nvPr/>
          </p:nvSpPr>
          <p:spPr>
            <a:xfrm>
              <a:off x="8664480" y="3367080"/>
              <a:ext cx="22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Text Box 7"/>
            <p:cNvSpPr/>
            <p:nvPr/>
          </p:nvSpPr>
          <p:spPr>
            <a:xfrm>
              <a:off x="6835680" y="547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Group 8"/>
          <p:cNvGrpSpPr/>
          <p:nvPr/>
        </p:nvGrpSpPr>
        <p:grpSpPr>
          <a:xfrm>
            <a:off x="4653000" y="1268280"/>
            <a:ext cx="3962520" cy="3050640"/>
            <a:chOff x="4653000" y="1268280"/>
            <a:chExt cx="3962520" cy="3050640"/>
          </a:xfrm>
        </p:grpSpPr>
        <p:sp>
          <p:nvSpPr>
            <p:cNvPr id="1179" name="Line 9"/>
            <p:cNvSpPr/>
            <p:nvPr/>
          </p:nvSpPr>
          <p:spPr>
            <a:xfrm>
              <a:off x="4653000" y="371628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0"/>
            <p:cNvSpPr/>
            <p:nvPr/>
          </p:nvSpPr>
          <p:spPr>
            <a:xfrm flipH="1">
              <a:off x="5576400" y="4087800"/>
              <a:ext cx="6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11"/>
            <p:cNvSpPr/>
            <p:nvPr/>
          </p:nvSpPr>
          <p:spPr>
            <a:xfrm rot="5400000">
              <a:off x="7738920" y="1458720"/>
              <a:ext cx="609480" cy="685800"/>
            </a:xfrm>
            <a:prstGeom prst="parallelogram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12"/>
            <p:cNvSpPr/>
            <p:nvPr/>
          </p:nvSpPr>
          <p:spPr>
            <a:xfrm>
              <a:off x="7853400" y="1877760"/>
              <a:ext cx="22860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Group 13"/>
            <p:cNvGrpSpPr/>
            <p:nvPr/>
          </p:nvGrpSpPr>
          <p:grpSpPr>
            <a:xfrm>
              <a:off x="5109840" y="2868480"/>
              <a:ext cx="381240" cy="838080"/>
              <a:chOff x="5109840" y="2868480"/>
              <a:chExt cx="381240" cy="838080"/>
            </a:xfrm>
          </p:grpSpPr>
          <p:sp>
            <p:nvSpPr>
              <p:cNvPr id="1184" name="Line 14"/>
              <p:cNvSpPr/>
              <p:nvPr/>
            </p:nvSpPr>
            <p:spPr>
              <a:xfrm>
                <a:off x="5262480" y="30970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15"/>
              <p:cNvSpPr/>
              <p:nvPr/>
            </p:nvSpPr>
            <p:spPr>
              <a:xfrm>
                <a:off x="5262480" y="324936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6" name="Group 16"/>
              <p:cNvGrpSpPr/>
              <p:nvPr/>
            </p:nvGrpSpPr>
            <p:grpSpPr>
              <a:xfrm>
                <a:off x="5109840" y="2868480"/>
                <a:ext cx="381240" cy="838080"/>
                <a:chOff x="5109840" y="2868480"/>
                <a:chExt cx="381240" cy="838080"/>
              </a:xfrm>
            </p:grpSpPr>
            <p:sp>
              <p:nvSpPr>
                <p:cNvPr id="1187" name="Line 17"/>
                <p:cNvSpPr/>
                <p:nvPr/>
              </p:nvSpPr>
              <p:spPr>
                <a:xfrm flipV="1">
                  <a:off x="5338800" y="2944800"/>
                  <a:ext cx="1522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8" name="Group 18"/>
                <p:cNvGrpSpPr/>
                <p:nvPr/>
              </p:nvGrpSpPr>
              <p:grpSpPr>
                <a:xfrm>
                  <a:off x="5109840" y="2868480"/>
                  <a:ext cx="305280" cy="838080"/>
                  <a:chOff x="5109840" y="2868480"/>
                  <a:chExt cx="305280" cy="838080"/>
                </a:xfrm>
              </p:grpSpPr>
              <p:sp>
                <p:nvSpPr>
                  <p:cNvPr id="1189" name="AutoShape 19"/>
                  <p:cNvSpPr/>
                  <p:nvPr/>
                </p:nvSpPr>
                <p:spPr>
                  <a:xfrm>
                    <a:off x="5186520" y="2868480"/>
                    <a:ext cx="152280" cy="228600"/>
                  </a:xfrm>
                  <a:prstGeom prst="smileyFace">
                    <a:avLst>
                      <a:gd name="adj" fmla="val 9282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20"/>
                  <p:cNvSpPr/>
                  <p:nvPr/>
                </p:nvSpPr>
                <p:spPr>
                  <a:xfrm flipH="1">
                    <a:off x="5109840" y="3402000"/>
                    <a:ext cx="15228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21"/>
                  <p:cNvSpPr/>
                  <p:nvPr/>
                </p:nvSpPr>
                <p:spPr>
                  <a:xfrm>
                    <a:off x="5262480" y="3402000"/>
                    <a:ext cx="15264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22"/>
                  <p:cNvSpPr/>
                  <p:nvPr/>
                </p:nvSpPr>
                <p:spPr>
                  <a:xfrm flipV="1">
                    <a:off x="5262480" y="3020760"/>
                    <a:ext cx="15264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3" name="Arc 23"/>
            <p:cNvSpPr/>
            <p:nvPr/>
          </p:nvSpPr>
          <p:spPr>
            <a:xfrm flipV="1" rot="16200000">
              <a:off x="5967360" y="1063440"/>
              <a:ext cx="1524240" cy="24004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400480"/>
                <a:gd name="textAreaBottom" fmla="*/ 2400480 h 2400480"/>
              </a:gdLst>
              <a:ahLst/>
              <a:rect l="textAreaLeft" t="textAreaTop" r="textAreaRight" b="textAreaBottom"/>
              <a:pathLst>
                <a:path fill="none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</a:path>
                <a:path stroke="0" w="21600" h="35621">
                  <a:moveTo>
                    <a:pt x="16232" y="-1"/>
                  </a:moveTo>
                  <a:cubicBezTo>
                    <a:pt x="19692" y="3940"/>
                    <a:pt x="21600" y="9005"/>
                    <a:pt x="21600" y="14250"/>
                  </a:cubicBezTo>
                  <a:cubicBezTo>
                    <a:pt x="21600" y="24968"/>
                    <a:pt x="13739" y="34066"/>
                    <a:pt x="3134" y="35621"/>
                  </a:cubicBezTo>
                  <a:lnTo>
                    <a:pt x="0" y="1425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24"/>
            <p:cNvSpPr/>
            <p:nvPr/>
          </p:nvSpPr>
          <p:spPr>
            <a:xfrm>
              <a:off x="8005680" y="19540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25"/>
            <p:cNvSpPr/>
            <p:nvPr/>
          </p:nvSpPr>
          <p:spPr>
            <a:xfrm>
              <a:off x="5491080" y="2639880"/>
              <a:ext cx="162000" cy="162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26"/>
            <p:cNvSpPr/>
            <p:nvPr/>
          </p:nvSpPr>
          <p:spPr>
            <a:xfrm>
              <a:off x="5576760" y="3706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27"/>
            <p:cNvSpPr/>
            <p:nvPr/>
          </p:nvSpPr>
          <p:spPr>
            <a:xfrm>
              <a:off x="8005680" y="3706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28"/>
            <p:cNvSpPr/>
            <p:nvPr/>
          </p:nvSpPr>
          <p:spPr>
            <a:xfrm flipH="1">
              <a:off x="5619600" y="3859200"/>
              <a:ext cx="24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9"/>
            <p:cNvSpPr/>
            <p:nvPr/>
          </p:nvSpPr>
          <p:spPr>
            <a:xfrm>
              <a:off x="5818320" y="3601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5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30"/>
            <p:cNvSpPr/>
            <p:nvPr/>
          </p:nvSpPr>
          <p:spPr>
            <a:xfrm>
              <a:off x="6253200" y="385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31"/>
            <p:cNvSpPr/>
            <p:nvPr/>
          </p:nvSpPr>
          <p:spPr>
            <a:xfrm>
              <a:off x="6862680" y="4087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32"/>
            <p:cNvSpPr/>
            <p:nvPr/>
          </p:nvSpPr>
          <p:spPr>
            <a:xfrm>
              <a:off x="7701120" y="2792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33"/>
            <p:cNvSpPr/>
            <p:nvPr/>
          </p:nvSpPr>
          <p:spPr>
            <a:xfrm>
              <a:off x="5567400" y="248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34"/>
            <p:cNvSpPr/>
            <p:nvPr/>
          </p:nvSpPr>
          <p:spPr>
            <a:xfrm>
              <a:off x="6786720" y="134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5"/>
            <p:cNvSpPr/>
            <p:nvPr/>
          </p:nvSpPr>
          <p:spPr>
            <a:xfrm>
              <a:off x="7701120" y="126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36"/>
            <p:cNvSpPr/>
            <p:nvPr/>
          </p:nvSpPr>
          <p:spPr>
            <a:xfrm>
              <a:off x="6862680" y="332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7"/>
            <p:cNvSpPr/>
            <p:nvPr/>
          </p:nvSpPr>
          <p:spPr>
            <a:xfrm>
              <a:off x="6512040" y="38592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8"/>
            <p:cNvSpPr/>
            <p:nvPr/>
          </p:nvSpPr>
          <p:spPr>
            <a:xfrm>
              <a:off x="6634080" y="2487600"/>
              <a:ext cx="609840" cy="459720"/>
            </a:xfrm>
            <a:prstGeom prst="rect">
              <a:avLst/>
            </a:prstGeom>
            <a:solidFill>
              <a:srgbClr val="8df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2"/>
          <p:cNvSpPr/>
          <p:nvPr/>
        </p:nvSpPr>
        <p:spPr>
          <a:xfrm>
            <a:off x="1258920" y="1916280"/>
            <a:ext cx="669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假如该运动员身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.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在这次跳投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球在头顶上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0.2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处出手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问球出手时他跳离地面的高度是多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0" name="Picture 3" descr="01010101"/>
          <p:cNvPicPr/>
          <p:nvPr/>
        </p:nvPicPr>
        <p:blipFill>
          <a:blip r:embed="rId1"/>
          <a:srcRect l="8024" t="13106" r="3972" b="3850"/>
          <a:stretch/>
        </p:blipFill>
        <p:spPr>
          <a:xfrm>
            <a:off x="539640" y="1341360"/>
            <a:ext cx="158436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Group 2"/>
          <p:cNvGrpSpPr/>
          <p:nvPr/>
        </p:nvGrpSpPr>
        <p:grpSpPr>
          <a:xfrm>
            <a:off x="4427640" y="1052640"/>
            <a:ext cx="3419280" cy="1823760"/>
            <a:chOff x="4427640" y="1052640"/>
            <a:chExt cx="3419280" cy="1823760"/>
          </a:xfrm>
        </p:grpSpPr>
        <p:pic>
          <p:nvPicPr>
            <p:cNvPr id="1212" name="Picture 3" descr="F2003070214390500000"/>
            <p:cNvPicPr/>
            <p:nvPr/>
          </p:nvPicPr>
          <p:blipFill>
            <a:blip r:embed="rId1"/>
            <a:stretch/>
          </p:blipFill>
          <p:spPr>
            <a:xfrm>
              <a:off x="4427640" y="1052640"/>
              <a:ext cx="3419280" cy="18237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213" name="WordArt 4"/>
            <p:cNvSpPr txBox="1"/>
            <p:nvPr/>
          </p:nvSpPr>
          <p:spPr>
            <a:xfrm>
              <a:off x="5148000" y="1123560"/>
              <a:ext cx="205704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宜昌西陵长江大桥</a:t>
              </a:r>
              <a:endPara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214" name="WordArt 5"/>
          <p:cNvSpPr txBox="1"/>
          <p:nvPr/>
        </p:nvSpPr>
        <p:spPr>
          <a:xfrm>
            <a:off x="755640" y="1413000"/>
            <a:ext cx="3097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完美建筑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215" name="Group 6"/>
          <p:cNvGrpSpPr/>
          <p:nvPr/>
        </p:nvGrpSpPr>
        <p:grpSpPr>
          <a:xfrm>
            <a:off x="1763640" y="3141720"/>
            <a:ext cx="5324400" cy="2952720"/>
            <a:chOff x="1763640" y="3141720"/>
            <a:chExt cx="5324400" cy="2952720"/>
          </a:xfrm>
        </p:grpSpPr>
        <p:pic>
          <p:nvPicPr>
            <p:cNvPr id="1216" name="Picture 7" descr="_c889a6ac17"/>
            <p:cNvPicPr/>
            <p:nvPr/>
          </p:nvPicPr>
          <p:blipFill>
            <a:blip r:embed="rId2"/>
            <a:stretch/>
          </p:blipFill>
          <p:spPr>
            <a:xfrm>
              <a:off x="1763640" y="3141720"/>
              <a:ext cx="5324400" cy="29527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217" name="WordArt 8"/>
            <p:cNvSpPr txBox="1"/>
            <p:nvPr/>
          </p:nvSpPr>
          <p:spPr>
            <a:xfrm>
              <a:off x="3492360" y="3213000"/>
              <a:ext cx="216072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赵洲桥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slow">
    <p:randomBar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1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2" descr="桥拱"/>
          <p:cNvPicPr/>
          <p:nvPr/>
        </p:nvPicPr>
        <p:blipFill>
          <a:blip r:embed="rId1"/>
          <a:stretch/>
        </p:blipFill>
        <p:spPr>
          <a:xfrm>
            <a:off x="727200" y="3855960"/>
            <a:ext cx="3024000" cy="222264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3"/>
          <p:cNvSpPr/>
          <p:nvPr/>
        </p:nvSpPr>
        <p:spPr>
          <a:xfrm>
            <a:off x="449280" y="620640"/>
            <a:ext cx="84438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河北省赵县的赵州桥的桥拱是抛物线型，建立如图所示的坐标系，其函数的表达式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          ,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当水位线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位置时，水面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= 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，这时水面离桥顶的高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     )                 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Object 4"/>
              <p:cNvSpPr txBox="1"/>
              <p:nvPr/>
            </p:nvSpPr>
            <p:spPr>
              <a:xfrm>
                <a:off x="971640" y="1844640"/>
                <a:ext cx="10810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221" name="Group 5"/>
          <p:cNvGrpSpPr/>
          <p:nvPr/>
        </p:nvGrpSpPr>
        <p:grpSpPr>
          <a:xfrm>
            <a:off x="655560" y="3573360"/>
            <a:ext cx="3313080" cy="2879640"/>
            <a:chOff x="655560" y="3573360"/>
            <a:chExt cx="3313080" cy="2879640"/>
          </a:xfrm>
        </p:grpSpPr>
        <p:grpSp>
          <p:nvGrpSpPr>
            <p:cNvPr id="1222" name="Group 6"/>
            <p:cNvGrpSpPr/>
            <p:nvPr/>
          </p:nvGrpSpPr>
          <p:grpSpPr>
            <a:xfrm>
              <a:off x="655560" y="3789360"/>
              <a:ext cx="3313080" cy="2663640"/>
              <a:chOff x="655560" y="3789360"/>
              <a:chExt cx="3313080" cy="2663640"/>
            </a:xfrm>
          </p:grpSpPr>
          <p:sp>
            <p:nvSpPr>
              <p:cNvPr id="1223" name="未知"/>
              <p:cNvSpPr/>
              <p:nvPr/>
            </p:nvSpPr>
            <p:spPr>
              <a:xfrm>
                <a:off x="1303200" y="4652640"/>
                <a:ext cx="1944720" cy="502920"/>
              </a:xfrm>
              <a:custGeom>
                <a:avLst/>
                <a:gdLst>
                  <a:gd name="textAreaLeft" fmla="*/ 0 w 1944720"/>
                  <a:gd name="textAreaRight" fmla="*/ 1945080 w 1944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1180" h="317">
                    <a:moveTo>
                      <a:pt x="0" y="317"/>
                    </a:moveTo>
                    <a:cubicBezTo>
                      <a:pt x="196" y="158"/>
                      <a:pt x="393" y="0"/>
                      <a:pt x="590" y="0"/>
                    </a:cubicBezTo>
                    <a:cubicBezTo>
                      <a:pt x="787" y="0"/>
                      <a:pt x="1082" y="264"/>
                      <a:pt x="1180" y="31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4" name="Group 8"/>
              <p:cNvGrpSpPr/>
              <p:nvPr/>
            </p:nvGrpSpPr>
            <p:grpSpPr>
              <a:xfrm>
                <a:off x="655560" y="3789360"/>
                <a:ext cx="3313080" cy="2663640"/>
                <a:chOff x="655560" y="3789360"/>
                <a:chExt cx="3313080" cy="2663640"/>
              </a:xfrm>
            </p:grpSpPr>
            <p:sp>
              <p:nvSpPr>
                <p:cNvPr id="1225" name="Line 9"/>
                <p:cNvSpPr/>
                <p:nvPr/>
              </p:nvSpPr>
              <p:spPr>
                <a:xfrm>
                  <a:off x="655560" y="4652640"/>
                  <a:ext cx="331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"/>
                <p:cNvSpPr/>
                <p:nvPr/>
              </p:nvSpPr>
              <p:spPr>
                <a:xfrm>
                  <a:off x="2239920" y="3789360"/>
                  <a:ext cx="0" cy="266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7" name="Line 11"/>
              <p:cNvSpPr/>
              <p:nvPr/>
            </p:nvSpPr>
            <p:spPr>
              <a:xfrm>
                <a:off x="1303200" y="5155920"/>
                <a:ext cx="1944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Text Box 12"/>
            <p:cNvSpPr/>
            <p:nvPr/>
          </p:nvSpPr>
          <p:spPr>
            <a:xfrm>
              <a:off x="1087200" y="505764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Text Box 13"/>
            <p:cNvSpPr/>
            <p:nvPr/>
          </p:nvSpPr>
          <p:spPr>
            <a:xfrm>
              <a:off x="3030480" y="505764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Text Box 14"/>
            <p:cNvSpPr/>
            <p:nvPr/>
          </p:nvSpPr>
          <p:spPr>
            <a:xfrm>
              <a:off x="1893960" y="42796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Text Box 15"/>
            <p:cNvSpPr/>
            <p:nvPr/>
          </p:nvSpPr>
          <p:spPr>
            <a:xfrm>
              <a:off x="3521160" y="420660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16"/>
            <p:cNvSpPr/>
            <p:nvPr/>
          </p:nvSpPr>
          <p:spPr>
            <a:xfrm>
              <a:off x="1936800" y="357336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17"/>
            <p:cNvSpPr/>
            <p:nvPr/>
          </p:nvSpPr>
          <p:spPr>
            <a:xfrm>
              <a:off x="2166840" y="466704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5607E-007 L 0.40955 1.15607E-007 E">
                                      <p:cBhvr>
                                        <p:cTn id="283" dur="2000" fill="hold"/>
                                        <p:tgtEl>
                                          <p:spTgt spid="1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395280" y="2133720"/>
            <a:ext cx="3313080" cy="2879640"/>
            <a:chOff x="395280" y="2133720"/>
            <a:chExt cx="3313080" cy="2879640"/>
          </a:xfrm>
        </p:grpSpPr>
        <p:grpSp>
          <p:nvGrpSpPr>
            <p:cNvPr id="1235" name="Group 3"/>
            <p:cNvGrpSpPr/>
            <p:nvPr/>
          </p:nvGrpSpPr>
          <p:grpSpPr>
            <a:xfrm>
              <a:off x="395280" y="2349720"/>
              <a:ext cx="3313080" cy="2663640"/>
              <a:chOff x="395280" y="2349720"/>
              <a:chExt cx="3313080" cy="2663640"/>
            </a:xfrm>
          </p:grpSpPr>
          <p:sp>
            <p:nvSpPr>
              <p:cNvPr id="1236" name="未知"/>
              <p:cNvSpPr/>
              <p:nvPr/>
            </p:nvSpPr>
            <p:spPr>
              <a:xfrm>
                <a:off x="1042920" y="3213000"/>
                <a:ext cx="1944720" cy="502920"/>
              </a:xfrm>
              <a:custGeom>
                <a:avLst/>
                <a:gdLst>
                  <a:gd name="textAreaLeft" fmla="*/ 0 w 1944720"/>
                  <a:gd name="textAreaRight" fmla="*/ 1945080 w 1944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1180" h="317">
                    <a:moveTo>
                      <a:pt x="0" y="317"/>
                    </a:moveTo>
                    <a:cubicBezTo>
                      <a:pt x="196" y="158"/>
                      <a:pt x="393" y="0"/>
                      <a:pt x="590" y="0"/>
                    </a:cubicBezTo>
                    <a:cubicBezTo>
                      <a:pt x="787" y="0"/>
                      <a:pt x="1082" y="264"/>
                      <a:pt x="1180" y="31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7" name="Group 5"/>
              <p:cNvGrpSpPr/>
              <p:nvPr/>
            </p:nvGrpSpPr>
            <p:grpSpPr>
              <a:xfrm>
                <a:off x="395280" y="2349720"/>
                <a:ext cx="3313080" cy="2663640"/>
                <a:chOff x="395280" y="2349720"/>
                <a:chExt cx="3313080" cy="2663640"/>
              </a:xfrm>
            </p:grpSpPr>
            <p:sp>
              <p:nvSpPr>
                <p:cNvPr id="1238" name="Line 6"/>
                <p:cNvSpPr/>
                <p:nvPr/>
              </p:nvSpPr>
              <p:spPr>
                <a:xfrm>
                  <a:off x="395280" y="3213000"/>
                  <a:ext cx="331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7"/>
                <p:cNvSpPr/>
                <p:nvPr/>
              </p:nvSpPr>
              <p:spPr>
                <a:xfrm>
                  <a:off x="1979640" y="2349720"/>
                  <a:ext cx="0" cy="266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0" name="Line 8"/>
              <p:cNvSpPr/>
              <p:nvPr/>
            </p:nvSpPr>
            <p:spPr>
              <a:xfrm>
                <a:off x="1042920" y="3716280"/>
                <a:ext cx="1944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1" name="Text Box 9"/>
            <p:cNvSpPr/>
            <p:nvPr/>
          </p:nvSpPr>
          <p:spPr>
            <a:xfrm>
              <a:off x="826920" y="361800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Text Box 10"/>
            <p:cNvSpPr/>
            <p:nvPr/>
          </p:nvSpPr>
          <p:spPr>
            <a:xfrm>
              <a:off x="2770200" y="361800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1"/>
            <p:cNvSpPr/>
            <p:nvPr/>
          </p:nvSpPr>
          <p:spPr>
            <a:xfrm>
              <a:off x="1633680" y="284004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2"/>
            <p:cNvSpPr/>
            <p:nvPr/>
          </p:nvSpPr>
          <p:spPr>
            <a:xfrm>
              <a:off x="3260880" y="276696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3"/>
            <p:cNvSpPr/>
            <p:nvPr/>
          </p:nvSpPr>
          <p:spPr>
            <a:xfrm>
              <a:off x="1676520" y="213372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4"/>
            <p:cNvSpPr/>
            <p:nvPr/>
          </p:nvSpPr>
          <p:spPr>
            <a:xfrm>
              <a:off x="1906560" y="322740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15"/>
          <p:cNvGrpSpPr/>
          <p:nvPr/>
        </p:nvGrpSpPr>
        <p:grpSpPr>
          <a:xfrm>
            <a:off x="468360" y="836640"/>
            <a:ext cx="2494080" cy="934920"/>
            <a:chOff x="468360" y="836640"/>
            <a:chExt cx="2494080" cy="934920"/>
          </a:xfrm>
        </p:grpSpPr>
        <p:pic>
          <p:nvPicPr>
            <p:cNvPr id="1248" name="Picture 16" descr="2006623145155750"/>
            <p:cNvPicPr/>
            <p:nvPr/>
          </p:nvPicPr>
          <p:blipFill>
            <a:blip r:embed="rId1"/>
            <a:srcRect l="3067" t="3455" r="40567" b="41555"/>
            <a:stretch/>
          </p:blipFill>
          <p:spPr>
            <a:xfrm>
              <a:off x="468360" y="900000"/>
              <a:ext cx="1052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9" name="Rectangle 17"/>
            <p:cNvSpPr/>
            <p:nvPr/>
          </p:nvSpPr>
          <p:spPr>
            <a:xfrm>
              <a:off x="1521000" y="1484280"/>
              <a:ext cx="1439640" cy="287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63504" dir="19383909" blurRad="0" rotWithShape="0">
                <a:srgbClr val="cc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8"/>
            <p:cNvSpPr/>
            <p:nvPr/>
          </p:nvSpPr>
          <p:spPr>
            <a:xfrm>
              <a:off x="1521000" y="83664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6832" dir="19996359" blurRad="0" rotWithShape="0">
                <a:srgbClr val="cc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  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Text Box 19"/>
          <p:cNvSpPr/>
          <p:nvPr/>
        </p:nvSpPr>
        <p:spPr>
          <a:xfrm>
            <a:off x="3851280" y="1268280"/>
            <a:ext cx="48960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图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B=3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则 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坐标为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1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h)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要求水面离桥顶的高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即要求出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纵坐标。抛物线的解析式已知，把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坐标代入计算即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2" name="Object 20"/>
              <p:cNvSpPr txBox="1"/>
              <p:nvPr/>
            </p:nvSpPr>
            <p:spPr>
              <a:xfrm>
                <a:off x="395280" y="4149720"/>
                <a:ext cx="1440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 Box 2"/>
          <p:cNvSpPr/>
          <p:nvPr/>
        </p:nvSpPr>
        <p:spPr>
          <a:xfrm>
            <a:off x="754200" y="105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1617840" y="1771560"/>
            <a:ext cx="45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坐标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1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-h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4"/>
          <p:cNvSpPr/>
          <p:nvPr/>
        </p:nvSpPr>
        <p:spPr>
          <a:xfrm>
            <a:off x="1689120" y="10587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由题意得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5"/>
          <p:cNvGrpSpPr/>
          <p:nvPr/>
        </p:nvGrpSpPr>
        <p:grpSpPr>
          <a:xfrm>
            <a:off x="1114560" y="2381400"/>
            <a:ext cx="6337080" cy="976320"/>
            <a:chOff x="1114560" y="2381400"/>
            <a:chExt cx="6337080" cy="976320"/>
          </a:xfrm>
        </p:grpSpPr>
        <mc:AlternateContent>
          <mc:Choice xmlns:a14="http://schemas.microsoft.com/office/drawing/2010/main" Requires="a14">
            <p:sp>
              <p:nvSpPr>
                <p:cNvPr id="1257" name="Object 6"/>
                <p:cNvSpPr txBox="1"/>
                <p:nvPr/>
              </p:nvSpPr>
              <p:spPr>
                <a:xfrm>
                  <a:off x="4282920" y="2381400"/>
                  <a:ext cx="179964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58" name="Text Box 7"/>
            <p:cNvSpPr/>
            <p:nvPr/>
          </p:nvSpPr>
          <p:spPr>
            <a:xfrm>
              <a:off x="1114560" y="2584440"/>
              <a:ext cx="633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∵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点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在抛物线                上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Text Box 8"/>
          <p:cNvSpPr/>
          <p:nvPr/>
        </p:nvSpPr>
        <p:spPr>
          <a:xfrm>
            <a:off x="468360" y="5445000"/>
            <a:ext cx="66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水面离桥顶的高度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9"/>
              <p:cNvSpPr txBox="1"/>
              <p:nvPr/>
            </p:nvSpPr>
            <p:spPr>
              <a:xfrm>
                <a:off x="1547640" y="3284640"/>
                <a:ext cx="31575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10"/>
              <p:cNvSpPr txBox="1"/>
              <p:nvPr/>
            </p:nvSpPr>
            <p:spPr>
              <a:xfrm>
                <a:off x="1547640" y="4437000"/>
                <a:ext cx="29084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得　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62" name="Group 11"/>
          <p:cNvGrpSpPr/>
          <p:nvPr/>
        </p:nvGrpSpPr>
        <p:grpSpPr>
          <a:xfrm>
            <a:off x="5651640" y="3068640"/>
            <a:ext cx="3313080" cy="2879640"/>
            <a:chOff x="5651640" y="3068640"/>
            <a:chExt cx="3313080" cy="2879640"/>
          </a:xfrm>
        </p:grpSpPr>
        <p:grpSp>
          <p:nvGrpSpPr>
            <p:cNvPr id="1263" name="Group 12"/>
            <p:cNvGrpSpPr/>
            <p:nvPr/>
          </p:nvGrpSpPr>
          <p:grpSpPr>
            <a:xfrm>
              <a:off x="5651640" y="3284640"/>
              <a:ext cx="3313080" cy="2663640"/>
              <a:chOff x="5651640" y="3284640"/>
              <a:chExt cx="3313080" cy="2663640"/>
            </a:xfrm>
          </p:grpSpPr>
          <p:sp>
            <p:nvSpPr>
              <p:cNvPr id="1264" name="未知"/>
              <p:cNvSpPr/>
              <p:nvPr/>
            </p:nvSpPr>
            <p:spPr>
              <a:xfrm>
                <a:off x="6299280" y="4147920"/>
                <a:ext cx="1944720" cy="502920"/>
              </a:xfrm>
              <a:custGeom>
                <a:avLst/>
                <a:gdLst>
                  <a:gd name="textAreaLeft" fmla="*/ 0 w 1944720"/>
                  <a:gd name="textAreaRight" fmla="*/ 1945080 w 1944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1180" h="317">
                    <a:moveTo>
                      <a:pt x="0" y="317"/>
                    </a:moveTo>
                    <a:cubicBezTo>
                      <a:pt x="196" y="158"/>
                      <a:pt x="393" y="0"/>
                      <a:pt x="590" y="0"/>
                    </a:cubicBezTo>
                    <a:cubicBezTo>
                      <a:pt x="787" y="0"/>
                      <a:pt x="1082" y="264"/>
                      <a:pt x="1180" y="317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5" name="Group 14"/>
              <p:cNvGrpSpPr/>
              <p:nvPr/>
            </p:nvGrpSpPr>
            <p:grpSpPr>
              <a:xfrm>
                <a:off x="5651640" y="3284640"/>
                <a:ext cx="3313080" cy="2663640"/>
                <a:chOff x="5651640" y="3284640"/>
                <a:chExt cx="3313080" cy="2663640"/>
              </a:xfrm>
            </p:grpSpPr>
            <p:sp>
              <p:nvSpPr>
                <p:cNvPr id="1266" name="Line 15"/>
                <p:cNvSpPr/>
                <p:nvPr/>
              </p:nvSpPr>
              <p:spPr>
                <a:xfrm>
                  <a:off x="5651640" y="4147920"/>
                  <a:ext cx="3313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6"/>
                <p:cNvSpPr/>
                <p:nvPr/>
              </p:nvSpPr>
              <p:spPr>
                <a:xfrm>
                  <a:off x="7236000" y="3284640"/>
                  <a:ext cx="0" cy="266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Line 17"/>
              <p:cNvSpPr/>
              <p:nvPr/>
            </p:nvSpPr>
            <p:spPr>
              <a:xfrm>
                <a:off x="6299280" y="4651200"/>
                <a:ext cx="19447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9" name="Text Box 18"/>
            <p:cNvSpPr/>
            <p:nvPr/>
          </p:nvSpPr>
          <p:spPr>
            <a:xfrm>
              <a:off x="6083280" y="455292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9"/>
            <p:cNvSpPr/>
            <p:nvPr/>
          </p:nvSpPr>
          <p:spPr>
            <a:xfrm>
              <a:off x="8026560" y="455292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20"/>
            <p:cNvSpPr/>
            <p:nvPr/>
          </p:nvSpPr>
          <p:spPr>
            <a:xfrm>
              <a:off x="6890040" y="37749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21"/>
            <p:cNvSpPr/>
            <p:nvPr/>
          </p:nvSpPr>
          <p:spPr>
            <a:xfrm>
              <a:off x="8517240" y="370188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22"/>
            <p:cNvSpPr/>
            <p:nvPr/>
          </p:nvSpPr>
          <p:spPr>
            <a:xfrm>
              <a:off x="6932880" y="306864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细黑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23"/>
            <p:cNvSpPr/>
            <p:nvPr/>
          </p:nvSpPr>
          <p:spPr>
            <a:xfrm>
              <a:off x="7162920" y="4162320"/>
              <a:ext cx="28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Group 2"/>
          <p:cNvGrpSpPr/>
          <p:nvPr/>
        </p:nvGrpSpPr>
        <p:grpSpPr>
          <a:xfrm>
            <a:off x="900000" y="3994200"/>
            <a:ext cx="5938920" cy="2251080"/>
            <a:chOff x="900000" y="3994200"/>
            <a:chExt cx="5938920" cy="2251080"/>
          </a:xfrm>
        </p:grpSpPr>
        <p:pic>
          <p:nvPicPr>
            <p:cNvPr id="1276" name="Picture 3" descr="0"/>
            <p:cNvPicPr/>
            <p:nvPr/>
          </p:nvPicPr>
          <p:blipFill>
            <a:blip r:embed="rId1">
              <a:biLevel thresh="50000"/>
            </a:blip>
            <a:srcRect l="2345" t="0" r="0" b="0"/>
            <a:stretch/>
          </p:blipFill>
          <p:spPr>
            <a:xfrm>
              <a:off x="900000" y="3994200"/>
              <a:ext cx="593892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AutoShape 4"/>
            <p:cNvSpPr/>
            <p:nvPr/>
          </p:nvSpPr>
          <p:spPr>
            <a:xfrm>
              <a:off x="1923840" y="4768920"/>
              <a:ext cx="373320" cy="2127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AutoShape 5"/>
            <p:cNvSpPr/>
            <p:nvPr/>
          </p:nvSpPr>
          <p:spPr>
            <a:xfrm>
              <a:off x="4668840" y="4759200"/>
              <a:ext cx="372960" cy="214560"/>
            </a:xfrm>
            <a:prstGeom prst="su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6"/>
          <p:cNvGrpSpPr/>
          <p:nvPr/>
        </p:nvGrpSpPr>
        <p:grpSpPr>
          <a:xfrm>
            <a:off x="905040" y="4382640"/>
            <a:ext cx="7169040" cy="2141640"/>
            <a:chOff x="905040" y="4382640"/>
            <a:chExt cx="7169040" cy="2141640"/>
          </a:xfrm>
        </p:grpSpPr>
        <p:sp>
          <p:nvSpPr>
            <p:cNvPr id="1280" name="Text Box 7"/>
            <p:cNvSpPr/>
            <p:nvPr/>
          </p:nvSpPr>
          <p:spPr>
            <a:xfrm>
              <a:off x="6786720" y="5703840"/>
              <a:ext cx="666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8"/>
            <p:cNvSpPr/>
            <p:nvPr/>
          </p:nvSpPr>
          <p:spPr>
            <a:xfrm>
              <a:off x="7164720" y="5290920"/>
              <a:ext cx="1440" cy="4255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9"/>
            <p:cNvSpPr/>
            <p:nvPr/>
          </p:nvSpPr>
          <p:spPr>
            <a:xfrm>
              <a:off x="6805800" y="5722920"/>
              <a:ext cx="6476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10"/>
            <p:cNvSpPr/>
            <p:nvPr/>
          </p:nvSpPr>
          <p:spPr>
            <a:xfrm>
              <a:off x="6274080" y="4437000"/>
              <a:ext cx="18000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11"/>
            <p:cNvSpPr/>
            <p:nvPr/>
          </p:nvSpPr>
          <p:spPr>
            <a:xfrm flipV="1">
              <a:off x="7810560" y="4382640"/>
              <a:ext cx="0" cy="639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12"/>
            <p:cNvSpPr/>
            <p:nvPr/>
          </p:nvSpPr>
          <p:spPr>
            <a:xfrm>
              <a:off x="7810560" y="5595840"/>
              <a:ext cx="0" cy="639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13"/>
            <p:cNvSpPr/>
            <p:nvPr/>
          </p:nvSpPr>
          <p:spPr>
            <a:xfrm>
              <a:off x="7263000" y="4973400"/>
              <a:ext cx="766800" cy="460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5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14"/>
            <p:cNvSpPr/>
            <p:nvPr/>
          </p:nvSpPr>
          <p:spPr>
            <a:xfrm flipV="1">
              <a:off x="7188480" y="6241680"/>
              <a:ext cx="0" cy="2826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15"/>
            <p:cNvSpPr/>
            <p:nvPr/>
          </p:nvSpPr>
          <p:spPr>
            <a:xfrm flipH="1">
              <a:off x="905040" y="6222960"/>
              <a:ext cx="1765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16"/>
            <p:cNvSpPr/>
            <p:nvPr/>
          </p:nvSpPr>
          <p:spPr>
            <a:xfrm>
              <a:off x="4214880" y="6235560"/>
              <a:ext cx="17668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17"/>
            <p:cNvSpPr/>
            <p:nvPr/>
          </p:nvSpPr>
          <p:spPr>
            <a:xfrm>
              <a:off x="3265560" y="5886360"/>
              <a:ext cx="101916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18"/>
            <p:cNvSpPr/>
            <p:nvPr/>
          </p:nvSpPr>
          <p:spPr>
            <a:xfrm>
              <a:off x="6131160" y="6237360"/>
              <a:ext cx="18716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Rectangle 19"/>
          <p:cNvSpPr/>
          <p:nvPr/>
        </p:nvSpPr>
        <p:spPr>
          <a:xfrm>
            <a:off x="250920" y="950760"/>
            <a:ext cx="856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图是一座古拱桥的截面图，拱桥桥洞上沿是抛物线形状，抛物线两端点与水面的距离都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拱桥的跨度为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0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桥洞与水面的最大距离是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桥洞两侧壁上各有一盏距离水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4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的景观灯。求两盏景观灯之间的水平距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20"/>
          <p:cNvGrpSpPr/>
          <p:nvPr/>
        </p:nvGrpSpPr>
        <p:grpSpPr>
          <a:xfrm>
            <a:off x="307800" y="677880"/>
            <a:ext cx="4608360" cy="799920"/>
            <a:chOff x="307800" y="677880"/>
            <a:chExt cx="4608360" cy="799920"/>
          </a:xfrm>
        </p:grpSpPr>
        <p:pic>
          <p:nvPicPr>
            <p:cNvPr id="1294" name="Picture 21" descr="螺旋"/>
            <p:cNvPicPr/>
            <p:nvPr/>
          </p:nvPicPr>
          <p:blipFill>
            <a:blip r:embed="rId2"/>
            <a:stretch/>
          </p:blipFill>
          <p:spPr>
            <a:xfrm>
              <a:off x="307800" y="677880"/>
              <a:ext cx="216072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Text Box 22"/>
            <p:cNvSpPr/>
            <p:nvPr/>
          </p:nvSpPr>
          <p:spPr>
            <a:xfrm>
              <a:off x="1028520" y="750600"/>
              <a:ext cx="38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e2c5"/>
                  </a:solidFill>
                  <a:latin typeface="Arial"/>
                  <a:ea typeface="黑体"/>
                </a:rPr>
                <a:t>练 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3"/>
          <p:cNvSpPr/>
          <p:nvPr/>
        </p:nvSpPr>
        <p:spPr>
          <a:xfrm>
            <a:off x="826920" y="213372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二次函数是一种最优化设计实际问题的数学模型，能优化设计（优选）出实际问题的最佳方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2" descr="px"/>
          <p:cNvPicPr/>
          <p:nvPr/>
        </p:nvPicPr>
        <p:blipFill>
          <a:blip r:embed="rId1"/>
          <a:stretch/>
        </p:blipFill>
        <p:spPr>
          <a:xfrm>
            <a:off x="1258920" y="1844640"/>
            <a:ext cx="6686640" cy="4191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6" name="WordArt 3"/>
          <p:cNvSpPr txBox="1"/>
          <p:nvPr/>
        </p:nvSpPr>
        <p:spPr>
          <a:xfrm>
            <a:off x="468360" y="836640"/>
            <a:ext cx="2879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喷泉设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Text Box 2"/>
          <p:cNvSpPr/>
          <p:nvPr/>
        </p:nvSpPr>
        <p:spPr>
          <a:xfrm>
            <a:off x="250920" y="7621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图，某公园要设计一圆形喷水池，水流在各方向沿形状相同的抛物线落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建立如图所示的坐标系，如果喷头所在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(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5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水流路线最高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B(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5)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果不考虑其他因素，水池的半径至少要多少米，才能使喷出的水流不致落到池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Picture 3" descr="喷泉"/>
          <p:cNvPicPr/>
          <p:nvPr/>
        </p:nvPicPr>
        <p:blipFill>
          <a:blip r:embed="rId1"/>
          <a:stretch/>
        </p:blipFill>
        <p:spPr>
          <a:xfrm>
            <a:off x="468360" y="4365720"/>
            <a:ext cx="26607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969" name="Group 4"/>
          <p:cNvGrpSpPr/>
          <p:nvPr/>
        </p:nvGrpSpPr>
        <p:grpSpPr>
          <a:xfrm>
            <a:off x="352440" y="4122720"/>
            <a:ext cx="3468960" cy="2319480"/>
            <a:chOff x="352440" y="4122720"/>
            <a:chExt cx="3468960" cy="2319480"/>
          </a:xfrm>
        </p:grpSpPr>
        <p:grpSp>
          <p:nvGrpSpPr>
            <p:cNvPr id="970" name="Group 5"/>
            <p:cNvGrpSpPr/>
            <p:nvPr/>
          </p:nvGrpSpPr>
          <p:grpSpPr>
            <a:xfrm>
              <a:off x="352440" y="4210200"/>
              <a:ext cx="2952720" cy="2232000"/>
              <a:chOff x="352440" y="4210200"/>
              <a:chExt cx="2952720" cy="2232000"/>
            </a:xfrm>
          </p:grpSpPr>
          <p:sp>
            <p:nvSpPr>
              <p:cNvPr id="971" name="Line 6"/>
              <p:cNvSpPr/>
              <p:nvPr/>
            </p:nvSpPr>
            <p:spPr>
              <a:xfrm>
                <a:off x="352440" y="6010560"/>
                <a:ext cx="295272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7"/>
              <p:cNvSpPr/>
              <p:nvPr/>
            </p:nvSpPr>
            <p:spPr>
              <a:xfrm>
                <a:off x="1792440" y="4210200"/>
                <a:ext cx="0" cy="22320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未知"/>
              <p:cNvSpPr/>
              <p:nvPr/>
            </p:nvSpPr>
            <p:spPr>
              <a:xfrm>
                <a:off x="1792440" y="4883400"/>
                <a:ext cx="1152360" cy="112716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1127160"/>
                  <a:gd name="textAreaBottom" fmla="*/ 1127520 h 1127160"/>
                </a:gdLst>
                <a:ahLst/>
                <a:rect l="textAreaLeft" t="textAreaTop" r="textAreaRight" b="textAreaBottom"/>
                <a:pathLst>
                  <a:path w="726" h="710">
                    <a:moveTo>
                      <a:pt x="726" y="710"/>
                    </a:moveTo>
                    <a:cubicBezTo>
                      <a:pt x="605" y="430"/>
                      <a:pt x="484" y="150"/>
                      <a:pt x="363" y="75"/>
                    </a:cubicBezTo>
                    <a:cubicBezTo>
                      <a:pt x="242" y="0"/>
                      <a:pt x="60" y="227"/>
                      <a:pt x="0" y="257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Group 9"/>
            <p:cNvGrpSpPr/>
            <p:nvPr/>
          </p:nvGrpSpPr>
          <p:grpSpPr>
            <a:xfrm>
              <a:off x="403200" y="4122720"/>
              <a:ext cx="3418200" cy="2288520"/>
              <a:chOff x="403200" y="4122720"/>
              <a:chExt cx="3418200" cy="2288520"/>
            </a:xfrm>
          </p:grpSpPr>
          <p:sp>
            <p:nvSpPr>
              <p:cNvPr id="975" name="Text Box 10"/>
              <p:cNvSpPr/>
              <p:nvPr/>
            </p:nvSpPr>
            <p:spPr>
              <a:xfrm>
                <a:off x="1474560" y="4122720"/>
                <a:ext cx="1747440" cy="2288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O                     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11"/>
              <p:cNvSpPr/>
              <p:nvPr/>
            </p:nvSpPr>
            <p:spPr>
              <a:xfrm>
                <a:off x="2471760" y="471960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(1,2.25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Text Box 12"/>
              <p:cNvSpPr/>
              <p:nvPr/>
            </p:nvSpPr>
            <p:spPr>
              <a:xfrm>
                <a:off x="2213640" y="45543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3"/>
              <p:cNvSpPr/>
              <p:nvPr/>
            </p:nvSpPr>
            <p:spPr>
              <a:xfrm>
                <a:off x="403200" y="5130720"/>
                <a:ext cx="144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0,1.25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66474E-006 L 0.38594 -5.66474E-006 E">
                                      <p:cBhvr>
                                        <p:cTn id="37" dur="2000" fill="hold"/>
                                        <p:tgtEl>
                                          <p:spTgt spid="9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喷泉"/>
          <p:cNvPicPr/>
          <p:nvPr/>
        </p:nvPicPr>
        <p:blipFill>
          <a:blip r:embed="rId1"/>
          <a:stretch/>
        </p:blipFill>
        <p:spPr>
          <a:xfrm>
            <a:off x="584280" y="1943280"/>
            <a:ext cx="2660400" cy="1785600"/>
          </a:xfrm>
          <a:prstGeom prst="rect">
            <a:avLst/>
          </a:prstGeom>
          <a:ln w="0">
            <a:noFill/>
          </a:ln>
        </p:spPr>
      </p:pic>
      <p:grpSp>
        <p:nvGrpSpPr>
          <p:cNvPr id="980" name="Group 3"/>
          <p:cNvGrpSpPr/>
          <p:nvPr/>
        </p:nvGrpSpPr>
        <p:grpSpPr>
          <a:xfrm>
            <a:off x="468360" y="1700280"/>
            <a:ext cx="3468960" cy="2318760"/>
            <a:chOff x="468360" y="1700280"/>
            <a:chExt cx="3468960" cy="2318760"/>
          </a:xfrm>
        </p:grpSpPr>
        <p:grpSp>
          <p:nvGrpSpPr>
            <p:cNvPr id="981" name="Group 4"/>
            <p:cNvGrpSpPr/>
            <p:nvPr/>
          </p:nvGrpSpPr>
          <p:grpSpPr>
            <a:xfrm>
              <a:off x="468360" y="1787400"/>
              <a:ext cx="2952720" cy="2231640"/>
              <a:chOff x="468360" y="1787400"/>
              <a:chExt cx="2952720" cy="2231640"/>
            </a:xfrm>
          </p:grpSpPr>
          <p:sp>
            <p:nvSpPr>
              <p:cNvPr id="982" name="Line 5"/>
              <p:cNvSpPr/>
              <p:nvPr/>
            </p:nvSpPr>
            <p:spPr>
              <a:xfrm>
                <a:off x="468360" y="3587400"/>
                <a:ext cx="295272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6"/>
              <p:cNvSpPr/>
              <p:nvPr/>
            </p:nvSpPr>
            <p:spPr>
              <a:xfrm>
                <a:off x="1908360" y="1787400"/>
                <a:ext cx="0" cy="22316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未知"/>
              <p:cNvSpPr/>
              <p:nvPr/>
            </p:nvSpPr>
            <p:spPr>
              <a:xfrm>
                <a:off x="1908360" y="2460240"/>
                <a:ext cx="1152360" cy="11268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1126800"/>
                  <a:gd name="textAreaBottom" fmla="*/ 1127160 h 1126800"/>
                </a:gdLst>
                <a:ahLst/>
                <a:rect l="textAreaLeft" t="textAreaTop" r="textAreaRight" b="textAreaBottom"/>
                <a:pathLst>
                  <a:path w="726" h="710">
                    <a:moveTo>
                      <a:pt x="726" y="710"/>
                    </a:moveTo>
                    <a:cubicBezTo>
                      <a:pt x="605" y="430"/>
                      <a:pt x="484" y="150"/>
                      <a:pt x="363" y="75"/>
                    </a:cubicBezTo>
                    <a:cubicBezTo>
                      <a:pt x="242" y="0"/>
                      <a:pt x="60" y="227"/>
                      <a:pt x="0" y="257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Group 8"/>
            <p:cNvGrpSpPr/>
            <p:nvPr/>
          </p:nvGrpSpPr>
          <p:grpSpPr>
            <a:xfrm>
              <a:off x="519120" y="1700280"/>
              <a:ext cx="3418200" cy="2288520"/>
              <a:chOff x="519120" y="1700280"/>
              <a:chExt cx="3418200" cy="2288520"/>
            </a:xfrm>
          </p:grpSpPr>
          <p:sp>
            <p:nvSpPr>
              <p:cNvPr id="986" name="Text Box 9"/>
              <p:cNvSpPr/>
              <p:nvPr/>
            </p:nvSpPr>
            <p:spPr>
              <a:xfrm>
                <a:off x="1590480" y="1700280"/>
                <a:ext cx="1747440" cy="2288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00ff"/>
                    </a:solidFill>
                    <a:latin typeface="Times New Roman"/>
                  </a:rPr>
                  <a:t>O                      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Text Box 10"/>
              <p:cNvSpPr/>
              <p:nvPr/>
            </p:nvSpPr>
            <p:spPr>
              <a:xfrm>
                <a:off x="2587680" y="2296800"/>
                <a:ext cx="134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(1,2.25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Text Box 11"/>
              <p:cNvSpPr/>
              <p:nvPr/>
            </p:nvSpPr>
            <p:spPr>
              <a:xfrm>
                <a:off x="2329560" y="2131560"/>
                <a:ext cx="42444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Rectangle 12"/>
              <p:cNvSpPr/>
              <p:nvPr/>
            </p:nvSpPr>
            <p:spPr>
              <a:xfrm>
                <a:off x="519120" y="2707920"/>
                <a:ext cx="144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0,1.25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0" name="Group 13"/>
          <p:cNvGrpSpPr/>
          <p:nvPr/>
        </p:nvGrpSpPr>
        <p:grpSpPr>
          <a:xfrm>
            <a:off x="349200" y="838080"/>
            <a:ext cx="2494080" cy="934920"/>
            <a:chOff x="349200" y="838080"/>
            <a:chExt cx="2494080" cy="934920"/>
          </a:xfrm>
        </p:grpSpPr>
        <p:pic>
          <p:nvPicPr>
            <p:cNvPr id="991" name="Picture 14" descr="2006623145155750"/>
            <p:cNvPicPr/>
            <p:nvPr/>
          </p:nvPicPr>
          <p:blipFill>
            <a:blip r:embed="rId2"/>
            <a:srcRect l="3067" t="3455" r="40567" b="41555"/>
            <a:stretch/>
          </p:blipFill>
          <p:spPr>
            <a:xfrm>
              <a:off x="349200" y="901440"/>
              <a:ext cx="1052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Rectangle 15"/>
            <p:cNvSpPr/>
            <p:nvPr/>
          </p:nvSpPr>
          <p:spPr>
            <a:xfrm>
              <a:off x="1401840" y="1485720"/>
              <a:ext cx="1439640" cy="287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63504" dir="19383909" blurRad="0" rotWithShape="0">
                <a:srgbClr val="cc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16"/>
            <p:cNvSpPr/>
            <p:nvPr/>
          </p:nvSpPr>
          <p:spPr>
            <a:xfrm>
              <a:off x="1401840" y="83808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6832" dir="19996359" blurRad="0" rotWithShape="0">
                <a:srgbClr val="cc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  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Text Box 17"/>
          <p:cNvSpPr/>
          <p:nvPr/>
        </p:nvSpPr>
        <p:spPr>
          <a:xfrm>
            <a:off x="395280" y="4005360"/>
            <a:ext cx="820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如图，要使水不落到池外，水池的半径，即要求抛物线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轴右侧的公共点的横坐标。已知喷泉的最高点，故函数可用顶点式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66474E-006 L 0.38594 -5.66474E-006 E">
                                      <p:cBhvr>
                                        <p:cTn id="50" dur="2000" fill="hold"/>
                                        <p:tgtEl>
                                          <p:spTgt spid="9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468360" y="765000"/>
            <a:ext cx="828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解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由题意，设水流路线构成的抛物线为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x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+2.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"/>
          <p:cNvSpPr/>
          <p:nvPr/>
        </p:nvSpPr>
        <p:spPr>
          <a:xfrm>
            <a:off x="971640" y="22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(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.25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在抛物线上，则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1403280" y="2997360"/>
            <a:ext cx="410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1.25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0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+2.2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5"/>
          <p:cNvSpPr/>
          <p:nvPr/>
        </p:nvSpPr>
        <p:spPr>
          <a:xfrm>
            <a:off x="5162400" y="3008160"/>
            <a:ext cx="172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∴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=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6"/>
          <p:cNvSpPr/>
          <p:nvPr/>
        </p:nvSpPr>
        <p:spPr>
          <a:xfrm>
            <a:off x="1116000" y="37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(x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+2.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7"/>
          <p:cNvSpPr/>
          <p:nvPr/>
        </p:nvSpPr>
        <p:spPr>
          <a:xfrm>
            <a:off x="684360" y="4437000"/>
            <a:ext cx="68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y=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时，解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华文细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=-0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华文细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=2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8"/>
          <p:cNvSpPr/>
          <p:nvPr/>
        </p:nvSpPr>
        <p:spPr>
          <a:xfrm>
            <a:off x="1763640" y="5084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&gt;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，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x=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9"/>
          <p:cNvSpPr/>
          <p:nvPr/>
        </p:nvSpPr>
        <p:spPr>
          <a:xfrm>
            <a:off x="1476360" y="56768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水池的半径至少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2.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2" descr="喷泉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124000" y="2997360"/>
            <a:ext cx="4500720" cy="350028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3"/>
          <p:cNvSpPr/>
          <p:nvPr/>
        </p:nvSpPr>
        <p:spPr>
          <a:xfrm>
            <a:off x="468360" y="26028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修建一个圆形喷水池，在池中心竖直安装一根水管，在水管的顶端安一个喷水头，使喷出的抛物线形水柱在与池中心的水平距离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达到最高，高度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柱落地处离池中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水管应多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平面几何--抛物线1"/>
          <p:cNvSpPr/>
          <p:nvPr/>
        </p:nvSpPr>
        <p:spPr>
          <a:xfrm>
            <a:off x="4464000" y="4213080"/>
            <a:ext cx="2158920" cy="16844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684440"/>
              <a:gd name="textAreaBottom" fmla="*/ 1684800 h 1684440"/>
            </a:gdLst>
            <a:ahLst/>
            <a:rect l="textAreaLeft" t="textAreaTop" r="textAreaRight" b="textAreaBottom"/>
            <a:pathLst>
              <a:path w="1360" h="1061">
                <a:moveTo>
                  <a:pt x="1360" y="1061"/>
                </a:moveTo>
                <a:cubicBezTo>
                  <a:pt x="1353" y="1045"/>
                  <a:pt x="1346" y="1027"/>
                  <a:pt x="1338" y="1011"/>
                </a:cubicBezTo>
                <a:cubicBezTo>
                  <a:pt x="1331" y="995"/>
                  <a:pt x="1324" y="979"/>
                  <a:pt x="1317" y="962"/>
                </a:cubicBezTo>
                <a:cubicBezTo>
                  <a:pt x="1310" y="947"/>
                  <a:pt x="1302" y="931"/>
                  <a:pt x="1295" y="915"/>
                </a:cubicBezTo>
                <a:cubicBezTo>
                  <a:pt x="1288" y="900"/>
                  <a:pt x="1281" y="884"/>
                  <a:pt x="1275" y="869"/>
                </a:cubicBezTo>
                <a:cubicBezTo>
                  <a:pt x="1266" y="854"/>
                  <a:pt x="1259" y="839"/>
                  <a:pt x="1253" y="824"/>
                </a:cubicBezTo>
                <a:cubicBezTo>
                  <a:pt x="1246" y="809"/>
                  <a:pt x="1239" y="795"/>
                  <a:pt x="1231" y="780"/>
                </a:cubicBezTo>
                <a:cubicBezTo>
                  <a:pt x="1224" y="766"/>
                  <a:pt x="1217" y="752"/>
                  <a:pt x="1210" y="738"/>
                </a:cubicBezTo>
                <a:cubicBezTo>
                  <a:pt x="1202" y="723"/>
                  <a:pt x="1195" y="710"/>
                  <a:pt x="1188" y="696"/>
                </a:cubicBezTo>
                <a:cubicBezTo>
                  <a:pt x="1181" y="683"/>
                  <a:pt x="1174" y="669"/>
                  <a:pt x="1166" y="656"/>
                </a:cubicBezTo>
                <a:cubicBezTo>
                  <a:pt x="1159" y="643"/>
                  <a:pt x="1152" y="630"/>
                  <a:pt x="1145" y="618"/>
                </a:cubicBezTo>
                <a:cubicBezTo>
                  <a:pt x="1138" y="604"/>
                  <a:pt x="1130" y="592"/>
                  <a:pt x="1123" y="579"/>
                </a:cubicBezTo>
                <a:cubicBezTo>
                  <a:pt x="1116" y="567"/>
                  <a:pt x="1109" y="554"/>
                  <a:pt x="1102" y="543"/>
                </a:cubicBezTo>
                <a:cubicBezTo>
                  <a:pt x="1094" y="531"/>
                  <a:pt x="1087" y="519"/>
                  <a:pt x="1080" y="507"/>
                </a:cubicBezTo>
                <a:cubicBezTo>
                  <a:pt x="1073" y="495"/>
                  <a:pt x="1067" y="484"/>
                  <a:pt x="1058" y="473"/>
                </a:cubicBezTo>
                <a:cubicBezTo>
                  <a:pt x="1052" y="462"/>
                  <a:pt x="1045" y="451"/>
                  <a:pt x="1038" y="440"/>
                </a:cubicBezTo>
                <a:cubicBezTo>
                  <a:pt x="1031" y="429"/>
                  <a:pt x="1023" y="418"/>
                  <a:pt x="1016" y="408"/>
                </a:cubicBezTo>
                <a:cubicBezTo>
                  <a:pt x="1009" y="398"/>
                  <a:pt x="1002" y="388"/>
                  <a:pt x="995" y="378"/>
                </a:cubicBezTo>
                <a:cubicBezTo>
                  <a:pt x="987" y="368"/>
                  <a:pt x="980" y="357"/>
                  <a:pt x="973" y="348"/>
                </a:cubicBezTo>
                <a:cubicBezTo>
                  <a:pt x="966" y="338"/>
                  <a:pt x="958" y="329"/>
                  <a:pt x="951" y="320"/>
                </a:cubicBezTo>
                <a:cubicBezTo>
                  <a:pt x="944" y="311"/>
                  <a:pt x="937" y="302"/>
                  <a:pt x="930" y="292"/>
                </a:cubicBezTo>
                <a:cubicBezTo>
                  <a:pt x="922" y="284"/>
                  <a:pt x="915" y="275"/>
                  <a:pt x="908" y="267"/>
                </a:cubicBezTo>
                <a:cubicBezTo>
                  <a:pt x="901" y="259"/>
                  <a:pt x="894" y="250"/>
                  <a:pt x="886" y="242"/>
                </a:cubicBezTo>
                <a:cubicBezTo>
                  <a:pt x="879" y="234"/>
                  <a:pt x="872" y="226"/>
                  <a:pt x="866" y="219"/>
                </a:cubicBezTo>
                <a:cubicBezTo>
                  <a:pt x="859" y="212"/>
                  <a:pt x="851" y="204"/>
                  <a:pt x="844" y="196"/>
                </a:cubicBezTo>
                <a:cubicBezTo>
                  <a:pt x="837" y="189"/>
                  <a:pt x="830" y="182"/>
                  <a:pt x="823" y="175"/>
                </a:cubicBezTo>
                <a:cubicBezTo>
                  <a:pt x="815" y="169"/>
                  <a:pt x="808" y="162"/>
                  <a:pt x="801" y="156"/>
                </a:cubicBezTo>
                <a:cubicBezTo>
                  <a:pt x="794" y="149"/>
                  <a:pt x="787" y="143"/>
                  <a:pt x="779" y="137"/>
                </a:cubicBezTo>
                <a:cubicBezTo>
                  <a:pt x="772" y="131"/>
                  <a:pt x="765" y="125"/>
                  <a:pt x="758" y="120"/>
                </a:cubicBezTo>
                <a:cubicBezTo>
                  <a:pt x="751" y="114"/>
                  <a:pt x="743" y="108"/>
                  <a:pt x="736" y="103"/>
                </a:cubicBezTo>
                <a:cubicBezTo>
                  <a:pt x="729" y="98"/>
                  <a:pt x="722" y="93"/>
                  <a:pt x="715" y="88"/>
                </a:cubicBezTo>
                <a:cubicBezTo>
                  <a:pt x="707" y="83"/>
                  <a:pt x="700" y="79"/>
                  <a:pt x="693" y="74"/>
                </a:cubicBezTo>
                <a:cubicBezTo>
                  <a:pt x="686" y="70"/>
                  <a:pt x="678" y="65"/>
                  <a:pt x="671" y="62"/>
                </a:cubicBezTo>
                <a:cubicBezTo>
                  <a:pt x="665" y="57"/>
                  <a:pt x="658" y="53"/>
                  <a:pt x="651" y="50"/>
                </a:cubicBezTo>
                <a:cubicBezTo>
                  <a:pt x="643" y="46"/>
                  <a:pt x="636" y="43"/>
                  <a:pt x="629" y="39"/>
                </a:cubicBezTo>
                <a:cubicBezTo>
                  <a:pt x="622" y="36"/>
                  <a:pt x="615" y="34"/>
                  <a:pt x="607" y="30"/>
                </a:cubicBezTo>
                <a:cubicBezTo>
                  <a:pt x="600" y="28"/>
                  <a:pt x="593" y="25"/>
                  <a:pt x="586" y="22"/>
                </a:cubicBezTo>
                <a:cubicBezTo>
                  <a:pt x="579" y="20"/>
                  <a:pt x="571" y="18"/>
                  <a:pt x="564" y="16"/>
                </a:cubicBezTo>
                <a:cubicBezTo>
                  <a:pt x="557" y="14"/>
                  <a:pt x="550" y="12"/>
                  <a:pt x="543" y="10"/>
                </a:cubicBezTo>
                <a:cubicBezTo>
                  <a:pt x="535" y="9"/>
                  <a:pt x="528" y="7"/>
                  <a:pt x="521" y="6"/>
                </a:cubicBezTo>
                <a:cubicBezTo>
                  <a:pt x="514" y="5"/>
                  <a:pt x="507" y="3"/>
                  <a:pt x="499" y="3"/>
                </a:cubicBezTo>
                <a:cubicBezTo>
                  <a:pt x="492" y="2"/>
                  <a:pt x="485" y="1"/>
                  <a:pt x="479" y="1"/>
                </a:cubicBezTo>
                <a:cubicBezTo>
                  <a:pt x="472" y="1"/>
                  <a:pt x="464" y="0"/>
                  <a:pt x="457" y="0"/>
                </a:cubicBezTo>
                <a:cubicBezTo>
                  <a:pt x="450" y="0"/>
                  <a:pt x="443" y="0"/>
                  <a:pt x="435" y="1"/>
                </a:cubicBezTo>
                <a:cubicBezTo>
                  <a:pt x="428" y="1"/>
                  <a:pt x="421" y="1"/>
                  <a:pt x="414" y="2"/>
                </a:cubicBezTo>
                <a:cubicBezTo>
                  <a:pt x="407" y="3"/>
                  <a:pt x="399" y="3"/>
                  <a:pt x="392" y="5"/>
                </a:cubicBezTo>
                <a:cubicBezTo>
                  <a:pt x="385" y="7"/>
                  <a:pt x="378" y="7"/>
                  <a:pt x="371" y="9"/>
                </a:cubicBezTo>
                <a:cubicBezTo>
                  <a:pt x="363" y="11"/>
                  <a:pt x="356" y="12"/>
                  <a:pt x="349" y="14"/>
                </a:cubicBezTo>
                <a:cubicBezTo>
                  <a:pt x="342" y="16"/>
                  <a:pt x="335" y="18"/>
                  <a:pt x="327" y="20"/>
                </a:cubicBezTo>
                <a:cubicBezTo>
                  <a:pt x="320" y="23"/>
                  <a:pt x="313" y="26"/>
                  <a:pt x="306" y="28"/>
                </a:cubicBezTo>
                <a:cubicBezTo>
                  <a:pt x="299" y="31"/>
                  <a:pt x="291" y="34"/>
                  <a:pt x="284" y="37"/>
                </a:cubicBezTo>
                <a:cubicBezTo>
                  <a:pt x="278" y="40"/>
                  <a:pt x="271" y="43"/>
                  <a:pt x="264" y="47"/>
                </a:cubicBezTo>
                <a:cubicBezTo>
                  <a:pt x="256" y="51"/>
                  <a:pt x="249" y="54"/>
                  <a:pt x="242" y="58"/>
                </a:cubicBezTo>
                <a:cubicBezTo>
                  <a:pt x="235" y="62"/>
                  <a:pt x="228" y="66"/>
                  <a:pt x="220" y="70"/>
                </a:cubicBezTo>
                <a:cubicBezTo>
                  <a:pt x="213" y="75"/>
                  <a:pt x="206" y="79"/>
                  <a:pt x="199" y="84"/>
                </a:cubicBezTo>
                <a:cubicBezTo>
                  <a:pt x="191" y="89"/>
                  <a:pt x="184" y="94"/>
                  <a:pt x="177" y="99"/>
                </a:cubicBezTo>
                <a:cubicBezTo>
                  <a:pt x="170" y="104"/>
                  <a:pt x="162" y="109"/>
                  <a:pt x="154" y="115"/>
                </a:cubicBezTo>
                <a:cubicBezTo>
                  <a:pt x="147" y="120"/>
                  <a:pt x="140" y="126"/>
                  <a:pt x="133" y="132"/>
                </a:cubicBezTo>
                <a:cubicBezTo>
                  <a:pt x="126" y="138"/>
                  <a:pt x="118" y="144"/>
                  <a:pt x="111" y="150"/>
                </a:cubicBezTo>
                <a:cubicBezTo>
                  <a:pt x="104" y="156"/>
                  <a:pt x="97" y="164"/>
                  <a:pt x="90" y="170"/>
                </a:cubicBezTo>
                <a:cubicBezTo>
                  <a:pt x="82" y="177"/>
                  <a:pt x="75" y="184"/>
                  <a:pt x="68" y="191"/>
                </a:cubicBezTo>
                <a:cubicBezTo>
                  <a:pt x="61" y="198"/>
                  <a:pt x="55" y="205"/>
                  <a:pt x="46" y="212"/>
                </a:cubicBezTo>
                <a:cubicBezTo>
                  <a:pt x="40" y="220"/>
                  <a:pt x="33" y="228"/>
                  <a:pt x="26" y="236"/>
                </a:cubicBezTo>
                <a:cubicBezTo>
                  <a:pt x="19" y="244"/>
                  <a:pt x="8" y="256"/>
                  <a:pt x="4" y="260"/>
                </a:cubicBezTo>
                <a:cubicBezTo>
                  <a:pt x="0" y="264"/>
                  <a:pt x="2" y="262"/>
                  <a:pt x="1" y="262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5"/>
          <p:cNvGrpSpPr/>
          <p:nvPr/>
        </p:nvGrpSpPr>
        <p:grpSpPr>
          <a:xfrm>
            <a:off x="3851280" y="5868720"/>
            <a:ext cx="3540240" cy="423000"/>
            <a:chOff x="3851280" y="5868720"/>
            <a:chExt cx="3540240" cy="423000"/>
          </a:xfrm>
        </p:grpSpPr>
        <p:sp>
          <p:nvSpPr>
            <p:cNvPr id="1007" name="d82Line 2"/>
            <p:cNvSpPr/>
            <p:nvPr/>
          </p:nvSpPr>
          <p:spPr>
            <a:xfrm>
              <a:off x="3851280" y="5942160"/>
              <a:ext cx="34876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d82Line 4"/>
            <p:cNvSpPr/>
            <p:nvPr/>
          </p:nvSpPr>
          <p:spPr>
            <a:xfrm flipV="1">
              <a:off x="482112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d82Line 5"/>
            <p:cNvSpPr/>
            <p:nvPr/>
          </p:nvSpPr>
          <p:spPr>
            <a:xfrm flipV="1">
              <a:off x="627228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d82Line 6"/>
            <p:cNvSpPr/>
            <p:nvPr/>
          </p:nvSpPr>
          <p:spPr>
            <a:xfrm flipV="1">
              <a:off x="663732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d82Line 7"/>
            <p:cNvSpPr/>
            <p:nvPr/>
          </p:nvSpPr>
          <p:spPr>
            <a:xfrm flipV="1">
              <a:off x="700236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d82Line 10"/>
            <p:cNvSpPr/>
            <p:nvPr/>
          </p:nvSpPr>
          <p:spPr>
            <a:xfrm flipV="1">
              <a:off x="559764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d82Line 11"/>
            <p:cNvSpPr/>
            <p:nvPr/>
          </p:nvSpPr>
          <p:spPr>
            <a:xfrm flipV="1">
              <a:off x="481824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d82Line 12"/>
            <p:cNvSpPr/>
            <p:nvPr/>
          </p:nvSpPr>
          <p:spPr>
            <a:xfrm flipV="1">
              <a:off x="522432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d82Line 14"/>
            <p:cNvSpPr/>
            <p:nvPr/>
          </p:nvSpPr>
          <p:spPr>
            <a:xfrm flipV="1">
              <a:off x="5927760" y="5868720"/>
              <a:ext cx="0" cy="73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d82WordArt 28"/>
            <p:cNvSpPr txBox="1"/>
            <p:nvPr/>
          </p:nvSpPr>
          <p:spPr>
            <a:xfrm>
              <a:off x="7228080" y="6045120"/>
              <a:ext cx="163440" cy="16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x</a:t>
              </a:r>
              <a:endPara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017" name="Text Box 16"/>
            <p:cNvSpPr/>
            <p:nvPr/>
          </p:nvSpPr>
          <p:spPr>
            <a:xfrm>
              <a:off x="5064120" y="589284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17"/>
            <p:cNvSpPr/>
            <p:nvPr/>
          </p:nvSpPr>
          <p:spPr>
            <a:xfrm>
              <a:off x="5784840" y="58914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18"/>
            <p:cNvSpPr/>
            <p:nvPr/>
          </p:nvSpPr>
          <p:spPr>
            <a:xfrm>
              <a:off x="6504120" y="5891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19"/>
          <p:cNvGrpSpPr/>
          <p:nvPr/>
        </p:nvGrpSpPr>
        <p:grpSpPr>
          <a:xfrm>
            <a:off x="4103640" y="3492360"/>
            <a:ext cx="925560" cy="3860640"/>
            <a:chOff x="4103640" y="3492360"/>
            <a:chExt cx="925560" cy="3860640"/>
          </a:xfrm>
        </p:grpSpPr>
        <p:grpSp>
          <p:nvGrpSpPr>
            <p:cNvPr id="1021" name="Group 20"/>
            <p:cNvGrpSpPr/>
            <p:nvPr/>
          </p:nvGrpSpPr>
          <p:grpSpPr>
            <a:xfrm>
              <a:off x="4103640" y="3492360"/>
              <a:ext cx="601560" cy="3860640"/>
              <a:chOff x="4103640" y="3492360"/>
              <a:chExt cx="601560" cy="3860640"/>
            </a:xfrm>
          </p:grpSpPr>
          <p:sp>
            <p:nvSpPr>
              <p:cNvPr id="1022" name="d82Line 3"/>
              <p:cNvSpPr/>
              <p:nvPr/>
            </p:nvSpPr>
            <p:spPr>
              <a:xfrm flipV="1">
                <a:off x="4421160" y="3492360"/>
                <a:ext cx="30240" cy="3860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d82Line 16"/>
              <p:cNvSpPr/>
              <p:nvPr/>
            </p:nvSpPr>
            <p:spPr>
              <a:xfrm>
                <a:off x="4451400" y="474804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d82Line 17"/>
              <p:cNvSpPr/>
              <p:nvPr/>
            </p:nvSpPr>
            <p:spPr>
              <a:xfrm>
                <a:off x="4451400" y="445428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d82Line 18"/>
              <p:cNvSpPr/>
              <p:nvPr/>
            </p:nvSpPr>
            <p:spPr>
              <a:xfrm>
                <a:off x="4451400" y="416196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d82Line 19"/>
              <p:cNvSpPr/>
              <p:nvPr/>
            </p:nvSpPr>
            <p:spPr>
              <a:xfrm>
                <a:off x="4451400" y="386856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d82Line 21"/>
              <p:cNvSpPr/>
              <p:nvPr/>
            </p:nvSpPr>
            <p:spPr>
              <a:xfrm>
                <a:off x="4451400" y="533376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d82Line 22"/>
              <p:cNvSpPr/>
              <p:nvPr/>
            </p:nvSpPr>
            <p:spPr>
              <a:xfrm>
                <a:off x="4451400" y="562752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d82Line 23"/>
              <p:cNvSpPr/>
              <p:nvPr/>
            </p:nvSpPr>
            <p:spPr>
              <a:xfrm>
                <a:off x="4451400" y="591948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d82Line 25"/>
              <p:cNvSpPr/>
              <p:nvPr/>
            </p:nvSpPr>
            <p:spPr>
              <a:xfrm>
                <a:off x="4451400" y="5041440"/>
                <a:ext cx="903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d82WordArt 29"/>
              <p:cNvSpPr txBox="1"/>
              <p:nvPr/>
            </p:nvSpPr>
            <p:spPr>
              <a:xfrm>
                <a:off x="4541760" y="3538080"/>
                <a:ext cx="163440" cy="169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i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1032" name="d82WordArt 120"/>
              <p:cNvSpPr txBox="1"/>
              <p:nvPr/>
            </p:nvSpPr>
            <p:spPr>
              <a:xfrm>
                <a:off x="4103640" y="5992560"/>
                <a:ext cx="217440" cy="23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i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033" name="Text Box 32"/>
            <p:cNvSpPr/>
            <p:nvPr/>
          </p:nvSpPr>
          <p:spPr>
            <a:xfrm>
              <a:off x="4114800" y="51130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33"/>
            <p:cNvSpPr/>
            <p:nvPr/>
          </p:nvSpPr>
          <p:spPr>
            <a:xfrm>
              <a:off x="4157640" y="453672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34"/>
            <p:cNvSpPr/>
            <p:nvPr/>
          </p:nvSpPr>
          <p:spPr>
            <a:xfrm>
              <a:off x="4138560" y="39952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1258920" y="19670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由这段抛物线经过点（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）可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2700360" y="2759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＝</a:t>
            </a:r>
            <a:r>
              <a:rPr b="1" i="1" lang="en-US" sz="3200" spc="-1" strike="noStrike">
                <a:solidFill>
                  <a:srgbClr val="e4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(3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1)</a:t>
            </a:r>
            <a:r>
              <a:rPr b="1" lang="en-US" sz="3200" spc="-1" strike="noStrike" baseline="30000">
                <a:solidFill>
                  <a:srgbClr val="e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1476360" y="35514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解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5"/>
          <p:cNvSpPr/>
          <p:nvPr/>
        </p:nvSpPr>
        <p:spPr>
          <a:xfrm>
            <a:off x="1187280" y="45594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因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6"/>
          <p:cNvSpPr/>
          <p:nvPr/>
        </p:nvSpPr>
        <p:spPr>
          <a:xfrm>
            <a:off x="1187280" y="5638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e4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 = 0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时，</a:t>
            </a:r>
            <a:r>
              <a:rPr b="1" i="1" lang="en-US" sz="3200" spc="-1" strike="noStrike">
                <a:solidFill>
                  <a:srgbClr val="e4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 = 2.25</a:t>
            </a:r>
            <a:r>
              <a:rPr b="1" lang="zh-CN" sz="3200" spc="-1" strike="noStrike">
                <a:solidFill>
                  <a:srgbClr val="e40000"/>
                </a:solidFill>
                <a:latin typeface="Times New Roman"/>
              </a:rPr>
              <a:t>，也就是说，水管应长</a:t>
            </a: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2.25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395280" y="26028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解：如图建立直角坐标系，点（</a:t>
            </a:r>
            <a:r>
              <a:rPr b="1" lang="en-US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）是图中这段抛物线的顶点，因此可设这段抛物线对应的函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0"/>
          <p:cNvSpPr/>
          <p:nvPr/>
        </p:nvSpPr>
        <p:spPr>
          <a:xfrm>
            <a:off x="2376360" y="1341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1"/>
          <p:cNvSpPr/>
          <p:nvPr/>
        </p:nvSpPr>
        <p:spPr>
          <a:xfrm>
            <a:off x="5688000" y="1305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≤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≤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14"/>
          <p:cNvGrpSpPr/>
          <p:nvPr/>
        </p:nvGrpSpPr>
        <p:grpSpPr>
          <a:xfrm>
            <a:off x="2700360" y="3406680"/>
            <a:ext cx="1087920" cy="934560"/>
            <a:chOff x="2700360" y="3406680"/>
            <a:chExt cx="1087920" cy="934560"/>
          </a:xfrm>
        </p:grpSpPr>
        <p:sp>
          <p:nvSpPr>
            <p:cNvPr id="1045" name="AutoShape 13"/>
            <p:cNvSpPr/>
            <p:nvPr/>
          </p:nvSpPr>
          <p:spPr>
            <a:xfrm>
              <a:off x="2700360" y="3406680"/>
              <a:ext cx="10836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15"/>
            <p:cNvSpPr/>
            <p:nvPr/>
          </p:nvSpPr>
          <p:spPr>
            <a:xfrm>
              <a:off x="3516840" y="3852720"/>
              <a:ext cx="205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16"/>
            <p:cNvSpPr/>
            <p:nvPr/>
          </p:nvSpPr>
          <p:spPr>
            <a:xfrm>
              <a:off x="3603240" y="38991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17"/>
            <p:cNvSpPr/>
            <p:nvPr/>
          </p:nvSpPr>
          <p:spPr>
            <a:xfrm>
              <a:off x="3603240" y="342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8"/>
            <p:cNvSpPr/>
            <p:nvPr/>
          </p:nvSpPr>
          <p:spPr>
            <a:xfrm>
              <a:off x="3413520" y="3600360"/>
              <a:ext cx="1227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9"/>
            <p:cNvSpPr/>
            <p:nvPr/>
          </p:nvSpPr>
          <p:spPr>
            <a:xfrm>
              <a:off x="3061080" y="36003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20"/>
            <p:cNvSpPr/>
            <p:nvPr/>
          </p:nvSpPr>
          <p:spPr>
            <a:xfrm>
              <a:off x="2816280" y="36381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22"/>
          <p:cNvGrpSpPr/>
          <p:nvPr/>
        </p:nvGrpSpPr>
        <p:grpSpPr>
          <a:xfrm>
            <a:off x="2340000" y="4365720"/>
            <a:ext cx="5034960" cy="1062360"/>
            <a:chOff x="2340000" y="4365720"/>
            <a:chExt cx="5034960" cy="1062360"/>
          </a:xfrm>
        </p:grpSpPr>
        <p:sp>
          <p:nvSpPr>
            <p:cNvPr id="1053" name="AutoShape 21"/>
            <p:cNvSpPr/>
            <p:nvPr/>
          </p:nvSpPr>
          <p:spPr>
            <a:xfrm>
              <a:off x="2340000" y="4365720"/>
              <a:ext cx="4902840" cy="9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23"/>
            <p:cNvSpPr/>
            <p:nvPr/>
          </p:nvSpPr>
          <p:spPr>
            <a:xfrm>
              <a:off x="3306600" y="4871160"/>
              <a:ext cx="24048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4"/>
            <p:cNvSpPr/>
            <p:nvPr/>
          </p:nvSpPr>
          <p:spPr>
            <a:xfrm>
              <a:off x="3684600" y="4460040"/>
              <a:ext cx="212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25"/>
            <p:cNvSpPr/>
            <p:nvPr/>
          </p:nvSpPr>
          <p:spPr>
            <a:xfrm>
              <a:off x="4497840" y="4460040"/>
              <a:ext cx="212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26"/>
            <p:cNvSpPr/>
            <p:nvPr/>
          </p:nvSpPr>
          <p:spPr>
            <a:xfrm>
              <a:off x="5671800" y="4460040"/>
              <a:ext cx="212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7"/>
            <p:cNvSpPr/>
            <p:nvPr/>
          </p:nvSpPr>
          <p:spPr>
            <a:xfrm>
              <a:off x="7162560" y="4460040"/>
              <a:ext cx="212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28"/>
            <p:cNvSpPr/>
            <p:nvPr/>
          </p:nvSpPr>
          <p:spPr>
            <a:xfrm>
              <a:off x="6962760" y="462780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29"/>
            <p:cNvSpPr/>
            <p:nvPr/>
          </p:nvSpPr>
          <p:spPr>
            <a:xfrm>
              <a:off x="5788800" y="462780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30"/>
            <p:cNvSpPr/>
            <p:nvPr/>
          </p:nvSpPr>
          <p:spPr>
            <a:xfrm>
              <a:off x="5280840" y="4627800"/>
              <a:ext cx="421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31"/>
            <p:cNvSpPr/>
            <p:nvPr/>
          </p:nvSpPr>
          <p:spPr>
            <a:xfrm>
              <a:off x="5118840" y="462780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32"/>
            <p:cNvSpPr/>
            <p:nvPr/>
          </p:nvSpPr>
          <p:spPr>
            <a:xfrm>
              <a:off x="4318200" y="462780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33"/>
            <p:cNvSpPr/>
            <p:nvPr/>
          </p:nvSpPr>
          <p:spPr>
            <a:xfrm>
              <a:off x="3410280" y="492516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34"/>
            <p:cNvSpPr/>
            <p:nvPr/>
          </p:nvSpPr>
          <p:spPr>
            <a:xfrm>
              <a:off x="3410280" y="438876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35"/>
            <p:cNvSpPr/>
            <p:nvPr/>
          </p:nvSpPr>
          <p:spPr>
            <a:xfrm>
              <a:off x="4583880" y="4571280"/>
              <a:ext cx="120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36"/>
            <p:cNvSpPr/>
            <p:nvPr/>
          </p:nvSpPr>
          <p:spPr>
            <a:xfrm>
              <a:off x="6651720" y="458388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37"/>
            <p:cNvSpPr/>
            <p:nvPr/>
          </p:nvSpPr>
          <p:spPr>
            <a:xfrm>
              <a:off x="6056280" y="458388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38"/>
            <p:cNvSpPr/>
            <p:nvPr/>
          </p:nvSpPr>
          <p:spPr>
            <a:xfrm>
              <a:off x="4871160" y="4583880"/>
              <a:ext cx="246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39"/>
            <p:cNvSpPr/>
            <p:nvPr/>
          </p:nvSpPr>
          <p:spPr>
            <a:xfrm>
              <a:off x="4160520" y="458388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40"/>
            <p:cNvSpPr/>
            <p:nvPr/>
          </p:nvSpPr>
          <p:spPr>
            <a:xfrm>
              <a:off x="3187440" y="4583880"/>
              <a:ext cx="1393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41"/>
            <p:cNvSpPr/>
            <p:nvPr/>
          </p:nvSpPr>
          <p:spPr>
            <a:xfrm>
              <a:off x="2779200" y="4583880"/>
              <a:ext cx="3344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42"/>
            <p:cNvSpPr/>
            <p:nvPr/>
          </p:nvSpPr>
          <p:spPr>
            <a:xfrm>
              <a:off x="6398640" y="4627800"/>
              <a:ext cx="186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43"/>
            <p:cNvSpPr/>
            <p:nvPr/>
          </p:nvSpPr>
          <p:spPr>
            <a:xfrm>
              <a:off x="3828600" y="4627800"/>
              <a:ext cx="186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44"/>
            <p:cNvSpPr/>
            <p:nvPr/>
          </p:nvSpPr>
          <p:spPr>
            <a:xfrm>
              <a:off x="2514240" y="4627800"/>
              <a:ext cx="186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3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2" descr="喷泉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549440" y="3701880"/>
            <a:ext cx="5338800" cy="2779920"/>
          </a:xfrm>
          <a:prstGeom prst="rect">
            <a:avLst/>
          </a:prstGeom>
          <a:ln w="0">
            <a:noFill/>
          </a:ln>
        </p:spPr>
      </p:pic>
      <p:grpSp>
        <p:nvGrpSpPr>
          <p:cNvPr id="1077" name="Group 3"/>
          <p:cNvGrpSpPr/>
          <p:nvPr/>
        </p:nvGrpSpPr>
        <p:grpSpPr>
          <a:xfrm>
            <a:off x="1619280" y="3579840"/>
            <a:ext cx="5486040" cy="3277800"/>
            <a:chOff x="1619280" y="3579840"/>
            <a:chExt cx="5486040" cy="3277800"/>
          </a:xfrm>
        </p:grpSpPr>
        <p:sp>
          <p:nvSpPr>
            <p:cNvPr id="1078" name="Line 4"/>
            <p:cNvSpPr/>
            <p:nvPr/>
          </p:nvSpPr>
          <p:spPr>
            <a:xfrm>
              <a:off x="1619280" y="6223680"/>
              <a:ext cx="548604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5"/>
            <p:cNvSpPr/>
            <p:nvPr/>
          </p:nvSpPr>
          <p:spPr>
            <a:xfrm>
              <a:off x="4294440" y="3579840"/>
              <a:ext cx="0" cy="32778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"/>
            <p:cNvSpPr/>
            <p:nvPr/>
          </p:nvSpPr>
          <p:spPr>
            <a:xfrm>
              <a:off x="4294440" y="4568400"/>
              <a:ext cx="2140920" cy="1655280"/>
            </a:xfrm>
            <a:custGeom>
              <a:avLst/>
              <a:gdLst>
                <a:gd name="textAreaLeft" fmla="*/ 0 w 2140920"/>
                <a:gd name="textAreaRight" fmla="*/ 2141280 w 214092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726" h="710">
                  <a:moveTo>
                    <a:pt x="726" y="710"/>
                  </a:moveTo>
                  <a:cubicBezTo>
                    <a:pt x="605" y="430"/>
                    <a:pt x="484" y="150"/>
                    <a:pt x="363" y="75"/>
                  </a:cubicBezTo>
                  <a:cubicBezTo>
                    <a:pt x="242" y="0"/>
                    <a:pt x="60" y="227"/>
                    <a:pt x="0" y="257"/>
                  </a:cubicBez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7"/>
          <p:cNvGrpSpPr/>
          <p:nvPr/>
        </p:nvGrpSpPr>
        <p:grpSpPr>
          <a:xfrm>
            <a:off x="4030560" y="3840120"/>
            <a:ext cx="3130200" cy="2837160"/>
            <a:chOff x="4030560" y="3840120"/>
            <a:chExt cx="3130200" cy="2837160"/>
          </a:xfrm>
        </p:grpSpPr>
        <p:sp>
          <p:nvSpPr>
            <p:cNvPr id="1082" name="Text Box 8"/>
            <p:cNvSpPr/>
            <p:nvPr/>
          </p:nvSpPr>
          <p:spPr>
            <a:xfrm>
              <a:off x="4030560" y="3840120"/>
              <a:ext cx="31302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A(0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，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1.2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O                                             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9"/>
            <p:cNvSpPr/>
            <p:nvPr/>
          </p:nvSpPr>
          <p:spPr>
            <a:xfrm>
              <a:off x="4931280" y="4524480"/>
              <a:ext cx="1352520" cy="82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B(1,2.25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10"/>
            <p:cNvSpPr/>
            <p:nvPr/>
          </p:nvSpPr>
          <p:spPr>
            <a:xfrm>
              <a:off x="4521600" y="4308840"/>
              <a:ext cx="11527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Text Box 11"/>
          <p:cNvSpPr/>
          <p:nvPr/>
        </p:nvSpPr>
        <p:spPr>
          <a:xfrm>
            <a:off x="287280" y="40464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是某公园一圆形喷水池，水流在各方向沿形状相同的抛物线落下，如果喷头所在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水流路线最高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则该抛物线的解析式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果不考虑其他因素，那么水池的半径至少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，才能使喷出的水流不致落到池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4706280" y="1808280"/>
            <a:ext cx="31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=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x-1)</a:t>
            </a:r>
            <a:r>
              <a:rPr b="1" lang="en-US" sz="3200" spc="-1" strike="noStrike" baseline="38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+2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503640" y="281628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2:32:03Z</dcterms:created>
  <dc:creator/>
  <dc:description/>
  <dc:language>en-US</dc:language>
  <cp:lastModifiedBy>Administrator</cp:lastModifiedBy>
  <dcterms:modified xsi:type="dcterms:W3CDTF">2018-03-19T07:45:07Z</dcterms:modified>
  <cp:revision>172</cp:revision>
  <dc:subject/>
  <dc:title/>
</cp:coreProperties>
</file>