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4.jpeg" ContentType="image/jpeg"/>
  <Override PartName="/ppt/media/image16.wmf" ContentType="image/x-wmf"/>
  <Override PartName="/ppt/media/chimes.wav" ContentType="audio/x-wav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8B2-8C83-43F0-8746-E16B387F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26C-196A-46FF-B951-4ED68091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3B0-0C92-438E-B630-C65F099D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2A96-D8BE-4479-A189-30258AEB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456-0048-4B2E-9CB3-6AD47BC7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A3F-0484-4623-933F-5A110D3E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921-23FF-4CBC-AA35-EE948944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DE4-4160-4234-87A0-C8561485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4F2-C4A9-48B2-A55F-5AF21C0B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558-0D1D-442D-B8A9-3F09F066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1F6-D87A-4B28-B47D-3D244BB5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AAB-0DF0-4E4E-B3B5-D7C77A35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A343-D668-4B57-A3AB-D21A9FE889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3"/>
          <p:cNvSpPr/>
          <p:nvPr/>
        </p:nvSpPr>
        <p:spPr>
          <a:xfrm>
            <a:off x="522360" y="412920"/>
            <a:ext cx="438120" cy="474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90504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5"/>
          <p:cNvSpPr/>
          <p:nvPr/>
        </p:nvSpPr>
        <p:spPr>
          <a:xfrm>
            <a:off x="646200" y="835200"/>
            <a:ext cx="422280" cy="47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6"/>
          <p:cNvSpPr/>
          <p:nvPr/>
        </p:nvSpPr>
        <p:spPr>
          <a:xfrm>
            <a:off x="101592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3184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8"/>
          <p:cNvSpPr/>
          <p:nvPr/>
        </p:nvSpPr>
        <p:spPr>
          <a:xfrm>
            <a:off x="536400" y="1035000"/>
            <a:ext cx="8226720" cy="46080"/>
          </a:xfrm>
          <a:prstGeom prst="rect">
            <a:avLst/>
          </a:prstGeom>
          <a:gradFill rotWithShape="0">
            <a:gsLst>
              <a:gs pos="0">
                <a:srgbClr val="000058"/>
              </a:gs>
              <a:gs pos="100000">
                <a:srgbClr val="fdd7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9"/>
          <p:cNvSpPr/>
          <p:nvPr/>
        </p:nvSpPr>
        <p:spPr>
          <a:xfrm>
            <a:off x="885960" y="304920"/>
            <a:ext cx="31680" cy="10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457200" y="2428920"/>
            <a:ext cx="8686800" cy="14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实际问题与一元二次方程（一）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1638360" y="1413000"/>
                <a:ext cx="5359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设每台冰箱降价</m:t>
                    </m:r>
                    <m:r>
                      <m:t xml:space="preserve">x元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根据题意</m:t>
                    </m:r>
                    <m:r>
                      <m:t xml:space="preserve">,</m:t>
                    </m:r>
                    <m:r>
                      <m:t xml:space="preserve">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2214720" y="1844640"/>
                <a:ext cx="5021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00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0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2286000" y="2637000"/>
                <a:ext cx="4114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整理得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50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2359080" y="3213000"/>
                <a:ext cx="22273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这个方程</m:t>
                    </m:r>
                    <m:r>
                      <m:t xml:space="preserve">,</m:t>
                    </m:r>
                    <m:r>
                      <m:t xml:space="preserve">得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6"/>
          <p:cNvGraphicFramePr/>
          <p:nvPr/>
        </p:nvGraphicFramePr>
        <p:xfrm>
          <a:off x="4734000" y="3213000"/>
          <a:ext cx="189072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4000" y="3213000"/>
                    <a:ext cx="189072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2430360" y="3860640"/>
                <a:ext cx="440064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2900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1998720" y="4508640"/>
                <a:ext cx="4708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答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每台冰箱的定价应为</m:t>
                    </m:r>
                    <m:r>
                      <m:rPr>
                        <m:lit/>
                        <m:nor/>
                      </m:rPr>
                      <m:t xml:space="preserve">2750</m:t>
                    </m:r>
                    <m:r>
                      <m:t xml:space="preserve">元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r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6858000" y="838080"/>
            <a:ext cx="160020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宋体"/>
              </a:rPr>
              <a:t>应用拓展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8900000"/>
              </a:gradFill>
              <a:latin typeface="宋体"/>
              <a:ea typeface="宋体"/>
            </a:endParaRPr>
          </a:p>
        </p:txBody>
      </p:sp>
      <p:sp>
        <p:nvSpPr>
          <p:cNvPr id="161" name="AutoShape 28">
            <a:hlinkClick r:id="" action="ppaction://hlinkshowjump?jump=firstslide"/>
          </p:cNvPr>
          <p:cNvSpPr/>
          <p:nvPr/>
        </p:nvSpPr>
        <p:spPr>
          <a:xfrm>
            <a:off x="6943680" y="6497640"/>
            <a:ext cx="7192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首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0">
            <a:hlinkClick r:id="" action="ppaction://hlinkshowjump?jump=nextslide"/>
          </p:cNvPr>
          <p:cNvSpPr/>
          <p:nvPr/>
        </p:nvSpPr>
        <p:spPr>
          <a:xfrm>
            <a:off x="8424720" y="6499080"/>
            <a:ext cx="71928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下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1">
            <a:hlinkClick r:id="" action="ppaction://hlinkshowjump?jump=previousslide"/>
          </p:cNvPr>
          <p:cNvSpPr/>
          <p:nvPr/>
        </p:nvSpPr>
        <p:spPr>
          <a:xfrm>
            <a:off x="7686720" y="6499080"/>
            <a:ext cx="71892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上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2036160" y="1268280"/>
            <a:ext cx="503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参加足球联赛的每两队之间都进行了两次比赛（双循环比赛），共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比赛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场，共有多少个队参加了比赛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学校组织了一次篮球单循环比赛（每两队之间都进行了一次比赛）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共进行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场比赛，那么有几个球队参加了这次比赛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1787040" y="2637000"/>
            <a:ext cx="547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宋体"/>
              </a:rPr>
              <a:t>分析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3333ff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3333ff"/>
                </a:solidFill>
                <a:latin typeface="宋体"/>
              </a:rPr>
              <a:t>） 两题中有哪些数量关系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3333ff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3333ff"/>
                </a:solidFill>
                <a:latin typeface="宋体"/>
              </a:rPr>
              <a:t>）由这些数量关系还能得到什么新的结论？你想如何利用这些数量关系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3333ff"/>
                </a:solidFill>
                <a:latin typeface="宋体"/>
              </a:rPr>
              <a:t>为什么？如何列方程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3333ff"/>
                </a:solidFill>
                <a:latin typeface="宋体"/>
              </a:rPr>
              <a:t>）对比两题，它们有什么联系与区别？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9"/>
          <p:cNvSpPr/>
          <p:nvPr/>
        </p:nvSpPr>
        <p:spPr>
          <a:xfrm>
            <a:off x="200520" y="4581360"/>
            <a:ext cx="40438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：设共有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队参加了比赛，则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(x-1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)=9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得：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-9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舍），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1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答：共有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队参加了比赛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0"/>
          <p:cNvSpPr/>
          <p:nvPr/>
        </p:nvSpPr>
        <p:spPr>
          <a:xfrm>
            <a:off x="5001120" y="4581360"/>
            <a:ext cx="39056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：设共有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队参加了比赛，则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i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1)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÷2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得：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-5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舍），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6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答：共有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队参加了比赛</a:t>
            </a:r>
            <a:r>
              <a:rPr b="1" lang="en-US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274760" y="260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复习引入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79280" y="1484280"/>
            <a:ext cx="867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直角三角形的面积公式是什么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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般三角形的面积公式是什么呢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正方形的面积公式是什么呢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长方形的面积公式又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梯形的面积公式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菱形的面积公式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平行四边形的面积公式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圆的面积公式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539640" y="1052640"/>
            <a:ext cx="8064720" cy="25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826920" y="1076400"/>
            <a:ext cx="55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如图，要设计一本书的封面，封面长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27cm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，宽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21cm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，正中央是一个与整个封面长宽比例相同的矩形．如果要使四周的彩色边衬所占面积是封面面积的四分之一，上、下边衬等宽，左、右边衬等宽，应如何设计四周边衬的宽度（精确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0.1cm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）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396720" y="0"/>
            <a:ext cx="4895280" cy="980640"/>
            <a:chOff x="396720" y="0"/>
            <a:chExt cx="4895280" cy="980640"/>
          </a:xfrm>
        </p:grpSpPr>
        <p:sp>
          <p:nvSpPr>
            <p:cNvPr id="173" name="AutoShape 5"/>
            <p:cNvSpPr/>
            <p:nvPr/>
          </p:nvSpPr>
          <p:spPr>
            <a:xfrm rot="10800000">
              <a:off x="1041840" y="560520"/>
              <a:ext cx="2498760" cy="419760"/>
            </a:xfrm>
            <a:prstGeom prst="triangle">
              <a:avLst>
                <a:gd name="adj" fmla="val 50000"/>
              </a:avLst>
            </a:prstGeom>
            <a:solidFill>
              <a:srgbClr val="f4fda1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 rot="16200000">
              <a:off x="1191600" y="-379080"/>
              <a:ext cx="350640" cy="1940400"/>
            </a:xfrm>
            <a:custGeom>
              <a:avLst/>
              <a:gdLst>
                <a:gd name="textAreaLeft" fmla="*/ 46800 w 350640"/>
                <a:gd name="textAreaRight" fmla="*/ 303840 w 350640"/>
                <a:gd name="textAreaTop" fmla="*/ 339480 h 1940400"/>
                <a:gd name="textAreaBottom" fmla="*/ 1406880 h 194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7"/>
            <p:cNvSpPr/>
            <p:nvPr/>
          </p:nvSpPr>
          <p:spPr>
            <a:xfrm rot="16200000">
              <a:off x="1676520" y="-424080"/>
              <a:ext cx="209520" cy="1478160"/>
            </a:xfrm>
            <a:custGeom>
              <a:avLst/>
              <a:gdLst>
                <a:gd name="textAreaLeft" fmla="*/ 28080 w 209520"/>
                <a:gd name="textAreaRight" fmla="*/ 181440 w 209520"/>
                <a:gd name="textAreaTop" fmla="*/ 258480 h 1478160"/>
                <a:gd name="textAreaBottom" fmla="*/ 1071720 h 147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utoShape 8"/>
            <p:cNvSpPr/>
            <p:nvPr/>
          </p:nvSpPr>
          <p:spPr>
            <a:xfrm rot="16200000">
              <a:off x="2214360" y="-530280"/>
              <a:ext cx="140400" cy="1201680"/>
            </a:xfrm>
            <a:custGeom>
              <a:avLst/>
              <a:gdLst>
                <a:gd name="textAreaLeft" fmla="*/ 18720 w 140400"/>
                <a:gd name="textAreaRight" fmla="*/ 121680 w 140400"/>
                <a:gd name="textAreaTop" fmla="*/ 185400 h 1201680"/>
                <a:gd name="textAreaBottom" fmla="*/ 896040 h 12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6671" stAng="-5400000" swAng="5400000"/>
                  <a:lnTo>
                    <a:pt x="21600" y="12769"/>
                  </a:lnTo>
                  <a:arcTo wR="21600" hR="6671" stAng="0" swAng="2468308"/>
                  <a:lnTo>
                    <a:pt x="7200" y="21218"/>
                  </a:lnTo>
                  <a:lnTo>
                    <a:pt x="0" y="16391"/>
                  </a:lnTo>
                  <a:lnTo>
                    <a:pt x="7200" y="10800"/>
                  </a:lnTo>
                  <a:lnTo>
                    <a:pt x="7200" y="12960"/>
                  </a:lnTo>
                  <a:arcTo wR="21600" hR="6671" stAng="2468308" swAng="-1927237"/>
                  <a:lnTo>
                    <a:pt x="19212" y="9720"/>
                  </a:lnTo>
                  <a:arcTo wR="21600" hR="6671" stAng="-541071" swAng="-4858929"/>
                  <a:close/>
                </a:path>
                <a:path fill="darkenLess" w="21600" h="21600">
                  <a:moveTo>
                    <a:pt x="0" y="0"/>
                  </a:moveTo>
                  <a:arcTo wR="21600" hR="6671" stAng="-5400000" swAng="5400000"/>
                  <a:lnTo>
                    <a:pt x="21600" y="12769"/>
                  </a:lnTo>
                  <a:arcTo wR="21600" hR="6671" stAng="0" swAng="-541071"/>
                  <a:lnTo>
                    <a:pt x="19212" y="9720"/>
                  </a:lnTo>
                  <a:arcTo wR="21600" hR="6671" stAng="-541071" swAng="-4858929"/>
                  <a:close/>
                </a:path>
              </a:pathLst>
            </a:custGeom>
            <a:solidFill>
              <a:srgbClr val="b9e5d4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1966680" y="0"/>
              <a:ext cx="332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4184640" y="51120"/>
              <a:ext cx="8330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Text Box 11"/>
          <p:cNvSpPr/>
          <p:nvPr/>
        </p:nvSpPr>
        <p:spPr>
          <a:xfrm>
            <a:off x="468360" y="3860640"/>
            <a:ext cx="79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分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封面的长宽之比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中央矩形的长宽之比也应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由此判断上下边衬与左右边衬的宽度之比也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上、下边衬的宽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左、右边衬的宽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中央矩形的长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宽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3203640" y="3789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617920" y="424656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475000" y="458136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3108960" y="55180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7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755640" y="58053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1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7" descr="pic_219823"/>
          <p:cNvPicPr/>
          <p:nvPr/>
        </p:nvPicPr>
        <p:blipFill>
          <a:blip r:embed="rId1"/>
          <a:stretch/>
        </p:blipFill>
        <p:spPr>
          <a:xfrm>
            <a:off x="6696000" y="793800"/>
            <a:ext cx="1822680" cy="2305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8"/>
          <p:cNvSpPr/>
          <p:nvPr/>
        </p:nvSpPr>
        <p:spPr>
          <a:xfrm>
            <a:off x="3708360" y="333360"/>
            <a:ext cx="19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探究 </a:t>
            </a:r>
            <a:r>
              <a:rPr b="1" i="1" lang="zh-CN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318040" y="1628640"/>
            <a:ext cx="365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使四周的彩色边衬所占面积是封面面积的四分之一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中央矩形的面积是封面面积的四分之三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1476360" y="3284640"/>
          <a:ext cx="441468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441468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4"/>
          <p:cNvSpPr/>
          <p:nvPr/>
        </p:nvSpPr>
        <p:spPr>
          <a:xfrm>
            <a:off x="1108440" y="2852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于是可列出方程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365120" y="4292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下面我们来解这个方程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403280" y="4941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整理，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7"/>
          <p:cNvGraphicFramePr/>
          <p:nvPr/>
        </p:nvGraphicFramePr>
        <p:xfrm>
          <a:off x="1908000" y="5518080"/>
          <a:ext cx="331488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5518080"/>
                    <a:ext cx="33148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-320760" y="1701720"/>
            <a:ext cx="42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方程，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1260360" y="2421000"/>
          <a:ext cx="187164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421000"/>
                    <a:ext cx="187164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4"/>
          <p:cNvSpPr/>
          <p:nvPr/>
        </p:nvSpPr>
        <p:spPr>
          <a:xfrm>
            <a:off x="-249120" y="5157720"/>
            <a:ext cx="618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、下边衬的宽均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左、右边衬的宽均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c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4859280" y="907920"/>
            <a:ext cx="3600360" cy="2233800"/>
          </a:xfrm>
          <a:prstGeom prst="cloudCallout">
            <a:avLst>
              <a:gd name="adj1" fmla="val -51277"/>
              <a:gd name="adj2" fmla="val 8056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方程的哪个根合乎实际意义？为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203640" y="5084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约为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80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203640" y="57340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约为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.40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8"/>
          <p:cNvGraphicFramePr/>
          <p:nvPr/>
        </p:nvGraphicFramePr>
        <p:xfrm>
          <a:off x="396720" y="3718080"/>
          <a:ext cx="6912000" cy="113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720" y="3718080"/>
                    <a:ext cx="691200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9"/>
          <p:cNvSpPr/>
          <p:nvPr/>
        </p:nvSpPr>
        <p:spPr>
          <a:xfrm>
            <a:off x="6084720" y="4724280"/>
            <a:ext cx="2557800" cy="15969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合乎实际意义，如果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约等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79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那么上边宽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2.79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.191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002960" y="76212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80920" y="858960"/>
            <a:ext cx="50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在长方形钢片上冲去一个长方形，制成一个四周宽相等的长方形框。已知长方形钢片的长为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30cm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，宽为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20cm,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要使制成的长方形框的面积为</a:t>
            </a:r>
            <a:r>
              <a:rPr b="0" lang="en-US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400c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，求这个长方形框的框边宽。</a:t>
            </a: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1744560" y="3187800"/>
            <a:ext cx="64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解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设长方形框的边宽为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cm,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依题意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2421000" y="3716280"/>
            <a:ext cx="44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0×20–(30–2x)(20–2x)=4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9"/>
          <p:cNvSpPr/>
          <p:nvPr/>
        </p:nvSpPr>
        <p:spPr>
          <a:xfrm>
            <a:off x="2116080" y="4219560"/>
            <a:ext cx="37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整理得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– 25+100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2684520" y="4724280"/>
            <a:ext cx="296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得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20,  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1584360" y="530064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当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=20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时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20-2x= -20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舍去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当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=5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时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20-2x=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2050920" y="58514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答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这个长方形框的框边宽为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c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33" descr="图片1"/>
          <p:cNvPicPr/>
          <p:nvPr/>
        </p:nvPicPr>
        <p:blipFill>
          <a:blip r:embed="rId1"/>
          <a:stretch/>
        </p:blipFill>
        <p:spPr>
          <a:xfrm>
            <a:off x="5869080" y="907920"/>
            <a:ext cx="2735280" cy="201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98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20cm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长的铁丝能否折成面积为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30cm</a:t>
            </a:r>
            <a:r>
              <a:rPr b="0" lang="zh-CN" sz="3600" spc="-1" strike="noStrike" baseline="30000">
                <a:solidFill>
                  <a:srgbClr val="0000ff"/>
                </a:solidFill>
                <a:latin typeface="Times New Roman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的矩形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若能够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求它的长与宽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若不能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请说明理由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50920" y="263700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设这个矩形的长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则宽为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6445080" y="2349360"/>
                <a:ext cx="15814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1332000" y="3068640"/>
                <a:ext cx="2746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Text Box 6"/>
          <p:cNvSpPr/>
          <p:nvPr/>
        </p:nvSpPr>
        <p:spPr>
          <a:xfrm>
            <a:off x="4140360" y="335772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4788000" y="3429000"/>
            <a:ext cx="38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539640" y="4149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里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0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0" y="4653000"/>
                <a:ext cx="73594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/>
                        </m:sSup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/>
                        </m:sSup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Text Box 10"/>
          <p:cNvSpPr/>
          <p:nvPr/>
        </p:nvSpPr>
        <p:spPr>
          <a:xfrm>
            <a:off x="0" y="5445000"/>
            <a:ext cx="54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此方程无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0" y="602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c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长的铁丝不能折成面积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矩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2" descr="应用"/>
          <p:cNvPicPr/>
          <p:nvPr/>
        </p:nvPicPr>
        <p:blipFill>
          <a:blip r:embed="rId1"/>
          <a:stretch/>
        </p:blipFill>
        <p:spPr>
          <a:xfrm>
            <a:off x="1042920" y="260280"/>
            <a:ext cx="1008000" cy="560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-33480" y="907920"/>
            <a:ext cx="883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长方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5m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0m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周外围环绕着宽度相等的小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已知小路的面积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6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求小路的宽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5580000" y="3645000"/>
            <a:ext cx="3525840" cy="1980360"/>
            <a:chOff x="5580000" y="3645000"/>
            <a:chExt cx="3525840" cy="198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5608440" y="3723840"/>
              <a:ext cx="2808360" cy="1800000"/>
              <a:chOff x="5608440" y="3723840"/>
              <a:chExt cx="2808360" cy="180000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5608440" y="3723840"/>
                <a:ext cx="2808360" cy="1800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6"/>
              <p:cNvSpPr/>
              <p:nvPr/>
            </p:nvSpPr>
            <p:spPr>
              <a:xfrm>
                <a:off x="5840280" y="3907800"/>
                <a:ext cx="2340000" cy="143928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Text Box 7"/>
            <p:cNvSpPr/>
            <p:nvPr/>
          </p:nvSpPr>
          <p:spPr>
            <a:xfrm>
              <a:off x="5586480" y="364500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5580000" y="516564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9"/>
            <p:cNvSpPr/>
            <p:nvPr/>
          </p:nvSpPr>
          <p:spPr>
            <a:xfrm>
              <a:off x="8078760" y="516384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0"/>
            <p:cNvSpPr/>
            <p:nvPr/>
          </p:nvSpPr>
          <p:spPr>
            <a:xfrm>
              <a:off x="8078760" y="3652560"/>
              <a:ext cx="102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Text Box 11"/>
          <p:cNvSpPr/>
          <p:nvPr/>
        </p:nvSpPr>
        <p:spPr>
          <a:xfrm>
            <a:off x="-609480" y="2637000"/>
            <a:ext cx="44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解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设小路宽为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348000" y="26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3"/>
              <p:cNvSpPr txBox="1"/>
              <p:nvPr/>
            </p:nvSpPr>
            <p:spPr>
              <a:xfrm>
                <a:off x="108000" y="3141720"/>
                <a:ext cx="58150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Text Box 14"/>
          <p:cNvSpPr/>
          <p:nvPr/>
        </p:nvSpPr>
        <p:spPr>
          <a:xfrm>
            <a:off x="-174600" y="3789360"/>
            <a:ext cx="194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化简得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15"/>
              <p:cNvSpPr txBox="1"/>
              <p:nvPr/>
            </p:nvSpPr>
            <p:spPr>
              <a:xfrm>
                <a:off x="1476360" y="3645000"/>
                <a:ext cx="38876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/>
                        </m:sSup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511200" y="4486320"/>
                <a:ext cx="4060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7"/>
              <p:cNvSpPr txBox="1"/>
              <p:nvPr/>
            </p:nvSpPr>
            <p:spPr>
              <a:xfrm>
                <a:off x="252360" y="4941720"/>
                <a:ext cx="412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舍去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8"/>
          <p:cNvSpPr/>
          <p:nvPr/>
        </p:nvSpPr>
        <p:spPr>
          <a:xfrm>
            <a:off x="-536400" y="5950080"/>
            <a:ext cx="80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路的宽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79280" y="9079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是宽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长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米的矩形耕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修筑同样宽的三条道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条纵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横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且互相垂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耕地分成六块大小相等的试验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使试验地的面积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7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平方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道路宽为多少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79280" y="278136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解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设道路宽为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x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米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5796000" y="3860640"/>
            <a:ext cx="3186000" cy="1584360"/>
            <a:chOff x="5796000" y="3860640"/>
            <a:chExt cx="3186000" cy="1584360"/>
          </a:xfrm>
        </p:grpSpPr>
        <p:sp>
          <p:nvSpPr>
            <p:cNvPr id="245" name="Rectangle 5"/>
            <p:cNvSpPr/>
            <p:nvPr/>
          </p:nvSpPr>
          <p:spPr>
            <a:xfrm>
              <a:off x="5796000" y="3860640"/>
              <a:ext cx="3168720" cy="1584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>
              <a:off x="5796000" y="3870000"/>
              <a:ext cx="954000" cy="684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7"/>
            <p:cNvSpPr/>
            <p:nvPr/>
          </p:nvSpPr>
          <p:spPr>
            <a:xfrm>
              <a:off x="5796000" y="4752720"/>
              <a:ext cx="954000" cy="684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8"/>
            <p:cNvSpPr/>
            <p:nvPr/>
          </p:nvSpPr>
          <p:spPr>
            <a:xfrm>
              <a:off x="6905520" y="3879720"/>
              <a:ext cx="954360" cy="684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9"/>
            <p:cNvSpPr/>
            <p:nvPr/>
          </p:nvSpPr>
          <p:spPr>
            <a:xfrm>
              <a:off x="8018640" y="3879720"/>
              <a:ext cx="954000" cy="684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8028000" y="4746600"/>
              <a:ext cx="954000" cy="6840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1"/>
            <p:cNvSpPr/>
            <p:nvPr/>
          </p:nvSpPr>
          <p:spPr>
            <a:xfrm>
              <a:off x="6892920" y="4749480"/>
              <a:ext cx="954000" cy="684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12"/>
          <p:cNvSpPr/>
          <p:nvPr/>
        </p:nvSpPr>
        <p:spPr>
          <a:xfrm>
            <a:off x="4140360" y="27655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则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3"/>
              <p:cNvSpPr txBox="1"/>
              <p:nvPr/>
            </p:nvSpPr>
            <p:spPr>
              <a:xfrm>
                <a:off x="250920" y="3357720"/>
                <a:ext cx="558000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Text Box 14"/>
          <p:cNvSpPr/>
          <p:nvPr/>
        </p:nvSpPr>
        <p:spPr>
          <a:xfrm>
            <a:off x="0" y="386064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化简得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5"/>
              <p:cNvSpPr txBox="1"/>
              <p:nvPr/>
            </p:nvSpPr>
            <p:spPr>
              <a:xfrm>
                <a:off x="1763640" y="3789360"/>
                <a:ext cx="39085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/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6"/>
              <p:cNvSpPr txBox="1"/>
              <p:nvPr/>
            </p:nvSpPr>
            <p:spPr>
              <a:xfrm>
                <a:off x="684360" y="4437000"/>
                <a:ext cx="40338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7"/>
              <p:cNvSpPr txBox="1"/>
              <p:nvPr/>
            </p:nvSpPr>
            <p:spPr>
              <a:xfrm>
                <a:off x="826920" y="5013360"/>
                <a:ext cx="33753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Rectangle 18"/>
          <p:cNvSpPr/>
          <p:nvPr/>
        </p:nvSpPr>
        <p:spPr>
          <a:xfrm>
            <a:off x="0" y="558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其中的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35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超出了原矩形的宽，应舍去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179280" y="6093000"/>
            <a:ext cx="80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道路的宽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1"/>
          <p:cNvSpPr txBox="1"/>
          <p:nvPr/>
        </p:nvSpPr>
        <p:spPr>
          <a:xfrm>
            <a:off x="6400800" y="762120"/>
            <a:ext cx="1905120" cy="380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宋体"/>
              </a:rPr>
              <a:t>情境引入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8900000"/>
              </a:gradFill>
              <a:latin typeface="宋体"/>
              <a:ea typeface="宋体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687920" y="173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24000" y="1557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回顾：列方程解应用题的基本步骤有哪些？应注意什么？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32">
            <a:hlinkClick r:id="" action="ppaction://hlinkshowjump?jump=firstslide"/>
          </p:cNvPr>
          <p:cNvSpPr/>
          <p:nvPr/>
        </p:nvSpPr>
        <p:spPr>
          <a:xfrm>
            <a:off x="6953400" y="6497640"/>
            <a:ext cx="7189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首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3">
            <a:hlinkClick r:id="" action="ppaction://hlinkshowjump?jump=previousslide"/>
          </p:cNvPr>
          <p:cNvSpPr/>
          <p:nvPr/>
        </p:nvSpPr>
        <p:spPr>
          <a:xfrm>
            <a:off x="7686720" y="6499080"/>
            <a:ext cx="71892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上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4">
            <a:hlinkClick r:id="rId1" action="ppaction://hlinksldjump"/>
          </p:cNvPr>
          <p:cNvSpPr/>
          <p:nvPr/>
        </p:nvSpPr>
        <p:spPr>
          <a:xfrm>
            <a:off x="8424720" y="6499080"/>
            <a:ext cx="71928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下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0" descr="xin_420305171639819268523"/>
          <p:cNvPicPr/>
          <p:nvPr/>
        </p:nvPicPr>
        <p:blipFill>
          <a:blip r:embed="rId2"/>
          <a:stretch/>
        </p:blipFill>
        <p:spPr>
          <a:xfrm>
            <a:off x="4284720" y="2781360"/>
            <a:ext cx="4257720" cy="2689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1"/>
          <p:cNvSpPr/>
          <p:nvPr/>
        </p:nvSpPr>
        <p:spPr>
          <a:xfrm>
            <a:off x="468360" y="298116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若一人患流感每轮能传染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，则第一轮过后共有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_____      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患了流感，第二轮过后共有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______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患了流感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2"/>
          <p:cNvSpPr/>
          <p:nvPr/>
        </p:nvSpPr>
        <p:spPr>
          <a:xfrm>
            <a:off x="3373560" y="318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3"/>
          <p:cNvSpPr/>
          <p:nvPr/>
        </p:nvSpPr>
        <p:spPr>
          <a:xfrm>
            <a:off x="771480" y="3809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4"/>
          <p:cNvSpPr/>
          <p:nvPr/>
        </p:nvSpPr>
        <p:spPr>
          <a:xfrm>
            <a:off x="2126520" y="2060640"/>
            <a:ext cx="38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基本步骤：找、设、列、解、验、答</a:t>
            </a:r>
            <a:r>
              <a:rPr b="1" lang="en-US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应注意：寻找相等关系，检验方程的解是否符合实际问题</a:t>
            </a:r>
            <a:r>
              <a:rPr b="1" lang="en-US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1547640" y="907920"/>
            <a:ext cx="5689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宋体"/>
              </a:rPr>
              <a:t>列方程解应用的基本步骤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189080" y="1844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审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：弄清题意，找出题中的等量关系</a:t>
            </a: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96720" y="2708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设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：用字母表示题中的所求量</a:t>
            </a: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720" y="3502080"/>
            <a:ext cx="64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列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：根据等量关系列出方程</a:t>
            </a: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189080" y="4437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：解出方程，并根本实际意义进行检验</a:t>
            </a: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52360" y="53020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：回答题中所问</a:t>
            </a:r>
            <a:r>
              <a:rPr b="0" lang="en-US" sz="2800" spc="-1" strike="noStrike">
                <a:solidFill>
                  <a:srgbClr val="3333cc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495800" y="0"/>
            <a:ext cx="641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前热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二中小明学习非常认真，学习成绩直线上升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月考数学成绩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，第二次月考增长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次月考又增长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问他第三次数学成绩是多少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36960" y="1600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析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133720" y="5634000"/>
            <a:ext cx="151272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三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5"/>
          <p:cNvSpPr/>
          <p:nvPr/>
        </p:nvSpPr>
        <p:spPr>
          <a:xfrm>
            <a:off x="2133720" y="3505320"/>
            <a:ext cx="152388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6"/>
          <p:cNvSpPr/>
          <p:nvPr/>
        </p:nvSpPr>
        <p:spPr>
          <a:xfrm>
            <a:off x="2133720" y="1447920"/>
            <a:ext cx="151272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666880" y="274320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2666880" y="4800600"/>
            <a:ext cx="411120" cy="762120"/>
          </a:xfrm>
          <a:prstGeom prst="downArrow">
            <a:avLst>
              <a:gd name="adj1" fmla="val 50000"/>
              <a:gd name="adj2" fmla="val 4634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822120" y="172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447920" y="289548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1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733920" y="3581280"/>
            <a:ext cx="21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+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X10%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-9360" y="4952880"/>
            <a:ext cx="27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+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1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607920" y="5791320"/>
            <a:ext cx="55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(1+10%)+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(1+10%) X10%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3665880" y="6278400"/>
            <a:ext cx="26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+10%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33920" y="4038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+10%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课前热身</a:t>
            </a: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某经济开发区今年一月份工业产值达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亿元，三月份产值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亿元，问二月、三月平均每月的增长率是多少？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79880" y="2060640"/>
            <a:ext cx="48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宋体"/>
              </a:rPr>
              <a:t>解：设平均每月增长的百分率为 </a:t>
            </a: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0" lang="zh-CN" sz="3600" spc="-1" strike="noStrike">
                <a:solidFill>
                  <a:srgbClr val="3333ff"/>
                </a:solidFill>
                <a:latin typeface="宋体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宋体"/>
              </a:rPr>
              <a:t>根据题意得方程为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987640" y="2565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50(1+</a:t>
            </a:r>
            <a:r>
              <a:rPr b="0" i="1" lang="en-US" sz="3600" spc="-1" strike="noStrike">
                <a:solidFill>
                  <a:srgbClr val="ff3399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=7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437480" y="3276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可化为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6"/>
          <p:cNvGraphicFramePr/>
          <p:nvPr/>
        </p:nvGraphicFramePr>
        <p:xfrm>
          <a:off x="3352680" y="3124080"/>
          <a:ext cx="281952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124080"/>
                    <a:ext cx="281952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7"/>
          <p:cNvSpPr/>
          <p:nvPr/>
        </p:nvSpPr>
        <p:spPr>
          <a:xfrm>
            <a:off x="1649880" y="4191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解得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8"/>
          <p:cNvGraphicFramePr/>
          <p:nvPr/>
        </p:nvGraphicFramePr>
        <p:xfrm>
          <a:off x="2971800" y="4191120"/>
          <a:ext cx="3505320" cy="69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191120"/>
                    <a:ext cx="35053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9"/>
          <p:cNvGraphicFramePr/>
          <p:nvPr/>
        </p:nvGraphicFramePr>
        <p:xfrm>
          <a:off x="1600200" y="4952880"/>
          <a:ext cx="510552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952880"/>
                    <a:ext cx="51055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10"/>
          <p:cNvSpPr/>
          <p:nvPr/>
        </p:nvSpPr>
        <p:spPr>
          <a:xfrm>
            <a:off x="828720" y="6165720"/>
            <a:ext cx="697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二月、三月平均每月的增长率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6172200" y="762120"/>
            <a:ext cx="2286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宋体"/>
              </a:rPr>
              <a:t>探究新知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8900000"/>
              </a:gradFill>
              <a:latin typeface="宋体"/>
              <a:ea typeface="宋体"/>
            </a:endParaRPr>
          </a:p>
        </p:txBody>
      </p:sp>
      <p:sp>
        <p:nvSpPr>
          <p:cNvPr id="92" name="AutoShape 24">
            <a:hlinkClick r:id="" action="ppaction://hlinkshowjump?jump=firstslide"/>
          </p:cNvPr>
          <p:cNvSpPr/>
          <p:nvPr/>
        </p:nvSpPr>
        <p:spPr>
          <a:xfrm>
            <a:off x="6943680" y="6497640"/>
            <a:ext cx="7192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首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25">
            <a:hlinkClick r:id="" action="ppaction://hlinkshowjump?jump=previousslide"/>
          </p:cNvPr>
          <p:cNvSpPr/>
          <p:nvPr/>
        </p:nvSpPr>
        <p:spPr>
          <a:xfrm>
            <a:off x="7686720" y="6499080"/>
            <a:ext cx="71892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上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26">
            <a:hlinkClick r:id="" action="ppaction://hlinkshowjump?jump=nextslide"/>
          </p:cNvPr>
          <p:cNvSpPr/>
          <p:nvPr/>
        </p:nvSpPr>
        <p:spPr>
          <a:xfrm>
            <a:off x="8424720" y="6499080"/>
            <a:ext cx="71928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下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2"/>
          <p:cNvSpPr/>
          <p:nvPr/>
        </p:nvSpPr>
        <p:spPr>
          <a:xfrm>
            <a:off x="611280" y="1989000"/>
            <a:ext cx="8143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析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题目中的已知量和未知量分别是什么？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若设每轮传染中平均一个人传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人，那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①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患流感的这个人在第一轮传染中传染了</a:t>
            </a:r>
            <a:r>
              <a:rPr b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___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；第一轮传染后，共有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患了流感</a:t>
            </a:r>
            <a:r>
              <a:rPr b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②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第二轮传染中，传染源是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，这些人中每一个人又传染了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，那么第二轮传染了</a:t>
            </a:r>
            <a:r>
              <a:rPr b="1" lang="zh-CN" sz="1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，第二轮传染后，共有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患流感</a:t>
            </a:r>
            <a:r>
              <a:rPr b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题目中的等量关系是什么？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3"/>
          <p:cNvSpPr/>
          <p:nvPr/>
        </p:nvSpPr>
        <p:spPr>
          <a:xfrm>
            <a:off x="1758600" y="4365720"/>
            <a:ext cx="40377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：设每轮传染中平均一个人传染了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，根据题意得方程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                          </a:t>
            </a:r>
            <a:r>
              <a:rPr b="1" lang="en-US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+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r>
              <a:rPr b="1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+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121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              </a:t>
            </a:r>
            <a:r>
              <a:rPr b="1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方程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                            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10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  , 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-12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因为传染人数不可能为负数，所以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-12</a:t>
            </a:r>
            <a:r>
              <a:rPr b="1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合题意舍去</a:t>
            </a:r>
            <a:r>
              <a:rPr b="1" lang="en-US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                 </a:t>
            </a:r>
            <a:r>
              <a:rPr b="1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所以       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10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答：每轮传染中平均一个人传染了</a:t>
            </a:r>
            <a:r>
              <a:rPr b="1" lang="en-US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</a:t>
            </a:r>
            <a:r>
              <a:rPr b="1" lang="zh-CN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</a:t>
            </a:r>
            <a:r>
              <a:rPr b="1" lang="en-US" sz="1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2340000" y="1268280"/>
            <a:ext cx="64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问题：有一人患了流感，经过两轮传染后共有</a:t>
            </a:r>
            <a:r>
              <a:rPr b="1" lang="en-US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121</a:t>
            </a:r>
            <a:r>
              <a:rPr b="1" lang="zh-CN" sz="20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人患了         流感，每轮传染中平均一个人传染了几个人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5"/>
          <p:cNvSpPr/>
          <p:nvPr/>
        </p:nvSpPr>
        <p:spPr>
          <a:xfrm>
            <a:off x="5029200" y="2611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6"/>
          <p:cNvSpPr/>
          <p:nvPr/>
        </p:nvSpPr>
        <p:spPr>
          <a:xfrm>
            <a:off x="1029240" y="290052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4053240" y="31161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852480" y="333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3632760" y="33577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)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662400" y="36194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+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+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6172200" y="762120"/>
            <a:ext cx="2286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宋体"/>
              </a:rPr>
              <a:t>议一议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8900000"/>
              </a:gradFill>
              <a:latin typeface="宋体"/>
              <a:ea typeface="宋体"/>
            </a:endParaRPr>
          </a:p>
        </p:txBody>
      </p:sp>
      <p:sp>
        <p:nvSpPr>
          <p:cNvPr id="105" name="AutoShape 19">
            <a:hlinkClick r:id="" action="ppaction://hlinkshowjump?jump=firstslide"/>
          </p:cNvPr>
          <p:cNvSpPr/>
          <p:nvPr/>
        </p:nvSpPr>
        <p:spPr>
          <a:xfrm>
            <a:off x="6943680" y="6497640"/>
            <a:ext cx="7192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首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1">
            <a:hlinkClick r:id="" action="ppaction://hlinkshowjump?jump=nextslide"/>
          </p:cNvPr>
          <p:cNvSpPr/>
          <p:nvPr/>
        </p:nvSpPr>
        <p:spPr>
          <a:xfrm>
            <a:off x="8424720" y="6499080"/>
            <a:ext cx="71928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下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2">
            <a:hlinkClick r:id="" action="ppaction://hlinkshowjump?jump=previousslide"/>
          </p:cNvPr>
          <p:cNvSpPr/>
          <p:nvPr/>
        </p:nvSpPr>
        <p:spPr>
          <a:xfrm>
            <a:off x="7686720" y="6499080"/>
            <a:ext cx="71892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上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1979640" y="1341360"/>
            <a:ext cx="70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如果按照这样的传染速度，第三轮传染后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人患流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3139560" y="2060640"/>
            <a:ext cx="464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综上所述，每轮传染后患流感的人数分别为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33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你发现这组数据的规律了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四轮传染后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患流感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5"/>
          <p:cNvSpPr/>
          <p:nvPr/>
        </p:nvSpPr>
        <p:spPr>
          <a:xfrm>
            <a:off x="2050920" y="3117960"/>
            <a:ext cx="478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利用上一规律如何换种方法列方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660440" y="1316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 33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2252160" y="261144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4 64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3420720" y="3716280"/>
            <a:ext cx="34599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宋体"/>
              </a:rPr>
              <a:t>解：设每轮传染中平均一个人传染了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3300"/>
                </a:solidFill>
                <a:latin typeface="宋体"/>
              </a:rPr>
              <a:t>人，根据题意得方程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                          </a:t>
            </a:r>
            <a:r>
              <a:rPr b="1" lang="zh-CN" sz="16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</a:rPr>
              <a:t>1+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1" lang="en-US" sz="1600" spc="-1" strike="noStrike" baseline="30000">
                <a:solidFill>
                  <a:srgbClr val="ff3300"/>
                </a:solidFill>
                <a:latin typeface="宋体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</a:rPr>
              <a:t>=121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              </a:t>
            </a:r>
            <a:r>
              <a:rPr b="1" lang="zh-CN" sz="1600" spc="-1" strike="noStrike">
                <a:solidFill>
                  <a:srgbClr val="ff3300"/>
                </a:solidFill>
                <a:latin typeface="宋体"/>
              </a:rPr>
              <a:t>解方程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                           </a:t>
            </a:r>
            <a:r>
              <a:rPr b="1" i="1" lang="zh-CN" sz="16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宋体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</a:rPr>
              <a:t>=10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  , 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宋体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</a:rPr>
              <a:t>=-12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宋体"/>
              </a:rPr>
              <a:t>因为传染人数不可能为负数，所以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</a:rPr>
              <a:t>=-12</a:t>
            </a:r>
            <a:r>
              <a:rPr b="1" lang="zh-CN" sz="1600" spc="-1" strike="noStrike">
                <a:solidFill>
                  <a:srgbClr val="ff3300"/>
                </a:solidFill>
                <a:latin typeface="宋体"/>
              </a:rPr>
              <a:t>不合题意舍去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                 </a:t>
            </a:r>
            <a:r>
              <a:rPr b="1" lang="zh-CN" sz="1600" spc="-1" strike="noStrike">
                <a:solidFill>
                  <a:srgbClr val="ff3300"/>
                </a:solidFill>
                <a:latin typeface="宋体"/>
              </a:rPr>
              <a:t>所以       </a:t>
            </a: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</a:rPr>
              <a:t>=10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宋体"/>
              </a:rPr>
              <a:t>答：每轮传染中平均一个人传染了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zh-CN" sz="1600" spc="-1" strike="noStrike">
                <a:solidFill>
                  <a:srgbClr val="ff3300"/>
                </a:solidFill>
                <a:latin typeface="宋体"/>
              </a:rPr>
              <a:t>人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2"/>
          <p:cNvSpPr txBox="1"/>
          <p:nvPr/>
        </p:nvSpPr>
        <p:spPr>
          <a:xfrm>
            <a:off x="6172200" y="762120"/>
            <a:ext cx="2286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宋体"/>
              </a:rPr>
              <a:t>巩固练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8900000"/>
              </a:gradFill>
              <a:latin typeface="宋体"/>
              <a:ea typeface="宋体"/>
            </a:endParaRPr>
          </a:p>
        </p:txBody>
      </p:sp>
      <p:sp>
        <p:nvSpPr>
          <p:cNvPr id="115" name="AutoShape 22">
            <a:hlinkClick r:id="" action="ppaction://hlinkshowjump?jump=firstslide"/>
          </p:cNvPr>
          <p:cNvSpPr/>
          <p:nvPr/>
        </p:nvSpPr>
        <p:spPr>
          <a:xfrm>
            <a:off x="6943680" y="6497640"/>
            <a:ext cx="7192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首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4">
            <a:hlinkClick r:id="" action="ppaction://hlinkshowjump?jump=nextslide"/>
          </p:cNvPr>
          <p:cNvSpPr/>
          <p:nvPr/>
        </p:nvSpPr>
        <p:spPr>
          <a:xfrm>
            <a:off x="8424720" y="6499080"/>
            <a:ext cx="71928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下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5">
            <a:hlinkClick r:id="" action="ppaction://hlinkshowjump?jump=previousslide"/>
          </p:cNvPr>
          <p:cNvSpPr/>
          <p:nvPr/>
        </p:nvSpPr>
        <p:spPr>
          <a:xfrm>
            <a:off x="7686720" y="6499080"/>
            <a:ext cx="718920" cy="35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189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be"/>
                </a:solidFill>
                <a:latin typeface="Times New Roman"/>
              </a:rPr>
              <a:t>上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252360" y="0"/>
            <a:ext cx="862164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某种植物的主干长出若干数目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枝干，每个枝干又长出同样数目的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支，主干、枝干和小分支总数是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个枝干长出多少小分支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7"/>
          <p:cNvSpPr/>
          <p:nvPr/>
        </p:nvSpPr>
        <p:spPr>
          <a:xfrm>
            <a:off x="312480" y="3213000"/>
            <a:ext cx="46846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设每个支干长出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小分支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+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9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即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90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解得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9,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0(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合题意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舍去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答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每个支干长出</a:t>
            </a:r>
            <a:r>
              <a:rPr b="1" i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小分支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6948360" y="5308560"/>
            <a:ext cx="720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主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9"/>
          <p:cNvSpPr/>
          <p:nvPr/>
        </p:nvSpPr>
        <p:spPr>
          <a:xfrm>
            <a:off x="7812000" y="4156200"/>
            <a:ext cx="10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枝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0"/>
          <p:cNvSpPr/>
          <p:nvPr/>
        </p:nvSpPr>
        <p:spPr>
          <a:xfrm>
            <a:off x="5148360" y="4156200"/>
            <a:ext cx="10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枝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1"/>
          <p:cNvSpPr/>
          <p:nvPr/>
        </p:nvSpPr>
        <p:spPr>
          <a:xfrm>
            <a:off x="6475320" y="4156200"/>
            <a:ext cx="10080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2"/>
          <p:cNvSpPr/>
          <p:nvPr/>
        </p:nvSpPr>
        <p:spPr>
          <a:xfrm rot="16200000">
            <a:off x="6984000" y="3616920"/>
            <a:ext cx="432000" cy="280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83"/>
                </a:lnTo>
                <a:cubicBezTo>
                  <a:pt x="10800" y="9683"/>
                  <a:pt x="5400" y="10583"/>
                  <a:pt x="0" y="10583"/>
                </a:cubicBezTo>
                <a:cubicBezTo>
                  <a:pt x="5400" y="10583"/>
                  <a:pt x="10800" y="11483"/>
                  <a:pt x="10800" y="1238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3"/>
          <p:cNvSpPr/>
          <p:nvPr/>
        </p:nvSpPr>
        <p:spPr>
          <a:xfrm>
            <a:off x="4716360" y="2716200"/>
            <a:ext cx="505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分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4"/>
          <p:cNvSpPr/>
          <p:nvPr/>
        </p:nvSpPr>
        <p:spPr>
          <a:xfrm>
            <a:off x="5867280" y="2708280"/>
            <a:ext cx="505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分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5"/>
          <p:cNvSpPr/>
          <p:nvPr/>
        </p:nvSpPr>
        <p:spPr>
          <a:xfrm>
            <a:off x="5312160" y="2716200"/>
            <a:ext cx="4852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66"/>
          <p:cNvSpPr/>
          <p:nvPr/>
        </p:nvSpPr>
        <p:spPr>
          <a:xfrm rot="16200000">
            <a:off x="5421960" y="3305880"/>
            <a:ext cx="432000" cy="1268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32760 h 1268640"/>
              <a:gd name="textAreaBottom" fmla="*/ 1235880 h 126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7"/>
          <p:cNvSpPr/>
          <p:nvPr/>
        </p:nvSpPr>
        <p:spPr>
          <a:xfrm>
            <a:off x="7451640" y="2724120"/>
            <a:ext cx="505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分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8"/>
          <p:cNvSpPr/>
          <p:nvPr/>
        </p:nvSpPr>
        <p:spPr>
          <a:xfrm>
            <a:off x="8602560" y="2716200"/>
            <a:ext cx="505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分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9"/>
          <p:cNvSpPr/>
          <p:nvPr/>
        </p:nvSpPr>
        <p:spPr>
          <a:xfrm>
            <a:off x="8047440" y="2724120"/>
            <a:ext cx="4852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70"/>
          <p:cNvSpPr/>
          <p:nvPr/>
        </p:nvSpPr>
        <p:spPr>
          <a:xfrm rot="16200000">
            <a:off x="8157240" y="3313800"/>
            <a:ext cx="432000" cy="1268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32760 h 1268640"/>
              <a:gd name="textAreaBottom" fmla="*/ 1235880 h 126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1"/>
          <p:cNvSpPr/>
          <p:nvPr/>
        </p:nvSpPr>
        <p:spPr>
          <a:xfrm>
            <a:off x="6372360" y="27874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2"/>
          <p:cNvSpPr/>
          <p:nvPr/>
        </p:nvSpPr>
        <p:spPr>
          <a:xfrm>
            <a:off x="7648560" y="4809960"/>
            <a:ext cx="8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3"/>
          <p:cNvSpPr/>
          <p:nvPr/>
        </p:nvSpPr>
        <p:spPr>
          <a:xfrm>
            <a:off x="5724360" y="3579840"/>
            <a:ext cx="8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74" descr=""/>
          <p:cNvPicPr/>
          <p:nvPr/>
        </p:nvPicPr>
        <p:blipFill>
          <a:blip r:embed="rId1"/>
          <a:stretch/>
        </p:blipFill>
        <p:spPr>
          <a:xfrm>
            <a:off x="4502160" y="3146400"/>
            <a:ext cx="139680" cy="2919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5"/>
          <p:cNvSpPr/>
          <p:nvPr/>
        </p:nvSpPr>
        <p:spPr>
          <a:xfrm>
            <a:off x="8440560" y="3573360"/>
            <a:ext cx="8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250920" y="4149720"/>
          <a:ext cx="876456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149720"/>
                    <a:ext cx="87645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640" y="713880"/>
            <a:ext cx="802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新华商场销售某种冰箱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每台进价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场调研表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销售价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9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均每天能售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当销价每降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均每天能多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商场要想使这种冰箱的销售利润平均每天达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每台冰箱的定价应为多少元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1455840" y="4941720"/>
          <a:ext cx="1676160" cy="7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5840" y="4941720"/>
                    <a:ext cx="1676160" cy="7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24000" y="234468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分析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3522600" y="4653000"/>
          <a:ext cx="205740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2600" y="4653000"/>
                    <a:ext cx="20574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7304040" y="4149720"/>
          <a:ext cx="137160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4040" y="4149720"/>
                    <a:ext cx="13716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682560" y="2924280"/>
          <a:ext cx="7993080" cy="92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2560" y="2924280"/>
                    <a:ext cx="799308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Line 9"/>
          <p:cNvSpPr/>
          <p:nvPr/>
        </p:nvSpPr>
        <p:spPr>
          <a:xfrm>
            <a:off x="1906560" y="1413000"/>
            <a:ext cx="216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4643280" y="1413000"/>
            <a:ext cx="23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4T16:07:29Z</dcterms:created>
  <dc:creator/>
  <dc:description/>
  <dc:language>en-US</dc:language>
  <cp:lastModifiedBy/>
  <dcterms:modified xsi:type="dcterms:W3CDTF">2015-09-24T16:07:31Z</dcterms:modified>
  <cp:revision>1</cp:revision>
  <dc:subject/>
  <dc:title/>
</cp:coreProperties>
</file>