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52.png" ContentType="image/png"/>
  <Override PartName="/ppt/media/image28.png" ContentType="image/png"/>
  <Override PartName="/ppt/media/image93.png" ContentType="image/png"/>
  <Override PartName="/ppt/media/image40.png" ContentType="image/png"/>
  <Override PartName="/ppt/media/image8.wmf" ContentType="image/x-wmf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26.png" ContentType="image/png"/>
  <Override PartName="/ppt/media/image9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5.wmf" ContentType="image/x-wmf"/>
  <Override PartName="/ppt/media/image87.png" ContentType="image/png"/>
  <Override PartName="/ppt/media/image86.png" ContentType="image/png"/>
  <Override PartName="/ppt/media/image74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78.png" ContentType="image/png"/>
  <Override PartName="/ppt/media/image72.png" ContentType="image/png"/>
  <Override PartName="/ppt/media/image11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AD6-EE3F-4E5F-BEE6-0C632D80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736-14BA-4D23-A854-4B33205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BBB-B47D-4514-93CC-0E90040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D47-4F20-49A5-A089-DEA00DD4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AFB2-C024-45D5-9465-A552665B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AE39-85C3-4E6B-875A-9D9AC06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173E-03F3-4D13-B2B1-DF5D253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A38-D823-4492-889F-3E27A8C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870-CF35-4B01-8365-E40623A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FDF-CC64-417C-AD23-60BBF2D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30B7-2D62-4725-A4FD-619E886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4D4-C095-4A83-885E-7E6E13D2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36D-EB89-4865-8F84-26B8F7F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50F-E3A2-4B44-B8A6-4C539CA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3B3A-465D-4B3D-BFFF-94E1C61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CA4-D82B-432B-B2CF-762C1521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C272-E326-4273-830C-FE1533EB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1943-6A20-4FCC-85CD-40B7926D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3553-6402-40F1-94B9-4BAB18E5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3F2E-CF4B-449D-8108-9CEBFA9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4843-C4D8-417A-867B-A60D0B59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84F8-854C-4230-A551-5F43DDB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490-8BB5-4843-82D5-8ED2A0AC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89D6-B0D9-4343-A0C9-A4D42B55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0B21-ACBD-446E-8F88-8D3A36F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BCAC-E769-419C-9C5F-5C629E6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113C-DBE0-4C0B-B789-4A4E2C2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5B2A-D57D-4437-933B-9F0E528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C336-EE6A-477C-865D-D3153F4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B087-F93E-43F2-A563-3A5E79DC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2963-99AF-4478-94EF-C8B71BC4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1CAF-8159-4311-9A3C-E54D9D65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5228-7842-47DB-BE7C-A746596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E31-E65C-4463-80F8-9489DC27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07F3-FA41-4888-8573-710F173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0306-5422-429A-B282-8B464FC1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08C5-E054-44C9-B8B7-30FDFDA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74A2-83C8-4091-835F-E76404D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E72B-A7AD-430F-8710-DB33160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90AB-B665-42E0-B4AC-AD5C06F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471F-0D5C-4D37-9AC6-C87E3AB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FC98-506A-4CC8-9043-B520922C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16BC-E01C-424F-9A8E-1630B846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14B6-5DC1-4938-9E2A-808E8A98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612-2901-49B2-8B4B-A80BB3F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5168-C9BB-4CB3-BB2E-7789271A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AA036-5DEB-46F5-861B-C7727CE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6689-E79A-427F-98AB-99CDAC69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8BC3-E77F-4F24-94F6-B3FF73CD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3BE1-2F58-489E-8EE1-C8B1A559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EF87-55C5-4EA4-9AF4-536D8B1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C9BC-8C7F-4522-8A36-1BAEA4D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0E110-91FB-4314-A131-F8359F7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EDB5-0364-45B0-B1C8-5D389B2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647C-F7F5-4C7A-AA46-0A690278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588-40F3-4BBF-B0D6-143D710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661B-1E57-4D89-9F0F-2C834623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EA569-F0D6-4DAC-AA01-E4130AC6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B9E6-FA8E-4589-B2A8-1A3F2DF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1D783-D89D-465E-8340-5F26486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7291-C8A1-4D11-864B-17BA604A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2CAE-993C-46FB-A2F9-C09FB54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7B85-B4BF-4CC5-AD37-AD5B94E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0FC4-6CD7-4DFB-A770-2F2C0665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2AA1-3608-4CDC-93FB-A0CB1C9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5093-FA4B-4F55-A36A-D06F6A7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DD6-BA59-4E6C-8717-E1B2D6F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6449-A94C-43C2-B42F-7D18FB9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51293-3712-41D3-98A8-A00E8CAB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FD43-40E5-4130-9FA7-38F667D0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B9A-CB2B-445C-B97E-3AF6ED0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6F-A8D5-41AD-B21A-C174656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C50-A480-4C54-AD76-EB114A6503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177920" y="2394000"/>
            <a:ext cx="1305000" cy="1739880"/>
          </a:xfrm>
          <a:prstGeom prst="rect">
            <a:avLst/>
          </a:prstGeom>
          <a:solidFill>
            <a:srgbClr val="a07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81160" y="2394000"/>
            <a:ext cx="1305000" cy="1739880"/>
          </a:xfrm>
          <a:prstGeom prst="rect">
            <a:avLst/>
          </a:prstGeom>
          <a:solidFill>
            <a:srgbClr val="fed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782960" y="2394000"/>
            <a:ext cx="1305000" cy="1739880"/>
          </a:xfrm>
          <a:prstGeom prst="rect">
            <a:avLst/>
          </a:prstGeom>
          <a:solidFill>
            <a:srgbClr val="f88b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0"/>
          <p:cNvSpPr/>
          <p:nvPr/>
        </p:nvSpPr>
        <p:spPr>
          <a:xfrm>
            <a:off x="6586560" y="2394000"/>
            <a:ext cx="1311120" cy="2057400"/>
          </a:xfrm>
          <a:custGeom>
            <a:avLst/>
            <a:gdLst/>
            <a:ahLst/>
            <a:rect l="l" t="t" r="r" b="b"/>
            <a:pathLst>
              <a:path w="1713390" h="2015231">
                <a:moveTo>
                  <a:pt x="0" y="0"/>
                </a:moveTo>
                <a:lnTo>
                  <a:pt x="1713390" y="0"/>
                </a:lnTo>
                <a:lnTo>
                  <a:pt x="1713390" y="1527814"/>
                </a:lnTo>
                <a:lnTo>
                  <a:pt x="1713390" y="1713390"/>
                </a:lnTo>
                <a:lnTo>
                  <a:pt x="1483784" y="1713390"/>
                </a:lnTo>
                <a:lnTo>
                  <a:pt x="1110328" y="2015231"/>
                </a:lnTo>
                <a:lnTo>
                  <a:pt x="1225779" y="1713390"/>
                </a:lnTo>
                <a:lnTo>
                  <a:pt x="0" y="1713390"/>
                </a:lnTo>
                <a:close/>
              </a:path>
            </a:pathLst>
          </a:custGeom>
          <a:solidFill>
            <a:srgbClr val="9fb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0D0F-9C53-4310-9D3F-E03BBADA40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1177920" y="2394000"/>
            <a:ext cx="1305000" cy="1739880"/>
          </a:xfrm>
          <a:prstGeom prst="rect">
            <a:avLst/>
          </a:prstGeom>
          <a:solidFill>
            <a:srgbClr val="a07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2981160" y="2394000"/>
            <a:ext cx="1305000" cy="1739880"/>
          </a:xfrm>
          <a:prstGeom prst="rect">
            <a:avLst/>
          </a:prstGeom>
          <a:solidFill>
            <a:srgbClr val="fed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782960" y="2394000"/>
            <a:ext cx="1305000" cy="1739880"/>
          </a:xfrm>
          <a:prstGeom prst="rect">
            <a:avLst/>
          </a:prstGeom>
          <a:solidFill>
            <a:srgbClr val="f88b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0"/>
          <p:cNvSpPr/>
          <p:nvPr/>
        </p:nvSpPr>
        <p:spPr>
          <a:xfrm>
            <a:off x="6586560" y="2394000"/>
            <a:ext cx="1311120" cy="2057400"/>
          </a:xfrm>
          <a:custGeom>
            <a:avLst/>
            <a:gdLst/>
            <a:ahLst/>
            <a:rect l="l" t="t" r="r" b="b"/>
            <a:pathLst>
              <a:path w="1713390" h="2015231">
                <a:moveTo>
                  <a:pt x="0" y="0"/>
                </a:moveTo>
                <a:lnTo>
                  <a:pt x="1713390" y="0"/>
                </a:lnTo>
                <a:lnTo>
                  <a:pt x="1713390" y="1527814"/>
                </a:lnTo>
                <a:lnTo>
                  <a:pt x="1713390" y="1713390"/>
                </a:lnTo>
                <a:lnTo>
                  <a:pt x="1483784" y="1713390"/>
                </a:lnTo>
                <a:lnTo>
                  <a:pt x="1110328" y="2015231"/>
                </a:lnTo>
                <a:lnTo>
                  <a:pt x="1225779" y="1713390"/>
                </a:lnTo>
                <a:lnTo>
                  <a:pt x="0" y="1713390"/>
                </a:lnTo>
                <a:close/>
              </a:path>
            </a:pathLst>
          </a:custGeom>
          <a:solidFill>
            <a:srgbClr val="9fb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6E8-7008-4943-97B0-6A6508E7D9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901-AF89-4CCA-80DD-95CAADF028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144-AAAD-4B57-B659-08718B95B4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FDB9-FC6F-4E80-8091-0D98C7CDCF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椭圆 3" descr=""/>
          <p:cNvPicPr/>
          <p:nvPr/>
        </p:nvPicPr>
        <p:blipFill>
          <a:blip r:embed="rId1"/>
          <a:stretch/>
        </p:blipFill>
        <p:spPr>
          <a:xfrm>
            <a:off x="1108080" y="1982880"/>
            <a:ext cx="69264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900000" y="54936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人进行摸牌游戏．现有三张形状大小完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同的牌，正面分别标有数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将三张牌背面朝上，洗匀后放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桌子上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甲从中随机抽取一张牌，记录数字后放回洗匀，乙再随机抽取一张．请用列表法或画树状图的方法，求两人抽取相同数字的概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4" descr=""/>
          <p:cNvPicPr/>
          <p:nvPr/>
        </p:nvPicPr>
        <p:blipFill>
          <a:blip r:embed="rId1"/>
          <a:stretch/>
        </p:blipFill>
        <p:spPr>
          <a:xfrm>
            <a:off x="933480" y="4726080"/>
            <a:ext cx="7923240" cy="28548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5" descr=""/>
          <p:cNvPicPr/>
          <p:nvPr/>
        </p:nvPicPr>
        <p:blipFill>
          <a:blip r:embed="rId2"/>
          <a:stretch/>
        </p:blipFill>
        <p:spPr>
          <a:xfrm>
            <a:off x="933480" y="5276880"/>
            <a:ext cx="2381400" cy="27612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6" descr=""/>
          <p:cNvPicPr/>
          <p:nvPr/>
        </p:nvPicPr>
        <p:blipFill>
          <a:blip r:embed="rId3"/>
          <a:stretch/>
        </p:blipFill>
        <p:spPr>
          <a:xfrm>
            <a:off x="3309840" y="5186520"/>
            <a:ext cx="3057480" cy="4572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3" descr=""/>
          <p:cNvPicPr/>
          <p:nvPr/>
        </p:nvPicPr>
        <p:blipFill>
          <a:blip r:embed="rId4"/>
          <a:stretch/>
        </p:blipFill>
        <p:spPr>
          <a:xfrm>
            <a:off x="1023840" y="2797200"/>
            <a:ext cx="3749760" cy="4208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7" descr=""/>
          <p:cNvPicPr/>
          <p:nvPr/>
        </p:nvPicPr>
        <p:blipFill>
          <a:blip r:embed="rId5"/>
          <a:stretch/>
        </p:blipFill>
        <p:spPr>
          <a:xfrm>
            <a:off x="1328760" y="3098880"/>
            <a:ext cx="4132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"/>
          <p:cNvSpPr/>
          <p:nvPr/>
        </p:nvSpPr>
        <p:spPr>
          <a:xfrm>
            <a:off x="660240" y="6825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两人抽取的数字和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倍数，则甲获胜；若抽取的数字和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倍数，则乙获胜．这个游戏对甲、乙双方公平吗？请用概率的知识加以解释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3" descr=""/>
          <p:cNvPicPr/>
          <p:nvPr/>
        </p:nvPicPr>
        <p:blipFill>
          <a:blip r:embed="rId1"/>
          <a:stretch/>
        </p:blipFill>
        <p:spPr>
          <a:xfrm>
            <a:off x="833400" y="1689120"/>
            <a:ext cx="1495440" cy="3333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4" descr=""/>
          <p:cNvPicPr/>
          <p:nvPr/>
        </p:nvPicPr>
        <p:blipFill>
          <a:blip r:embed="rId2"/>
          <a:stretch/>
        </p:blipFill>
        <p:spPr>
          <a:xfrm>
            <a:off x="833400" y="2147760"/>
            <a:ext cx="8231400" cy="2415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5" descr=""/>
          <p:cNvPicPr/>
          <p:nvPr/>
        </p:nvPicPr>
        <p:blipFill>
          <a:blip r:embed="rId3"/>
          <a:stretch/>
        </p:blipFill>
        <p:spPr>
          <a:xfrm>
            <a:off x="900000" y="2514600"/>
            <a:ext cx="4143600" cy="41904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6" descr=""/>
          <p:cNvPicPr/>
          <p:nvPr/>
        </p:nvPicPr>
        <p:blipFill>
          <a:blip r:embed="rId4"/>
          <a:stretch/>
        </p:blipFill>
        <p:spPr>
          <a:xfrm>
            <a:off x="833400" y="2886120"/>
            <a:ext cx="1057320" cy="50472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7" descr=""/>
          <p:cNvPicPr/>
          <p:nvPr/>
        </p:nvPicPr>
        <p:blipFill>
          <a:blip r:embed="rId5"/>
          <a:stretch/>
        </p:blipFill>
        <p:spPr>
          <a:xfrm>
            <a:off x="833400" y="3438360"/>
            <a:ext cx="43038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611280" y="260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颖为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班毕业联欢会设计了一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配紫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游戏：如图是两个可以自由转动的转盘，每个转盘被分成面积相等的几个扇形，游戏者同时转动两个转盘，两个转盘停止转动时，若有一个转盘的指针指向蓝色，另一个转盘的指针指向红色，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配紫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成功，游戏者获胜，用列表法或画树状图分析并求出游戏者获胜的概率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TT473.tif"/>
          <p:cNvPicPr/>
          <p:nvPr/>
        </p:nvPicPr>
        <p:blipFill>
          <a:blip r:embed="rId1"/>
          <a:stretch/>
        </p:blipFill>
        <p:spPr>
          <a:xfrm>
            <a:off x="5915160" y="2687760"/>
            <a:ext cx="2447640" cy="10270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" descr=""/>
          <p:cNvPicPr/>
          <p:nvPr/>
        </p:nvPicPr>
        <p:blipFill>
          <a:blip r:embed="rId2"/>
          <a:stretch/>
        </p:blipFill>
        <p:spPr>
          <a:xfrm>
            <a:off x="760320" y="2430360"/>
            <a:ext cx="4599000" cy="216216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3" descr=""/>
          <p:cNvPicPr/>
          <p:nvPr/>
        </p:nvPicPr>
        <p:blipFill>
          <a:blip r:embed="rId3"/>
          <a:stretch/>
        </p:blipFill>
        <p:spPr>
          <a:xfrm>
            <a:off x="760320" y="4724280"/>
            <a:ext cx="279900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" descr=""/>
          <p:cNvPicPr/>
          <p:nvPr/>
        </p:nvPicPr>
        <p:blipFill>
          <a:blip r:embed="rId4"/>
          <a:stretch/>
        </p:blipFill>
        <p:spPr>
          <a:xfrm>
            <a:off x="760320" y="5334120"/>
            <a:ext cx="27511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"/>
          <p:cNvSpPr/>
          <p:nvPr/>
        </p:nvSpPr>
        <p:spPr>
          <a:xfrm>
            <a:off x="539640" y="216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明为了检验两枚六个面分别刻有点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正六面体骰子的质量是否都合格，在相同的条件下，同时抛两枚骰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 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，结果发现两个面朝上的点数和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次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两枚骰子质量都合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合格标准为：在相同条件下抛骰子时，骰子各个面朝上的机会相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吗？请说明理由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374320" cy="53352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4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8380440" cy="26676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5" descr=""/>
          <p:cNvPicPr/>
          <p:nvPr/>
        </p:nvPicPr>
        <p:blipFill>
          <a:blip r:embed="rId3"/>
          <a:stretch/>
        </p:blipFill>
        <p:spPr>
          <a:xfrm>
            <a:off x="539640" y="3522600"/>
            <a:ext cx="5599080" cy="47628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6" descr=""/>
          <p:cNvPicPr/>
          <p:nvPr/>
        </p:nvPicPr>
        <p:blipFill>
          <a:blip r:embed="rId4"/>
          <a:stretch/>
        </p:blipFill>
        <p:spPr>
          <a:xfrm>
            <a:off x="522360" y="4156200"/>
            <a:ext cx="6875280" cy="4572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7" descr=""/>
          <p:cNvPicPr/>
          <p:nvPr/>
        </p:nvPicPr>
        <p:blipFill>
          <a:blip r:embed="rId5"/>
          <a:stretch/>
        </p:blipFill>
        <p:spPr>
          <a:xfrm>
            <a:off x="522360" y="4842000"/>
            <a:ext cx="8151840" cy="591840"/>
          </a:xfrm>
          <a:prstGeom prst="rect">
            <a:avLst/>
          </a:prstGeom>
          <a:ln w="0">
            <a:noFill/>
          </a:ln>
        </p:spPr>
      </p:pic>
      <p:sp>
        <p:nvSpPr>
          <p:cNvPr id="344" name="矩形 8"/>
          <p:cNvSpPr/>
          <p:nvPr/>
        </p:nvSpPr>
        <p:spPr>
          <a:xfrm>
            <a:off x="5148360" y="3554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Arial"/>
                <a:ea typeface="楷体"/>
              </a:rPr>
              <a:t>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1"/>
          <p:cNvSpPr/>
          <p:nvPr/>
        </p:nvSpPr>
        <p:spPr>
          <a:xfrm>
            <a:off x="395280" y="1238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有两个不透明的袋子中分别装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大小、形状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全一样的小球，第一个袋子中的三个小球上分别标有数字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第二个袋子上的三个小球上分别标有数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从两个袋子中各摸出一个小球，第一个袋子中摸出的小球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第二个袋子中摸出的小球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别是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横、纵坐标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列表法或树状图法表示所有可能的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坐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3" descr=""/>
          <p:cNvPicPr/>
          <p:nvPr/>
        </p:nvPicPr>
        <p:blipFill>
          <a:blip r:embed="rId1"/>
          <a:stretch/>
        </p:blipFill>
        <p:spPr>
          <a:xfrm>
            <a:off x="611280" y="5045040"/>
            <a:ext cx="821988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4" descr=""/>
          <p:cNvPicPr/>
          <p:nvPr/>
        </p:nvPicPr>
        <p:blipFill>
          <a:blip r:embed="rId2"/>
          <a:stretch/>
        </p:blipFill>
        <p:spPr>
          <a:xfrm>
            <a:off x="611280" y="5602320"/>
            <a:ext cx="201924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5" descr=""/>
          <p:cNvPicPr/>
          <p:nvPr/>
        </p:nvPicPr>
        <p:blipFill>
          <a:blip r:embed="rId3"/>
          <a:stretch/>
        </p:blipFill>
        <p:spPr>
          <a:xfrm>
            <a:off x="2665440" y="5640480"/>
            <a:ext cx="4113360" cy="2667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9" descr=""/>
          <p:cNvPicPr/>
          <p:nvPr/>
        </p:nvPicPr>
        <p:blipFill>
          <a:blip r:embed="rId4"/>
          <a:stretch/>
        </p:blipFill>
        <p:spPr>
          <a:xfrm>
            <a:off x="676440" y="2932200"/>
            <a:ext cx="2636640" cy="4856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0" descr=""/>
          <p:cNvPicPr/>
          <p:nvPr/>
        </p:nvPicPr>
        <p:blipFill>
          <a:blip r:embed="rId5"/>
          <a:stretch/>
        </p:blipFill>
        <p:spPr>
          <a:xfrm>
            <a:off x="752400" y="3657600"/>
            <a:ext cx="38941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1036800" y="2397240"/>
            <a:ext cx="4055760" cy="3142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2" descr=""/>
          <p:cNvPicPr/>
          <p:nvPr/>
        </p:nvPicPr>
        <p:blipFill>
          <a:blip r:embed="rId2"/>
          <a:stretch/>
        </p:blipFill>
        <p:spPr>
          <a:xfrm>
            <a:off x="882720" y="2860560"/>
            <a:ext cx="8136000" cy="3412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3" descr=""/>
          <p:cNvPicPr/>
          <p:nvPr/>
        </p:nvPicPr>
        <p:blipFill>
          <a:blip r:embed="rId3"/>
          <a:stretch/>
        </p:blipFill>
        <p:spPr>
          <a:xfrm>
            <a:off x="957240" y="3295800"/>
            <a:ext cx="4027680" cy="2664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4" descr=""/>
          <p:cNvPicPr/>
          <p:nvPr/>
        </p:nvPicPr>
        <p:blipFill>
          <a:blip r:embed="rId4"/>
          <a:stretch/>
        </p:blipFill>
        <p:spPr>
          <a:xfrm>
            <a:off x="957240" y="3735360"/>
            <a:ext cx="8128080" cy="29052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5" descr=""/>
          <p:cNvPicPr/>
          <p:nvPr/>
        </p:nvPicPr>
        <p:blipFill>
          <a:blip r:embed="rId5"/>
          <a:stretch/>
        </p:blipFill>
        <p:spPr>
          <a:xfrm>
            <a:off x="787320" y="4168800"/>
            <a:ext cx="7256520" cy="28584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6" descr=""/>
          <p:cNvPicPr/>
          <p:nvPr/>
        </p:nvPicPr>
        <p:blipFill>
          <a:blip r:embed="rId6"/>
          <a:stretch/>
        </p:blipFill>
        <p:spPr>
          <a:xfrm>
            <a:off x="853920" y="464832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882720" y="72864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(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抛物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的概率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图片 8" descr=""/>
          <p:cNvPicPr/>
          <p:nvPr/>
        </p:nvPicPr>
        <p:blipFill>
          <a:blip r:embed="rId7"/>
          <a:stretch/>
        </p:blipFill>
        <p:spPr>
          <a:xfrm>
            <a:off x="1101600" y="1174680"/>
            <a:ext cx="340992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9" descr=""/>
          <p:cNvPicPr/>
          <p:nvPr/>
        </p:nvPicPr>
        <p:blipFill>
          <a:blip r:embed="rId8"/>
          <a:stretch/>
        </p:blipFill>
        <p:spPr>
          <a:xfrm>
            <a:off x="1100160" y="1952640"/>
            <a:ext cx="5905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1"/>
          <a:stretch/>
        </p:blipFill>
        <p:spPr>
          <a:xfrm>
            <a:off x="5686560" y="3371760"/>
            <a:ext cx="409320" cy="247680"/>
          </a:xfrm>
          <a:prstGeom prst="rect">
            <a:avLst/>
          </a:prstGeom>
          <a:ln w="0">
            <a:noFill/>
          </a:ln>
        </p:spPr>
      </p:pic>
      <p:sp>
        <p:nvSpPr>
          <p:cNvPr id="361" name="矩形 1"/>
          <p:cNvSpPr/>
          <p:nvPr/>
        </p:nvSpPr>
        <p:spPr>
          <a:xfrm>
            <a:off x="468360" y="189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6.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一个不透明的口袋里装有只有颜色不同的黑、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种颜色的球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，某学习小组做摸球试验，将球搅匀后从中随机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一个球记下颜色，再把它放回袋中，不断重复．下表是活动进行中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组统计数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00240" y="1943280"/>
          <a:ext cx="5816520" cy="1319040"/>
        </p:xfrm>
        <a:graphic>
          <a:graphicData uri="http://schemas.openxmlformats.org/drawingml/2006/table">
            <a:tbl>
              <a:tblPr/>
              <a:tblGrid>
                <a:gridCol w="1905120"/>
                <a:gridCol w="622080"/>
                <a:gridCol w="619200"/>
                <a:gridCol w="620640"/>
                <a:gridCol w="620640"/>
                <a:gridCol w="708120"/>
                <a:gridCol w="720720"/>
              </a:tblGrid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摸球的次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摸到白球的次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摸到白球的频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63" name="矩形 3"/>
          <p:cNvSpPr/>
          <p:nvPr/>
        </p:nvSpPr>
        <p:spPr>
          <a:xfrm>
            <a:off x="468360" y="325764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估计：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很大时，摸到白球的频率将会接近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保留一位小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假如你去摸一次，你摸到白球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摸到黑球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试估算口袋中黑、白两种颜色的球各有多少个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4" descr=""/>
          <p:cNvPicPr/>
          <p:nvPr/>
        </p:nvPicPr>
        <p:blipFill>
          <a:blip r:embed="rId2"/>
          <a:stretch/>
        </p:blipFill>
        <p:spPr>
          <a:xfrm>
            <a:off x="644400" y="5208480"/>
            <a:ext cx="437220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3"/>
          <a:stretch/>
        </p:blipFill>
        <p:spPr>
          <a:xfrm>
            <a:off x="763560" y="5764320"/>
            <a:ext cx="2790720" cy="30456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7" descr=""/>
          <p:cNvPicPr/>
          <p:nvPr/>
        </p:nvPicPr>
        <p:blipFill>
          <a:blip r:embed="rId4"/>
          <a:stretch/>
        </p:blipFill>
        <p:spPr>
          <a:xfrm>
            <a:off x="5349960" y="3767040"/>
            <a:ext cx="447480" cy="26676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8" descr=""/>
          <p:cNvPicPr/>
          <p:nvPr/>
        </p:nvPicPr>
        <p:blipFill>
          <a:blip r:embed="rId5"/>
          <a:stretch/>
        </p:blipFill>
        <p:spPr>
          <a:xfrm>
            <a:off x="717480" y="4141800"/>
            <a:ext cx="419040" cy="247680"/>
          </a:xfrm>
          <a:prstGeom prst="rect">
            <a:avLst/>
          </a:prstGeom>
          <a:ln w="0">
            <a:noFill/>
          </a:ln>
        </p:spPr>
      </p:pic>
      <p:pic>
        <p:nvPicPr>
          <p:cNvPr id="368" name="对象 3" descr=""/>
          <p:cNvPicPr/>
          <p:nvPr/>
        </p:nvPicPr>
        <p:blipFill>
          <a:blip r:embed="rId6"/>
          <a:stretch/>
        </p:blipFill>
        <p:spPr>
          <a:xfrm>
            <a:off x="2641680" y="2816280"/>
            <a:ext cx="1904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477720" y="33336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解决了上面的问题，小明同学猛然顿悟，过去一个悬而未决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有办法了．这个问题是：在一个不透明的口袋里装有若干个白球，在不允许将球倒出来数的情况下，如何估计白球的个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可以借助其他工具及用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？请你应用统计与概率的思想和方法解决这个问题，写出解决这个问题的主要步骤及估算方法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2" descr=""/>
          <p:cNvPicPr/>
          <p:nvPr/>
        </p:nvPicPr>
        <p:blipFill>
          <a:blip r:embed="rId1"/>
          <a:stretch/>
        </p:blipFill>
        <p:spPr>
          <a:xfrm>
            <a:off x="716040" y="2502000"/>
            <a:ext cx="8124840" cy="3045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4" descr=""/>
          <p:cNvPicPr/>
          <p:nvPr/>
        </p:nvPicPr>
        <p:blipFill>
          <a:blip r:embed="rId2"/>
          <a:stretch/>
        </p:blipFill>
        <p:spPr>
          <a:xfrm>
            <a:off x="716040" y="2817720"/>
            <a:ext cx="1019160" cy="3333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5" descr=""/>
          <p:cNvPicPr/>
          <p:nvPr/>
        </p:nvPicPr>
        <p:blipFill>
          <a:blip r:embed="rId3"/>
          <a:stretch/>
        </p:blipFill>
        <p:spPr>
          <a:xfrm>
            <a:off x="716040" y="3176640"/>
            <a:ext cx="1114200" cy="34272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6" descr=""/>
          <p:cNvPicPr/>
          <p:nvPr/>
        </p:nvPicPr>
        <p:blipFill>
          <a:blip r:embed="rId4"/>
          <a:srcRect l="0" t="0" r="4810" b="-10214"/>
          <a:stretch/>
        </p:blipFill>
        <p:spPr>
          <a:xfrm>
            <a:off x="1830240" y="3186000"/>
            <a:ext cx="6989760" cy="31428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7" descr=""/>
          <p:cNvPicPr/>
          <p:nvPr/>
        </p:nvPicPr>
        <p:blipFill>
          <a:blip r:embed="rId5"/>
          <a:stretch/>
        </p:blipFill>
        <p:spPr>
          <a:xfrm>
            <a:off x="716040" y="3533760"/>
            <a:ext cx="2771640" cy="32400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8" descr=""/>
          <p:cNvPicPr/>
          <p:nvPr/>
        </p:nvPicPr>
        <p:blipFill>
          <a:blip r:embed="rId6"/>
          <a:stretch/>
        </p:blipFill>
        <p:spPr>
          <a:xfrm>
            <a:off x="716040" y="3997440"/>
            <a:ext cx="657000" cy="2952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9" descr=""/>
          <p:cNvPicPr/>
          <p:nvPr/>
        </p:nvPicPr>
        <p:blipFill>
          <a:blip r:embed="rId7"/>
          <a:srcRect l="0" t="15760" r="1676" b="0"/>
          <a:stretch/>
        </p:blipFill>
        <p:spPr>
          <a:xfrm>
            <a:off x="1357200" y="3979800"/>
            <a:ext cx="42228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9" descr=""/>
          <p:cNvPicPr/>
          <p:nvPr/>
        </p:nvPicPr>
        <p:blipFill>
          <a:blip r:embed="rId1"/>
          <a:stretch/>
        </p:blipFill>
        <p:spPr>
          <a:xfrm>
            <a:off x="6107040" y="2394000"/>
            <a:ext cx="2710080" cy="1552680"/>
          </a:xfrm>
          <a:prstGeom prst="rect">
            <a:avLst/>
          </a:prstGeom>
          <a:ln w="0">
            <a:noFill/>
          </a:ln>
        </p:spPr>
      </p:pic>
      <p:sp>
        <p:nvSpPr>
          <p:cNvPr id="378" name="矩形 1"/>
          <p:cNvSpPr/>
          <p:nvPr/>
        </p:nvSpPr>
        <p:spPr>
          <a:xfrm>
            <a:off x="365040" y="225360"/>
            <a:ext cx="820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进一步加强和改进学校体育工作，切实提高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体质健康水平，决定推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校一球队、一级一专项、一人一技能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动计划，某校决定对学生感兴趣的球类项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足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篮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排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羽毛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：乒乓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进行问卷调查，学生可根据自己的喜好选修一门，李老师对某班全班同学的选课情况进行统计后，制成了两幅不完整的统计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P131.TIF"/>
          <p:cNvPicPr/>
          <p:nvPr/>
        </p:nvPicPr>
        <p:blipFill>
          <a:blip r:embed="rId2"/>
          <a:stretch/>
        </p:blipFill>
        <p:spPr>
          <a:xfrm>
            <a:off x="6107040" y="2409840"/>
            <a:ext cx="2710080" cy="1544760"/>
          </a:xfrm>
          <a:prstGeom prst="rect">
            <a:avLst/>
          </a:prstGeom>
          <a:ln w="0">
            <a:noFill/>
          </a:ln>
        </p:spPr>
      </p:pic>
      <p:sp>
        <p:nvSpPr>
          <p:cNvPr id="380" name="矩形 2"/>
          <p:cNvSpPr/>
          <p:nvPr/>
        </p:nvSpPr>
        <p:spPr>
          <a:xfrm>
            <a:off x="974520" y="23940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将统计图补充完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图片 3" descr=""/>
          <p:cNvPicPr/>
          <p:nvPr/>
        </p:nvPicPr>
        <p:blipFill>
          <a:blip r:embed="rId3"/>
          <a:stretch/>
        </p:blipFill>
        <p:spPr>
          <a:xfrm>
            <a:off x="646200" y="3019320"/>
            <a:ext cx="3798720" cy="3240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" descr=""/>
          <p:cNvPicPr/>
          <p:nvPr/>
        </p:nvPicPr>
        <p:blipFill>
          <a:blip r:embed="rId4"/>
          <a:stretch/>
        </p:blipFill>
        <p:spPr>
          <a:xfrm>
            <a:off x="646200" y="3610080"/>
            <a:ext cx="5173560" cy="28260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5" descr=""/>
          <p:cNvPicPr/>
          <p:nvPr/>
        </p:nvPicPr>
        <p:blipFill>
          <a:blip r:embed="rId5"/>
          <a:stretch/>
        </p:blipFill>
        <p:spPr>
          <a:xfrm>
            <a:off x="781200" y="4127400"/>
            <a:ext cx="3951000" cy="28584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6" descr=""/>
          <p:cNvPicPr/>
          <p:nvPr/>
        </p:nvPicPr>
        <p:blipFill>
          <a:blip r:embed="rId6"/>
          <a:stretch/>
        </p:blipFill>
        <p:spPr>
          <a:xfrm>
            <a:off x="646200" y="4518000"/>
            <a:ext cx="704700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7" descr=""/>
          <p:cNvPicPr/>
          <p:nvPr/>
        </p:nvPicPr>
        <p:blipFill>
          <a:blip r:embed="rId7"/>
          <a:stretch/>
        </p:blipFill>
        <p:spPr>
          <a:xfrm>
            <a:off x="673200" y="5124600"/>
            <a:ext cx="2341440" cy="323640"/>
          </a:xfrm>
          <a:prstGeom prst="rect">
            <a:avLst/>
          </a:prstGeom>
          <a:ln w="0">
            <a:noFill/>
          </a:ln>
        </p:spPr>
      </p:pic>
      <p:sp>
        <p:nvSpPr>
          <p:cNvPr id="386" name="矩形 8"/>
          <p:cNvSpPr/>
          <p:nvPr/>
        </p:nvSpPr>
        <p:spPr>
          <a:xfrm>
            <a:off x="468360" y="5599080"/>
            <a:ext cx="762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该班学生人数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若该校共有学生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 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名，估计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足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8"/>
          <a:stretch/>
        </p:blipFill>
        <p:spPr>
          <a:xfrm>
            <a:off x="2614680" y="5730840"/>
            <a:ext cx="285840" cy="2192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9"/>
          <a:stretch/>
        </p:blipFill>
        <p:spPr>
          <a:xfrm>
            <a:off x="4444920" y="6132600"/>
            <a:ext cx="5508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1"/>
          <p:cNvSpPr/>
          <p:nvPr/>
        </p:nvSpPr>
        <p:spPr>
          <a:xfrm>
            <a:off x="487440" y="6793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该班班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中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篮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足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排球，李老师要从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中任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了解他们对体育选修课的看法，请你用列表或画树状图的方法，求选出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恰好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篮球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选修足球的概率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2" descr=""/>
          <p:cNvPicPr/>
          <p:nvPr/>
        </p:nvPicPr>
        <p:blipFill>
          <a:blip r:embed="rId1"/>
          <a:stretch/>
        </p:blipFill>
        <p:spPr>
          <a:xfrm>
            <a:off x="487440" y="2109960"/>
            <a:ext cx="7589880" cy="94284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3" descr=""/>
          <p:cNvPicPr/>
          <p:nvPr/>
        </p:nvPicPr>
        <p:blipFill>
          <a:blip r:embed="rId2"/>
          <a:stretch/>
        </p:blipFill>
        <p:spPr>
          <a:xfrm>
            <a:off x="603360" y="3218040"/>
            <a:ext cx="8456400" cy="26640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4" descr=""/>
          <p:cNvPicPr/>
          <p:nvPr/>
        </p:nvPicPr>
        <p:blipFill>
          <a:blip r:embed="rId3"/>
          <a:stretch/>
        </p:blipFill>
        <p:spPr>
          <a:xfrm>
            <a:off x="603360" y="3611520"/>
            <a:ext cx="5779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对象 2" descr=""/>
          <p:cNvPicPr/>
          <p:nvPr/>
        </p:nvPicPr>
        <p:blipFill>
          <a:blip r:embed="rId1"/>
          <a:stretch/>
        </p:blipFill>
        <p:spPr>
          <a:xfrm>
            <a:off x="298440" y="5789520"/>
            <a:ext cx="6773760" cy="4515120"/>
          </a:xfrm>
          <a:prstGeom prst="rect">
            <a:avLst/>
          </a:prstGeom>
          <a:ln w="0">
            <a:noFill/>
          </a:ln>
        </p:spPr>
      </p:pic>
      <p:pic>
        <p:nvPicPr>
          <p:cNvPr id="262" name="对象 4" descr=""/>
          <p:cNvPicPr/>
          <p:nvPr/>
        </p:nvPicPr>
        <p:blipFill>
          <a:blip r:embed="rId2"/>
          <a:stretch/>
        </p:blipFill>
        <p:spPr>
          <a:xfrm>
            <a:off x="154080" y="3159000"/>
            <a:ext cx="6181560" cy="4127760"/>
          </a:xfrm>
          <a:prstGeom prst="rect">
            <a:avLst/>
          </a:prstGeom>
          <a:ln w="0">
            <a:noFill/>
          </a:ln>
        </p:spPr>
      </p:pic>
      <p:sp>
        <p:nvSpPr>
          <p:cNvPr id="263" name="矩形 1"/>
          <p:cNvSpPr/>
          <p:nvPr/>
        </p:nvSpPr>
        <p:spPr>
          <a:xfrm>
            <a:off x="231840" y="11160"/>
            <a:ext cx="886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每小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在每小题给出的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选项中，只有一项是符合题目要求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下列事件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足球赛中，弱队战胜强队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抛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枚硬币，硬币落地时正面朝上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任取两个正整数，其和大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长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 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 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三条线段能围成一个三角形．其中确定事件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一副完整的扑克牌，去掉大小王，将剩余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张混合后从中随机抽取一张，则抽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质地均匀的骰子六个面分别刻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点数，掷两次骰子，得到向上一面的两个点数，则下列事件中，发生可能性最大的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点数都是偶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点数的和为奇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点数的和小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点数的和小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×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正方形网格中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格点，已经取定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在余下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格点中任取一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直角三角形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T463a.tif"/>
          <p:cNvPicPr/>
          <p:nvPr/>
        </p:nvPicPr>
        <p:blipFill>
          <a:blip r:embed="rId3"/>
          <a:stretch/>
        </p:blipFill>
        <p:spPr>
          <a:xfrm>
            <a:off x="6541920" y="5537160"/>
            <a:ext cx="1008360" cy="1017720"/>
          </a:xfrm>
          <a:prstGeom prst="rect">
            <a:avLst/>
          </a:prstGeom>
          <a:ln w="0">
            <a:noFill/>
          </a:ln>
        </p:spPr>
      </p:pic>
      <p:sp>
        <p:nvSpPr>
          <p:cNvPr id="265" name="矩形 5"/>
          <p:cNvSpPr/>
          <p:nvPr/>
        </p:nvSpPr>
        <p:spPr>
          <a:xfrm>
            <a:off x="3085200" y="175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1842120" y="295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4911840" y="422928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4911840" y="5419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对象 4" descr=""/>
          <p:cNvPicPr/>
          <p:nvPr/>
        </p:nvPicPr>
        <p:blipFill>
          <a:blip r:embed="rId1"/>
          <a:stretch/>
        </p:blipFill>
        <p:spPr>
          <a:xfrm>
            <a:off x="598320" y="3332160"/>
            <a:ext cx="6382080" cy="4260960"/>
          </a:xfrm>
          <a:prstGeom prst="rect">
            <a:avLst/>
          </a:prstGeom>
          <a:ln w="0">
            <a:noFill/>
          </a:ln>
        </p:spPr>
      </p:pic>
      <p:pic>
        <p:nvPicPr>
          <p:cNvPr id="270" name="对象 2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6480000" cy="4329360"/>
          </a:xfrm>
          <a:prstGeom prst="rect">
            <a:avLst/>
          </a:prstGeom>
          <a:ln w="0">
            <a:noFill/>
          </a:ln>
        </p:spPr>
      </p:pic>
      <p:sp>
        <p:nvSpPr>
          <p:cNvPr id="271" name="矩形 1"/>
          <p:cNvSpPr/>
          <p:nvPr/>
        </p:nvSpPr>
        <p:spPr>
          <a:xfrm>
            <a:off x="468360" y="189000"/>
            <a:ext cx="8064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在一个口袋中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完全相同的小球，把它们分别标号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随机地摸出一个小球然后放回，再随机地摸出一个小球，则两次摸出的小球的标号之和等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三张背面完全相同的数字牌，它们的正面分别印有数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”“2”“3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将它们背面朝上，洗匀后随机抽取一张，记录牌上的数字并把牌放回，再重复这样的步骤两次，得到三个数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边长正好构成等边三角形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某市民政部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五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期间举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即开式福利彩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销售活动，发行彩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万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每张彩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在这次彩票中，设置如下奖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钱购买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张彩票，那么所得奖金不少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444680" y="4813200"/>
          <a:ext cx="4854600" cy="655560"/>
        </p:xfrm>
        <a:graphic>
          <a:graphicData uri="http://schemas.openxmlformats.org/drawingml/2006/table">
            <a:tbl>
              <a:tblPr/>
              <a:tblGrid>
                <a:gridCol w="1106640"/>
                <a:gridCol w="679320"/>
                <a:gridCol w="544320"/>
                <a:gridCol w="543240"/>
                <a:gridCol w="544320"/>
                <a:gridCol w="679320"/>
                <a:gridCol w="757440"/>
              </a:tblGrid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奖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273" name="对象 6" descr=""/>
          <p:cNvPicPr/>
          <p:nvPr/>
        </p:nvPicPr>
        <p:blipFill>
          <a:blip r:embed="rId3"/>
          <a:stretch/>
        </p:blipFill>
        <p:spPr>
          <a:xfrm>
            <a:off x="598320" y="5877000"/>
            <a:ext cx="6631200" cy="4429080"/>
          </a:xfrm>
          <a:prstGeom prst="rect">
            <a:avLst/>
          </a:prstGeom>
          <a:ln w="0">
            <a:noFill/>
          </a:ln>
        </p:spPr>
      </p:pic>
      <p:sp>
        <p:nvSpPr>
          <p:cNvPr id="274" name="矩形 7"/>
          <p:cNvSpPr/>
          <p:nvPr/>
        </p:nvSpPr>
        <p:spPr>
          <a:xfrm>
            <a:off x="3629880" y="1108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21754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6971400" y="5651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对象 3" descr=""/>
          <p:cNvPicPr/>
          <p:nvPr/>
        </p:nvPicPr>
        <p:blipFill>
          <a:blip r:embed="rId1"/>
          <a:stretch/>
        </p:blipFill>
        <p:spPr>
          <a:xfrm>
            <a:off x="250920" y="2968560"/>
            <a:ext cx="6210360" cy="4146480"/>
          </a:xfrm>
          <a:prstGeom prst="rect">
            <a:avLst/>
          </a:prstGeom>
          <a:ln w="0">
            <a:noFill/>
          </a:ln>
        </p:spPr>
      </p:pic>
      <p:pic>
        <p:nvPicPr>
          <p:cNvPr id="278" name="对象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6080040" cy="4060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1"/>
          <p:cNvSpPr/>
          <p:nvPr/>
        </p:nvSpPr>
        <p:spPr>
          <a:xfrm>
            <a:off x="468360" y="26028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小红制作了十张卡片，上面分别标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十个数字．从这十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卡片中随机抽取一张恰好能被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整除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用扇形统计图反映地球上陆地面积与海洋面积所占的比例时，陆地面积所对应的圆心角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当宇宙中一块陨石落在地球上，则落在陆地上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2    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3    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4    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甲、乙、丙三人站成一排拍照，则甲站在中间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甲、乙、丙三位同学参加一次节日活动，很幸运的是，他们都得到了一件精美的礼物．其过程是这样的：墙上挂着两串礼物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每次只能从其中一串的最下端取一件，直到礼物取完为止．甲第一个取得礼物，然后，乙、丙依次取得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件、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件礼物，事后他们打开这些礼物仔细比较发现礼物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最精美，那么取得礼物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可能性最大的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丙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无法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TT465.tif"/>
          <p:cNvPicPr/>
          <p:nvPr/>
        </p:nvPicPr>
        <p:blipFill>
          <a:blip r:embed="rId3"/>
          <a:stretch/>
        </p:blipFill>
        <p:spPr>
          <a:xfrm>
            <a:off x="6149880" y="5425920"/>
            <a:ext cx="914400" cy="704880"/>
          </a:xfrm>
          <a:prstGeom prst="rect">
            <a:avLst/>
          </a:prstGeom>
          <a:ln w="0">
            <a:noFill/>
          </a:ln>
        </p:spPr>
      </p:pic>
      <p:sp>
        <p:nvSpPr>
          <p:cNvPr id="281" name="矩形 5"/>
          <p:cNvSpPr/>
          <p:nvPr/>
        </p:nvSpPr>
        <p:spPr>
          <a:xfrm>
            <a:off x="5228280" y="77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6755400" y="2825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8235000" y="198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8"/>
          <p:cNvSpPr/>
          <p:nvPr/>
        </p:nvSpPr>
        <p:spPr>
          <a:xfrm>
            <a:off x="2186640" y="530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4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266760" cy="46692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2"/>
          <a:stretch/>
        </p:blipFill>
        <p:spPr>
          <a:xfrm>
            <a:off x="3203640" y="5157720"/>
            <a:ext cx="279360" cy="432000"/>
          </a:xfrm>
          <a:prstGeom prst="rect">
            <a:avLst/>
          </a:prstGeom>
          <a:ln w="0">
            <a:noFill/>
          </a:ln>
        </p:spPr>
      </p:pic>
      <p:pic>
        <p:nvPicPr>
          <p:cNvPr id="287" name="对象 2" descr=""/>
          <p:cNvPicPr/>
          <p:nvPr/>
        </p:nvPicPr>
        <p:blipFill>
          <a:blip r:embed="rId3"/>
          <a:stretch/>
        </p:blipFill>
        <p:spPr>
          <a:xfrm>
            <a:off x="900000" y="1392120"/>
            <a:ext cx="6080400" cy="4060800"/>
          </a:xfrm>
          <a:prstGeom prst="rect">
            <a:avLst/>
          </a:prstGeom>
          <a:ln w="0">
            <a:noFill/>
          </a:ln>
        </p:spPr>
      </p:pic>
      <p:sp>
        <p:nvSpPr>
          <p:cNvPr id="288" name="矩形 1"/>
          <p:cNvSpPr/>
          <p:nvPr/>
        </p:nvSpPr>
        <p:spPr>
          <a:xfrm>
            <a:off x="611280" y="26028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一个均匀的立方体各面上分别标有数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其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面展开图如图所示，抛掷这个立方体，则朝上一面的数字恰好等于朝下一面数字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倍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每小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一个不透明的布袋中有三种小球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颜色以外没有任何区别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分别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红球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白球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黑球，每次只摸出一个小球，观察后均放回搅匀．在连续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摸出的都是黑球的情况下，第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次摸出的是红球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如图，一个转盘被分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相同的扇形，颜色分为红、黄、绿三种，指针的位置固定，转动转盘后任其自由停止，其中的某个扇形会恰好停在指针所指的位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指针指向两个扇形的交线时，当做指向右边的扇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则指针指向红色的概率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TT466.tif"/>
          <p:cNvPicPr/>
          <p:nvPr/>
        </p:nvPicPr>
        <p:blipFill>
          <a:blip r:embed="rId4"/>
          <a:stretch/>
        </p:blipFill>
        <p:spPr>
          <a:xfrm>
            <a:off x="6183360" y="1289160"/>
            <a:ext cx="1150920" cy="885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TT467.tif"/>
          <p:cNvPicPr/>
          <p:nvPr/>
        </p:nvPicPr>
        <p:blipFill>
          <a:blip r:embed="rId5"/>
          <a:stretch/>
        </p:blipFill>
        <p:spPr>
          <a:xfrm>
            <a:off x="6305400" y="5372280"/>
            <a:ext cx="1206720" cy="1204560"/>
          </a:xfrm>
          <a:prstGeom prst="rect">
            <a:avLst/>
          </a:prstGeom>
          <a:ln w="0">
            <a:noFill/>
          </a:ln>
        </p:spPr>
      </p:pic>
      <p:sp>
        <p:nvSpPr>
          <p:cNvPr id="291" name="矩形 5"/>
          <p:cNvSpPr/>
          <p:nvPr/>
        </p:nvSpPr>
        <p:spPr>
          <a:xfrm>
            <a:off x="3099600" y="1187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684360" y="62064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小明正在玩飞镖游戏，如果小明将飞镖随意投中如图所示的正方形木框中，那么投中阴影部分的概率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现有四张完全相同的卡片，上面分别标有数字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把卡片背面朝上洗匀，然后从中随机抽取两张，则这两张卡片上的数字之积为负数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小云在一次班会中参与知识抢答活动，现有语文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、数学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、综合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，她从中随机抽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，抽中的都是数学题的概率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有一盒水彩笔除了颜色外无其他差别，其中各种颜色的数量统计如图所示．小腾在无法看到盒中水彩笔颜色的情形下随意抽出一支．小腾抽到蓝色水彩笔的概率为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TT468.tif"/>
          <p:cNvPicPr/>
          <p:nvPr/>
        </p:nvPicPr>
        <p:blipFill>
          <a:blip r:embed="rId1"/>
          <a:stretch/>
        </p:blipFill>
        <p:spPr>
          <a:xfrm>
            <a:off x="6261120" y="1131840"/>
            <a:ext cx="758880" cy="768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P129.tif"/>
          <p:cNvPicPr/>
          <p:nvPr/>
        </p:nvPicPr>
        <p:blipFill>
          <a:blip r:embed="rId2"/>
          <a:stretch/>
        </p:blipFill>
        <p:spPr>
          <a:xfrm>
            <a:off x="5530680" y="4995720"/>
            <a:ext cx="1332000" cy="124488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3" descr=""/>
          <p:cNvPicPr/>
          <p:nvPr/>
        </p:nvPicPr>
        <p:blipFill>
          <a:blip r:embed="rId3"/>
          <a:stretch/>
        </p:blipFill>
        <p:spPr>
          <a:xfrm>
            <a:off x="4322880" y="1052640"/>
            <a:ext cx="284040" cy="36648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"/>
          <p:cNvPicPr/>
          <p:nvPr/>
        </p:nvPicPr>
        <p:blipFill>
          <a:blip r:embed="rId4"/>
          <a:stretch/>
        </p:blipFill>
        <p:spPr>
          <a:xfrm>
            <a:off x="2268360" y="2676600"/>
            <a:ext cx="263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5" descr=""/>
          <p:cNvPicPr/>
          <p:nvPr/>
        </p:nvPicPr>
        <p:blipFill>
          <a:blip r:embed="rId5"/>
          <a:stretch/>
        </p:blipFill>
        <p:spPr>
          <a:xfrm>
            <a:off x="7020000" y="3500280"/>
            <a:ext cx="276120" cy="3668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6" descr=""/>
          <p:cNvPicPr/>
          <p:nvPr/>
        </p:nvPicPr>
        <p:blipFill>
          <a:blip r:embed="rId6"/>
          <a:stretch/>
        </p:blipFill>
        <p:spPr>
          <a:xfrm>
            <a:off x="2916360" y="4765680"/>
            <a:ext cx="2397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1"/>
          <p:cNvSpPr/>
          <p:nvPr/>
        </p:nvSpPr>
        <p:spPr>
          <a:xfrm>
            <a:off x="287280" y="325440"/>
            <a:ext cx="847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、解答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题，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，解答时应写出必要的文字说明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证明过程或演算步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三个不透明的布袋中分别放入一些除颜色不同外其他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同的玻璃球，并搅匀，具体情况如下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324080" y="2000160"/>
          <a:ext cx="5470560" cy="64620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366920"/>
              </a:tblGrid>
              <a:tr h="23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布袋编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8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袋中玻璃球色彩、数量及种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绿球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黄球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红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绿球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黄球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红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绿球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黄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301" name="矩形 3"/>
          <p:cNvSpPr/>
          <p:nvPr/>
        </p:nvSpPr>
        <p:spPr>
          <a:xfrm>
            <a:off x="268200" y="2597040"/>
            <a:ext cx="8848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下列事件中，哪些是随机事件，哪些是必然事件，哪些是不可能事件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随机从甲布袋中摸出一个玻璃球，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该球是黄色、绿色或红色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随机的从乙布袋中摸出两个玻璃球，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两个球中至少有一个不是绿色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随机的从丙布袋中摸出一个玻璃球，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该球是红色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随机的从甲布袋中和乙布袋中各摸出一个玻璃球，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＝两个球的颜色一致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8" descr=""/>
          <p:cNvPicPr/>
          <p:nvPr/>
        </p:nvPicPr>
        <p:blipFill>
          <a:blip r:embed="rId1"/>
          <a:stretch/>
        </p:blipFill>
        <p:spPr>
          <a:xfrm>
            <a:off x="420840" y="4781520"/>
            <a:ext cx="8542080" cy="50004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9" descr=""/>
          <p:cNvPicPr/>
          <p:nvPr/>
        </p:nvPicPr>
        <p:blipFill>
          <a:blip r:embed="rId2"/>
          <a:stretch/>
        </p:blipFill>
        <p:spPr>
          <a:xfrm>
            <a:off x="431640" y="5297400"/>
            <a:ext cx="8134560" cy="29520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0" descr=""/>
          <p:cNvPicPr/>
          <p:nvPr/>
        </p:nvPicPr>
        <p:blipFill>
          <a:blip r:embed="rId3"/>
          <a:stretch/>
        </p:blipFill>
        <p:spPr>
          <a:xfrm>
            <a:off x="420840" y="5680080"/>
            <a:ext cx="7877160" cy="2858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4"/>
          <a:stretch/>
        </p:blipFill>
        <p:spPr>
          <a:xfrm>
            <a:off x="420840" y="6058080"/>
            <a:ext cx="83404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611280" y="5572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不透明的袋中装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只有颜色不同的球，其中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黄球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黑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红球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从袋中摸出一个球是黄球的概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" descr=""/>
          <p:cNvPicPr/>
          <p:nvPr/>
        </p:nvPicPr>
        <p:blipFill>
          <a:blip r:embed="rId1"/>
          <a:stretch/>
        </p:blipFill>
        <p:spPr>
          <a:xfrm>
            <a:off x="611280" y="2022480"/>
            <a:ext cx="8208720" cy="2984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3" descr=""/>
          <p:cNvPicPr/>
          <p:nvPr/>
        </p:nvPicPr>
        <p:blipFill>
          <a:blip r:embed="rId2"/>
          <a:stretch/>
        </p:blipFill>
        <p:spPr>
          <a:xfrm>
            <a:off x="611280" y="2435400"/>
            <a:ext cx="4059000" cy="431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4"/>
          <p:cNvSpPr/>
          <p:nvPr/>
        </p:nvSpPr>
        <p:spPr>
          <a:xfrm>
            <a:off x="611280" y="2808360"/>
            <a:ext cx="772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现从袋中取出若干个黑球，搅匀后，使从袋中摸出一个球是黑球的概率是，求从袋中取出黑球的个数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611280" y="3732120"/>
            <a:ext cx="3097080" cy="36036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6" descr=""/>
          <p:cNvPicPr/>
          <p:nvPr/>
        </p:nvPicPr>
        <p:blipFill>
          <a:blip r:embed="rId4"/>
          <a:stretch/>
        </p:blipFill>
        <p:spPr>
          <a:xfrm>
            <a:off x="611280" y="4187880"/>
            <a:ext cx="3400200" cy="466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7" descr=""/>
          <p:cNvPicPr/>
          <p:nvPr/>
        </p:nvPicPr>
        <p:blipFill>
          <a:blip r:embed="rId5"/>
          <a:stretch/>
        </p:blipFill>
        <p:spPr>
          <a:xfrm>
            <a:off x="611280" y="4772160"/>
            <a:ext cx="3143160" cy="295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8" descr=""/>
          <p:cNvPicPr/>
          <p:nvPr/>
        </p:nvPicPr>
        <p:blipFill>
          <a:blip r:embed="rId6"/>
          <a:stretch/>
        </p:blipFill>
        <p:spPr>
          <a:xfrm>
            <a:off x="611280" y="5208480"/>
            <a:ext cx="292392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"/>
          <p:cNvSpPr/>
          <p:nvPr/>
        </p:nvSpPr>
        <p:spPr>
          <a:xfrm>
            <a:off x="755640" y="333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题满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莉和小慧用如图所示的两个转盘做游戏，转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个转盘各一次，若两次数字和为奇数，则小莉胜；若两次数字和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偶数，则小慧胜．这个游戏对双方公平吗？试用列表法或画树状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加以分析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TT471.tif"/>
          <p:cNvPicPr/>
          <p:nvPr/>
        </p:nvPicPr>
        <p:blipFill>
          <a:blip r:embed="rId1"/>
          <a:stretch/>
        </p:blipFill>
        <p:spPr>
          <a:xfrm>
            <a:off x="6307200" y="1863720"/>
            <a:ext cx="1593720" cy="6872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" descr=""/>
          <p:cNvPicPr/>
          <p:nvPr/>
        </p:nvPicPr>
        <p:blipFill>
          <a:blip r:embed="rId2"/>
          <a:stretch/>
        </p:blipFill>
        <p:spPr>
          <a:xfrm>
            <a:off x="828720" y="2085840"/>
            <a:ext cx="4741920" cy="21528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3" descr=""/>
          <p:cNvPicPr/>
          <p:nvPr/>
        </p:nvPicPr>
        <p:blipFill>
          <a:blip r:embed="rId3"/>
          <a:stretch/>
        </p:blipFill>
        <p:spPr>
          <a:xfrm>
            <a:off x="954000" y="4308480"/>
            <a:ext cx="614376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4" descr=""/>
          <p:cNvPicPr/>
          <p:nvPr/>
        </p:nvPicPr>
        <p:blipFill>
          <a:blip r:embed="rId4"/>
          <a:stretch/>
        </p:blipFill>
        <p:spPr>
          <a:xfrm>
            <a:off x="954000" y="4821120"/>
            <a:ext cx="4094280" cy="2764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5" descr=""/>
          <p:cNvPicPr/>
          <p:nvPr/>
        </p:nvPicPr>
        <p:blipFill>
          <a:blip r:embed="rId5"/>
          <a:stretch/>
        </p:blipFill>
        <p:spPr>
          <a:xfrm>
            <a:off x="4992840" y="4811760"/>
            <a:ext cx="771480" cy="29520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6" descr=""/>
          <p:cNvPicPr/>
          <p:nvPr/>
        </p:nvPicPr>
        <p:blipFill>
          <a:blip r:embed="rId6"/>
          <a:stretch/>
        </p:blipFill>
        <p:spPr>
          <a:xfrm>
            <a:off x="954000" y="5270400"/>
            <a:ext cx="5353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5T03:16:00Z</dcterms:created>
  <dc:creator>lenovo</dc:creator>
  <dc:description/>
  <dc:language>en-US</dc:language>
  <cp:lastModifiedBy>支持客服-曹文文</cp:lastModifiedBy>
  <dcterms:modified xsi:type="dcterms:W3CDTF">2018-03-14T00:53:17Z</dcterms:modified>
  <cp:revision>2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