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7.png" ContentType="image/png"/>
  <Override PartName="/ppt/media/image26.wmf" ContentType="image/x-wmf"/>
  <Override PartName="/ppt/media/image24.png" ContentType="image/png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6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34.png" ContentType="image/png"/>
  <Override PartName="/ppt/media/image17.wmf" ContentType="image/x-wmf"/>
  <Override PartName="/ppt/media/image9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1.png" ContentType="image/png"/>
  <Override PartName="/ppt/media/image29.wmf" ContentType="image/x-wmf"/>
  <Override PartName="/ppt/media/image31.png" ContentType="image/png"/>
  <Override PartName="/ppt/media/image6.png" ContentType="image/png"/>
  <Override PartName="/ppt/media/image36.png" ContentType="image/png"/>
  <Override PartName="/ppt/media/image40.png" ContentType="image/png"/>
  <Override PartName="/ppt/media/image4.jpeg" ContentType="image/jpe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.jpeg" ContentType="image/jpe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9EC9-27E8-4A7E-90A4-A79479DAA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78868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8560" y="3964320"/>
            <a:ext cx="78868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17AC-A7B2-4432-A0A8-6558E2785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8560" y="396432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BF47-67D4-4CAB-A5D0-3265C8C14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2539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95440" y="1600200"/>
            <a:ext cx="2539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62320" y="1600200"/>
            <a:ext cx="2539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28560" y="3964320"/>
            <a:ext cx="2539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95440" y="3964320"/>
            <a:ext cx="2539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62320" y="3964320"/>
            <a:ext cx="2539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1676-A99C-4588-84F2-2DB9D5068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75D26-8C2A-4BBA-BFC5-DCBD31EA2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28560" y="1600200"/>
            <a:ext cx="7886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AF355-3852-4D8D-8DEC-4EB350929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7886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74A28-F324-41ED-855D-6BAD0C65F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3848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48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64995-EFDD-4EA3-8FA3-D418564C7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47D12-BAB5-4EAF-A91A-4FB225D6F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28560" y="450720"/>
            <a:ext cx="7886880" cy="44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2DF87-B6FF-4241-B599-9B5D6985E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48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396432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E5E67-8EE8-4EBD-A463-7C81E9AED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28560" y="1600200"/>
            <a:ext cx="7886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9379-2E1D-472E-8D7F-18F3334DA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3848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CD42C-D8E2-4366-816A-A2153E2A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8560" y="3964320"/>
            <a:ext cx="78868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C8ECE-36CD-465B-99DD-CCFE0E3F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78868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28560" y="3964320"/>
            <a:ext cx="78868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BA85A-258E-432B-9E60-799FBCA9D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8560" y="396432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B6DE5-9BF5-4854-A1C1-2374D3573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2539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95440" y="1600200"/>
            <a:ext cx="2539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62320" y="1600200"/>
            <a:ext cx="2539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28560" y="3964320"/>
            <a:ext cx="2539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95440" y="3964320"/>
            <a:ext cx="2539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62320" y="3964320"/>
            <a:ext cx="2539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16E75-56C1-4C7D-B109-452CEF128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D5F7C-68C2-40C0-A835-11A17A483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28560" y="1600200"/>
            <a:ext cx="7886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B9E70-EE1E-437B-9995-5287ED694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7886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79E26-DB3E-4E18-8483-90C2D578C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3848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48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5A8EE-E97A-4EC4-97AD-59CB0513E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B1889-1C0B-41D2-80E7-92EE5F42A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7886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2FC4-2234-40BB-A47E-4B4C17875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628560" y="450720"/>
            <a:ext cx="7886880" cy="44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D15DA-B3D3-4DF8-9EA9-3B394B7CB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48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28560" y="396432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47477-DC4A-46B1-B1C3-CBF398390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3848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E9D8E-DDE8-46EA-9248-43C52104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28560" y="3964320"/>
            <a:ext cx="78868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F4B07-B2B1-4669-87F4-2E16095C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78868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28560" y="3964320"/>
            <a:ext cx="78868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4A22F-EDA2-43C4-B05D-D8CD3B50B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28560" y="396432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8801E-7457-442A-AB0B-7FB108429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2539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95440" y="1600200"/>
            <a:ext cx="2539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962320" y="1600200"/>
            <a:ext cx="2539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628560" y="3964320"/>
            <a:ext cx="2539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95440" y="3964320"/>
            <a:ext cx="2539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5962320" y="3964320"/>
            <a:ext cx="2539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B49C7-55B9-4B0D-B579-A2887DD30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06A74-9A81-4F77-937D-338C5CA80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28560" y="1600200"/>
            <a:ext cx="7886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303F5-F0D9-4682-AFC3-498187EE7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7886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9C083-B2AA-4FE1-8CA0-1A749A766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3848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48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6A0F-1D4E-431F-B2C4-204FFB885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3848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48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8CD8A-5776-4AC9-A69B-D93F97109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C3E27-010F-4CD7-B741-12063F00F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28560" y="450720"/>
            <a:ext cx="7886880" cy="44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DC77C-330D-4A61-A37D-67B59124B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48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28560" y="396432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D59BD-ADB5-4E38-8FCC-0E222C8F1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3848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8FCB2-BA1D-41B5-AA9C-78686A5BA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28560" y="3964320"/>
            <a:ext cx="78868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5B1EA-A183-4D90-B6C2-47DB82552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78868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28560" y="3964320"/>
            <a:ext cx="78868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922EE-115F-49E9-9AC6-02152C1A0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28560" y="396432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FCFFB-17F1-491E-9191-E0F188A48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2539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95440" y="1600200"/>
            <a:ext cx="2539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962320" y="1600200"/>
            <a:ext cx="2539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28560" y="3964320"/>
            <a:ext cx="2539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95440" y="3964320"/>
            <a:ext cx="2539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962320" y="3964320"/>
            <a:ext cx="2539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18DEA-75FF-45BB-9DA2-CA25F1A39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BC11AD-B0B3-44BD-A558-8A08AFB4A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2516-42E5-4B91-8F6F-42CF86CCC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628560" y="1600200"/>
            <a:ext cx="7886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285E1C-A2D3-42C8-B271-C839BBB41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7886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78B290-2769-44D8-BF92-C5144DB75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3848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48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F020CA-5EC3-4E19-9948-85EE82E11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3B2CE5-AF8A-4631-93CB-D317CA494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628560" y="450720"/>
            <a:ext cx="7886880" cy="44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33A4A-2EE2-47FC-AF9E-F6F7E2709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48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28560" y="396432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F2415-4ABA-4BC5-9EA9-6F10F613A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3848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4774B-AB6A-4098-96F0-BEFADBE5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8560" y="3964320"/>
            <a:ext cx="78868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9994A6-15F6-4C14-871A-73CFE58E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78868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8560" y="3964320"/>
            <a:ext cx="78868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DA874D-1F0F-4DB0-A56A-E63F6934F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28560" y="396432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EF9789-4CF2-4A02-A5B7-828C8E474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28560" y="450720"/>
            <a:ext cx="7886880" cy="44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7270-1FB5-4D31-997E-7AF6F9312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2539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95440" y="1600200"/>
            <a:ext cx="2539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962320" y="1600200"/>
            <a:ext cx="2539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628560" y="3964320"/>
            <a:ext cx="2539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95440" y="3964320"/>
            <a:ext cx="2539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962320" y="3964320"/>
            <a:ext cx="2539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61200-6292-4887-ACC4-2B5E6C7E0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48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8560" y="396432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A9C6-E5F3-4631-A6C1-4BBB85B56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3848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57BB-47A4-4BE4-AA35-13375AC7B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28560" y="3964320"/>
            <a:ext cx="78868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75ED-C675-4E07-BB1F-A5D52B40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6721560"/>
            <a:ext cx="9143640" cy="144360"/>
            <a:chOff x="1440" y="6721560"/>
            <a:chExt cx="9143640" cy="144360"/>
          </a:xfrm>
        </p:grpSpPr>
        <p:sp>
          <p:nvSpPr>
            <p:cNvPr id="1" name="矩形 7"/>
            <p:cNvSpPr/>
            <p:nvPr/>
          </p:nvSpPr>
          <p:spPr>
            <a:xfrm>
              <a:off x="1440" y="6721560"/>
              <a:ext cx="4201560" cy="142560"/>
            </a:xfrm>
            <a:prstGeom prst="rect">
              <a:avLst/>
            </a:prstGeom>
            <a:solidFill>
              <a:srgbClr val="eef2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" name="矩形 11"/>
            <p:cNvSpPr/>
            <p:nvPr/>
          </p:nvSpPr>
          <p:spPr>
            <a:xfrm>
              <a:off x="4674960" y="6721560"/>
              <a:ext cx="4470120" cy="142560"/>
            </a:xfrm>
            <a:prstGeom prst="rect">
              <a:avLst/>
            </a:prstGeom>
            <a:solidFill>
              <a:srgbClr val="5a4c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矩形 8"/>
            <p:cNvSpPr/>
            <p:nvPr/>
          </p:nvSpPr>
          <p:spPr>
            <a:xfrm>
              <a:off x="4151160" y="6721560"/>
              <a:ext cx="285480" cy="142560"/>
            </a:xfrm>
            <a:prstGeom prst="rect">
              <a:avLst/>
            </a:prstGeom>
            <a:solidFill>
              <a:srgbClr val="b2d4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矩形 9"/>
            <p:cNvSpPr/>
            <p:nvPr/>
          </p:nvSpPr>
          <p:spPr>
            <a:xfrm>
              <a:off x="4326840" y="6721560"/>
              <a:ext cx="239760" cy="142560"/>
            </a:xfrm>
            <a:prstGeom prst="rect">
              <a:avLst/>
            </a:prstGeom>
            <a:solidFill>
              <a:srgbClr val="61ad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矩形 10"/>
            <p:cNvSpPr/>
            <p:nvPr/>
          </p:nvSpPr>
          <p:spPr>
            <a:xfrm>
              <a:off x="4481280" y="6721560"/>
              <a:ext cx="196560" cy="144360"/>
            </a:xfrm>
            <a:prstGeom prst="rect">
              <a:avLst/>
            </a:prstGeom>
            <a:solidFill>
              <a:srgbClr val="258f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28560" y="1600200"/>
            <a:ext cx="7886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098AD-D3AF-43B2-97F1-1167315A2301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51930-A5BB-4EDD-AB7E-4FB75BF1F6E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2281320" y="4354560"/>
            <a:ext cx="1366920" cy="1368360"/>
          </a:xfrm>
          <a:prstGeom prst="rect">
            <a:avLst/>
          </a:prstGeom>
          <a:solidFill>
            <a:srgbClr val="6ab598"/>
          </a:solidFill>
          <a:ln w="44280">
            <a:solidFill>
              <a:srgbClr val="6ab5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5" descr=""/>
          <p:cNvPicPr/>
          <p:nvPr/>
        </p:nvPicPr>
        <p:blipFill>
          <a:blip r:embed="rId3"/>
          <a:stretch/>
        </p:blipFill>
        <p:spPr>
          <a:xfrm>
            <a:off x="2317680" y="4390920"/>
            <a:ext cx="1295640" cy="12956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8"/>
          <p:cNvSpPr/>
          <p:nvPr/>
        </p:nvSpPr>
        <p:spPr>
          <a:xfrm>
            <a:off x="3841920" y="4354560"/>
            <a:ext cx="1366560" cy="1368360"/>
          </a:xfrm>
          <a:prstGeom prst="rect">
            <a:avLst/>
          </a:prstGeom>
          <a:solidFill>
            <a:srgbClr val="6ab598"/>
          </a:solidFill>
          <a:ln w="44280">
            <a:solidFill>
              <a:srgbClr val="6ab5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4"/>
          <a:stretch/>
        </p:blipFill>
        <p:spPr>
          <a:xfrm>
            <a:off x="3876840" y="4390920"/>
            <a:ext cx="1295280" cy="12956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0"/>
          <p:cNvSpPr/>
          <p:nvPr/>
        </p:nvSpPr>
        <p:spPr>
          <a:xfrm>
            <a:off x="720720" y="4354560"/>
            <a:ext cx="1368360" cy="1368360"/>
          </a:xfrm>
          <a:prstGeom prst="rect">
            <a:avLst/>
          </a:prstGeom>
          <a:solidFill>
            <a:srgbClr val="6ab598"/>
          </a:solidFill>
          <a:ln w="44280">
            <a:solidFill>
              <a:srgbClr val="6ab5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5"/>
          <a:stretch/>
        </p:blipFill>
        <p:spPr>
          <a:xfrm>
            <a:off x="757080" y="4390920"/>
            <a:ext cx="1295640" cy="12956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28560" y="1600200"/>
            <a:ext cx="7886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ECE2C-714B-48D8-B1C2-1B25C5AE31F8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3C660-3F0A-41D1-93CD-4B419F085D7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2"/>
          <p:cNvGrpSpPr/>
          <p:nvPr/>
        </p:nvGrpSpPr>
        <p:grpSpPr>
          <a:xfrm>
            <a:off x="1440" y="6721560"/>
            <a:ext cx="9143640" cy="144360"/>
            <a:chOff x="1440" y="6721560"/>
            <a:chExt cx="9143640" cy="144360"/>
          </a:xfrm>
        </p:grpSpPr>
        <p:sp>
          <p:nvSpPr>
            <p:cNvPr id="95" name="矩形 7"/>
            <p:cNvSpPr/>
            <p:nvPr/>
          </p:nvSpPr>
          <p:spPr>
            <a:xfrm>
              <a:off x="1440" y="6721560"/>
              <a:ext cx="4201560" cy="142560"/>
            </a:xfrm>
            <a:prstGeom prst="rect">
              <a:avLst/>
            </a:prstGeom>
            <a:solidFill>
              <a:srgbClr val="eef2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矩形 11"/>
            <p:cNvSpPr/>
            <p:nvPr/>
          </p:nvSpPr>
          <p:spPr>
            <a:xfrm>
              <a:off x="4674960" y="6721560"/>
              <a:ext cx="4470120" cy="142560"/>
            </a:xfrm>
            <a:prstGeom prst="rect">
              <a:avLst/>
            </a:prstGeom>
            <a:solidFill>
              <a:srgbClr val="5a4c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矩形 8"/>
            <p:cNvSpPr/>
            <p:nvPr/>
          </p:nvSpPr>
          <p:spPr>
            <a:xfrm>
              <a:off x="4151160" y="6721560"/>
              <a:ext cx="285480" cy="142560"/>
            </a:xfrm>
            <a:prstGeom prst="rect">
              <a:avLst/>
            </a:prstGeom>
            <a:solidFill>
              <a:srgbClr val="b2d4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矩形 9"/>
            <p:cNvSpPr/>
            <p:nvPr/>
          </p:nvSpPr>
          <p:spPr>
            <a:xfrm>
              <a:off x="4326840" y="6721560"/>
              <a:ext cx="239760" cy="142560"/>
            </a:xfrm>
            <a:prstGeom prst="rect">
              <a:avLst/>
            </a:prstGeom>
            <a:solidFill>
              <a:srgbClr val="61ad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矩形 10"/>
            <p:cNvSpPr/>
            <p:nvPr/>
          </p:nvSpPr>
          <p:spPr>
            <a:xfrm>
              <a:off x="4481280" y="6721560"/>
              <a:ext cx="196560" cy="144360"/>
            </a:xfrm>
            <a:prstGeom prst="rect">
              <a:avLst/>
            </a:prstGeom>
            <a:solidFill>
              <a:srgbClr val="258f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0" name="Oval 7"/>
          <p:cNvSpPr/>
          <p:nvPr/>
        </p:nvSpPr>
        <p:spPr>
          <a:xfrm>
            <a:off x="1362240" y="2241720"/>
            <a:ext cx="2052360" cy="2050920"/>
          </a:xfrm>
          <a:prstGeom prst="ellipse">
            <a:avLst/>
          </a:prstGeom>
          <a:solidFill>
            <a:srgbClr val="009999">
              <a:alpha val="80000"/>
            </a:srgbClr>
          </a:solidFill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28560" y="1600200"/>
            <a:ext cx="7886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30135-1CB3-441B-9030-EB8691281272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3125F-019B-45B9-8052-2479A7FF1E0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1440" y="6721560"/>
            <a:ext cx="9143640" cy="144360"/>
            <a:chOff x="1440" y="6721560"/>
            <a:chExt cx="9143640" cy="144360"/>
          </a:xfrm>
        </p:grpSpPr>
        <p:sp>
          <p:nvSpPr>
            <p:cNvPr id="143" name="矩形 7"/>
            <p:cNvSpPr/>
            <p:nvPr/>
          </p:nvSpPr>
          <p:spPr>
            <a:xfrm>
              <a:off x="1440" y="6721560"/>
              <a:ext cx="4201560" cy="142560"/>
            </a:xfrm>
            <a:prstGeom prst="rect">
              <a:avLst/>
            </a:prstGeom>
            <a:solidFill>
              <a:srgbClr val="eef2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矩形 11"/>
            <p:cNvSpPr/>
            <p:nvPr/>
          </p:nvSpPr>
          <p:spPr>
            <a:xfrm>
              <a:off x="4674960" y="6721560"/>
              <a:ext cx="4470120" cy="142560"/>
            </a:xfrm>
            <a:prstGeom prst="rect">
              <a:avLst/>
            </a:prstGeom>
            <a:solidFill>
              <a:srgbClr val="5a4c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矩形 8"/>
            <p:cNvSpPr/>
            <p:nvPr/>
          </p:nvSpPr>
          <p:spPr>
            <a:xfrm>
              <a:off x="4151160" y="6721560"/>
              <a:ext cx="285480" cy="142560"/>
            </a:xfrm>
            <a:prstGeom prst="rect">
              <a:avLst/>
            </a:prstGeom>
            <a:solidFill>
              <a:srgbClr val="b2d4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矩形 9"/>
            <p:cNvSpPr/>
            <p:nvPr/>
          </p:nvSpPr>
          <p:spPr>
            <a:xfrm>
              <a:off x="4326840" y="6721560"/>
              <a:ext cx="239760" cy="142560"/>
            </a:xfrm>
            <a:prstGeom prst="rect">
              <a:avLst/>
            </a:prstGeom>
            <a:solidFill>
              <a:srgbClr val="61ad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矩形 10"/>
            <p:cNvSpPr/>
            <p:nvPr/>
          </p:nvSpPr>
          <p:spPr>
            <a:xfrm>
              <a:off x="4481280" y="6721560"/>
              <a:ext cx="196560" cy="144360"/>
            </a:xfrm>
            <a:prstGeom prst="rect">
              <a:avLst/>
            </a:prstGeom>
            <a:solidFill>
              <a:srgbClr val="258f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622760" y="1979640"/>
            <a:ext cx="360" cy="4118040"/>
            <a:chOff x="4622760" y="1979640"/>
            <a:chExt cx="360" cy="4118040"/>
          </a:xfrm>
        </p:grpSpPr>
        <p:sp>
          <p:nvSpPr>
            <p:cNvPr id="149" name="直接连接符 12"/>
            <p:cNvSpPr/>
            <p:nvPr/>
          </p:nvSpPr>
          <p:spPr>
            <a:xfrm>
              <a:off x="4622760" y="1979640"/>
              <a:ext cx="0" cy="4118040"/>
            </a:xfrm>
            <a:prstGeom prst="line">
              <a:avLst/>
            </a:prstGeom>
            <a:ln w="25560">
              <a:solidFill>
                <a:srgbClr val="abd2b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"/>
            <p:cNvSpPr txBox="1"/>
            <p:nvPr/>
          </p:nvSpPr>
          <p:spPr>
            <a:xfrm>
              <a:off x="4622760" y="1979640"/>
              <a:ext cx="360" cy="4118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28560" y="1600200"/>
            <a:ext cx="7886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066E5-038E-4D43-B8FE-E1537184EF63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851DF-B7A7-4856-AA98-C75A8A619BD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1440" y="6721560"/>
            <a:ext cx="9143640" cy="144360"/>
            <a:chOff x="1440" y="6721560"/>
            <a:chExt cx="9143640" cy="144360"/>
          </a:xfrm>
        </p:grpSpPr>
        <p:sp>
          <p:nvSpPr>
            <p:cNvPr id="193" name="矩形 7"/>
            <p:cNvSpPr/>
            <p:nvPr/>
          </p:nvSpPr>
          <p:spPr>
            <a:xfrm>
              <a:off x="1440" y="6721560"/>
              <a:ext cx="4201560" cy="142560"/>
            </a:xfrm>
            <a:prstGeom prst="rect">
              <a:avLst/>
            </a:prstGeom>
            <a:solidFill>
              <a:srgbClr val="eef2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矩形 11"/>
            <p:cNvSpPr/>
            <p:nvPr/>
          </p:nvSpPr>
          <p:spPr>
            <a:xfrm>
              <a:off x="4674960" y="6721560"/>
              <a:ext cx="4470120" cy="142560"/>
            </a:xfrm>
            <a:prstGeom prst="rect">
              <a:avLst/>
            </a:prstGeom>
            <a:solidFill>
              <a:srgbClr val="5a4c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矩形 8"/>
            <p:cNvSpPr/>
            <p:nvPr/>
          </p:nvSpPr>
          <p:spPr>
            <a:xfrm>
              <a:off x="4151160" y="6721560"/>
              <a:ext cx="285480" cy="142560"/>
            </a:xfrm>
            <a:prstGeom prst="rect">
              <a:avLst/>
            </a:prstGeom>
            <a:solidFill>
              <a:srgbClr val="b2d4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矩形 9"/>
            <p:cNvSpPr/>
            <p:nvPr/>
          </p:nvSpPr>
          <p:spPr>
            <a:xfrm>
              <a:off x="4326840" y="6721560"/>
              <a:ext cx="239760" cy="142560"/>
            </a:xfrm>
            <a:prstGeom prst="rect">
              <a:avLst/>
            </a:prstGeom>
            <a:solidFill>
              <a:srgbClr val="61ad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矩形 10"/>
            <p:cNvSpPr/>
            <p:nvPr/>
          </p:nvSpPr>
          <p:spPr>
            <a:xfrm>
              <a:off x="4481280" y="6721560"/>
              <a:ext cx="196560" cy="144360"/>
            </a:xfrm>
            <a:prstGeom prst="rect">
              <a:avLst/>
            </a:prstGeom>
            <a:solidFill>
              <a:srgbClr val="258f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28560" y="1600200"/>
            <a:ext cx="7886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628200" y="6561000"/>
            <a:ext cx="205740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DF116-3E4B-4076-922E-226D5CEFE877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029040" y="6561000"/>
            <a:ext cx="308592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457680" y="6561000"/>
            <a:ext cx="205740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3D263-44D8-4228-A5A6-AC541513429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矩形 3"/>
          <p:cNvSpPr/>
          <p:nvPr/>
        </p:nvSpPr>
        <p:spPr>
          <a:xfrm>
            <a:off x="531720" y="220680"/>
            <a:ext cx="7488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.2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列举法求概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课时　用列表法求概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0" name="Picture 2" descr="课前1.TIF"/>
          <p:cNvPicPr/>
          <p:nvPr/>
        </p:nvPicPr>
        <p:blipFill>
          <a:blip r:embed="rId1"/>
          <a:stretch/>
        </p:blipFill>
        <p:spPr>
          <a:xfrm>
            <a:off x="250920" y="1341360"/>
            <a:ext cx="2369880" cy="432000"/>
          </a:xfrm>
          <a:prstGeom prst="rect">
            <a:avLst/>
          </a:prstGeom>
          <a:ln w="0">
            <a:noFill/>
          </a:ln>
        </p:spPr>
      </p:pic>
      <p:sp>
        <p:nvSpPr>
          <p:cNvPr id="241" name="矩形 4"/>
          <p:cNvSpPr/>
          <p:nvPr/>
        </p:nvSpPr>
        <p:spPr>
          <a:xfrm>
            <a:off x="900000" y="1989000"/>
            <a:ext cx="73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新宋体"/>
                <a:ea typeface="新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新宋体"/>
                <a:ea typeface="新宋体"/>
              </a:rPr>
              <a:t>．等可能性事件的概率可以用</a:t>
            </a:r>
            <a:r>
              <a:rPr b="0" lang="en-US" sz="1800" spc="-1" strike="noStrike">
                <a:solidFill>
                  <a:srgbClr val="000000"/>
                </a:solidFill>
                <a:latin typeface="新宋体"/>
                <a:ea typeface="新宋体"/>
              </a:rPr>
              <a:t>__________ </a:t>
            </a:r>
            <a:r>
              <a:rPr b="0" lang="zh-CN" sz="1800" spc="-1" strike="noStrike">
                <a:solidFill>
                  <a:srgbClr val="000000"/>
                </a:solidFill>
                <a:latin typeface="新宋体"/>
                <a:ea typeface="新宋体"/>
              </a:rPr>
              <a:t>．如果一个事件涉及两个因素，当可能出现的结果数目较少时，一般</a:t>
            </a:r>
            <a:r>
              <a:rPr b="0" lang="en-US" sz="1800" spc="-1" strike="noStrike">
                <a:solidFill>
                  <a:srgbClr val="000000"/>
                </a:solidFill>
                <a:latin typeface="新宋体"/>
                <a:ea typeface="新宋体"/>
              </a:rPr>
              <a:t>__________</a:t>
            </a:r>
            <a:r>
              <a:rPr b="0" lang="zh-CN" sz="1800" spc="-1" strike="noStrike">
                <a:solidFill>
                  <a:srgbClr val="000000"/>
                </a:solidFill>
                <a:latin typeface="新宋体"/>
                <a:ea typeface="新宋体"/>
              </a:rPr>
              <a:t>出各种结果；当可能出现的结果数目较多时，通常采用</a:t>
            </a:r>
            <a:r>
              <a:rPr b="0" lang="en-US" sz="1800" spc="-1" strike="noStrike">
                <a:solidFill>
                  <a:srgbClr val="000000"/>
                </a:solidFill>
                <a:latin typeface="新宋体"/>
                <a:ea typeface="新宋体"/>
              </a:rPr>
              <a:t>__________ </a:t>
            </a:r>
            <a:r>
              <a:rPr b="0" lang="zh-CN" sz="1800" spc="-1" strike="noStrike">
                <a:solidFill>
                  <a:srgbClr val="000000"/>
                </a:solidFill>
                <a:latin typeface="新宋体"/>
                <a:ea typeface="新宋体"/>
              </a:rPr>
              <a:t>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新宋体"/>
                <a:ea typeface="新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新宋体"/>
                <a:ea typeface="新宋体"/>
              </a:rPr>
              <a:t>．运用列表法求概率的步骤如下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新宋体"/>
                <a:ea typeface="新宋体"/>
              </a:rPr>
              <a:t>__________ </a:t>
            </a:r>
            <a:r>
              <a:rPr b="0" lang="zh-CN" sz="1800" spc="-1" strike="noStrike">
                <a:solidFill>
                  <a:srgbClr val="000000"/>
                </a:solidFill>
                <a:latin typeface="新宋体"/>
                <a:ea typeface="新宋体"/>
              </a:rPr>
              <a:t>通过表格计数，确定公式</a:t>
            </a:r>
            <a:r>
              <a:rPr b="0" lang="en-US" sz="1800" spc="-1" strike="noStrike">
                <a:solidFill>
                  <a:srgbClr val="000000"/>
                </a:solidFill>
                <a:latin typeface="新宋体"/>
                <a:ea typeface="新宋体"/>
              </a:rPr>
              <a:t>P(A)</a:t>
            </a:r>
            <a:r>
              <a:rPr b="0" lang="zh-CN" sz="1800" spc="-1" strike="noStrike">
                <a:solidFill>
                  <a:srgbClr val="000000"/>
                </a:solidFill>
                <a:latin typeface="新宋体"/>
                <a:ea typeface="新宋体"/>
              </a:rPr>
              <a:t>＝中</a:t>
            </a:r>
            <a:r>
              <a:rPr b="0" lang="en-US" sz="1800" spc="-1" strike="noStrike">
                <a:solidFill>
                  <a:srgbClr val="000000"/>
                </a:solidFill>
                <a:latin typeface="新宋体"/>
                <a:ea typeface="新宋体"/>
              </a:rPr>
              <a:t>m</a:t>
            </a:r>
            <a:r>
              <a:rPr b="0" lang="zh-CN" sz="1800" spc="-1" strike="noStrike">
                <a:solidFill>
                  <a:srgbClr val="000000"/>
                </a:solidFill>
                <a:latin typeface="新宋体"/>
                <a:ea typeface="新宋体"/>
              </a:rPr>
              <a:t>和</a:t>
            </a:r>
            <a:r>
              <a:rPr b="0" lang="en-US" sz="1800" spc="-1" strike="noStrike">
                <a:solidFill>
                  <a:srgbClr val="000000"/>
                </a:solidFill>
                <a:latin typeface="新宋体"/>
                <a:ea typeface="新宋体"/>
              </a:rPr>
              <a:t>n</a:t>
            </a:r>
            <a:r>
              <a:rPr b="0" lang="zh-CN" sz="1800" spc="-1" strike="noStrike">
                <a:solidFill>
                  <a:srgbClr val="000000"/>
                </a:solidFill>
                <a:latin typeface="新宋体"/>
                <a:ea typeface="新宋体"/>
              </a:rPr>
              <a:t>的值</a:t>
            </a:r>
            <a:r>
              <a:rPr b="0" lang="en-US" sz="1800" spc="-1" strike="noStrike">
                <a:solidFill>
                  <a:srgbClr val="000000"/>
                </a:solidFill>
                <a:latin typeface="新宋体"/>
                <a:ea typeface="新宋体"/>
              </a:rPr>
              <a:t>→</a:t>
            </a:r>
            <a:r>
              <a:rPr b="0" lang="zh-CN" sz="1800" spc="-1" strike="noStrike">
                <a:solidFill>
                  <a:srgbClr val="000000"/>
                </a:solidFill>
                <a:latin typeface="新宋体"/>
                <a:ea typeface="新宋体"/>
              </a:rPr>
              <a:t>利用公式</a:t>
            </a:r>
            <a:r>
              <a:rPr b="0" lang="en-US" sz="1800" spc="-1" strike="noStrike">
                <a:solidFill>
                  <a:srgbClr val="000000"/>
                </a:solidFill>
                <a:latin typeface="新宋体"/>
                <a:ea typeface="新宋体"/>
              </a:rPr>
              <a:t>P(A)</a:t>
            </a:r>
            <a:r>
              <a:rPr b="0" lang="zh-CN" sz="1800" spc="-1" strike="noStrike">
                <a:solidFill>
                  <a:srgbClr val="000000"/>
                </a:solidFill>
                <a:latin typeface="新宋体"/>
                <a:ea typeface="新宋体"/>
              </a:rPr>
              <a:t>＝计算事件的概率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2" name="Picture 3" descr=""/>
          <p:cNvPicPr/>
          <p:nvPr/>
        </p:nvPicPr>
        <p:blipFill>
          <a:blip r:embed="rId2"/>
          <a:stretch/>
        </p:blipFill>
        <p:spPr>
          <a:xfrm>
            <a:off x="4284720" y="2060640"/>
            <a:ext cx="723960" cy="2379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"/>
          <p:cNvPicPr/>
          <p:nvPr/>
        </p:nvPicPr>
        <p:blipFill>
          <a:blip r:embed="rId3"/>
          <a:stretch/>
        </p:blipFill>
        <p:spPr>
          <a:xfrm>
            <a:off x="5292720" y="2492280"/>
            <a:ext cx="790560" cy="2095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5" descr=""/>
          <p:cNvPicPr/>
          <p:nvPr/>
        </p:nvPicPr>
        <p:blipFill>
          <a:blip r:embed="rId4"/>
          <a:stretch/>
        </p:blipFill>
        <p:spPr>
          <a:xfrm>
            <a:off x="4890960" y="2924280"/>
            <a:ext cx="638280" cy="1998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6" descr=""/>
          <p:cNvPicPr/>
          <p:nvPr/>
        </p:nvPicPr>
        <p:blipFill>
          <a:blip r:embed="rId5"/>
          <a:stretch/>
        </p:blipFill>
        <p:spPr>
          <a:xfrm>
            <a:off x="1447920" y="4149720"/>
            <a:ext cx="39996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2" descr="思维突破.TIF"/>
          <p:cNvPicPr/>
          <p:nvPr/>
        </p:nvPicPr>
        <p:blipFill>
          <a:blip r:embed="rId1"/>
          <a:stretch/>
        </p:blipFill>
        <p:spPr>
          <a:xfrm>
            <a:off x="324000" y="225360"/>
            <a:ext cx="1533240" cy="358920"/>
          </a:xfrm>
          <a:prstGeom prst="rect">
            <a:avLst/>
          </a:prstGeom>
          <a:ln w="0">
            <a:noFill/>
          </a:ln>
        </p:spPr>
      </p:pic>
      <p:sp>
        <p:nvSpPr>
          <p:cNvPr id="285" name="矩形 1"/>
          <p:cNvSpPr/>
          <p:nvPr/>
        </p:nvSpPr>
        <p:spPr>
          <a:xfrm>
            <a:off x="755640" y="692280"/>
            <a:ext cx="7632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新宋体"/>
                <a:ea typeface="新宋体"/>
              </a:rPr>
              <a:t>11</a:t>
            </a:r>
            <a:r>
              <a:rPr b="0" lang="zh-CN" sz="1800" spc="-1" strike="noStrike">
                <a:solidFill>
                  <a:srgbClr val="000000"/>
                </a:solidFill>
                <a:latin typeface="新宋体"/>
                <a:ea typeface="新宋体"/>
              </a:rPr>
              <a:t>．江苏卫视《最强大脑》曾播出一期</a:t>
            </a:r>
            <a:r>
              <a:rPr b="0" lang="en-US" sz="1800" spc="-1" strike="noStrike">
                <a:solidFill>
                  <a:srgbClr val="000000"/>
                </a:solidFill>
                <a:latin typeface="新宋体"/>
                <a:ea typeface="新宋体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新宋体"/>
                <a:ea typeface="新宋体"/>
              </a:rPr>
              <a:t>辨脸识人</a:t>
            </a:r>
            <a:r>
              <a:rPr b="0" lang="en-US" sz="1800" spc="-1" strike="noStrike">
                <a:solidFill>
                  <a:srgbClr val="000000"/>
                </a:solidFill>
                <a:latin typeface="新宋体"/>
                <a:ea typeface="新宋体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新宋体"/>
                <a:ea typeface="新宋体"/>
              </a:rPr>
              <a:t>节目，参赛选手以家庭为单位，每组家庭由爸爸、妈妈和宝宝</a:t>
            </a:r>
            <a:r>
              <a:rPr b="0" lang="en-US" sz="1800" spc="-1" strike="noStrike">
                <a:solidFill>
                  <a:srgbClr val="000000"/>
                </a:solidFill>
                <a:latin typeface="新宋体"/>
                <a:ea typeface="新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新宋体"/>
                <a:ea typeface="新宋体"/>
              </a:rPr>
              <a:t>人组成，爸爸、妈妈和宝宝分散在三块区域，选手需在宝宝中选一个宝宝，然后分别在爸爸区域和妈妈区域中正确找出这个宝宝的父母，不考虑其他因素，仅从数学角度思考，已知在某期比赛中有</a:t>
            </a:r>
            <a:r>
              <a:rPr b="0" lang="en-US" sz="1800" spc="-1" strike="noStrike">
                <a:solidFill>
                  <a:srgbClr val="000000"/>
                </a:solidFill>
                <a:latin typeface="新宋体"/>
                <a:ea typeface="新宋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新宋体"/>
                <a:ea typeface="新宋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新宋体"/>
                <a:ea typeface="新宋体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新宋体"/>
                <a:ea typeface="新宋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新宋体"/>
                <a:ea typeface="新宋体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新宋体"/>
                <a:ea typeface="新宋体"/>
              </a:rPr>
              <a:t>三组家庭进行比赛，求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新宋体"/>
                <a:ea typeface="新宋体"/>
              </a:rPr>
              <a:t>(1)</a:t>
            </a:r>
            <a:r>
              <a:rPr b="0" lang="zh-CN" sz="1800" spc="-1" strike="noStrike">
                <a:solidFill>
                  <a:srgbClr val="000000"/>
                </a:solidFill>
                <a:latin typeface="新宋体"/>
                <a:ea typeface="新宋体"/>
              </a:rPr>
              <a:t>选手选择</a:t>
            </a:r>
            <a:r>
              <a:rPr b="0" lang="en-US" sz="1800" spc="-1" strike="noStrike">
                <a:solidFill>
                  <a:srgbClr val="000000"/>
                </a:solidFill>
                <a:latin typeface="新宋体"/>
                <a:ea typeface="新宋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新宋体"/>
                <a:ea typeface="新宋体"/>
              </a:rPr>
              <a:t>组家庭的宝宝，在妈妈区域中正确找出其妈妈的概率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6" name="Picture 3" descr=""/>
          <p:cNvPicPr/>
          <p:nvPr/>
        </p:nvPicPr>
        <p:blipFill>
          <a:blip r:embed="rId2"/>
          <a:stretch/>
        </p:blipFill>
        <p:spPr>
          <a:xfrm>
            <a:off x="2195640" y="3429000"/>
            <a:ext cx="4390920" cy="5144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4" descr=""/>
          <p:cNvPicPr/>
          <p:nvPr/>
        </p:nvPicPr>
        <p:blipFill>
          <a:blip r:embed="rId3"/>
          <a:stretch/>
        </p:blipFill>
        <p:spPr>
          <a:xfrm>
            <a:off x="2195640" y="4076640"/>
            <a:ext cx="432432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矩形 1"/>
          <p:cNvSpPr/>
          <p:nvPr/>
        </p:nvSpPr>
        <p:spPr>
          <a:xfrm>
            <a:off x="900000" y="620640"/>
            <a:ext cx="7272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(2)</a:t>
            </a:r>
            <a:r>
              <a:rPr b="0" lang="zh-CN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如果任选一个宝宝</a:t>
            </a:r>
            <a:r>
              <a:rPr b="0" lang="en-US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假如选</a:t>
            </a:r>
            <a:r>
              <a:rPr b="0" lang="en-US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组家庭</a:t>
            </a:r>
            <a:r>
              <a:rPr b="0" lang="en-US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，通过列表的方法，求选手至少正确找对宝宝父母其中一人的概率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1979640" y="1616040"/>
            <a:ext cx="4410000" cy="7714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3" descr=""/>
          <p:cNvPicPr/>
          <p:nvPr/>
        </p:nvPicPr>
        <p:blipFill>
          <a:blip r:embed="rId2"/>
          <a:stretch/>
        </p:blipFill>
        <p:spPr>
          <a:xfrm>
            <a:off x="2052720" y="2492280"/>
            <a:ext cx="3238560" cy="16480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4" descr=""/>
          <p:cNvPicPr/>
          <p:nvPr/>
        </p:nvPicPr>
        <p:blipFill>
          <a:blip r:embed="rId3"/>
          <a:stretch/>
        </p:blipFill>
        <p:spPr>
          <a:xfrm>
            <a:off x="2052720" y="4221000"/>
            <a:ext cx="4267080" cy="4860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5" descr=""/>
          <p:cNvPicPr/>
          <p:nvPr/>
        </p:nvPicPr>
        <p:blipFill>
          <a:blip r:embed="rId4"/>
          <a:stretch/>
        </p:blipFill>
        <p:spPr>
          <a:xfrm>
            <a:off x="2147760" y="4707000"/>
            <a:ext cx="417204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课堂2.tif"/>
          <p:cNvPicPr/>
          <p:nvPr/>
        </p:nvPicPr>
        <p:blipFill>
          <a:blip r:embed="rId1"/>
          <a:stretch/>
        </p:blipFill>
        <p:spPr>
          <a:xfrm>
            <a:off x="539640" y="63360"/>
            <a:ext cx="2303640" cy="419400"/>
          </a:xfrm>
          <a:prstGeom prst="rect">
            <a:avLst/>
          </a:prstGeom>
          <a:ln w="0">
            <a:noFill/>
          </a:ln>
        </p:spPr>
      </p:pic>
      <p:sp>
        <p:nvSpPr>
          <p:cNvPr id="247" name="矩形 1"/>
          <p:cNvSpPr/>
          <p:nvPr/>
        </p:nvSpPr>
        <p:spPr>
          <a:xfrm>
            <a:off x="1883520" y="404640"/>
            <a:ext cx="409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新宋体"/>
                <a:ea typeface="新宋体"/>
              </a:rPr>
              <a:t>知识点一：用列表法求概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矩形 2"/>
          <p:cNvSpPr/>
          <p:nvPr/>
        </p:nvSpPr>
        <p:spPr>
          <a:xfrm>
            <a:off x="539640" y="749160"/>
            <a:ext cx="820908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新宋体"/>
                <a:ea typeface="新宋体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新宋体"/>
                <a:ea typeface="新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新宋体"/>
                <a:ea typeface="新宋体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新宋体"/>
                <a:ea typeface="新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新宋体"/>
                <a:ea typeface="新宋体"/>
              </a:rPr>
              <a:t>盐城</a:t>
            </a:r>
            <a:r>
              <a:rPr b="0" lang="en-US" sz="1800" spc="-1" strike="noStrike">
                <a:solidFill>
                  <a:srgbClr val="000000"/>
                </a:solidFill>
                <a:latin typeface="新宋体"/>
                <a:ea typeface="新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新宋体"/>
                <a:ea typeface="新宋体"/>
              </a:rPr>
              <a:t>一个不透明的袋子中装有大小、质地完全相同的</a:t>
            </a:r>
            <a:r>
              <a:rPr b="0" lang="en-US" sz="1800" spc="-1" strike="noStrike">
                <a:solidFill>
                  <a:srgbClr val="000000"/>
                </a:solidFill>
                <a:latin typeface="新宋体"/>
                <a:ea typeface="新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新宋体"/>
                <a:ea typeface="新宋体"/>
              </a:rPr>
              <a:t>只小球，小球上分别标有</a:t>
            </a:r>
            <a:r>
              <a:rPr b="0" lang="en-US" sz="1800" spc="-1" strike="noStrike">
                <a:solidFill>
                  <a:srgbClr val="000000"/>
                </a:solidFill>
                <a:latin typeface="新宋体"/>
                <a:ea typeface="新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新宋体"/>
                <a:ea typeface="新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新宋体"/>
                <a:ea typeface="新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新宋体"/>
                <a:ea typeface="新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新宋体"/>
                <a:ea typeface="新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新宋体"/>
                <a:ea typeface="新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新宋体"/>
                <a:ea typeface="新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新宋体"/>
                <a:ea typeface="新宋体"/>
              </a:rPr>
              <a:t>四个数字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新宋体"/>
                <a:ea typeface="新宋体"/>
              </a:rPr>
              <a:t>(1)</a:t>
            </a:r>
            <a:r>
              <a:rPr b="0" lang="zh-CN" sz="1800" spc="-1" strike="noStrike">
                <a:solidFill>
                  <a:srgbClr val="000000"/>
                </a:solidFill>
                <a:latin typeface="新宋体"/>
                <a:ea typeface="新宋体"/>
              </a:rPr>
              <a:t>从袋中随机摸出一只小球，求小球上所标数字为奇数的概率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新宋体"/>
                <a:ea typeface="新宋体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新宋体"/>
                <a:ea typeface="新宋体"/>
              </a:rPr>
              <a:t>(2)</a:t>
            </a:r>
            <a:r>
              <a:rPr b="0" lang="zh-CN" sz="1800" spc="-1" strike="noStrike">
                <a:solidFill>
                  <a:srgbClr val="000000"/>
                </a:solidFill>
                <a:latin typeface="新宋体"/>
                <a:ea typeface="新宋体"/>
              </a:rPr>
              <a:t>从袋中随机摸出一只小球，再从剩下的小球中随机摸出一只小球，用列表法求两次摸出的小球上所标数字之和为</a:t>
            </a:r>
            <a:r>
              <a:rPr b="0" lang="en-US" sz="1800" spc="-1" strike="noStrike">
                <a:solidFill>
                  <a:srgbClr val="000000"/>
                </a:solidFill>
                <a:latin typeface="新宋体"/>
                <a:ea typeface="新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新宋体"/>
                <a:ea typeface="新宋体"/>
              </a:rPr>
              <a:t>的概率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Picture 3" descr=""/>
          <p:cNvPicPr/>
          <p:nvPr/>
        </p:nvPicPr>
        <p:blipFill>
          <a:blip r:embed="rId2"/>
          <a:stretch/>
        </p:blipFill>
        <p:spPr>
          <a:xfrm>
            <a:off x="1871640" y="1989000"/>
            <a:ext cx="4514760" cy="5432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4" descr=""/>
          <p:cNvPicPr/>
          <p:nvPr/>
        </p:nvPicPr>
        <p:blipFill>
          <a:blip r:embed="rId3"/>
          <a:stretch/>
        </p:blipFill>
        <p:spPr>
          <a:xfrm>
            <a:off x="1914480" y="2565360"/>
            <a:ext cx="4486320" cy="6573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5" descr=""/>
          <p:cNvPicPr/>
          <p:nvPr/>
        </p:nvPicPr>
        <p:blipFill>
          <a:blip r:embed="rId4"/>
          <a:stretch/>
        </p:blipFill>
        <p:spPr>
          <a:xfrm>
            <a:off x="2195640" y="4005360"/>
            <a:ext cx="3190680" cy="16002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" descr=""/>
          <p:cNvPicPr/>
          <p:nvPr/>
        </p:nvPicPr>
        <p:blipFill>
          <a:blip r:embed="rId5"/>
          <a:stretch/>
        </p:blipFill>
        <p:spPr>
          <a:xfrm>
            <a:off x="1914480" y="5589720"/>
            <a:ext cx="4629240" cy="5047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7" descr=""/>
          <p:cNvPicPr/>
          <p:nvPr/>
        </p:nvPicPr>
        <p:blipFill>
          <a:blip r:embed="rId6"/>
          <a:stretch/>
        </p:blipFill>
        <p:spPr>
          <a:xfrm>
            <a:off x="1871640" y="6093000"/>
            <a:ext cx="4476600" cy="65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训练1.tif"/>
          <p:cNvPicPr/>
          <p:nvPr/>
        </p:nvPicPr>
        <p:blipFill>
          <a:blip r:embed="rId1"/>
          <a:stretch/>
        </p:blipFill>
        <p:spPr>
          <a:xfrm>
            <a:off x="666720" y="760320"/>
            <a:ext cx="1568520" cy="287280"/>
          </a:xfrm>
          <a:prstGeom prst="rect">
            <a:avLst/>
          </a:prstGeom>
          <a:ln w="0">
            <a:noFill/>
          </a:ln>
        </p:spPr>
      </p:pic>
      <p:pic>
        <p:nvPicPr>
          <p:cNvPr id="255" name="对象 1" descr=""/>
          <p:cNvPicPr/>
          <p:nvPr/>
        </p:nvPicPr>
        <p:blipFill>
          <a:blip r:embed="rId2"/>
          <a:stretch/>
        </p:blipFill>
        <p:spPr>
          <a:xfrm>
            <a:off x="1249200" y="1403280"/>
            <a:ext cx="7218360" cy="4043520"/>
          </a:xfrm>
          <a:prstGeom prst="rect">
            <a:avLst/>
          </a:prstGeom>
          <a:ln w="0">
            <a:noFill/>
          </a:ln>
        </p:spPr>
      </p:pic>
      <p:sp>
        <p:nvSpPr>
          <p:cNvPr id="256" name="矩形 1"/>
          <p:cNvSpPr/>
          <p:nvPr/>
        </p:nvSpPr>
        <p:spPr>
          <a:xfrm>
            <a:off x="5211000" y="18446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楷体"/>
                <a:ea typeface="楷体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矩形 1"/>
          <p:cNvSpPr/>
          <p:nvPr/>
        </p:nvSpPr>
        <p:spPr>
          <a:xfrm>
            <a:off x="1312920" y="189000"/>
            <a:ext cx="2649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新宋体"/>
                <a:ea typeface="新宋体"/>
              </a:rPr>
              <a:t>知识点二：列举法求概率在实际中的应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矩形 2"/>
          <p:cNvSpPr/>
          <p:nvPr/>
        </p:nvSpPr>
        <p:spPr>
          <a:xfrm>
            <a:off x="684360" y="765000"/>
            <a:ext cx="8064360" cy="31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　如图，管中放置着三根同样的绳子</a:t>
            </a:r>
            <a:r>
              <a:rPr b="0" lang="en-US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A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华文宋体"/>
                <a:ea typeface="华文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B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华文宋体"/>
                <a:ea typeface="华文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C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华文宋体"/>
                <a:ea typeface="华文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(1)</a:t>
            </a:r>
            <a:r>
              <a:rPr b="0" lang="zh-CN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小明从这三根绳子中随机选一根，恰好选中绳子</a:t>
            </a:r>
            <a:r>
              <a:rPr b="0" lang="en-US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A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华文宋体"/>
                <a:ea typeface="华文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的概率是多少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(2)</a:t>
            </a:r>
            <a:r>
              <a:rPr b="0" lang="zh-CN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小明先从左端</a:t>
            </a:r>
            <a:r>
              <a:rPr b="0" lang="en-US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三个绳头中随机选两个打一个结，再从右端</a:t>
            </a:r>
            <a:r>
              <a:rPr b="0" lang="en-US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华文宋体"/>
                <a:ea typeface="华文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华文宋体"/>
                <a:ea typeface="华文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华文宋体"/>
                <a:ea typeface="华文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三个绳头中随机选两个打一个结，求这三根绳子能连接成一根长绳的概率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" name="Picture 2" descr="TT440.tif"/>
          <p:cNvPicPr/>
          <p:nvPr/>
        </p:nvPicPr>
        <p:blipFill>
          <a:blip r:embed="rId1"/>
          <a:stretch/>
        </p:blipFill>
        <p:spPr>
          <a:xfrm>
            <a:off x="5292720" y="2038320"/>
            <a:ext cx="2662200" cy="6764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3" descr=""/>
          <p:cNvPicPr/>
          <p:nvPr/>
        </p:nvPicPr>
        <p:blipFill>
          <a:blip r:embed="rId2"/>
          <a:stretch/>
        </p:blipFill>
        <p:spPr>
          <a:xfrm>
            <a:off x="1139760" y="1913040"/>
            <a:ext cx="2486160" cy="9712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4" descr=""/>
          <p:cNvPicPr/>
          <p:nvPr/>
        </p:nvPicPr>
        <p:blipFill>
          <a:blip r:embed="rId3"/>
          <a:stretch/>
        </p:blipFill>
        <p:spPr>
          <a:xfrm>
            <a:off x="2268360" y="4149720"/>
            <a:ext cx="4133880" cy="15908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5" descr=""/>
          <p:cNvPicPr/>
          <p:nvPr/>
        </p:nvPicPr>
        <p:blipFill>
          <a:blip r:embed="rId4"/>
          <a:stretch/>
        </p:blipFill>
        <p:spPr>
          <a:xfrm>
            <a:off x="2011320" y="5735520"/>
            <a:ext cx="4581720" cy="7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训练2.tif"/>
          <p:cNvPicPr/>
          <p:nvPr/>
        </p:nvPicPr>
        <p:blipFill>
          <a:blip r:embed="rId1"/>
          <a:stretch/>
        </p:blipFill>
        <p:spPr>
          <a:xfrm>
            <a:off x="453960" y="333360"/>
            <a:ext cx="2605320" cy="477720"/>
          </a:xfrm>
          <a:prstGeom prst="rect">
            <a:avLst/>
          </a:prstGeom>
          <a:ln w="0">
            <a:noFill/>
          </a:ln>
        </p:spPr>
      </p:pic>
      <p:pic>
        <p:nvPicPr>
          <p:cNvPr id="264" name="对象 1" descr=""/>
          <p:cNvPicPr/>
          <p:nvPr/>
        </p:nvPicPr>
        <p:blipFill>
          <a:blip r:embed="rId2"/>
          <a:stretch/>
        </p:blipFill>
        <p:spPr>
          <a:xfrm>
            <a:off x="1530360" y="1401840"/>
            <a:ext cx="6081840" cy="40543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TT438.tif"/>
          <p:cNvPicPr/>
          <p:nvPr/>
        </p:nvPicPr>
        <p:blipFill>
          <a:blip r:embed="rId3"/>
          <a:stretch/>
        </p:blipFill>
        <p:spPr>
          <a:xfrm>
            <a:off x="1835280" y="3789360"/>
            <a:ext cx="2738160" cy="1295280"/>
          </a:xfrm>
          <a:prstGeom prst="rect">
            <a:avLst/>
          </a:prstGeom>
          <a:ln w="0">
            <a:noFill/>
          </a:ln>
        </p:spPr>
      </p:pic>
      <p:sp>
        <p:nvSpPr>
          <p:cNvPr id="266" name="矩形 1"/>
          <p:cNvSpPr/>
          <p:nvPr/>
        </p:nvSpPr>
        <p:spPr>
          <a:xfrm>
            <a:off x="2848680" y="17733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楷体"/>
                <a:ea typeface="楷体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课后3.tif"/>
          <p:cNvPicPr/>
          <p:nvPr/>
        </p:nvPicPr>
        <p:blipFill>
          <a:blip r:embed="rId1"/>
          <a:stretch/>
        </p:blipFill>
        <p:spPr>
          <a:xfrm>
            <a:off x="324000" y="189000"/>
            <a:ext cx="2735280" cy="547560"/>
          </a:xfrm>
          <a:prstGeom prst="rect">
            <a:avLst/>
          </a:prstGeom>
          <a:ln w="0">
            <a:noFill/>
          </a:ln>
        </p:spPr>
      </p:pic>
      <p:pic>
        <p:nvPicPr>
          <p:cNvPr id="268" name="对象 1" descr=""/>
          <p:cNvPicPr/>
          <p:nvPr/>
        </p:nvPicPr>
        <p:blipFill>
          <a:blip r:embed="rId2"/>
          <a:stretch/>
        </p:blipFill>
        <p:spPr>
          <a:xfrm>
            <a:off x="522360" y="836640"/>
            <a:ext cx="8099280" cy="53499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" descr=""/>
          <p:cNvPicPr/>
          <p:nvPr/>
        </p:nvPicPr>
        <p:blipFill>
          <a:blip r:embed="rId3"/>
          <a:stretch/>
        </p:blipFill>
        <p:spPr>
          <a:xfrm>
            <a:off x="2727360" y="4292640"/>
            <a:ext cx="285840" cy="3808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4" descr=""/>
          <p:cNvPicPr/>
          <p:nvPr/>
        </p:nvPicPr>
        <p:blipFill>
          <a:blip r:embed="rId4"/>
          <a:stretch/>
        </p:blipFill>
        <p:spPr>
          <a:xfrm>
            <a:off x="6732720" y="5445000"/>
            <a:ext cx="237960" cy="400320"/>
          </a:xfrm>
          <a:prstGeom prst="rect">
            <a:avLst/>
          </a:prstGeom>
          <a:ln w="0">
            <a:noFill/>
          </a:ln>
        </p:spPr>
      </p:pic>
      <p:sp>
        <p:nvSpPr>
          <p:cNvPr id="271" name="矩形 2"/>
          <p:cNvSpPr/>
          <p:nvPr/>
        </p:nvSpPr>
        <p:spPr>
          <a:xfrm>
            <a:off x="8235000" y="7682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楷体"/>
                <a:ea typeface="楷体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矩形 7"/>
          <p:cNvSpPr/>
          <p:nvPr/>
        </p:nvSpPr>
        <p:spPr>
          <a:xfrm>
            <a:off x="2484360" y="26370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楷体"/>
                <a:ea typeface="楷体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对象 1" descr=""/>
          <p:cNvPicPr/>
          <p:nvPr/>
        </p:nvPicPr>
        <p:blipFill>
          <a:blip r:embed="rId1"/>
          <a:stretch/>
        </p:blipFill>
        <p:spPr>
          <a:xfrm>
            <a:off x="512640" y="682560"/>
            <a:ext cx="7718400" cy="60595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3" descr=""/>
          <p:cNvPicPr/>
          <p:nvPr/>
        </p:nvPicPr>
        <p:blipFill>
          <a:blip r:embed="rId2"/>
          <a:stretch/>
        </p:blipFill>
        <p:spPr>
          <a:xfrm>
            <a:off x="2600280" y="2867040"/>
            <a:ext cx="238320" cy="3524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4" descr=""/>
          <p:cNvPicPr/>
          <p:nvPr/>
        </p:nvPicPr>
        <p:blipFill>
          <a:blip r:embed="rId3"/>
          <a:stretch/>
        </p:blipFill>
        <p:spPr>
          <a:xfrm>
            <a:off x="2666880" y="1351080"/>
            <a:ext cx="171720" cy="35244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5" descr=""/>
          <p:cNvPicPr/>
          <p:nvPr/>
        </p:nvPicPr>
        <p:blipFill>
          <a:blip r:embed="rId4"/>
          <a:stretch/>
        </p:blipFill>
        <p:spPr>
          <a:xfrm>
            <a:off x="7413480" y="4003560"/>
            <a:ext cx="247680" cy="3430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6" descr=""/>
          <p:cNvPicPr/>
          <p:nvPr/>
        </p:nvPicPr>
        <p:blipFill>
          <a:blip r:embed="rId5"/>
          <a:stretch/>
        </p:blipFill>
        <p:spPr>
          <a:xfrm>
            <a:off x="4041720" y="5548320"/>
            <a:ext cx="20016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矩形 1"/>
          <p:cNvSpPr/>
          <p:nvPr/>
        </p:nvSpPr>
        <p:spPr>
          <a:xfrm>
            <a:off x="244440" y="512640"/>
            <a:ext cx="820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新宋体"/>
                <a:ea typeface="新宋体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新宋体"/>
                <a:ea typeface="新宋体"/>
              </a:rPr>
              <a:t>．</a:t>
            </a:r>
            <a:r>
              <a:rPr b="0" lang="en-US" sz="1800" spc="-1" strike="noStrike">
                <a:solidFill>
                  <a:srgbClr val="000000"/>
                </a:solidFill>
                <a:latin typeface="新宋体"/>
                <a:ea typeface="新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新宋体"/>
                <a:ea typeface="新宋体"/>
              </a:rPr>
              <a:t>莆田</a:t>
            </a:r>
            <a:r>
              <a:rPr b="0" lang="en-US" sz="1800" spc="-1" strike="noStrike">
                <a:solidFill>
                  <a:srgbClr val="000000"/>
                </a:solidFill>
                <a:latin typeface="新宋体"/>
                <a:ea typeface="新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新宋体"/>
                <a:ea typeface="新宋体"/>
              </a:rPr>
              <a:t>在一次数学文化课题活动中，把一副数学文化创意扑克牌中的</a:t>
            </a:r>
            <a:r>
              <a:rPr b="0" lang="en-US" sz="1800" spc="-1" strike="noStrike">
                <a:solidFill>
                  <a:srgbClr val="000000"/>
                </a:solidFill>
                <a:latin typeface="新宋体"/>
                <a:ea typeface="新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新宋体"/>
                <a:ea typeface="新宋体"/>
              </a:rPr>
              <a:t>张扑克牌</a:t>
            </a:r>
            <a:r>
              <a:rPr b="0" lang="en-US" sz="1800" spc="-1" strike="noStrike">
                <a:solidFill>
                  <a:srgbClr val="000000"/>
                </a:solidFill>
                <a:latin typeface="新宋体"/>
                <a:ea typeface="新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新宋体"/>
                <a:ea typeface="新宋体"/>
              </a:rPr>
              <a:t>如图所示</a:t>
            </a:r>
            <a:r>
              <a:rPr b="0" lang="en-US" sz="1800" spc="-1" strike="noStrike">
                <a:solidFill>
                  <a:srgbClr val="000000"/>
                </a:solidFill>
                <a:latin typeface="新宋体"/>
                <a:ea typeface="新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新宋体"/>
                <a:ea typeface="新宋体"/>
              </a:rPr>
              <a:t>洗匀后正面向下放在桌面上，从中随机抽取</a:t>
            </a:r>
            <a:r>
              <a:rPr b="0" lang="en-US" sz="1800" spc="-1" strike="noStrike">
                <a:solidFill>
                  <a:srgbClr val="000000"/>
                </a:solidFill>
                <a:latin typeface="新宋体"/>
                <a:ea typeface="新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新宋体"/>
                <a:ea typeface="新宋体"/>
              </a:rPr>
              <a:t>张牌，请你用列表的方法，求抽取的</a:t>
            </a:r>
            <a:r>
              <a:rPr b="0" lang="en-US" sz="1800" spc="-1" strike="noStrike">
                <a:solidFill>
                  <a:srgbClr val="000000"/>
                </a:solidFill>
                <a:latin typeface="新宋体"/>
                <a:ea typeface="新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新宋体"/>
                <a:ea typeface="新宋体"/>
              </a:rPr>
              <a:t>张牌的数字之和为偶数的概率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Picture 2" descr="A166.TIF"/>
          <p:cNvPicPr/>
          <p:nvPr/>
        </p:nvPicPr>
        <p:blipFill>
          <a:blip r:embed="rId1"/>
          <a:stretch/>
        </p:blipFill>
        <p:spPr>
          <a:xfrm>
            <a:off x="1932120" y="1995480"/>
            <a:ext cx="3457440" cy="13129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3" descr=""/>
          <p:cNvPicPr/>
          <p:nvPr/>
        </p:nvPicPr>
        <p:blipFill>
          <a:blip r:embed="rId2"/>
          <a:stretch/>
        </p:blipFill>
        <p:spPr>
          <a:xfrm>
            <a:off x="1820880" y="3451320"/>
            <a:ext cx="44388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矩形 1"/>
          <p:cNvSpPr/>
          <p:nvPr/>
        </p:nvSpPr>
        <p:spPr>
          <a:xfrm>
            <a:off x="244440" y="603360"/>
            <a:ext cx="8064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新宋体"/>
                <a:ea typeface="新宋体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新宋体"/>
                <a:ea typeface="新宋体"/>
              </a:rPr>
              <a:t>．今年</a:t>
            </a:r>
            <a:r>
              <a:rPr b="0" lang="en-US" sz="1800" spc="-1" strike="noStrike">
                <a:solidFill>
                  <a:srgbClr val="000000"/>
                </a:solidFill>
                <a:latin typeface="新宋体"/>
                <a:ea typeface="新宋体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新宋体"/>
                <a:ea typeface="新宋体"/>
              </a:rPr>
              <a:t>五一</a:t>
            </a:r>
            <a:r>
              <a:rPr b="0" lang="en-US" sz="1800" spc="-1" strike="noStrike">
                <a:solidFill>
                  <a:srgbClr val="000000"/>
                </a:solidFill>
                <a:latin typeface="新宋体"/>
                <a:ea typeface="新宋体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新宋体"/>
                <a:ea typeface="新宋体"/>
              </a:rPr>
              <a:t>节期间，红星商场举行抽奖促销活动，凡在本商场购物总金额在</a:t>
            </a:r>
            <a:r>
              <a:rPr b="0" lang="en-US" sz="1800" spc="-1" strike="noStrike">
                <a:solidFill>
                  <a:srgbClr val="000000"/>
                </a:solidFill>
                <a:latin typeface="新宋体"/>
                <a:ea typeface="新宋体"/>
              </a:rPr>
              <a:t>300</a:t>
            </a:r>
            <a:r>
              <a:rPr b="0" lang="zh-CN" sz="1800" spc="-1" strike="noStrike">
                <a:solidFill>
                  <a:srgbClr val="000000"/>
                </a:solidFill>
                <a:latin typeface="新宋体"/>
                <a:ea typeface="新宋体"/>
              </a:rPr>
              <a:t>元以上者，均可抽一次奖，奖品为精美小礼品．抽奖办法是：在一个不透明的袋子中装有四个标号分别为</a:t>
            </a:r>
            <a:r>
              <a:rPr b="0" lang="en-US" sz="1800" spc="-1" strike="noStrike">
                <a:solidFill>
                  <a:srgbClr val="000000"/>
                </a:solidFill>
                <a:latin typeface="新宋体"/>
                <a:ea typeface="新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新宋体"/>
                <a:ea typeface="新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新宋体"/>
                <a:ea typeface="新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新宋体"/>
                <a:ea typeface="新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新宋体"/>
                <a:ea typeface="新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新宋体"/>
                <a:ea typeface="新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新宋体"/>
                <a:ea typeface="新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新宋体"/>
                <a:ea typeface="新宋体"/>
              </a:rPr>
              <a:t>的小球，它们的形状、大小、质地等完全相同．抽奖者第一次摸出一个小球，不放回，第二次再摸出一个小球，若两次摸出的小球中有一个小球标号为“</a:t>
            </a:r>
            <a:r>
              <a:rPr b="0" lang="en-US" sz="1800" spc="-1" strike="noStrike">
                <a:solidFill>
                  <a:srgbClr val="000000"/>
                </a:solidFill>
                <a:latin typeface="新宋体"/>
                <a:ea typeface="新宋体"/>
              </a:rPr>
              <a:t>1”</a:t>
            </a:r>
            <a:r>
              <a:rPr b="0" lang="zh-CN" sz="1800" spc="-1" strike="noStrike">
                <a:solidFill>
                  <a:srgbClr val="000000"/>
                </a:solidFill>
                <a:latin typeface="新宋体"/>
                <a:ea typeface="新宋体"/>
              </a:rPr>
              <a:t>，则获奖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新宋体"/>
                <a:ea typeface="新宋体"/>
              </a:rPr>
              <a:t>(1)</a:t>
            </a:r>
            <a:r>
              <a:rPr b="0" lang="zh-CN" sz="1800" spc="-1" strike="noStrike">
                <a:solidFill>
                  <a:srgbClr val="000000"/>
                </a:solidFill>
                <a:latin typeface="新宋体"/>
                <a:ea typeface="新宋体"/>
              </a:rPr>
              <a:t>请你用列表法表示出抽奖所有可能出现的结果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新宋体"/>
                <a:ea typeface="新宋体"/>
              </a:rPr>
              <a:t>(2)</a:t>
            </a:r>
            <a:r>
              <a:rPr b="0" lang="zh-CN" sz="1800" spc="-1" strike="noStrike">
                <a:solidFill>
                  <a:srgbClr val="000000"/>
                </a:solidFill>
                <a:latin typeface="新宋体"/>
                <a:ea typeface="新宋体"/>
              </a:rPr>
              <a:t>求抽奖人员获奖的概率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1"/>
          <a:stretch/>
        </p:blipFill>
        <p:spPr>
          <a:xfrm>
            <a:off x="2378160" y="3209760"/>
            <a:ext cx="4181400" cy="14385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>
            <a:off x="2147760" y="5440320"/>
            <a:ext cx="451512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26T11:59:42Z</dcterms:created>
  <dc:creator>admin</dc:creator>
  <dc:description/>
  <dc:language>en-US</dc:language>
  <cp:lastModifiedBy>支持客服-曹文文</cp:lastModifiedBy>
  <dcterms:modified xsi:type="dcterms:W3CDTF">2018-03-14T02:20:29Z</dcterms:modified>
  <cp:revision>2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022</vt:lpwstr>
  </property>
</Properties>
</file>