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jpeg" ContentType="image/jpeg"/>
  <Override PartName="/ppt/media/image25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72D4-88FF-483B-8467-4513D59A6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8560" y="396432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D8AE-1735-4D13-BA72-6853F4D7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2B51-750C-4607-8BE2-ACAF9BD29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9544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6232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2856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9544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6232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6F89-859F-44AB-ABD6-E3837E71F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C407-F6AF-4A98-A26D-E6FCD32E1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753A-E370-46BE-B917-8A46A839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DBCB-9976-4F65-8B67-42F224D7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62D3-310E-4872-8F15-AC537E47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58CC-AFA9-442C-80EC-274E5879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28560" y="450720"/>
            <a:ext cx="7886880" cy="44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6D1F-F466-4183-8391-8754CD5C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88466-1C43-4FA1-ADBB-6E799D07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3192-CA80-4B9E-A6C8-95624FF1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17D8-0DF3-45DD-AA18-7B29D007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9FFB-2A64-40BB-BCC6-7AD3B019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8560" y="396432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A6DB-C7A1-4577-AF3C-7081130D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584C-B3A5-45F0-B4AC-054F8AA8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9544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6232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2856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9544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6232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C24A-D4E7-42D2-BD8C-0A6FE7A16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762B5-9E13-4364-8A03-5E2C82F91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F3909-4498-4CBD-AD45-DE0C4DDC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473EB-473E-45C0-8CDA-8748D83B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60B9E-308E-4790-BC94-978E7883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8B4B9-0614-458E-ACDD-00FE99C1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DDD3-BF35-4A8C-BC29-F7E080C8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28560" y="450720"/>
            <a:ext cx="7886880" cy="44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C233D-3687-494A-BE87-47BE2497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E8243-30AB-4CDF-A0EC-206AD202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81573-1ABF-42B2-8104-DE21B44F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8F676-A4E7-476E-A74F-1E21FE42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8560" y="396432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3521F-59C5-48D8-813F-99B83C45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DD8B6-1504-43D8-88B3-4E309AB86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9544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6232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2856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9544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6232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7481D-D350-4D13-BB16-CBC43B102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164FA-0931-49C6-8564-844A7D38D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2B7FB-5054-436E-BCCD-04442E82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6071A-FE56-42B3-9598-E49C6F03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8A76-730E-4F70-9C93-7A058FD2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FEC3E-A9D9-4E02-98C0-25A22BFE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4F866-057E-4B12-BB4A-1D9478D5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28560" y="450720"/>
            <a:ext cx="7886880" cy="44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D6466-ECD1-4D4A-9195-C4658C89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4D01B-2E47-4749-AA0C-86DC5348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50363-0CFC-46FD-AC67-C442149B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9DF44-5F16-4164-B3AF-A00A2C21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8560" y="396432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10ADA-168F-4CC2-B2F2-39DEAA1E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B157E-01ED-479B-ABE1-0D4F21C34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9544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6232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2856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9544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6232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CCBD0-4A3A-473A-BB74-CDBB5DF9F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5BB80-6537-4FFB-8B03-9866D0765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F8F6-5EE5-42C2-98FB-BB1FA81E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EE65E-2CAE-4386-BCA4-D8B33A38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D4AC6-4D54-48C8-BD8B-3600D095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665BF-54D2-45AD-B713-612C66C4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61B98-10E9-4700-97A4-F96DD55F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628560" y="450720"/>
            <a:ext cx="7886880" cy="44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4BD22-6FE3-436D-AC41-80D925A0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BE8DB-8660-4DEE-AE5E-899419C1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AC5CE-033F-48C1-8CB3-F8D378C2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2BA0E-F083-449C-99F0-949ACE43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8560" y="396432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39AF0-EFA1-44AA-B498-83E23F52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3C250-67DE-424F-BEA7-983559773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28560" y="450720"/>
            <a:ext cx="7886880" cy="44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209C-9404-48F1-82F8-C5DDD904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9544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962320" y="160020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2856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9544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962320" y="3964320"/>
            <a:ext cx="2539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1FBDE-2C47-4978-BFF5-B6EF49F20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1433-B3C9-45CD-AB8C-4CCFB90E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EC65-243A-42D2-B0CF-EA8397CE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487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28560" y="3964320"/>
            <a:ext cx="78868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E306-A774-465F-9B26-32ABDC04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6721560"/>
            <a:ext cx="9143640" cy="144360"/>
            <a:chOff x="1440" y="6721560"/>
            <a:chExt cx="9143640" cy="144360"/>
          </a:xfrm>
        </p:grpSpPr>
        <p:sp>
          <p:nvSpPr>
            <p:cNvPr id="1" name="矩形 7"/>
            <p:cNvSpPr/>
            <p:nvPr/>
          </p:nvSpPr>
          <p:spPr>
            <a:xfrm>
              <a:off x="1440" y="6721560"/>
              <a:ext cx="4201560" cy="142560"/>
            </a:xfrm>
            <a:prstGeom prst="rect">
              <a:avLst/>
            </a:prstGeom>
            <a:solidFill>
              <a:srgbClr val="eef2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矩形 11"/>
            <p:cNvSpPr/>
            <p:nvPr/>
          </p:nvSpPr>
          <p:spPr>
            <a:xfrm>
              <a:off x="4674960" y="6721560"/>
              <a:ext cx="4470120" cy="142560"/>
            </a:xfrm>
            <a:prstGeom prst="rect">
              <a:avLst/>
            </a:prstGeom>
            <a:solidFill>
              <a:srgbClr val="5a4c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矩形 8"/>
            <p:cNvSpPr/>
            <p:nvPr/>
          </p:nvSpPr>
          <p:spPr>
            <a:xfrm>
              <a:off x="4151160" y="6721560"/>
              <a:ext cx="285480" cy="142560"/>
            </a:xfrm>
            <a:prstGeom prst="rect">
              <a:avLst/>
            </a:prstGeom>
            <a:solidFill>
              <a:srgbClr val="b2d4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矩形 9"/>
            <p:cNvSpPr/>
            <p:nvPr/>
          </p:nvSpPr>
          <p:spPr>
            <a:xfrm>
              <a:off x="4326840" y="6721560"/>
              <a:ext cx="239760" cy="142560"/>
            </a:xfrm>
            <a:prstGeom prst="rect">
              <a:avLst/>
            </a:prstGeom>
            <a:solidFill>
              <a:srgbClr val="61ad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矩形 10"/>
            <p:cNvSpPr/>
            <p:nvPr/>
          </p:nvSpPr>
          <p:spPr>
            <a:xfrm>
              <a:off x="4481280" y="6721560"/>
              <a:ext cx="196560" cy="144360"/>
            </a:xfrm>
            <a:prstGeom prst="rect">
              <a:avLst/>
            </a:prstGeom>
            <a:solidFill>
              <a:srgbClr val="258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6C47-450B-4601-9AEA-BC6EBD4B4A3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8862-2889-4DA4-8D10-A1FD4D1197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2281320" y="4354560"/>
            <a:ext cx="1366920" cy="1368360"/>
          </a:xfrm>
          <a:prstGeom prst="rect">
            <a:avLst/>
          </a:prstGeom>
          <a:solidFill>
            <a:srgbClr val="6ab598"/>
          </a:solidFill>
          <a:ln w="44280">
            <a:solidFill>
              <a:srgbClr val="6ab5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3"/>
          <a:stretch/>
        </p:blipFill>
        <p:spPr>
          <a:xfrm>
            <a:off x="2317680" y="4390920"/>
            <a:ext cx="1295640" cy="12956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8"/>
          <p:cNvSpPr/>
          <p:nvPr/>
        </p:nvSpPr>
        <p:spPr>
          <a:xfrm>
            <a:off x="3841920" y="4354560"/>
            <a:ext cx="1366560" cy="1368360"/>
          </a:xfrm>
          <a:prstGeom prst="rect">
            <a:avLst/>
          </a:prstGeom>
          <a:solidFill>
            <a:srgbClr val="6ab598"/>
          </a:solidFill>
          <a:ln w="44280">
            <a:solidFill>
              <a:srgbClr val="6ab5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3876840" y="439092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0"/>
          <p:cNvSpPr/>
          <p:nvPr/>
        </p:nvSpPr>
        <p:spPr>
          <a:xfrm>
            <a:off x="720720" y="4354560"/>
            <a:ext cx="1368360" cy="1368360"/>
          </a:xfrm>
          <a:prstGeom prst="rect">
            <a:avLst/>
          </a:prstGeom>
          <a:solidFill>
            <a:srgbClr val="6ab598"/>
          </a:solidFill>
          <a:ln w="44280">
            <a:solidFill>
              <a:srgbClr val="6ab5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5"/>
          <a:stretch/>
        </p:blipFill>
        <p:spPr>
          <a:xfrm>
            <a:off x="757080" y="4390920"/>
            <a:ext cx="1295640" cy="1295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4F78-E71D-444C-8363-D6F9B0F45B2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20E8-ED28-4ED8-8658-4F05ED7BFC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"/>
          <p:cNvGrpSpPr/>
          <p:nvPr/>
        </p:nvGrpSpPr>
        <p:grpSpPr>
          <a:xfrm>
            <a:off x="1440" y="6721560"/>
            <a:ext cx="9143640" cy="144360"/>
            <a:chOff x="1440" y="6721560"/>
            <a:chExt cx="9143640" cy="144360"/>
          </a:xfrm>
        </p:grpSpPr>
        <p:sp>
          <p:nvSpPr>
            <p:cNvPr id="95" name="矩形 7"/>
            <p:cNvSpPr/>
            <p:nvPr/>
          </p:nvSpPr>
          <p:spPr>
            <a:xfrm>
              <a:off x="1440" y="6721560"/>
              <a:ext cx="4201560" cy="142560"/>
            </a:xfrm>
            <a:prstGeom prst="rect">
              <a:avLst/>
            </a:prstGeom>
            <a:solidFill>
              <a:srgbClr val="eef2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矩形 11"/>
            <p:cNvSpPr/>
            <p:nvPr/>
          </p:nvSpPr>
          <p:spPr>
            <a:xfrm>
              <a:off x="4674960" y="6721560"/>
              <a:ext cx="4470120" cy="142560"/>
            </a:xfrm>
            <a:prstGeom prst="rect">
              <a:avLst/>
            </a:prstGeom>
            <a:solidFill>
              <a:srgbClr val="5a4c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矩形 8"/>
            <p:cNvSpPr/>
            <p:nvPr/>
          </p:nvSpPr>
          <p:spPr>
            <a:xfrm>
              <a:off x="4151160" y="6721560"/>
              <a:ext cx="285480" cy="142560"/>
            </a:xfrm>
            <a:prstGeom prst="rect">
              <a:avLst/>
            </a:prstGeom>
            <a:solidFill>
              <a:srgbClr val="b2d4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矩形 9"/>
            <p:cNvSpPr/>
            <p:nvPr/>
          </p:nvSpPr>
          <p:spPr>
            <a:xfrm>
              <a:off x="4326840" y="6721560"/>
              <a:ext cx="239760" cy="142560"/>
            </a:xfrm>
            <a:prstGeom prst="rect">
              <a:avLst/>
            </a:prstGeom>
            <a:solidFill>
              <a:srgbClr val="61ad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矩形 10"/>
            <p:cNvSpPr/>
            <p:nvPr/>
          </p:nvSpPr>
          <p:spPr>
            <a:xfrm>
              <a:off x="4481280" y="6721560"/>
              <a:ext cx="196560" cy="144360"/>
            </a:xfrm>
            <a:prstGeom prst="rect">
              <a:avLst/>
            </a:prstGeom>
            <a:solidFill>
              <a:srgbClr val="258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Oval 7"/>
          <p:cNvSpPr/>
          <p:nvPr/>
        </p:nvSpPr>
        <p:spPr>
          <a:xfrm>
            <a:off x="1362240" y="2241720"/>
            <a:ext cx="2052360" cy="2050920"/>
          </a:xfrm>
          <a:prstGeom prst="ellipse">
            <a:avLst/>
          </a:prstGeom>
          <a:solidFill>
            <a:srgbClr val="009999">
              <a:alpha val="80000"/>
            </a:srgbClr>
          </a:solidFill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DD3D-945E-4F3D-AC3A-00AEF490493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C77B-FD51-48F7-ABD9-E90E47EE5D7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1440" y="6721560"/>
            <a:ext cx="9143640" cy="144360"/>
            <a:chOff x="1440" y="6721560"/>
            <a:chExt cx="9143640" cy="144360"/>
          </a:xfrm>
        </p:grpSpPr>
        <p:sp>
          <p:nvSpPr>
            <p:cNvPr id="143" name="矩形 7"/>
            <p:cNvSpPr/>
            <p:nvPr/>
          </p:nvSpPr>
          <p:spPr>
            <a:xfrm>
              <a:off x="1440" y="6721560"/>
              <a:ext cx="4201560" cy="142560"/>
            </a:xfrm>
            <a:prstGeom prst="rect">
              <a:avLst/>
            </a:prstGeom>
            <a:solidFill>
              <a:srgbClr val="eef2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矩形 11"/>
            <p:cNvSpPr/>
            <p:nvPr/>
          </p:nvSpPr>
          <p:spPr>
            <a:xfrm>
              <a:off x="4674960" y="6721560"/>
              <a:ext cx="4470120" cy="142560"/>
            </a:xfrm>
            <a:prstGeom prst="rect">
              <a:avLst/>
            </a:prstGeom>
            <a:solidFill>
              <a:srgbClr val="5a4c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矩形 8"/>
            <p:cNvSpPr/>
            <p:nvPr/>
          </p:nvSpPr>
          <p:spPr>
            <a:xfrm>
              <a:off x="4151160" y="6721560"/>
              <a:ext cx="285480" cy="142560"/>
            </a:xfrm>
            <a:prstGeom prst="rect">
              <a:avLst/>
            </a:prstGeom>
            <a:solidFill>
              <a:srgbClr val="b2d4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矩形 9"/>
            <p:cNvSpPr/>
            <p:nvPr/>
          </p:nvSpPr>
          <p:spPr>
            <a:xfrm>
              <a:off x="4326840" y="6721560"/>
              <a:ext cx="239760" cy="142560"/>
            </a:xfrm>
            <a:prstGeom prst="rect">
              <a:avLst/>
            </a:prstGeom>
            <a:solidFill>
              <a:srgbClr val="61ad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矩形 10"/>
            <p:cNvSpPr/>
            <p:nvPr/>
          </p:nvSpPr>
          <p:spPr>
            <a:xfrm>
              <a:off x="4481280" y="6721560"/>
              <a:ext cx="196560" cy="144360"/>
            </a:xfrm>
            <a:prstGeom prst="rect">
              <a:avLst/>
            </a:prstGeom>
            <a:solidFill>
              <a:srgbClr val="258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622760" y="1979640"/>
            <a:ext cx="360" cy="4118040"/>
            <a:chOff x="4622760" y="1979640"/>
            <a:chExt cx="360" cy="4118040"/>
          </a:xfrm>
        </p:grpSpPr>
        <p:sp>
          <p:nvSpPr>
            <p:cNvPr id="149" name="直接连接符 12"/>
            <p:cNvSpPr/>
            <p:nvPr/>
          </p:nvSpPr>
          <p:spPr>
            <a:xfrm>
              <a:off x="4622760" y="1979640"/>
              <a:ext cx="0" cy="4118040"/>
            </a:xfrm>
            <a:prstGeom prst="line">
              <a:avLst/>
            </a:prstGeom>
            <a:ln w="25560">
              <a:solidFill>
                <a:srgbClr val="abd2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4622760" y="1979640"/>
              <a:ext cx="360" cy="4118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75E6-F0F2-47E0-8763-F7199563BF4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C8B2-8A70-44AC-8C44-89CF4737C9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1440" y="6721560"/>
            <a:ext cx="9143640" cy="144360"/>
            <a:chOff x="1440" y="6721560"/>
            <a:chExt cx="9143640" cy="144360"/>
          </a:xfrm>
        </p:grpSpPr>
        <p:sp>
          <p:nvSpPr>
            <p:cNvPr id="193" name="矩形 7"/>
            <p:cNvSpPr/>
            <p:nvPr/>
          </p:nvSpPr>
          <p:spPr>
            <a:xfrm>
              <a:off x="1440" y="6721560"/>
              <a:ext cx="4201560" cy="142560"/>
            </a:xfrm>
            <a:prstGeom prst="rect">
              <a:avLst/>
            </a:prstGeom>
            <a:solidFill>
              <a:srgbClr val="eef2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矩形 11"/>
            <p:cNvSpPr/>
            <p:nvPr/>
          </p:nvSpPr>
          <p:spPr>
            <a:xfrm>
              <a:off x="4674960" y="6721560"/>
              <a:ext cx="4470120" cy="142560"/>
            </a:xfrm>
            <a:prstGeom prst="rect">
              <a:avLst/>
            </a:prstGeom>
            <a:solidFill>
              <a:srgbClr val="5a4c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矩形 8"/>
            <p:cNvSpPr/>
            <p:nvPr/>
          </p:nvSpPr>
          <p:spPr>
            <a:xfrm>
              <a:off x="4151160" y="6721560"/>
              <a:ext cx="285480" cy="142560"/>
            </a:xfrm>
            <a:prstGeom prst="rect">
              <a:avLst/>
            </a:prstGeom>
            <a:solidFill>
              <a:srgbClr val="b2d4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矩形 9"/>
            <p:cNvSpPr/>
            <p:nvPr/>
          </p:nvSpPr>
          <p:spPr>
            <a:xfrm>
              <a:off x="4326840" y="6721560"/>
              <a:ext cx="239760" cy="142560"/>
            </a:xfrm>
            <a:prstGeom prst="rect">
              <a:avLst/>
            </a:prstGeom>
            <a:solidFill>
              <a:srgbClr val="61ad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矩形 10"/>
            <p:cNvSpPr/>
            <p:nvPr/>
          </p:nvSpPr>
          <p:spPr>
            <a:xfrm>
              <a:off x="4481280" y="6721560"/>
              <a:ext cx="196560" cy="144360"/>
            </a:xfrm>
            <a:prstGeom prst="rect">
              <a:avLst/>
            </a:prstGeom>
            <a:solidFill>
              <a:srgbClr val="258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450720"/>
            <a:ext cx="7886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28560" y="1600200"/>
            <a:ext cx="78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28200" y="6561000"/>
            <a:ext cx="20574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DE65-62EE-43D2-AC9F-5876DAB5276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029040" y="6561000"/>
            <a:ext cx="308592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457680" y="6561000"/>
            <a:ext cx="20574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46CC-F20C-4CFF-B5DD-D733567474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矩形 3"/>
          <p:cNvSpPr/>
          <p:nvPr/>
        </p:nvSpPr>
        <p:spPr>
          <a:xfrm>
            <a:off x="2181240" y="365040"/>
            <a:ext cx="496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课时　用树状图法求概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2" descr="课前1.TIF"/>
          <p:cNvPicPr/>
          <p:nvPr/>
        </p:nvPicPr>
        <p:blipFill>
          <a:blip r:embed="rId1"/>
          <a:stretch/>
        </p:blipFill>
        <p:spPr>
          <a:xfrm>
            <a:off x="395280" y="939960"/>
            <a:ext cx="2332080" cy="423720"/>
          </a:xfrm>
          <a:prstGeom prst="rect">
            <a:avLst/>
          </a:prstGeom>
          <a:ln w="0">
            <a:noFill/>
          </a:ln>
        </p:spPr>
      </p:pic>
      <p:sp>
        <p:nvSpPr>
          <p:cNvPr id="241" name="矩形 4"/>
          <p:cNvSpPr/>
          <p:nvPr/>
        </p:nvSpPr>
        <p:spPr>
          <a:xfrm>
            <a:off x="731880" y="1652760"/>
            <a:ext cx="7512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．将实验的可能结果像树枝分叉一样一层一层地表示，每个分支对应一种可能结果，这种图形叫做</a:t>
            </a: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_______ 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，这种求概率的方法叫做</a:t>
            </a: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__________ 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．画树状图法与列表法是求简单事件的概率的两种主要方法，但要注意：凡是具有两步试验的简单事件，既可以利用树状图法求解，也可以利用列表法求解，但对于具有三步试验的简单事件，一般采用</a:t>
            </a:r>
            <a:r>
              <a:rPr b="0" lang="en-US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__________</a:t>
            </a:r>
            <a:r>
              <a:rPr b="0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求解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2"/>
          <a:stretch/>
        </p:blipFill>
        <p:spPr>
          <a:xfrm>
            <a:off x="4164120" y="2158920"/>
            <a:ext cx="647640" cy="209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"/>
          <p:cNvPicPr/>
          <p:nvPr/>
        </p:nvPicPr>
        <p:blipFill>
          <a:blip r:embed="rId3"/>
          <a:stretch/>
        </p:blipFill>
        <p:spPr>
          <a:xfrm>
            <a:off x="971640" y="2565360"/>
            <a:ext cx="828720" cy="2095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"/>
          <p:cNvPicPr/>
          <p:nvPr/>
        </p:nvPicPr>
        <p:blipFill>
          <a:blip r:embed="rId4"/>
          <a:stretch/>
        </p:blipFill>
        <p:spPr>
          <a:xfrm>
            <a:off x="6372360" y="4292640"/>
            <a:ext cx="428400" cy="1810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"/>
          <p:cNvPicPr/>
          <p:nvPr/>
        </p:nvPicPr>
        <p:blipFill>
          <a:blip r:embed="rId5"/>
          <a:stretch/>
        </p:blipFill>
        <p:spPr>
          <a:xfrm>
            <a:off x="6800760" y="4281480"/>
            <a:ext cx="647640" cy="1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思维突破.TIF"/>
          <p:cNvPicPr/>
          <p:nvPr/>
        </p:nvPicPr>
        <p:blipFill>
          <a:blip r:embed="rId1"/>
          <a:stretch/>
        </p:blipFill>
        <p:spPr>
          <a:xfrm>
            <a:off x="324000" y="115920"/>
            <a:ext cx="1966680" cy="461880"/>
          </a:xfrm>
          <a:prstGeom prst="rect">
            <a:avLst/>
          </a:prstGeom>
          <a:ln w="0">
            <a:noFill/>
          </a:ln>
        </p:spPr>
      </p:pic>
      <p:sp>
        <p:nvSpPr>
          <p:cNvPr id="281" name="矩形 1"/>
          <p:cNvSpPr/>
          <p:nvPr/>
        </p:nvSpPr>
        <p:spPr>
          <a:xfrm>
            <a:off x="301680" y="476280"/>
            <a:ext cx="837396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．某班有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位学生，每位学生都有一个序号，将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张编有学生序号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从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号到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号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的卡片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除序号不同外其他均相同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打乱顺序重新排列，从中任意抽取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张卡片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(1)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在序号中，是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的倍数的有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0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；能整除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的有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0(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为了不重复计数，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只计一次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，求取到的卡片上序号是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的倍数或能整除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的概率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(2)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若规定：取到的卡片上序号是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k(k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是满足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≤k≤50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的整数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，则序号是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k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的倍数或能整除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k(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不重复计数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的学生能参加某项活动，这一规定是否公平？请说明理由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(3)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请你设计一个规定，能公平地选出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位学生参加某项活动，并说明你的规定是符合要求的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2"/>
          <a:stretch/>
        </p:blipFill>
        <p:spPr>
          <a:xfrm>
            <a:off x="1819440" y="2173320"/>
            <a:ext cx="4390920" cy="7142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"/>
          <p:cNvPicPr/>
          <p:nvPr/>
        </p:nvPicPr>
        <p:blipFill>
          <a:blip r:embed="rId3"/>
          <a:stretch/>
        </p:blipFill>
        <p:spPr>
          <a:xfrm>
            <a:off x="2003400" y="3892680"/>
            <a:ext cx="4334040" cy="9428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"/>
          <p:cNvPicPr/>
          <p:nvPr/>
        </p:nvPicPr>
        <p:blipFill>
          <a:blip r:embed="rId4"/>
          <a:stretch/>
        </p:blipFill>
        <p:spPr>
          <a:xfrm>
            <a:off x="2092320" y="5589720"/>
            <a:ext cx="43243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课堂2.tif"/>
          <p:cNvPicPr/>
          <p:nvPr/>
        </p:nvPicPr>
        <p:blipFill>
          <a:blip r:embed="rId1"/>
          <a:stretch/>
        </p:blipFill>
        <p:spPr>
          <a:xfrm>
            <a:off x="250920" y="266760"/>
            <a:ext cx="1947600" cy="353880"/>
          </a:xfrm>
          <a:prstGeom prst="rect">
            <a:avLst/>
          </a:prstGeom>
          <a:ln w="0">
            <a:noFill/>
          </a:ln>
        </p:spPr>
      </p:pic>
      <p:sp>
        <p:nvSpPr>
          <p:cNvPr id="247" name="矩形 1"/>
          <p:cNvSpPr/>
          <p:nvPr/>
        </p:nvSpPr>
        <p:spPr>
          <a:xfrm>
            <a:off x="1994040" y="692280"/>
            <a:ext cx="409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知识点一：用树状图法求概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矩形 2"/>
          <p:cNvSpPr/>
          <p:nvPr/>
        </p:nvSpPr>
        <p:spPr>
          <a:xfrm>
            <a:off x="633240" y="1125360"/>
            <a:ext cx="7755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淮安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如图，转盘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的三个扇形面积相等，分别标有数字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，转盘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的四个扇形面积相等，分别标有数字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转动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转盘各一次，当转盘停止转动时，将指针所落扇形中的两个数字相乘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当指针落在相邻扇形的交线上时，重新转动转盘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(1)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用树状图或列表法列出所有可能出现的结果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(2)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求两个数字的积为奇数的概率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3" descr="A167.TIF"/>
          <p:cNvPicPr/>
          <p:nvPr/>
        </p:nvPicPr>
        <p:blipFill>
          <a:blip r:embed="rId2"/>
          <a:stretch/>
        </p:blipFill>
        <p:spPr>
          <a:xfrm>
            <a:off x="6159600" y="2600280"/>
            <a:ext cx="2228760" cy="12970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"/>
          <p:cNvPicPr/>
          <p:nvPr/>
        </p:nvPicPr>
        <p:blipFill>
          <a:blip r:embed="rId3"/>
          <a:stretch/>
        </p:blipFill>
        <p:spPr>
          <a:xfrm>
            <a:off x="1692360" y="3213000"/>
            <a:ext cx="3105000" cy="14954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"/>
          <p:cNvPicPr/>
          <p:nvPr/>
        </p:nvPicPr>
        <p:blipFill>
          <a:blip r:embed="rId4"/>
          <a:stretch/>
        </p:blipFill>
        <p:spPr>
          <a:xfrm>
            <a:off x="1547640" y="5307120"/>
            <a:ext cx="3924360" cy="2952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"/>
          <p:cNvPicPr/>
          <p:nvPr/>
        </p:nvPicPr>
        <p:blipFill>
          <a:blip r:embed="rId5"/>
          <a:stretch/>
        </p:blipFill>
        <p:spPr>
          <a:xfrm>
            <a:off x="2198520" y="5662440"/>
            <a:ext cx="349596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训练1.tif"/>
          <p:cNvPicPr/>
          <p:nvPr/>
        </p:nvPicPr>
        <p:blipFill>
          <a:blip r:embed="rId1"/>
          <a:stretch/>
        </p:blipFill>
        <p:spPr>
          <a:xfrm>
            <a:off x="447840" y="333360"/>
            <a:ext cx="1960560" cy="358920"/>
          </a:xfrm>
          <a:prstGeom prst="rect">
            <a:avLst/>
          </a:prstGeom>
          <a:ln w="0">
            <a:noFill/>
          </a:ln>
        </p:spPr>
      </p:pic>
      <p:sp>
        <p:nvSpPr>
          <p:cNvPr id="254" name="矩形 1"/>
          <p:cNvSpPr/>
          <p:nvPr/>
        </p:nvSpPr>
        <p:spPr>
          <a:xfrm>
            <a:off x="447840" y="736560"/>
            <a:ext cx="822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黄冈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小明、小林是三河中学九年级的同班同学，在四月份举行的自主招生考试中，他俩都被同一所高中提前录取，并将被编入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三个班，他俩希望能再次成为同班同学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(1)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请你用画树状图法或列举法，列出所有可能的结果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(2)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求两人再次成为同班同学的概率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1619280" y="2449440"/>
            <a:ext cx="4476600" cy="18478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"/>
          <p:cNvPicPr/>
          <p:nvPr/>
        </p:nvPicPr>
        <p:blipFill>
          <a:blip r:embed="rId3"/>
          <a:stretch/>
        </p:blipFill>
        <p:spPr>
          <a:xfrm>
            <a:off x="2106720" y="5165640"/>
            <a:ext cx="44766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矩形 1"/>
          <p:cNvSpPr/>
          <p:nvPr/>
        </p:nvSpPr>
        <p:spPr>
          <a:xfrm>
            <a:off x="955800" y="174600"/>
            <a:ext cx="2238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新宋体"/>
                <a:ea typeface="新宋体"/>
              </a:rPr>
              <a:t>知识点二：用树状图求概率的应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矩形 2"/>
          <p:cNvSpPr/>
          <p:nvPr/>
        </p:nvSpPr>
        <p:spPr>
          <a:xfrm>
            <a:off x="395280" y="692280"/>
            <a:ext cx="813744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　小明准备今年暑假到北京参加夏令营活动，但只需要一名家长陪同前往，爸爸、妈妈都很愿意陪同，于是决定用抛掷硬币的方法决定由谁陪同，每次掷一枚硬币，连掷三次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(1)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用树状图形列举三次抛掷硬币的所有结果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(2)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若规定：有两次或两次以上正面向上，由爸爸陪同前往北京； 有两次或两次以上反面向上，由妈妈陪同前往北京；分别求由爸爸陪同小明前往北京和由妈妈陪同小明前往北京的概率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1736640" y="2496960"/>
            <a:ext cx="3686400" cy="1276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1312920" y="5484960"/>
            <a:ext cx="453384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图片 2" descr=""/>
          <p:cNvPicPr/>
          <p:nvPr/>
        </p:nvPicPr>
        <p:blipFill>
          <a:blip r:embed="rId1"/>
          <a:stretch/>
        </p:blipFill>
        <p:spPr>
          <a:xfrm>
            <a:off x="279360" y="490680"/>
            <a:ext cx="7388280" cy="150336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3" descr=""/>
          <p:cNvPicPr/>
          <p:nvPr/>
        </p:nvPicPr>
        <p:blipFill>
          <a:blip r:embed="rId2"/>
          <a:stretch/>
        </p:blipFill>
        <p:spPr>
          <a:xfrm>
            <a:off x="917640" y="2311560"/>
            <a:ext cx="507996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训练2.tif"/>
          <p:cNvPicPr/>
          <p:nvPr/>
        </p:nvPicPr>
        <p:blipFill>
          <a:blip r:embed="rId1"/>
          <a:stretch/>
        </p:blipFill>
        <p:spPr>
          <a:xfrm>
            <a:off x="447840" y="333360"/>
            <a:ext cx="1960560" cy="358920"/>
          </a:xfrm>
          <a:prstGeom prst="rect">
            <a:avLst/>
          </a:prstGeom>
          <a:ln w="0">
            <a:noFill/>
          </a:ln>
        </p:spPr>
      </p:pic>
      <p:sp>
        <p:nvSpPr>
          <p:cNvPr id="264" name="矩形 1"/>
          <p:cNvSpPr/>
          <p:nvPr/>
        </p:nvSpPr>
        <p:spPr>
          <a:xfrm>
            <a:off x="414360" y="836640"/>
            <a:ext cx="81183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泉州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)A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两组卡片共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张，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中三张分别写有数字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中两张分别写有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，它们除数字外没有任何区别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(1)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随机地从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中抽取一张，抽到数字为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的概率为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__________ 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(2)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随机地分别从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组、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组中各抽取一张，请你用画树状图或列表的方法表示所有等可能的结果．现制定这样一个游戏规则：若所抽出的两数之积为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的倍数，则甲获胜；否则乙获胜．请问这样的游戏规则对甲、乙双方公平吗？为什么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2"/>
          <a:stretch/>
        </p:blipFill>
        <p:spPr>
          <a:xfrm>
            <a:off x="5796000" y="1598760"/>
            <a:ext cx="314280" cy="3902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"/>
          <p:cNvPicPr/>
          <p:nvPr/>
        </p:nvPicPr>
        <p:blipFill>
          <a:blip r:embed="rId3"/>
          <a:stretch/>
        </p:blipFill>
        <p:spPr>
          <a:xfrm>
            <a:off x="2276640" y="3573360"/>
            <a:ext cx="367632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课后3.tif"/>
          <p:cNvPicPr/>
          <p:nvPr/>
        </p:nvPicPr>
        <p:blipFill>
          <a:blip r:embed="rId1"/>
          <a:stretch/>
        </p:blipFill>
        <p:spPr>
          <a:xfrm>
            <a:off x="324000" y="44280"/>
            <a:ext cx="2543040" cy="508320"/>
          </a:xfrm>
          <a:prstGeom prst="rect">
            <a:avLst/>
          </a:prstGeom>
          <a:ln w="0">
            <a:noFill/>
          </a:ln>
        </p:spPr>
      </p:pic>
      <p:pic>
        <p:nvPicPr>
          <p:cNvPr id="268" name="对象 1" descr=""/>
          <p:cNvPicPr/>
          <p:nvPr/>
        </p:nvPicPr>
        <p:blipFill>
          <a:blip r:embed="rId2"/>
          <a:stretch/>
        </p:blipFill>
        <p:spPr>
          <a:xfrm>
            <a:off x="573120" y="706320"/>
            <a:ext cx="8058240" cy="5926320"/>
          </a:xfrm>
          <a:prstGeom prst="rect">
            <a:avLst/>
          </a:prstGeom>
          <a:ln w="0">
            <a:noFill/>
          </a:ln>
        </p:spPr>
      </p:pic>
      <p:sp>
        <p:nvSpPr>
          <p:cNvPr id="269" name="矩形 2"/>
          <p:cNvSpPr/>
          <p:nvPr/>
        </p:nvSpPr>
        <p:spPr>
          <a:xfrm>
            <a:off x="7721280" y="5445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楷体"/>
                <a:ea typeface="楷体"/>
              </a:rPr>
              <a:t> </a:t>
            </a:r>
            <a:r>
              <a:rPr b="0" lang="en-US" sz="1800" spc="-1" strike="noStrike">
                <a:solidFill>
                  <a:srgbClr val="c00000"/>
                </a:solidFill>
                <a:latin typeface="楷体"/>
                <a:ea typeface="楷体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矩形 5"/>
          <p:cNvSpPr/>
          <p:nvPr/>
        </p:nvSpPr>
        <p:spPr>
          <a:xfrm>
            <a:off x="4555080" y="1125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楷体"/>
                <a:ea typeface="楷体"/>
              </a:rPr>
              <a:t> </a:t>
            </a:r>
            <a:r>
              <a:rPr b="0" lang="en-US" sz="1800" spc="-1" strike="noStrike">
                <a:solidFill>
                  <a:srgbClr val="c00000"/>
                </a:solidFill>
                <a:latin typeface="楷体"/>
                <a:ea typeface="楷体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矩形 6"/>
          <p:cNvSpPr/>
          <p:nvPr/>
        </p:nvSpPr>
        <p:spPr>
          <a:xfrm>
            <a:off x="2112480" y="3249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楷体"/>
                <a:ea typeface="楷体"/>
              </a:rPr>
              <a:t> </a:t>
            </a:r>
            <a:r>
              <a:rPr b="0" lang="en-US" sz="1800" spc="-1" strike="noStrike">
                <a:solidFill>
                  <a:srgbClr val="c00000"/>
                </a:solidFill>
                <a:latin typeface="楷体"/>
                <a:ea typeface="楷体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对象 1" descr=""/>
          <p:cNvPicPr/>
          <p:nvPr/>
        </p:nvPicPr>
        <p:blipFill>
          <a:blip r:embed="rId1"/>
          <a:stretch/>
        </p:blipFill>
        <p:spPr>
          <a:xfrm>
            <a:off x="1116000" y="1447920"/>
            <a:ext cx="6973920" cy="40352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"/>
          <p:cNvPicPr/>
          <p:nvPr/>
        </p:nvPicPr>
        <p:blipFill>
          <a:blip r:embed="rId2"/>
          <a:stretch/>
        </p:blipFill>
        <p:spPr>
          <a:xfrm>
            <a:off x="2627280" y="2060640"/>
            <a:ext cx="324000" cy="4096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" descr=""/>
          <p:cNvPicPr/>
          <p:nvPr/>
        </p:nvPicPr>
        <p:blipFill>
          <a:blip r:embed="rId3"/>
          <a:stretch/>
        </p:blipFill>
        <p:spPr>
          <a:xfrm>
            <a:off x="5867280" y="3274920"/>
            <a:ext cx="25740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矩形 1"/>
          <p:cNvSpPr/>
          <p:nvPr/>
        </p:nvSpPr>
        <p:spPr>
          <a:xfrm>
            <a:off x="324000" y="189000"/>
            <a:ext cx="813564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．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江阴模拟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)2016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年合肥市区中考理科实验操作考试备选试题为物理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题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用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W1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W2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W3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W4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表示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、化学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题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用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H1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H2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H3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H4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表示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、生物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题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用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S1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S2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表示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，共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题．某校为备战实验操作考试，对学生进行模拟训练．由学生在每科测试时抽签选定一个进行实验操作．若学生测试时，第一次抽签选定物理实验题，第二次抽签选定化学实验题，第三次抽签选定生物实验题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(1)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请用树状图法表示王强同学此次抽签的所有可能情况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(2)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若王强对化学的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H2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H3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和生物的</a:t>
            </a:r>
            <a:r>
              <a: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S1</a:t>
            </a:r>
            <a:r>
              <a:rPr b="0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实验准备得较好，求他能同时抽到化学和生物都是准备较好的实验题的概率是多少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1116000" y="2708280"/>
            <a:ext cx="1914480" cy="2476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P126.TIF"/>
          <p:cNvPicPr/>
          <p:nvPr/>
        </p:nvPicPr>
        <p:blipFill>
          <a:blip r:embed="rId2"/>
          <a:stretch/>
        </p:blipFill>
        <p:spPr>
          <a:xfrm>
            <a:off x="3203640" y="2832120"/>
            <a:ext cx="3476520" cy="1533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"/>
          <p:cNvPicPr/>
          <p:nvPr/>
        </p:nvPicPr>
        <p:blipFill>
          <a:blip r:embed="rId3"/>
          <a:stretch/>
        </p:blipFill>
        <p:spPr>
          <a:xfrm>
            <a:off x="2333520" y="5137200"/>
            <a:ext cx="4476960" cy="9716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"/>
          <p:cNvPicPr/>
          <p:nvPr/>
        </p:nvPicPr>
        <p:blipFill>
          <a:blip r:embed="rId4"/>
          <a:stretch/>
        </p:blipFill>
        <p:spPr>
          <a:xfrm>
            <a:off x="2448000" y="6156360"/>
            <a:ext cx="43624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6T12:22:42Z</dcterms:created>
  <dc:creator>admin</dc:creator>
  <dc:description/>
  <dc:language>en-US</dc:language>
  <cp:lastModifiedBy>支持客服-曹文文</cp:lastModifiedBy>
  <dcterms:modified xsi:type="dcterms:W3CDTF">2018-03-14T02:20:30Z</dcterms:modified>
  <cp:revision>2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2</vt:lpwstr>
  </property>
</Properties>
</file>