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FE9-0E80-4E31-B64E-55C2B4D3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B13-7306-4369-A8BA-CB6E4A7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C89-5088-4802-9E29-D6D77442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34F-CA90-4F57-B48B-249ED6F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174-61EF-42E6-9CE5-24B3E218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EF4-8FEF-46FE-9BF7-51A4BFCE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9D2-6829-4B9F-B271-BAFAC68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1AE-0CD6-42D2-A622-9970C15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356-697D-40C3-A1D5-E823D17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876-44D7-4F8F-BBF1-3A589321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B3B-9884-483F-B8A1-A67E121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005-85FF-42B4-B249-A617B1B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CA5-D827-42FA-8489-C267228E6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790560" y="3038400"/>
            <a:ext cx="7562880" cy="781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819520" y="4175280"/>
            <a:ext cx="4074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708120" y="781200"/>
            <a:ext cx="7727760" cy="5386320"/>
          </a:xfrm>
          <a:prstGeom prst="rect">
            <a:avLst/>
          </a:prstGeom>
          <a:ln w="0">
            <a:noFill/>
          </a:ln>
        </p:spPr>
      </p:pic>
      <p:sp>
        <p:nvSpPr>
          <p:cNvPr id="65" name="矩形 1"/>
          <p:cNvSpPr/>
          <p:nvPr/>
        </p:nvSpPr>
        <p:spPr>
          <a:xfrm>
            <a:off x="900000" y="2174760"/>
            <a:ext cx="44262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1224000" y="2732040"/>
            <a:ext cx="16128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2836800" y="2732040"/>
            <a:ext cx="25718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1314360" y="3262320"/>
            <a:ext cx="20163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9000" y="3390840"/>
            <a:ext cx="18972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1224000" y="4079880"/>
            <a:ext cx="1471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880920" y="4807080"/>
            <a:ext cx="36482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529160" y="4676760"/>
            <a:ext cx="17175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1314360" y="5442120"/>
            <a:ext cx="167976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2994120" y="5440320"/>
            <a:ext cx="153504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4529160" y="5442120"/>
            <a:ext cx="145728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573120" y="755640"/>
            <a:ext cx="7792920" cy="2708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3"/>
          <a:stretch/>
        </p:blipFill>
        <p:spPr>
          <a:xfrm>
            <a:off x="3038400" y="3417840"/>
            <a:ext cx="2725920" cy="17049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"/>
          <p:cNvPicPr/>
          <p:nvPr/>
        </p:nvPicPr>
        <p:blipFill>
          <a:blip r:embed="rId4"/>
          <a:stretch/>
        </p:blipFill>
        <p:spPr>
          <a:xfrm>
            <a:off x="1006560" y="5187960"/>
            <a:ext cx="7340400" cy="102060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1006560" y="5187960"/>
            <a:ext cx="735948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7550280" y="1798560"/>
            <a:ext cx="4348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615960" y="1405080"/>
            <a:ext cx="7913520" cy="18381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tretch/>
        </p:blipFill>
        <p:spPr>
          <a:xfrm>
            <a:off x="3247920" y="3530520"/>
            <a:ext cx="2648160" cy="180036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1704960" y="2327400"/>
            <a:ext cx="241632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571680" y="2776680"/>
            <a:ext cx="8208720" cy="2989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3"/>
          <a:stretch/>
        </p:blipFill>
        <p:spPr>
          <a:xfrm>
            <a:off x="3247920" y="614520"/>
            <a:ext cx="2648160" cy="1800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571680" y="2776680"/>
            <a:ext cx="820872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492120" y="777960"/>
            <a:ext cx="8028000" cy="2257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3"/>
          <a:stretch/>
        </p:blipFill>
        <p:spPr>
          <a:xfrm>
            <a:off x="1011240" y="3244680"/>
            <a:ext cx="7431120" cy="286092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1011240" y="3165480"/>
            <a:ext cx="7508880" cy="301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689120" y="1693800"/>
            <a:ext cx="11206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577800" y="1271520"/>
            <a:ext cx="7989840" cy="1695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2998800" y="3241800"/>
            <a:ext cx="3352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857160" y="738360"/>
            <a:ext cx="7429680" cy="538128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857160" y="1630440"/>
            <a:ext cx="39988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366920" y="2055960"/>
            <a:ext cx="187308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3240000" y="2149560"/>
            <a:ext cx="15224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1366920" y="2573280"/>
            <a:ext cx="33955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484280" y="3381480"/>
            <a:ext cx="67932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2163600" y="3381480"/>
            <a:ext cx="2598840" cy="6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1484280" y="4159080"/>
            <a:ext cx="297504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4459320" y="4159080"/>
            <a:ext cx="28702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933480" y="4819680"/>
            <a:ext cx="26622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3595680" y="4870440"/>
            <a:ext cx="27417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6337440" y="4673520"/>
            <a:ext cx="1949400" cy="7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430280" y="5462640"/>
            <a:ext cx="550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1981080" y="5578560"/>
            <a:ext cx="23004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4281480" y="5578560"/>
            <a:ext cx="264636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2"/>
          <a:srcRect l="0" t="0" r="0" b="13580"/>
          <a:stretch/>
        </p:blipFill>
        <p:spPr>
          <a:xfrm>
            <a:off x="619200" y="1290600"/>
            <a:ext cx="7905600" cy="36957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"/>
          <p:cNvSpPr/>
          <p:nvPr/>
        </p:nvSpPr>
        <p:spPr>
          <a:xfrm>
            <a:off x="952560" y="3198960"/>
            <a:ext cx="460836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5560920" y="3200400"/>
            <a:ext cx="296388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1484280" y="4119480"/>
            <a:ext cx="28447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4329000" y="4121280"/>
            <a:ext cx="419580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6" descr=""/>
          <p:cNvPicPr/>
          <p:nvPr/>
        </p:nvPicPr>
        <p:blipFill>
          <a:blip r:embed="rId3"/>
          <a:stretch/>
        </p:blipFill>
        <p:spPr>
          <a:xfrm>
            <a:off x="1521000" y="4843440"/>
            <a:ext cx="6962760" cy="75240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1521000" y="4829040"/>
            <a:ext cx="4119480" cy="8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640480" y="4902120"/>
            <a:ext cx="296388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" descr=""/>
          <p:cNvPicPr/>
          <p:nvPr/>
        </p:nvPicPr>
        <p:blipFill>
          <a:blip r:embed="rId2"/>
          <a:stretch/>
        </p:blipFill>
        <p:spPr>
          <a:xfrm>
            <a:off x="847800" y="1133640"/>
            <a:ext cx="7448400" cy="4590720"/>
          </a:xfrm>
          <a:prstGeom prst="rect">
            <a:avLst/>
          </a:prstGeom>
          <a:ln w="0">
            <a:noFill/>
          </a:ln>
        </p:spPr>
      </p:pic>
      <p:sp>
        <p:nvSpPr>
          <p:cNvPr id="117" name="矩形 2"/>
          <p:cNvSpPr/>
          <p:nvPr/>
        </p:nvSpPr>
        <p:spPr>
          <a:xfrm>
            <a:off x="711360" y="1539720"/>
            <a:ext cx="45115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5222880" y="1539720"/>
            <a:ext cx="1427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847800" y="2122560"/>
            <a:ext cx="19209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768760" y="2044800"/>
            <a:ext cx="196992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4659480" y="2044800"/>
            <a:ext cx="18158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988920" y="2984400"/>
            <a:ext cx="986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1974960" y="2984400"/>
            <a:ext cx="27637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738680" y="2854440"/>
            <a:ext cx="191124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1257480" y="3538440"/>
            <a:ext cx="28000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4057560" y="3564000"/>
            <a:ext cx="2840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6897600" y="3564000"/>
            <a:ext cx="13986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270080" y="4041720"/>
            <a:ext cx="32144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4484520" y="4041720"/>
            <a:ext cx="16002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6084720" y="4041720"/>
            <a:ext cx="22114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1166760" y="4467240"/>
            <a:ext cx="33177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4568760" y="4467240"/>
            <a:ext cx="37274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1201680" y="4892760"/>
            <a:ext cx="8622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8"/>
          <p:cNvSpPr/>
          <p:nvPr/>
        </p:nvSpPr>
        <p:spPr>
          <a:xfrm>
            <a:off x="2063880" y="4892760"/>
            <a:ext cx="29048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4968720" y="4894200"/>
            <a:ext cx="19288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0"/>
          <p:cNvSpPr/>
          <p:nvPr/>
        </p:nvSpPr>
        <p:spPr>
          <a:xfrm>
            <a:off x="6805440" y="4894200"/>
            <a:ext cx="15829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"/>
          <p:cNvSpPr/>
          <p:nvPr/>
        </p:nvSpPr>
        <p:spPr>
          <a:xfrm>
            <a:off x="1139760" y="5319720"/>
            <a:ext cx="13366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2"/>
          <a:stretch/>
        </p:blipFill>
        <p:spPr>
          <a:xfrm>
            <a:off x="654120" y="736560"/>
            <a:ext cx="7630920" cy="3686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"/>
          <p:cNvPicPr/>
          <p:nvPr/>
        </p:nvPicPr>
        <p:blipFill>
          <a:blip r:embed="rId3"/>
          <a:stretch/>
        </p:blipFill>
        <p:spPr>
          <a:xfrm>
            <a:off x="1166760" y="4448160"/>
            <a:ext cx="7131240" cy="16826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0"/>
          <p:cNvSpPr/>
          <p:nvPr/>
        </p:nvSpPr>
        <p:spPr>
          <a:xfrm>
            <a:off x="1166760" y="4422600"/>
            <a:ext cx="39416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166760" y="4422600"/>
            <a:ext cx="3941640" cy="8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1015920" y="5249880"/>
            <a:ext cx="1128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2146320" y="5249880"/>
            <a:ext cx="29620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1701720" y="5730840"/>
            <a:ext cx="1749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189080" y="687240"/>
            <a:ext cx="6694560" cy="2754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2076480" y="3546360"/>
            <a:ext cx="456084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201080" y="3121200"/>
            <a:ext cx="43308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"/>
          <p:cNvPicPr/>
          <p:nvPr/>
        </p:nvPicPr>
        <p:blipFill>
          <a:blip r:embed="rId2"/>
          <a:stretch/>
        </p:blipFill>
        <p:spPr>
          <a:xfrm>
            <a:off x="1082520" y="771480"/>
            <a:ext cx="6880320" cy="5311800"/>
          </a:xfrm>
          <a:prstGeom prst="rect">
            <a:avLst/>
          </a:prstGeom>
          <a:ln w="0">
            <a:noFill/>
          </a:ln>
        </p:spPr>
      </p:pic>
      <p:sp>
        <p:nvSpPr>
          <p:cNvPr id="146" name="矩形 5"/>
          <p:cNvSpPr/>
          <p:nvPr/>
        </p:nvSpPr>
        <p:spPr>
          <a:xfrm>
            <a:off x="1225440" y="927000"/>
            <a:ext cx="47451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1704960" y="2249640"/>
            <a:ext cx="252576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5945040" y="771480"/>
            <a:ext cx="187812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1225440" y="1469880"/>
            <a:ext cx="18795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3103560" y="1658880"/>
            <a:ext cx="15829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1225440" y="3973680"/>
            <a:ext cx="47451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4505400" y="2249640"/>
            <a:ext cx="252864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5945040" y="3867120"/>
            <a:ext cx="20178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1082520" y="4540320"/>
            <a:ext cx="202104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3105000" y="4689360"/>
            <a:ext cx="20098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1225440" y="5238720"/>
            <a:ext cx="683100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2"/>
          <a:stretch/>
        </p:blipFill>
        <p:spPr>
          <a:xfrm>
            <a:off x="695160" y="938160"/>
            <a:ext cx="77536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542880" y="1362240"/>
            <a:ext cx="8058240" cy="4133520"/>
          </a:xfrm>
          <a:prstGeom prst="rect">
            <a:avLst/>
          </a:prstGeom>
          <a:ln w="0">
            <a:noFill/>
          </a:ln>
        </p:spPr>
      </p:pic>
      <p:sp>
        <p:nvSpPr>
          <p:cNvPr id="48" name="矩形 1"/>
          <p:cNvSpPr/>
          <p:nvPr/>
        </p:nvSpPr>
        <p:spPr>
          <a:xfrm>
            <a:off x="7772400" y="1362240"/>
            <a:ext cx="4334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590400" y="704880"/>
            <a:ext cx="7963200" cy="31906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3176640" y="4038480"/>
            <a:ext cx="279072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7753320" y="2448000"/>
            <a:ext cx="4334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2"/>
          <a:stretch/>
        </p:blipFill>
        <p:spPr>
          <a:xfrm>
            <a:off x="533520" y="1119240"/>
            <a:ext cx="807696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2967120" y="3279600"/>
            <a:ext cx="3209760" cy="28386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7732800" y="2200320"/>
            <a:ext cx="4334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485640" y="662040"/>
            <a:ext cx="8172720" cy="553392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2455920" y="2109960"/>
            <a:ext cx="167796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1170000" y="5634000"/>
            <a:ext cx="7444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2"/>
          <a:stretch/>
        </p:blipFill>
        <p:spPr>
          <a:xfrm>
            <a:off x="828720" y="2190600"/>
            <a:ext cx="7772400" cy="247680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6254640" y="3327480"/>
            <a:ext cx="19368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2"/>
          <a:stretch/>
        </p:blipFill>
        <p:spPr>
          <a:xfrm>
            <a:off x="581040" y="1628640"/>
            <a:ext cx="798192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7265880" y="3898800"/>
            <a:ext cx="5889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614520" y="1487520"/>
            <a:ext cx="7913520" cy="18860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3"/>
          <a:stretch/>
        </p:blipFill>
        <p:spPr>
          <a:xfrm>
            <a:off x="3081240" y="3556080"/>
            <a:ext cx="2979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5:43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