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B0A-FABF-4F36-BF7E-ED624D84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CBF-A91C-4FA1-B9EE-DB39873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57E-D42E-4F18-BFA5-93E5593D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84F-C7F5-48A0-8AB9-D6B9C48C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F9E-D272-4937-84A6-C3A4ACD4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979-8BFE-4BF8-ADDE-05A3BE12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903-1B60-4AE5-A590-3FA22FF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40C-290A-4D32-83EE-FB28C89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451-21F3-4D51-BFBC-588166BD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372-B4EC-4E02-88F1-2E95266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D1A-A5FF-4B46-9AE7-6496476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9E6-1EAA-4780-AF50-6E6AA49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033B-EF19-49E6-81BA-C03CA4E98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557360" y="3100320"/>
            <a:ext cx="6029280" cy="6573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898720" y="4299120"/>
            <a:ext cx="35798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2"/>
          <a:stretch/>
        </p:blipFill>
        <p:spPr>
          <a:xfrm>
            <a:off x="566640" y="1057320"/>
            <a:ext cx="8008920" cy="474336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911160" y="2805120"/>
            <a:ext cx="4383000" cy="12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809640" y="4281480"/>
            <a:ext cx="5065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1316160" y="4060800"/>
            <a:ext cx="397800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911160" y="5051520"/>
            <a:ext cx="176544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676600" y="5140440"/>
            <a:ext cx="343512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606600" y="757080"/>
            <a:ext cx="7932600" cy="3038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"/>
          <p:cNvPicPr/>
          <p:nvPr/>
        </p:nvPicPr>
        <p:blipFill>
          <a:blip r:embed="rId3"/>
          <a:stretch/>
        </p:blipFill>
        <p:spPr>
          <a:xfrm>
            <a:off x="3362400" y="3795840"/>
            <a:ext cx="2419200" cy="1885680"/>
          </a:xfrm>
          <a:prstGeom prst="rect">
            <a:avLst/>
          </a:prstGeom>
          <a:ln w="0">
            <a:noFill/>
          </a:ln>
        </p:spPr>
      </p:pic>
      <p:sp>
        <p:nvSpPr>
          <p:cNvPr id="82" name="矩形 2"/>
          <p:cNvSpPr/>
          <p:nvPr/>
        </p:nvSpPr>
        <p:spPr>
          <a:xfrm>
            <a:off x="7729560" y="2908440"/>
            <a:ext cx="5065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681120" y="3191040"/>
            <a:ext cx="7495920" cy="2323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3"/>
          <a:stretch/>
        </p:blipFill>
        <p:spPr>
          <a:xfrm>
            <a:off x="3424320" y="1162080"/>
            <a:ext cx="2295360" cy="1942920"/>
          </a:xfrm>
          <a:prstGeom prst="rect">
            <a:avLst/>
          </a:prstGeom>
          <a:ln w="0">
            <a:noFill/>
          </a:ln>
        </p:spPr>
      </p:pic>
      <p:sp>
        <p:nvSpPr>
          <p:cNvPr id="85" name="矩形 2"/>
          <p:cNvSpPr/>
          <p:nvPr/>
        </p:nvSpPr>
        <p:spPr>
          <a:xfrm>
            <a:off x="681120" y="3228840"/>
            <a:ext cx="7610400" cy="24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568440" y="1333440"/>
            <a:ext cx="800892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"/>
          <p:cNvPicPr/>
          <p:nvPr/>
        </p:nvPicPr>
        <p:blipFill>
          <a:blip r:embed="rId3"/>
          <a:stretch/>
        </p:blipFill>
        <p:spPr>
          <a:xfrm>
            <a:off x="3686040" y="3462480"/>
            <a:ext cx="2095560" cy="195264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4479840" y="2816280"/>
            <a:ext cx="507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590400" y="1909800"/>
            <a:ext cx="7963200" cy="3038400"/>
          </a:xfrm>
          <a:prstGeom prst="rect">
            <a:avLst/>
          </a:prstGeom>
          <a:ln w="0">
            <a:noFill/>
          </a:ln>
        </p:spPr>
      </p:pic>
      <p:sp>
        <p:nvSpPr>
          <p:cNvPr id="90" name="矩形 2"/>
          <p:cNvSpPr/>
          <p:nvPr/>
        </p:nvSpPr>
        <p:spPr>
          <a:xfrm>
            <a:off x="1598760" y="4398840"/>
            <a:ext cx="5061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1160640" y="2440080"/>
            <a:ext cx="6822720" cy="38606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3009960" y="668160"/>
            <a:ext cx="312408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1160640" y="2440080"/>
            <a:ext cx="6729120" cy="386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366840" y="1252440"/>
            <a:ext cx="7980120" cy="1838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3"/>
          <a:stretch/>
        </p:blipFill>
        <p:spPr>
          <a:xfrm>
            <a:off x="907920" y="3281400"/>
            <a:ext cx="7553520" cy="2352600"/>
          </a:xfrm>
          <a:prstGeom prst="rect">
            <a:avLst/>
          </a:prstGeom>
          <a:ln w="0">
            <a:noFill/>
          </a:ln>
        </p:spPr>
      </p:pic>
      <p:sp>
        <p:nvSpPr>
          <p:cNvPr id="96" name="矩形 2"/>
          <p:cNvSpPr/>
          <p:nvPr/>
        </p:nvSpPr>
        <p:spPr>
          <a:xfrm>
            <a:off x="907920" y="3281400"/>
            <a:ext cx="31640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4103640" y="3281400"/>
            <a:ext cx="202428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907920" y="3763800"/>
            <a:ext cx="5220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907920" y="4668840"/>
            <a:ext cx="2217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3124080" y="4668840"/>
            <a:ext cx="323856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907920" y="5162400"/>
            <a:ext cx="2943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2"/>
          <a:stretch/>
        </p:blipFill>
        <p:spPr>
          <a:xfrm>
            <a:off x="385920" y="1411200"/>
            <a:ext cx="6856200" cy="839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3"/>
          <a:stretch/>
        </p:blipFill>
        <p:spPr>
          <a:xfrm>
            <a:off x="1104840" y="2251080"/>
            <a:ext cx="7201080" cy="23972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" descr=""/>
          <p:cNvPicPr/>
          <p:nvPr/>
        </p:nvPicPr>
        <p:blipFill>
          <a:blip r:embed="rId4"/>
          <a:stretch/>
        </p:blipFill>
        <p:spPr>
          <a:xfrm>
            <a:off x="390600" y="2482920"/>
            <a:ext cx="819000" cy="352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" descr=""/>
          <p:cNvPicPr/>
          <p:nvPr/>
        </p:nvPicPr>
        <p:blipFill>
          <a:blip r:embed="rId5"/>
          <a:stretch/>
        </p:blipFill>
        <p:spPr>
          <a:xfrm>
            <a:off x="7101000" y="1714680"/>
            <a:ext cx="1709640" cy="188748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390600" y="2435400"/>
            <a:ext cx="38415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4232160" y="2352600"/>
            <a:ext cx="1582920" cy="8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1209600" y="3156120"/>
            <a:ext cx="283392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4043520" y="3201840"/>
            <a:ext cx="150012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543640" y="3156120"/>
            <a:ext cx="155736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1209600" y="3873600"/>
            <a:ext cx="30225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4232160" y="3873600"/>
            <a:ext cx="2556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6788160" y="3745080"/>
            <a:ext cx="1341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1104840" y="4248000"/>
            <a:ext cx="143532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0"/>
          <p:cNvSpPr/>
          <p:nvPr/>
        </p:nvSpPr>
        <p:spPr>
          <a:xfrm>
            <a:off x="2540160" y="4327560"/>
            <a:ext cx="25588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568440" y="709560"/>
            <a:ext cx="7070760" cy="21844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" descr=""/>
          <p:cNvPicPr/>
          <p:nvPr/>
        </p:nvPicPr>
        <p:blipFill>
          <a:blip r:embed="rId3"/>
          <a:stretch/>
        </p:blipFill>
        <p:spPr>
          <a:xfrm>
            <a:off x="1019160" y="4340160"/>
            <a:ext cx="6620040" cy="18828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"/>
          <p:cNvPicPr/>
          <p:nvPr/>
        </p:nvPicPr>
        <p:blipFill>
          <a:blip r:embed="rId4"/>
          <a:srcRect l="0" t="0" r="4603" b="0"/>
          <a:stretch/>
        </p:blipFill>
        <p:spPr>
          <a:xfrm>
            <a:off x="5378400" y="2670120"/>
            <a:ext cx="215604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1019160" y="4187880"/>
            <a:ext cx="390204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4871880" y="4314960"/>
            <a:ext cx="2853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1554120" y="4714920"/>
            <a:ext cx="34448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4998960" y="4714920"/>
            <a:ext cx="27259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1528920" y="5345280"/>
            <a:ext cx="19843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 flipV="1">
            <a:off x="3513240" y="5252400"/>
            <a:ext cx="247644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5989680" y="5116680"/>
            <a:ext cx="16495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1554120" y="5823000"/>
            <a:ext cx="30988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2"/>
          <a:stretch/>
        </p:blipFill>
        <p:spPr>
          <a:xfrm>
            <a:off x="1001880" y="717480"/>
            <a:ext cx="6729120" cy="1254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3"/>
          <a:stretch/>
        </p:blipFill>
        <p:spPr>
          <a:xfrm>
            <a:off x="1073160" y="3402000"/>
            <a:ext cx="6735600" cy="27972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"/>
          <p:cNvPicPr/>
          <p:nvPr/>
        </p:nvPicPr>
        <p:blipFill>
          <a:blip r:embed="rId4"/>
          <a:stretch/>
        </p:blipFill>
        <p:spPr>
          <a:xfrm>
            <a:off x="5397480" y="1539720"/>
            <a:ext cx="2214720" cy="180504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938160" y="3402000"/>
            <a:ext cx="54198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6357960" y="3402000"/>
            <a:ext cx="13730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1274760" y="3803760"/>
            <a:ext cx="653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1274760" y="4203720"/>
            <a:ext cx="13222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2597040" y="4203720"/>
            <a:ext cx="52117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1521000" y="4697280"/>
            <a:ext cx="250164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3971880" y="4603680"/>
            <a:ext cx="26719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1521000" y="5318280"/>
            <a:ext cx="20620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3583080" y="5241960"/>
            <a:ext cx="25286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6111720" y="5138640"/>
            <a:ext cx="1619280" cy="7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1442880" y="5745240"/>
            <a:ext cx="32688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585720" y="952560"/>
            <a:ext cx="797076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>
            <a:off x="7732800" y="4167360"/>
            <a:ext cx="5968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"/>
          <p:cNvPicPr/>
          <p:nvPr/>
        </p:nvPicPr>
        <p:blipFill>
          <a:blip r:embed="rId2"/>
          <a:stretch/>
        </p:blipFill>
        <p:spPr>
          <a:xfrm>
            <a:off x="571680" y="923760"/>
            <a:ext cx="800100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2"/>
          <a:stretch/>
        </p:blipFill>
        <p:spPr>
          <a:xfrm>
            <a:off x="581040" y="1947960"/>
            <a:ext cx="7981920" cy="296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7746840" y="2443320"/>
            <a:ext cx="59724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743040" y="768240"/>
            <a:ext cx="7781760" cy="540864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939960" y="4387680"/>
            <a:ext cx="7816680" cy="18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7651800" y="1209600"/>
            <a:ext cx="507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585720" y="1600200"/>
            <a:ext cx="79707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7651800" y="2647800"/>
            <a:ext cx="507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714240" y="1290600"/>
            <a:ext cx="792504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3"/>
          <a:stretch/>
        </p:blipFill>
        <p:spPr>
          <a:xfrm>
            <a:off x="3390840" y="3376440"/>
            <a:ext cx="2571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48440" y="1793880"/>
            <a:ext cx="2490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911160" y="2298600"/>
            <a:ext cx="151776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3271680" y="2228760"/>
            <a:ext cx="24670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" descr=""/>
          <p:cNvPicPr/>
          <p:nvPr/>
        </p:nvPicPr>
        <p:blipFill>
          <a:blip r:embed="rId3"/>
          <a:stretch/>
        </p:blipFill>
        <p:spPr>
          <a:xfrm>
            <a:off x="457200" y="1162080"/>
            <a:ext cx="794376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"/>
          <p:cNvPicPr/>
          <p:nvPr/>
        </p:nvPicPr>
        <p:blipFill>
          <a:blip r:embed="rId4"/>
          <a:stretch/>
        </p:blipFill>
        <p:spPr>
          <a:xfrm>
            <a:off x="700200" y="4218120"/>
            <a:ext cx="7458120" cy="172404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700200" y="4218120"/>
            <a:ext cx="7584840" cy="19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5738760" y="1555920"/>
            <a:ext cx="5065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542880" y="1347840"/>
            <a:ext cx="8058240" cy="4162320"/>
          </a:xfrm>
          <a:prstGeom prst="rect">
            <a:avLst/>
          </a:prstGeom>
          <a:ln w="0">
            <a:noFill/>
          </a:ln>
        </p:spPr>
      </p:pic>
      <p:sp>
        <p:nvSpPr>
          <p:cNvPr id="63" name="矩形 2"/>
          <p:cNvSpPr/>
          <p:nvPr/>
        </p:nvSpPr>
        <p:spPr>
          <a:xfrm>
            <a:off x="860400" y="2973240"/>
            <a:ext cx="523728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860400" y="3530520"/>
            <a:ext cx="3228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4214880" y="3530520"/>
            <a:ext cx="17636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860400" y="4022640"/>
            <a:ext cx="21146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822240" y="4579920"/>
            <a:ext cx="22939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116160" y="4579920"/>
            <a:ext cx="28623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797040" y="5110200"/>
            <a:ext cx="726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523880" y="5110200"/>
            <a:ext cx="26924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14880" y="4981680"/>
            <a:ext cx="28144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>
            <a:off x="552600" y="1471680"/>
            <a:ext cx="8038800" cy="3914640"/>
          </a:xfrm>
          <a:prstGeom prst="rect">
            <a:avLst/>
          </a:prstGeom>
          <a:ln w="0">
            <a:noFill/>
          </a:ln>
        </p:spPr>
      </p:pic>
      <p:sp>
        <p:nvSpPr>
          <p:cNvPr id="73" name="矩形 2"/>
          <p:cNvSpPr/>
          <p:nvPr/>
        </p:nvSpPr>
        <p:spPr>
          <a:xfrm>
            <a:off x="3749760" y="2830680"/>
            <a:ext cx="50796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5:4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