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%E7%88%86%E7%82%B8.WAV" ContentType="audio/x-wav"/>
  <Override PartName="/ppt/media/image7.jpeg" ContentType="image/jpeg"/>
  <Override PartName="/ppt/media/image20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gif" ContentType="image/gif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3.png" ContentType="image/pn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2.gif" ContentType="image/gi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426-51DB-4F70-8CDF-25B160B3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BC0-C305-42A1-882B-4E1B340C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47F-102B-4ADE-A141-714E8F50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EF8-E14C-4744-9BB1-AA80F6F3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6926-9926-4D90-9699-CA3D80FD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3462-0CE0-4426-8CBD-CE954E46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B442-298C-4489-8C06-2FC180D7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958F-7274-4D63-A965-D75F3F67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BE38-037D-4B15-AE50-35666747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27D8-12C9-4F2B-A61F-C9D1D9F3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0831-89FD-4D4E-908A-20F157D1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C3A-D7BF-4004-98D6-86F7B4BB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B9E2-3DA3-42E8-A2EF-075FCA3C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7C17-FCF5-4504-B594-1F24F46A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60E8-233F-4A49-B541-3EBDB8FD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3C49-E775-42AA-8C5E-52D7CB8B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ABFA-14C7-4097-BE91-FA015A0D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F7DF-B923-4FF0-BB25-1233BE49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37830-287C-49A9-BA52-FB334820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A8733-0A81-428A-A3DC-F8099F3E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FD20B-9214-4D35-AA5D-87C78FDF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FEE64-E5B0-4977-AAF3-EA7B7854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D34-56AC-466F-83AC-6B9AB9A0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87ECF-6903-42E8-ABE1-C5C6DC78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8FD14-9FCD-4ECF-B70B-E7C19ECE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E5C83-EE47-49FB-BD3D-908EB9C4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7CFA2-DAC2-4DE8-B968-DFAC0D35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A8915-B873-4F25-A58C-4CF31CD0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7B5C6-9FEC-46EA-BF93-7DF518F9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011B8-536F-441E-AE69-5E180B41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8F2-6BFC-464D-BD1E-3C54551D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A41C-DC7B-4DFE-B9D0-EE388AA8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CC1-FDBB-4B89-B92A-40EF611D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F09-2FC7-4232-B9E9-055C3BF8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2AA-D731-4FD5-9E23-E2717F9E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0EAB-8942-41F6-A2BB-CF32B10A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39BD-3250-4879-990E-154C21D85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5905-3F6F-464A-8C71-C9A9CD15A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A032-2AE0-4721-9FFE-47D97601F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9.xml"/><Relationship Id="rId3" Type="http://schemas.openxmlformats.org/officeDocument/2006/relationships/image" Target="../media/image11.png"/><Relationship Id="rId4" Type="http://schemas.openxmlformats.org/officeDocument/2006/relationships/slide" Target="slide9.xml"/><Relationship Id="rId5" Type="http://schemas.openxmlformats.org/officeDocument/2006/relationships/image" Target="../media/image11.png"/><Relationship Id="rId6" Type="http://schemas.openxmlformats.org/officeDocument/2006/relationships/slide" Target="slide9.xml"/><Relationship Id="rId7" Type="http://schemas.openxmlformats.org/officeDocument/2006/relationships/image" Target="../media/image11.png"/><Relationship Id="rId8" Type="http://schemas.openxmlformats.org/officeDocument/2006/relationships/slide" Target="slide9.xml"/><Relationship Id="rId9" Type="http://schemas.openxmlformats.org/officeDocument/2006/relationships/image" Target="../media/image11.png"/><Relationship Id="rId10" Type="http://schemas.openxmlformats.org/officeDocument/2006/relationships/audio" Target="../media/&#29190;&#28856;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矩形 2"/>
          <p:cNvSpPr/>
          <p:nvPr/>
        </p:nvSpPr>
        <p:spPr>
          <a:xfrm>
            <a:off x="3935520" y="1916280"/>
            <a:ext cx="1788840" cy="43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3676680" y="4653000"/>
            <a:ext cx="1974960" cy="43164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2448000" y="5877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互相配合、互相协调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20484" descr="PPT·（4字）_看图王"/>
          <p:cNvPicPr/>
          <p:nvPr/>
        </p:nvPicPr>
        <p:blipFill>
          <a:blip r:embed="rId1"/>
          <a:stretch/>
        </p:blipFill>
        <p:spPr>
          <a:xfrm>
            <a:off x="179280" y="333360"/>
            <a:ext cx="2448000" cy="765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史料链接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37680" y="1645920"/>
            <a:ext cx="8541000" cy="32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台儿庄战役激烈的时候，日军凭借炮火优势，攻入台儿庄城内。守城的三十一师师长池峰城立即组织敢死队，准备夺回阵地。战士们知道此去九死一生，仍然踊跃报名。池峰城宣布：每名敢死队员赏大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块。报名的战士当即表示：要钱干什么？我们打仗是为了让子孙不作日本人的奴隶，是要争取民族的生存。敢死队乘夜色冲入敌阵，白刃战中，有的受了伤，又从血泊中爬起来，用大刀砍杀敌人；有的拉响身上的手榴弹，与敌人同归于尽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468360" y="4797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思考：敢死队员具有什么样的精神值得我们学习？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468360" y="412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血战台儿庄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1763640" y="573264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民族利益献身的自我牺牲精神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1073743064" descr=""/>
          <p:cNvPicPr/>
          <p:nvPr/>
        </p:nvPicPr>
        <p:blipFill>
          <a:blip r:embed="rId1"/>
          <a:stretch/>
        </p:blipFill>
        <p:spPr>
          <a:xfrm>
            <a:off x="4521240" y="260280"/>
            <a:ext cx="4608360" cy="56656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"/>
          <p:cNvSpPr/>
          <p:nvPr/>
        </p:nvSpPr>
        <p:spPr>
          <a:xfrm>
            <a:off x="4533840" y="1484280"/>
            <a:ext cx="10335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李宗仁在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台儿庄留影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91" name="图片 2" descr=""/>
          <p:cNvPicPr/>
          <p:nvPr/>
        </p:nvPicPr>
        <p:blipFill>
          <a:blip r:embed="rId2"/>
          <a:stretch/>
        </p:blipFill>
        <p:spPr>
          <a:xfrm>
            <a:off x="108000" y="333360"/>
            <a:ext cx="4249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20484" descr="PPT·（4字）_看图王"/>
          <p:cNvPicPr/>
          <p:nvPr/>
        </p:nvPicPr>
        <p:blipFill>
          <a:blip r:embed="rId1"/>
          <a:stretch/>
        </p:blipFill>
        <p:spPr>
          <a:xfrm>
            <a:off x="0" y="333360"/>
            <a:ext cx="2482920" cy="77616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468360" y="431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保卫大武汉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669760" y="431280"/>
            <a:ext cx="450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武汉会战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1042920" y="177336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间：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1042920" y="26956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范围：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611280" y="3527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战兵力：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971640" y="4365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果：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971640" y="534672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历史意义：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00" name="TextBox 9"/>
          <p:cNvSpPr/>
          <p:nvPr/>
        </p:nvSpPr>
        <p:spPr>
          <a:xfrm>
            <a:off x="2843280" y="1773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3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2627280" y="2708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湖北、安徽、江西、河南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2987640" y="3500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S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2987640" y="514836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本企图迅速灭亡中国的战略彻底破灭；抗战由战略防御阶段过渡到战略相持阶段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2556000" y="436572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方从武汉地区撤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6" name="图片 2" descr="武汉会战示意图.jpg"/>
          <p:cNvPicPr/>
          <p:nvPr/>
        </p:nvPicPr>
        <p:blipFill>
          <a:blip r:embed="rId1"/>
          <a:stretch/>
        </p:blipFill>
        <p:spPr>
          <a:xfrm>
            <a:off x="826920" y="260280"/>
            <a:ext cx="7506000" cy="6193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52360" y="414000"/>
            <a:ext cx="664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家岭大捷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组合 4"/>
          <p:cNvGrpSpPr/>
          <p:nvPr/>
        </p:nvGrpSpPr>
        <p:grpSpPr>
          <a:xfrm>
            <a:off x="1763640" y="1557360"/>
            <a:ext cx="6222960" cy="4840920"/>
            <a:chOff x="1763640" y="1557360"/>
            <a:chExt cx="6222960" cy="4840920"/>
          </a:xfrm>
        </p:grpSpPr>
        <p:pic>
          <p:nvPicPr>
            <p:cNvPr id="209" name="图片 2" descr="万家岭四团长.jpg"/>
            <p:cNvPicPr/>
            <p:nvPr/>
          </p:nvPicPr>
          <p:blipFill>
            <a:blip r:embed="rId1"/>
            <a:stretch/>
          </p:blipFill>
          <p:spPr>
            <a:xfrm>
              <a:off x="1763640" y="1557360"/>
              <a:ext cx="6222960" cy="42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3"/>
            <p:cNvSpPr/>
            <p:nvPr/>
          </p:nvSpPr>
          <p:spPr>
            <a:xfrm>
              <a:off x="2339640" y="5877720"/>
              <a:ext cx="518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参加万家岭战役的四位团长合影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pic>
        <p:nvPicPr>
          <p:cNvPr id="211" name="图片 20484" descr="PPT·（4字）_看图王"/>
          <p:cNvPicPr/>
          <p:nvPr/>
        </p:nvPicPr>
        <p:blipFill>
          <a:blip r:embed="rId2"/>
          <a:stretch/>
        </p:blipFill>
        <p:spPr>
          <a:xfrm>
            <a:off x="0" y="333360"/>
            <a:ext cx="2482920" cy="7761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468360" y="431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保卫大武汉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4" name="组合 4"/>
          <p:cNvGrpSpPr/>
          <p:nvPr/>
        </p:nvGrpSpPr>
        <p:grpSpPr>
          <a:xfrm>
            <a:off x="1116000" y="868320"/>
            <a:ext cx="7243920" cy="5605200"/>
            <a:chOff x="1116000" y="868320"/>
            <a:chExt cx="7243920" cy="5605200"/>
          </a:xfrm>
        </p:grpSpPr>
        <p:pic>
          <p:nvPicPr>
            <p:cNvPr id="215" name="图片 2" descr="万家岭日军坟墓.jpg"/>
            <p:cNvPicPr/>
            <p:nvPr/>
          </p:nvPicPr>
          <p:blipFill>
            <a:blip r:embed="rId1"/>
            <a:stretch/>
          </p:blipFill>
          <p:spPr>
            <a:xfrm>
              <a:off x="1116000" y="868320"/>
              <a:ext cx="7243920" cy="490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Box 3"/>
            <p:cNvSpPr/>
            <p:nvPr/>
          </p:nvSpPr>
          <p:spPr>
            <a:xfrm>
              <a:off x="1770480" y="5952960"/>
              <a:ext cx="574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日军士兵在万家岭的坟墓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pic>
        <p:nvPicPr>
          <p:cNvPr id="217" name="图片 20484" descr="PPT·（4字）_看图王"/>
          <p:cNvPicPr/>
          <p:nvPr/>
        </p:nvPicPr>
        <p:blipFill>
          <a:blip r:embed="rId2"/>
          <a:stretch/>
        </p:blipFill>
        <p:spPr>
          <a:xfrm>
            <a:off x="0" y="115920"/>
            <a:ext cx="2482920" cy="7761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1"/>
          <p:cNvSpPr/>
          <p:nvPr/>
        </p:nvSpPr>
        <p:spPr>
          <a:xfrm>
            <a:off x="466560" y="243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保卫大武汉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309760" y="404280"/>
            <a:ext cx="602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次长沙会战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中旬，日军调集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人的兵力，分兵两路进攻长沙。薛岳指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师，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人兵力，组织防御。日军攻击受挫，伤亡严重，撤至新墙河以北地区，由赣北西进的日军也被击退。会战结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4" descr="薛岳10.jpg"/>
          <p:cNvPicPr/>
          <p:nvPr/>
        </p:nvPicPr>
        <p:blipFill>
          <a:blip r:embed="rId1"/>
          <a:stretch/>
        </p:blipFill>
        <p:spPr>
          <a:xfrm>
            <a:off x="6516720" y="3860640"/>
            <a:ext cx="2095560" cy="25434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20484" descr="PPT·（4字）_看图王"/>
          <p:cNvPicPr/>
          <p:nvPr/>
        </p:nvPicPr>
        <p:blipFill>
          <a:blip r:embed="rId2"/>
          <a:stretch/>
        </p:blipFill>
        <p:spPr>
          <a:xfrm>
            <a:off x="6480" y="115920"/>
            <a:ext cx="2303280" cy="720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"/>
          <p:cNvSpPr/>
          <p:nvPr/>
        </p:nvSpPr>
        <p:spPr>
          <a:xfrm>
            <a:off x="395280" y="2412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战长沙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20484" descr="PPT·（4字）_看图王"/>
          <p:cNvPicPr/>
          <p:nvPr/>
        </p:nvPicPr>
        <p:blipFill>
          <a:blip r:embed="rId1"/>
          <a:stretch/>
        </p:blipFill>
        <p:spPr>
          <a:xfrm>
            <a:off x="250920" y="404640"/>
            <a:ext cx="2303280" cy="720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16360" y="45540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史料链接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材料一：中国派遣军总司令官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冈村宁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评价薛岳将军时说“撼山易，撼薛将军难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材料二：第三次长沙会战，沉重地打击了日本帝国主义的嚣张气焰，鼓舞了中国人民抗战胜利的信心，提高了中国在世界反法西斯阵营的地位和影响。蒋介石曾称赞道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次长沙胜利，实为七七以来最确实而得意之作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538200" y="503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战长沙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70716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正面抗战 战役表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08000" y="1413000"/>
          <a:ext cx="8712000" cy="4613040"/>
        </p:xfrm>
        <a:graphic>
          <a:graphicData uri="http://schemas.openxmlformats.org/drawingml/2006/table">
            <a:tbl>
              <a:tblPr/>
              <a:tblGrid>
                <a:gridCol w="1001520"/>
                <a:gridCol w="992160"/>
                <a:gridCol w="1084320"/>
                <a:gridCol w="1190880"/>
                <a:gridCol w="4443120"/>
              </a:tblGrid>
              <a:tr h="91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战  役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名  称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时间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地点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指挥者或部队名称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主要战绩及历史意义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台儿庄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战   役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3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春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台儿庄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李宗仁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武汉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会战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3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—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武汉及周边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本企图迅速灭亡中国的战略彻底破灭；抗战由防御阶段进入到相持阶段。</a:t>
                      </a:r>
                      <a:endParaRPr b="1" lang="en-US" sz="2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第三次长沙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会战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4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——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4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长沙及周边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薛岳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沉重地打击了日本侵略者的嚣张气焰，鼓舞了中国人民抗战胜利的信心，提高了中国在世界反法西斯阵营的地位和影响。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直接连接符 3"/>
          <p:cNvSpPr/>
          <p:nvPr/>
        </p:nvSpPr>
        <p:spPr>
          <a:xfrm>
            <a:off x="3492360" y="3500280"/>
            <a:ext cx="64800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4500720" y="2421000"/>
            <a:ext cx="381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歼灭日军一万多人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面战场的最大胜仗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2"/>
          <p:cNvSpPr/>
          <p:nvPr/>
        </p:nvSpPr>
        <p:spPr>
          <a:xfrm>
            <a:off x="7081560" y="563400"/>
            <a:ext cx="1521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豫湘桂战役形势图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233" name="图片 1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540864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5800" y="2286000"/>
            <a:ext cx="77724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</a:t>
            </a:r>
            <a:br>
              <a:rPr sz="4400"/>
            </a:b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正面战场的抗战</a:t>
            </a: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8" name="副标题 9"/>
          <p:cNvSpPr/>
          <p:nvPr/>
        </p:nvSpPr>
        <p:spPr>
          <a:xfrm>
            <a:off x="2700360" y="4221000"/>
            <a:ext cx="4064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济南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学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朱正浩          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29" name="Picture 3" descr="sjpyin2 copy"/>
          <p:cNvPicPr/>
          <p:nvPr/>
        </p:nvPicPr>
        <p:blipFill>
          <a:blip r:embed="rId1"/>
          <a:stretch/>
        </p:blipFill>
        <p:spPr>
          <a:xfrm>
            <a:off x="8501040" y="606096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179280" y="404640"/>
            <a:ext cx="3743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2017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年人教版八年级上册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520" y="4220640"/>
            <a:ext cx="85410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豫湘桂战役国民党惨败的主要原因是什么？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6720" y="4941360"/>
            <a:ext cx="8210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国民政府消极抗日，积极反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盟军节节胜利，国民政府寄希望于美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t018825c9d96695fbeb"/>
          <p:cNvPicPr/>
          <p:nvPr/>
        </p:nvPicPr>
        <p:blipFill>
          <a:blip r:embed="rId1"/>
          <a:srcRect l="2415" t="9104" r="2456" b="13312"/>
          <a:stretch/>
        </p:blipFill>
        <p:spPr>
          <a:xfrm>
            <a:off x="31680" y="276120"/>
            <a:ext cx="911232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75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如何科学看待国民党正面抗战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3640" y="1773000"/>
            <a:ext cx="866268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全面抗战爆发之后，国民党政府坚持抗战方针，没有妥协投降，从而保证了抗战的胜利。国民党士兵在最前线与日军浴血奋战，表现出崇高的爱国主义精神，理应得到后人的尊重与纪念。虽然国民党在解放战争挑起内战，但它在抗战中的巨大贡献，不应该随时间而流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" descr="2006128223614653"/>
          <p:cNvPicPr/>
          <p:nvPr/>
        </p:nvPicPr>
        <p:blipFill>
          <a:blip r:embed="rId1"/>
          <a:stretch/>
        </p:blipFill>
        <p:spPr>
          <a:xfrm>
            <a:off x="7826400" y="476280"/>
            <a:ext cx="987480" cy="1025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4440" y="404640"/>
            <a:ext cx="69357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国民党抗日方针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直接连接符 5"/>
          <p:cNvSpPr/>
          <p:nvPr/>
        </p:nvSpPr>
        <p:spPr>
          <a:xfrm>
            <a:off x="900000" y="3141720"/>
            <a:ext cx="755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395280" y="2565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九一八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2874960" y="25509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七七事变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4" name="TextBox 10"/>
          <p:cNvSpPr/>
          <p:nvPr/>
        </p:nvSpPr>
        <p:spPr>
          <a:xfrm>
            <a:off x="250920" y="350028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抵抗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围剿红军）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5" name="TextBox 11"/>
          <p:cNvSpPr/>
          <p:nvPr/>
        </p:nvSpPr>
        <p:spPr>
          <a:xfrm>
            <a:off x="5867280" y="255096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豫湘桂战役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3019320" y="34527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积极抗日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7" name="TextBox 13"/>
          <p:cNvSpPr/>
          <p:nvPr/>
        </p:nvSpPr>
        <p:spPr>
          <a:xfrm>
            <a:off x="6048360" y="350208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极抗日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积极反共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8" descr=""/>
          <p:cNvPicPr/>
          <p:nvPr/>
        </p:nvPicPr>
        <p:blipFill>
          <a:blip r:embed="rId1"/>
          <a:stretch/>
        </p:blipFill>
        <p:spPr>
          <a:xfrm>
            <a:off x="34920" y="419040"/>
            <a:ext cx="9144000" cy="9684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95640" y="418680"/>
            <a:ext cx="5400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1680" y="1752120"/>
            <a:ext cx="854064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、血战台儿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、保卫大武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、三次战长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豫湘桂溃败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右大括号 4"/>
          <p:cNvSpPr/>
          <p:nvPr/>
        </p:nvSpPr>
        <p:spPr>
          <a:xfrm>
            <a:off x="4643280" y="2060640"/>
            <a:ext cx="360360" cy="252072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2520720"/>
              <a:gd name="textAreaBottom" fmla="*/ 251136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9"/>
                  <a:pt x="10800" y="257"/>
                </a:cubicBezTo>
                <a:lnTo>
                  <a:pt x="10800" y="10543"/>
                </a:lnTo>
                <a:cubicBezTo>
                  <a:pt x="10800" y="10672"/>
                  <a:pt x="16200" y="10800"/>
                  <a:pt x="21600" y="10800"/>
                </a:cubicBezTo>
                <a:cubicBezTo>
                  <a:pt x="16200" y="10800"/>
                  <a:pt x="10800" y="10929"/>
                  <a:pt x="10800" y="11057"/>
                </a:cubicBezTo>
                <a:lnTo>
                  <a:pt x="10800" y="21343"/>
                </a:lnTo>
                <a:cubicBezTo>
                  <a:pt x="10800" y="2147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5148360" y="2936880"/>
            <a:ext cx="33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正面抗战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253" name="图片 29714" descr=""/>
          <p:cNvPicPr/>
          <p:nvPr/>
        </p:nvPicPr>
        <p:blipFill>
          <a:blip r:embed="rId2"/>
          <a:srcRect l="7325" t="0" r="9512" b="26006"/>
          <a:stretch/>
        </p:blipFill>
        <p:spPr>
          <a:xfrm>
            <a:off x="3132000" y="476280"/>
            <a:ext cx="2772000" cy="80172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17410" descr="GIF-268"/>
          <p:cNvPicPr/>
          <p:nvPr/>
        </p:nvPicPr>
        <p:blipFill>
          <a:blip r:embed="rId3"/>
          <a:stretch/>
        </p:blipFill>
        <p:spPr>
          <a:xfrm>
            <a:off x="25560" y="5573880"/>
            <a:ext cx="1295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3"/>
          <p:cNvSpPr/>
          <p:nvPr/>
        </p:nvSpPr>
        <p:spPr>
          <a:xfrm>
            <a:off x="3336840" y="3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199800"/>
            <a:ext cx="85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16080" y="1341360"/>
            <a:ext cx="854064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国民党将领中涌现出的抗日英雄如谢晋元、姚子青等，他们主要在哪次会战中进行抗日行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淞沪会战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太原会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徐州会战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武汉会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战初期，国民党正面战场的作用主要在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配合敌后战场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消灭日军的主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掌握战争主动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粉碎日军迅速灭亡中国的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选择3"/>
          <p:cNvPicPr/>
          <p:nvPr/>
        </p:nvPicPr>
        <p:blipFill>
          <a:blip r:embed="rId1"/>
          <a:stretch/>
        </p:blipFill>
        <p:spPr>
          <a:xfrm>
            <a:off x="3327480" y="325440"/>
            <a:ext cx="251784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6800"/>
            <a:ext cx="85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1680" y="1052640"/>
            <a:ext cx="854064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国民党抗战的叙述，不正确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国民党正面战场的抗战有利于共产党敌后战场的开辟 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国外战场的开辟配合了友军的反法西斯战争 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抗战初期，国民党正面战场是抗日主战场 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国民党正面战场作战的方式是以游击战为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28"/>
          <p:cNvSpPr/>
          <p:nvPr/>
        </p:nvSpPr>
        <p:spPr>
          <a:xfrm>
            <a:off x="228600" y="106668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71280" y="415800"/>
            <a:ext cx="6791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材料题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4000" y="1557360"/>
            <a:ext cx="78706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毛泽东曾肯定地指出：“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3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芦沟桥事变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3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武汉失守这一时期内，国民党政府的对日作战是比较努力的，同我党的关系也比较好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：结合所学，说明国民党抗战“比较努力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34920" y="419040"/>
            <a:ext cx="9144000" cy="968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8000" y="404280"/>
            <a:ext cx="498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举正面战场的抗日史实，体会中国军民在抗日战争中英勇顽强、不怕牺牲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国军人在国家危难之时，不惜流血牺牲，英勇抗击日寇，体现了炎黄子孙强烈的爱国传统，是抗战胜利的重要因素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8194" descr=""/>
          <p:cNvPicPr/>
          <p:nvPr/>
        </p:nvPicPr>
        <p:blipFill>
          <a:blip r:embed="rId2"/>
          <a:srcRect l="5845" t="-2331" r="6550" b="22564"/>
          <a:stretch/>
        </p:blipFill>
        <p:spPr>
          <a:xfrm>
            <a:off x="2820960" y="414360"/>
            <a:ext cx="32940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961920" y="2852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ff"/>
                </a:solidFill>
                <a:latin typeface="Times New Roman"/>
                <a:ea typeface="华文中宋"/>
              </a:rPr>
              <a:t>国民党抗战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924600" y="2781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共产党抗战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348000" y="2852640"/>
            <a:ext cx="24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中国社会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阶层抗战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992880" y="3429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ff"/>
                </a:solidFill>
                <a:latin typeface="Times New Roman"/>
                <a:ea typeface="华文中宋"/>
              </a:rPr>
              <a:t>（正面战场）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516720" y="34369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（敌后战场）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250920" y="549360"/>
            <a:ext cx="8713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5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七七事变后，中国开始全国性、全民族的抗日战争。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1" name="AutoShape 8"/>
          <p:cNvSpPr/>
          <p:nvPr/>
        </p:nvSpPr>
        <p:spPr>
          <a:xfrm rot="5400000">
            <a:off x="4030920" y="-783360"/>
            <a:ext cx="936720" cy="6193080"/>
          </a:xfrm>
          <a:custGeom>
            <a:avLst/>
            <a:gdLst>
              <a:gd name="textAreaLeft" fmla="*/ 598680 w 936720"/>
              <a:gd name="textAreaRight" fmla="*/ 937080 w 936720"/>
              <a:gd name="textAreaTop" fmla="*/ 161280 h 6193080"/>
              <a:gd name="textAreaBottom" fmla="*/ 6031800 h 619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42" name="组合 1"/>
          <p:cNvGrpSpPr/>
          <p:nvPr/>
        </p:nvGrpSpPr>
        <p:grpSpPr>
          <a:xfrm>
            <a:off x="468360" y="3933360"/>
            <a:ext cx="2592360" cy="2291400"/>
            <a:chOff x="468360" y="3933360"/>
            <a:chExt cx="2592360" cy="2291400"/>
          </a:xfrm>
        </p:grpSpPr>
        <p:sp>
          <p:nvSpPr>
            <p:cNvPr id="143" name="Text Box 9"/>
            <p:cNvSpPr/>
            <p:nvPr/>
          </p:nvSpPr>
          <p:spPr>
            <a:xfrm>
              <a:off x="468360" y="4652640"/>
              <a:ext cx="259236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台儿庄战役</a:t>
              </a:r>
              <a:endParaRPr b="1" lang="en-US" sz="2400" spc="-1" strike="noStrike">
                <a:solidFill>
                  <a:srgbClr val="ff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武汉会战</a:t>
              </a:r>
              <a:endParaRPr b="1" lang="en-US" sz="2400" spc="-1" strike="noStrike">
                <a:solidFill>
                  <a:srgbClr val="ff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长沙会战</a:t>
              </a:r>
              <a:endParaRPr b="1" lang="en-US" sz="2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44" name="Line 11"/>
            <p:cNvSpPr/>
            <p:nvPr/>
          </p:nvSpPr>
          <p:spPr>
            <a:xfrm flipV="1">
              <a:off x="1476360" y="3933360"/>
              <a:ext cx="0" cy="64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45" name="组合 2"/>
          <p:cNvGrpSpPr/>
          <p:nvPr/>
        </p:nvGrpSpPr>
        <p:grpSpPr>
          <a:xfrm>
            <a:off x="6227640" y="4005000"/>
            <a:ext cx="2519640" cy="2115360"/>
            <a:chOff x="6227640" y="4005000"/>
            <a:chExt cx="2519640" cy="2115360"/>
          </a:xfrm>
        </p:grpSpPr>
        <p:sp>
          <p:nvSpPr>
            <p:cNvPr id="146" name="Text Box 10"/>
            <p:cNvSpPr/>
            <p:nvPr/>
          </p:nvSpPr>
          <p:spPr>
            <a:xfrm>
              <a:off x="6227640" y="4797360"/>
              <a:ext cx="251964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华文中宋"/>
                </a:rPr>
                <a:t>平型关大捷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华文中宋"/>
                </a:rPr>
                <a:t>百团大战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 flipV="1">
              <a:off x="7596360" y="4005000"/>
              <a:ext cx="0" cy="7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pic>
        <p:nvPicPr>
          <p:cNvPr id="148" name="图片 3" descr=""/>
          <p:cNvPicPr/>
          <p:nvPr/>
        </p:nvPicPr>
        <p:blipFill>
          <a:blip r:embed="rId1"/>
          <a:stretch/>
        </p:blipFill>
        <p:spPr>
          <a:xfrm>
            <a:off x="3197160" y="4087800"/>
            <a:ext cx="2820960" cy="21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00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抗战的三个阶段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1680" y="1752480"/>
            <a:ext cx="8663040" cy="27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防御：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3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3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持：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3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4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反攻：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4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0" y="4373640"/>
            <a:ext cx="27716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62440"/>
            <a:ext cx="85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57040"/>
            <a:ext cx="8540640" cy="27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、血战台儿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、保卫大武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、三次战长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3" descr="蒋介石视察军官36.jpg"/>
          <p:cNvPicPr/>
          <p:nvPr/>
        </p:nvPicPr>
        <p:blipFill>
          <a:blip r:embed="rId1"/>
          <a:stretch/>
        </p:blipFill>
        <p:spPr>
          <a:xfrm>
            <a:off x="4716360" y="3429000"/>
            <a:ext cx="4286520" cy="31431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4"/>
          <p:cNvSpPr/>
          <p:nvPr/>
        </p:nvSpPr>
        <p:spPr>
          <a:xfrm>
            <a:off x="5219640" y="27702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蒋介石视察军队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075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正面抗战 战役表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9280" y="1413000"/>
          <a:ext cx="8712360" cy="4613040"/>
        </p:xfrm>
        <a:graphic>
          <a:graphicData uri="http://schemas.openxmlformats.org/drawingml/2006/table">
            <a:tbl>
              <a:tblPr/>
              <a:tblGrid>
                <a:gridCol w="1001880"/>
                <a:gridCol w="992160"/>
                <a:gridCol w="1084320"/>
                <a:gridCol w="1190520"/>
                <a:gridCol w="444348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战  役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名  称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时间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地点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指挥者</a:t>
                      </a:r>
                      <a:endParaRPr b="1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主要战绩及历史意义</a:t>
                      </a:r>
                      <a:endParaRPr b="1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台儿庄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战   役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武汉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会战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第三次长沙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会战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Box 1"/>
          <p:cNvSpPr/>
          <p:nvPr/>
        </p:nvSpPr>
        <p:spPr>
          <a:xfrm>
            <a:off x="900000" y="25718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春</a:t>
            </a:r>
            <a:endParaRPr b="1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1979640" y="25750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台儿庄</a:t>
            </a:r>
            <a:endParaRPr b="1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3203640" y="256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宗仁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079640" y="364500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—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endParaRPr b="1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1962000" y="3522600"/>
            <a:ext cx="14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汉及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边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3" name="直接连接符 9"/>
          <p:cNvSpPr/>
          <p:nvPr/>
        </p:nvSpPr>
        <p:spPr>
          <a:xfrm>
            <a:off x="3564000" y="3500280"/>
            <a:ext cx="64764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3141720" y="494172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薛岳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1014480" y="4773600"/>
            <a:ext cx="12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endParaRPr b="1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endParaRPr b="1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6" name="TextBox 12"/>
          <p:cNvSpPr/>
          <p:nvPr/>
        </p:nvSpPr>
        <p:spPr>
          <a:xfrm>
            <a:off x="208764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沙及周边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抗日战争形势图"/>
          <p:cNvPicPr/>
          <p:nvPr/>
        </p:nvPicPr>
        <p:blipFill>
          <a:blip r:embed="rId1"/>
          <a:stretch/>
        </p:blipFill>
        <p:spPr>
          <a:xfrm>
            <a:off x="1785960" y="0"/>
            <a:ext cx="5738760" cy="71740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2505240" y="971640"/>
            <a:ext cx="1147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太原会战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 flipH="1">
            <a:off x="5137920" y="1690560"/>
            <a:ext cx="1908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徐州会战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793960" y="2828880"/>
            <a:ext cx="1033560" cy="182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武汉会战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71" name="Picture 27" descr="037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44920" y="1158840"/>
            <a:ext cx="500040" cy="581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9" descr="037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24680" y="2797200"/>
            <a:ext cx="500040" cy="5810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0"/>
          <p:cNvSpPr/>
          <p:nvPr/>
        </p:nvSpPr>
        <p:spPr>
          <a:xfrm>
            <a:off x="1639800" y="3141720"/>
            <a:ext cx="81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庆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4" name="Oval 31"/>
          <p:cNvSpPr/>
          <p:nvPr/>
        </p:nvSpPr>
        <p:spPr>
          <a:xfrm>
            <a:off x="2151000" y="3452760"/>
            <a:ext cx="287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75" name="Picture 34" descr="037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219640" y="2163600"/>
            <a:ext cx="500040" cy="5810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5"/>
          <p:cNvSpPr/>
          <p:nvPr/>
        </p:nvSpPr>
        <p:spPr>
          <a:xfrm>
            <a:off x="6116760" y="3384720"/>
            <a:ext cx="129528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淞沪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会战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77" name="Picture 26" descr="037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27520" y="3678120"/>
            <a:ext cx="500040" cy="5810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9"/>
          <p:cNvSpPr/>
          <p:nvPr/>
        </p:nvSpPr>
        <p:spPr>
          <a:xfrm>
            <a:off x="4311720" y="3724200"/>
            <a:ext cx="4618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沙会战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12" descr=""/>
          <p:cNvPicPr/>
          <p:nvPr/>
        </p:nvPicPr>
        <p:blipFill>
          <a:blip r:embed="rId1"/>
          <a:stretch/>
        </p:blipFill>
        <p:spPr>
          <a:xfrm>
            <a:off x="2700360" y="204840"/>
            <a:ext cx="5102280" cy="4778280"/>
          </a:xfrm>
          <a:prstGeom prst="rect">
            <a:avLst/>
          </a:prstGeom>
          <a:ln w="0">
            <a:noFill/>
          </a:ln>
        </p:spPr>
      </p:pic>
      <p:sp>
        <p:nvSpPr>
          <p:cNvPr id="180" name="矩形 2"/>
          <p:cNvSpPr/>
          <p:nvPr/>
        </p:nvSpPr>
        <p:spPr>
          <a:xfrm>
            <a:off x="1692360" y="5103720"/>
            <a:ext cx="69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军计划：山东半岛登陆的一部分日军，同津浦线南下的日军会师台儿庄，合攻军事要地徐州，从而打通南北战场。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81" name="图片 20484" descr="PPT·（4字）_看图王"/>
          <p:cNvPicPr/>
          <p:nvPr/>
        </p:nvPicPr>
        <p:blipFill>
          <a:blip r:embed="rId2"/>
          <a:stretch/>
        </p:blipFill>
        <p:spPr>
          <a:xfrm>
            <a:off x="146160" y="333360"/>
            <a:ext cx="2447640" cy="7653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468360" y="4539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血战台儿庄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01:39:15Z</dcterms:created>
  <dc:creator>pxh</dc:creator>
  <dc:description/>
  <dc:language>en-US</dc:language>
  <cp:lastModifiedBy>xb21cn</cp:lastModifiedBy>
  <dcterms:modified xsi:type="dcterms:W3CDTF">2017-12-20T02:18:31Z</dcterms:modified>
  <cp:revision>264</cp:revision>
  <dc:subject/>
  <dc:title>幻灯片 1</dc:title>
</cp:coreProperties>
</file>