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3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6E3-3471-4395-873B-5F9E5D51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FED-D6FA-49CF-A403-5298C0C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BC9-4FE6-4B62-9954-5C1329DB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1C5-8CA3-483C-8629-F1F62A23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461-323B-4275-9340-A7DC8EE1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03E89-EDBE-480B-B0EC-438610CA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19679-9140-4BEF-9378-07F84AB2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F6F83-901B-4625-91D2-D0E39F0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2F55B-7419-4CDB-A665-95EF5EE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28DB5-D33E-43D6-A029-73F86BA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0D6-B347-4959-8D0F-7347F0AD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ABE0-B090-4639-B423-81D31E4D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4D4D2-C981-4032-AA56-7EEFB9B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A4BC4-87D5-48B1-B273-2085664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EA621-160A-4227-B82A-3633A60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718EA-655D-44FD-A684-98B0279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227E-F7AF-4690-91D9-F7F09FC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571B6-6F5B-4940-B3B3-EDB2D33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097F-E5B4-497C-95EA-92E87D93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FDBF-17B4-45E5-B62F-3730A09C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3E1E-AA2D-44D3-BA51-5A6E3D4C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922-4A3A-44FF-81B0-8127E623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4F5E-EA8F-4F80-AEF7-C0C2BC8B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E5A2-D118-48B7-9E02-30DF361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3443-E0A0-4F42-B1E4-482760DB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F328-5689-41A8-9C12-7C0FC5E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FCBE-0151-4D45-844F-5170863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A1FF-C512-457D-92E5-B39C3BD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C1F2-B54B-4B88-B2B4-3010E55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CC8D-AED4-455A-AE50-CC8690CE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8D77-8D52-4A75-94D6-36CAD19A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BC8E-88EF-43CA-9844-35A6E48D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53F-41B1-4745-AA94-1463717F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42CD-7498-4747-B0B5-6E68A83E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926E-DDD3-46B5-A78F-95EC80AB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A544-06CB-4DC7-B4DC-F4924D42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4C88-3A03-45C2-85A6-DCF132EC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E2FF-2341-4128-B8C4-4D94A74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AD77-331D-4C50-BB37-BA75E119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D4E5-126A-4424-81FC-E5F8E22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9D9CE-5F7F-4F41-885E-19834FE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C70E-5E3D-4D66-A7DD-20B2CE8A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4B40-D4AE-479F-AC1C-7F469D6D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A58-CEA1-4C49-8117-095F9640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B933-97FD-47C6-AB37-9A5FA816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F6C-449C-486B-9004-6726BB3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908-0155-450F-8AC1-56B8EC9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7EE-4EBF-47BB-A0EE-07D1A2C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9FF-2C95-431F-A0AC-79523354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N00488_"/>
          <p:cNvPicPr/>
          <p:nvPr/>
        </p:nvPicPr>
        <p:blipFill>
          <a:blip r:embed="rId2"/>
          <a:stretch/>
        </p:blipFill>
        <p:spPr>
          <a:xfrm>
            <a:off x="7245360" y="5464080"/>
            <a:ext cx="1898640" cy="139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DB3D-002F-46A2-9691-30E07A5B4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7CB4-173E-4D51-8D47-1DA20AA977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CE3B-A4F6-4AE2-8C81-D7FE64ADB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16"/>
          <p:cNvPicPr/>
          <p:nvPr/>
        </p:nvPicPr>
        <p:blipFill>
          <a:blip r:embed="rId1"/>
          <a:srcRect l="0" t="0" r="22477" b="0"/>
          <a:stretch/>
        </p:blipFill>
        <p:spPr>
          <a:xfrm>
            <a:off x="0" y="2106720"/>
            <a:ext cx="5364000" cy="4759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IN00488_"/>
          <p:cNvPicPr/>
          <p:nvPr/>
        </p:nvPicPr>
        <p:blipFill>
          <a:blip r:embed="rId2"/>
          <a:stretch/>
        </p:blipFill>
        <p:spPr>
          <a:xfrm>
            <a:off x="6300720" y="4762440"/>
            <a:ext cx="2843280" cy="2087640"/>
          </a:xfrm>
          <a:prstGeom prst="rect">
            <a:avLst/>
          </a:prstGeom>
          <a:ln w="0">
            <a:noFill/>
          </a:ln>
        </p:spPr>
      </p:pic>
      <p:pic>
        <p:nvPicPr>
          <p:cNvPr id="235" name="WordArt 4" descr=""/>
          <p:cNvPicPr/>
          <p:nvPr/>
        </p:nvPicPr>
        <p:blipFill>
          <a:blip r:embed="rId3"/>
          <a:stretch/>
        </p:blipFill>
        <p:spPr>
          <a:xfrm>
            <a:off x="-255600" y="1620720"/>
            <a:ext cx="8656560" cy="19144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9"/>
          <p:cNvSpPr txBox="1"/>
          <p:nvPr/>
        </p:nvSpPr>
        <p:spPr>
          <a:xfrm>
            <a:off x="2071800" y="285840"/>
            <a:ext cx="514332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第二单元近代化的早期探索与民族危机的加剧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http://www.jlhs.net/高中历史素材库/中国近现代史/ZGJXDZSD2020B.gif"/>
          <p:cNvPicPr/>
          <p:nvPr/>
        </p:nvPicPr>
        <p:blipFill>
          <a:blip r:embed="rId1"/>
          <a:stretch/>
        </p:blipFill>
        <p:spPr>
          <a:xfrm>
            <a:off x="0" y="836640"/>
            <a:ext cx="4564080" cy="60213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4429080" y="1538640"/>
            <a:ext cx="446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张之洞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(1837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0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直隶南皮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86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中进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任湖北学政，四川学政，翰林院侍讲学士等职；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88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任山西巡抚。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88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任湖广总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在湖北建成湖北织布局，汉阳炼铁厂，汉阳兵工厂等，成为与李鸿章齐名的洋务要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"/>
          <p:cNvGrpSpPr/>
          <p:nvPr/>
        </p:nvGrpSpPr>
        <p:grpSpPr>
          <a:xfrm>
            <a:off x="0" y="835560"/>
            <a:ext cx="9144000" cy="793080"/>
            <a:chOff x="0" y="835560"/>
            <a:chExt cx="9144000" cy="793080"/>
          </a:xfrm>
        </p:grpSpPr>
        <p:pic>
          <p:nvPicPr>
            <p:cNvPr id="280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7"/>
            <p:cNvSpPr/>
            <p:nvPr/>
          </p:nvSpPr>
          <p:spPr>
            <a:xfrm>
              <a:off x="2102400" y="835560"/>
              <a:ext cx="367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一、洋务运动的兴起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108000" y="1628640"/>
            <a:ext cx="889308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即洋务派为了镇压人民，维护封建统治，从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世纪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年代到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年代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，掀起的一场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师夷长技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的封建统治者的自救运动。（以学习西方科技，引进现代「大机器」为「自强」的主要內容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1714680" y="164772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华文彩云"/>
              </a:rPr>
              <a:t>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彩云"/>
              </a:rPr>
              <a:t>、「洋务运动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41"/>
          <p:cNvGrpSpPr/>
          <p:nvPr/>
        </p:nvGrpSpPr>
        <p:grpSpPr>
          <a:xfrm>
            <a:off x="0" y="836640"/>
            <a:ext cx="9144000" cy="792000"/>
            <a:chOff x="0" y="836640"/>
            <a:chExt cx="9144000" cy="792000"/>
          </a:xfrm>
        </p:grpSpPr>
        <p:pic>
          <p:nvPicPr>
            <p:cNvPr id="28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0"/>
            <p:cNvSpPr/>
            <p:nvPr/>
          </p:nvSpPr>
          <p:spPr>
            <a:xfrm>
              <a:off x="4739400" y="839520"/>
              <a:ext cx="43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二、创办近代军事和民用企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4"/>
          <p:cNvSpPr/>
          <p:nvPr/>
        </p:nvSpPr>
        <p:spPr>
          <a:xfrm>
            <a:off x="468360" y="3645000"/>
            <a:ext cx="82296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1330920" y="18082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华文彩云"/>
                <a:ea typeface="华文彩云"/>
              </a:rPr>
              <a:t>1</a:t>
            </a:r>
            <a:r>
              <a:rPr b="1" lang="zh-CN" sz="48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口号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4788000" y="2492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求富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1344960" y="325296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华文彩云"/>
                <a:ea typeface="华文彩云"/>
              </a:rPr>
              <a:t>2</a:t>
            </a:r>
            <a:r>
              <a:rPr b="1" lang="zh-CN" sz="4800" spc="-1" strike="noStrike">
                <a:solidFill>
                  <a:srgbClr val="800000"/>
                </a:solidFill>
                <a:latin typeface="华文彩云"/>
                <a:ea typeface="华文彩云"/>
              </a:rPr>
              <a:t>、内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2771640" y="335772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）创办军事工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）创办民用工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）筹划海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）培养新式人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7"/>
          <p:cNvSpPr/>
          <p:nvPr/>
        </p:nvSpPr>
        <p:spPr>
          <a:xfrm>
            <a:off x="3471480" y="1658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前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8"/>
          <p:cNvSpPr/>
          <p:nvPr/>
        </p:nvSpPr>
        <p:spPr>
          <a:xfrm>
            <a:off x="4788000" y="1628640"/>
            <a:ext cx="23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自强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9"/>
          <p:cNvSpPr/>
          <p:nvPr/>
        </p:nvSpPr>
        <p:spPr>
          <a:xfrm>
            <a:off x="3398400" y="24512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后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971640" y="1719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）洋务派创办的军事工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1280" y="2637000"/>
          <a:ext cx="8964720" cy="3887640"/>
        </p:xfrm>
        <a:graphic>
          <a:graphicData uri="http://schemas.openxmlformats.org/drawingml/2006/table">
            <a:tbl>
              <a:tblPr/>
              <a:tblGrid>
                <a:gridCol w="1657440"/>
                <a:gridCol w="2879640"/>
                <a:gridCol w="4427640"/>
              </a:tblGrid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军事工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备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99cc"/>
                      </a:solidFill>
                    </a:lnL>
                    <a:lnR w="18720">
                      <a:solidFill>
                        <a:srgbClr val="9999cc"/>
                      </a:solidFill>
                    </a:lnR>
                    <a:lnT w="18720">
                      <a:solidFill>
                        <a:srgbClr val="9999cc"/>
                      </a:solidFill>
                    </a:lnT>
                    <a:lnB w="18720">
                      <a:solidFill>
                        <a:srgbClr val="99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423"/>
          <p:cNvSpPr/>
          <p:nvPr/>
        </p:nvSpPr>
        <p:spPr>
          <a:xfrm>
            <a:off x="424080" y="3637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曾国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24"/>
          <p:cNvSpPr/>
          <p:nvPr/>
        </p:nvSpPr>
        <p:spPr>
          <a:xfrm>
            <a:off x="424080" y="4645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李鸿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25"/>
          <p:cNvSpPr/>
          <p:nvPr/>
        </p:nvSpPr>
        <p:spPr>
          <a:xfrm>
            <a:off x="1547640" y="3640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安庆内军械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27"/>
          <p:cNvSpPr/>
          <p:nvPr/>
        </p:nvSpPr>
        <p:spPr>
          <a:xfrm>
            <a:off x="1619280" y="45774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江南制造总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8"/>
          <p:cNvSpPr/>
          <p:nvPr/>
        </p:nvSpPr>
        <p:spPr>
          <a:xfrm>
            <a:off x="424080" y="5653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左宗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29"/>
          <p:cNvSpPr/>
          <p:nvPr/>
        </p:nvSpPr>
        <p:spPr>
          <a:xfrm>
            <a:off x="4716360" y="35694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仿造西式船炮的开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31"/>
          <p:cNvSpPr/>
          <p:nvPr/>
        </p:nvSpPr>
        <p:spPr>
          <a:xfrm>
            <a:off x="4716360" y="45489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最大的近代军事企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32"/>
          <p:cNvSpPr/>
          <p:nvPr/>
        </p:nvSpPr>
        <p:spPr>
          <a:xfrm>
            <a:off x="2242440" y="5580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福州船政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33"/>
          <p:cNvSpPr/>
          <p:nvPr/>
        </p:nvSpPr>
        <p:spPr>
          <a:xfrm>
            <a:off x="4572000" y="55854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当时远东第一大造船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40"/>
          <p:cNvSpPr/>
          <p:nvPr/>
        </p:nvSpPr>
        <p:spPr>
          <a:xfrm>
            <a:off x="4408920" y="9313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二、创办近代军事和民用企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1024"/>
          <p:cNvGraphicFramePr/>
          <p:nvPr/>
        </p:nvGraphicFramePr>
        <p:xfrm>
          <a:off x="468360" y="592200"/>
          <a:ext cx="8353440" cy="62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92200"/>
                    <a:ext cx="8353440" cy="6265800"/>
                  </a:xfrm>
                  <a:prstGeom prst="rect">
                    <a:avLst/>
                  </a:prstGeom>
                  <a:ln w="572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3" name="WordArt 4" descr=""/>
          <p:cNvPicPr/>
          <p:nvPr/>
        </p:nvPicPr>
        <p:blipFill>
          <a:blip r:embed="rId3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1_02"/>
          <p:cNvPicPr/>
          <p:nvPr/>
        </p:nvPicPr>
        <p:blipFill>
          <a:blip r:embed="rId1"/>
          <a:srcRect l="3003" t="4117" r="3003" b="2685"/>
          <a:stretch/>
        </p:blipFill>
        <p:spPr>
          <a:xfrm>
            <a:off x="539640" y="728640"/>
            <a:ext cx="8172720" cy="6129360"/>
          </a:xfrm>
          <a:prstGeom prst="rect">
            <a:avLst/>
          </a:prstGeom>
          <a:ln w="57240">
            <a:solidFill>
              <a:srgbClr val="00cc99"/>
            </a:solidFill>
            <a:miter/>
          </a:ln>
        </p:spPr>
      </p:pic>
      <p:pic>
        <p:nvPicPr>
          <p:cNvPr id="315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NewsMedia_209530"/>
          <p:cNvPicPr/>
          <p:nvPr/>
        </p:nvPicPr>
        <p:blipFill>
          <a:blip r:embed="rId1"/>
          <a:stretch/>
        </p:blipFill>
        <p:spPr>
          <a:xfrm>
            <a:off x="179280" y="2852640"/>
            <a:ext cx="4897440" cy="1551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NewsMedia_209531">
            <a:hlinkClick r:id="rId2" action="ppaction://hlinksldjump"/>
          </p:cNvPr>
          <p:cNvPicPr/>
          <p:nvPr/>
        </p:nvPicPr>
        <p:blipFill>
          <a:blip r:embed="rId3"/>
          <a:srcRect l="0" t="0" r="0" b="-305"/>
          <a:stretch/>
        </p:blipFill>
        <p:spPr>
          <a:xfrm>
            <a:off x="3780000" y="3860640"/>
            <a:ext cx="5040000" cy="2297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3708360" y="6093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江南制造总局仿制的毛瑟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0" y="4797360"/>
            <a:ext cx="3755880" cy="1676520"/>
          </a:xfrm>
          <a:prstGeom prst="cloudCallout">
            <a:avLst>
              <a:gd name="adj1" fmla="val 64245"/>
              <a:gd name="adj2" fmla="val -8882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产出较为先进的武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2268360" y="907920"/>
            <a:ext cx="5585400" cy="1937880"/>
            <a:chOff x="2268360" y="907920"/>
            <a:chExt cx="5585400" cy="1937880"/>
          </a:xfrm>
        </p:grpSpPr>
        <p:pic>
          <p:nvPicPr>
            <p:cNvPr id="321" name="Picture 7" descr="鸦片战争时期清军使用的竹制火铳。"/>
            <p:cNvPicPr/>
            <p:nvPr/>
          </p:nvPicPr>
          <p:blipFill>
            <a:blip r:embed="rId4"/>
            <a:srcRect l="0" t="0" r="0" b="90"/>
            <a:stretch/>
          </p:blipFill>
          <p:spPr>
            <a:xfrm>
              <a:off x="2268360" y="907920"/>
              <a:ext cx="5416560" cy="14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Rectangle 8"/>
            <p:cNvSpPr/>
            <p:nvPr/>
          </p:nvSpPr>
          <p:spPr>
            <a:xfrm>
              <a:off x="4393440" y="2325240"/>
              <a:ext cx="346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鸦片战争时期清军使用的竹制火铳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WordArt 4" descr=""/>
          <p:cNvPicPr/>
          <p:nvPr/>
        </p:nvPicPr>
        <p:blipFill>
          <a:blip r:embed="rId5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9" descr="39270146"/>
          <p:cNvPicPr/>
          <p:nvPr/>
        </p:nvPicPr>
        <p:blipFill>
          <a:blip r:embed="rId1"/>
          <a:srcRect l="184" t="0" r="0" b="3468"/>
          <a:stretch/>
        </p:blipFill>
        <p:spPr>
          <a:xfrm>
            <a:off x="266760" y="663480"/>
            <a:ext cx="8626320" cy="52135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0"/>
          <p:cNvSpPr/>
          <p:nvPr/>
        </p:nvSpPr>
        <p:spPr>
          <a:xfrm>
            <a:off x="181080" y="5445000"/>
            <a:ext cx="871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古代的铁匠作坊，洋务运动前清军的兵器大都生产于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20066711119520"/>
          <p:cNvPicPr/>
          <p:nvPr/>
        </p:nvPicPr>
        <p:blipFill>
          <a:blip r:embed="rId1"/>
          <a:srcRect l="358" t="3645" r="0" b="0"/>
          <a:stretch/>
        </p:blipFill>
        <p:spPr>
          <a:xfrm>
            <a:off x="266760" y="836640"/>
            <a:ext cx="4230720" cy="5029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2009_9_8_48463_9948463"/>
          <p:cNvPicPr/>
          <p:nvPr/>
        </p:nvPicPr>
        <p:blipFill>
          <a:blip r:embed="rId2"/>
          <a:stretch/>
        </p:blipFill>
        <p:spPr>
          <a:xfrm>
            <a:off x="4932360" y="657360"/>
            <a:ext cx="3960720" cy="52196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73080" y="6005520"/>
            <a:ext cx="41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神威无敌大将军铜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651640" y="5229360"/>
            <a:ext cx="28810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5043600" y="5950080"/>
            <a:ext cx="3776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鸦片战争中的清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WordArt 4" descr=""/>
          <p:cNvPicPr/>
          <p:nvPr/>
        </p:nvPicPr>
        <p:blipFill>
          <a:blip r:embed="rId3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395280" y="1719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）洋务派创办的民用工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179280" y="2852640"/>
            <a:ext cx="889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李鸿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轮船招商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张之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汉阳铁厂、湖北织布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0"/>
          <p:cNvSpPr/>
          <p:nvPr/>
        </p:nvSpPr>
        <p:spPr>
          <a:xfrm>
            <a:off x="4337640" y="860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二、创办近代军事和民用企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79280" y="871560"/>
            <a:ext cx="878544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一、了解掌握洋务运动的时间、代表人物、口号、内容、对洋务运动的评价等历史基础知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二、洋务运动为中国近代企业积累了生产经验，培养了技术力量，在客观上为中国民族资本主义的产生和发展起到促进作用，为中国的近代化开辟了道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2556000" y="115920"/>
            <a:ext cx="4186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教学目标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3565080" y="31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</a:rPr>
              <a:t>安庆内军械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6733800" y="3068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</a:rPr>
              <a:t>江南制造总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6662160" y="38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轮船招商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01440" y="544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</a:rPr>
              <a:t>福州船政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67320" y="4762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</a:rPr>
              <a:t>天津机器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939280" y="-5724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开平煤矿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190960" y="39337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湖北织布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187280" y="3068640"/>
            <a:ext cx="16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汉阳铁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Object 1024"/>
          <p:cNvGraphicFramePr/>
          <p:nvPr/>
        </p:nvGraphicFramePr>
        <p:xfrm>
          <a:off x="360360" y="453960"/>
          <a:ext cx="8388360" cy="64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453960"/>
                    <a:ext cx="8388360" cy="6404040"/>
                  </a:xfrm>
                  <a:prstGeom prst="rect">
                    <a:avLst/>
                  </a:prstGeom>
                  <a:ln w="572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9" name="WordArt 4" descr=""/>
          <p:cNvPicPr/>
          <p:nvPr/>
        </p:nvPicPr>
        <p:blipFill>
          <a:blip r:embed="rId3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4920" y="1544760"/>
          <a:ext cx="9109080" cy="5197320"/>
        </p:xfrm>
        <a:graphic>
          <a:graphicData uri="http://schemas.openxmlformats.org/drawingml/2006/table">
            <a:tbl>
              <a:tblPr/>
              <a:tblGrid>
                <a:gridCol w="838080"/>
                <a:gridCol w="3915000"/>
                <a:gridCol w="43560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Arial"/>
                          <a:ea typeface="黑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近代军事工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9900"/>
                          </a:solidFill>
                          <a:latin typeface="Arial"/>
                          <a:ea typeface="华文新魏"/>
                        </a:rPr>
                        <a:t>近代民用工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00000"/>
                          </a:solidFill>
                          <a:latin typeface="Arial"/>
                          <a:ea typeface="黑体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800000"/>
                          </a:solidFill>
                          <a:latin typeface="Arial"/>
                          <a:ea typeface="黑体"/>
                        </a:rPr>
                        <a:t>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 Box 2068"/>
          <p:cNvSpPr/>
          <p:nvPr/>
        </p:nvSpPr>
        <p:spPr>
          <a:xfrm>
            <a:off x="539640" y="83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1e0e"/>
                </a:solidFill>
                <a:latin typeface="Arial"/>
                <a:ea typeface="黑体"/>
              </a:rPr>
              <a:t>近代军事工业和民用工业的性质和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70"/>
          <p:cNvSpPr/>
          <p:nvPr/>
        </p:nvSpPr>
        <p:spPr>
          <a:xfrm>
            <a:off x="1116000" y="20574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封建性企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073"/>
          <p:cNvSpPr/>
          <p:nvPr/>
        </p:nvSpPr>
        <p:spPr>
          <a:xfrm>
            <a:off x="5076720" y="2117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带有资本主义性质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76"/>
          <p:cNvSpPr/>
          <p:nvPr/>
        </p:nvSpPr>
        <p:spPr>
          <a:xfrm>
            <a:off x="900000" y="263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采用新技术、使用新式机器生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79"/>
          <p:cNvSpPr/>
          <p:nvPr/>
        </p:nvSpPr>
        <p:spPr>
          <a:xfrm>
            <a:off x="4788000" y="3213000"/>
            <a:ext cx="43560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资金来源：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官僚、买办、商人以私人入股的形式筹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产品：除供给国家和军队外，还投放到市场，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带有资本主义性质的企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80"/>
          <p:cNvSpPr/>
          <p:nvPr/>
        </p:nvSpPr>
        <p:spPr>
          <a:xfrm>
            <a:off x="4753080" y="536904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管理：采取官督商办、官商合办的形式，</a:t>
            </a:r>
            <a:r>
              <a:rPr b="1" lang="zh-CN" sz="2800" spc="-1" strike="noStrike">
                <a:solidFill>
                  <a:srgbClr val="ea1e0e"/>
                </a:solidFill>
                <a:latin typeface="Arial"/>
                <a:ea typeface="黑体"/>
              </a:rPr>
              <a:t>又带有浓厚的封建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86"/>
          <p:cNvSpPr/>
          <p:nvPr/>
        </p:nvSpPr>
        <p:spPr>
          <a:xfrm>
            <a:off x="971640" y="3789360"/>
            <a:ext cx="3816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资金来源：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管理：封建官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产品：由政府分配给军队使用，有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浓厚的封建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"/>
          <p:cNvSpPr/>
          <p:nvPr/>
        </p:nvSpPr>
        <p:spPr>
          <a:xfrm>
            <a:off x="5652000" y="2708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采用先进技术和设备生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WordArt 4" descr=""/>
          <p:cNvPicPr/>
          <p:nvPr/>
        </p:nvPicPr>
        <p:blipFill>
          <a:blip r:embed="rId1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8" descr="ppt17"/>
          <p:cNvPicPr/>
          <p:nvPr/>
        </p:nvPicPr>
        <p:blipFill>
          <a:blip r:embed="rId1"/>
          <a:stretch/>
        </p:blipFill>
        <p:spPr>
          <a:xfrm>
            <a:off x="4756320" y="1197000"/>
            <a:ext cx="4352760" cy="4608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2"/>
          <a:stretch/>
        </p:blipFill>
        <p:spPr>
          <a:xfrm>
            <a:off x="34920" y="809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"/>
          <p:cNvSpPr/>
          <p:nvPr/>
        </p:nvSpPr>
        <p:spPr>
          <a:xfrm>
            <a:off x="179280" y="1714680"/>
            <a:ext cx="40356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19</a:t>
            </a: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世纪</a:t>
            </a: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年代中期起洋务派开始筹划海防。到</a:t>
            </a: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80</a:t>
            </a: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年代中期，洋务派初步建成</a:t>
            </a:r>
            <a:r>
              <a:rPr b="1" lang="zh-CN" sz="4000" spc="-1" strike="noStrike">
                <a:solidFill>
                  <a:srgbClr val="cc0000"/>
                </a:solidFill>
                <a:latin typeface="华文中宋"/>
                <a:ea typeface="华文中宋"/>
              </a:rPr>
              <a:t>北洋、南洋和福建三支海军</a:t>
            </a:r>
            <a:r>
              <a:rPr b="1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。清政府还成立了海军衙门。中国出现了近代海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4788000" y="5734080"/>
            <a:ext cx="42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洋水师提督衙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山东威海市刘公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WordArt 4" descr=""/>
          <p:cNvPicPr/>
          <p:nvPr/>
        </p:nvPicPr>
        <p:blipFill>
          <a:blip r:embed="rId3"/>
          <a:stretch/>
        </p:blipFill>
        <p:spPr>
          <a:xfrm>
            <a:off x="1749600" y="208080"/>
            <a:ext cx="5364000" cy="5410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0"/>
          <p:cNvSpPr/>
          <p:nvPr/>
        </p:nvSpPr>
        <p:spPr>
          <a:xfrm>
            <a:off x="1357200" y="785880"/>
            <a:ext cx="62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三、建立新式海陆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1889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179280" y="1844640"/>
            <a:ext cx="8820000" cy="4824000"/>
            <a:chOff x="179280" y="1844640"/>
            <a:chExt cx="8820000" cy="4824000"/>
          </a:xfrm>
        </p:grpSpPr>
        <p:grpSp>
          <p:nvGrpSpPr>
            <p:cNvPr id="370" name="Group 5"/>
            <p:cNvGrpSpPr/>
            <p:nvPr/>
          </p:nvGrpSpPr>
          <p:grpSpPr>
            <a:xfrm>
              <a:off x="187560" y="1851480"/>
              <a:ext cx="8801640" cy="4809600"/>
              <a:chOff x="187560" y="1851480"/>
              <a:chExt cx="8801640" cy="4809600"/>
            </a:xfrm>
          </p:grpSpPr>
          <p:grpSp>
            <p:nvGrpSpPr>
              <p:cNvPr id="371" name="Group 6"/>
              <p:cNvGrpSpPr/>
              <p:nvPr/>
            </p:nvGrpSpPr>
            <p:grpSpPr>
              <a:xfrm>
                <a:off x="187560" y="1851480"/>
                <a:ext cx="1627200" cy="1202040"/>
                <a:chOff x="187560" y="1851480"/>
                <a:chExt cx="1627200" cy="1202040"/>
              </a:xfrm>
            </p:grpSpPr>
            <p:sp>
              <p:nvSpPr>
                <p:cNvPr id="372" name="Rectangle 7"/>
                <p:cNvSpPr/>
                <p:nvPr/>
              </p:nvSpPr>
              <p:spPr>
                <a:xfrm>
                  <a:off x="312480" y="1851480"/>
                  <a:ext cx="137700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舰队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名称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8"/>
                <p:cNvSpPr/>
                <p:nvPr/>
              </p:nvSpPr>
              <p:spPr>
                <a:xfrm>
                  <a:off x="187560" y="1851480"/>
                  <a:ext cx="162720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9"/>
              <p:cNvGrpSpPr/>
              <p:nvPr/>
            </p:nvGrpSpPr>
            <p:grpSpPr>
              <a:xfrm>
                <a:off x="1815120" y="1851480"/>
                <a:ext cx="2547000" cy="1202040"/>
                <a:chOff x="1815120" y="1851480"/>
                <a:chExt cx="2547000" cy="1202040"/>
              </a:xfrm>
            </p:grpSpPr>
            <p:sp>
              <p:nvSpPr>
                <p:cNvPr id="375" name="Rectangle 10"/>
                <p:cNvSpPr/>
                <p:nvPr/>
              </p:nvSpPr>
              <p:spPr>
                <a:xfrm>
                  <a:off x="1939320" y="1851480"/>
                  <a:ext cx="229752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总吨位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11"/>
                <p:cNvSpPr/>
                <p:nvPr/>
              </p:nvSpPr>
              <p:spPr>
                <a:xfrm>
                  <a:off x="1815120" y="1851480"/>
                  <a:ext cx="254700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Group 12"/>
              <p:cNvGrpSpPr/>
              <p:nvPr/>
            </p:nvGrpSpPr>
            <p:grpSpPr>
              <a:xfrm>
                <a:off x="4362480" y="1851480"/>
                <a:ext cx="4626720" cy="1202040"/>
                <a:chOff x="4362480" y="1851480"/>
                <a:chExt cx="4626720" cy="1202040"/>
              </a:xfrm>
            </p:grpSpPr>
            <p:sp>
              <p:nvSpPr>
                <p:cNvPr id="378" name="Rectangle 13"/>
                <p:cNvSpPr/>
                <p:nvPr/>
              </p:nvSpPr>
              <p:spPr>
                <a:xfrm>
                  <a:off x="4486680" y="1851480"/>
                  <a:ext cx="437724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布防基地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14"/>
                <p:cNvSpPr/>
                <p:nvPr/>
              </p:nvSpPr>
              <p:spPr>
                <a:xfrm>
                  <a:off x="4362480" y="1851480"/>
                  <a:ext cx="462672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Group 15"/>
              <p:cNvGrpSpPr/>
              <p:nvPr/>
            </p:nvGrpSpPr>
            <p:grpSpPr>
              <a:xfrm>
                <a:off x="187560" y="3053880"/>
                <a:ext cx="1627200" cy="1202400"/>
                <a:chOff x="187560" y="3053880"/>
                <a:chExt cx="1627200" cy="1202400"/>
              </a:xfrm>
            </p:grpSpPr>
            <p:sp>
              <p:nvSpPr>
                <p:cNvPr id="381" name="Rectangle 16"/>
                <p:cNvSpPr/>
                <p:nvPr/>
              </p:nvSpPr>
              <p:spPr>
                <a:xfrm>
                  <a:off x="312480" y="3053880"/>
                  <a:ext cx="13770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北洋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舰队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7"/>
                <p:cNvSpPr/>
                <p:nvPr/>
              </p:nvSpPr>
              <p:spPr>
                <a:xfrm>
                  <a:off x="187560" y="3053880"/>
                  <a:ext cx="16272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18"/>
              <p:cNvGrpSpPr/>
              <p:nvPr/>
            </p:nvGrpSpPr>
            <p:grpSpPr>
              <a:xfrm>
                <a:off x="1815120" y="3053880"/>
                <a:ext cx="2547000" cy="1202400"/>
                <a:chOff x="1815120" y="3053880"/>
                <a:chExt cx="2547000" cy="1202400"/>
              </a:xfrm>
            </p:grpSpPr>
            <p:sp>
              <p:nvSpPr>
                <p:cNvPr id="384" name="Rectangle 19"/>
                <p:cNvSpPr/>
                <p:nvPr/>
              </p:nvSpPr>
              <p:spPr>
                <a:xfrm>
                  <a:off x="1939320" y="3053880"/>
                  <a:ext cx="229752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4120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20"/>
                <p:cNvSpPr/>
                <p:nvPr/>
              </p:nvSpPr>
              <p:spPr>
                <a:xfrm>
                  <a:off x="1815120" y="3053880"/>
                  <a:ext cx="25470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21"/>
              <p:cNvGrpSpPr/>
              <p:nvPr/>
            </p:nvGrpSpPr>
            <p:grpSpPr>
              <a:xfrm>
                <a:off x="4362480" y="3053880"/>
                <a:ext cx="4626720" cy="1202400"/>
                <a:chOff x="4362480" y="3053880"/>
                <a:chExt cx="4626720" cy="1202400"/>
              </a:xfrm>
            </p:grpSpPr>
            <p:sp>
              <p:nvSpPr>
                <p:cNvPr id="387" name="Rectangle 22"/>
                <p:cNvSpPr/>
                <p:nvPr/>
              </p:nvSpPr>
              <p:spPr>
                <a:xfrm>
                  <a:off x="4486680" y="3053880"/>
                  <a:ext cx="437724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大沽、旅顺、威海、营口、烟台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3"/>
                <p:cNvSpPr/>
                <p:nvPr/>
              </p:nvSpPr>
              <p:spPr>
                <a:xfrm>
                  <a:off x="4362480" y="3053880"/>
                  <a:ext cx="462672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4"/>
              <p:cNvGrpSpPr/>
              <p:nvPr/>
            </p:nvGrpSpPr>
            <p:grpSpPr>
              <a:xfrm>
                <a:off x="187560" y="4256640"/>
                <a:ext cx="1627200" cy="1202040"/>
                <a:chOff x="187560" y="4256640"/>
                <a:chExt cx="1627200" cy="1202040"/>
              </a:xfrm>
            </p:grpSpPr>
            <p:sp>
              <p:nvSpPr>
                <p:cNvPr id="390" name="Rectangle 25"/>
                <p:cNvSpPr/>
                <p:nvPr/>
              </p:nvSpPr>
              <p:spPr>
                <a:xfrm>
                  <a:off x="312480" y="4256640"/>
                  <a:ext cx="137700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南洋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舰队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6"/>
                <p:cNvSpPr/>
                <p:nvPr/>
              </p:nvSpPr>
              <p:spPr>
                <a:xfrm>
                  <a:off x="187560" y="4256640"/>
                  <a:ext cx="162720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27"/>
              <p:cNvGrpSpPr/>
              <p:nvPr/>
            </p:nvGrpSpPr>
            <p:grpSpPr>
              <a:xfrm>
                <a:off x="1815120" y="4256640"/>
                <a:ext cx="2547000" cy="1202040"/>
                <a:chOff x="1815120" y="4256640"/>
                <a:chExt cx="2547000" cy="1202040"/>
              </a:xfrm>
            </p:grpSpPr>
            <p:sp>
              <p:nvSpPr>
                <p:cNvPr id="393" name="Rectangle 28"/>
                <p:cNvSpPr/>
                <p:nvPr/>
              </p:nvSpPr>
              <p:spPr>
                <a:xfrm>
                  <a:off x="1939320" y="4256640"/>
                  <a:ext cx="229752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1900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29"/>
                <p:cNvSpPr/>
                <p:nvPr/>
              </p:nvSpPr>
              <p:spPr>
                <a:xfrm>
                  <a:off x="1815120" y="4256640"/>
                  <a:ext cx="254700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30"/>
              <p:cNvGrpSpPr/>
              <p:nvPr/>
            </p:nvGrpSpPr>
            <p:grpSpPr>
              <a:xfrm>
                <a:off x="4362480" y="4256640"/>
                <a:ext cx="4626720" cy="1202040"/>
                <a:chOff x="4362480" y="4256640"/>
                <a:chExt cx="4626720" cy="1202040"/>
              </a:xfrm>
            </p:grpSpPr>
            <p:sp>
              <p:nvSpPr>
                <p:cNvPr id="396" name="Rectangle 31"/>
                <p:cNvSpPr/>
                <p:nvPr/>
              </p:nvSpPr>
              <p:spPr>
                <a:xfrm>
                  <a:off x="4486680" y="4256640"/>
                  <a:ext cx="437724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江苏、浙江海面及长江口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32"/>
                <p:cNvSpPr/>
                <p:nvPr/>
              </p:nvSpPr>
              <p:spPr>
                <a:xfrm>
                  <a:off x="4362480" y="4256640"/>
                  <a:ext cx="462672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33"/>
              <p:cNvGrpSpPr/>
              <p:nvPr/>
            </p:nvGrpSpPr>
            <p:grpSpPr>
              <a:xfrm>
                <a:off x="187560" y="5459040"/>
                <a:ext cx="1627200" cy="1202040"/>
                <a:chOff x="187560" y="5459040"/>
                <a:chExt cx="1627200" cy="1202040"/>
              </a:xfrm>
            </p:grpSpPr>
            <p:sp>
              <p:nvSpPr>
                <p:cNvPr id="399" name="Rectangle 34"/>
                <p:cNvSpPr/>
                <p:nvPr/>
              </p:nvSpPr>
              <p:spPr>
                <a:xfrm>
                  <a:off x="312480" y="5459040"/>
                  <a:ext cx="137700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福建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黑体"/>
                    </a:rPr>
                    <a:t>水师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35"/>
                <p:cNvSpPr/>
                <p:nvPr/>
              </p:nvSpPr>
              <p:spPr>
                <a:xfrm>
                  <a:off x="187560" y="5459040"/>
                  <a:ext cx="162720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6"/>
              <p:cNvGrpSpPr/>
              <p:nvPr/>
            </p:nvGrpSpPr>
            <p:grpSpPr>
              <a:xfrm>
                <a:off x="1815120" y="5459040"/>
                <a:ext cx="2547000" cy="1202040"/>
                <a:chOff x="1815120" y="5459040"/>
                <a:chExt cx="2547000" cy="1202040"/>
              </a:xfrm>
            </p:grpSpPr>
            <p:sp>
              <p:nvSpPr>
                <p:cNvPr id="402" name="Rectangle 37"/>
                <p:cNvSpPr/>
                <p:nvPr/>
              </p:nvSpPr>
              <p:spPr>
                <a:xfrm>
                  <a:off x="1939320" y="5459040"/>
                  <a:ext cx="229752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970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38"/>
                <p:cNvSpPr/>
                <p:nvPr/>
              </p:nvSpPr>
              <p:spPr>
                <a:xfrm>
                  <a:off x="1815120" y="5459040"/>
                  <a:ext cx="254700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39"/>
              <p:cNvGrpSpPr/>
              <p:nvPr/>
            </p:nvGrpSpPr>
            <p:grpSpPr>
              <a:xfrm>
                <a:off x="4362480" y="5459040"/>
                <a:ext cx="4626720" cy="1202040"/>
                <a:chOff x="4362480" y="5459040"/>
                <a:chExt cx="4626720" cy="1202040"/>
              </a:xfrm>
            </p:grpSpPr>
            <p:sp>
              <p:nvSpPr>
                <p:cNvPr id="405" name="Rectangle 40"/>
                <p:cNvSpPr/>
                <p:nvPr/>
              </p:nvSpPr>
              <p:spPr>
                <a:xfrm>
                  <a:off x="4486680" y="5459040"/>
                  <a:ext cx="4377240" cy="12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66"/>
                      </a:solidFill>
                      <a:latin typeface="黑体"/>
                      <a:ea typeface="黑体"/>
                    </a:rPr>
                    <a:t>厦门、马尾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1"/>
                <p:cNvSpPr/>
                <p:nvPr/>
              </p:nvSpPr>
              <p:spPr>
                <a:xfrm>
                  <a:off x="4362480" y="5459040"/>
                  <a:ext cx="4626720" cy="12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7" name="Rectangle 42"/>
            <p:cNvSpPr/>
            <p:nvPr/>
          </p:nvSpPr>
          <p:spPr>
            <a:xfrm>
              <a:off x="179280" y="1844640"/>
              <a:ext cx="8820000" cy="482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43"/>
          <p:cNvSpPr/>
          <p:nvPr/>
        </p:nvSpPr>
        <p:spPr>
          <a:xfrm>
            <a:off x="250920" y="83664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三支海军舰队的规模和布防情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4"/>
          <p:cNvSpPr/>
          <p:nvPr/>
        </p:nvSpPr>
        <p:spPr>
          <a:xfrm>
            <a:off x="1428840" y="285840"/>
            <a:ext cx="62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三、建立新式海陆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海军"/>
          <p:cNvPicPr/>
          <p:nvPr/>
        </p:nvPicPr>
        <p:blipFill>
          <a:blip r:embed="rId1"/>
          <a:srcRect l="0" t="0" r="0" b="3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6382440" y="1203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北洋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7103160" y="4587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福建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4643280" y="624348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南洋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7473960" y="76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5d"/>
                </a:solidFill>
                <a:latin typeface="黑体"/>
                <a:ea typeface="黑体"/>
              </a:rPr>
              <a:t>旅 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7561800" y="1708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35d"/>
                </a:solidFill>
                <a:latin typeface="黑体"/>
                <a:ea typeface="黑体"/>
              </a:rPr>
              <a:t>威海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79088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2209680" y="228600"/>
            <a:ext cx="4353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筹 划 海 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028" descr="jingyuanjian"/>
          <p:cNvPicPr/>
          <p:nvPr/>
        </p:nvPicPr>
        <p:blipFill>
          <a:blip r:embed="rId1"/>
          <a:stretch/>
        </p:blipFill>
        <p:spPr>
          <a:xfrm>
            <a:off x="206280" y="790560"/>
            <a:ext cx="8686800" cy="515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19" name="Text Box 1029"/>
          <p:cNvSpPr/>
          <p:nvPr/>
        </p:nvSpPr>
        <p:spPr>
          <a:xfrm>
            <a:off x="2881800" y="59500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北洋舰队：经远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zhiyuanjian"/>
          <p:cNvPicPr/>
          <p:nvPr/>
        </p:nvPicPr>
        <p:blipFill>
          <a:blip r:embed="rId1"/>
          <a:stretch/>
        </p:blipFill>
        <p:spPr>
          <a:xfrm>
            <a:off x="0" y="692280"/>
            <a:ext cx="8534520" cy="54115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5"/>
          <p:cNvSpPr/>
          <p:nvPr/>
        </p:nvSpPr>
        <p:spPr>
          <a:xfrm>
            <a:off x="3026160" y="6021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北洋舰队：致远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5"/>
          <p:cNvGrpSpPr/>
          <p:nvPr/>
        </p:nvGrpSpPr>
        <p:grpSpPr>
          <a:xfrm>
            <a:off x="0" y="835560"/>
            <a:ext cx="9144000" cy="793080"/>
            <a:chOff x="0" y="835560"/>
            <a:chExt cx="9144000" cy="793080"/>
          </a:xfrm>
        </p:grpSpPr>
        <p:pic>
          <p:nvPicPr>
            <p:cNvPr id="425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Rectangle 7"/>
            <p:cNvSpPr/>
            <p:nvPr/>
          </p:nvSpPr>
          <p:spPr>
            <a:xfrm>
              <a:off x="3582720" y="835560"/>
              <a:ext cx="43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三、洋务运动的评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10"/>
          <p:cNvSpPr/>
          <p:nvPr/>
        </p:nvSpPr>
        <p:spPr>
          <a:xfrm>
            <a:off x="1059120" y="151452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、标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1079640" y="216216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、性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1640160" y="285264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、失败原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1079640" y="429264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、作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3827880" y="16351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甲午战争中北洋舰队全军覆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5342400" y="2344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次失败的封建统治者的自救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108000" y="286056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         </a:t>
            </a:r>
            <a:r>
              <a:rPr b="1" lang="zh-CN" sz="4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引进西方先进技术而不改变腐朽的封建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34920" y="4437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引进西方先进科学技术，使中国出现第一批近代企业。积累了生产经验，培养技术力量。客观上促进中国民族资本主义的产生和发展，为中国近代化开辟了道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5"/>
          <p:cNvGrpSpPr/>
          <p:nvPr/>
        </p:nvGrpSpPr>
        <p:grpSpPr>
          <a:xfrm>
            <a:off x="0" y="835560"/>
            <a:ext cx="9144000" cy="793080"/>
            <a:chOff x="0" y="835560"/>
            <a:chExt cx="9144000" cy="793080"/>
          </a:xfrm>
        </p:grpSpPr>
        <p:pic>
          <p:nvPicPr>
            <p:cNvPr id="240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7"/>
            <p:cNvSpPr/>
            <p:nvPr/>
          </p:nvSpPr>
          <p:spPr>
            <a:xfrm>
              <a:off x="2102400" y="835560"/>
              <a:ext cx="367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一、洋务运动的兴起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4"/>
          <p:cNvSpPr/>
          <p:nvPr/>
        </p:nvSpPr>
        <p:spPr>
          <a:xfrm>
            <a:off x="2771640" y="2997360"/>
            <a:ext cx="59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舒体"/>
                <a:ea typeface="黑体"/>
              </a:rPr>
              <a:t>列强侵华，中国半殖民化程度进一步加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859560" y="2349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舒体"/>
                <a:ea typeface="黑体"/>
              </a:rPr>
              <a:t>太平天国运动等农民起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1497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世纪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年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起，到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年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日甲午战争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843280" y="551664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方正舒体"/>
                <a:ea typeface="黑体"/>
              </a:rPr>
              <a:t>利用西方的先进技术改变军事上落后状态，维护清朝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188360" y="162864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彩云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彩云"/>
              </a:rPr>
              <a:t>、背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1332720" y="40053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彩云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彩云"/>
              </a:rPr>
              <a:t>、时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332720" y="551664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  <a:ea typeface="华文彩云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彩云"/>
              </a:rPr>
              <a:t>、目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286920" y="2349360"/>
            <a:ext cx="21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（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）内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327240" y="2997360"/>
            <a:ext cx="21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（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）外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>
            <a:hlinkClick r:id="rId1" action="ppaction://hlinksldjump"/>
          </p:cNvPr>
          <p:cNvSpPr/>
          <p:nvPr/>
        </p:nvSpPr>
        <p:spPr>
          <a:xfrm>
            <a:off x="1187280" y="762120"/>
            <a:ext cx="18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301760" y="12747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116000" y="40831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>
            <a:hlinkClick r:id="rId2" action="ppaction://hlinksldjump"/>
          </p:cNvPr>
          <p:cNvSpPr/>
          <p:nvPr/>
        </p:nvSpPr>
        <p:spPr>
          <a:xfrm>
            <a:off x="3203640" y="3716280"/>
            <a:ext cx="5796000" cy="1081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创办近代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隶书"/>
              </a:rPr>
              <a:t>军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工业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创办近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民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工业；筹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海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创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海军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创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新式学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1258920" y="5300640"/>
            <a:ext cx="29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>
            <a:hlinkClick r:id="rId3" action="ppaction://hlinksldjump"/>
          </p:cNvPr>
          <p:cNvSpPr/>
          <p:nvPr/>
        </p:nvSpPr>
        <p:spPr>
          <a:xfrm>
            <a:off x="1319040" y="6021360"/>
            <a:ext cx="23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971640" y="1123920"/>
            <a:ext cx="287280" cy="5257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1330200" y="2419200"/>
            <a:ext cx="19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1297080" y="29242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口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>
            <a:hlinkClick r:id="rId4" action="ppaction://hlinksldjump"/>
          </p:cNvPr>
          <p:cNvSpPr/>
          <p:nvPr/>
        </p:nvSpPr>
        <p:spPr>
          <a:xfrm>
            <a:off x="1330200" y="1843200"/>
            <a:ext cx="21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代表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2700360" y="126828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维护清朝统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3059280" y="2492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代至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3132000" y="29811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自强、求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3349800" y="190188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央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代表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+ 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地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代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1"/>
          <p:cNvSpPr/>
          <p:nvPr/>
        </p:nvSpPr>
        <p:spPr>
          <a:xfrm>
            <a:off x="2484360" y="5445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破产：在甲午战争中惨败，北洋舰队全军覆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2700360" y="76500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内外交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3">
            <a:hlinkClick r:id="rId5" action="ppaction://hlinksldjump"/>
          </p:cNvPr>
          <p:cNvSpPr/>
          <p:nvPr/>
        </p:nvSpPr>
        <p:spPr>
          <a:xfrm>
            <a:off x="2700360" y="6095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质   局限性   积极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-618840" y="2209680"/>
            <a:ext cx="16426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黑体"/>
              </a:rPr>
              <a:t>洋务运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250920" y="1875600"/>
            <a:ext cx="87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洋务运动新主张，“师夷长技以自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中央代表恭亲王，地方国藩李鸿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张之洞、左宗棠，兴工业，办工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建海军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开学堂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,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自强”“求富”似梦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洋务运动虽失败，未使中国得富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但引科技和经验，客观作用不能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7205400" y="8571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彩云"/>
              </a:rPr>
              <a:t>歌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WordArt 4" descr=""/>
          <p:cNvPicPr/>
          <p:nvPr/>
        </p:nvPicPr>
        <p:blipFill>
          <a:blip r:embed="rId1"/>
          <a:stretch/>
        </p:blipFill>
        <p:spPr>
          <a:xfrm>
            <a:off x="890640" y="920880"/>
            <a:ext cx="536400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179280" y="4105440"/>
            <a:ext cx="864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洋务派不改变封建制度，就想让国家富强起来，这是洋务运动失败的根本原因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洋务派学习西方限于学习西方的科学技术，单纯的学习西方的科学技术不可能使中国走上富强道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1643040" y="214200"/>
            <a:ext cx="709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动    脑    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179280" y="9079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有人说，洋务运动是一次失败的封建统治者的自救运动。想一想，这种说法对不对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为什么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1"/>
          <p:cNvSpPr/>
          <p:nvPr/>
        </p:nvSpPr>
        <p:spPr>
          <a:xfrm>
            <a:off x="250920" y="2421000"/>
            <a:ext cx="8675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隶书"/>
                <a:ea typeface="隶书"/>
              </a:rPr>
              <a:t>① </a:t>
            </a: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西方列强不真心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② </a:t>
            </a: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顽固派的阻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③ </a:t>
            </a: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洋务派缺乏健全的领导核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隶书"/>
                <a:ea typeface="隶书"/>
              </a:rPr>
              <a:t>④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中体西用，维护清朝封建专制统治，布新而不除旧（根本原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395280" y="9079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为什么经营了三十多年的洋务运动最终走向失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3"/>
          <p:cNvSpPr txBox="1"/>
          <p:nvPr/>
        </p:nvSpPr>
        <p:spPr>
          <a:xfrm>
            <a:off x="2987640" y="44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活动与探究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7"/>
          <p:cNvSpPr/>
          <p:nvPr/>
        </p:nvSpPr>
        <p:spPr>
          <a:xfrm>
            <a:off x="395280" y="907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提炼信息：根据课本的内容，请你提炼出有关洋务运动的有效信息，看谁能提炼得既多又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987640" y="44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活动与探究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54200" y="2858400"/>
            <a:ext cx="482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兴起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内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口号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目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作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7"/>
          <p:cNvSpPr/>
          <p:nvPr/>
        </p:nvSpPr>
        <p:spPr>
          <a:xfrm>
            <a:off x="106200" y="765000"/>
            <a:ext cx="8929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小讨论：根据你自己提炼出来的有关洋务运动的有效信息，谈谈你对洋务运动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3"/>
          <p:cNvSpPr txBox="1"/>
          <p:nvPr/>
        </p:nvSpPr>
        <p:spPr>
          <a:xfrm>
            <a:off x="2987640" y="44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活动与探究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108000" y="3837240"/>
            <a:ext cx="89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首先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：指出洋务运动没有使中国走上富强道路。甲午中日战争，北洋舰队全军覆没，宣告洋务运动破产。这其中的原因固然许多，但最根本的是不触动封建制度，布新而不除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其次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：其积极作用表现在：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第一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，引进了西方资本主义国家的一些近代科学技术，使中国出现了第一批近代企业。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第二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，为中国近代企业积累了生产经验，培养了技术力量。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第三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，在客观上为中国民族资本主义的产生和发展起到了促进作用，为中国的近代化开辟了道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WordArt 3"/>
          <p:cNvSpPr txBox="1"/>
          <p:nvPr/>
        </p:nvSpPr>
        <p:spPr>
          <a:xfrm>
            <a:off x="3203640" y="44280"/>
            <a:ext cx="38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250920" y="872640"/>
            <a:ext cx="8713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：洋务运动促进了中国民族资本主义的产生和发展。洋务运动开办的民用工业是（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）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．安庆内军械所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 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        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．湖北织布局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．江南制造总局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             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．福州船政局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7166160" y="2473200"/>
            <a:ext cx="125352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3"/>
          <p:cNvSpPr/>
          <p:nvPr/>
        </p:nvSpPr>
        <p:spPr>
          <a:xfrm>
            <a:off x="179280" y="1735920"/>
            <a:ext cx="93218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甲午战败后，李鸿章伤感地说：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我办了一辈子事，练兵也，海军也，都是纸糊的老虎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不过勉强涂饰，虚有其表。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从他的话中，我们能看出洋务运动是（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 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一次使中国走上富强道路的运动　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一次资产阶级的民主革命运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一次失败的封建统治者的自救运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．一次资产阶级的改良运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3133080" y="305424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矩形 7" descr=""/>
          <p:cNvPicPr/>
          <p:nvPr/>
        </p:nvPicPr>
        <p:blipFill>
          <a:blip r:embed="rId1"/>
          <a:stretch/>
        </p:blipFill>
        <p:spPr>
          <a:xfrm>
            <a:off x="3382920" y="-92160"/>
            <a:ext cx="243216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324000" y="876240"/>
            <a:ext cx="849780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洋务派举办洋务运动的根本目的是（      ）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自强新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发展资本主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抵制外国经济势力的扩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利用西方先进的军事技术维护清朝统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6443640" y="1700280"/>
            <a:ext cx="1297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0000"/>
                </a:solidFill>
                <a:latin typeface="Tahoma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3"/>
          <p:cNvSpPr txBox="1"/>
          <p:nvPr/>
        </p:nvSpPr>
        <p:spPr>
          <a:xfrm>
            <a:off x="3357720" y="0"/>
            <a:ext cx="38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5"/>
          <p:cNvSpPr/>
          <p:nvPr/>
        </p:nvSpPr>
        <p:spPr>
          <a:xfrm>
            <a:off x="250920" y="836640"/>
            <a:ext cx="87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洋务运动没有使中国走上富强道路的根本原因是 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顽固派的阻挠、破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洋务运动未彻底变革封建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甲午中日战争中中国战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未真正引进西方的先进技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5796000" y="1341360"/>
            <a:ext cx="136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cc0000"/>
                </a:solidFill>
                <a:latin typeface="Tahoma"/>
              </a:rPr>
              <a:t>B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3"/>
          <p:cNvSpPr txBox="1"/>
          <p:nvPr/>
        </p:nvSpPr>
        <p:spPr>
          <a:xfrm>
            <a:off x="3357720" y="0"/>
            <a:ext cx="38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课堂反馈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7"/>
          <p:cNvGrpSpPr/>
          <p:nvPr/>
        </p:nvGrpSpPr>
        <p:grpSpPr>
          <a:xfrm>
            <a:off x="0" y="835560"/>
            <a:ext cx="9144000" cy="793080"/>
            <a:chOff x="0" y="835560"/>
            <a:chExt cx="9144000" cy="793080"/>
          </a:xfrm>
        </p:grpSpPr>
        <p:pic>
          <p:nvPicPr>
            <p:cNvPr id="2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9"/>
            <p:cNvSpPr/>
            <p:nvPr/>
          </p:nvSpPr>
          <p:spPr>
            <a:xfrm>
              <a:off x="2102400" y="835560"/>
              <a:ext cx="367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一、洋务运动的兴起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1"/>
          <p:cNvSpPr/>
          <p:nvPr/>
        </p:nvSpPr>
        <p:spPr>
          <a:xfrm>
            <a:off x="324000" y="17064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词由「夷务」而來。中国古代以「夷」专指华夏以外民族，把与外国人打交道称为「夷务」。「夷」字经逐漸演变而成为贬称，含有歧视之意。第二次鸦片战争后，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58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的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天津条约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規定公文不用「夷」字，从此「夷务」为「洋务」所取代，泛指与西方国家进行的一切事务，如外交、商贸、传教、办新式学堂、引先进技术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1133640" y="162864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华文彩云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彩云"/>
              </a:rPr>
              <a:t>、「洋务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9"/>
          <p:cNvSpPr/>
          <p:nvPr/>
        </p:nvSpPr>
        <p:spPr>
          <a:xfrm>
            <a:off x="790920" y="555480"/>
            <a:ext cx="26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师夷长技以制夷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彩云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4931640" y="5551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中学为体，西学为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彩云"/>
              </a:rPr>
              <a:t>”</a:t>
            </a:r>
            <a:r>
              <a:rPr b="1" lang="zh-CN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395280" y="190728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000066"/>
                </a:solidFill>
                <a:latin typeface="隶书"/>
                <a:ea typeface="隶书"/>
              </a:rPr>
              <a:t>要积极稳妥地推进政治体制改革</a:t>
            </a:r>
            <a:r>
              <a:rPr b="1" lang="en-US" sz="54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0066"/>
                </a:solidFill>
                <a:latin typeface="隶书"/>
                <a:ea typeface="隶书"/>
              </a:rPr>
              <a:t>这是我国社会主义政治制度自我完善和发展的要求</a:t>
            </a:r>
            <a:r>
              <a:rPr b="1" lang="en-US" sz="54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0066"/>
                </a:solidFill>
                <a:latin typeface="隶书"/>
                <a:ea typeface="隶书"/>
              </a:rPr>
              <a:t>也是总结历史和现实经验做出的重要决策</a:t>
            </a: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”</a:t>
            </a:r>
            <a:r>
              <a:rPr b="1" lang="zh-CN" sz="5400" spc="-1" strike="noStrike">
                <a:solidFill>
                  <a:srgbClr val="000066"/>
                </a:solidFill>
                <a:latin typeface="隶书"/>
                <a:ea typeface="隶书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隶书"/>
              </a:rPr>
              <a:t>——</a:t>
            </a:r>
            <a:r>
              <a:rPr b="1" lang="zh-CN" sz="5400" spc="-1" strike="noStrike">
                <a:solidFill>
                  <a:srgbClr val="000066"/>
                </a:solidFill>
                <a:latin typeface="隶书"/>
                <a:ea typeface="隶书"/>
              </a:rPr>
              <a:t>邓小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未标题-1"/>
          <p:cNvPicPr/>
          <p:nvPr/>
        </p:nvPicPr>
        <p:blipFill>
          <a:blip r:embed="rId1"/>
          <a:stretch/>
        </p:blipFill>
        <p:spPr>
          <a:xfrm>
            <a:off x="4138560" y="1557360"/>
            <a:ext cx="5005440" cy="530064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2"/>
          <p:cNvSpPr/>
          <p:nvPr/>
        </p:nvSpPr>
        <p:spPr>
          <a:xfrm>
            <a:off x="179280" y="2530440"/>
            <a:ext cx="3961080" cy="6426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为了适应洋务运动的需要，洋务派创办了新式学校，又送留学生出国深造，从而培养了一批翻译、军事和科技人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435640" y="6093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黑体"/>
              </a:rPr>
              <a:t>京师同文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34920" y="801000"/>
            <a:ext cx="9144000" cy="825120"/>
            <a:chOff x="34920" y="801000"/>
            <a:chExt cx="9144000" cy="825120"/>
          </a:xfrm>
        </p:grpSpPr>
        <p:pic>
          <p:nvPicPr>
            <p:cNvPr id="488" name="Picture 11" descr=""/>
            <p:cNvPicPr/>
            <p:nvPr/>
          </p:nvPicPr>
          <p:blipFill>
            <a:blip r:embed="rId2"/>
            <a:stretch/>
          </p:blipFill>
          <p:spPr>
            <a:xfrm>
              <a:off x="34920" y="82872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2"/>
            <p:cNvSpPr/>
            <p:nvPr/>
          </p:nvSpPr>
          <p:spPr>
            <a:xfrm>
              <a:off x="4488120" y="801000"/>
              <a:ext cx="459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四、洋务运动的内容补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4"/>
          <p:cNvSpPr/>
          <p:nvPr/>
        </p:nvSpPr>
        <p:spPr>
          <a:xfrm>
            <a:off x="34920" y="171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培养新式人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4716360" y="2743200"/>
            <a:ext cx="4176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１９０２年并入京师大学堂（后者于１９１２年更名为北京大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WordArt 4" descr=""/>
          <p:cNvPicPr/>
          <p:nvPr/>
        </p:nvPicPr>
        <p:blipFill>
          <a:blip r:embed="rId3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6858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１９世纪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６０－９０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年代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洋务派创办的著名新学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68360" y="1839960"/>
          <a:ext cx="8280360" cy="4900680"/>
        </p:xfrm>
        <a:graphic>
          <a:graphicData uri="http://schemas.openxmlformats.org/drawingml/2006/table">
            <a:tbl>
              <a:tblPr/>
              <a:tblGrid>
                <a:gridCol w="2111400"/>
                <a:gridCol w="4140000"/>
                <a:gridCol w="202896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创办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学堂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类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６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京师同文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外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６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上海广方言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外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６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福州船政学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军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８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天津水师学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军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８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天津武备学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军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７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福州电气学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科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１８８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天津电报学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科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5" name="WordArt 4" descr=""/>
          <p:cNvPicPr/>
          <p:nvPr/>
        </p:nvPicPr>
        <p:blipFill>
          <a:blip r:embed="rId1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8"/>
          <p:cNvGrpSpPr/>
          <p:nvPr/>
        </p:nvGrpSpPr>
        <p:grpSpPr>
          <a:xfrm>
            <a:off x="826920" y="839880"/>
            <a:ext cx="7481880" cy="5903640"/>
            <a:chOff x="826920" y="839880"/>
            <a:chExt cx="7481880" cy="5903640"/>
          </a:xfrm>
        </p:grpSpPr>
        <p:pic>
          <p:nvPicPr>
            <p:cNvPr id="497" name="Picture 3" descr="詹天佑等30名赴美留学儿童"/>
            <p:cNvPicPr/>
            <p:nvPr/>
          </p:nvPicPr>
          <p:blipFill>
            <a:blip r:embed="rId1"/>
            <a:stretch/>
          </p:blipFill>
          <p:spPr>
            <a:xfrm>
              <a:off x="826920" y="839880"/>
              <a:ext cx="7481880" cy="52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4"/>
            <p:cNvSpPr/>
            <p:nvPr/>
          </p:nvSpPr>
          <p:spPr>
            <a:xfrm>
              <a:off x="1619280" y="6100920"/>
              <a:ext cx="626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詹天佑等</a:t>
              </a:r>
              <a:r>
                <a:rPr b="1" lang="en-US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30</a:t>
              </a:r>
              <a:r>
                <a:rPr b="1" lang="zh-CN" sz="36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名赴美留学儿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9"/>
          <p:cNvSpPr/>
          <p:nvPr/>
        </p:nvSpPr>
        <p:spPr>
          <a:xfrm>
            <a:off x="277920" y="1954440"/>
            <a:ext cx="8686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留美幼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87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至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875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间由清政府派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美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留学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四批中国幼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总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留美幼童的平均年龄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岁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广东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）、江苏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）为主。他们中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人在中学毕业后得以进入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哈佛、耶鲁、哥伦比亚、麻省理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著名学府继续深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88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于当权者对幼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全盘西化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担忧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清廷颁旨全数撤回留美学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8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年底，除已在美国病故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、中途辍学或拒召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外，剩下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留美幼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分三批回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87_01.jpg (11133 bytes)"/>
          <p:cNvPicPr/>
          <p:nvPr/>
        </p:nvPicPr>
        <p:blipFill>
          <a:blip r:embed="rId1"/>
          <a:stretch/>
        </p:blipFill>
        <p:spPr>
          <a:xfrm>
            <a:off x="528480" y="907920"/>
            <a:ext cx="3756240" cy="511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87_02.jpg (13656 bytes)"/>
          <p:cNvPicPr/>
          <p:nvPr/>
        </p:nvPicPr>
        <p:blipFill>
          <a:blip r:embed="rId2"/>
          <a:stretch/>
        </p:blipFill>
        <p:spPr>
          <a:xfrm>
            <a:off x="4645080" y="907920"/>
            <a:ext cx="3811680" cy="51134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1366920" y="602136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黑体"/>
              </a:rPr>
              <a:t>詹天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262480" y="6021360"/>
            <a:ext cx="26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黑体"/>
              </a:rPr>
              <a:t>京张铁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WordArt 4" descr=""/>
          <p:cNvPicPr/>
          <p:nvPr/>
        </p:nvPicPr>
        <p:blipFill>
          <a:blip r:embed="rId3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5"/>
          <p:cNvGrpSpPr/>
          <p:nvPr/>
        </p:nvGrpSpPr>
        <p:grpSpPr>
          <a:xfrm>
            <a:off x="0" y="835560"/>
            <a:ext cx="9144000" cy="793080"/>
            <a:chOff x="0" y="835560"/>
            <a:chExt cx="9144000" cy="793080"/>
          </a:xfrm>
        </p:grpSpPr>
        <p:pic>
          <p:nvPicPr>
            <p:cNvPr id="259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7"/>
            <p:cNvSpPr/>
            <p:nvPr/>
          </p:nvSpPr>
          <p:spPr>
            <a:xfrm>
              <a:off x="2102400" y="835560"/>
              <a:ext cx="367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隶书"/>
                  <a:ea typeface="隶书"/>
                </a:rPr>
                <a:t>一、洋务运动的兴起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9"/>
          <p:cNvSpPr/>
          <p:nvPr/>
        </p:nvSpPr>
        <p:spPr>
          <a:xfrm>
            <a:off x="250920" y="1773360"/>
            <a:ext cx="864072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第二次鸦片战争后，清朝统治者在内政外交上面临很多棘手的问题。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一些较为开明的官员主张学习外国先进技术，强兵富国，摆脱困境，维护清朝统治，这些官员被称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洋务派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洋务派在中央以奕代表，在地方以曾国藩、李鸿章、左宗棠、张之洞为代表。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6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建立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总理衙门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成为最高行政机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460520" y="164772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华文彩云"/>
              </a:rPr>
              <a:t>5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彩云"/>
              </a:rPr>
              <a:t>、「洋务派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www.jlhs.net/高中历史素材库/中国近现代史/ZGJXDZSD2020A.gif"/>
          <p:cNvPicPr/>
          <p:nvPr/>
        </p:nvPicPr>
        <p:blipFill>
          <a:blip r:embed="rId1"/>
          <a:stretch/>
        </p:blipFill>
        <p:spPr>
          <a:xfrm>
            <a:off x="179280" y="981000"/>
            <a:ext cx="4411800" cy="5877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4610160" y="907920"/>
            <a:ext cx="428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奕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清末洋务派首领。爱新觉罗氏。道光帝第六子。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1851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年（咸丰元年）封恭亲王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0121pic03621"/>
          <p:cNvPicPr/>
          <p:nvPr/>
        </p:nvPicPr>
        <p:blipFill>
          <a:blip r:embed="rId1"/>
          <a:stretch/>
        </p:blipFill>
        <p:spPr>
          <a:xfrm>
            <a:off x="179280" y="907920"/>
            <a:ext cx="4210200" cy="5950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4572000" y="941400"/>
            <a:ext cx="432108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曾国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湖南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道光进士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  <a:ea typeface="黑体"/>
              </a:rPr>
              <a:t>1854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年练“湘 军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  <a:ea typeface="黑体"/>
              </a:rPr>
              <a:t>1861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年创办安庆军械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  <a:ea typeface="黑体"/>
              </a:rPr>
              <a:t>1864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年镇压“太平天国运动” 后，成为地方上 的实力派</a:t>
            </a:r>
            <a:r>
              <a:rPr b="1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0121pic03623"/>
          <p:cNvPicPr/>
          <p:nvPr/>
        </p:nvPicPr>
        <p:blipFill>
          <a:blip r:embed="rId1"/>
          <a:stretch/>
        </p:blipFill>
        <p:spPr>
          <a:xfrm>
            <a:off x="34920" y="836640"/>
            <a:ext cx="4425840" cy="6021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"/>
          <p:cNvSpPr/>
          <p:nvPr/>
        </p:nvSpPr>
        <p:spPr>
          <a:xfrm>
            <a:off x="4572000" y="1074600"/>
            <a:ext cx="43560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李鸿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安徽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道光进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1861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年组建“淮军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创办北洋海军、天津机器制造局 、轮船招商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曾签订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中法新约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马关条约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辛丑条约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27" descr="0121pic03625"/>
          <p:cNvPicPr/>
          <p:nvPr/>
        </p:nvPicPr>
        <p:blipFill>
          <a:blip r:embed="rId1"/>
          <a:stretch/>
        </p:blipFill>
        <p:spPr>
          <a:xfrm>
            <a:off x="34920" y="765000"/>
            <a:ext cx="4167360" cy="6093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028"/>
          <p:cNvSpPr/>
          <p:nvPr/>
        </p:nvSpPr>
        <p:spPr>
          <a:xfrm>
            <a:off x="4356000" y="1114560"/>
            <a:ext cx="460872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左宗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湖南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6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组建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楚军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66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任闽浙总督，创办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福州船政局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75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任钦差大臣，收复新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8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任两江总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WordArt 4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3640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0:09:29Z</dcterms:created>
  <dc:creator>User</dc:creator>
  <dc:description/>
  <dc:language>en-US</dc:language>
  <cp:lastModifiedBy>User</cp:lastModifiedBy>
  <dcterms:modified xsi:type="dcterms:W3CDTF">2018-01-29T04:32:32Z</dcterms:modified>
  <cp:revision>111</cp:revision>
  <dc:subject/>
  <dc:title>幻灯片 1</dc:title>
</cp:coreProperties>
</file>