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8.png" ContentType="image/png"/>
  <Override PartName="/ppt/media/image5.jpeg" ContentType="image/jpeg"/>
  <Override PartName="/ppt/media/image35.png" ContentType="image/png"/>
  <Override PartName="/ppt/media/image26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9.jpeg" ContentType="image/jpeg"/>
  <Override PartName="/ppt/media/image37.jpeg" ContentType="image/jpeg"/>
  <Override PartName="/ppt/media/image30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CAMERA.WAV" ContentType="audio/x-wav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3350-D4E4-4E9B-A4DF-C5045F278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2560" y="43401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英国发动第一次鸦片战争，强迫清政府签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以为打开了中国的大门。但结果却出乎他们的预料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是让中国紧闭的大门打开了一条门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E00-BE4D-4A75-B4D6-A1C9429E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B25-3CD8-4187-9433-6E47F14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BF4-146D-4167-8EF3-9D51EC28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593-D3EA-4730-A020-2C3B74A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6476-4372-4F9F-B046-7B2119FA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A93-FEE8-4867-AF0A-9F618F51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5AC-07E7-4EA5-90BF-F2FC504F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C57A-0AA0-43C2-B9AD-1D8130CB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7854-4F1B-4A3E-B312-F1407A2C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EF8E-70EB-43CF-8CD4-80ED064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AD6-445A-4A40-B480-41DF503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633-C8E2-4A19-A42D-6AD92A6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CE4E-5268-4D5B-BB27-5E4E2ED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F14A-AA0A-4EEA-8595-0E455A3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FF5-21D7-4308-9490-DE6447A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DCA6-10DC-4EBD-BD7D-F8D13824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80D3-9EFD-436B-8D66-6024B6C6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12C0-5468-469D-B74B-D3670436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55B5-1069-4999-B6AC-7CDAEF5B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EBEC-9686-4E8F-ACFF-FCA7D435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25B8-897F-44F6-A508-5A7A125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ED7E-1B59-495A-A331-93917D8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FFE-C692-49D7-BF01-B80BBDD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861A-FC2C-4035-A841-4BDCDBA3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8B1A-BBB2-4DCB-A71B-67E0345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CA57-2CA7-4237-8FB3-BFC1989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BEAF-DEB7-4D9A-A84E-15C664CA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9A0B-CF57-4046-AC4A-6E6F5177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DC65-E162-4732-A6C6-A223723F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C753-8FB7-4311-9F32-DADEFC3E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75A9-1809-41A7-A80A-4EA36E61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655A-7D48-4C85-8955-C933DEDD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FEB3-0C1D-450E-AFB6-9DA8117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33C-A3F6-4B8B-BBE0-D985FE6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70E0-D742-430D-AF6B-9E9A404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61A3-97B4-4828-94BC-8D9C38D2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5BA8-8944-443C-AFFC-A1845622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BE21-7BFC-4119-95BE-82CCD11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20BB-7181-4E6B-9DC9-A55EA6AE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C10C-8BBF-40F1-85D4-B50EFBC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D567-186E-4E9C-BCE5-E6CE059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6C0C-602C-45B6-8A37-2B91328A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1A13-9523-423F-A5A3-AB026A69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A35C-631D-4D98-AE52-1CFE9FA2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6FD-F060-4685-AFE7-BA08C1B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C679-EA49-4C29-809E-2EEAF99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8A415-BDAE-4A9E-A65F-946DE4F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6E63-1E14-40E7-93FE-B29D1421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A498-00DD-4CDD-8891-9A405AC7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804D-47F1-45C7-BA49-FBC8F2C9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0464-A9FD-4D18-831C-D5B8B95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1A60-11C1-413C-BDF9-59CEC52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7D22-27A2-4436-A34C-06B57C6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5B7F-98FF-49EB-87D5-B31212B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3134-25E9-45DE-9A37-B81C1AEC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DEC-7A6D-43A8-A898-455FBBD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EECF-1D0E-461A-92C1-9F83F197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2557-538E-4D6A-8FF9-0D08482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1D66-B832-4500-AEAB-35E1452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A747-203F-4390-914A-ED37861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9819-4265-4FDF-BCD9-A353130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0FE4E-CA0E-442C-BF81-D4F4591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8124-1561-4BE0-8D38-25522FA9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474D-B4A2-434C-934A-C07253F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4CB4-7B31-41CE-8262-D36562D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0057-7B58-4727-9684-DE823B1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82F-E4B8-4BE0-BF08-0448699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188A-9FB6-4825-B0DB-6D57CDAA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CDAA-87E2-4E4E-9560-F2699AB0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8243-304F-4DA1-BB2C-7DA56F22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549-DA7E-4BEB-8266-25906C3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F32-0111-4B99-A93F-F942ED0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847-5043-41CE-84A8-620A0A6C0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CFA6-8173-4F32-A2C2-1572D183B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DC4D-DB50-4266-90CE-46DEE5B6E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ABD5-AAD3-49DD-B090-8359768B6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5F3D-1526-47B7-B8BA-E0367D985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组合 6"/>
          <p:cNvGrpSpPr/>
          <p:nvPr/>
        </p:nvGrpSpPr>
        <p:grpSpPr>
          <a:xfrm>
            <a:off x="1501200" y="454320"/>
            <a:ext cx="7499520" cy="4968360"/>
            <a:chOff x="1501200" y="454320"/>
            <a:chExt cx="7499520" cy="4968360"/>
          </a:xfrm>
        </p:grpSpPr>
        <p:sp>
          <p:nvSpPr>
            <p:cNvPr id="214" name="矩形 7"/>
            <p:cNvSpPr/>
            <p:nvPr/>
          </p:nvSpPr>
          <p:spPr>
            <a:xfrm rot="21480000">
              <a:off x="1581120" y="58068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8"/>
            <p:cNvSpPr/>
            <p:nvPr/>
          </p:nvSpPr>
          <p:spPr>
            <a:xfrm rot="21540000">
              <a:off x="1590120" y="57132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9"/>
            <p:cNvSpPr/>
            <p:nvPr/>
          </p:nvSpPr>
          <p:spPr>
            <a:xfrm>
              <a:off x="1590480" y="55404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D00A-6D81-43AF-9731-A9AD42265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9"/>
          <p:cNvGrpSpPr/>
          <p:nvPr/>
        </p:nvGrpSpPr>
        <p:grpSpPr>
          <a:xfrm>
            <a:off x="0" y="0"/>
            <a:ext cx="9143640" cy="836640"/>
            <a:chOff x="0" y="0"/>
            <a:chExt cx="9143640" cy="836640"/>
          </a:xfrm>
        </p:grpSpPr>
        <p:pic>
          <p:nvPicPr>
            <p:cNvPr id="266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WordArt 18"/>
            <p:cNvSpPr txBox="1"/>
            <p:nvPr/>
          </p:nvSpPr>
          <p:spPr>
            <a:xfrm>
              <a:off x="1213920" y="133200"/>
              <a:ext cx="4870080" cy="54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268" name="Rectangle 4"/>
          <p:cNvSpPr/>
          <p:nvPr/>
        </p:nvSpPr>
        <p:spPr>
          <a:xfrm>
            <a:off x="179280" y="839880"/>
            <a:ext cx="87854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第一次鸦片战争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的签订，给中国带来了什么严重后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2565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割让香港岛使中国领土主权不完整；巨额赔款，增加了人民负担；开放五口通商和协定关税，有利于资本主义国家对中国的商品输出。结果，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中国开始沦为半殖民地半封建社会。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极富梦幻色彩的皇家园林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921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000045184"/>
          <p:cNvPicPr/>
          <p:nvPr/>
        </p:nvPicPr>
        <p:blipFill>
          <a:blip r:embed="rId2"/>
          <a:stretch/>
        </p:blipFill>
        <p:spPr>
          <a:xfrm>
            <a:off x="395280" y="981000"/>
            <a:ext cx="2262240" cy="2735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000045202"/>
          <p:cNvPicPr/>
          <p:nvPr/>
        </p:nvPicPr>
        <p:blipFill>
          <a:blip r:embed="rId3"/>
          <a:stretch/>
        </p:blipFill>
        <p:spPr>
          <a:xfrm>
            <a:off x="6651720" y="1052640"/>
            <a:ext cx="2241360" cy="2771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Img240425399"/>
          <p:cNvPicPr/>
          <p:nvPr/>
        </p:nvPicPr>
        <p:blipFill>
          <a:blip r:embed="rId4"/>
          <a:stretch/>
        </p:blipFill>
        <p:spPr>
          <a:xfrm>
            <a:off x="3132000" y="1413000"/>
            <a:ext cx="3017880" cy="253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Img240425400"/>
          <p:cNvPicPr/>
          <p:nvPr/>
        </p:nvPicPr>
        <p:blipFill>
          <a:blip r:embed="rId5"/>
          <a:stretch/>
        </p:blipFill>
        <p:spPr>
          <a:xfrm>
            <a:off x="395280" y="3956040"/>
            <a:ext cx="2325600" cy="27860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3203640" y="4653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圆明园文物回归祖国怀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U1584P28T3D1195184F326DT20060810154157"/>
          <p:cNvPicPr/>
          <p:nvPr/>
        </p:nvPicPr>
        <p:blipFill>
          <a:blip r:embed="rId1"/>
          <a:stretch/>
        </p:blipFill>
        <p:spPr>
          <a:xfrm>
            <a:off x="468360" y="765000"/>
            <a:ext cx="83883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393840" y="5981040"/>
            <a:ext cx="864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长春园最北边有一组西式宫殿建筑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西洋楼，是乾隆时期根据西方传教士朗世宁的设计，由中国匠师精心建造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05112615545691"/>
          <p:cNvPicPr/>
          <p:nvPr/>
        </p:nvPicPr>
        <p:blipFill>
          <a:blip r:embed="rId1"/>
          <a:stretch/>
        </p:blipFill>
        <p:spPr>
          <a:xfrm>
            <a:off x="324000" y="888840"/>
            <a:ext cx="8569080" cy="46278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684360" y="5516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西洋风格的大理石和上面雕刻的中国传统图案，显露出中西合璧的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642960" y="21420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影片探讨了清王朝的兴衰"/>
          <p:cNvPicPr/>
          <p:nvPr/>
        </p:nvPicPr>
        <p:blipFill>
          <a:blip r:embed="rId1"/>
          <a:stretch/>
        </p:blipFill>
        <p:spPr>
          <a:xfrm>
            <a:off x="324000" y="868320"/>
            <a:ext cx="8532720" cy="47926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216000" y="59450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清朝皇帝和皇宫贵族们都很喜欢在圆明园里休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瞬间，似乎回到了火烧圆明园的时代"/>
          <p:cNvPicPr/>
          <p:nvPr/>
        </p:nvPicPr>
        <p:blipFill>
          <a:blip r:embed="rId1"/>
          <a:stretch/>
        </p:blipFill>
        <p:spPr>
          <a:xfrm>
            <a:off x="395280" y="555480"/>
            <a:ext cx="8424720" cy="63295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324000" y="1125360"/>
            <a:ext cx="86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有一天，两个强盗闯入了夏宫（圆明园），一个动手抢劫，一个把它付之一炬。原来胜利就是进行一场掠夺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在将来交付审判的时候，一个强盗就会被人们叫做法兰西，另一个叫做英吉利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录自法国作家雨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" dur="1" fill="hold"/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瞬间，似乎回到了火烧圆明园的时代"/>
          <p:cNvPicPr/>
          <p:nvPr/>
        </p:nvPicPr>
        <p:blipFill>
          <a:blip r:embed="rId1"/>
          <a:stretch/>
        </p:blipFill>
        <p:spPr>
          <a:xfrm>
            <a:off x="395280" y="484200"/>
            <a:ext cx="8424720" cy="632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"/>
          <p:cNvSpPr/>
          <p:nvPr/>
        </p:nvSpPr>
        <p:spPr>
          <a:xfrm>
            <a:off x="324000" y="1268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英国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泰晤士报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随军记者写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场的每个军人都掠夺很多。在进入皇宫的宫殿后，谁也不知该拿什么东西。为了拿金子，而把银子丢了，为了拿镶有珠王的时计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钟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和宝石，又把金子丢了，无价的瓷器和珐琅器，因为太大不能运走，竟被打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U1584P28T3D1195188F326DT20060810154206"/>
          <p:cNvPicPr/>
          <p:nvPr/>
        </p:nvPicPr>
        <p:blipFill>
          <a:blip r:embed="rId1"/>
          <a:stretch/>
        </p:blipFill>
        <p:spPr>
          <a:xfrm>
            <a:off x="0" y="1884240"/>
            <a:ext cx="9144000" cy="4929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1187280" y="930240"/>
            <a:ext cx="48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圆明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遗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895040" y="328608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能抢的都抢了，</a:t>
            </a:r>
            <a:br>
              <a:rPr sz="7200"/>
            </a:br>
            <a:r>
              <a:rPr b="1" i="1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能烧的都烧了，</a:t>
            </a:r>
            <a:br>
              <a:rPr sz="7200"/>
            </a:br>
            <a:r>
              <a:rPr b="1" i="1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就剩下这些石头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1148123796929788"/>
          <p:cNvPicPr/>
          <p:nvPr/>
        </p:nvPicPr>
        <p:blipFill>
          <a:blip r:embed="rId1"/>
          <a:stretch/>
        </p:blipFill>
        <p:spPr>
          <a:xfrm>
            <a:off x="539640" y="1494000"/>
            <a:ext cx="8136000" cy="5391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1187280" y="642960"/>
            <a:ext cx="48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圆明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遗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857160" y="21420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极富梦幻色彩的皇家园林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088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179280" y="1413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看着圆明园原来的辉煌、被焚毁的惨烈和近年来圆明园文物的回归，你有怎样的感想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4"/>
          <p:cNvSpPr txBox="1"/>
          <p:nvPr/>
        </p:nvSpPr>
        <p:spPr>
          <a:xfrm rot="578400">
            <a:off x="3131640" y="0"/>
            <a:ext cx="33130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24000"/>
                </a:gradFill>
                <a:latin typeface="黑体"/>
              </a:rPr>
              <a:t>说一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24000"/>
              </a:gradFill>
              <a:latin typeface="黑体"/>
              <a:ea typeface="黑体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701720" y="4724280"/>
            <a:ext cx="45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落后就要挨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0" y="575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要避免再次遭受侵略，就要强大起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79280" y="378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中国人民有着高超的智慧与工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e0"/>
          <p:cNvPicPr/>
          <p:nvPr/>
        </p:nvPicPr>
        <p:blipFill>
          <a:blip r:embed="rId1"/>
          <a:stretch/>
        </p:blipFill>
        <p:spPr>
          <a:xfrm>
            <a:off x="0" y="2760840"/>
            <a:ext cx="9144000" cy="412416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4"/>
          <p:cNvSpPr/>
          <p:nvPr/>
        </p:nvSpPr>
        <p:spPr>
          <a:xfrm>
            <a:off x="5786280" y="719280"/>
            <a:ext cx="2138400" cy="12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e1"/>
          <p:cNvPicPr/>
          <p:nvPr/>
        </p:nvPicPr>
        <p:blipFill>
          <a:blip r:embed="rId2"/>
          <a:stretch/>
        </p:blipFill>
        <p:spPr>
          <a:xfrm>
            <a:off x="5867280" y="3500280"/>
            <a:ext cx="2171880" cy="1590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e2"/>
          <p:cNvPicPr/>
          <p:nvPr/>
        </p:nvPicPr>
        <p:blipFill>
          <a:blip r:embed="rId3"/>
          <a:stretch/>
        </p:blipFill>
        <p:spPr>
          <a:xfrm>
            <a:off x="7365960" y="3268800"/>
            <a:ext cx="1743120" cy="2476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e3"/>
          <p:cNvPicPr/>
          <p:nvPr/>
        </p:nvPicPr>
        <p:blipFill>
          <a:blip r:embed="rId4"/>
          <a:stretch/>
        </p:blipFill>
        <p:spPr>
          <a:xfrm>
            <a:off x="22320" y="3983040"/>
            <a:ext cx="2876400" cy="2038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e4"/>
          <p:cNvPicPr/>
          <p:nvPr/>
        </p:nvPicPr>
        <p:blipFill>
          <a:blip r:embed="rId5"/>
          <a:stretch/>
        </p:blipFill>
        <p:spPr>
          <a:xfrm>
            <a:off x="0" y="4221000"/>
            <a:ext cx="2990880" cy="2181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7" descr=""/>
          <p:cNvPicPr/>
          <p:nvPr/>
        </p:nvPicPr>
        <p:blipFill>
          <a:blip r:embed="rId6"/>
          <a:stretch/>
        </p:blipFill>
        <p:spPr>
          <a:xfrm>
            <a:off x="0" y="809640"/>
            <a:ext cx="9144000" cy="89064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38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79" name="Picture 39" descr=""/>
            <p:cNvPicPr/>
            <p:nvPr/>
          </p:nvPicPr>
          <p:blipFill>
            <a:blip r:embed="rId7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22"/>
            <p:cNvSpPr/>
            <p:nvPr/>
          </p:nvSpPr>
          <p:spPr>
            <a:xfrm>
              <a:off x="2050920" y="231840"/>
              <a:ext cx="70930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第二次鸦片战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111240" y="1913040"/>
            <a:ext cx="89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手段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──趁火打劫、步步蚕食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武力相逼，以调停为诱饵，一纸定夺，强割强占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4"/>
          <p:cNvSpPr/>
          <p:nvPr/>
        </p:nvSpPr>
        <p:spPr>
          <a:xfrm>
            <a:off x="857880" y="158112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野心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──由来已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50920" y="843120"/>
            <a:ext cx="88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三、俄国侵占中国北方大片领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9"/>
          <p:cNvSpPr txBox="1"/>
          <p:nvPr/>
        </p:nvSpPr>
        <p:spPr>
          <a:xfrm>
            <a:off x="3570120" y="117360"/>
            <a:ext cx="330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教 学 目 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60360" y="2597760"/>
            <a:ext cx="867564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一、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了解第二次鸦片战争期间，列强侵华的罪恶行径，清朝统治者的腐败无能，使中国举世闻名的皇家宫苑被付之一炬，主权进一步丧失，土地被强暴割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二、分析民族的强与弱，国家的先进与落后和它们的命运息息相关，从而激发学生的爱国情绪，为民族的振兴、国家的强大发愤学习，努力奋斗。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08000" y="1712880"/>
          <a:ext cx="8839080" cy="4992840"/>
        </p:xfrm>
        <a:graphic>
          <a:graphicData uri="http://schemas.openxmlformats.org/drawingml/2006/table">
            <a:tbl>
              <a:tblPr/>
              <a:tblGrid>
                <a:gridCol w="1423800"/>
                <a:gridCol w="2995920"/>
                <a:gridCol w="2590560"/>
                <a:gridCol w="1828800"/>
              </a:tblGrid>
              <a:tr h="581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条约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99"/>
                          </a:solidFill>
                          <a:latin typeface="黑体"/>
                          <a:ea typeface="黑体"/>
                        </a:rPr>
                        <a:t>割占领土范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割占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279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58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中俄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瑷珲条约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99"/>
                          </a:solidFill>
                          <a:latin typeface="黑体"/>
                          <a:ea typeface="黑体"/>
                        </a:rPr>
                        <a:t>中国东北外兴安岭以南黑龙江以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多万平方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036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6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中俄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北京条约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99"/>
                          </a:solidFill>
                          <a:latin typeface="黑体"/>
                          <a:ea typeface="黑体"/>
                        </a:rPr>
                        <a:t>中国乌苏里江以东包括库页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万平方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047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6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中俄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勘分西北界约记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99"/>
                          </a:solidFill>
                          <a:latin typeface="黑体"/>
                          <a:ea typeface="黑体"/>
                        </a:rPr>
                        <a:t>中国巴尔喀什湖以东以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万多平方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0479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世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中俄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改定条约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及五个勘界议定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99"/>
                          </a:solidFill>
                          <a:latin typeface="黑体"/>
                          <a:ea typeface="黑体"/>
                        </a:rPr>
                        <a:t>中国西北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黑体"/>
                          <a:ea typeface="黑体"/>
                        </a:rPr>
                        <a:t>万多平方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85" name="Rectangle 36"/>
          <p:cNvSpPr/>
          <p:nvPr/>
        </p:nvSpPr>
        <p:spPr>
          <a:xfrm>
            <a:off x="282600" y="9158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俄国通过不平等条约割占中国北方领土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23640" y="3111480"/>
            <a:ext cx="4033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十九世纪末中俄边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2640" y="3040200"/>
            <a:ext cx="40338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1401"/>
              </a:buClr>
              <a:buSzPct val="9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十九世纪五十年代初中俄边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aaa"/>
          <p:cNvPicPr/>
          <p:nvPr/>
        </p:nvPicPr>
        <p:blipFill>
          <a:blip r:embed="rId2"/>
          <a:stretch/>
        </p:blipFill>
        <p:spPr>
          <a:xfrm>
            <a:off x="468360" y="4087800"/>
            <a:ext cx="3733920" cy="2220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bbb"/>
          <p:cNvPicPr/>
          <p:nvPr/>
        </p:nvPicPr>
        <p:blipFill>
          <a:blip r:embed="rId3"/>
          <a:srcRect l="1961" t="1929" r="0" b="0"/>
          <a:stretch/>
        </p:blipFill>
        <p:spPr>
          <a:xfrm>
            <a:off x="5010120" y="4121280"/>
            <a:ext cx="3809880" cy="2260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0" y="809640"/>
            <a:ext cx="9144000" cy="890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2"/>
          <p:cNvSpPr/>
          <p:nvPr/>
        </p:nvSpPr>
        <p:spPr>
          <a:xfrm>
            <a:off x="250920" y="843120"/>
            <a:ext cx="88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三、俄国侵占中国北方大片领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250920" y="4221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俄国从十九世纪五十年代末开始，通过一系列不平等条约，割了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50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多万平方公里的中国领土，相当于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个新疆省的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890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22"/>
          <p:cNvSpPr/>
          <p:nvPr/>
        </p:nvSpPr>
        <p:spPr>
          <a:xfrm>
            <a:off x="714240" y="21420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150"/>
          <p:cNvPicPr/>
          <p:nvPr/>
        </p:nvPicPr>
        <p:blipFill>
          <a:blip r:embed="rId2"/>
          <a:stretch/>
        </p:blipFill>
        <p:spPr>
          <a:xfrm>
            <a:off x="914400" y="1549440"/>
            <a:ext cx="5181480" cy="27432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"/>
          <p:cNvSpPr/>
          <p:nvPr/>
        </p:nvSpPr>
        <p:spPr>
          <a:xfrm>
            <a:off x="5029200" y="26161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公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250920" y="843120"/>
            <a:ext cx="88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三、俄国侵占中国北方大片领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946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  第二次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侵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第二次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罪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英法──火烧圆明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沙俄──割占领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百五十多万平方千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03" name="WordArt 3"/>
          <p:cNvSpPr txBox="1"/>
          <p:nvPr/>
        </p:nvSpPr>
        <p:spPr>
          <a:xfrm>
            <a:off x="3132000" y="44280"/>
            <a:ext cx="388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知识小结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250920" y="83664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第一次鸦片战争结束于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84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，第二次鸦片战争爆发时，已经过了多少年？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971640" y="292428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.12  B.14  C.16  D.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95280" y="3941640"/>
            <a:ext cx="808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.1860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洗劫焚烧圆明园的两个强盗是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166760" y="5373720"/>
            <a:ext cx="700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俄罗斯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法兰西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英吉利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美利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192120" y="202392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2911680" y="4378320"/>
            <a:ext cx="148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 Black"/>
              </a:rPr>
              <a:t>B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50920" y="98100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把乌苏里江以东，包括库页岛在内地区。割给沙俄的不平等条约是（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879480" y="2644920"/>
            <a:ext cx="74376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俄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瑷珲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俄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勘分西北界约记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俄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改订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俄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北京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701480" y="2259000"/>
            <a:ext cx="11638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66"/>
                </a:solidFill>
                <a:latin typeface="Arial Black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0" y="893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当英国和法国对中国进行一场代价巨大的战争时，只是为了让俄国得到好处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22120" y="22050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战争指什么战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990720" y="31417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第二次鸦片战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84320" y="407664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在战争中，英法对中国犯下的滔天罪行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592200" y="5734080"/>
            <a:ext cx="80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860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英法联军火烧圆明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328680" y="2924280"/>
            <a:ext cx="870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在战争中，俄国得到的好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87280" y="436572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通过签定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瑷珲条约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北京条约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》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等条约共割占中国北方领土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多万平方千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6360" y="836640"/>
            <a:ext cx="914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当英国和法国对中国进行一场代价巨大的战争时，只是为了让俄国得到好处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75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83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当英国和法国对中国进行一场代价巨大的战争时，只是为了让俄国得到好处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4280" y="228276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此战争给中国造成的最严重危害是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0" y="29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中国社会的半殖民地化程度进一步加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0" y="40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由于此战争而签订的不平等条约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08000" y="4869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天津条约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北京条约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瑷珲条约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115920" y="5661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当时在位的皇帝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6372360" y="58053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咸丰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仿宋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1" dur="7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64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WordArt 3"/>
          <p:cNvSpPr txBox="1"/>
          <p:nvPr/>
        </p:nvSpPr>
        <p:spPr>
          <a:xfrm>
            <a:off x="179280" y="260280"/>
            <a:ext cx="6172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勿忘国耻，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振兴中华！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435" name="WordArt 4"/>
          <p:cNvSpPr txBox="1"/>
          <p:nvPr/>
        </p:nvSpPr>
        <p:spPr>
          <a:xfrm>
            <a:off x="5651640" y="4797360"/>
            <a:ext cx="345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 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2"/>
          <p:cNvSpPr/>
          <p:nvPr/>
        </p:nvSpPr>
        <p:spPr>
          <a:xfrm>
            <a:off x="0" y="836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第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课 第二次鸦片战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2"/>
          <a:srcRect l="25001" t="0" r="0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75" name="WordArt 30"/>
          <p:cNvSpPr txBox="1"/>
          <p:nvPr/>
        </p:nvSpPr>
        <p:spPr>
          <a:xfrm>
            <a:off x="1500120" y="142920"/>
            <a:ext cx="7000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一单元 中国开始沦为半殖民地半封建社会</a:t>
            </a:r>
            <a:endParaRPr b="1" lang="en-US" sz="44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9"/>
          <p:cNvSpPr/>
          <p:nvPr/>
        </p:nvSpPr>
        <p:spPr>
          <a:xfrm>
            <a:off x="468360" y="870120"/>
            <a:ext cx="84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一、火烧圆明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         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二次鸦片战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108000" y="2565360"/>
            <a:ext cx="291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1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时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1"/>
          <p:cNvSpPr/>
          <p:nvPr/>
        </p:nvSpPr>
        <p:spPr>
          <a:xfrm>
            <a:off x="250920" y="5084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3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发动国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179280" y="3500280"/>
            <a:ext cx="44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发动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5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9"/>
          <p:cNvSpPr/>
          <p:nvPr/>
        </p:nvSpPr>
        <p:spPr>
          <a:xfrm>
            <a:off x="0" y="870120"/>
            <a:ext cx="892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一、英国再次发动侵华战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2627280" y="2294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856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000066"/>
                </a:solidFill>
                <a:latin typeface="宋体"/>
                <a:ea typeface="黑体"/>
              </a:rPr>
              <a:t>—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860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538200" y="4291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外国侵略者要求进一步打开中国市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828720" y="59187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英法联军进攻，俄美充当帮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5" descr="未命名"/>
          <p:cNvPicPr/>
          <p:nvPr/>
        </p:nvPicPr>
        <p:blipFill>
          <a:blip r:embed="rId1"/>
          <a:stretch/>
        </p:blipFill>
        <p:spPr>
          <a:xfrm>
            <a:off x="900000" y="692280"/>
            <a:ext cx="8099640" cy="6110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3733920" y="4952880"/>
            <a:ext cx="914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de7e3"/>
                </a:solidFill>
                <a:latin typeface="Times New Roman"/>
                <a:ea typeface="华文新魏"/>
              </a:rPr>
              <a:t>广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089240" y="1027080"/>
            <a:ext cx="914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ede7e3"/>
                </a:solidFill>
                <a:latin typeface="Times New Roman"/>
                <a:ea typeface="华文新魏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381560" y="1603440"/>
            <a:ext cx="838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de7e3"/>
                </a:solidFill>
                <a:latin typeface="Times New Roman"/>
                <a:ea typeface="华文新魏"/>
              </a:rPr>
              <a:t>天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"/>
          <p:cNvSpPr/>
          <p:nvPr/>
        </p:nvSpPr>
        <p:spPr>
          <a:xfrm>
            <a:off x="3110040" y="5638680"/>
            <a:ext cx="1371600" cy="792360"/>
          </a:xfrm>
          <a:prstGeom prst="pie">
            <a:avLst/>
          </a:prstGeom>
          <a:noFill/>
          <a:ln w="63360">
            <a:solidFill>
              <a:srgbClr val="00a8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3949560" y="5448240"/>
            <a:ext cx="317520" cy="343080"/>
          </a:xfrm>
          <a:prstGeom prst="pie">
            <a:avLst/>
          </a:prstGeom>
          <a:noFill/>
          <a:ln w="63360">
            <a:solidFill>
              <a:srgbClr val="00a8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267080" y="3251160"/>
            <a:ext cx="3332160" cy="2679840"/>
          </a:xfrm>
          <a:prstGeom prst="pie">
            <a:avLst/>
          </a:prstGeom>
          <a:noFill/>
          <a:ln w="63360">
            <a:solidFill>
              <a:srgbClr val="00a8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5651640" y="1844640"/>
            <a:ext cx="1728720" cy="1584360"/>
          </a:xfrm>
          <a:prstGeom prst="pie">
            <a:avLst/>
          </a:prstGeom>
          <a:noFill/>
          <a:ln w="63360">
            <a:solidFill>
              <a:srgbClr val="00a8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"/>
          <p:cNvSpPr/>
          <p:nvPr/>
        </p:nvSpPr>
        <p:spPr>
          <a:xfrm>
            <a:off x="3276720" y="5867280"/>
            <a:ext cx="1041120" cy="546120"/>
          </a:xfrm>
          <a:prstGeom prst="pie">
            <a:avLst/>
          </a:prstGeom>
          <a:noFill/>
          <a:ln w="63360">
            <a:solidFill>
              <a:srgbClr val="8c05b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"/>
          <p:cNvSpPr/>
          <p:nvPr/>
        </p:nvSpPr>
        <p:spPr>
          <a:xfrm>
            <a:off x="4292640" y="3619440"/>
            <a:ext cx="3325680" cy="2311560"/>
          </a:xfrm>
          <a:prstGeom prst="pie">
            <a:avLst/>
          </a:prstGeom>
          <a:noFill/>
          <a:ln w="63360">
            <a:solidFill>
              <a:srgbClr val="8c05b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5796000" y="1341360"/>
            <a:ext cx="1747800" cy="2232000"/>
          </a:xfrm>
          <a:prstGeom prst="pie">
            <a:avLst/>
          </a:prstGeom>
          <a:noFill/>
          <a:ln w="63360">
            <a:solidFill>
              <a:srgbClr val="8c05b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 flipH="1" flipV="1">
            <a:off x="5267160" y="1260360"/>
            <a:ext cx="457200" cy="152640"/>
          </a:xfrm>
          <a:prstGeom prst="line">
            <a:avLst/>
          </a:prstGeom>
          <a:ln w="63360">
            <a:solidFill>
              <a:srgbClr val="8c05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-436320" y="765000"/>
            <a:ext cx="127764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黑体"/>
              </a:rPr>
              <a:t>第二次鸦片战争经过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6"/>
          <p:cNvGrpSpPr/>
          <p:nvPr/>
        </p:nvGrpSpPr>
        <p:grpSpPr>
          <a:xfrm>
            <a:off x="-214200" y="0"/>
            <a:ext cx="9357840" cy="836640"/>
            <a:chOff x="-214200" y="0"/>
            <a:chExt cx="9357840" cy="836640"/>
          </a:xfrm>
        </p:grpSpPr>
        <p:pic>
          <p:nvPicPr>
            <p:cNvPr id="301" name="Picture 17" descr=""/>
            <p:cNvPicPr/>
            <p:nvPr/>
          </p:nvPicPr>
          <p:blipFill>
            <a:blip r:embed="rId2"/>
            <a:srcRect l="25001" t="0" r="0" b="0"/>
            <a:stretch/>
          </p:blipFill>
          <p:spPr>
            <a:xfrm>
              <a:off x="95760" y="0"/>
              <a:ext cx="90478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22"/>
            <p:cNvSpPr/>
            <p:nvPr/>
          </p:nvSpPr>
          <p:spPr>
            <a:xfrm>
              <a:off x="-214200" y="258840"/>
              <a:ext cx="93578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第二次鸦片战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1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5"/>
          <p:cNvSpPr/>
          <p:nvPr/>
        </p:nvSpPr>
        <p:spPr>
          <a:xfrm>
            <a:off x="468360" y="843120"/>
            <a:ext cx="84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二、火烧圆明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与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《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北京条约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》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的签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79280" y="49485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国社会半殖民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半封建化的程度进一步加深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66560" y="25527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1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罪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179280" y="329112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英法联军火烧圆明园；俄国通过不平等条约割占中国北方大片领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250920" y="48988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影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4920" y="23828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  <a:ea typeface="华文中宋"/>
              </a:rPr>
              <a:t>企图进一步打开中国市场，扩大侵略权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979640" y="4060800"/>
            <a:ext cx="2448000" cy="160200"/>
          </a:xfrm>
          <a:prstGeom prst="rightArrow">
            <a:avLst>
              <a:gd name="adj1" fmla="val 50000"/>
              <a:gd name="adj2" fmla="val 382022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5435640" y="4005360"/>
            <a:ext cx="2322360" cy="142920"/>
          </a:xfrm>
          <a:prstGeom prst="leftArrow">
            <a:avLst>
              <a:gd name="adj1" fmla="val 50000"/>
              <a:gd name="adj2" fmla="val 406234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5887800" y="2787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  <a:ea typeface="黑体"/>
              </a:rPr>
              <a:t>担心危及统治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601640" y="4556160"/>
            <a:ext cx="34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Verdana"/>
                <a:ea typeface="黑体"/>
              </a:rPr>
              <a:t>提出“修约”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6012000" y="4556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Verdana"/>
                <a:ea typeface="黑体"/>
              </a:rPr>
              <a:t>拒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969320" y="366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华文彩云"/>
              </a:rPr>
              <a:t>清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1332000" y="4581360"/>
            <a:ext cx="0" cy="1800360"/>
          </a:xfrm>
          <a:prstGeom prst="line">
            <a:avLst/>
          </a:prstGeom>
          <a:ln w="38160">
            <a:solidFill>
              <a:srgbClr val="9d1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 flipV="1">
            <a:off x="1312920" y="6360840"/>
            <a:ext cx="6718320" cy="20520"/>
          </a:xfrm>
          <a:prstGeom prst="line">
            <a:avLst/>
          </a:prstGeom>
          <a:ln w="38160">
            <a:solidFill>
              <a:srgbClr val="9d1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 flipH="1" flipV="1">
            <a:off x="7956360" y="4436640"/>
            <a:ext cx="74520" cy="1871640"/>
          </a:xfrm>
          <a:prstGeom prst="line">
            <a:avLst/>
          </a:prstGeom>
          <a:ln w="38160">
            <a:solidFill>
              <a:srgbClr val="9d11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1619280" y="55245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英、法挑起第二次鸦片战争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217440" y="378936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华文彩云"/>
              </a:rPr>
              <a:t>英法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4"/>
          <p:cNvSpPr txBox="1"/>
          <p:nvPr/>
        </p:nvSpPr>
        <p:spPr>
          <a:xfrm rot="5400000">
            <a:off x="3925080" y="2780280"/>
            <a:ext cx="1727280" cy="8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矛盾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23" name="Picture 18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285840" y="857160"/>
            <a:ext cx="84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二、火烧圆明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与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《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北京条约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  <a:ea typeface="隶书"/>
              </a:rPr>
              <a:t>》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的签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324000" y="54403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本是明代一故园。清朝从康熙至咸丰的六代帝王，历时一百五十多年，集中全国大量人力、物力、财力，把它营建成为一座举世无匹的大型皇家宫苑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50920" y="7542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明园，位于北京西北郊。由圆明园、长春园、万春园组成，总称圆明三园；占地面积约五千二百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5"/>
          <p:cNvSpPr txBox="1"/>
          <p:nvPr/>
        </p:nvSpPr>
        <p:spPr>
          <a:xfrm rot="5400000">
            <a:off x="-791280" y="2961720"/>
            <a:ext cx="3527280" cy="12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圆明园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29" name="Picture 6" descr="photo3"/>
          <p:cNvPicPr/>
          <p:nvPr/>
        </p:nvPicPr>
        <p:blipFill>
          <a:blip r:embed="rId3"/>
          <a:srcRect l="1775" t="3117" r="1775" b="2090"/>
          <a:stretch/>
        </p:blipFill>
        <p:spPr>
          <a:xfrm>
            <a:off x="1906560" y="1697040"/>
            <a:ext cx="6697800" cy="37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30" name="Group 7"/>
          <p:cNvGrpSpPr/>
          <p:nvPr/>
        </p:nvGrpSpPr>
        <p:grpSpPr>
          <a:xfrm>
            <a:off x="0" y="-27000"/>
            <a:ext cx="9143640" cy="836640"/>
            <a:chOff x="0" y="-27000"/>
            <a:chExt cx="9143640" cy="836640"/>
          </a:xfrm>
        </p:grpSpPr>
        <p:pic>
          <p:nvPicPr>
            <p:cNvPr id="331" name="Picture 8" descr=""/>
            <p:cNvPicPr/>
            <p:nvPr/>
          </p:nvPicPr>
          <p:blipFill>
            <a:blip r:embed="rId4"/>
            <a:srcRect l="24221" t="0" r="0" b="0"/>
            <a:stretch/>
          </p:blipFill>
          <p:spPr>
            <a:xfrm>
              <a:off x="210960" y="-27000"/>
              <a:ext cx="893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0" y="231840"/>
              <a:ext cx="9143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2</a:t>
              </a:r>
              <a:r>
                <a:rPr b="1" lang="zh-CN" sz="28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第二次鸦片战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《圆明园》盛景重现"/>
          <p:cNvPicPr/>
          <p:nvPr/>
        </p:nvPicPr>
        <p:blipFill>
          <a:blip r:embed="rId1"/>
          <a:stretch/>
        </p:blipFill>
        <p:spPr>
          <a:xfrm>
            <a:off x="324000" y="833400"/>
            <a:ext cx="8569080" cy="4611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179280" y="55897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它利用当地优越的自然环境，开凿湖泊，堆积土山，再点缀些亭台楼榭，形成许多秀丽的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050920" y="231840"/>
            <a:ext cx="709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课 第二次鸦片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09:29Z</dcterms:created>
  <dc:creator>User</dc:creator>
  <dc:description/>
  <dc:language>en-US</dc:language>
  <cp:lastModifiedBy>User</cp:lastModifiedBy>
  <dcterms:modified xsi:type="dcterms:W3CDTF">2018-01-29T03:00:26Z</dcterms:modified>
  <cp:revision>98</cp:revision>
  <dc:subject/>
  <dc:title>幻灯片 1</dc:title>
</cp:coreProperties>
</file>