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0D7-E5DF-42DC-AB0D-639C8DDA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6D7-7150-4888-9108-D00B22DC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F7D-E475-4C9F-A21B-05DD2672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E9B-6289-457A-9615-4413406E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0398-52EA-4969-AC78-6C791C1E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FF36-F8F2-498B-ACBE-AB2D6140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B9C1-E0C9-428E-A1E5-05DF7133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3B82-C3DE-4CB9-A670-FFF94D6D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45A8-35AD-4BCB-802C-61272880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71C8-5540-40D2-9CAB-548CB454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EB63-59B3-4F49-B3F0-12F57AF7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F52-384C-4BFB-B054-EFCCA1C5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AFC3-AFED-4710-8F46-5136F605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E53A-9500-484C-8FE2-00A8DAE2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DFAE-4FB6-424E-B998-92819A3F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B35E-321A-44F4-9520-8EDC8466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0978-F4DF-4900-97CA-181E3C3E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07F7E-7C4D-4D85-A107-9E282876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EFEB-4B0D-45BB-A9CF-E7ED290A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C09C6-5B3F-41F4-916F-1FFA61FE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92AF-7F47-4B38-992F-01C76BB8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9B0B-459C-4A1D-9BB1-3F3342B6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D9F-2A3E-4BCA-A69F-C2FD4551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6915-9473-40EE-AAC7-CDF2E1DC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74F5-5CE4-4858-BF8F-C40DF6D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D9DE-76AD-4BDB-991A-780C0F52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29D4-B489-4CE2-8B16-99F9B3A9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6412-F7B4-4744-BAF0-CD191C71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8CF3-32A8-434D-8210-71722CD5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F987-612D-413D-8704-FB40CD1F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20D4-60AA-4C79-9284-265CA98D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87C0-C47D-4C22-A587-7E5754D5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925F-027F-4802-B4D7-BFED2BF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500-4A35-4CDF-AA31-4617F345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DFBC6-772C-4147-87CF-85BEB8F4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DF67A-B551-4C81-85B2-11EEAEF5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869C-9E1B-4882-9F68-379580AE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82D6-B5FE-49EB-9639-EE063207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F4DE-59E1-4792-8331-20BE8B73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C79DF-C292-4C71-A423-FAD3FA81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8F3AF-880F-4575-BD5D-23642BE3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E108E-B7E5-41AD-B116-5E2AE502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26192-B0F9-412D-A275-BF2B8A2E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3ACE5-177B-4FAA-BE72-7876B9A7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37C-F1B0-40AE-8135-31DC793F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EF2C6-D61D-4AF5-9201-4E466EA0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051F1-C22F-475F-890B-0D3E0BA4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08F99-0B3B-4C13-A560-7D994B20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3D6B7-2F22-4783-B76F-1CAC4B65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CCA34-5556-4B9F-9C28-A5FF9AFC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18B17-3702-4103-80DE-D3697FC2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F08AC-A843-4EE0-B99B-1525A794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1573B-FA1F-4CCD-880A-0ABA3922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67BB2-6E7B-4D2F-B530-C4A335EE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CD74-2CAB-4B2D-99CA-EBE2B23D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97E-9F36-461B-9113-B5D99661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53CD0-4846-4BA8-87E3-D4B6E167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9C4DB-3F20-49F9-8C1D-C0873CF1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5556E-D378-4F1D-BA25-27989755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F4D52-7F50-4709-A8F6-55F3D12C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E8564-759A-4777-B988-CBA12C9A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9151-53F0-470E-9C74-74273058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8A902-36A6-4034-A4F3-6993E5B2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C5450-A3A7-46B5-A89F-1DB9677D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A6586-8523-41D0-BD5E-2ECECA07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C7694-ECC2-4760-BFE1-B553D0DE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A84-D40C-4DCD-9CE0-6B7D298C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48042-F4E2-49CD-997F-F0BCF82D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2318D-6AF4-443B-A8D6-F24CAEE9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D14CF-2A28-4358-840C-C5E48457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29C84-5129-4A23-82A8-4C84E589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340C2-7622-46DA-9FF1-EC223E63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B144F-E424-4635-96CB-6CA2F38F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8E5C3-7B68-4926-9CF2-7A9D508C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66B2E-08E2-487F-A3B2-129A790F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47D8B-3F24-41F1-9F48-98F14C6D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92413-865A-40D5-999D-5B10348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3D2-5E92-4591-870D-1A508B5D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33E4B-6C28-44A1-97ED-42A26571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5E65B-1D4E-4A0F-9F12-F1EB3112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8BF2-5E06-4FDB-B4B5-3570002E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F0C4E-7953-44CD-8853-B721F627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DC558-CF7C-4CB3-9985-463EA8F3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28B-451D-4126-A361-108258DD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矩形 6" descr=""/>
          <p:cNvPicPr/>
          <p:nvPr/>
        </p:nvPicPr>
        <p:blipFill>
          <a:blip r:embed="rId3"/>
          <a:stretch/>
        </p:blipFill>
        <p:spPr>
          <a:xfrm>
            <a:off x="6778800" y="5735520"/>
            <a:ext cx="2182680" cy="452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BAE6-0D66-4637-9F59-174AB890DF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1293-1BFA-45D1-8D85-DDEEB6B0A4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DB0B-FC91-466B-9506-41C57EEE7E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图片 1" descr="4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1" descr="LOGO黑副本.png"/>
          <p:cNvPicPr/>
          <p:nvPr/>
        </p:nvPicPr>
        <p:blipFill>
          <a:blip r:embed="rId4"/>
          <a:stretch/>
        </p:blipFill>
        <p:spPr>
          <a:xfrm>
            <a:off x="7429680" y="214200"/>
            <a:ext cx="142056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2C57-13BA-4AD8-81FC-C238E8EF9D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图片 1" descr="4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1" descr="LOGO黑副本.png"/>
          <p:cNvPicPr/>
          <p:nvPr/>
        </p:nvPicPr>
        <p:blipFill>
          <a:blip r:embed="rId4"/>
          <a:stretch/>
        </p:blipFill>
        <p:spPr>
          <a:xfrm>
            <a:off x="7429680" y="214200"/>
            <a:ext cx="142056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3133-8798-4052-A573-C4CC162DFF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2228-32A6-4685-B646-ECD1A844317D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0E29-3ADD-4591-B421-64CDA44A5D55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175248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课   辛亥革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140289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614840" cy="4647960"/>
          </a:xfrm>
          <a:prstGeom prst="rect">
            <a:avLst/>
          </a:prstGeom>
          <a:ln w="0">
            <a:noFill/>
          </a:ln>
        </p:spPr>
      </p:pic>
      <p:sp>
        <p:nvSpPr>
          <p:cNvPr id="350" name="矩形 140291"/>
          <p:cNvSpPr/>
          <p:nvPr/>
        </p:nvSpPr>
        <p:spPr>
          <a:xfrm>
            <a:off x="5638680" y="1405080"/>
            <a:ext cx="3270240" cy="81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表现：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武昌起义胜利后，各省纷纷响应。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月下旬，全国已有一半以上的省份宣布独立，支持革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"/>
          <p:cNvSpPr/>
          <p:nvPr/>
        </p:nvSpPr>
        <p:spPr>
          <a:xfrm>
            <a:off x="2778120" y="3380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清王朝土崩瓦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1"/>
          <p:cNvSpPr/>
          <p:nvPr/>
        </p:nvSpPr>
        <p:spPr>
          <a:xfrm>
            <a:off x="990720" y="1981080"/>
            <a:ext cx="685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辛亥革命的历史意义：辛亥革命推翻了清王朝的反动统治，宣告了中国两千多年君主专制制度的终结。它开创了完全意义上的近代民族民主革命，极大推动了中华民族的思想解放，打开了中国进步潮流的闸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矩形 105480"/>
          <p:cNvSpPr txBox="1"/>
          <p:nvPr/>
        </p:nvSpPr>
        <p:spPr>
          <a:xfrm>
            <a:off x="2128680" y="947880"/>
            <a:ext cx="2590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拨开迷雾</a:t>
            </a:r>
            <a:endParaRPr b="0" lang="en-US" sz="4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54" name="矩形 78852" descr=""/>
          <p:cNvPicPr/>
          <p:nvPr/>
        </p:nvPicPr>
        <p:blipFill>
          <a:blip r:embed="rId4"/>
          <a:stretch/>
        </p:blipFill>
        <p:spPr>
          <a:xfrm>
            <a:off x="1778040" y="2849400"/>
            <a:ext cx="518148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图片 129031" descr="20081117225726819"/>
          <p:cNvPicPr/>
          <p:nvPr/>
        </p:nvPicPr>
        <p:blipFill>
          <a:blip r:embed="rId2"/>
          <a:stretch/>
        </p:blipFill>
        <p:spPr>
          <a:xfrm>
            <a:off x="719280" y="666720"/>
            <a:ext cx="7619760" cy="358920"/>
          </a:xfrm>
          <a:prstGeom prst="rect">
            <a:avLst/>
          </a:prstGeom>
          <a:ln w="0">
            <a:noFill/>
          </a:ln>
        </p:spPr>
      </p:pic>
      <p:sp>
        <p:nvSpPr>
          <p:cNvPr id="356" name="文本框 129027"/>
          <p:cNvSpPr/>
          <p:nvPr/>
        </p:nvSpPr>
        <p:spPr>
          <a:xfrm>
            <a:off x="1278000" y="1914480"/>
            <a:ext cx="704196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性质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一次伟大的反帝反封建的资产阶级民主革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功绩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它推翻了清朝的统治，结束了两千多年的封建帝制。资产阶级共和国的旗帜第一次飘扬在中国上空，有利于资本主义的发展和社会的进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局限性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没有改变中国半殖民地半封建社会的性质和人民的悲惨境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29029"/>
          <p:cNvSpPr/>
          <p:nvPr/>
        </p:nvSpPr>
        <p:spPr>
          <a:xfrm>
            <a:off x="3336840" y="1282680"/>
            <a:ext cx="3140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辛亥革命的历史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7619760" cy="52070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076280" y="5486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清王朝土崩瓦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291" name="">
            <a:hlinkClick r:id="rId3" action="ppaction://hlinksldjump"/>
          </p:cNvPr>
          <p:cNvSpPr/>
          <p:nvPr/>
        </p:nvSpPr>
        <p:spPr>
          <a:xfrm>
            <a:off x="6948360" y="3933720"/>
            <a:ext cx="1128960" cy="943200"/>
          </a:xfrm>
          <a:prstGeom prst="wedgeRoundRectCallout">
            <a:avLst>
              <a:gd name="adj1" fmla="val -45078"/>
              <a:gd name="adj2" fmla="val -7003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浙皖起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3860640"/>
            <a:ext cx="1600200" cy="939960"/>
          </a:xfrm>
          <a:prstGeom prst="wedgeRoundRectCallout">
            <a:avLst>
              <a:gd name="adj1" fmla="val 61407"/>
              <a:gd name="adj2" fmla="val 1570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萍浏醴起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5181480"/>
            <a:ext cx="1600200" cy="1143000"/>
          </a:xfrm>
          <a:prstGeom prst="wedgeRoundRectCallout">
            <a:avLst>
              <a:gd name="adj1" fmla="val 53569"/>
              <a:gd name="adj2" fmla="val 5888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镇南关起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5300640"/>
            <a:ext cx="1551240" cy="1081080"/>
          </a:xfrm>
          <a:prstGeom prst="wedgeRoundRectCallout">
            <a:avLst>
              <a:gd name="adj1" fmla="val -72925"/>
              <a:gd name="adj2" fmla="val 2415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黄花岗起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3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革命党人发动的武装起义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方正魏碑简体"/>
              </a:rPr>
              <a:t> 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280" y="1447920"/>
          <a:ext cx="8839440" cy="4724280"/>
        </p:xfrm>
        <a:graphic>
          <a:graphicData uri="http://schemas.openxmlformats.org/drawingml/2006/table">
            <a:tbl>
              <a:tblPr/>
              <a:tblGrid>
                <a:gridCol w="2283480"/>
                <a:gridCol w="1473120"/>
                <a:gridCol w="2016360"/>
                <a:gridCol w="1533240"/>
                <a:gridCol w="153324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起义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领导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45720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萍浏醴起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362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9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刘道一、蔡绍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2362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一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3429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浙皖起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9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32004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秋    瑾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徐锡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3352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0120" y="4343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4495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镇南关起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4572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9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411480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孙中山黄    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486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黄花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起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9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525780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孙中山黄    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5105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影响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12650"/>
          <p:cNvSpPr/>
          <p:nvPr/>
        </p:nvSpPr>
        <p:spPr>
          <a:xfrm>
            <a:off x="3276720" y="2209680"/>
            <a:ext cx="2346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武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12652"/>
          <p:cNvSpPr/>
          <p:nvPr/>
        </p:nvSpPr>
        <p:spPr>
          <a:xfrm>
            <a:off x="3276720" y="457200"/>
            <a:ext cx="33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91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12653"/>
          <p:cNvSpPr/>
          <p:nvPr/>
        </p:nvSpPr>
        <p:spPr>
          <a:xfrm>
            <a:off x="3268800" y="2835360"/>
            <a:ext cx="4600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夺取军械库，打开城门迎接驻守城外的炮兵入城，然后步炮联合，进攻总督衙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112661"/>
          <p:cNvGrpSpPr/>
          <p:nvPr/>
        </p:nvGrpSpPr>
        <p:grpSpPr>
          <a:xfrm>
            <a:off x="1146240" y="380880"/>
            <a:ext cx="3147840" cy="5649480"/>
            <a:chOff x="1146240" y="380880"/>
            <a:chExt cx="3147840" cy="5649480"/>
          </a:xfrm>
        </p:grpSpPr>
        <p:sp>
          <p:nvSpPr>
            <p:cNvPr id="319" name="矩形 112645"/>
            <p:cNvSpPr/>
            <p:nvPr/>
          </p:nvSpPr>
          <p:spPr>
            <a:xfrm>
              <a:off x="2035080" y="380880"/>
              <a:ext cx="127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时间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12647"/>
            <p:cNvSpPr/>
            <p:nvPr/>
          </p:nvSpPr>
          <p:spPr>
            <a:xfrm>
              <a:off x="2035080" y="3130200"/>
              <a:ext cx="15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过程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112648"/>
            <p:cNvSpPr/>
            <p:nvPr/>
          </p:nvSpPr>
          <p:spPr>
            <a:xfrm>
              <a:off x="2084400" y="5344200"/>
              <a:ext cx="2209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12651"/>
            <p:cNvSpPr/>
            <p:nvPr/>
          </p:nvSpPr>
          <p:spPr>
            <a:xfrm>
              <a:off x="2229840" y="1764720"/>
              <a:ext cx="72936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地点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112659"/>
            <p:cNvSpPr/>
            <p:nvPr/>
          </p:nvSpPr>
          <p:spPr>
            <a:xfrm>
              <a:off x="1146240" y="1238760"/>
              <a:ext cx="546120" cy="266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武　昌　起　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左大括号 112660"/>
            <p:cNvSpPr/>
            <p:nvPr/>
          </p:nvSpPr>
          <p:spPr>
            <a:xfrm>
              <a:off x="1878120" y="685440"/>
              <a:ext cx="185760" cy="5344920"/>
            </a:xfrm>
            <a:custGeom>
              <a:avLst/>
              <a:gdLst>
                <a:gd name="textAreaLeft" fmla="*/ 118800 w 185760"/>
                <a:gd name="textAreaRight" fmla="*/ 186120 w 185760"/>
                <a:gd name="textAreaTop" fmla="*/ 138960 h 5344920"/>
                <a:gd name="textAreaBottom" fmla="*/ 5205960 h 534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112662"/>
          <p:cNvSpPr/>
          <p:nvPr/>
        </p:nvSpPr>
        <p:spPr>
          <a:xfrm>
            <a:off x="3657600" y="5638680"/>
            <a:ext cx="210168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黎元洪任都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74840" y="426708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12653"/>
          <p:cNvSpPr/>
          <p:nvPr/>
        </p:nvSpPr>
        <p:spPr>
          <a:xfrm>
            <a:off x="3276720" y="4267080"/>
            <a:ext cx="4600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占领武昌城，革命在武汉三镇取得胜利，成立湖北军政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1143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主要力量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12652"/>
          <p:cNvSpPr/>
          <p:nvPr/>
        </p:nvSpPr>
        <p:spPr>
          <a:xfrm>
            <a:off x="3581280" y="1371600"/>
            <a:ext cx="338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倾向革命的湖北新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115715"/>
          <p:cNvSpPr/>
          <p:nvPr/>
        </p:nvSpPr>
        <p:spPr>
          <a:xfrm>
            <a:off x="1015920" y="888840"/>
            <a:ext cx="2951280" cy="48405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15716" descr="黎元洪2"/>
          <p:cNvPicPr/>
          <p:nvPr/>
        </p:nvPicPr>
        <p:blipFill>
          <a:blip r:embed="rId2"/>
          <a:stretch/>
        </p:blipFill>
        <p:spPr>
          <a:xfrm>
            <a:off x="1187280" y="1039680"/>
            <a:ext cx="2606760" cy="4538880"/>
          </a:xfrm>
          <a:prstGeom prst="rect">
            <a:avLst/>
          </a:prstGeom>
          <a:ln w="0">
            <a:noFill/>
          </a:ln>
        </p:spPr>
      </p:pic>
      <p:sp>
        <p:nvSpPr>
          <p:cNvPr id="332" name="云形标注 115717"/>
          <p:cNvSpPr/>
          <p:nvPr/>
        </p:nvSpPr>
        <p:spPr>
          <a:xfrm>
            <a:off x="4098960" y="914400"/>
            <a:ext cx="4529160" cy="2354400"/>
          </a:xfrm>
          <a:prstGeom prst="cloudCallout">
            <a:avLst>
              <a:gd name="adj1" fmla="val -25324"/>
              <a:gd name="adj2" fmla="val 95652"/>
            </a:avLst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15718"/>
          <p:cNvSpPr/>
          <p:nvPr/>
        </p:nvSpPr>
        <p:spPr>
          <a:xfrm>
            <a:off x="4518000" y="140004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黎元洪是一个怎样的人？谈谈你对革命党人推举黎元洪为都督的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4098960" y="4438800"/>
            <a:ext cx="2716200" cy="1658880"/>
            <a:chOff x="4098960" y="4438800"/>
            <a:chExt cx="2716200" cy="1658880"/>
          </a:xfrm>
        </p:grpSpPr>
        <p:pic>
          <p:nvPicPr>
            <p:cNvPr id="335" name="Picture 11" descr="PE02604_"/>
            <p:cNvPicPr/>
            <p:nvPr/>
          </p:nvPicPr>
          <p:blipFill>
            <a:blip r:embed="rId3"/>
            <a:stretch/>
          </p:blipFill>
          <p:spPr>
            <a:xfrm>
              <a:off x="4098960" y="4438800"/>
              <a:ext cx="204480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2"/>
            <p:cNvSpPr/>
            <p:nvPr/>
          </p:nvSpPr>
          <p:spPr>
            <a:xfrm>
              <a:off x="5695920" y="4438800"/>
              <a:ext cx="1119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r>
                <a:rPr b="1" lang="en-US" sz="9600" spc="-1" strike="noStrike">
                  <a:solidFill>
                    <a:srgbClr val="ff3300"/>
                  </a:solidFill>
                  <a:latin typeface="宋体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38246"/>
          <p:cNvSpPr/>
          <p:nvPr/>
        </p:nvSpPr>
        <p:spPr>
          <a:xfrm>
            <a:off x="5014800" y="4394160"/>
            <a:ext cx="357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武昌起义革命军军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图片 138247" descr="1"/>
          <p:cNvPicPr/>
          <p:nvPr/>
        </p:nvPicPr>
        <p:blipFill>
          <a:blip r:embed="rId2"/>
          <a:stretch/>
        </p:blipFill>
        <p:spPr>
          <a:xfrm>
            <a:off x="5038560" y="804960"/>
            <a:ext cx="3475080" cy="347508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138248" descr="0"/>
          <p:cNvPicPr/>
          <p:nvPr/>
        </p:nvPicPr>
        <p:blipFill>
          <a:blip r:embed="rId3"/>
          <a:stretch/>
        </p:blipFill>
        <p:spPr>
          <a:xfrm>
            <a:off x="658800" y="803160"/>
            <a:ext cx="4108320" cy="350856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138249"/>
          <p:cNvSpPr/>
          <p:nvPr/>
        </p:nvSpPr>
        <p:spPr>
          <a:xfrm>
            <a:off x="984240" y="4960800"/>
            <a:ext cx="725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ff"/>
                </a:solidFill>
                <a:latin typeface="宋体"/>
              </a:rPr>
              <a:t>　　位于武昌城内紫阳湖东岸。</a:t>
            </a:r>
            <a:r>
              <a:rPr b="1" lang="zh-CN" sz="2000" spc="-1" strike="noStrike">
                <a:solidFill>
                  <a:srgbClr val="cc00ff"/>
                </a:solidFill>
                <a:latin typeface="宋体"/>
              </a:rPr>
              <a:t>1911</a:t>
            </a:r>
            <a:r>
              <a:rPr b="1" lang="zh-CN" sz="2000" spc="-1" strike="noStrike">
                <a:solidFill>
                  <a:srgbClr val="cc00ff"/>
                </a:solidFill>
                <a:latin typeface="宋体"/>
              </a:rPr>
              <a:t>年</a:t>
            </a:r>
            <a:r>
              <a:rPr b="1" lang="zh-CN" sz="2000" spc="-1" strike="noStrike">
                <a:solidFill>
                  <a:srgbClr val="cc00f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c00ff"/>
                </a:solidFill>
                <a:latin typeface="宋体"/>
              </a:rPr>
              <a:t>月</a:t>
            </a:r>
            <a:r>
              <a:rPr b="1" lang="zh-CN" sz="2000" spc="-1" strike="noStrike">
                <a:solidFill>
                  <a:srgbClr val="cc00f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c00ff"/>
                </a:solidFill>
                <a:latin typeface="宋体"/>
              </a:rPr>
              <a:t>日晚</a:t>
            </a:r>
            <a:r>
              <a:rPr b="1" lang="zh-CN" sz="2000" spc="-1" strike="noStrike">
                <a:solidFill>
                  <a:srgbClr val="cc00ff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cc00ff"/>
                </a:solidFill>
                <a:latin typeface="宋体"/>
              </a:rPr>
              <a:t>时许，革命士兵勇敢地打响第一枪，武昌起义首先从这里开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38252"/>
          <p:cNvSpPr/>
          <p:nvPr/>
        </p:nvSpPr>
        <p:spPr>
          <a:xfrm>
            <a:off x="806400" y="4475160"/>
            <a:ext cx="396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陆军第八镇工程营旧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139267"/>
          <p:cNvSpPr/>
          <p:nvPr/>
        </p:nvSpPr>
        <p:spPr>
          <a:xfrm>
            <a:off x="457200" y="4635360"/>
            <a:ext cx="853452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ff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91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日晚，武昌起义的枪声打响后，驻南湖的新军炮队立即起义，进驻中和门开炮轰击湖广总督衙门。此后，中和门就改称起义门。这是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98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年重修后的起义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39268"/>
          <p:cNvSpPr/>
          <p:nvPr/>
        </p:nvSpPr>
        <p:spPr>
          <a:xfrm>
            <a:off x="3809880" y="4267080"/>
            <a:ext cx="2667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武昌起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39269" descr="未标题-16"/>
          <p:cNvPicPr/>
          <p:nvPr/>
        </p:nvPicPr>
        <p:blipFill>
          <a:blip r:embed="rId2"/>
          <a:stretch/>
        </p:blipFill>
        <p:spPr>
          <a:xfrm>
            <a:off x="1752480" y="609480"/>
            <a:ext cx="6705720" cy="35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871720" y="5562720"/>
            <a:ext cx="353340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华文行楷"/>
              </a:rPr>
              <a:t>起义军占领楚望台军械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7772400" cy="46638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43000" y="5334120"/>
            <a:ext cx="8001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华文行楷"/>
                <a:ea typeface="华文行楷"/>
              </a:rPr>
              <a:t>1911</a:t>
            </a:r>
            <a:r>
              <a:rPr b="1" lang="zh-CN" sz="3600" spc="-1" strike="noStrike">
                <a:solidFill>
                  <a:srgbClr val="003300"/>
                </a:solidFill>
                <a:latin typeface="华文行楷"/>
                <a:ea typeface="华文行楷"/>
              </a:rPr>
              <a:t>年</a:t>
            </a:r>
            <a:r>
              <a:rPr b="1" lang="zh-CN" sz="3600" spc="-1" strike="noStrike">
                <a:solidFill>
                  <a:srgbClr val="0033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003300"/>
                </a:solidFill>
                <a:latin typeface="华文行楷"/>
                <a:ea typeface="华文行楷"/>
              </a:rPr>
              <a:t>月</a:t>
            </a:r>
            <a:r>
              <a:rPr b="1" lang="zh-CN" sz="3600" spc="-1" strike="noStrike">
                <a:solidFill>
                  <a:srgbClr val="003300"/>
                </a:solidFill>
                <a:latin typeface="华文行楷"/>
                <a:ea typeface="华文行楷"/>
              </a:rPr>
              <a:t>11</a:t>
            </a:r>
            <a:r>
              <a:rPr b="1" lang="zh-CN" sz="3600" spc="-1" strike="noStrike">
                <a:solidFill>
                  <a:srgbClr val="003300"/>
                </a:solidFill>
                <a:latin typeface="华文行楷"/>
                <a:ea typeface="华文行楷"/>
              </a:rPr>
              <a:t>日，武昌成立湖北军政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3-18T07:29:43Z</dcterms:modified>
  <cp:revision>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