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48F18-416B-4F82-A0BE-1B2513A8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4454707D-935F-4650-AAAF-04C5FE2B97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3CF-CFBA-4E5C-A003-08C30FBF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3B4-60DF-45C8-B465-3BC8939D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1FE-F9E7-44FA-9719-DB67540C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91A-9CBD-4793-81D6-45C24F52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760-2DCE-4B14-9DB0-5C768515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5D87-AD4D-4050-A768-A5264C8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5CC1-ED80-478C-BCBB-447D1FB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6776-CC8E-4383-A2BD-90DA8A2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BCCD-C3B2-4133-BF32-5F35040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37DD-4EC0-4B5D-8A41-922DA150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A81B-EF03-4A64-A39E-5A8CD66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172-ADE5-44DF-A980-5322221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C18-6EB4-4E4C-A0C7-C9D6F9F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A76-319C-4923-AA7E-E929B78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570-743B-4CA2-8C28-8EF0537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4C2-3D4A-448D-864D-518013D6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305-D4E6-4019-BC7D-D8C43BB6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6881-5DA4-4BFE-B785-5050BBF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CCE5-F208-425C-AE53-7BA69F5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4E16-5653-467C-B25C-882B9C7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7B7B-C217-45DA-87B3-681AD12D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CD30-0CE6-4411-9658-63FA5C3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A6C-15AA-4C50-9E76-40E1E7B7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3814-92F8-4535-8D91-0B21D15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415D-7B3D-43A4-84B7-8EB7BD4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D2EF-EB47-4B41-AA96-7EB32894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4C87-E3B5-4025-BB66-2F57770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0D61-66B2-4006-B36A-42C7F81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68CC-F032-4829-A5F0-FAB28C44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C2C5-568D-407F-9B0C-16ED8320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959F-A0D6-4AE3-8D40-DDE0EF1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D06E-8894-483D-B4F2-0589F793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9E4B-3F7A-49C2-A090-54CAA829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9E4-A469-4097-B6C3-009CCA00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0F40-1260-4A54-9D71-4E3702A1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550C-65FF-4439-933F-AE8291B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95A3-BD5C-4C7C-ADA7-8003D93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4873-49B0-47BB-94D1-9111F5AA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F1F0-4BD0-4B9C-BA3C-5232E37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3EEE-5B83-4E66-BF0E-7B4FA4EB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BAF8-C02E-48EE-A671-22A09D8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76AD-6AEE-4FCD-8ABF-8E39E906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6F12-01DA-471D-983E-021FE0E8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B8D-EA91-4D23-A0A4-95EB534E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14F-6E41-4D3D-8260-200177C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1F3-4A2C-494E-B273-07AEB47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4FA-B0F8-4165-90C2-D02E443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990-F66B-4E7E-B110-C07BF779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b0c6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5454DB-8FA4-4AD5-A121-C2ED7307780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b0c6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A164CD-8238-4AEE-9161-4982832F57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b0c6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7CB562-18CE-4498-BFC2-7BD18A7CC6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b0c6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2A343C-0500-401A-B9B1-D878B3D53F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10"/>
          <p:cNvSpPr txBox="1"/>
          <p:nvPr/>
        </p:nvSpPr>
        <p:spPr>
          <a:xfrm>
            <a:off x="711360" y="1843200"/>
            <a:ext cx="7488360" cy="1366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980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课经济体制改革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34821"/>
          <p:cNvSpPr/>
          <p:nvPr/>
        </p:nvSpPr>
        <p:spPr>
          <a:xfrm>
            <a:off x="468360" y="1627200"/>
            <a:ext cx="8496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家庭联产承包责任制是指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农户以家庭为单位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集体组织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承包土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等生产资料和生产任务的农业生产责任制形式。其基本特点是在保留集体经济必要的统一经营的同时，集体将土地和其他生产资料承包给农户，承包户根据承包合同规定的权限，独立作出经营决策，并在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完成国家和集体任务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前提下分享经营成果，一般做法是将土地等按人口或劳动力比例根据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责、权、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相结合的原则分给农户经营。承包户和集体经济组织签订承包合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4823"/>
          <p:cNvSpPr txBox="1"/>
          <p:nvPr/>
        </p:nvSpPr>
        <p:spPr>
          <a:xfrm>
            <a:off x="2338560" y="5229360"/>
            <a:ext cx="5028840" cy="914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c00000"/>
                </a:solidFill>
                <a:latin typeface="宋体"/>
                <a:ea typeface="宋体"/>
              </a:rPr>
              <a:t>分田包产到户，自负盈亏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99" name="文本框 3"/>
          <p:cNvSpPr/>
          <p:nvPr/>
        </p:nvSpPr>
        <p:spPr>
          <a:xfrm>
            <a:off x="2027880" y="697320"/>
            <a:ext cx="608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家庭联产承包责任制（“大包干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6"/>
          <p:cNvSpPr/>
          <p:nvPr/>
        </p:nvSpPr>
        <p:spPr>
          <a:xfrm>
            <a:off x="266760" y="620640"/>
            <a:ext cx="886572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一：“大包干，就是好，干部群众都想搞，只要搞上三五年，吃陈粮，烧陈草，个人富，集体富，国家还要盖仓库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二：改革后一年，小岗村第一次向国家交了公粮，还了贷款，人均收入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增加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生活有了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5845"/>
          <p:cNvSpPr/>
          <p:nvPr/>
        </p:nvSpPr>
        <p:spPr>
          <a:xfrm>
            <a:off x="539640" y="4799160"/>
            <a:ext cx="697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农业生产得到大发展，农村开始富裕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1316520" y="413532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7030a0"/>
                </a:solidFill>
                <a:latin typeface="黑体"/>
                <a:ea typeface="黑体"/>
              </a:rPr>
              <a:t>上述材料反映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41988"/>
          <p:cNvSpPr/>
          <p:nvPr/>
        </p:nvSpPr>
        <p:spPr>
          <a:xfrm>
            <a:off x="197640" y="335880"/>
            <a:ext cx="87483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材料一：“上班八点钟来，九点钟走人，十点钟时，随便往厂区大院里扔一个手榴弹也炸不死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张瑞敏•海尔集团首席执行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材料二：因为天气很热，工厂为采取降温的措施，打算买风扇、鼓风机，但是工厂没有自主权。要经过十一个政府部门的审批，要盖十一个图章，等最后的图章盖完，夏天已经过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1990"/>
          <p:cNvSpPr/>
          <p:nvPr/>
        </p:nvSpPr>
        <p:spPr>
          <a:xfrm>
            <a:off x="5432400" y="3332520"/>
            <a:ext cx="3457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番话体现了一种怎样的生产经营局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4" descr=""/>
          <p:cNvPicPr/>
          <p:nvPr/>
        </p:nvPicPr>
        <p:blipFill>
          <a:blip r:embed="rId1"/>
          <a:srcRect l="0" t="0" r="641" b="18416"/>
          <a:stretch/>
        </p:blipFill>
        <p:spPr>
          <a:xfrm>
            <a:off x="197640" y="3451320"/>
            <a:ext cx="5071320" cy="2972880"/>
          </a:xfrm>
          <a:prstGeom prst="rect">
            <a:avLst/>
          </a:prstGeom>
          <a:ln w="0">
            <a:noFill/>
          </a:ln>
        </p:spPr>
      </p:pic>
      <p:sp>
        <p:nvSpPr>
          <p:cNvPr id="206" name="矩形 1"/>
          <p:cNvSpPr/>
          <p:nvPr/>
        </p:nvSpPr>
        <p:spPr>
          <a:xfrm>
            <a:off x="5538600" y="4742640"/>
            <a:ext cx="3268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工人生产没有积极性，吃大锅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6120720" y="5811480"/>
            <a:ext cx="219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企业没自主权，政企不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6151"/>
          <p:cNvSpPr/>
          <p:nvPr/>
        </p:nvSpPr>
        <p:spPr>
          <a:xfrm>
            <a:off x="2088360" y="57996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社会主义市场经济体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1989"/>
          <p:cNvSpPr/>
          <p:nvPr/>
        </p:nvSpPr>
        <p:spPr>
          <a:xfrm>
            <a:off x="143280" y="1332360"/>
            <a:ext cx="82990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利于实现经济的协调发展和稳定高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长，对现代化建设有巨大推动作用，使中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经济实力明显增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琳琅满目的商品"/>
          <p:cNvPicPr/>
          <p:nvPr/>
        </p:nvPicPr>
        <p:blipFill>
          <a:blip r:embed="rId1"/>
          <a:stretch/>
        </p:blipFill>
        <p:spPr>
          <a:xfrm>
            <a:off x="791280" y="2972880"/>
            <a:ext cx="4220640" cy="286992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4"/>
          <p:cNvSpPr/>
          <p:nvPr/>
        </p:nvSpPr>
        <p:spPr>
          <a:xfrm>
            <a:off x="5141880" y="3244320"/>
            <a:ext cx="2960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超市中琳琅满目 的商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32"/>
          <p:cNvGrpSpPr/>
          <p:nvPr/>
        </p:nvGrpSpPr>
        <p:grpSpPr>
          <a:xfrm>
            <a:off x="2352240" y="2239560"/>
            <a:ext cx="4390560" cy="677160"/>
            <a:chOff x="2352240" y="2239560"/>
            <a:chExt cx="4390560" cy="677160"/>
          </a:xfrm>
        </p:grpSpPr>
        <p:sp>
          <p:nvSpPr>
            <p:cNvPr id="213" name="任意多边形 10"/>
            <p:cNvSpPr/>
            <p:nvPr/>
          </p:nvSpPr>
          <p:spPr>
            <a:xfrm>
              <a:off x="2352240" y="2239560"/>
              <a:ext cx="1281960" cy="663120"/>
            </a:xfrm>
            <a:custGeom>
              <a:avLst/>
              <a:gdLst>
                <a:gd name="textAreaLeft" fmla="*/ 0 w 1281960"/>
                <a:gd name="textAreaRight" fmla="*/ 1282320 w 12819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2153021" h="1181100">
                  <a:moveTo>
                    <a:pt x="590550" y="0"/>
                  </a:moveTo>
                  <a:lnTo>
                    <a:pt x="2153021" y="0"/>
                  </a:lnTo>
                  <a:lnTo>
                    <a:pt x="2153021" y="1181100"/>
                  </a:lnTo>
                  <a:lnTo>
                    <a:pt x="590550" y="1181100"/>
                  </a:lnTo>
                  <a:cubicBezTo>
                    <a:pt x="264398" y="1181100"/>
                    <a:pt x="0" y="916702"/>
                    <a:pt x="0" y="590550"/>
                  </a:cubicBezTo>
                  <a:cubicBezTo>
                    <a:pt x="0" y="264398"/>
                    <a:pt x="264398" y="0"/>
                    <a:pt x="590550" y="0"/>
                  </a:cubicBezTo>
                  <a:close/>
                </a:path>
              </a:pathLst>
            </a:custGeom>
            <a:solidFill>
              <a:srgbClr val="01c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1950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7"/>
            <p:cNvSpPr/>
            <p:nvPr/>
          </p:nvSpPr>
          <p:spPr>
            <a:xfrm>
              <a:off x="3634560" y="2253600"/>
              <a:ext cx="3108240" cy="663120"/>
            </a:xfrm>
            <a:custGeom>
              <a:avLst/>
              <a:gdLst>
                <a:gd name="textAreaLeft" fmla="*/ 0 w 3108240"/>
                <a:gd name="textAreaRight" fmla="*/ 3108600 w 310824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5219700" h="1181100">
                  <a:moveTo>
                    <a:pt x="0" y="0"/>
                  </a:moveTo>
                  <a:lnTo>
                    <a:pt x="4629150" y="0"/>
                  </a:lnTo>
                  <a:cubicBezTo>
                    <a:pt x="4955302" y="0"/>
                    <a:pt x="5219700" y="264398"/>
                    <a:pt x="5219700" y="590550"/>
                  </a:cubicBezTo>
                  <a:cubicBezTo>
                    <a:pt x="5219700" y="916702"/>
                    <a:pt x="4955302" y="1181100"/>
                    <a:pt x="4629150" y="1181100"/>
                  </a:cubicBezTo>
                  <a:lnTo>
                    <a:pt x="0" y="1181100"/>
                  </a:lnTo>
                  <a:lnTo>
                    <a:pt x="0" y="1110548"/>
                  </a:lnTo>
                  <a:lnTo>
                    <a:pt x="4622708" y="1110549"/>
                  </a:lnTo>
                  <a:cubicBezTo>
                    <a:pt x="4909895" y="1110549"/>
                    <a:pt x="5142706" y="877738"/>
                    <a:pt x="5142706" y="590551"/>
                  </a:cubicBezTo>
                  <a:lnTo>
                    <a:pt x="5142707" y="590551"/>
                  </a:lnTo>
                  <a:cubicBezTo>
                    <a:pt x="5142707" y="303364"/>
                    <a:pt x="4909896" y="70553"/>
                    <a:pt x="4622709" y="70553"/>
                  </a:cubicBezTo>
                  <a:lnTo>
                    <a:pt x="0" y="70553"/>
                  </a:lnTo>
                  <a:close/>
                </a:path>
              </a:pathLst>
            </a:custGeom>
            <a:solidFill>
              <a:srgbClr val="01c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0" tIns="45000" bIns="45000" anchor="ctr">
              <a:noAutofit/>
            </a:bodyPr>
            <a:p>
              <a:pPr algn="just"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土地改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3"/>
          <p:cNvGrpSpPr/>
          <p:nvPr/>
        </p:nvGrpSpPr>
        <p:grpSpPr>
          <a:xfrm>
            <a:off x="2409840" y="3342240"/>
            <a:ext cx="4348800" cy="663120"/>
            <a:chOff x="2409840" y="3342240"/>
            <a:chExt cx="4348800" cy="663120"/>
          </a:xfrm>
        </p:grpSpPr>
        <p:sp>
          <p:nvSpPr>
            <p:cNvPr id="216" name="任意多边形 15"/>
            <p:cNvSpPr/>
            <p:nvPr/>
          </p:nvSpPr>
          <p:spPr>
            <a:xfrm flipH="1">
              <a:off x="5330160" y="3342240"/>
              <a:ext cx="1428120" cy="663120"/>
            </a:xfrm>
            <a:custGeom>
              <a:avLst/>
              <a:gdLst>
                <a:gd name="textAreaLeft" fmla="*/ -360 w 1428120"/>
                <a:gd name="textAreaRight" fmla="*/ 1428120 w 142812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2153021" h="1181100">
                  <a:moveTo>
                    <a:pt x="590550" y="0"/>
                  </a:moveTo>
                  <a:lnTo>
                    <a:pt x="2153021" y="0"/>
                  </a:lnTo>
                  <a:lnTo>
                    <a:pt x="2153021" y="1181100"/>
                  </a:lnTo>
                  <a:lnTo>
                    <a:pt x="590550" y="1181100"/>
                  </a:lnTo>
                  <a:cubicBezTo>
                    <a:pt x="264398" y="1181100"/>
                    <a:pt x="0" y="916702"/>
                    <a:pt x="0" y="590550"/>
                  </a:cubicBezTo>
                  <a:cubicBezTo>
                    <a:pt x="0" y="264398"/>
                    <a:pt x="264398" y="0"/>
                    <a:pt x="590550" y="0"/>
                  </a:cubicBezTo>
                  <a:close/>
                </a:path>
              </a:pathLst>
            </a:custGeom>
            <a:solidFill>
              <a:srgbClr val="77c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1953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6"/>
            <p:cNvSpPr/>
            <p:nvPr/>
          </p:nvSpPr>
          <p:spPr>
            <a:xfrm flipH="1">
              <a:off x="2409840" y="3342240"/>
              <a:ext cx="2929680" cy="663120"/>
            </a:xfrm>
            <a:custGeom>
              <a:avLst/>
              <a:gdLst>
                <a:gd name="textAreaLeft" fmla="*/ 360 w 2929680"/>
                <a:gd name="textAreaRight" fmla="*/ 2930400 w 292968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5219700" h="1181100">
                  <a:moveTo>
                    <a:pt x="0" y="0"/>
                  </a:moveTo>
                  <a:lnTo>
                    <a:pt x="4629150" y="0"/>
                  </a:lnTo>
                  <a:cubicBezTo>
                    <a:pt x="4955302" y="0"/>
                    <a:pt x="5219700" y="264398"/>
                    <a:pt x="5219700" y="590550"/>
                  </a:cubicBezTo>
                  <a:cubicBezTo>
                    <a:pt x="5219700" y="916702"/>
                    <a:pt x="4955302" y="1181100"/>
                    <a:pt x="4629150" y="1181100"/>
                  </a:cubicBezTo>
                  <a:lnTo>
                    <a:pt x="0" y="1181100"/>
                  </a:lnTo>
                  <a:lnTo>
                    <a:pt x="0" y="1110548"/>
                  </a:lnTo>
                  <a:lnTo>
                    <a:pt x="4622708" y="1110549"/>
                  </a:lnTo>
                  <a:cubicBezTo>
                    <a:pt x="4909895" y="1110549"/>
                    <a:pt x="5142706" y="877738"/>
                    <a:pt x="5142706" y="590551"/>
                  </a:cubicBezTo>
                  <a:lnTo>
                    <a:pt x="5142707" y="590551"/>
                  </a:lnTo>
                  <a:cubicBezTo>
                    <a:pt x="5142707" y="303364"/>
                    <a:pt x="4909896" y="70553"/>
                    <a:pt x="4622709" y="70553"/>
                  </a:cubicBezTo>
                  <a:lnTo>
                    <a:pt x="0" y="70553"/>
                  </a:lnTo>
                  <a:close/>
                </a:path>
              </a:pathLst>
            </a:custGeom>
            <a:solidFill>
              <a:srgbClr val="77c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5000" bIns="45000" anchor="ctr">
              <a:noAutofit/>
            </a:bodyPr>
            <a:p>
              <a:pPr algn="just"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农业生产合作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34"/>
          <p:cNvGrpSpPr/>
          <p:nvPr/>
        </p:nvGrpSpPr>
        <p:grpSpPr>
          <a:xfrm>
            <a:off x="2400840" y="4452120"/>
            <a:ext cx="4341960" cy="680040"/>
            <a:chOff x="2400840" y="4452120"/>
            <a:chExt cx="4341960" cy="680040"/>
          </a:xfrm>
        </p:grpSpPr>
        <p:sp>
          <p:nvSpPr>
            <p:cNvPr id="219" name="任意多边形 18"/>
            <p:cNvSpPr/>
            <p:nvPr/>
          </p:nvSpPr>
          <p:spPr>
            <a:xfrm>
              <a:off x="2400840" y="4452120"/>
              <a:ext cx="1281600" cy="663120"/>
            </a:xfrm>
            <a:custGeom>
              <a:avLst/>
              <a:gdLst>
                <a:gd name="textAreaLeft" fmla="*/ 0 w 1281600"/>
                <a:gd name="textAreaRight" fmla="*/ 1281960 w 128160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2153021" h="1181100">
                  <a:moveTo>
                    <a:pt x="590550" y="0"/>
                  </a:moveTo>
                  <a:lnTo>
                    <a:pt x="2153021" y="0"/>
                  </a:lnTo>
                  <a:lnTo>
                    <a:pt x="2153021" y="1181100"/>
                  </a:lnTo>
                  <a:lnTo>
                    <a:pt x="590550" y="1181100"/>
                  </a:lnTo>
                  <a:cubicBezTo>
                    <a:pt x="264398" y="1181100"/>
                    <a:pt x="0" y="916702"/>
                    <a:pt x="0" y="590550"/>
                  </a:cubicBezTo>
                  <a:cubicBezTo>
                    <a:pt x="0" y="264398"/>
                    <a:pt x="264398" y="0"/>
                    <a:pt x="590550" y="0"/>
                  </a:cubicBezTo>
                  <a:close/>
                </a:path>
              </a:pathLst>
            </a:custGeom>
            <a:solidFill>
              <a:srgbClr val="28c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1958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9"/>
            <p:cNvSpPr/>
            <p:nvPr/>
          </p:nvSpPr>
          <p:spPr>
            <a:xfrm>
              <a:off x="3634560" y="4469040"/>
              <a:ext cx="3108240" cy="663120"/>
            </a:xfrm>
            <a:custGeom>
              <a:avLst/>
              <a:gdLst>
                <a:gd name="textAreaLeft" fmla="*/ 0 w 3108240"/>
                <a:gd name="textAreaRight" fmla="*/ 3108600 w 310824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5219700" h="1181100">
                  <a:moveTo>
                    <a:pt x="0" y="0"/>
                  </a:moveTo>
                  <a:lnTo>
                    <a:pt x="4629150" y="0"/>
                  </a:lnTo>
                  <a:cubicBezTo>
                    <a:pt x="4955302" y="0"/>
                    <a:pt x="5219700" y="264398"/>
                    <a:pt x="5219700" y="590550"/>
                  </a:cubicBezTo>
                  <a:cubicBezTo>
                    <a:pt x="5219700" y="916702"/>
                    <a:pt x="4955302" y="1181100"/>
                    <a:pt x="4629150" y="1181100"/>
                  </a:cubicBezTo>
                  <a:lnTo>
                    <a:pt x="0" y="1181100"/>
                  </a:lnTo>
                  <a:lnTo>
                    <a:pt x="0" y="1110548"/>
                  </a:lnTo>
                  <a:lnTo>
                    <a:pt x="4622708" y="1110549"/>
                  </a:lnTo>
                  <a:cubicBezTo>
                    <a:pt x="4909895" y="1110549"/>
                    <a:pt x="5142706" y="877738"/>
                    <a:pt x="5142706" y="590551"/>
                  </a:cubicBezTo>
                  <a:lnTo>
                    <a:pt x="5142707" y="590551"/>
                  </a:lnTo>
                  <a:cubicBezTo>
                    <a:pt x="5142707" y="303364"/>
                    <a:pt x="4909896" y="70553"/>
                    <a:pt x="4622709" y="70553"/>
                  </a:cubicBezTo>
                  <a:lnTo>
                    <a:pt x="0" y="70553"/>
                  </a:lnTo>
                  <a:close/>
                </a:path>
              </a:pathLst>
            </a:custGeom>
            <a:solidFill>
              <a:srgbClr val="28c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0" tIns="45000" bIns="45000" anchor="ctr">
              <a:noAutofit/>
            </a:bodyPr>
            <a:p>
              <a:pPr algn="just"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民公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5"/>
          <p:cNvGrpSpPr/>
          <p:nvPr/>
        </p:nvGrpSpPr>
        <p:grpSpPr>
          <a:xfrm>
            <a:off x="2098800" y="5609160"/>
            <a:ext cx="5041440" cy="661680"/>
            <a:chOff x="2098800" y="5609160"/>
            <a:chExt cx="5041440" cy="661680"/>
          </a:xfrm>
        </p:grpSpPr>
        <p:sp>
          <p:nvSpPr>
            <p:cNvPr id="222" name="任意多边形 21"/>
            <p:cNvSpPr/>
            <p:nvPr/>
          </p:nvSpPr>
          <p:spPr>
            <a:xfrm flipH="1">
              <a:off x="5664960" y="5609160"/>
              <a:ext cx="1474920" cy="661680"/>
            </a:xfrm>
            <a:custGeom>
              <a:avLst/>
              <a:gdLst>
                <a:gd name="textAreaLeft" fmla="*/ -360 w 1474920"/>
                <a:gd name="textAreaRight" fmla="*/ 1474920 w 147492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2153021" h="1181100">
                  <a:moveTo>
                    <a:pt x="590550" y="0"/>
                  </a:moveTo>
                  <a:lnTo>
                    <a:pt x="2153021" y="0"/>
                  </a:lnTo>
                  <a:lnTo>
                    <a:pt x="2153021" y="1181100"/>
                  </a:lnTo>
                  <a:lnTo>
                    <a:pt x="590550" y="1181100"/>
                  </a:lnTo>
                  <a:cubicBezTo>
                    <a:pt x="264398" y="1181100"/>
                    <a:pt x="0" y="916702"/>
                    <a:pt x="0" y="590550"/>
                  </a:cubicBezTo>
                  <a:cubicBezTo>
                    <a:pt x="0" y="264398"/>
                    <a:pt x="264398" y="0"/>
                    <a:pt x="590550" y="0"/>
                  </a:cubicBezTo>
                  <a:close/>
                </a:path>
              </a:pathLst>
            </a:custGeom>
            <a:solidFill>
              <a:srgbClr val="01c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1978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2"/>
            <p:cNvSpPr/>
            <p:nvPr/>
          </p:nvSpPr>
          <p:spPr>
            <a:xfrm flipH="1">
              <a:off x="2098440" y="5609160"/>
              <a:ext cx="3576600" cy="661680"/>
            </a:xfrm>
            <a:custGeom>
              <a:avLst/>
              <a:gdLst>
                <a:gd name="textAreaLeft" fmla="*/ -360 w 3576600"/>
                <a:gd name="textAreaRight" fmla="*/ 3576600 w 357660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5219700" h="1181100">
                  <a:moveTo>
                    <a:pt x="0" y="0"/>
                  </a:moveTo>
                  <a:lnTo>
                    <a:pt x="4629150" y="0"/>
                  </a:lnTo>
                  <a:cubicBezTo>
                    <a:pt x="4955302" y="0"/>
                    <a:pt x="5219700" y="264398"/>
                    <a:pt x="5219700" y="590550"/>
                  </a:cubicBezTo>
                  <a:cubicBezTo>
                    <a:pt x="5219700" y="916702"/>
                    <a:pt x="4955302" y="1181100"/>
                    <a:pt x="4629150" y="1181100"/>
                  </a:cubicBezTo>
                  <a:lnTo>
                    <a:pt x="0" y="1181100"/>
                  </a:lnTo>
                  <a:lnTo>
                    <a:pt x="0" y="1110548"/>
                  </a:lnTo>
                  <a:lnTo>
                    <a:pt x="4622708" y="1110549"/>
                  </a:lnTo>
                  <a:cubicBezTo>
                    <a:pt x="4909895" y="1110549"/>
                    <a:pt x="5142706" y="877738"/>
                    <a:pt x="5142706" y="590551"/>
                  </a:cubicBezTo>
                  <a:lnTo>
                    <a:pt x="5142707" y="590551"/>
                  </a:lnTo>
                  <a:cubicBezTo>
                    <a:pt x="5142707" y="303364"/>
                    <a:pt x="4909896" y="70553"/>
                    <a:pt x="4622709" y="70553"/>
                  </a:cubicBezTo>
                  <a:lnTo>
                    <a:pt x="0" y="70553"/>
                  </a:lnTo>
                  <a:close/>
                </a:path>
              </a:pathLst>
            </a:custGeom>
            <a:solidFill>
              <a:srgbClr val="01c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5000" bIns="45000" anchor="ctr">
              <a:noAutofit/>
            </a:bodyPr>
            <a:p>
              <a:pPr algn="just"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家庭联产承包责任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"/>
          <p:cNvSpPr/>
          <p:nvPr/>
        </p:nvSpPr>
        <p:spPr>
          <a:xfrm>
            <a:off x="825480" y="933480"/>
            <a:ext cx="831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中国成立以来，我国农村经历了哪几次生产关系的变革或调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5"/>
          <p:cNvSpPr/>
          <p:nvPr/>
        </p:nvSpPr>
        <p:spPr>
          <a:xfrm>
            <a:off x="250560" y="232560"/>
            <a:ext cx="225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探究未知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4103"/>
          <p:cNvSpPr/>
          <p:nvPr/>
        </p:nvSpPr>
        <p:spPr>
          <a:xfrm>
            <a:off x="3649680" y="209160"/>
            <a:ext cx="32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"/>
          <p:cNvSpPr/>
          <p:nvPr/>
        </p:nvSpPr>
        <p:spPr>
          <a:xfrm>
            <a:off x="1849680" y="1993680"/>
            <a:ext cx="37206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30000"/>
              </a:lnSpc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家庭联产承包责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9"/>
          <p:cNvSpPr/>
          <p:nvPr/>
        </p:nvSpPr>
        <p:spPr>
          <a:xfrm>
            <a:off x="1991520" y="4630320"/>
            <a:ext cx="25617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30000"/>
              </a:lnSpc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建立社会主义市场经济体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9"/>
          <p:cNvSpPr/>
          <p:nvPr/>
        </p:nvSpPr>
        <p:spPr>
          <a:xfrm>
            <a:off x="1991520" y="3172680"/>
            <a:ext cx="27712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30000"/>
              </a:lnSpc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改革全面展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2118600" y="916920"/>
            <a:ext cx="5501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经济体制改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箭头: 右 6"/>
          <p:cNvSpPr/>
          <p:nvPr/>
        </p:nvSpPr>
        <p:spPr>
          <a:xfrm>
            <a:off x="5218200" y="2381760"/>
            <a:ext cx="974880" cy="4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箭头: 右 8"/>
          <p:cNvSpPr/>
          <p:nvPr/>
        </p:nvSpPr>
        <p:spPr>
          <a:xfrm>
            <a:off x="4254840" y="3563280"/>
            <a:ext cx="1779840" cy="4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箭头: 右 9"/>
          <p:cNvSpPr/>
          <p:nvPr/>
        </p:nvSpPr>
        <p:spPr>
          <a:xfrm>
            <a:off x="4376880" y="4950000"/>
            <a:ext cx="1816200" cy="134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矩形 10"/>
          <p:cNvSpPr/>
          <p:nvPr/>
        </p:nvSpPr>
        <p:spPr>
          <a:xfrm>
            <a:off x="6477840" y="1942920"/>
            <a:ext cx="1006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农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1"/>
          <p:cNvSpPr/>
          <p:nvPr/>
        </p:nvSpPr>
        <p:spPr>
          <a:xfrm>
            <a:off x="6328440" y="3025800"/>
            <a:ext cx="1006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城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231240" y="4186800"/>
            <a:ext cx="1842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992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年，中共十四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"/>
          <p:cNvSpPr/>
          <p:nvPr/>
        </p:nvSpPr>
        <p:spPr>
          <a:xfrm>
            <a:off x="414360" y="599040"/>
            <a:ext cx="854640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“2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世纪的最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年，中国进行了一场卓有成效的社会变革，解放了思想的中国人焕发出蓬勃的创造力，书写了一个时代最为传奇的一页”。“传奇”首先是从哪里开始的（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机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企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农村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城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邓小平说：“农村改革有两个省带头，一个是四川省，那是我的家乡；一个是安徽省……。我们就是根据这两个省积累的经验，制定了关于改革的方针政策。材料中所说的农村改革是属于（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思想改革  　　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经济改革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政治改革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对外开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、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20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世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年代某村将集体土地按人口分配到户，农户自主经营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自负盈亏，土地不能买卖、出租，经营所得“交足国家的，留够集体的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剩下都是自己的”。这种土地经营形式属于（　 　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互助组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农业合作社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家庭联产承包责任制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人民公杜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5498640" y="1731240"/>
            <a:ext cx="75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"/>
          <p:cNvSpPr/>
          <p:nvPr/>
        </p:nvSpPr>
        <p:spPr>
          <a:xfrm>
            <a:off x="7425000" y="3194280"/>
            <a:ext cx="621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"/>
          <p:cNvSpPr/>
          <p:nvPr/>
        </p:nvSpPr>
        <p:spPr>
          <a:xfrm>
            <a:off x="6888600" y="4910760"/>
            <a:ext cx="731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134280" y="491040"/>
            <a:ext cx="838764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52280" indent="-152280">
              <a:lnSpc>
                <a:spcPct val="150000"/>
              </a:lnSpc>
              <a:spcAft>
                <a:spcPts val="751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197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底，包产到户、包干到户还只是在个别地方尝试，比重仅占全国总农户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底，比重已增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上。包产到户、包干到户迅速发展是由于它（　 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农民自己的发明创造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农民获得土地所有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农民收入得到平均分配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适应了农民的生产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这是一次肩负重大历史使命，承前启后、继往开来的大会。它明确提出，把建立社会主义市场经济体制作为经济体制改革的目标。这次大会是（ 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共十一届三中全会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共十二大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共十三大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共十四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84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日，福建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位厂长经理在《福建日报》上发出：“请给我们松绑 ”呼吁后，《人民日报》转载了这封呼吁信，将“松绑”风吹向全国。这里的“松绑”主要是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    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允许企业实行公私合营     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推行公司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扩大企业的经营自主权    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废除国有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"/>
          <p:cNvSpPr/>
          <p:nvPr/>
        </p:nvSpPr>
        <p:spPr>
          <a:xfrm>
            <a:off x="2840760" y="1523880"/>
            <a:ext cx="131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"/>
          <p:cNvSpPr/>
          <p:nvPr/>
        </p:nvSpPr>
        <p:spPr>
          <a:xfrm>
            <a:off x="621720" y="3684600"/>
            <a:ext cx="1865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"/>
          <p:cNvSpPr/>
          <p:nvPr/>
        </p:nvSpPr>
        <p:spPr>
          <a:xfrm>
            <a:off x="3742920" y="4818240"/>
            <a:ext cx="82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3"/>
          <p:cNvSpPr/>
          <p:nvPr/>
        </p:nvSpPr>
        <p:spPr>
          <a:xfrm>
            <a:off x="304920" y="666000"/>
            <a:ext cx="87951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阅读下列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材料一 “男劳力上工带扑克，女劳力上工带纳鞋，头遍哨子不买账，二遍哨子伸头望，三遍哨子慢慢晃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人民公社时期流行于农村的顺口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材料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图一                                图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90240" y="2273400"/>
            <a:ext cx="2962800" cy="2187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3633840" y="2234520"/>
            <a:ext cx="3778200" cy="2305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2"/>
          <p:cNvSpPr/>
          <p:nvPr/>
        </p:nvSpPr>
        <p:spPr>
          <a:xfrm>
            <a:off x="390240" y="5223240"/>
            <a:ext cx="7558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（注：图一是位于安徽凤阳小岗村的大包干纪念馆；图二是小岗生产队农民签订的保证书，被誉为“中国第一份农村改革宣言书”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3"/>
          <p:cNvSpPr/>
          <p:nvPr/>
        </p:nvSpPr>
        <p:spPr>
          <a:xfrm>
            <a:off x="348480" y="670680"/>
            <a:ext cx="87951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结合所学知识，指出材料一反映了农村改革前我国农村生产存在着怎样的状况。主要原因是什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结合材料二和所学知识说说“大包干纪念馆”为什么建在安徽凤阳小岗村。小岗生产队的“大包干”政策后来发展为哪一政策？这一政策在全国推行后带来了怎样的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503280" y="1464480"/>
            <a:ext cx="8485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生产积极性不高。②农村改革前，农村人民公社实行政社合一，在计划经济下，统一经营，集中劳动，统一分配，吃大锅饭，挫伤了农民的生产积极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348480" y="3870360"/>
            <a:ext cx="8447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原因：安徽凤阳小岗村农民首先实行分田包产到户，自负盈亏，揭开了中国农村改革的序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政策：家庭联产承包责任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影响：调动了农民的生产积极性，促进了农村经济的大发展，农村开始富裕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311040" y="1506600"/>
            <a:ext cx="84790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家庭联产承包责任制的具体内容，以及实行这种制度所取得重要成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国家对城市进行改革的办法和改革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市场经济体制，以及提出这个观点的时间和会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重难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707040" y="2663640"/>
            <a:ext cx="7979400" cy="19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重点：家庭联产承包责任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微软雅黑"/>
              </a:rPr>
              <a:t>难点：经济体制改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2"/>
          <p:cNvSpPr/>
          <p:nvPr/>
        </p:nvSpPr>
        <p:spPr>
          <a:xfrm>
            <a:off x="219600" y="213840"/>
            <a:ext cx="2572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情景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55080" y="798480"/>
            <a:ext cx="9033840" cy="51440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7"/>
          <p:cNvSpPr/>
          <p:nvPr/>
        </p:nvSpPr>
        <p:spPr>
          <a:xfrm>
            <a:off x="1694520" y="6121080"/>
            <a:ext cx="575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通过本学课的学习将一一为你解答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"/>
          <p:cNvSpPr/>
          <p:nvPr/>
        </p:nvSpPr>
        <p:spPr>
          <a:xfrm>
            <a:off x="207360" y="206640"/>
            <a:ext cx="2352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自主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658440" y="1134000"/>
            <a:ext cx="8192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联产承包责任制的时间、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家庭联产承包责任制的方式、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城市经济体制改革的开始的标志、背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城市经济体制改革的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城市经济体制改革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社会主义市场经济体制的提出、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"/>
          <p:cNvSpPr/>
          <p:nvPr/>
        </p:nvSpPr>
        <p:spPr>
          <a:xfrm>
            <a:off x="646200" y="707040"/>
            <a:ext cx="78512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联产承包责任制的目的、典型代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家庭联产承包责任制的方式、意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城市经济体制改革的开始的标志、背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1225440" y="1081800"/>
            <a:ext cx="6955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目的：调动农民的生产积极性，促进农村经济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黑体"/>
              </a:rPr>
              <a:t>代表：安徽凤阳小岗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868680" y="2241720"/>
            <a:ext cx="7668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方式：分田包产到户，自负盈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意义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激发了农民的劳动热情，带来农村生产力的大解放，农业生产和农民收入均有很大提高。随着农业向专业化、商品化、社会化发展，农村乡镇企业也迅速发展起来，为农民致富和实现现代化开辟了一条新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737640" y="4452480"/>
            <a:ext cx="766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8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，中共十二届三中全会通过了《中共中央关于经济体制改革的决定》，要求加快以城市为重点的经济体制改革的步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背景：“改革在农村取得成功，为继续深化改革打下了基础，改革的浪潮从农村涌向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311400" y="129960"/>
            <a:ext cx="294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自主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109800" y="630000"/>
            <a:ext cx="903384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城市经济体制改革的内容、中心环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城市经济体制改革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社会主义市场经济体制的提出、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329040" y="1344960"/>
            <a:ext cx="8814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把原来单一的公有制经济，发展为以公有制为主体的多种所有制经济②对国有企业实行政企分开，逐步扩大企业的生产经营自主权，实行经营责任制③实行以按劳分配为主、多种分配方式并存的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心环节：增强企业活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694800" y="3429000"/>
            <a:ext cx="7546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大大调动了企业、职工的积极性，增强了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业的活力。我国城乡出现了经济大发展的崭新局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0240" y="4851360"/>
            <a:ext cx="85582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提出：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，中共十四大，明确建立社会主义市场经济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黑体"/>
              </a:rPr>
              <a:t>意义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利于实现经济的协调发展和稳定高速增长，对现代化建设有巨大推动作用，使中国 的经济实力明显增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1"/>
          <p:cNvSpPr/>
          <p:nvPr/>
        </p:nvSpPr>
        <p:spPr>
          <a:xfrm>
            <a:off x="396720" y="5259240"/>
            <a:ext cx="86101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ff0066"/>
              </a:solidFill>
              <a:latin typeface="Tahoma"/>
              <a:ea typeface="宋体"/>
            </a:endParaRPr>
          </a:p>
        </p:txBody>
      </p:sp>
      <p:sp>
        <p:nvSpPr>
          <p:cNvPr id="190" name="矩形 33795"/>
          <p:cNvSpPr/>
          <p:nvPr/>
        </p:nvSpPr>
        <p:spPr>
          <a:xfrm>
            <a:off x="324000" y="844200"/>
            <a:ext cx="873252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材料一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7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安徽的凤阳县梨园公社小岗生产队，村民一起劳动，一起分享劳动成果，却出现“上工人喊人，下地人等人，干活人看人，收工人撵人”的劳动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3796"/>
          <p:cNvSpPr/>
          <p:nvPr/>
        </p:nvSpPr>
        <p:spPr>
          <a:xfrm>
            <a:off x="121320" y="2483280"/>
            <a:ext cx="89006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材料二：“一些农民过年连一顿饺子都吃不上。”“农民碗里盛的是地瓜面和红萝卜樱子混煮面，霉烂的地瓜面散发着刺鼻的气味。”“全家几口人只有一条裤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3797"/>
          <p:cNvSpPr/>
          <p:nvPr/>
        </p:nvSpPr>
        <p:spPr>
          <a:xfrm>
            <a:off x="1920960" y="4060800"/>
            <a:ext cx="5301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以上材料反映了当时农村的什么现象？（改革的原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3798"/>
          <p:cNvSpPr/>
          <p:nvPr/>
        </p:nvSpPr>
        <p:spPr>
          <a:xfrm>
            <a:off x="82440" y="4921560"/>
            <a:ext cx="8870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集中劳动，统一分配，吃大锅饭，农民生产积极性不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"/>
          <p:cNvSpPr/>
          <p:nvPr/>
        </p:nvSpPr>
        <p:spPr>
          <a:xfrm>
            <a:off x="324000" y="108360"/>
            <a:ext cx="2425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探究未知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6151"/>
          <p:cNvSpPr/>
          <p:nvPr/>
        </p:nvSpPr>
        <p:spPr>
          <a:xfrm>
            <a:off x="3159360" y="43236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联产承包责任制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0" y="1777320"/>
            <a:ext cx="88088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开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安徽凤阳小岗村农民实行分田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到户，自负盈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发展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基本在全国农村普遍实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  <Words>1377</Words>
  <Paragraphs>1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1T03:18:11Z</dcterms:created>
  <dc:creator>zxxk</dc:creator>
  <dc:description/>
  <dc:language>en-US</dc:language>
  <cp:lastModifiedBy>李夕</cp:lastModifiedBy>
  <dcterms:modified xsi:type="dcterms:W3CDTF">2018-03-26T08:58:27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