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8.jpeg" ContentType="image/jpeg"/>
  <Override PartName="/ppt/media/image11.png" ContentType="image/png"/>
  <Override PartName="/ppt/media/camera.wav" ContentType="audio/x-wav"/>
  <Override PartName="/ppt/media/image18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E19-ED5C-4441-B3B2-6A949903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CA2-CDF1-4B05-A79F-0A879460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607-3943-40D1-B08A-D3216442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6B2-B69A-4A3B-BB6D-CF0C8FCE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5C12-5CC4-4F51-9A77-9FFAEA10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EC62-B4E2-493C-AD61-36AC840E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68B8-E277-4383-84C8-D733D75C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24ED-AC77-4AAC-8183-EEFAF0A7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CB78-5ACE-4E33-B7CB-A792DA0D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2142-F2BA-40CB-B829-06ADD741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0874-FDCE-4621-9DDD-CCA956DB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A22-A3A0-4A29-BC38-8AE35633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4081-8440-40DB-A02C-D7328A17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2FC0-E729-439B-90DC-3233472D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8C5A-6A55-4C15-9413-58662BE6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131E-BD86-45AF-9244-ACB80B6B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A890-719F-4850-B745-9FC03DC7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753-CC52-4C49-BB4D-BADD1158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8A3-D351-45FC-B74C-A800E6E1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B5D-2299-433E-A502-EB8B0F29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8DD-F781-4AC6-851A-A09182FF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60E-4142-4B7B-96A7-7652EF29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893-A227-4329-90A0-093895D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4AA-C097-4534-8227-E0A1DEF9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3CD1-CCFB-4535-90B0-634880F83B1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C184-1C91-408D-A460-43A86B0660B5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50920" y="1773360"/>
            <a:ext cx="122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162864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60912"/>
                </a:solidFill>
                <a:latin typeface="华文行楷"/>
                <a:ea typeface="华文行楷"/>
              </a:rPr>
              <a:t> </a:t>
            </a:r>
            <a:r>
              <a:rPr b="1" lang="zh-CN" sz="6600" spc="-1" strike="noStrike">
                <a:solidFill>
                  <a:srgbClr val="060912"/>
                </a:solidFill>
                <a:latin typeface="华文行楷"/>
                <a:ea typeface="华文行楷"/>
              </a:rPr>
              <a:t>第</a:t>
            </a:r>
            <a:r>
              <a:rPr b="1" lang="zh-CN" sz="6600" spc="-1" strike="noStrike">
                <a:solidFill>
                  <a:srgbClr val="060912"/>
                </a:solidFill>
                <a:latin typeface="华文行楷"/>
                <a:ea typeface="华文行楷"/>
              </a:rPr>
              <a:t>5</a:t>
            </a:r>
            <a:r>
              <a:rPr b="1" lang="zh-CN" sz="6600" spc="-1" strike="noStrike">
                <a:solidFill>
                  <a:srgbClr val="060912"/>
                </a:solidFill>
                <a:latin typeface="华文行楷"/>
                <a:ea typeface="华文行楷"/>
              </a:rPr>
              <a:t>课  </a:t>
            </a:r>
            <a:r>
              <a:rPr b="1" lang="zh-CN" sz="6600" spc="-1" strike="noStrike">
                <a:solidFill>
                  <a:srgbClr val="060912"/>
                </a:solidFill>
                <a:latin typeface="宋体"/>
              </a:rPr>
              <a:t>三大改造</a:t>
            </a:r>
            <a:endParaRPr b="0" lang="en-US" sz="6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3529080" cy="266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309280" y="1989000"/>
            <a:ext cx="29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北京人民庆祝公私合营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21251" t="4164" r="23749" b="11636"/>
          <a:stretch/>
        </p:blipFill>
        <p:spPr>
          <a:xfrm>
            <a:off x="1042920" y="3860640"/>
            <a:ext cx="3527640" cy="2779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5510520" y="53532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天津盛锡福帽厂实行公私合营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med">
    <p:pull dir="rd"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2498" t="2087" r="3751" b="2087"/>
          <a:stretch/>
        </p:blipFill>
        <p:spPr>
          <a:xfrm>
            <a:off x="250920" y="115920"/>
            <a:ext cx="5113080" cy="288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5614920" y="1125360"/>
            <a:ext cx="30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上海部分工商业行业的社会主义改造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21641" t="6684" r="32373" b="6684"/>
          <a:stretch/>
        </p:blipFill>
        <p:spPr>
          <a:xfrm>
            <a:off x="250920" y="3357720"/>
            <a:ext cx="5486400" cy="3208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5940360" y="4292640"/>
            <a:ext cx="30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天津市青年资本家宣誓积极接受社会主义改造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med">
    <p:pull dir="rd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500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1295280" y="54864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工商界代表</a:t>
            </a:r>
            <a:r>
              <a:rPr b="1" lang="zh-CN" sz="3600" spc="-1" strike="noStrike">
                <a:solidFill>
                  <a:srgbClr val="060912"/>
                </a:solidFill>
                <a:latin typeface="华文新魏"/>
                <a:ea typeface="华文新魏"/>
              </a:rPr>
              <a:t>乐松生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毛泽东送喜报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05120" y="99072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黑体"/>
              </a:rPr>
              <a:t>同仁堂的公私合营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3124080" cy="3505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38080" y="58672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同仁堂的商标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同仁堂的新貌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373392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052640"/>
            <a:ext cx="868680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?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三大改造完成的时间是什么时候？有什么历史意义？三大改造存在什么缺点？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3429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历史意义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2a3d7a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三大改造的完成， 实现了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生产资料私有制转变为社会主义公有制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的任务。 我国初步建立起了社会主义的基本制度， 从此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进入社会主义初级阶段。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5877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存在的缺点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: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要求过急，工作过粗，改变过快等。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360" y="0"/>
            <a:ext cx="4176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宋体"/>
              </a:rPr>
              <a:t>四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宋体"/>
              </a:rPr>
              <a:t>: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宋体"/>
              </a:rPr>
              <a:t>三大改造的完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  <p:sp>
        <p:nvSpPr>
          <p:cNvPr id="154" name=""/>
          <p:cNvSpPr/>
          <p:nvPr/>
        </p:nvSpPr>
        <p:spPr>
          <a:xfrm>
            <a:off x="955080" y="2692440"/>
            <a:ext cx="30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完成时间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60912"/>
                </a:solidFill>
                <a:latin typeface="Arial"/>
              </a:rPr>
              <a:t>1956</a:t>
            </a:r>
            <a:r>
              <a:rPr b="1" lang="zh-CN" sz="3200" spc="-1" strike="noStrike">
                <a:solidFill>
                  <a:srgbClr val="060912"/>
                </a:solidFill>
                <a:latin typeface="Arial"/>
              </a:rPr>
              <a:t>年底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63528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三大改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1341360"/>
            <a:ext cx="568944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1341360"/>
            <a:ext cx="0" cy="647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1197000"/>
            <a:ext cx="0" cy="936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1341360"/>
            <a:ext cx="0" cy="647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3789360"/>
            <a:ext cx="568944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141720"/>
            <a:ext cx="0" cy="647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3284640"/>
            <a:ext cx="0" cy="649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08720" y="3141720"/>
            <a:ext cx="0" cy="647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7280" y="1989000"/>
            <a:ext cx="933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农业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24360" y="206064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手工业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56360" y="1989000"/>
            <a:ext cx="2233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资本主义工商业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2565360"/>
            <a:ext cx="2737080" cy="5814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建立农业生产合作社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2637000"/>
            <a:ext cx="2736720" cy="5814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建立手工业生产合作社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2565360"/>
            <a:ext cx="2016000" cy="5814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公私合营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987640" y="4221000"/>
            <a:ext cx="37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建立社会主义制度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进入社会主义初级阶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360" y="4149720"/>
            <a:ext cx="144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意义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1592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0912"/>
                </a:solidFill>
                <a:latin typeface="Times New Roman"/>
                <a:ea typeface="黑体"/>
              </a:rPr>
              <a:t>课堂小结：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6560" y="5013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0912"/>
                </a:solidFill>
                <a:latin typeface="Arial"/>
                <a:ea typeface="黑体"/>
              </a:rPr>
              <a:t>三大改造实质：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91320" y="5805360"/>
            <a:ext cx="487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产资料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私有制 </a:t>
            </a: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转变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公有制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6237360"/>
            <a:ext cx="12859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42920" y="907920"/>
            <a:ext cx="51116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a3d7a"/>
                </a:solidFill>
                <a:latin typeface="Times New Roman"/>
                <a:ea typeface="黑体"/>
              </a:rPr>
              <a:t>巩 固 练 习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561440" cy="35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1</a:t>
            </a:r>
            <a:r>
              <a:rPr b="0" lang="en-US" sz="3200" spc="-1" strike="noStrike">
                <a:solidFill>
                  <a:srgbClr val="060912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选择题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我国进入社会主义初级阶段的标志是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A   </a:t>
            </a: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中华人民共和国宣告成立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B   </a:t>
            </a: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中华人民共和国宪法的制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C   </a:t>
            </a: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三大改造的基本完成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D   </a:t>
            </a:r>
            <a:r>
              <a:rPr b="0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第一个五年计划开始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09080" y="2276640"/>
            <a:ext cx="93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Arial Black"/>
                <a:ea typeface="隶书"/>
              </a:rPr>
              <a:t>C</a:t>
            </a:r>
            <a:endParaRPr b="0" lang="en-US" sz="6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5280" y="692280"/>
            <a:ext cx="8381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社会主义制度在我国初步建立的标志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286000"/>
            <a:ext cx="876312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国家对农业进行社会主义改造，主要把分散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组织起来，引导他们参加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走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共同富裕的社会主义道路。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1413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大改造的完成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2997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个体农民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3645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农业生产合作社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4437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集体化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4755600">
            <a:off x="291960" y="5673600"/>
            <a:ext cx="1576440" cy="7920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11253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我国农业实行农业生产合作社的主要原因（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2708280"/>
            <a:ext cx="81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封建土地制度严重阻碍了生产力的发展   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要走苏联社会主义的道路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小农经济难以满足国民经济发展的需要   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一些领导人片面强调公有化的程度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1484280"/>
            <a:ext cx="93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6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1269360"/>
            <a:ext cx="87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．社会主义改造基本完成的标志是（     ）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5b5249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．中国共产党掌握了国家的领导权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5b5249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．生产资料私有制转变为公有制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5b5249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．建成工业化的基础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5b5249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．劳动人民当家作主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78920" y="119700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Arial Black"/>
              </a:rPr>
              <a:t>B</a:t>
            </a:r>
            <a:endParaRPr b="0" lang="en-US" sz="5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 rot="4755600">
            <a:off x="291960" y="5476680"/>
            <a:ext cx="1576440" cy="7920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10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自主预习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1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、三大改造指的是对哪些行业的改造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1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、为什么要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农业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进行社会主义改造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1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对农业改造采取什么形式？有何目的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1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改造完成的时间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1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、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手工业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的社会主义改造采取什么形式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1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改造完成的时间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1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、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资本主义工商业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的社会主义改造采取什么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1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形式？实行什么政策？改造完成的时间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1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、三大改造完成的时间、历史意义、存在缺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132804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．国家对手工业的社会主义改造主要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      )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．通过赎买的形式进行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．通过独立生产的形式进行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．通过生产合作社的形式进行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．通过统购、统销和订货的形式进行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55736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-38160" y="736560"/>
          <a:ext cx="9277560" cy="7248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736560"/>
                    <a:ext cx="9277560" cy="72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0" y="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0912"/>
                </a:solidFill>
                <a:latin typeface="Times New Roman"/>
                <a:ea typeface="黑体"/>
              </a:rPr>
              <a:t>课堂小结：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836640"/>
            <a:ext cx="82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三大改造完成的时间：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413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1956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年底，国家基本完成三大改造。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916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三大改造完成的重要意义：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66688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242100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2a3d7a"/>
                </a:solidFill>
                <a:latin typeface="黑体"/>
                <a:ea typeface="黑体"/>
              </a:rPr>
              <a:t>三大改造的完成，实现了把生产资料私有制转变为社会主义公有制的任务，我国初步建立起社会主义的基本制度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。从此进入了社会主义初级阶段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9040" y="5229360"/>
            <a:ext cx="19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存在的缺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2a3d7a"/>
                </a:solidFill>
                <a:latin typeface="Arial"/>
              </a:rPr>
              <a:t>要求过急，工作过粗，改变过快等。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450864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大改造存在什么缺点？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med">
    <p:pull dir="rd"/>
    <p:sndAc>
      <p:stSnd>
        <p:snd r:embed="rId1" name="camera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320" y="-76320"/>
            <a:ext cx="556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60912"/>
                </a:solidFill>
                <a:latin typeface="黑体"/>
                <a:ea typeface="黑体"/>
              </a:rPr>
              <a:t>1950</a:t>
            </a:r>
            <a:r>
              <a:rPr b="1" lang="zh-CN" sz="6000" spc="-1" strike="noStrike">
                <a:solidFill>
                  <a:srgbClr val="060912"/>
                </a:solidFill>
                <a:latin typeface="黑体"/>
                <a:ea typeface="黑体"/>
              </a:rPr>
              <a:t>年土地改革</a:t>
            </a:r>
            <a:endParaRPr b="0" lang="en-US" sz="6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960" y="981000"/>
            <a:ext cx="50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--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农民土地所有制（土地私有制）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320040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225960"/>
            <a:ext cx="4876920" cy="36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50920" y="1628640"/>
            <a:ext cx="399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新魏"/>
              </a:rPr>
              <a:t>一开始农民很高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32360" y="1628640"/>
            <a:ext cx="388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后来却觉得很费力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7020000" y="3141720"/>
            <a:ext cx="1584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52560" y="1339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00360" y="83664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迷你简艺黑"/>
                <a:ea typeface="迷你简艺黑"/>
              </a:rPr>
              <a:t>土地改革后我国农村经济情况如何</a:t>
            </a:r>
            <a:r>
              <a:rPr b="1" lang="zh-CN" sz="3200" spc="-1" strike="noStrike">
                <a:solidFill>
                  <a:srgbClr val="800000"/>
                </a:solidFill>
                <a:latin typeface="迷你简艺黑"/>
                <a:ea typeface="迷你简艺黑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148428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迷你简毡笔黑"/>
                <a:ea typeface="迷你简毡笔黑"/>
              </a:rPr>
              <a:t>土地改革后，农业仍是分散经营的，这就影响生产的发展，农产品也满足不了国家工业化建设的需要。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90792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原因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89000"/>
            <a:ext cx="43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、农业社会主义改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3141720"/>
            <a:ext cx="93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形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1619280" y="3141720"/>
            <a:ext cx="687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迷你简毡笔黑"/>
                <a:ea typeface="迷你简毡笔黑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迷你简毡笔黑"/>
                <a:ea typeface="迷你简毡笔黑"/>
              </a:rPr>
              <a:t>建立农业生产合作社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551664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完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692360" y="5516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迷你简毡笔黑"/>
                <a:ea typeface="迷你简毡笔黑"/>
              </a:rPr>
              <a:t>1956</a:t>
            </a:r>
            <a:r>
              <a:rPr b="1" lang="zh-CN" sz="2800" spc="-1" strike="noStrike">
                <a:solidFill>
                  <a:srgbClr val="660033"/>
                </a:solidFill>
                <a:latin typeface="迷你简毡笔黑"/>
                <a:ea typeface="迷你简毡笔黑"/>
              </a:rPr>
              <a:t>年全国绝大多数农户参加了农业生产合作社。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9640" y="4365720"/>
            <a:ext cx="93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目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1835280" y="4437000"/>
            <a:ext cx="687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迷你简毡笔黑"/>
                <a:ea typeface="迷你简毡笔黑"/>
              </a:rPr>
              <a:t>走集体化和共同富裕的社会主义道路。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888000" cy="316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6612120" y="141300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报名参加合作社。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4103640" cy="292428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4788000" y="443700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6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毛泽东在看农民写给他的丰收报喜信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med">
    <p:pull dir="rd"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56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42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华文行楷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60912"/>
                </a:solidFill>
                <a:latin typeface="华文行楷"/>
                <a:ea typeface="华文行楷"/>
              </a:rPr>
              <a:t>在广泛开展农业合作化运动的同时，我国对手工业也进行了社会主义改造。与农业的社会主义改造相似，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主要采取建立合作社的方法</a:t>
            </a:r>
            <a:r>
              <a:rPr b="1" lang="zh-CN" sz="3600" spc="-1" strike="noStrike">
                <a:solidFill>
                  <a:srgbClr val="060912"/>
                </a:solidFill>
                <a:latin typeface="华文行楷"/>
                <a:ea typeface="华文行楷"/>
              </a:rPr>
              <a:t>把个体所有制逐步改造成社会主义集体所有制。到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1956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年</a:t>
            </a:r>
            <a:r>
              <a:rPr b="1" lang="zh-CN" sz="3600" spc="-1" strike="noStrike">
                <a:solidFill>
                  <a:srgbClr val="060912"/>
                </a:solidFill>
                <a:latin typeface="华文行楷"/>
                <a:ea typeface="华文行楷"/>
              </a:rPr>
              <a:t>底，</a:t>
            </a:r>
            <a:r>
              <a:rPr b="1" lang="zh-CN" sz="3600" spc="-1" strike="noStrike">
                <a:solidFill>
                  <a:srgbClr val="060912"/>
                </a:solidFill>
                <a:latin typeface="华文行楷"/>
                <a:ea typeface="华文行楷"/>
              </a:rPr>
              <a:t>90%</a:t>
            </a:r>
            <a:r>
              <a:rPr b="1" lang="zh-CN" sz="3600" spc="-1" strike="noStrike">
                <a:solidFill>
                  <a:srgbClr val="060912"/>
                </a:solidFill>
                <a:latin typeface="华文行楷"/>
                <a:ea typeface="华文行楷"/>
              </a:rPr>
              <a:t>以上的个体手工业者参加了手工业生产合作社。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手工业的社会主义改造基本完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0"/>
            <a:ext cx="61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手工业社会主义改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324160"/>
            <a:ext cx="545472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1700280"/>
            <a:ext cx="100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时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7280" y="2781360"/>
            <a:ext cx="10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形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7280" y="4941720"/>
            <a:ext cx="1008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完成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7280" y="3860640"/>
            <a:ext cx="108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政策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24" name=""/>
          <p:cNvSpPr/>
          <p:nvPr/>
        </p:nvSpPr>
        <p:spPr>
          <a:xfrm>
            <a:off x="2689920" y="16286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1954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年起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781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公私合营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4720" y="4941720"/>
            <a:ext cx="43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1956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年初，出现了全行业公私合营的高潮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789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赎买政策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39720" y="115920"/>
            <a:ext cx="49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0912"/>
                </a:solidFill>
                <a:latin typeface="黑体"/>
                <a:ea typeface="黑体"/>
              </a:rPr>
              <a:t>三</a:t>
            </a:r>
            <a:r>
              <a:rPr b="1" lang="zh-CN" sz="4000" spc="-1" strike="noStrike">
                <a:solidFill>
                  <a:srgbClr val="060912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60912"/>
                </a:solidFill>
                <a:latin typeface="黑体"/>
                <a:ea typeface="黑体"/>
              </a:rPr>
              <a:t>资本主义工商业社会主义改造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76280"/>
            <a:ext cx="8424720" cy="642600"/>
          </a:xfrm>
          <a:prstGeom prst="rect">
            <a:avLst/>
          </a:pr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4b21"/>
                </a:solidFill>
                <a:latin typeface="Tahoma"/>
                <a:ea typeface="隶书"/>
              </a:rPr>
              <a:t>国家：</a:t>
            </a:r>
            <a:r>
              <a:rPr b="1" lang="zh-CN" sz="3600" spc="-1" strike="noStrike">
                <a:solidFill>
                  <a:srgbClr val="5b5249"/>
                </a:solidFill>
                <a:latin typeface="Tahoma"/>
                <a:ea typeface="隶书"/>
              </a:rPr>
              <a:t>工商业得到了发展，是中国社会主义改造的创举；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773360"/>
            <a:ext cx="2952720" cy="2043720"/>
          </a:xfrm>
          <a:prstGeom prst="rect">
            <a:avLst/>
          </a:pr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隶书"/>
              </a:rPr>
              <a:t>资本主义工商业者：</a:t>
            </a:r>
            <a:r>
              <a:rPr b="1" lang="zh-CN" sz="3200" spc="-1" strike="noStrike">
                <a:solidFill>
                  <a:srgbClr val="5b5249"/>
                </a:solidFill>
                <a:latin typeface="Tahoma"/>
                <a:ea typeface="隶书"/>
              </a:rPr>
              <a:t>每年定期可以拿到年息，红利，同时他们也成了自食其力的劳动者；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1773360"/>
            <a:ext cx="3384720" cy="3240000"/>
          </a:xfrm>
          <a:custGeom>
            <a:avLst/>
            <a:gdLst>
              <a:gd name="textAreaLeft" fmla="*/ 846000 w 3384720"/>
              <a:gd name="textAreaRight" fmla="*/ 2538720 w 3384720"/>
              <a:gd name="textAreaTop" fmla="*/ 810000 h 3240000"/>
              <a:gd name="textAreaBottom" fmla="*/ 2430000 h 3240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2a020"/>
                </a:solidFill>
                <a:latin typeface="Tahoma"/>
                <a:ea typeface="黑体"/>
              </a:rPr>
              <a:t>公私合营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300640"/>
            <a:ext cx="8424720" cy="6426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4b21"/>
                </a:solidFill>
                <a:latin typeface="Tahoma"/>
                <a:ea typeface="隶书"/>
              </a:rPr>
              <a:t>社会：</a:t>
            </a:r>
            <a:r>
              <a:rPr b="1" lang="zh-CN" sz="3600" spc="-1" strike="noStrike">
                <a:solidFill>
                  <a:srgbClr val="5b5249"/>
                </a:solidFill>
                <a:latin typeface="Tahoma"/>
                <a:ea typeface="隶书"/>
              </a:rPr>
              <a:t>实现了和平过渡，维护了社会的稳定；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640" y="1916280"/>
            <a:ext cx="2268720" cy="1556280"/>
          </a:xfrm>
          <a:prstGeom prst="rect">
            <a:avLst/>
          </a:pr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隶书"/>
              </a:rPr>
              <a:t>工人：</a:t>
            </a:r>
            <a:r>
              <a:rPr b="1" lang="zh-CN" sz="3200" spc="-1" strike="noStrike">
                <a:solidFill>
                  <a:srgbClr val="5b5249"/>
                </a:solidFill>
                <a:latin typeface="Tahoma"/>
                <a:ea typeface="隶书"/>
              </a:rPr>
              <a:t>改善了劳动条件，拥有了保障，提高了生产积极性；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9:10:50Z</dcterms:created>
  <dc:creator>微软用户</dc:creator>
  <dc:description/>
  <dc:language>en-US</dc:language>
  <cp:lastModifiedBy>微软用户</cp:lastModifiedBy>
  <dcterms:modified xsi:type="dcterms:W3CDTF">2017-03-15T08:44:15Z</dcterms:modified>
  <cp:revision>86</cp:revision>
  <dc:subject/>
  <dc:title>幻灯片 1</dc:title>
</cp:coreProperties>
</file>