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B2B1-CCB0-447D-8CB9-B5F3C92521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3FC1-CA9F-43B5-98CC-ABD78576FC4B}" type="slidenum">
              <a:rPr b="0" lang="zh-CN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D1D-0841-4BC9-BC04-2C63B3BF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9F7-BB8B-4DCD-B807-9584EBCF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1F7-698E-42D0-8BA6-2722ED7D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FF3-1ACB-472C-84CA-AE940FB2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C713-CEBA-4BE3-8677-1C2F5437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6055-67DB-4B27-B879-92B2C06A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69E3-4D44-4D3E-B365-EC569325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48DC-4A8B-4BC8-86AE-A0E011FA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53D0-5692-4D3A-B8D4-B13ECB15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980E-A18A-4A43-986F-65B449F1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99D7-5D5D-443A-AD3F-445620B1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29D-9655-42FC-8EEA-F407C09F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0E54-BA41-4ECC-BB58-C355F5C0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FB6F-75E5-4377-98B1-72D7DF5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7A53-4F2A-4E44-A3B5-99F326C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3081-C977-478E-8B22-25345CE1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9DF1-1EF6-4404-B46B-112291E1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8A4-A1AB-4F2A-A3DB-2008DCB6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86F-6E4C-4D6A-BF24-49E83B6E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327-3AF9-4A6F-B7B0-48EF886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E5B-6FA0-437F-8128-3910844E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8EE-5428-4945-8086-171EB019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A0B-A9B1-4AE0-AD92-D5C6DFF0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B48-92B1-4E63-8149-F9C5C785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7F16-EADB-4D3D-87E2-E3737E13988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5AD9-01F2-414C-97CC-2F695917484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圆角矩形 3"/>
          <p:cNvGrpSpPr/>
          <p:nvPr/>
        </p:nvGrpSpPr>
        <p:grpSpPr>
          <a:xfrm>
            <a:off x="4784760" y="2955960"/>
            <a:ext cx="2994120" cy="757080"/>
            <a:chOff x="4784760" y="2955960"/>
            <a:chExt cx="2994120" cy="757080"/>
          </a:xfrm>
        </p:grpSpPr>
        <p:pic>
          <p:nvPicPr>
            <p:cNvPr id="89" name="圆角矩形 3" descr=""/>
            <p:cNvPicPr/>
            <p:nvPr/>
          </p:nvPicPr>
          <p:blipFill>
            <a:blip r:embed="rId2"/>
            <a:stretch/>
          </p:blipFill>
          <p:spPr>
            <a:xfrm>
              <a:off x="4784760" y="2955960"/>
              <a:ext cx="29941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3022560"/>
              <a:ext cx="28177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知识要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圆角矩形 5"/>
          <p:cNvGrpSpPr/>
          <p:nvPr/>
        </p:nvGrpSpPr>
        <p:grpSpPr>
          <a:xfrm>
            <a:off x="841320" y="3992400"/>
            <a:ext cx="2992320" cy="755640"/>
            <a:chOff x="841320" y="3992400"/>
            <a:chExt cx="2992320" cy="755640"/>
          </a:xfrm>
        </p:grpSpPr>
        <p:pic>
          <p:nvPicPr>
            <p:cNvPr id="92" name="圆角矩形 5" descr=""/>
            <p:cNvPicPr/>
            <p:nvPr/>
          </p:nvPicPr>
          <p:blipFill>
            <a:blip r:embed="rId3"/>
            <a:stretch/>
          </p:blipFill>
          <p:spPr>
            <a:xfrm>
              <a:off x="841320" y="3992400"/>
              <a:ext cx="29923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932040" y="4059360"/>
              <a:ext cx="281772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难点释疑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圆角矩形 6"/>
          <p:cNvGrpSpPr/>
          <p:nvPr/>
        </p:nvGrpSpPr>
        <p:grpSpPr>
          <a:xfrm>
            <a:off x="841320" y="2955960"/>
            <a:ext cx="2992320" cy="757080"/>
            <a:chOff x="841320" y="2955960"/>
            <a:chExt cx="2992320" cy="757080"/>
          </a:xfrm>
        </p:grpSpPr>
        <p:pic>
          <p:nvPicPr>
            <p:cNvPr id="95" name="圆角矩形 6" descr=""/>
            <p:cNvPicPr/>
            <p:nvPr/>
          </p:nvPicPr>
          <p:blipFill>
            <a:blip r:embed="rId4"/>
            <a:stretch/>
          </p:blipFill>
          <p:spPr>
            <a:xfrm>
              <a:off x="841320" y="2955960"/>
              <a:ext cx="29923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932040" y="3022560"/>
              <a:ext cx="28177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目标导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菱形 8">
            <a:hlinkClick r:id="" action="ppaction://hlinkshowjump?jump=firstslide"/>
          </p:cNvPr>
          <p:cNvSpPr/>
          <p:nvPr/>
        </p:nvSpPr>
        <p:spPr>
          <a:xfrm>
            <a:off x="6300720" y="6381720"/>
            <a:ext cx="144000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菱形 9">
            <a:hlinkClick r:id="" action="ppaction://hlinkshowjump?jump=lastslide"/>
          </p:cNvPr>
          <p:cNvSpPr/>
          <p:nvPr/>
        </p:nvSpPr>
        <p:spPr>
          <a:xfrm>
            <a:off x="7740720" y="6381720"/>
            <a:ext cx="143964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圆角矩形 6"/>
          <p:cNvGrpSpPr/>
          <p:nvPr/>
        </p:nvGrpSpPr>
        <p:grpSpPr>
          <a:xfrm>
            <a:off x="4761000" y="4027320"/>
            <a:ext cx="2987640" cy="798480"/>
            <a:chOff x="4761000" y="4027320"/>
            <a:chExt cx="2987640" cy="798480"/>
          </a:xfrm>
        </p:grpSpPr>
        <p:pic>
          <p:nvPicPr>
            <p:cNvPr id="100" name="圆角矩形 6" descr=""/>
            <p:cNvPicPr/>
            <p:nvPr/>
          </p:nvPicPr>
          <p:blipFill>
            <a:blip r:embed="rId5"/>
            <a:stretch/>
          </p:blipFill>
          <p:spPr>
            <a:xfrm>
              <a:off x="4761000" y="4027320"/>
              <a:ext cx="2987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8"/>
            <p:cNvSpPr/>
            <p:nvPr/>
          </p:nvSpPr>
          <p:spPr>
            <a:xfrm>
              <a:off x="4846680" y="4089240"/>
              <a:ext cx="28177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历史图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TextBox 1"/>
          <p:cNvSpPr/>
          <p:nvPr/>
        </p:nvSpPr>
        <p:spPr>
          <a:xfrm>
            <a:off x="84240" y="638172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方正粗圆_GBK"/>
                <a:ea typeface="方正粗圆_GBK"/>
              </a:rPr>
              <a:t>历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214200" y="50004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单元  国防建设与外交成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857160" y="182556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楷体"/>
              </a:rPr>
              <a:t>第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楷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楷体"/>
              </a:rPr>
              <a:t>课  独立自主的和平外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圆角矩形 12"/>
          <p:cNvGrpSpPr/>
          <p:nvPr/>
        </p:nvGrpSpPr>
        <p:grpSpPr>
          <a:xfrm>
            <a:off x="865080" y="5237280"/>
            <a:ext cx="3000600" cy="755640"/>
            <a:chOff x="865080" y="5237280"/>
            <a:chExt cx="3000600" cy="755640"/>
          </a:xfrm>
        </p:grpSpPr>
        <p:pic>
          <p:nvPicPr>
            <p:cNvPr id="106" name="圆角矩形 12" descr=""/>
            <p:cNvPicPr/>
            <p:nvPr/>
          </p:nvPicPr>
          <p:blipFill>
            <a:blip r:embed="rId6"/>
            <a:stretch/>
          </p:blipFill>
          <p:spPr>
            <a:xfrm>
              <a:off x="865080" y="5237280"/>
              <a:ext cx="30006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960480" y="5305320"/>
              <a:ext cx="28177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解题技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圆角矩形 6"/>
          <p:cNvGrpSpPr/>
          <p:nvPr/>
        </p:nvGrpSpPr>
        <p:grpSpPr>
          <a:xfrm>
            <a:off x="4789440" y="5273640"/>
            <a:ext cx="2987640" cy="798480"/>
            <a:chOff x="4789440" y="5273640"/>
            <a:chExt cx="2987640" cy="798480"/>
          </a:xfrm>
        </p:grpSpPr>
        <p:pic>
          <p:nvPicPr>
            <p:cNvPr id="109" name="圆角矩形 6" descr=""/>
            <p:cNvPicPr/>
            <p:nvPr/>
          </p:nvPicPr>
          <p:blipFill>
            <a:blip r:embed="rId7"/>
            <a:stretch/>
          </p:blipFill>
          <p:spPr>
            <a:xfrm>
              <a:off x="4789440" y="5273640"/>
              <a:ext cx="2987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8"/>
            <p:cNvSpPr/>
            <p:nvPr/>
          </p:nvSpPr>
          <p:spPr>
            <a:xfrm>
              <a:off x="4875120" y="5335560"/>
              <a:ext cx="28177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过关训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历史图片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1143000" y="500076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周恩来在万隆会议上发言，提出“求同存异”方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785960" y="1071720"/>
            <a:ext cx="49608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4"/>
          <p:cNvSpPr/>
          <p:nvPr/>
        </p:nvSpPr>
        <p:spPr>
          <a:xfrm>
            <a:off x="357120" y="1052640"/>
            <a:ext cx="846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★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它是中华人民共和国外交发展的一个阶段性界碑，它是从革命运动外交向国家外交过渡的一次关键性转变，标志着新中国外交方针的最终形成。”这里的“它”是指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开国大典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提出“求同存异”方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提出和平共处五项原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万隆会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解题技巧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菱形 4">
            <a:hlinkClick r:id="" action="ppaction://hlinkshowjump?jump=firstslide"/>
          </p:cNvPr>
          <p:cNvSpPr/>
          <p:nvPr/>
        </p:nvSpPr>
        <p:spPr>
          <a:xfrm>
            <a:off x="6300720" y="6381720"/>
            <a:ext cx="144000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菱形 5">
            <a:hlinkClick r:id="" action="ppaction://hlinkshowjump?jump=lastslide"/>
          </p:cNvPr>
          <p:cNvSpPr/>
          <p:nvPr/>
        </p:nvSpPr>
        <p:spPr>
          <a:xfrm>
            <a:off x="7740720" y="6381720"/>
            <a:ext cx="143964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6227640" y="2565360"/>
            <a:ext cx="31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4"/>
          <p:cNvSpPr/>
          <p:nvPr/>
        </p:nvSpPr>
        <p:spPr>
          <a:xfrm>
            <a:off x="357120" y="105264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正确答案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解题分析：本题考查学生对和平共处五项原则相关知识的掌握，重点识记和平共处五项原则的内容与影响。据题干“它是中华人民共和国外交发展的一个阶段性界碑，它是从革命运动外交向国家外交过渡的一次关键性转变，标志着新中国外交方针的最终形成”结合所学知识可知，这里的“它”是指提出和平共处五项原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解题技巧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4"/>
          <p:cNvSpPr/>
          <p:nvPr/>
        </p:nvSpPr>
        <p:spPr>
          <a:xfrm>
            <a:off x="357120" y="1052640"/>
            <a:ext cx="84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953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年底周恩来在接见印度代表团时第一次提出和平共处五项原则，其内容为：“互相尊重主权和领土完整、互不侵犯、互不干涉内政、平等互利、和平共处”。和平共处五项原则提出后，获得了世界上越来越多国家的赞同，成为解决国与国之间关系的基本准则。故正确答案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解题技巧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4"/>
          <p:cNvSpPr/>
          <p:nvPr/>
        </p:nvSpPr>
        <p:spPr>
          <a:xfrm>
            <a:off x="357120" y="836640"/>
            <a:ext cx="8462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一、单项选择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邓小平在接见外宾时指出：“中国不打美国牌，也不打苏联牌，中国也不允许别人打中国牌。”其含义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国不支持美国，也不支持苏联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国坚决不干涉美国、苏联的内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国、美国与苏联应该和平共处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国始终奉行独立自主的外交政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3419640" y="234936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菱形 4">
            <a:hlinkClick r:id="" action="ppaction://hlinkshowjump?jump=firstslide"/>
          </p:cNvPr>
          <p:cNvSpPr/>
          <p:nvPr/>
        </p:nvSpPr>
        <p:spPr>
          <a:xfrm>
            <a:off x="6300720" y="6381720"/>
            <a:ext cx="144000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菱形 5">
            <a:hlinkClick r:id="" action="ppaction://hlinkshowjump?jump=lastslide"/>
          </p:cNvPr>
          <p:cNvSpPr/>
          <p:nvPr/>
        </p:nvSpPr>
        <p:spPr>
          <a:xfrm>
            <a:off x="7740720" y="6381720"/>
            <a:ext cx="143964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4"/>
          <p:cNvSpPr/>
          <p:nvPr/>
        </p:nvSpPr>
        <p:spPr>
          <a:xfrm>
            <a:off x="357120" y="836640"/>
            <a:ext cx="8462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周恩来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国的反动分子在外交上一贯是神经衰弱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怕帝国主义的。清朝的西太后、北洋政府的袁世凯、国民党的蒋介石，哪一个不是跪在地上办外交呢？中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0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来的外交史是一部屈辱的外交史。我们不学他们。”新中国之初“我们不学他们”的突出表现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采取妥协退让的外交政策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采取独立自主的和平外交政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采取明哲保身的外交方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采取“求同存异”的外交方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7093080" y="328464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4"/>
          <p:cNvSpPr/>
          <p:nvPr/>
        </p:nvSpPr>
        <p:spPr>
          <a:xfrm>
            <a:off x="357120" y="836640"/>
            <a:ext cx="846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(2017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湖南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任何国家和地区都有权利做自己的发展之梦，但是做好自己的梦，必须让别国也能睡好觉。以下外交政策和活动中，体现了上述观点的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亚历山大大帝东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绥靖政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杜鲁门主义”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平共处五项原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3000240" y="3214800"/>
            <a:ext cx="22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4"/>
          <p:cNvSpPr/>
          <p:nvPr/>
        </p:nvSpPr>
        <p:spPr>
          <a:xfrm>
            <a:off x="357120" y="836640"/>
            <a:ext cx="8462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954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，中国、印度、缅甸再次重申：“如果这些原则不仅适用于各国之间，而且适用于一般国际关系之中，它们将形成和平与安全的坚固基础，而现时存在的恐惧和疑虑，则将为信任感所代替。”由此可见，和平共处五项原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在中、印、缅之间达成基本共识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消除了中、印、缅之间的矛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已被世界各国接受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已写入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联合国宪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900000" y="3284640"/>
            <a:ext cx="22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4"/>
          <p:cNvSpPr/>
          <p:nvPr/>
        </p:nvSpPr>
        <p:spPr>
          <a:xfrm>
            <a:off x="357120" y="836640"/>
            <a:ext cx="8462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它是新中国在国际舞台上开展活动，冲破美国的孤立和遏制政策，扩大对外交往的有力武器。经过半个多世纪的实践检验，它不仅成为我国对外政策的基石，也逐渐被国际社会普遍接受。”这段材料评述的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一国两制”构想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民族区域自治制度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求同存异”方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平共处五项原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5796000" y="393372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4"/>
          <p:cNvSpPr/>
          <p:nvPr/>
        </p:nvSpPr>
        <p:spPr>
          <a:xfrm>
            <a:off x="357120" y="836640"/>
            <a:ext cx="8462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.(2017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黑龙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平共处五项原则已经成为处理国与国关系的基本准则。下列属于其内容的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互相尊重主权和领土完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互不侵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③互不干涉内政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平等互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⑤和平共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⑥求同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②③④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③④⑤⑥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②③④⑥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②③⑤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928800" y="250020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目标导航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菱形 4">
            <a:hlinkClick r:id="" action="ppaction://hlinkshowjump?jump=firstslide"/>
          </p:cNvPr>
          <p:cNvSpPr/>
          <p:nvPr/>
        </p:nvSpPr>
        <p:spPr>
          <a:xfrm>
            <a:off x="6300720" y="6381720"/>
            <a:ext cx="144000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菱形 5">
            <a:hlinkClick r:id="" action="ppaction://hlinkshowjump?jump=lastslide"/>
          </p:cNvPr>
          <p:cNvSpPr/>
          <p:nvPr/>
        </p:nvSpPr>
        <p:spPr>
          <a:xfrm>
            <a:off x="7740720" y="6381720"/>
            <a:ext cx="143964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197000"/>
          <a:ext cx="8104320" cy="4092480"/>
        </p:xfrm>
        <a:graphic>
          <a:graphicData uri="http://schemas.openxmlformats.org/drawingml/2006/table">
            <a:tbl>
              <a:tblPr/>
              <a:tblGrid>
                <a:gridCol w="4052880"/>
                <a:gridCol w="4051440"/>
              </a:tblGrid>
              <a:tr h="82512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课程标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考纲要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7360"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知道中国独立自主的和平外交政策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和平共处五项原则的主要内容；周恩来出席万隆会议的史实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4"/>
          <p:cNvSpPr/>
          <p:nvPr/>
        </p:nvSpPr>
        <p:spPr>
          <a:xfrm>
            <a:off x="357120" y="836640"/>
            <a:ext cx="8462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新中国外交政策成熟的标志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1949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共同纲领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宣布的原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平共处五项原则的提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在万隆会议上提出“求同存异”的方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以五大国身份之一参加日内瓦会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143760" y="107172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4"/>
          <p:cNvSpPr/>
          <p:nvPr/>
        </p:nvSpPr>
        <p:spPr>
          <a:xfrm>
            <a:off x="357120" y="836640"/>
            <a:ext cx="846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国传统文化中蕴含着“非攻”“和为贵”等思想，这一思想在当代的体现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独立自主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平共处五项原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求同存异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一切权力属于人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6659640" y="177336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4"/>
          <p:cNvSpPr/>
          <p:nvPr/>
        </p:nvSpPr>
        <p:spPr>
          <a:xfrm>
            <a:off x="357120" y="836640"/>
            <a:ext cx="846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萨科齐曾以法国总统和欧盟轮值主席的双重身份会见达赖，严重伤害了中国人民的感情。萨科齐此举破坏了和平共处五项基本原则中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互相尊重主权和领土完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互不侵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互不干涉内政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④平等互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⑤和平共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②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③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③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④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571680" y="321480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4"/>
          <p:cNvSpPr/>
          <p:nvPr/>
        </p:nvSpPr>
        <p:spPr>
          <a:xfrm>
            <a:off x="357120" y="836640"/>
            <a:ext cx="8462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.(2017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湖北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2016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月，在中国政府的积极推动下，落实联合国气候变化框架公约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巴黎协定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在纽约联合国总部签署，中国为全球生态文明付诸的行动赢得了国际社会的积极评价。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2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前，周恩来在代表中国政府出席的一次会议上，提出“求同存异”方针，推动会议进程，赢得了国际社会的广泛赞誉。周恩来参加的这次会议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日内瓦会议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雅尔塔会议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万隆会议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亚太经合组织会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3348000" y="429264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4"/>
          <p:cNvSpPr/>
          <p:nvPr/>
        </p:nvSpPr>
        <p:spPr>
          <a:xfrm>
            <a:off x="357120" y="836640"/>
            <a:ext cx="8462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1.(2017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湖南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在万隆会议上，周恩来既没有去刻意争取对共产主义的支持，也没有激烈反美、反西方的言论。但他达到了此行的重要目的，使许多代表相信了他是一个心怀善意、通情达理而真挚诚恳的人，并相当成功地使人相信了共产党中国奉行和平的政策。周恩来取得成功的主要原因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周恩来的人格魅力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国综合国力的提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倡导“求同存异”方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提出和平共处五项原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987640" y="378936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4"/>
          <p:cNvSpPr/>
          <p:nvPr/>
        </p:nvSpPr>
        <p:spPr>
          <a:xfrm>
            <a:off x="357120" y="836640"/>
            <a:ext cx="846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一位美国记者评论周恩来在某次重大会议中的作用时说：“周恩来并不打算改变任何一个坚持反共立场的领导人的态度，但是他改变了会议的航向。”这次会议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日内瓦会议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万隆会议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第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6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届联合国大会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上海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EC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会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5435640" y="321300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4"/>
          <p:cNvSpPr/>
          <p:nvPr/>
        </p:nvSpPr>
        <p:spPr>
          <a:xfrm>
            <a:off x="357120" y="836640"/>
            <a:ext cx="846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3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孔子曰：“君子和而不同。”意思是“和谐而又不千篇一律，不同而又不互相冲突”。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55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万隆会议上，周恩来总理运用这种思想提出哪一外交方针，促进了会议的圆满成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互不侵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平共处五项原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平等互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求同存异”的方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571680" y="392904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4"/>
          <p:cNvSpPr/>
          <p:nvPr/>
        </p:nvSpPr>
        <p:spPr>
          <a:xfrm>
            <a:off x="214200" y="785880"/>
            <a:ext cx="878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4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在一次国际会议上，周恩来强调“我们的会议应该是求同存异”。下列有关“求同存异”方针的说法，正确的有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找出共同点，保留不同意见，达到团结的目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促进了万隆会议的圆满成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促进了中国外交事业的发展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后来发展为和平共处五项原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②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③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③④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3995640" y="2421000"/>
            <a:ext cx="22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4"/>
          <p:cNvSpPr/>
          <p:nvPr/>
        </p:nvSpPr>
        <p:spPr>
          <a:xfrm>
            <a:off x="357120" y="836640"/>
            <a:ext cx="846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5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以下属于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世纪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代新中国外交成就的是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提出和平共处五项原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拒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巴黎和约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在万隆会议上提出“求同存异”方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美两国正式建立外交关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B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①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C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D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②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577800" y="1785960"/>
            <a:ext cx="22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4"/>
          <p:cNvSpPr/>
          <p:nvPr/>
        </p:nvSpPr>
        <p:spPr>
          <a:xfrm>
            <a:off x="357120" y="836640"/>
            <a:ext cx="846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二、综合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6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外交是一个国家实力强弱的晴雨表。新中国成立以来，随着我国综合国力的逐步提升，外交事业也取得了辉煌的成就。阅读材料，回答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177840" y="404640"/>
            <a:ext cx="878688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新中国的外交政策：新中国奉行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外交政策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和平共处五项原则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提出：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5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年底，周恩来在接见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代表团时，首次提出；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5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年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分别与印度、缅甸总理发表联合声明：同意以和平共处五项原则为指导两国关系的基本原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知识要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菱形 4">
            <a:hlinkClick r:id="" action="ppaction://hlinkshowjump?jump=firstslide"/>
          </p:cNvPr>
          <p:cNvSpPr/>
          <p:nvPr/>
        </p:nvSpPr>
        <p:spPr>
          <a:xfrm>
            <a:off x="6300720" y="6381720"/>
            <a:ext cx="144000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菱形 5">
            <a:hlinkClick r:id="" action="ppaction://hlinkshowjump?jump=lastslide"/>
          </p:cNvPr>
          <p:cNvSpPr/>
          <p:nvPr/>
        </p:nvSpPr>
        <p:spPr>
          <a:xfrm>
            <a:off x="7740720" y="6381720"/>
            <a:ext cx="143964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6156360" y="1197000"/>
            <a:ext cx="30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独立自主的和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443640" y="3355920"/>
            <a:ext cx="22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印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716360" y="414828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周恩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4"/>
          <p:cNvSpPr/>
          <p:nvPr/>
        </p:nvSpPr>
        <p:spPr>
          <a:xfrm>
            <a:off x="357120" y="836640"/>
            <a:ext cx="8462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外交之耻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材料一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19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月在法国巴黎召开的“和平会议”上，中国代表提出了取消帝国主义在华特权，废除“二十一条”等要求，遭到操纵会议的英、法、美等国的拒绝。会议无理决定把德国在山东攫取的一切权益转给日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岳麓书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国历史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八年级上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4"/>
          <p:cNvSpPr/>
          <p:nvPr/>
        </p:nvSpPr>
        <p:spPr>
          <a:xfrm>
            <a:off x="357120" y="836640"/>
            <a:ext cx="84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外交之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材料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新中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代的外交成就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428760" y="2286000"/>
            <a:ext cx="8175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4"/>
          <p:cNvSpPr/>
          <p:nvPr/>
        </p:nvSpPr>
        <p:spPr>
          <a:xfrm>
            <a:off x="357120" y="642960"/>
            <a:ext cx="846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外交之盛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材料三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习近平总书记指出，在各国彼此依存、全球性挑战此起彼伏的今天，各国要对接彼此政策，在全球更大范围内整合经济要素和发展资源，才能形成合力，促进世界和平安宁和共同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《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一带一路”国际合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高峰论坛圆桌峰会联合公报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357120" y="836640"/>
            <a:ext cx="846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l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材料一中，为什么作为战胜国的中国却得到了类似战败国的待遇？这种“待遇”直接引发了近代中国哪一事件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642960" y="3357720"/>
            <a:ext cx="785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弱国无外交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当时中国综合国力弱；政府腐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五四运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4"/>
          <p:cNvSpPr/>
          <p:nvPr/>
        </p:nvSpPr>
        <p:spPr>
          <a:xfrm>
            <a:off x="357120" y="836640"/>
            <a:ext cx="846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材料二的两幅图反映了新中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代的哪些外交成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642960" y="257184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提出和平共处五项原则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周恩来在万隆会议上提出“求同存异”方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4"/>
          <p:cNvSpPr/>
          <p:nvPr/>
        </p:nvSpPr>
        <p:spPr>
          <a:xfrm>
            <a:off x="357120" y="836640"/>
            <a:ext cx="846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结合上述材料及所学知识，请你谈谈各国应怎样促进世界和平与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过关训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571680" y="2500200"/>
            <a:ext cx="785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倡导和平共处五项原则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坚持“求同存异”方针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维护世界和平、发展世界经济。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言之有理即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4"/>
          <p:cNvSpPr/>
          <p:nvPr/>
        </p:nvSpPr>
        <p:spPr>
          <a:xfrm>
            <a:off x="357120" y="83664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二战后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55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初，新独立的亚非国家就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3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个，使该地区独立国家总数增至近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个。但是帝国主义不甘心完全退出已占据的地盘，殖民主义者在大战结束后卷土重来，许多亚非国家依然受到种族歧视和殖民统治的严重威胁。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拓展阅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357120" y="836640"/>
            <a:ext cx="8462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促进亚非国家的团结与合作，成为广大亚非国家的共同愿望和要求。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55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月，亚非会议召开，这被称为“人类有史以来第一次有色人种的洲际会议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摘编自方连庆等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战后国际史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拓展阅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菱形 4">
            <a:hlinkClick r:id="" action="ppaction://hlinkshowjump?jump=firstslide"/>
          </p:cNvPr>
          <p:cNvSpPr/>
          <p:nvPr/>
        </p:nvSpPr>
        <p:spPr>
          <a:xfrm>
            <a:off x="6300720" y="6381720"/>
            <a:ext cx="144000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菱形 5">
            <a:hlinkClick r:id="" action="ppaction://hlinkshowjump?jump=lastslide"/>
          </p:cNvPr>
          <p:cNvSpPr/>
          <p:nvPr/>
        </p:nvSpPr>
        <p:spPr>
          <a:xfrm>
            <a:off x="7740720" y="6381720"/>
            <a:ext cx="143964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图片 3" descr=""/>
          <p:cNvPicPr/>
          <p:nvPr/>
        </p:nvPicPr>
        <p:blipFill>
          <a:blip r:embed="rId2"/>
          <a:stretch/>
        </p:blipFill>
        <p:spPr>
          <a:xfrm>
            <a:off x="2222640" y="1916280"/>
            <a:ext cx="4698720" cy="23540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84240" y="638172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方正粗圆_GBK"/>
                <a:ea typeface="方正粗圆_GBK"/>
              </a:rPr>
              <a:t>历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4"/>
          <p:cNvSpPr/>
          <p:nvPr/>
        </p:nvSpPr>
        <p:spPr>
          <a:xfrm>
            <a:off x="179280" y="90792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内容：互相尊重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完整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、互不干涉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、平等互利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五项原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意义：被世界上越来越多的国家接受，成为处理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之间关系的基本准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加强与亚非国家的团结合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万隆会议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时间、地点：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955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在印度尼西亚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召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知识要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851280" y="105264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主权和领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24000" y="177336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互不侵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788000" y="177336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内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68360" y="249228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和平共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1042920" y="3933720"/>
            <a:ext cx="22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国与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7164360" y="5373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万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179280" y="765000"/>
            <a:ext cx="8785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与会成员：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洲和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洲各国政府首脑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故又称“亚非会议”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新中国对万隆会议的贡献：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在会议上提出了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方针，促进了会议圆满成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意义：加强了中国同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各国的团结与合作，为中国重返联合国奠定基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地位：是第一次没有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国家参加的亚非会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知识要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2987640" y="907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859280" y="907920"/>
            <a:ext cx="7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35640" y="234468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周恩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1476360" y="306864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求同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356000" y="3789360"/>
            <a:ext cx="22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亚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356000" y="5229360"/>
            <a:ext cx="22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殖民主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4"/>
          <p:cNvSpPr/>
          <p:nvPr/>
        </p:nvSpPr>
        <p:spPr>
          <a:xfrm>
            <a:off x="357120" y="105264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新中国的外交与旧中国外交对比：新中国展现了独立自主的和平外交风采，而旧中国则是屈辱的外交，两者本质的差别在于国家是否独立和实行什么样的社会制度。清政府一次次被迫签订不平等条约，而新中国成立的第一天，毛泽东主席就向全世界宣布：中国要成为独立自主的国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难点释疑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菱形 4">
            <a:hlinkClick r:id="" action="ppaction://hlinkshowjump?jump=firstslide"/>
          </p:cNvPr>
          <p:cNvSpPr/>
          <p:nvPr/>
        </p:nvSpPr>
        <p:spPr>
          <a:xfrm>
            <a:off x="6300720" y="6381720"/>
            <a:ext cx="144000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菱形 5">
            <a:hlinkClick r:id="" action="ppaction://hlinkshowjump?jump=lastslide"/>
          </p:cNvPr>
          <p:cNvSpPr/>
          <p:nvPr/>
        </p:nvSpPr>
        <p:spPr>
          <a:xfrm>
            <a:off x="7740720" y="6381720"/>
            <a:ext cx="143964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4"/>
          <p:cNvSpPr/>
          <p:nvPr/>
        </p:nvSpPr>
        <p:spPr>
          <a:xfrm>
            <a:off x="357120" y="1052640"/>
            <a:ext cx="846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世纪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年代，提出和平共处五项原则，后来成为国际交往的基本准则；在万隆会议上，周恩来提出“求同存异”的方针，对万隆会议的圆满成功起到了积极的作用。新中国外交方面的种种努力和成就，提高了我国的国际地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难点释疑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4"/>
          <p:cNvSpPr/>
          <p:nvPr/>
        </p:nvSpPr>
        <p:spPr>
          <a:xfrm>
            <a:off x="357120" y="1052640"/>
            <a:ext cx="84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求同存异”方针的“求同”，主要指保卫世界和平、争取民族独立和发展民族经济等问题；“存异”指各国的处境、政治制度、意识形态等方面的差异。“求同存异”方针成为万隆会议的原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难点释疑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4"/>
          <p:cNvSpPr/>
          <p:nvPr/>
        </p:nvSpPr>
        <p:spPr>
          <a:xfrm>
            <a:off x="1857240" y="514368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印会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周恩来提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平共处五项原则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ahoma"/>
              </a:rPr>
              <a:t>历史图片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菱形 4">
            <a:hlinkClick r:id="" action="ppaction://hlinkshowjump?jump=firstslide"/>
          </p:cNvPr>
          <p:cNvSpPr/>
          <p:nvPr/>
        </p:nvSpPr>
        <p:spPr>
          <a:xfrm>
            <a:off x="6300720" y="6381720"/>
            <a:ext cx="144000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菱形 5">
            <a:hlinkClick r:id="" action="ppaction://hlinkshowjump?jump=lastslide"/>
          </p:cNvPr>
          <p:cNvSpPr/>
          <p:nvPr/>
        </p:nvSpPr>
        <p:spPr>
          <a:xfrm>
            <a:off x="7740720" y="6381720"/>
            <a:ext cx="1439640" cy="46188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65008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0:28:48Z</dcterms:created>
  <dc:creator>Administrator</dc:creator>
  <dc:description/>
  <dc:language>en-US</dc:language>
  <cp:lastModifiedBy>Windows 用户</cp:lastModifiedBy>
  <dcterms:modified xsi:type="dcterms:W3CDTF">2018-03-17T00:06:33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