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A7D-3270-4BB9-9C51-277256F3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3BC-F43B-4BCB-897E-EA54FE5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0F9-E297-4DD7-9E62-012B5CC6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C20-EA74-4B7F-8DD6-B7EFB319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D83E-C939-422D-AA85-A47F9BF6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63A6-33C5-44A4-8C88-CAC67DA9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2D00-4797-4C1B-9208-A320F509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A31F-D5C8-4A7A-B803-B7E68D1C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6212-C1DD-4358-B222-6A45BBB2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8B5F-9CB3-47DA-9DE8-D5FCFF22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7B6F-FB16-4EFA-8F9B-1B6A948E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E7A-251A-4121-8E47-CCCCF4C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A606-3181-40D3-A868-997DA22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45D9-E32D-41DB-AFB2-666DE8E3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2ADC-C1ED-4FA9-A4D1-17AD721A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1BB4-F9A0-445B-A5F5-70561D55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884-0CB6-4093-83C2-6A319F3B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B6EEB-7882-4D16-8731-8C3783C4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6047-32CD-4915-AE93-2BB097C7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D6EF-20C4-431E-AF09-046660AA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3578-B89F-43EB-85BD-BC646E23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88EE-0367-4074-8EE8-1C692738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8B6-FC4C-4975-B374-AE9A5823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66A3-7675-4775-B041-381376C3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D007-11BC-45DA-B04D-68A80482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DC22-A64D-4D12-926C-4C6BCA02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C97E-1E6A-4318-8278-5AFD26F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91A5-B96D-48AA-80A6-AEAB27DF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151A7-CFDE-44E4-8EE1-A06CC1C8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ADF0-BE35-4F1E-B16F-A903D613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41AB4-415F-456F-AA64-68BB84C4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1E22-F4CA-48AB-BEAB-37DD4573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3E7F-4555-4931-83E9-13DB9892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BE0-A8CD-4F05-9718-496607BA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7C5D-11A0-4A33-AA92-74A00327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5E20-FCEE-4486-A061-3B7C29F7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D9341-EA30-47DE-9042-B4B95380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27B0-CBE4-4A56-B560-AAAE22CC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A52F-C611-4B81-8C91-A3B627B0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9D38-4621-4BFB-9827-1F5FC763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BAE37-6C35-4F01-8598-18505769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1627-9E6A-4CBB-8D9E-E98F2908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3DF4B-928E-4BFE-A14A-1C510D66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8C0C-087B-48FD-9EC0-1C33C38C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BA3-F05D-4588-958D-7EAC7FE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BEEB9-02E8-4AFD-8E3C-4535D40B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66CD-F7C0-4CC2-8133-32A591FE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0368-FE53-430D-A72D-2CA41E0C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B49B-105B-44E4-AB54-C789C4BF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B3F6C-2DCB-4092-B01E-5478EC50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BECFF-C478-4FF4-9E84-BB8C531E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B5029-1E60-4087-803F-5BC941E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C7C0-7BD0-4106-A954-A995CC91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40747-5322-4477-AAF8-F82E851C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2BFD4-CC7F-4B1F-BB1A-4B047EFB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1E6-EAA1-4EA6-9C5D-E42ADBAD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7458-FF14-4D57-88D5-201607DA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4A197-F991-499A-AD0F-9415D469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8912D-CD47-4023-8C93-3F93D47B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3FC8-E790-4AD4-AB01-C25B646A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4D210-C075-4799-A09F-3BEF62D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ED3E5-2D0A-4904-B4BC-9FA39B0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240C6-0466-4D10-8EB4-13B75B9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66BCA-9B39-40E4-824D-D0EE5668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AE3B7-1983-40A1-AA57-6586518A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66568-C6F3-479D-928A-0EBCCDCD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5D4-7C34-4CFD-8FE0-1F19EA7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658CF-9045-43B2-86A6-E0B5C21F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DC46F-9E9F-4089-8CC9-935FF16E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B6812-7E32-489F-BC81-35A9A4A9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6FD-CAD8-488B-82BC-A9B5726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61F-D709-4915-B1E6-75AEEB33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B0BA-9EBF-4593-8ECF-E1A8B54A91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814E-ABC9-443E-B8E9-D2E69B5252D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412F-DAA0-48B4-9B25-77CE3E3A25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0AD4-7FBE-4A7D-A1E0-D4452D568B4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3F34-1B78-4154-8684-26F97AE295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A460-ADA0-4EEF-84A4-E887E6B311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210680" cy="1209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1968480" y="2637000"/>
            <a:ext cx="8064360" cy="666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239760" y="3860640"/>
            <a:ext cx="10693440" cy="27054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9980640" y="500688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706040" cy="5505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4"/>
          <p:cNvSpPr/>
          <p:nvPr/>
        </p:nvSpPr>
        <p:spPr>
          <a:xfrm>
            <a:off x="998640" y="2900520"/>
            <a:ext cx="968832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1357200" y="3803760"/>
            <a:ext cx="96868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1741320" y="4651200"/>
            <a:ext cx="9661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1638360" y="5164200"/>
            <a:ext cx="7326360" cy="12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5829480" cy="2190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334800" y="3213000"/>
            <a:ext cx="10655640" cy="28195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103400" y="870120"/>
            <a:ext cx="4054320" cy="77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087560" y="1784520"/>
            <a:ext cx="580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685800" y="2274840"/>
            <a:ext cx="580860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912960" y="836640"/>
            <a:ext cx="10045440" cy="51148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925560" y="1684440"/>
            <a:ext cx="5362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80920" y="2174760"/>
            <a:ext cx="5362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792000" y="2631960"/>
            <a:ext cx="5362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85800" y="3156120"/>
            <a:ext cx="5364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717480" y="3613320"/>
            <a:ext cx="53643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700200" y="4116240"/>
            <a:ext cx="536400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1442880" y="4675320"/>
            <a:ext cx="725184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1803240" y="5510160"/>
            <a:ext cx="704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6129360" y="1639800"/>
            <a:ext cx="4724280" cy="308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846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944280" cy="38484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998640" y="936720"/>
            <a:ext cx="63594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1652760" y="1795320"/>
            <a:ext cx="4574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1712880" y="2309760"/>
            <a:ext cx="4573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1668600" y="2744640"/>
            <a:ext cx="5628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697040" y="3268800"/>
            <a:ext cx="5630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1727280" y="3714840"/>
            <a:ext cx="5630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1712880" y="4227480"/>
            <a:ext cx="562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31600" cy="47437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3"/>
          <p:cNvSpPr/>
          <p:nvPr/>
        </p:nvSpPr>
        <p:spPr>
          <a:xfrm>
            <a:off x="1220760" y="5219640"/>
            <a:ext cx="6405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8089920" cy="37242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1117440" y="1027080"/>
            <a:ext cx="7072560" cy="88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789120" y="1965240"/>
            <a:ext cx="82026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774720" y="2790720"/>
            <a:ext cx="82026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1027080" y="3660840"/>
            <a:ext cx="7251840" cy="8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833120" cy="57816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10202760" y="1762200"/>
            <a:ext cx="574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0172880" y="344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0186920" y="62341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623880" y="907920"/>
            <a:ext cx="10782360" cy="573408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"/>
          <p:cNvSpPr/>
          <p:nvPr/>
        </p:nvSpPr>
        <p:spPr>
          <a:xfrm>
            <a:off x="6364440" y="401472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884240" cy="57722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3"/>
          <p:cNvSpPr/>
          <p:nvPr/>
        </p:nvSpPr>
        <p:spPr>
          <a:xfrm>
            <a:off x="10098000" y="239724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0142640" y="560880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527040" y="733320"/>
            <a:ext cx="10947240" cy="61246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10456920" y="603396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871280" cy="3467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6692760" y="2809800"/>
            <a:ext cx="1141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7167600" y="3968640"/>
            <a:ext cx="768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845720" cy="5181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1162080" y="3747960"/>
            <a:ext cx="73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884760" y="5610240"/>
            <a:ext cx="1717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871280" cy="49341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1652760" y="2208240"/>
            <a:ext cx="2671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956040" y="5086440"/>
            <a:ext cx="106668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10731600" cy="59626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1071720" y="5253120"/>
            <a:ext cx="528624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814400" y="6111720"/>
            <a:ext cx="5286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8:00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