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63CE-0406-4FD5-BB1A-CEAAC990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751E-FC08-4906-9501-1FF28E34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941D-437B-4C04-AEF4-8DD586CA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030D-E80B-4A29-9DAF-B6FAE269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F059-AA3A-4C24-835E-078C8406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597A-989F-4EE1-B46C-693D5A7F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5759-A5B8-4A02-9B85-D3462F3E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DC82-0790-4883-B66E-2ED70B3E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0889-9AC6-4FAA-B3D5-2F3E0022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9F44-6036-45E2-A087-0F739838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97B9-9647-4A18-A5F3-5D2F802E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C2A1-221A-4B66-AF85-18FF63D1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8343-CD80-47AB-9C9C-49D95721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29AE-291D-4C32-B106-1E124637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56E2-07B7-4588-A2CE-5C791B6E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11ED-7843-4A94-8DE4-59F5729C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D9DE-CA92-4DF9-BDCC-6A1F1A61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1E3E3-BB53-4BAD-A0C5-CD7F61A7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842B9-14A8-4A19-83B7-6E8428BF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A8BAE-2437-4DCE-96D8-7483B197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5B5DC-2C86-4734-B2FD-A73CFE90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9FDB9-E799-4747-8F12-BF6C9A83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8EB2-A47C-46E3-A7FF-DAF5FB73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B021C-6207-4DA0-A00D-1EDD747E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776EE-F8AE-438D-A106-E7B4699C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3352C-50FA-4E76-89ED-B6FE6175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8FE6A-B94C-4FB2-BD04-DEB738CB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2C04A-A712-4FC2-8573-E468CD88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BFD25-C2C7-466F-8557-41DD75B8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98F15-D460-40D1-9D92-731CF2273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16B19-EEE2-410C-858E-9C8FCABA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0D73B-9128-4136-9813-DA7AB387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AEC61-C20A-488C-9024-A2CAD290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2FAE-48DC-4775-A385-C632A81E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DE507-6DCB-4A72-B386-504196C5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625CB-8F59-4F7A-B227-CD63D94F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29A84-334A-4201-952F-FDC59389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A61BB-8F2E-45AC-8E6B-FE75B563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ED2AE-843C-4061-B507-A99E7BD2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A9DE0-CB2E-4368-8015-A7E1E3DB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D259E-4B02-4682-9354-0581AA0C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C3563-74F8-471C-83B5-73365D19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5D004-1C47-4C0C-AD57-3FF0C1A9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076C1-BC73-481A-8004-54F86D02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9CE7-FB61-4A28-824C-C2E0A0F5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8C176-7952-4CE5-BDF3-F4112010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BE716-5A5D-4A2A-9295-49AB9AAA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9E5D1-3D41-4ED7-A1B5-A822CB91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44188-6E39-42E0-8FB8-48B89FE8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7E0B8-3B57-4717-9B6E-717B28F0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53E4E-14E9-493B-8F13-2FF7E762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5C27A-5EBC-4240-92DB-C18C290C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4A126-44C2-4294-8D84-6BE16412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F48BB-FBC2-4CC1-BFDD-08188A91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2CCFA-61B4-4905-8851-1FDF313D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A668-6605-446E-B828-579698AB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BE217-5C78-4FF2-9E14-4BB7FEC5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DEDD2-0626-49EB-A1B0-BA2E7A2C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2EAE6-8C1B-4439-ABC3-20CBFA6C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558CF-0FA9-4511-9979-A8BA468D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21961-FD44-42D9-A4C1-BC08F736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DCF02-F795-4656-8F10-686DEBCB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61724-C5BE-48E0-A86E-B9F11F07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96D7A-F2AB-4F3A-88EF-A136A860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6678D-9EA9-4DB2-9E4E-8D63355A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DEE46-202A-42A9-8219-A4BA020C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A2EE-E564-40D1-8736-FFE80596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87FC1-EE58-4CDE-8E1C-B714C3FC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55D7A-DD85-4337-9CD9-DB55FF88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807BC-34B3-48DD-8739-41642D60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E05B-A1F9-4A52-AE2A-6E3A9900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97F3-AF0D-4A56-8ACE-29182EB6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B29E-257D-46DE-9EC4-DE730A1AB42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5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直接连接符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60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ADE2-4E26-47E4-BDA5-270432541C8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1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A910-FBCC-4CD8-A384-74554279ACB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6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直接连接符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63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D399-04CF-4C80-B497-A8CE5ED7AD7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07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1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1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直接连接符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216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4528-98D6-4049-911C-E23B5A48D25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6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直接连接符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69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AD43-E86E-4A30-B749-0474D378CC7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1" descr=""/>
          <p:cNvPicPr/>
          <p:nvPr/>
        </p:nvPicPr>
        <p:blipFill>
          <a:blip r:embed="rId1"/>
          <a:stretch/>
        </p:blipFill>
        <p:spPr>
          <a:xfrm>
            <a:off x="912960" y="907920"/>
            <a:ext cx="10235880" cy="704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2" descr=""/>
          <p:cNvPicPr/>
          <p:nvPr/>
        </p:nvPicPr>
        <p:blipFill>
          <a:blip r:embed="rId2"/>
          <a:stretch/>
        </p:blipFill>
        <p:spPr>
          <a:xfrm>
            <a:off x="431640" y="2637000"/>
            <a:ext cx="10782360" cy="280008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23"/>
          <p:cNvSpPr/>
          <p:nvPr/>
        </p:nvSpPr>
        <p:spPr>
          <a:xfrm>
            <a:off x="10082160" y="3816360"/>
            <a:ext cx="61920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1677960" y="981000"/>
            <a:ext cx="9067680" cy="26575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" descr=""/>
          <p:cNvPicPr/>
          <p:nvPr/>
        </p:nvPicPr>
        <p:blipFill>
          <a:blip r:embed="rId2"/>
          <a:stretch/>
        </p:blipFill>
        <p:spPr>
          <a:xfrm>
            <a:off x="431640" y="4221000"/>
            <a:ext cx="10617480" cy="20196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5"/>
          <p:cNvSpPr/>
          <p:nvPr/>
        </p:nvSpPr>
        <p:spPr>
          <a:xfrm>
            <a:off x="1608120" y="5799240"/>
            <a:ext cx="6206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3119400" y="692280"/>
            <a:ext cx="5105520" cy="19429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527040" y="2619360"/>
            <a:ext cx="10706040" cy="4238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4"/>
          <p:cNvSpPr/>
          <p:nvPr/>
        </p:nvSpPr>
        <p:spPr>
          <a:xfrm>
            <a:off x="1176480" y="3681360"/>
            <a:ext cx="6373800" cy="3148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0" y="907920"/>
            <a:ext cx="10807560" cy="504828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3"/>
          <p:cNvSpPr/>
          <p:nvPr/>
        </p:nvSpPr>
        <p:spPr>
          <a:xfrm>
            <a:off x="820800" y="5388120"/>
            <a:ext cx="73404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239760" y="981000"/>
            <a:ext cx="108838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912960" y="981000"/>
            <a:ext cx="9943920" cy="30481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3"/>
          <p:cNvSpPr/>
          <p:nvPr/>
        </p:nvSpPr>
        <p:spPr>
          <a:xfrm>
            <a:off x="851040" y="1004760"/>
            <a:ext cx="1004724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1001880" y="1562040"/>
            <a:ext cx="1004724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4151160" y="2041560"/>
            <a:ext cx="4083120" cy="186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239760" y="836640"/>
            <a:ext cx="1080756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912960" y="907920"/>
            <a:ext cx="10337760" cy="555336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3"/>
          <p:cNvSpPr/>
          <p:nvPr/>
        </p:nvSpPr>
        <p:spPr>
          <a:xfrm>
            <a:off x="1117440" y="2008080"/>
            <a:ext cx="653904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954000" y="2565360"/>
            <a:ext cx="653904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954000" y="3111480"/>
            <a:ext cx="653904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7586640" y="1908000"/>
            <a:ext cx="3533760" cy="22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1951200" y="3613320"/>
            <a:ext cx="561636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8"/>
          <p:cNvSpPr/>
          <p:nvPr/>
        </p:nvSpPr>
        <p:spPr>
          <a:xfrm>
            <a:off x="1757520" y="4205160"/>
            <a:ext cx="5748120" cy="7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1994040" y="5086440"/>
            <a:ext cx="9435960" cy="7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0"/>
          <p:cNvSpPr/>
          <p:nvPr/>
        </p:nvSpPr>
        <p:spPr>
          <a:xfrm>
            <a:off x="1741320" y="6022800"/>
            <a:ext cx="6539040" cy="34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239760" y="907920"/>
            <a:ext cx="1099800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1103400" y="907920"/>
            <a:ext cx="8242200" cy="430560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3"/>
          <p:cNvSpPr/>
          <p:nvPr/>
        </p:nvSpPr>
        <p:spPr>
          <a:xfrm>
            <a:off x="1312920" y="3013200"/>
            <a:ext cx="5600520" cy="21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1008000" y="981000"/>
            <a:ext cx="9232920" cy="233388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3"/>
          <p:cNvSpPr/>
          <p:nvPr/>
        </p:nvSpPr>
        <p:spPr>
          <a:xfrm>
            <a:off x="998640" y="949320"/>
            <a:ext cx="9956520" cy="750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907920" y="1898640"/>
            <a:ext cx="9956880" cy="750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1028880" y="2800440"/>
            <a:ext cx="640224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239760" y="907920"/>
            <a:ext cx="10617120" cy="492444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9817200" y="882720"/>
            <a:ext cx="6206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7853400" y="3836880"/>
            <a:ext cx="61920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334800" y="981000"/>
            <a:ext cx="10947600" cy="54961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3"/>
          <p:cNvSpPr/>
          <p:nvPr/>
        </p:nvSpPr>
        <p:spPr>
          <a:xfrm>
            <a:off x="10128240" y="3782880"/>
            <a:ext cx="6206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239760" y="907920"/>
            <a:ext cx="10934640" cy="415296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3"/>
          <p:cNvSpPr/>
          <p:nvPr/>
        </p:nvSpPr>
        <p:spPr>
          <a:xfrm>
            <a:off x="10024920" y="1452600"/>
            <a:ext cx="61920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334800" y="981000"/>
            <a:ext cx="10833120" cy="388620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3"/>
          <p:cNvSpPr/>
          <p:nvPr/>
        </p:nvSpPr>
        <p:spPr>
          <a:xfrm>
            <a:off x="10098000" y="2700360"/>
            <a:ext cx="6206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334800" y="907920"/>
            <a:ext cx="10757160" cy="54198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10039320" y="4103640"/>
            <a:ext cx="6206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334800" y="981000"/>
            <a:ext cx="10896840" cy="469584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3"/>
          <p:cNvSpPr/>
          <p:nvPr/>
        </p:nvSpPr>
        <p:spPr>
          <a:xfrm>
            <a:off x="10053720" y="1606680"/>
            <a:ext cx="6206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334800" y="907920"/>
            <a:ext cx="10820520" cy="48196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3"/>
          <p:cNvSpPr/>
          <p:nvPr/>
        </p:nvSpPr>
        <p:spPr>
          <a:xfrm>
            <a:off x="4179960" y="2500200"/>
            <a:ext cx="108252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005280" y="3603600"/>
            <a:ext cx="42638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1414440" y="5210280"/>
            <a:ext cx="10810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334800" y="907920"/>
            <a:ext cx="10706400" cy="40482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3"/>
          <p:cNvSpPr/>
          <p:nvPr/>
        </p:nvSpPr>
        <p:spPr>
          <a:xfrm>
            <a:off x="1535040" y="1920960"/>
            <a:ext cx="9302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7361280" y="4484520"/>
            <a:ext cx="20746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07:47:00Z</dcterms:created>
  <dc:creator/>
  <dc:description/>
  <dc:language>en-US</dc:language>
  <cp:lastModifiedBy>DELL-00</cp:lastModifiedBy>
  <dcterms:modified xsi:type="dcterms:W3CDTF">2018-03-25T13:29:38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