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7DE-B657-44EA-9EBD-DE445C92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054-A4F2-4397-A537-9C564AC5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EDB-BC93-49F7-942F-1E8B3B11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F48-F0A1-48F7-9853-D54782B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B46-1B91-4C98-BD21-AEC74335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C0C2-40D2-4B3F-8D01-7A4F6F4C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6F85-BB04-4164-A8B9-74AB810D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D925-7E1D-4B71-BB84-6EDC0B18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7B28-E9F6-49B2-980E-B4DB66FB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48E-CFB8-4375-8E6B-C2761862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1D0F-04A0-43F5-97DD-CC9DAA5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1AB-9247-44BF-B222-E4CCCFEA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E2E9-93AA-40CF-AE18-E7BB729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29AA-AFE6-40AA-BD60-D8C2ACE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8AF0-7BD0-47DD-95D9-81D19B2C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AB5B-AB9D-49B0-AA80-5E6B9610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4500-27E8-49DD-8454-DC6D31A8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CFBC-089D-4852-B1C5-6DB2D1AC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CC32-6E48-413D-A8DA-57B79973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83FA-6233-4D16-84DF-ABBF9B28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E0A4-9354-44E0-B812-63B3C8A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14C7-2A34-4F15-8A7F-5B086FFE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D19-F098-4B0F-BDA2-2EF3189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DE60-C9A1-4222-A951-E00A5C2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8AED-0874-4734-95AD-DB392EA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254E-5198-482B-9EB2-FA0BC77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CB01-97BD-4D50-B702-7B65068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E8A4-65E2-4D6F-9A41-1BEBC8C8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A371-8ED8-4B85-8485-539895A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A4D5-246E-484B-832E-C60D4E90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7EC2-2EF9-4130-A9BA-A2CC6B1A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7E12-530B-40D2-81C0-158DDDDD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60B8-8E94-434D-9CCC-21B1645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78C-D4ED-4708-A7AA-FBBE490A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9FC4-F91B-4A3E-81CE-E6D5C0C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0FF9-8708-4B85-8258-7B30250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1DC0-B094-42CD-9A3A-8662B0F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C7EE-918F-48E5-B212-76AB57C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B083-0CE4-4736-AF8F-51C22FD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C388-2FAF-4BB2-BE75-5CDFFDC6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67BF-357B-4F93-A93E-B00186FD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88B3-3C62-4978-A9B0-DBBD0DFE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E0DF-DAF8-4158-83F3-3D44A77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C377-FA81-4384-A94A-6064B227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3C0-4E88-4600-8924-67B6529D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FE12-719B-4E91-9276-50A7B4E5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CC41-C498-4899-936F-890E0CA7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86F2-B8D1-4424-849B-4825B844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287A-0C9A-4750-BC3F-3E0DED3A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4BECA-7BFD-42B7-BB2B-6814F11F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CD42-2A51-4A1B-A11E-FC961AD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EBDC-FF73-429C-A5BD-CE5F624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173B-B2A6-49C3-BE59-59B6D02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777A-DAFB-4A97-8490-8678E742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6F8B-6658-4DB2-975B-B161165E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339-C0A2-4246-8F83-0DB1334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7030-7856-4914-9384-2C5C3F40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93376-2BEA-474B-95D0-4CDF0993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A37D-8A9B-4DB7-88C0-54EEB52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4038-BBC9-4980-B561-3D25949A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AFCAF-2462-4DAE-A7EA-DE05DF2E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B90F-CD67-4BC3-A603-0E762217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554B-AE63-4AD2-A971-36A7DD14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61AA0-4BD4-425D-AD0E-2E799EF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D14E-9476-4A5D-9124-E7B77FB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FAD4-B99E-4869-86DC-C24B8DDB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F51-36ED-45D5-8A97-68E520F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7E53-4A9E-4873-9D2F-A5E9C183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3EC32-EA09-43A2-9270-9CF08A4C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E140-C5A9-4BD5-B9FE-9373C026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25B-D6C4-4446-8B19-7AF9F57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EDE-9ADA-40BE-A26D-89A7BF6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3FE7-6E98-444E-9DD9-68E8247259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8382-23E6-4A85-B497-D7279BDC79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686-0FBA-4A08-AD09-5077FE2EDA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A22-3E21-4CA7-A860-AD4F542DF2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2B7-B09A-45DD-B5BC-77C7EC0F0A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303-50F3-4CAB-B7B9-FA655E0F30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77840" y="2200320"/>
            <a:ext cx="118364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28480" y="781200"/>
            <a:ext cx="10122120" cy="5628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"/>
          <p:cNvSpPr/>
          <p:nvPr/>
        </p:nvSpPr>
        <p:spPr>
          <a:xfrm>
            <a:off x="1700280" y="2268360"/>
            <a:ext cx="57182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338560" y="3071880"/>
            <a:ext cx="57052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220840" y="3517920"/>
            <a:ext cx="570384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176560" y="3941640"/>
            <a:ext cx="570384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2176560" y="4521240"/>
            <a:ext cx="55260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2279520" y="5211720"/>
            <a:ext cx="55263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2235240" y="5981760"/>
            <a:ext cx="549756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60280" y="768240"/>
            <a:ext cx="11671200" cy="2333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950760" y="3094200"/>
            <a:ext cx="10972800" cy="32097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882720" y="4075200"/>
            <a:ext cx="7638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282680" y="4498920"/>
            <a:ext cx="76392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386000" y="4967280"/>
            <a:ext cx="7638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477800" y="5413320"/>
            <a:ext cx="903636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373040" y="5837400"/>
            <a:ext cx="903636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60280" y="871560"/>
            <a:ext cx="11671200" cy="55148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806400" y="5559480"/>
            <a:ext cx="11072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06400" y="6027840"/>
            <a:ext cx="11072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58720" y="932040"/>
            <a:ext cx="11074320" cy="18954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806400" y="1019160"/>
            <a:ext cx="1086480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717480" y="1855800"/>
            <a:ext cx="110872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41520" y="2379600"/>
            <a:ext cx="11086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54160" y="744480"/>
            <a:ext cx="11683800" cy="59911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3"/>
          <p:cNvSpPr/>
          <p:nvPr/>
        </p:nvSpPr>
        <p:spPr>
          <a:xfrm>
            <a:off x="687240" y="3741840"/>
            <a:ext cx="1122372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47720" y="4232160"/>
            <a:ext cx="11163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731880" y="4991040"/>
            <a:ext cx="11163240" cy="96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703440" y="6072120"/>
            <a:ext cx="11163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577800" y="898560"/>
            <a:ext cx="11036520" cy="19810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642960" y="954000"/>
            <a:ext cx="112237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598320" y="1444680"/>
            <a:ext cx="1120788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54040" y="2190600"/>
            <a:ext cx="442908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22120" y="819000"/>
            <a:ext cx="11747520" cy="56008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95320" y="4199040"/>
            <a:ext cx="83520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131840" y="4656240"/>
            <a:ext cx="83534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131840" y="5091120"/>
            <a:ext cx="83534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1401840" y="5614920"/>
            <a:ext cx="8351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371600" y="6072120"/>
            <a:ext cx="83520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741240" y="909720"/>
            <a:ext cx="7378920" cy="18288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896760" y="932040"/>
            <a:ext cx="43992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927000" y="1433520"/>
            <a:ext cx="70884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824040" y="1901880"/>
            <a:ext cx="70880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824040" y="2370240"/>
            <a:ext cx="70880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41200" y="819000"/>
            <a:ext cx="11709360" cy="52200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824040" y="3697200"/>
            <a:ext cx="75200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08200" y="4221000"/>
            <a:ext cx="75214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868320" y="4667400"/>
            <a:ext cx="75200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838080" y="5146560"/>
            <a:ext cx="75200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882720" y="5648400"/>
            <a:ext cx="80708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673200" y="833400"/>
            <a:ext cx="7962840" cy="4657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3"/>
          <p:cNvSpPr/>
          <p:nvPr/>
        </p:nvSpPr>
        <p:spPr>
          <a:xfrm>
            <a:off x="690480" y="885960"/>
            <a:ext cx="8008920" cy="75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20800" y="1755720"/>
            <a:ext cx="29113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80920" y="2157480"/>
            <a:ext cx="75502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747720" y="2637000"/>
            <a:ext cx="75502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792000" y="3083040"/>
            <a:ext cx="51404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731880" y="3897360"/>
            <a:ext cx="456228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2120" y="4745160"/>
            <a:ext cx="456084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35080" y="851040"/>
            <a:ext cx="11721960" cy="59148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11050560" y="147780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790120" y="288288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1006280" y="554832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260280" y="876240"/>
            <a:ext cx="11671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28600" y="847800"/>
            <a:ext cx="11734920" cy="5162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808200" y="942840"/>
            <a:ext cx="46958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9624960" y="874800"/>
            <a:ext cx="2374920" cy="26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282680" y="1344600"/>
            <a:ext cx="46944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252440" y="1801800"/>
            <a:ext cx="46958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297080" y="2247840"/>
            <a:ext cx="46958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312920" y="2705040"/>
            <a:ext cx="46940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403280" y="3197160"/>
            <a:ext cx="46944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1389240" y="3743280"/>
            <a:ext cx="67006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1373040" y="4245120"/>
            <a:ext cx="670248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359000" y="4702320"/>
            <a:ext cx="670068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1314360" y="5126040"/>
            <a:ext cx="67010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1536840" y="5605560"/>
            <a:ext cx="6939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787320" y="1000080"/>
            <a:ext cx="10617120" cy="48578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1015920" y="1009800"/>
            <a:ext cx="57340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896760" y="1455840"/>
            <a:ext cx="57340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868320" y="1959120"/>
            <a:ext cx="57340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882720" y="2482920"/>
            <a:ext cx="57340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882720" y="3029040"/>
            <a:ext cx="57340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824040" y="3530520"/>
            <a:ext cx="57340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882720" y="4087800"/>
            <a:ext cx="9466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735120" y="4511520"/>
            <a:ext cx="9464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927000" y="4991040"/>
            <a:ext cx="10552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1001880" y="5425920"/>
            <a:ext cx="18986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272880" y="712800"/>
            <a:ext cx="11646000" cy="6057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11006280" y="1165320"/>
            <a:ext cx="6062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1050560" y="287172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1036160" y="639612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28600" y="800280"/>
            <a:ext cx="11734920" cy="3562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665280" y="4459320"/>
            <a:ext cx="11188440" cy="14191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10947240" y="3005280"/>
            <a:ext cx="6051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0979280" y="498960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85840" y="865080"/>
            <a:ext cx="11620440" cy="59533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10961640" y="396396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228600" y="714240"/>
            <a:ext cx="11734920" cy="5429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11006280" y="81900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697040" y="300528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9474120" y="3584520"/>
            <a:ext cx="55872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9012240" y="4565520"/>
            <a:ext cx="6066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348680" y="5678640"/>
            <a:ext cx="19285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09520" y="958680"/>
            <a:ext cx="11773080" cy="5629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1282680" y="4121280"/>
            <a:ext cx="108108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0545840" y="5000760"/>
            <a:ext cx="4712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11040" y="757080"/>
            <a:ext cx="1156968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254160" y="1698480"/>
            <a:ext cx="11683800" cy="42195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"/>
          <p:cNvSpPr/>
          <p:nvPr/>
        </p:nvSpPr>
        <p:spPr>
          <a:xfrm>
            <a:off x="9802800" y="1243080"/>
            <a:ext cx="10065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9742320" y="5011560"/>
            <a:ext cx="22132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969840" y="5535720"/>
            <a:ext cx="9032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63680" y="793800"/>
            <a:ext cx="9156600" cy="564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1728720" y="2279520"/>
            <a:ext cx="519912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933640" y="2747880"/>
            <a:ext cx="18846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566720" y="4976640"/>
            <a:ext cx="5867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2992320" y="5780160"/>
            <a:ext cx="23590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30:5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