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CFA-8068-47D8-85CA-7D8EB793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405-CEB7-4A1A-B271-FEEB3B05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FB1-B2E4-49BC-BCD3-35283E8A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C83-0FDF-4181-A151-6D263D7D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8EC4-3769-4900-883F-E5BFF23C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2D9D-F36F-4DAB-9650-32EF77AA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3F1F-7694-497A-8444-A65D2F9B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172B-6D1A-4EB9-8D4D-11D0A1F2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A355-78F2-44ED-A88D-8E85A31C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9803-6C1C-479F-BAF9-0BADDE3B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C175-638A-4ABB-B15F-D7C6DEF5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29E-CA6C-472D-AAF9-E410B317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06D1-7136-460F-8C88-F042E203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42A5-7A7C-4D81-A573-28EE2B9B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78D9-F6CA-4D7E-A7F8-B4054F62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8834-A581-4EC1-AE23-5ECA2E8F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652E-DD14-49A8-B00B-0D00BF89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D3B4-9860-457D-B63E-8E95A964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5BBCE-2E5B-469E-9FF7-B0A417EB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82BD-6C84-4135-8D00-C5D09DDC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4E08-464F-4F94-9D51-F333AFF8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0910-5C66-4377-AFF4-B36C520F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1EE-EE4C-4658-9F99-C18B8D4C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7B8C-FDA8-4BA0-B012-DB510208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9323-4969-4F23-AD26-0D414C1F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A0AE-4311-49C9-9481-54EE27CD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5F8A-F073-478B-8313-ECC1DFC8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DC801-DD75-4019-8A57-C63CFB11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611B-3F63-494E-B6B3-C9F246E5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DDF6-04E3-4617-BE97-06BB7916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6C2D-B23E-49E6-AB94-30E62DB7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F096-E765-44BD-9688-FC86E6FF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490E4-8D4A-4C94-A082-19A51E0B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695-4357-4079-B55F-94AD0A8C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37413-DE82-4280-AF8D-3A9D4688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914B6-5DDB-4B35-A325-762E45F0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F1E73-6A37-43B7-B96F-92EBFB2B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716E2-1D3F-4076-A558-888D7013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2FD14-7556-45D7-8480-36853C4F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1CD69-3C9F-4F15-9C56-0BE1804F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E9B71-7553-46D4-B71C-9819CFED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1ADB5-CE82-4AA8-92FA-65BEFB86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1FA60-8F6D-4FB1-AE87-CC8C6F16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F818B-F022-4993-8066-81881C8B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8C1-B2CD-42EE-B8CF-2027C400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81692-FA0C-4AA0-8398-75788893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95EB0-2E04-4A56-BBAD-478415F1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76F16-7E2E-4930-B2A4-2066F54D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795B7-3277-4B96-B020-8489BE6C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D68F0-D3DD-4859-88B9-78CCCC40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23361-FA9D-4D98-94E2-0F71689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3A7D7-E1AC-43A7-AE29-6F65F66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1F7A5-4934-4543-8CE1-15092534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B3118-AA67-40C9-BFB4-270C18A5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1C2AF-42C2-4F1F-9527-1EA63E39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915-9704-4EE2-B8AD-AB4BAD43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184B9-593A-4D49-82E3-C04446D6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2BE3E-14FE-47CD-AAD1-FC7BF3E2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597EE-E083-466B-9C80-11E136A3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95412-77A6-416E-A470-A75A19BF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E48D2-2B00-4B3B-8679-62AB41C8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F5B01-0841-47F5-944F-AA82FEB3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24610-9869-4F4D-9CF9-14CD24B3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934EE-61FF-4A7E-AEF3-B81CDA64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255F8-D71B-4BCC-B8EB-6C0B2866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2A883-62F9-4399-9DA2-9514576B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735-E15C-439A-A29D-92915BB5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A2EE9-D7DD-43D6-8C1D-16E6AD0B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13BA5-E3B3-4CAB-A679-01F23068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2D6BC-02EE-4821-BE3C-4F7DCB64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A83-F22F-4C05-98B2-F5F3BA1A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AAF-25D6-4BF6-A146-276A9E9B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EF0-C7A2-478F-8796-00257E0DEE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28B6-50AA-496E-AE4A-94F753174C2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EC70-EC69-4C9C-B6BF-A10A9BEC7FD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C08E-AF5E-483B-9F92-8E1B5A341F4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BC4C-3365-4148-820A-4AEEA56E7C6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A638-6D47-4B04-B7C4-EEF5B73B39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72880" y="1757520"/>
            <a:ext cx="1164600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565200" y="927000"/>
            <a:ext cx="11061720" cy="21718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614520" y="976320"/>
            <a:ext cx="1123632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539640" y="1488960"/>
            <a:ext cx="1125216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450720" y="2314440"/>
            <a:ext cx="1125216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254160" y="852480"/>
            <a:ext cx="11683800" cy="34574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909720" y="2916360"/>
            <a:ext cx="665460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1403280" y="3651120"/>
            <a:ext cx="197496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60280" y="789120"/>
            <a:ext cx="11671200" cy="45432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4"/>
          <p:cNvSpPr/>
          <p:nvPr/>
        </p:nvSpPr>
        <p:spPr>
          <a:xfrm>
            <a:off x="763560" y="2860560"/>
            <a:ext cx="11163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779400" y="3273480"/>
            <a:ext cx="11163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763560" y="3719520"/>
            <a:ext cx="11163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749160" y="4097160"/>
            <a:ext cx="11163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868320" y="4532400"/>
            <a:ext cx="11163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838080" y="4933800"/>
            <a:ext cx="11163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298440" y="746280"/>
            <a:ext cx="11595240" cy="2466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958680" y="3330720"/>
            <a:ext cx="10960200" cy="28288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4"/>
          <p:cNvSpPr/>
          <p:nvPr/>
        </p:nvSpPr>
        <p:spPr>
          <a:xfrm>
            <a:off x="851040" y="3384720"/>
            <a:ext cx="463536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371600" y="3819600"/>
            <a:ext cx="107172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401840" y="4210200"/>
            <a:ext cx="107154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1297080" y="4611600"/>
            <a:ext cx="61815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268280" y="5046840"/>
            <a:ext cx="61801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1460520" y="5425920"/>
            <a:ext cx="618012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1504800" y="5816520"/>
            <a:ext cx="90792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252360" y="855720"/>
            <a:ext cx="11658600" cy="5572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896760" y="4130640"/>
            <a:ext cx="11090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882720" y="4565520"/>
            <a:ext cx="1108872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703440" y="5245200"/>
            <a:ext cx="110883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779400" y="5668920"/>
            <a:ext cx="110887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08200" y="6070680"/>
            <a:ext cx="11090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539640" y="900000"/>
            <a:ext cx="11112480" cy="12002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331920" y="3408480"/>
            <a:ext cx="11556720" cy="32954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4"/>
          <p:cNvSpPr/>
          <p:nvPr/>
        </p:nvSpPr>
        <p:spPr>
          <a:xfrm>
            <a:off x="658800" y="909720"/>
            <a:ext cx="110426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28560" y="1311120"/>
            <a:ext cx="110426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28560" y="1757520"/>
            <a:ext cx="631368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260280" y="766800"/>
            <a:ext cx="116712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82480" y="923760"/>
            <a:ext cx="10998360" cy="201960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642960" y="909720"/>
            <a:ext cx="2671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1090440" y="1265400"/>
            <a:ext cx="26704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1104840" y="1722600"/>
            <a:ext cx="10685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985680" y="2101680"/>
            <a:ext cx="10685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985680" y="2536920"/>
            <a:ext cx="10685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272880" y="762120"/>
            <a:ext cx="11646000" cy="5267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1657440" y="6114960"/>
            <a:ext cx="4000320" cy="3812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912960" y="5246640"/>
            <a:ext cx="98517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1373040" y="5659560"/>
            <a:ext cx="105696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1255680" y="6172200"/>
            <a:ext cx="105681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831960" y="795240"/>
            <a:ext cx="10528200" cy="5267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3"/>
          <p:cNvSpPr/>
          <p:nvPr/>
        </p:nvSpPr>
        <p:spPr>
          <a:xfrm>
            <a:off x="880920" y="819000"/>
            <a:ext cx="76089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36640" y="1198440"/>
            <a:ext cx="76089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762120" y="1611360"/>
            <a:ext cx="11028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628560" y="2046240"/>
            <a:ext cx="11028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674640" y="2459160"/>
            <a:ext cx="11028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92280" y="2838600"/>
            <a:ext cx="11028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692280" y="3260880"/>
            <a:ext cx="11028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677880" y="3649680"/>
            <a:ext cx="11026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677880" y="4062240"/>
            <a:ext cx="11026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633240" y="4497480"/>
            <a:ext cx="11026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633240" y="4888080"/>
            <a:ext cx="11026800" cy="35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588960" y="5278320"/>
            <a:ext cx="11026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528480" y="5691240"/>
            <a:ext cx="11028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60280" y="932040"/>
            <a:ext cx="11671200" cy="56862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10991880" y="128736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11022120" y="258120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1080800" y="379728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1095200" y="543564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72880" y="826920"/>
            <a:ext cx="11646000" cy="4781880"/>
          </a:xfrm>
          <a:prstGeom prst="rect">
            <a:avLst/>
          </a:prstGeom>
          <a:ln w="0">
            <a:noFill/>
          </a:ln>
        </p:spPr>
      </p:pic>
      <p:sp>
        <p:nvSpPr>
          <p:cNvPr id="410" name="Line 3"/>
          <p:cNvSpPr/>
          <p:nvPr/>
        </p:nvSpPr>
        <p:spPr>
          <a:xfrm>
            <a:off x="10704600" y="1557360"/>
            <a:ext cx="38412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571680" y="884160"/>
            <a:ext cx="11048760" cy="586764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3"/>
          <p:cNvSpPr/>
          <p:nvPr/>
        </p:nvSpPr>
        <p:spPr>
          <a:xfrm>
            <a:off x="2084400" y="1689120"/>
            <a:ext cx="9306000" cy="26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642960" y="4465800"/>
            <a:ext cx="109537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598320" y="4900680"/>
            <a:ext cx="74152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584280" y="5613480"/>
            <a:ext cx="1095372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687240" y="6294600"/>
            <a:ext cx="109537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558720" y="873000"/>
            <a:ext cx="11074320" cy="54486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"/>
          <p:cNvSpPr/>
          <p:nvPr/>
        </p:nvSpPr>
        <p:spPr>
          <a:xfrm>
            <a:off x="703440" y="876240"/>
            <a:ext cx="110566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598320" y="1601640"/>
            <a:ext cx="110588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509760" y="2371680"/>
            <a:ext cx="11072520" cy="12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554040" y="3719520"/>
            <a:ext cx="110584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658800" y="4498920"/>
            <a:ext cx="111315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658800" y="4944960"/>
            <a:ext cx="1113156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614520" y="5657760"/>
            <a:ext cx="1113156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46120" y="1038240"/>
            <a:ext cx="11099880" cy="47815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614520" y="1076400"/>
            <a:ext cx="1107108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584280" y="1811160"/>
            <a:ext cx="1129500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584280" y="2247840"/>
            <a:ext cx="1107288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569880" y="2949480"/>
            <a:ext cx="11176200" cy="98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614520" y="4019400"/>
            <a:ext cx="1129320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509760" y="4432320"/>
            <a:ext cx="1129500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525600" y="5178600"/>
            <a:ext cx="11293200" cy="65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552600" y="868320"/>
            <a:ext cx="11086920" cy="304812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673200" y="919080"/>
            <a:ext cx="110566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596880" y="1766880"/>
            <a:ext cx="110282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687240" y="3238560"/>
            <a:ext cx="30448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266760" y="646200"/>
            <a:ext cx="11658600" cy="61434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7437600" y="233676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35080" y="781200"/>
            <a:ext cx="11721960" cy="2933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754200" y="3851280"/>
            <a:ext cx="11010600" cy="25239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11006280" y="84132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1036160" y="205740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0917360" y="518004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279360" y="996840"/>
            <a:ext cx="11633400" cy="35719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10961640" y="3362400"/>
            <a:ext cx="6066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82520" y="750960"/>
            <a:ext cx="11709360" cy="59338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7243920" y="334008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8209080" y="4967280"/>
            <a:ext cx="24796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325520" y="5491080"/>
            <a:ext cx="1036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5545080" y="6327720"/>
            <a:ext cx="10382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72880" y="896760"/>
            <a:ext cx="11646000" cy="54198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10396440" y="874800"/>
            <a:ext cx="154332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015920" y="1265400"/>
            <a:ext cx="80028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773680" y="1766880"/>
            <a:ext cx="39369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4211640" y="3774960"/>
            <a:ext cx="79992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214800" y="5921280"/>
            <a:ext cx="199044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66760" y="804960"/>
            <a:ext cx="11658600" cy="19908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1238400" y="1590840"/>
            <a:ext cx="798480" cy="3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4138560" y="2382840"/>
            <a:ext cx="5605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79360" y="836640"/>
            <a:ext cx="11633400" cy="55436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868320" y="2614680"/>
            <a:ext cx="11133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82720" y="3060720"/>
            <a:ext cx="11133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896760" y="3551400"/>
            <a:ext cx="11134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896760" y="3975120"/>
            <a:ext cx="111348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882720" y="4487760"/>
            <a:ext cx="1111896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808200" y="5280120"/>
            <a:ext cx="111344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852480" y="5759280"/>
            <a:ext cx="2806560" cy="63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31:57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