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984-F52B-4694-A95C-A7E32948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BE4-5616-4C65-8644-704667BF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503-274F-4DF1-9C59-769EDB23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B6E-A0BD-4D2C-9898-1E0EE159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B91F-5B2C-46CC-A139-A157924C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3F4A-4853-4CCA-8B4F-93CAFFAE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0787-F4FB-43D7-978D-E811D944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FA5B-FDC8-4CF4-954E-FB2F14BA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33C1-6D72-4F1B-A4F2-4A2A58BA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69D1-3261-4733-A493-0C7B633F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593A-12F4-48EB-BF3D-09F4E61D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C50-946D-48F8-93E9-2038C9D1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8134-68FC-4748-9866-2AF63D3B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B0D8-DE28-4B5C-95CD-CF92DCD8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6C35-4BA1-4956-ADC7-744427CF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F028-2768-4FD8-A528-FDAABFCA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AAE0-A609-4A51-8519-8D280FA8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52A7E-0951-4776-B452-F69C912F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02AC-B6FA-4DF6-A0BC-1091DE36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7B7DC-5F95-46A8-872F-E104A1C5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49DD9-D5C4-419E-8585-AD212631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CCB46-B445-49C2-A9B9-E5C695E2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C3E-F546-4F91-BA9A-B05C56E1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4F19-8688-40AE-8ADA-E85B122B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331C0-319B-4132-A938-F845D461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80ED-9F46-46CD-8159-AC8194C8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C5BD8-E01C-4E60-B786-7F3955C2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7EFB5-FC3E-41CA-92D9-56423A5E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50FA-A29B-4BAD-B4F4-6A8B244B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F170D-9BF4-4F62-B600-FB64A429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7B96E-700E-464D-B557-A378AD45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12942-A7A4-473E-A636-3FA6F722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8F559-D3FC-4F04-9E80-CBBDE513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6C2-11DF-44C7-BE6A-3410D5CB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181E6-56E1-46C5-B2D9-6358CAE7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EBECE-7D99-4EF0-AEF7-7A187D48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30866-BA84-4426-A921-B3EB5770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B083C-BCB2-468D-A38D-2B809BB7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FC28A-A98E-4C34-8896-452837B9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C1B4E-0C6F-4240-9BC3-747BC1FC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F56A9-C9F0-48C5-8897-7E14008B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A5F5A-CD65-4058-88D5-DB0BFFE9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F2E7C-BA47-4F0A-B362-93DA7B84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79A51-DDAD-483C-9B84-2BEE7126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BF5-220A-450F-B247-4FD8D90C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358EC-E21D-48EA-99AC-2504FC22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40DB2-F5E4-4DCA-964E-041338DB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0A116-832C-4BB8-904E-1C02ED83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E7299-0361-4A22-969B-6071F2A5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8544C-1DF1-4748-9222-782C2290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A123B-978D-4337-BEF7-5C9C995F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29DE7-2E99-421C-9A4A-BECA20B7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FC627-AF53-4F64-975C-CD4E4E98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A72EC-3AA0-4931-8833-7CBF3B7C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E7C6D-5CBA-42BD-B666-A5138A19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72A-E54C-4359-B4A9-7EF4F5F9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A679B-F5C5-4D10-95DB-972A0838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6281-3C8C-4DBE-BD4B-5B551074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C738D-D806-42CB-9186-E2251EA3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46834-73DC-48D4-9991-97E89E0F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B2513-222C-4F4B-AB0E-7CA4D927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91B16-3345-4D29-8F5D-D06AC279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33F5A-DA50-4560-AA6F-D5B19268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CE757-06CE-459D-90C9-79AB20F5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98B0B-4B5D-449E-962D-8599BB82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A19FA-9F05-40C2-A5C8-8109E072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D27-342B-419D-8D61-20F0C3B2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66FC6-ED75-4E20-A5CE-3B9B1198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2DBD4-E527-47BA-B12F-A4FE53D0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6249D-6CB2-4368-A10F-7CB2B3EF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C46-FFDF-47F6-94E0-19DF36FE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599-0509-4BBC-AB7D-C10B3C79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E491-5F9C-4A8C-9895-F2CC2F5F0FF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1931-35AF-4B9E-968B-81BA02CEE26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16FB-ABF4-4232-ADF3-CBD3F347034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491F-F510-49F0-89F4-60A11AB5AEE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7533-BFE2-41C5-B41F-E8208C70F4C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5560-21A4-4785-8C2F-1C8131CFEBC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239760" y="836640"/>
            <a:ext cx="10261440" cy="8762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2639880" y="2205000"/>
            <a:ext cx="6718320" cy="1390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3" descr=""/>
          <p:cNvPicPr/>
          <p:nvPr/>
        </p:nvPicPr>
        <p:blipFill>
          <a:blip r:embed="rId3"/>
          <a:stretch/>
        </p:blipFill>
        <p:spPr>
          <a:xfrm>
            <a:off x="1295280" y="3933720"/>
            <a:ext cx="4394160" cy="2752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4" descr=""/>
          <p:cNvPicPr/>
          <p:nvPr/>
        </p:nvPicPr>
        <p:blipFill>
          <a:blip r:embed="rId4"/>
          <a:stretch/>
        </p:blipFill>
        <p:spPr>
          <a:xfrm>
            <a:off x="6672240" y="4437000"/>
            <a:ext cx="4292640" cy="5716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5"/>
          <p:cNvSpPr/>
          <p:nvPr/>
        </p:nvSpPr>
        <p:spPr>
          <a:xfrm>
            <a:off x="8345520" y="4438800"/>
            <a:ext cx="268596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6"/>
          <p:cNvSpPr/>
          <p:nvPr/>
        </p:nvSpPr>
        <p:spPr>
          <a:xfrm>
            <a:off x="6605640" y="4740120"/>
            <a:ext cx="268596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845720" cy="1933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912960" y="2924280"/>
            <a:ext cx="10109160" cy="32860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4"/>
          <p:cNvSpPr/>
          <p:nvPr/>
        </p:nvSpPr>
        <p:spPr>
          <a:xfrm>
            <a:off x="1014480" y="3914640"/>
            <a:ext cx="6549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984240" y="4427640"/>
            <a:ext cx="655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1014480" y="4906800"/>
            <a:ext cx="6549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954000" y="5397480"/>
            <a:ext cx="667224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769760" cy="46389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3"/>
          <p:cNvSpPr/>
          <p:nvPr/>
        </p:nvSpPr>
        <p:spPr>
          <a:xfrm>
            <a:off x="1892160" y="892080"/>
            <a:ext cx="793620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2043000" y="1684440"/>
            <a:ext cx="7029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103400" y="981000"/>
            <a:ext cx="10020240" cy="570564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3"/>
          <p:cNvSpPr/>
          <p:nvPr/>
        </p:nvSpPr>
        <p:spPr>
          <a:xfrm>
            <a:off x="1238400" y="3557520"/>
            <a:ext cx="10047240" cy="7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1282680" y="4405320"/>
            <a:ext cx="10047240" cy="7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1312920" y="5297400"/>
            <a:ext cx="10002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1252440" y="5799240"/>
            <a:ext cx="10004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1135080" y="6278400"/>
            <a:ext cx="10002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7694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9893520" cy="44769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4"/>
          <p:cNvSpPr/>
          <p:nvPr/>
        </p:nvSpPr>
        <p:spPr>
          <a:xfrm>
            <a:off x="927000" y="947880"/>
            <a:ext cx="5662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868320" y="1405080"/>
            <a:ext cx="5661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852480" y="1917720"/>
            <a:ext cx="5662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824040" y="2397240"/>
            <a:ext cx="5661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763560" y="2865600"/>
            <a:ext cx="5692680" cy="75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749160" y="3757680"/>
            <a:ext cx="1038888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717480" y="4638600"/>
            <a:ext cx="1038852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9867960" cy="17812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1014480" y="893880"/>
            <a:ext cx="983772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925560" y="1773360"/>
            <a:ext cx="7461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731880" y="2274840"/>
            <a:ext cx="7461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406440" y="907920"/>
            <a:ext cx="11785680" cy="45910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"/>
          <p:cNvSpPr/>
          <p:nvPr/>
        </p:nvSpPr>
        <p:spPr>
          <a:xfrm>
            <a:off x="9431280" y="1706400"/>
            <a:ext cx="8445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1906560" y="2097000"/>
            <a:ext cx="111132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5905440" y="2097000"/>
            <a:ext cx="111132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1401840" y="2476440"/>
            <a:ext cx="111132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077320" y="2476440"/>
            <a:ext cx="23000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8923320" y="3246480"/>
            <a:ext cx="111132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1401840" y="3613320"/>
            <a:ext cx="111132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11349000" y="476244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419040" y="907920"/>
            <a:ext cx="11773080" cy="50101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11377440" y="914400"/>
            <a:ext cx="574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1391840" y="315612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444600" y="981000"/>
            <a:ext cx="11747520" cy="48578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3"/>
          <p:cNvSpPr/>
          <p:nvPr/>
        </p:nvSpPr>
        <p:spPr>
          <a:xfrm>
            <a:off x="3525840" y="1706400"/>
            <a:ext cx="7984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896760" y="5530680"/>
            <a:ext cx="820440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1206360" y="3268800"/>
            <a:ext cx="401184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757160" cy="343872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4"/>
          <p:cNvSpPr/>
          <p:nvPr/>
        </p:nvSpPr>
        <p:spPr>
          <a:xfrm>
            <a:off x="10098000" y="304488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527040" y="981000"/>
            <a:ext cx="10782360" cy="49816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10275840" y="461808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820520" cy="46101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10098000" y="19065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782360" cy="43340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4165560" y="1952640"/>
            <a:ext cx="56052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912960" y="981000"/>
            <a:ext cx="9969480" cy="32101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3"/>
          <p:cNvSpPr/>
          <p:nvPr/>
        </p:nvSpPr>
        <p:spPr>
          <a:xfrm>
            <a:off x="1042920" y="1071720"/>
            <a:ext cx="6121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1014480" y="1584360"/>
            <a:ext cx="6121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727280" y="2052720"/>
            <a:ext cx="1155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8834400" y="1974960"/>
            <a:ext cx="8301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9563040" y="2085840"/>
            <a:ext cx="501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2946240" y="2075040"/>
            <a:ext cx="427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1638360" y="2587680"/>
            <a:ext cx="54086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1668600" y="3157560"/>
            <a:ext cx="54068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5"/>
          <p:cNvSpPr/>
          <p:nvPr/>
        </p:nvSpPr>
        <p:spPr>
          <a:xfrm>
            <a:off x="1623960" y="3683160"/>
            <a:ext cx="95695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6:55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