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991-E022-434C-8976-9CC571F0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550-040F-423D-862C-3C4E894C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9D9-FF6E-481B-91C2-26735076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3AC-5804-4DD8-94BD-ACB86B97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6F71-39F5-4589-94ED-F13FABBA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F652-E163-41C7-A43D-A5E3FD96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280A-A99D-4F64-99A6-0D6D1EF8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D6D7-9C29-42E0-987B-EC243117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FC19-4BD3-4252-9A60-9F158031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DB10-88B9-4F73-BAD3-A220B84B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FEE6-E62B-40EF-A97F-D78C8BFB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CD3-F652-413E-A32A-411793E5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A49E-09D2-468B-AE77-7AD43965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DC52-A28E-4F5F-AC9E-72E5866F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A70B-07F7-4D94-9EC0-A79B5218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FB09-8CDA-40D1-9ED7-172B7295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639B-8DD0-4D0C-B09A-6DFA6C9E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2B6DD-304E-4FB3-B84F-A86D1E57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BA8F6-135E-4CFB-9315-CB9B2574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0A2C-D738-4CC0-AD87-7CBB960E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22832-696D-44DD-9191-06B69087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33216-F727-426F-9804-D7A4EAA0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2B3-06B7-4BA7-BFEC-0B0B18C2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69FD-97E5-4F30-83B4-20189842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A5AC0-5988-41B7-A2AB-8D372D93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C1C07-8DDA-47C7-A910-9A3479F5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B515-5A84-4D24-99F2-D18C8437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537A0-2119-40EC-B480-154BA500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914EF-C1E6-4420-A1DD-AD13C170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1EA08-8A35-46BA-AAFD-3E6EC276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D8E71-0971-403F-90B1-0AAB82D5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F7D49-4AB6-470E-97A1-754E0515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52E32-4C39-4BD0-9466-6CD43B1B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BF8-33D3-4181-B107-9F8F612A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E2A9C-2F8C-4D71-AC92-93B3501B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422F5-74E4-4F86-89A1-F7187637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D5C57-95E0-4395-A856-9C470C7B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0788F-4EEA-4843-AA2F-B7C8ECFE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E0F2B-B147-40DD-B398-AB6839B9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ACE38-5A33-42C8-904D-0E729C88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F742A-F17F-4789-A883-C4BA3408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04BF1-2BD7-4BB5-B675-D76DFFF1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F9D90-C421-4E09-8B14-D139E0B0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B4C55-5A93-4304-99A2-992E0320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E76-8C62-4926-913F-654F2C96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C57D9-F667-47AF-9230-6E3584B1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15A5A-5C0D-405C-9DE7-EB9359E4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A7B04-18EA-4E47-AC88-A0917C4E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AB0CC-65DC-4FCC-B422-23E0AA82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33358-A587-420C-836C-AFEA145C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51DB7-C2E8-426E-8049-42A0CA9A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6E4FD-B405-4BDD-84C0-8419F3E1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F4730-0408-4B0B-96F2-5BC8C415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B5F0-2158-445E-8968-8101C3E4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A53E7-7C2A-4B84-9645-76811D56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9A1-BFDE-45A0-90FF-50DC0FFC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7BBF5-0100-427C-BBAC-157A69D2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45031-A872-44E7-889E-6C349F8F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8D9F1-4A8A-423A-B15D-2581134B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3AB56-6066-4099-BA4E-58AE51E4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97C83-1BCF-4FF3-8CA8-5284C423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8E2AC-F5E9-4D88-81F5-1A00BF52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597C7-8898-4720-81F2-69509D67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6DB51-86EC-4BFC-928D-A30B4A88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2247A-F22B-407F-9392-D7C7E055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B182F-C854-40C6-B427-A9AFE272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F93-1DB3-43BC-9667-1BDA1FF9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2BD63-820E-4774-831A-622EA0F9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93402-D34F-4307-BE87-BEF6236E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CD1D6-A954-4FE8-B269-5EA581F6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FE2-980C-453B-A684-FCF759F6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E47-7071-4C40-858C-7DAD56BC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E036-A125-4572-896C-2B6EA99594C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A92D-7960-4B11-AAB8-B0FEC3C0BB0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A663-29E2-4996-B7A0-EB2DD53D05C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5642-104F-477B-8B3E-9F7AC9C17CE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8194-4648-4FD7-8C34-DC66BF52DFB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D6F7-9A1F-480C-BC1E-76037A56932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527040" y="1052640"/>
            <a:ext cx="10985400" cy="8762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3313080" y="2205000"/>
            <a:ext cx="5575320" cy="1295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3" descr=""/>
          <p:cNvPicPr/>
          <p:nvPr/>
        </p:nvPicPr>
        <p:blipFill>
          <a:blip r:embed="rId3"/>
          <a:stretch/>
        </p:blipFill>
        <p:spPr>
          <a:xfrm>
            <a:off x="1295280" y="3789360"/>
            <a:ext cx="4457880" cy="2943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4" descr=""/>
          <p:cNvPicPr/>
          <p:nvPr/>
        </p:nvPicPr>
        <p:blipFill>
          <a:blip r:embed="rId4"/>
          <a:stretch/>
        </p:blipFill>
        <p:spPr>
          <a:xfrm>
            <a:off x="6478560" y="4221000"/>
            <a:ext cx="4356000" cy="16192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5"/>
          <p:cNvSpPr/>
          <p:nvPr/>
        </p:nvSpPr>
        <p:spPr>
          <a:xfrm>
            <a:off x="8229600" y="4203720"/>
            <a:ext cx="27162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6"/>
          <p:cNvSpPr/>
          <p:nvPr/>
        </p:nvSpPr>
        <p:spPr>
          <a:xfrm>
            <a:off x="6489720" y="4516560"/>
            <a:ext cx="45291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7"/>
          <p:cNvSpPr/>
          <p:nvPr/>
        </p:nvSpPr>
        <p:spPr>
          <a:xfrm>
            <a:off x="6489720" y="5040360"/>
            <a:ext cx="445608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8"/>
          <p:cNvSpPr/>
          <p:nvPr/>
        </p:nvSpPr>
        <p:spPr>
          <a:xfrm>
            <a:off x="6415200" y="5319720"/>
            <a:ext cx="43815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39760" y="819000"/>
            <a:ext cx="10756800" cy="603900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3"/>
          <p:cNvSpPr/>
          <p:nvPr/>
        </p:nvSpPr>
        <p:spPr>
          <a:xfrm>
            <a:off x="960480" y="2230560"/>
            <a:ext cx="634356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1316160" y="2766960"/>
            <a:ext cx="634356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1141560" y="3657600"/>
            <a:ext cx="589896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185840" y="4205160"/>
            <a:ext cx="589932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1244520" y="4673520"/>
            <a:ext cx="589932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1468440" y="5253120"/>
            <a:ext cx="5052960" cy="69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1395360" y="6111720"/>
            <a:ext cx="5051520" cy="69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34800" y="836640"/>
            <a:ext cx="10731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8077320" cy="53722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3"/>
          <p:cNvSpPr/>
          <p:nvPr/>
        </p:nvSpPr>
        <p:spPr>
          <a:xfrm>
            <a:off x="1003320" y="936720"/>
            <a:ext cx="848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017720" y="1484280"/>
            <a:ext cx="8486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1047600" y="1941480"/>
            <a:ext cx="848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1062000" y="2509920"/>
            <a:ext cx="8486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1077840" y="3044880"/>
            <a:ext cx="848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1003320" y="3613320"/>
            <a:ext cx="848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988920" y="4227480"/>
            <a:ext cx="80676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958680" y="4740120"/>
            <a:ext cx="80694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944640" y="5330880"/>
            <a:ext cx="806760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914400" y="5888160"/>
            <a:ext cx="806940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1103400" y="907920"/>
            <a:ext cx="6730920" cy="14954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"/>
          <p:cNvSpPr/>
          <p:nvPr/>
        </p:nvSpPr>
        <p:spPr>
          <a:xfrm>
            <a:off x="1017720" y="871560"/>
            <a:ext cx="7013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1017720" y="1374840"/>
            <a:ext cx="7013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1106640" y="1920960"/>
            <a:ext cx="7013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44360" y="907920"/>
            <a:ext cx="6807240" cy="752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444600" y="1916280"/>
            <a:ext cx="11747520" cy="42382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4"/>
          <p:cNvSpPr/>
          <p:nvPr/>
        </p:nvSpPr>
        <p:spPr>
          <a:xfrm>
            <a:off x="11514240" y="1828800"/>
            <a:ext cx="60624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884160" y="2320920"/>
            <a:ext cx="60660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2668680" y="2320920"/>
            <a:ext cx="99360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4616280" y="2309760"/>
            <a:ext cx="1557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8405640" y="2887560"/>
            <a:ext cx="61920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10663200" y="2887560"/>
            <a:ext cx="62064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9269280" y="3591000"/>
            <a:ext cx="88920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11368080" y="5197320"/>
            <a:ext cx="485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419040" y="765000"/>
            <a:ext cx="11773080" cy="59248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3"/>
          <p:cNvSpPr/>
          <p:nvPr/>
        </p:nvSpPr>
        <p:spPr>
          <a:xfrm>
            <a:off x="11425320" y="1127160"/>
            <a:ext cx="411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11425320" y="4549680"/>
            <a:ext cx="411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11469600" y="5754600"/>
            <a:ext cx="411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469800" y="836640"/>
            <a:ext cx="11722320" cy="43624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3"/>
          <p:cNvSpPr/>
          <p:nvPr/>
        </p:nvSpPr>
        <p:spPr>
          <a:xfrm>
            <a:off x="10744200" y="814320"/>
            <a:ext cx="4395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4751280" y="3857760"/>
            <a:ext cx="44136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8275680" y="4549680"/>
            <a:ext cx="4413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10536120" y="4471920"/>
            <a:ext cx="5302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623880" y="907920"/>
            <a:ext cx="10731600" cy="50961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"/>
          <p:cNvSpPr/>
          <p:nvPr/>
        </p:nvSpPr>
        <p:spPr>
          <a:xfrm>
            <a:off x="10253520" y="220824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0179000" y="477360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833120" cy="54388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3"/>
          <p:cNvSpPr/>
          <p:nvPr/>
        </p:nvSpPr>
        <p:spPr>
          <a:xfrm>
            <a:off x="9925200" y="196380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239760" y="836640"/>
            <a:ext cx="10794960" cy="42670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3"/>
          <p:cNvSpPr/>
          <p:nvPr/>
        </p:nvSpPr>
        <p:spPr>
          <a:xfrm>
            <a:off x="7738920" y="1506600"/>
            <a:ext cx="11700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6356520" y="3211560"/>
            <a:ext cx="83016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6578640" y="4205160"/>
            <a:ext cx="100800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3600360" y="1052640"/>
            <a:ext cx="4000680" cy="2771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334800" y="3933720"/>
            <a:ext cx="10719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912960" y="907920"/>
            <a:ext cx="9118440" cy="33433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3"/>
          <p:cNvSpPr/>
          <p:nvPr/>
        </p:nvSpPr>
        <p:spPr>
          <a:xfrm>
            <a:off x="914400" y="858960"/>
            <a:ext cx="89899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1079640" y="1360440"/>
            <a:ext cx="89899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1227240" y="1917720"/>
            <a:ext cx="8750160" cy="7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319040" y="2876400"/>
            <a:ext cx="898848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1271520" y="3379680"/>
            <a:ext cx="5451480" cy="7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5:21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