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594-C897-410E-820D-DE354C16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ACF-C548-41BA-B20E-8B69C77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E8E-4DA9-4DEF-812C-207ABCFB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560-1054-440A-8E7E-4781DB81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C7C1-5AEF-4627-B8F1-6CE3067E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71EE-1124-4731-9462-7A913C5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865-9D51-4224-883D-0612BCEA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A00-8FE5-4FE4-973D-92BF066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50A-6C55-4663-846D-78117BC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E79C-1745-4334-ABC2-4E3973B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F95-C78F-4D5D-A2B2-A3AD5B4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F7A-C8DD-4C91-91E9-DF95451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7B68-9E56-490C-A370-B9841961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499-908A-4ABF-82E7-DEBD013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86DB-90C6-4FD3-AF65-1AFD66BC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FD8-E3C4-4AEE-8667-7AB2AB89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2382-138A-461F-9F98-7356E00D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2368-A214-4C55-A53B-5FC1C33C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726E-2CA0-4282-BB6E-AAB2403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E5ED-C995-4BF5-8545-480BD169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83B5-BFD9-42AF-95A0-90F6C26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0CC1-E487-4072-AB4D-1C97BE7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80F-067C-466D-B58E-453B4622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0BCB-56A7-49E6-9273-7359A2A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E247-5DC2-4203-A328-C4EB28A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5BEE-757C-4250-AB89-386A10CD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6969-0CE2-4E6B-A0A3-6168D33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71B8-2554-4964-962E-6957DAE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5725F-B305-4D5B-888E-A375C285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082E-5421-4516-8950-3D69ED15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7EDA-1B05-4F7A-A75B-CCBB20BC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4BD1-05C0-495B-8CCF-01E34D0C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ED18C-9BD6-4334-9733-E797EEBD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579-7428-4943-A535-1B3151C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8150-8187-4074-BDC0-7DEAB6E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053D-CE71-4EF1-89C9-B80FE98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BA16-7664-4F59-8B5E-7163D6F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A7EE-C062-4CA7-9B0F-25D9A96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D40E-29AE-4A04-956E-EFF0A0C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C0EA-3964-4B56-8466-DB8724E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4C0C-2D33-42CC-A383-A7613817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F35D-B094-4222-BC7D-624E7A4C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FA5D-6148-4F35-B69A-D2E2393C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9732-AE28-4F19-8681-7B013F3A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474-7971-41D9-AE27-A7F275E7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BA2F-3025-4942-9242-EE33DD5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D0A28-0B33-4C32-A2D5-71B833A0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604A-0FDC-48E2-B484-08BB43D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865F-CFBF-4720-B3AC-74B3E04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919D6-D8C7-4068-B7FC-FDEC51E4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DBC0-E0F2-4C9B-B921-CA28B4E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D06A8-9D9A-4BDB-9C3D-363C44B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7464-509B-43E1-8136-0A1273F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6F90-97C4-43A1-9DB0-84F7E4F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878AD-FE43-440F-9B99-D1BF8F2B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0AD-84F4-4F70-B31B-1D6EDD8E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821BD-F0FE-4D9C-9F21-43E79392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77FF-25A2-4461-8454-A018F230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ACBC1-5D2C-4372-9632-AC6D8C3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FC68-0455-4D3A-8484-DD541D28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B573-3E8A-4660-8AFD-7B62C40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5461-7B57-49F0-A8B2-23A657FE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69BB1-4605-4608-B624-C3305011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425C1-E0F8-48C3-9F21-0E59D77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7A19-D952-494A-8281-CB7E41F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D3B3E-5897-403A-8FBA-FE4FAEB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CB1-ED3B-4DD3-9900-3B9B07E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77D91-AE8E-4052-BBCF-E0B64520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C0A16-FA78-434A-A1EC-5853DEF7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DB60-1CE3-42B8-830C-5637E90A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844-0BB9-49B2-9EF5-B7CFE76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D09-91DF-46A3-8E96-C3641D1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4508-BF1E-4374-AE2F-22C9FC6093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27A-EA98-4D6F-94F4-2A14D4D8BA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FDBB-ED4E-447A-8C3E-7118ABD2BD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2735-3A92-40E9-BAF0-0A2CA7C42D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EB4-C78F-4BFA-AD1E-654571B6D9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0AAB-853D-4DFA-A034-0A531699F27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1487520" y="1052640"/>
            <a:ext cx="8674200" cy="399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103400" y="2276640"/>
            <a:ext cx="4368600" cy="4095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383160" y="278136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8113680" y="2708280"/>
            <a:ext cx="2687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6418440" y="3021120"/>
            <a:ext cx="44132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357960" y="3243240"/>
            <a:ext cx="4413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6373800" y="3456000"/>
            <a:ext cx="4413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6343560" y="3801960"/>
            <a:ext cx="4471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6432480" y="4348080"/>
            <a:ext cx="4471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6373800" y="4894200"/>
            <a:ext cx="447192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6383160" y="5445000"/>
            <a:ext cx="4418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6294600" y="5691240"/>
            <a:ext cx="44179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4" descr=""/>
          <p:cNvPicPr/>
          <p:nvPr/>
        </p:nvPicPr>
        <p:blipFill>
          <a:blip r:embed="rId4"/>
          <a:stretch/>
        </p:blipFill>
        <p:spPr>
          <a:xfrm>
            <a:off x="2971800" y="3243240"/>
            <a:ext cx="26035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982080" cy="4533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046160" y="2117880"/>
            <a:ext cx="5241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239840" y="2619360"/>
            <a:ext cx="5243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193760" y="3200400"/>
            <a:ext cx="500400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150920" y="4079880"/>
            <a:ext cx="5243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284120" y="4614840"/>
            <a:ext cx="52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403280" y="5138640"/>
            <a:ext cx="52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0" descr=""/>
          <p:cNvPicPr/>
          <p:nvPr/>
        </p:nvPicPr>
        <p:blipFill>
          <a:blip r:embed="rId2"/>
          <a:stretch/>
        </p:blipFill>
        <p:spPr>
          <a:xfrm>
            <a:off x="6259680" y="1974960"/>
            <a:ext cx="4584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9232920" cy="293364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1015920" y="925560"/>
            <a:ext cx="76662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008000" y="1916280"/>
            <a:ext cx="796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081080" y="2452680"/>
            <a:ext cx="796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947880" y="2954160"/>
            <a:ext cx="926280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912960" y="3500280"/>
            <a:ext cx="240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782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814320" y="836640"/>
            <a:ext cx="10452240" cy="54766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1265400" y="3916440"/>
            <a:ext cx="998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309680" y="4406760"/>
            <a:ext cx="998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251000" y="4919760"/>
            <a:ext cx="9988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1353960" y="5510160"/>
            <a:ext cx="100490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14320" y="907920"/>
            <a:ext cx="10248840" cy="45435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1103400" y="981000"/>
            <a:ext cx="9956880" cy="6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912960" y="184464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060560" y="242568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1238400" y="3062160"/>
            <a:ext cx="963756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1046160" y="398628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1090440" y="4465800"/>
            <a:ext cx="988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1046160" y="5013360"/>
            <a:ext cx="64389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79360" y="765000"/>
            <a:ext cx="11912760" cy="51627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9786960" y="1760400"/>
            <a:ext cx="18702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71640" y="2073240"/>
            <a:ext cx="18684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589200" y="2073240"/>
            <a:ext cx="18702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221520" y="2062080"/>
            <a:ext cx="1868400" cy="32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4846680" y="4581360"/>
            <a:ext cx="81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7823160" y="4581360"/>
            <a:ext cx="81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7684920" y="5062680"/>
            <a:ext cx="5907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0617120" y="5049720"/>
            <a:ext cx="81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1058760" y="5506920"/>
            <a:ext cx="113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91960" y="836640"/>
            <a:ext cx="11900160" cy="5410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1377440" y="184464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1391840" y="28256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304920" y="676440"/>
            <a:ext cx="11887200" cy="61815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5068800" y="1019160"/>
            <a:ext cx="6508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897600" y="2011320"/>
            <a:ext cx="80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1027080" y="3036960"/>
            <a:ext cx="9921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1377440" y="623736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06400" cy="4829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0128240" y="4797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34800" y="1052640"/>
            <a:ext cx="10871280" cy="45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5519880" y="5157720"/>
            <a:ext cx="671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74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008000" y="1052640"/>
            <a:ext cx="10185480" cy="54957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1008000" y="1125360"/>
            <a:ext cx="652788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7728120" y="1052640"/>
            <a:ext cx="3377880" cy="34668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992160" y="162720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992160" y="216216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066680" y="267480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1036800" y="3176640"/>
            <a:ext cx="6648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1081080" y="3790800"/>
            <a:ext cx="6527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1155600" y="4336920"/>
            <a:ext cx="6527880" cy="6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1111320" y="5251320"/>
            <a:ext cx="1003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1008000" y="5797440"/>
            <a:ext cx="1007928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10071000" cy="2600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334800" y="3860640"/>
            <a:ext cx="10680840" cy="25336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1103400" y="936720"/>
            <a:ext cx="9940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11240" y="1428840"/>
            <a:ext cx="10150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41480" y="2063880"/>
            <a:ext cx="10148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995400" y="2587680"/>
            <a:ext cx="10148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950760" y="3122640"/>
            <a:ext cx="1014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7:13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