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8CE-AE98-486E-893D-89E6E0AE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2F5-1044-443D-B146-17275DE7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D79-A469-48B2-ADD7-29C5B8B3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D9E-E14C-49F8-A378-B32C4394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5B3A-CA3F-467D-A101-5819DC94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37DE-77DF-4960-AC1B-EE48AC40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450B-045D-4C13-9630-099D7E51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1F3B-4805-4BA9-B858-741994A8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2D1D-6A65-4B1F-B51F-46980AF6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F8B0-F813-4EB2-8666-8BBA2E7A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5A5E-1499-4017-9A8A-30B8A69F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A5B-D527-441C-A5B8-5DE71BDD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C505-750C-4FC1-A249-FC88310A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C885-61AA-4324-B1E9-67474885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87B8-EB61-44BD-BE70-F24AD28C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232A-C135-4F85-B3E6-788F0C87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F5B4-53AB-4E5C-A748-A73FCF28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E827-998E-4C98-9374-D7606BC2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74CB-9E38-40F6-8091-779BAF19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2773-3BF0-49C9-8050-DC8A7284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F77E7-5FF1-4CDF-BDC8-4EE3A493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E9AA-2EB3-4347-9E1F-F7A6483C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0D0-0A7C-4E00-A0FB-BD4DC57F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2BC0-2C5F-4C87-B11B-3ACB61DF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FAAE-70F1-4B0F-8F74-2BCD63E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3209-A54A-4D35-BD6A-AE3F92B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BC54-BA48-401E-965B-ACC41218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1D32-4A7F-481B-92CA-48F4DF6C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977A-5BAE-4EC0-874C-806EB82C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A1BC-2368-4D1A-86BE-66C7A58D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18DA5-D79A-41B9-AEDD-B5B06D52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023CF-062B-4A3D-B580-A0BE97AB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642C-A8CD-4C42-A17F-48542824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63E-7820-4AA1-9646-396D7637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D3824-9398-4B0C-BAB3-2D2DF630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E1756-C81F-4FB4-B538-2C27974F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94686-762C-4844-AE55-1D36935E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A891F-0BDA-4DD2-A6DB-7C8B2DFC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A56B6-5DC6-4776-9D9F-F0B1AFA5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C2A3-A4CE-4365-AB3F-DF385F6E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EACD4-0381-4000-8696-F98DADBB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51A2D-4A04-4F29-8CFF-911A410E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128D9-3F28-47EA-A2C9-07B2697A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2C575-AF97-47B7-BA7E-F58B40EC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486-FB4B-4FB9-8CA7-0AB39F1E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5B3F5-0F15-4A4B-B3C9-5743BF2A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325A7-C3F3-476F-B25A-A3073923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EC3AD-0179-41B0-909F-44F8E334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1B20E-79BC-4E40-B85E-504B3FBF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5305-9020-47DF-91CF-CC5E4C21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1CEDB-5045-4C87-9A60-EFE31C45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845C6-6AB7-4BD3-BE2E-3BAD9BFF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DDA4B-EF94-4352-94EC-EAA1CE82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1FD93-7485-48D2-B3BF-A73A7F7E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2D26D-26E4-4CEB-9A56-D09572F1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CC5-7E4B-43D1-83A8-086B53D9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3374-084E-4AF8-A0FC-854B8055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BF37C-BC38-49AB-B7F4-CE6D04EF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9BDBB-ADE1-4B03-8737-A0FBFFEA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09BFE-7698-4415-8FC6-D8D7FB29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04A1D-1A5B-4615-BBDC-D4FF5752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D4085-FF31-4F3D-B97F-3B3F97E2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631EC-0E13-4BE0-9AA4-1E2F0F7E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00068-3CE2-4FC1-A715-BBEDB6F9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B69ED-A461-4159-AD67-995BF87B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4291D-507F-4176-9B51-D2FCEB14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DAB-7BE5-416D-A3E4-B714874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769CD-D810-4B90-9D65-3939B46E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C8898-B163-4B9C-8CEA-07131CCD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7B1D6-4EFC-4067-8414-5A238317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516-28F4-4E0A-A45F-1F0FC250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14B-CDA6-4FFF-8B45-C8222926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9D52-DEA1-4840-A41A-E10226BAB45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9CB4-66C2-458C-AFC0-4A5B0EC1674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7713-3164-4ADA-A65A-9206087B761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DE1B-46AB-4643-932E-56E153CC981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76D7-F731-4F16-AF81-B3014A21DB8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BB05-D753-48AF-8829-C3FDF40479E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1103400" y="1197000"/>
            <a:ext cx="9867960" cy="399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1390680" y="2276640"/>
            <a:ext cx="4444920" cy="4143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7056360" y="2924280"/>
            <a:ext cx="3416400" cy="13906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4"/>
          <p:cNvSpPr/>
          <p:nvPr/>
        </p:nvSpPr>
        <p:spPr>
          <a:xfrm>
            <a:off x="8688240" y="2852640"/>
            <a:ext cx="17272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5"/>
          <p:cNvSpPr/>
          <p:nvPr/>
        </p:nvSpPr>
        <p:spPr>
          <a:xfrm>
            <a:off x="7129440" y="3265560"/>
            <a:ext cx="217188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7215120" y="4022640"/>
            <a:ext cx="2352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912960" y="836640"/>
            <a:ext cx="9524880" cy="54291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1295280" y="836640"/>
            <a:ext cx="87375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1398600" y="1728720"/>
            <a:ext cx="95551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295280" y="2708280"/>
            <a:ext cx="556920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390680" y="3141720"/>
            <a:ext cx="904860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1243080" y="3710160"/>
            <a:ext cx="50180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271520" y="4233960"/>
            <a:ext cx="6283440" cy="9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1301760" y="5294160"/>
            <a:ext cx="68468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1136520" y="5818320"/>
            <a:ext cx="68468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34800" y="819000"/>
            <a:ext cx="10858680" cy="60390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1087560" y="6499080"/>
            <a:ext cx="5959440" cy="3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008000" y="765000"/>
            <a:ext cx="9398160" cy="59914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1008000" y="836640"/>
            <a:ext cx="87375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200240" y="1700280"/>
            <a:ext cx="30718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111320" y="2235240"/>
            <a:ext cx="4275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111320" y="2759040"/>
            <a:ext cx="54799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992160" y="3294000"/>
            <a:ext cx="54799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6819840" y="1631880"/>
            <a:ext cx="356256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1081080" y="3828960"/>
            <a:ext cx="54799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1081080" y="4375080"/>
            <a:ext cx="7948800" cy="7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1081080" y="5278320"/>
            <a:ext cx="93013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1066680" y="5824440"/>
            <a:ext cx="93013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1081080" y="6315120"/>
            <a:ext cx="54799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9309240" cy="24195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1200240" y="981000"/>
            <a:ext cx="412740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1185840" y="1494000"/>
            <a:ext cx="412740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200240" y="2017800"/>
            <a:ext cx="887076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1052640" y="2943360"/>
            <a:ext cx="220968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239760" y="981000"/>
            <a:ext cx="6692760" cy="6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291960" y="1916280"/>
            <a:ext cx="11900160" cy="47052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4078440" y="1844640"/>
            <a:ext cx="124920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8064360" y="1855800"/>
            <a:ext cx="124956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10129680" y="1866960"/>
            <a:ext cx="124956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1415880" y="2179800"/>
            <a:ext cx="142884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5954760" y="2189160"/>
            <a:ext cx="124776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844560" y="2536920"/>
            <a:ext cx="9079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5519880" y="3716280"/>
            <a:ext cx="57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2351160" y="4292640"/>
            <a:ext cx="60624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11347560" y="5396040"/>
            <a:ext cx="60480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91960" y="836640"/>
            <a:ext cx="11900160" cy="4305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254160" y="5229360"/>
            <a:ext cx="11937960" cy="121896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4"/>
          <p:cNvSpPr/>
          <p:nvPr/>
        </p:nvSpPr>
        <p:spPr>
          <a:xfrm>
            <a:off x="11377440" y="1700280"/>
            <a:ext cx="60516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1347560" y="5803920"/>
            <a:ext cx="60480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54160" y="836640"/>
            <a:ext cx="11937960" cy="4591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2"/>
          <a:stretch/>
        </p:blipFill>
        <p:spPr>
          <a:xfrm>
            <a:off x="1104840" y="5516640"/>
            <a:ext cx="11087280" cy="11620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10320480" y="1125360"/>
            <a:ext cx="606240" cy="3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139160" y="2340000"/>
            <a:ext cx="60624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42960" y="4281480"/>
            <a:ext cx="65977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295280" y="4869000"/>
            <a:ext cx="22082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1243080" y="5516640"/>
            <a:ext cx="109490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1212840" y="6084720"/>
            <a:ext cx="109490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896840" cy="40672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10223640" y="3573360"/>
            <a:ext cx="604800" cy="3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44200" cy="48578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7823160" y="2997360"/>
            <a:ext cx="604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0871280" cy="34671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6959520" y="2924280"/>
            <a:ext cx="60480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69760" cy="50389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5614920" y="3500280"/>
            <a:ext cx="961920" cy="3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7385040" y="4994280"/>
            <a:ext cx="368136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200240" y="5516640"/>
            <a:ext cx="95868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334800" y="914400"/>
            <a:ext cx="10820520" cy="59436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1200240" y="5661000"/>
            <a:ext cx="65278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871640" y="6453360"/>
            <a:ext cx="422424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1:32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