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948-FF37-434C-AB01-9771C48E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F6E-10C2-4799-B4F0-27A6174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0D7-3D93-428A-B67F-0DA1C7D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9BD-B093-4C9A-A178-DE076015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7A84-263F-4E05-BA5D-04BE2AD5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3636-7038-4B4C-BF35-3379FF1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E0D5-D429-4B3A-9C5A-FA9A87EA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B230-AE3F-41F5-9E44-5DA3ACA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5E6E-4C4E-4E18-9834-7D3E5D75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1240-36C7-45D7-82E1-C93D29D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6E7-247A-4D84-AED5-4496E3A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589-9A96-4F22-B4D2-19838F2F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28F-F195-43DB-A531-4FF3A45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B9B-CE20-4221-84FA-3826A5C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4031-6527-4BE8-9D1D-DE1B0FA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C42A-1E2C-4D2A-9998-CC2912FA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FD4-81EC-4FD2-AE09-60393D1C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3584-40CD-4AB5-B871-8D16EBB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7B21-4A86-4AAD-BC73-7234AAA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DB97-CC4B-4FC6-98EE-E2EE93FC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4583-9B6C-4EA3-96CF-CD5B5336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FB7E-D7F9-4EB3-8408-7041A4D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89D-D3E8-4B90-8E08-F91600AC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2C14-AB1E-4895-B7B4-00D8319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79BB-E02C-4913-A6D3-D4FCB225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F2AD-6E40-4D15-BCE2-DE039E3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013A-4017-439E-898F-D621AAA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30C7-7762-472A-98FF-699BE3AC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CF87-FFD1-445A-AE7B-65B4F599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B383-851D-4777-9542-CCD08924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3D75-D1A3-4072-9A63-45A13488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926B-EE20-4319-9C2E-7D6EAF4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9D2F-4A46-4E42-B56F-87065AE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673-6C9A-46D1-A066-1EEB2950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F4AE-6709-429E-AE75-13145BA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CEA2-31ED-4A11-91CF-075EBD6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3753-D082-4FE6-AAC7-0AD3E92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8DB4-8448-4711-82BE-9392F9D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F501B-411F-420D-8A6C-8E917C7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FC01-C90F-499B-886D-6789D0C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F209-2F32-4EA3-A0F3-D8F03DC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63D6-0002-4A46-AB82-E953E0A0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B6D7-7373-4683-B00E-EE677A06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F53D-F08D-45F3-887F-740AD09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2B1-D6AF-4AED-A913-AE3F42E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BF3DE-2760-4152-883F-0426E35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8DE4-7C1B-4FC1-AB5D-C3B6C28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B895-23B1-4B78-A227-DC22617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19B9-DBDC-4321-9078-71BEB2BF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E837-C0BF-4027-B92F-08005920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404B-A26B-4E99-A1E4-3BAF7052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19DB-70DE-4327-AEA4-AAE2DEC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CFA8-661F-4C6C-A11E-C35FAF6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F20C-8205-4A52-82A5-6BEC76B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A467-1605-4702-BE32-CE5A4A6F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49A-A860-4E40-9942-E376B00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8B26-BDFB-4663-AC45-A2FE3AB9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F72F-E979-4C45-B1B2-A8577FF3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FA77-066E-4F31-BD82-BFF55AA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20FF-0F92-4093-9CED-4CBD798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240CF-B07E-44E1-ADAA-E3A04F2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C8C8F-6E60-4B28-9D62-BD1D6A5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1DD4-0872-4FB2-BB6C-02583E5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76CF8-3637-422A-AA64-1C5B6E6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467B-CA29-4E3D-8676-CEE70DB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7E7B-D9FB-4AC1-A740-3D605F0F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C08-4304-4559-8CA8-FF9B27A9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548E8-83A6-4D2B-AB8A-9E3809F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F108-8E77-423B-909D-252A0DD9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29EF-E885-4FE4-B54E-D85FAD2C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8CB-16B7-423E-8490-BFA58D0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278-B97B-4689-80F6-5D21E4F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AF0-2AA4-4AC3-9D5E-6EAD657673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2FD-93C6-4442-93E1-E8AE01AED2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CBD8-234D-4A9E-9D45-24C5D15684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DF5-08C4-4398-9E06-A197D94CF0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0F8-9F44-4A91-A4F3-97B4D30C91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C9B-6E40-435E-BABD-F69AF85BF7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5080" y="2233440"/>
            <a:ext cx="1172196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260280" y="857160"/>
            <a:ext cx="11671200" cy="2400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896760" y="2359080"/>
            <a:ext cx="694080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11696760" cy="4838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792000" y="1889280"/>
            <a:ext cx="505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149480" y="2324160"/>
            <a:ext cx="4814640" cy="63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163520" y="2994120"/>
            <a:ext cx="5052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536840" y="3395520"/>
            <a:ext cx="5052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477800" y="3863880"/>
            <a:ext cx="505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401840" y="4299120"/>
            <a:ext cx="505152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386000" y="4711680"/>
            <a:ext cx="5052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1415880" y="5157720"/>
            <a:ext cx="50533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79360" y="812880"/>
            <a:ext cx="11633400" cy="56102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852480" y="2805120"/>
            <a:ext cx="42926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433520" y="3517920"/>
            <a:ext cx="42926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744560" y="4232160"/>
            <a:ext cx="42926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847880" y="4923000"/>
            <a:ext cx="459108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1803240" y="5324400"/>
            <a:ext cx="45910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817640" y="5703840"/>
            <a:ext cx="45910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1728720" y="6081840"/>
            <a:ext cx="459108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774720" y="923760"/>
            <a:ext cx="4216320" cy="1552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266760" y="3468600"/>
            <a:ext cx="11658600" cy="30672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793800" y="93204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38080" y="1311120"/>
            <a:ext cx="4502160" cy="3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779400" y="170172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93800" y="211464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763560" y="501336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136520" y="545940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1255680" y="5805360"/>
            <a:ext cx="45021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1403280" y="6229440"/>
            <a:ext cx="5437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60240" y="968400"/>
            <a:ext cx="9296640" cy="33145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808200" y="996840"/>
            <a:ext cx="928980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776160" y="1722600"/>
            <a:ext cx="799488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58800" y="2101680"/>
            <a:ext cx="79945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703440" y="2514600"/>
            <a:ext cx="504972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614520" y="3218040"/>
            <a:ext cx="799452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658800" y="3652920"/>
            <a:ext cx="7861320" cy="60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47680" y="766800"/>
            <a:ext cx="11696760" cy="5324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731880" y="2324160"/>
            <a:ext cx="7491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954000" y="2714760"/>
            <a:ext cx="7491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895320" y="3116160"/>
            <a:ext cx="7491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895320" y="3517920"/>
            <a:ext cx="7491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895320" y="3852720"/>
            <a:ext cx="7491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895320" y="4265640"/>
            <a:ext cx="7491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925560" y="4689360"/>
            <a:ext cx="7489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998640" y="5100480"/>
            <a:ext cx="6615000" cy="5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909720" y="5703840"/>
            <a:ext cx="7491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66760" y="717480"/>
            <a:ext cx="11658600" cy="56674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927000" y="4944960"/>
            <a:ext cx="82612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35120" y="5357880"/>
            <a:ext cx="1075824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985680" y="6049800"/>
            <a:ext cx="9064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4960" y="907920"/>
            <a:ext cx="8026560" cy="762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266760" y="2857680"/>
            <a:ext cx="11658600" cy="38192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69880" y="863640"/>
            <a:ext cx="897588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95360" y="1276200"/>
            <a:ext cx="897732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749160" y="5113440"/>
            <a:ext cx="112665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04880" y="5570640"/>
            <a:ext cx="1126656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90480" y="5948280"/>
            <a:ext cx="11266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690480" y="6327720"/>
            <a:ext cx="112665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12920" y="833400"/>
            <a:ext cx="11366280" cy="33624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717480" y="830160"/>
            <a:ext cx="1117620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1880" y="1622520"/>
            <a:ext cx="1117584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47720" y="2370240"/>
            <a:ext cx="111441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717480" y="3462480"/>
            <a:ext cx="8053560" cy="61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85840" y="757080"/>
            <a:ext cx="11620440" cy="4114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874800" y="4973760"/>
            <a:ext cx="109472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60280" y="880920"/>
            <a:ext cx="11671200" cy="4448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723960" y="5403960"/>
            <a:ext cx="6489720" cy="3524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4"/>
          <p:cNvSpPr/>
          <p:nvPr/>
        </p:nvSpPr>
        <p:spPr>
          <a:xfrm>
            <a:off x="10991880" y="16444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7183440" y="457668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77800" y="922320"/>
            <a:ext cx="11036520" cy="54579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3"/>
          <p:cNvSpPr/>
          <p:nvPr/>
        </p:nvSpPr>
        <p:spPr>
          <a:xfrm>
            <a:off x="673200" y="1355760"/>
            <a:ext cx="65674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495360" y="1757520"/>
            <a:ext cx="65674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673200" y="2158920"/>
            <a:ext cx="65674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58800" y="2549520"/>
            <a:ext cx="65674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98320" y="2951280"/>
            <a:ext cx="65692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539640" y="3308400"/>
            <a:ext cx="65674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54040" y="3686040"/>
            <a:ext cx="5261040" cy="11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509760" y="4857840"/>
            <a:ext cx="656892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09760" y="5270400"/>
            <a:ext cx="65689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525600" y="5594400"/>
            <a:ext cx="65674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392040" y="6006960"/>
            <a:ext cx="65674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27040" y="771480"/>
            <a:ext cx="11138040" cy="5315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719280" y="6207120"/>
            <a:ext cx="5219640" cy="3524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4"/>
          <p:cNvSpPr/>
          <p:nvPr/>
        </p:nvSpPr>
        <p:spPr>
          <a:xfrm>
            <a:off x="703440" y="785880"/>
            <a:ext cx="33415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69880" y="1143000"/>
            <a:ext cx="3341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509760" y="1577880"/>
            <a:ext cx="6138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6738840" y="1409760"/>
            <a:ext cx="5008680" cy="28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525600" y="1957320"/>
            <a:ext cx="613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465120" y="2313000"/>
            <a:ext cx="6138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420840" y="2747880"/>
            <a:ext cx="6138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360360" y="3171960"/>
            <a:ext cx="6108840" cy="60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495360" y="3852720"/>
            <a:ext cx="6138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420840" y="4221000"/>
            <a:ext cx="57816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420840" y="4956120"/>
            <a:ext cx="6138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539640" y="5335560"/>
            <a:ext cx="6139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14520" y="5748480"/>
            <a:ext cx="613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658800" y="6205680"/>
            <a:ext cx="61372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436680" y="698400"/>
            <a:ext cx="11112480" cy="5953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3678120" y="6324480"/>
            <a:ext cx="3022560" cy="3430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5"/>
          <p:cNvSpPr/>
          <p:nvPr/>
        </p:nvSpPr>
        <p:spPr>
          <a:xfrm>
            <a:off x="569880" y="741240"/>
            <a:ext cx="3132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509760" y="1154160"/>
            <a:ext cx="93470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44520" y="1533600"/>
            <a:ext cx="93470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85840" y="1935000"/>
            <a:ext cx="934704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404640" y="2336760"/>
            <a:ext cx="93474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569880" y="2736720"/>
            <a:ext cx="97488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8121600" y="3060720"/>
            <a:ext cx="335772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525600" y="3116160"/>
            <a:ext cx="565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465120" y="3573360"/>
            <a:ext cx="560088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495360" y="4309920"/>
            <a:ext cx="565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690480" y="4734000"/>
            <a:ext cx="53625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615960" y="5100480"/>
            <a:ext cx="536400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630360" y="5603760"/>
            <a:ext cx="52164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482760" y="6327720"/>
            <a:ext cx="646272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260280" y="1276200"/>
            <a:ext cx="11671200" cy="4305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757080" y="5738760"/>
            <a:ext cx="8204400" cy="800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623880" y="1268280"/>
            <a:ext cx="7008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7289640" y="2157480"/>
            <a:ext cx="6051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7243920" y="405288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1036160" y="5113440"/>
            <a:ext cx="6048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49280" y="876240"/>
            <a:ext cx="8381880" cy="1581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465120" y="2521080"/>
            <a:ext cx="11557080" cy="590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8852040" y="660240"/>
            <a:ext cx="2786040" cy="195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241200" y="3112920"/>
            <a:ext cx="11709360" cy="36007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7899480" y="202392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1050560" y="383076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77840" y="1036800"/>
            <a:ext cx="11836440" cy="56768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1006280" y="1433520"/>
            <a:ext cx="6062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050560" y="5859360"/>
            <a:ext cx="6066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90440" y="1052640"/>
            <a:ext cx="11811240" cy="4752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1036160" y="18018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0202760" y="318456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275840" y="4110120"/>
            <a:ext cx="606600" cy="37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9548640" y="5013360"/>
            <a:ext cx="1019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16000" y="1224000"/>
            <a:ext cx="11760120" cy="4410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5416560" y="3997440"/>
            <a:ext cx="5158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713880" y="5135400"/>
            <a:ext cx="60480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03040" y="1195560"/>
            <a:ext cx="11785680" cy="4466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1373040" y="3684600"/>
            <a:ext cx="11858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989520" y="4867200"/>
            <a:ext cx="1871640" cy="6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41200" y="806400"/>
            <a:ext cx="11709360" cy="6000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386000" y="6372360"/>
            <a:ext cx="257004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32:1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