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959-DB81-40CB-B384-DAA52761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D49-4D73-4625-B969-A1453C31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585-3047-4AE7-9373-3466A8CB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E3D-7BB6-4BE5-9EB6-4491475C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E402-9661-4A77-A0BE-CEF419F4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AF00-4758-4FA8-BDAB-F198ACB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A00F-8F17-4521-BA87-D591ABA7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2182-C06A-4FC9-93D2-CBB3B82C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382C-4DF3-4A16-B7FF-BCA5259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6F8E-D80E-4C23-8D65-9F83076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CBB0-9D5F-404B-BD71-42AEF8B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BD2-892F-4803-88F6-4E4AF05E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BDE7-76E8-49B7-95B0-7E0943D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F74B-61C1-4FBD-94CD-A1672A7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8F19-EFF6-44A8-815D-80F5751D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8341-5C5C-4C94-B220-5AB12B98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5E8E-EAFA-4537-99D6-2DB54D0E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6CFC-C361-4E1D-8598-AFA8E15B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5964-BC7A-40ED-9451-3E2C70F9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27F1-6160-4C6C-A3DC-CDCF609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01F7-67CA-4006-8CB0-48F09B9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8BB3-7448-4297-9286-EF3F24E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E49-A77A-4A02-B2E2-BACE23C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A423-4C55-49A9-9B7D-86D02C02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FF4B-84B6-4324-8C33-DCAA524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2A28-5B3F-4555-8132-DC34371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D516-C4F2-4D7A-973F-9A43B34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7CBC-191E-4D30-8385-F3A39A8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6E86-2AE5-428F-80D8-3E876A90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FC07-48AB-4C21-872B-577A3C97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5FA1-4E63-44E1-A073-BF3D9A7D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351A-BF36-4C0F-B2EC-A60DBE8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C4FC-3CBB-48D5-88C9-0801AC44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815-54D5-44AF-8F44-7AA82CF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5D437-33D4-4219-9C2F-A4EFD169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F79B-F9C9-47EF-A763-02C3AE2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CCA8-A7F4-445D-B978-328862C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C74E-287D-476C-90B3-2DF01181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FB68-1606-4F76-BE8B-5CD5A1C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8CDD-C861-4215-AA96-2F7F2A3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0FED-8873-4179-9A97-494C61F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A4B9-E62B-43AE-8153-31355DA8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7541-1F90-49B3-A127-44819740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CACB-DD9B-4B8A-B5E8-7671823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094-2A0F-4D80-92A0-ECAA719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3DCA-629B-4F66-98B9-529290B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31F8-5278-4ECE-A076-DB7A42D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CB4A-CB24-42AE-B2E1-1630126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FD21-2A17-4CFC-B284-7F90E740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2398-5B6C-4ADA-8653-E458E45B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0F72-FDFE-4BE8-AEB7-35C6F4DF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69A2-7B58-43D3-9D16-06EA321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A062-3104-4B58-834E-D569C018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2B77-9294-4B0B-A3B8-6465E3E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1428-37B8-40D0-8DB6-69977E56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B31-B7D3-4BCA-8CD5-E55967FD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FB95-A55D-436B-A18B-C78634CD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87AB0-EFDD-4E89-8D61-973C9B50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81C9E-E43C-49FF-AE06-12ED0E7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C2CB-432E-45D8-A2CD-A2B4A05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16AB-176A-4BF2-9B8B-58F3C23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AF49-3C38-4CE1-B9FB-FFEFC55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2FF71-EA29-4BDB-801F-0A204D19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B8BB-D5E0-49D0-A8C2-EB1ADAB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591C4-366E-4E91-B18D-4480811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ED90-F136-40BF-8B64-D5FE956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360-3D0A-43A3-942C-C87816F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0CEA-9210-4F86-8B89-8AB98FE0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3E1E-1FA5-4445-A9D7-CE4C2377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4F1B8-05D0-4CB3-B818-2DC80107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00F-F295-4AA7-B21F-D227086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EEC-2F74-43AD-9F15-2282BEA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373F-5136-43A1-A262-B9B09FFF04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23E-90CF-42BE-9EC8-F61D1AF1F42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42AD-B843-4EB5-8662-D0B0157A64F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D066-62C9-4271-9881-06328D6243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DCA-C827-4B95-98C0-FF04B056FF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1329-1CDF-4716-B997-36B75757D5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3887640" y="981000"/>
            <a:ext cx="3924360" cy="447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887640" y="1989000"/>
            <a:ext cx="4445280" cy="4591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4570560" y="5464080"/>
            <a:ext cx="331128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454040" y="781200"/>
            <a:ext cx="92836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016920" cy="35625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1192320" y="981000"/>
            <a:ext cx="870732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846080" cy="57628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176480" y="3602160"/>
            <a:ext cx="664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7440" y="4137120"/>
            <a:ext cx="664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117440" y="4673520"/>
            <a:ext cx="664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162080" y="5164200"/>
            <a:ext cx="664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236600" y="5721480"/>
            <a:ext cx="664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549440" y="6289560"/>
            <a:ext cx="7281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8673840" cy="2743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239760" y="4005360"/>
            <a:ext cx="10769400" cy="21524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1103400" y="914400"/>
            <a:ext cx="618012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058760" y="1795320"/>
            <a:ext cx="8810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93880" y="2354400"/>
            <a:ext cx="8810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863640" y="2889360"/>
            <a:ext cx="7710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008000" y="1028880"/>
            <a:ext cx="9969480" cy="58291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1058760" y="3726000"/>
            <a:ext cx="10238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90440" y="4260960"/>
            <a:ext cx="10238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163520" y="4784760"/>
            <a:ext cx="10239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179360" y="5308560"/>
            <a:ext cx="10238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312920" y="5910120"/>
            <a:ext cx="10237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297080" y="6489720"/>
            <a:ext cx="1023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710400" y="960480"/>
            <a:ext cx="3386160" cy="26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91960" y="1052640"/>
            <a:ext cx="11900160" cy="48099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2114640" y="1773360"/>
            <a:ext cx="725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841040" y="2120760"/>
            <a:ext cx="81288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14480" y="2467080"/>
            <a:ext cx="8128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808440" y="3135240"/>
            <a:ext cx="63180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374560" y="4240080"/>
            <a:ext cx="63324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1345760" y="5243400"/>
            <a:ext cx="63180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43080" y="836640"/>
            <a:ext cx="11849040" cy="52768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11436480" y="11714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405320" y="1784520"/>
            <a:ext cx="122868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8224920" y="39258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30120" y="836640"/>
            <a:ext cx="11862000" cy="44766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731880" y="4640400"/>
            <a:ext cx="671652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028880" y="4995720"/>
            <a:ext cx="67165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9448560" cy="19814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868320" y="958680"/>
            <a:ext cx="107316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160720" y="1270080"/>
            <a:ext cx="8442360" cy="17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34800" y="866880"/>
            <a:ext cx="10719000" cy="59911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0039320" y="20415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95320" cy="41245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0128240" y="9144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06400" cy="48862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6024600" y="205272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156120" y="5286240"/>
            <a:ext cx="121428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744200" cy="25052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3956040" y="2052720"/>
            <a:ext cx="770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6:30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