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ADD-C93A-4AEF-A671-D539E925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614-C201-4AA0-A4FF-97FC6263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5C8-6BEB-49C8-A11D-F5051CE7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E97-1CDE-48C9-8817-DC05AE40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73A5-69D3-448F-B607-B205030B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664E-1606-4236-A1AB-EDAD0C9A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7E18-8AB2-4FCA-A279-5388E7F8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A6C1-1542-4A25-B53D-40B2204D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CDF9-4F59-4F7F-BEE2-649F811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4E16-0482-481D-8B9F-6D8A06FF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65E1-4588-455A-9118-8F746739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9C4-7FAF-4EDF-86AB-70E4E29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A263-948C-4832-A93B-B4479CF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EA06-7C09-43C0-9019-2D233979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B8A-B1D7-4527-9EBC-6CC572BD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6FEE-ECB4-4FC6-9310-1E17AB28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6A74-0C12-4CE8-AFB5-7B5554C7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9C4C-4123-4D03-85C9-F1F7A2C0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5FBB-1409-419B-B6AA-CFE2CD04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6637A-D2A3-4500-8D00-3D71AE77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7FC4-D909-42F5-8D02-0D082EDF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C6874-CD90-41CF-8826-2526D817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71BF-F35A-4E0C-9370-7C4FFCCB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5999-ADDB-4003-8B80-9AA5E928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27F3E-95DD-403E-BBAA-0BEDA99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0EC99-B4E7-4152-960F-2E91FBAE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73B2-79C7-4A42-BF79-D266CF1E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079A-D71E-4F09-839F-5A5BC8C5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C7A6-A1CB-496E-A33D-D63A4588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2392-7F49-427D-A41F-84F37AE3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6E212-0964-422D-A51C-6DEA9179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65FF-4DD4-4CCF-8B9D-B25956ED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0E2C9-1E80-46B9-938A-9ED57DAF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18F-6DEF-464B-9F74-7C92A4B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E06E-2241-44A4-8E23-AB395640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52635-2301-4A45-9134-8EFA7603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8A6E-3B17-4FB6-9727-DA66E4F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0CA6F-742A-4E20-8A70-3D2BB110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008A8-8BBA-41C0-8E36-3684C0E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EBC83-EC42-4FFF-AE53-C451FB68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8D6B-B5A7-4E63-B46C-FC603B7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68CD-3BD5-480D-9A03-F573E99B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1B8C-2968-465F-B48E-B2CBFC94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F753-BFF5-4C74-A0D7-4F5AA540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EF6-A808-469C-906D-2C8FC951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9374-42E5-4F27-B5C8-FCCFC667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4B17-25EE-4266-A44A-2A6CAA09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8DAA-7CDA-4083-8982-150DA36C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B6FA-2A98-433D-AC53-59A619A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A2DF0-E181-49E7-885F-D81E99A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6007-CDAE-4839-9C4B-6AC5A4D3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5C82-945A-4282-AB43-F7DEB2D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28D1-CA4D-4E2D-9695-4D1FB67B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8D573-A78A-4246-B6B6-57229F6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E7F70-5797-4BF5-B972-5E7CA1C7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CD2-B500-4C2E-91B5-146A61E9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2D78-D1FC-4388-8E7A-C024E1DA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270F8-3597-4E97-A9EF-6A773367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53B31-26CF-46BF-B749-C77A9F0A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E4FA2-6488-44E3-941F-A6DE49F2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829F3-E53B-4DB4-9964-CA82252D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9F75-F933-49D7-A038-AD583222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FF24-5330-4325-9693-D296D563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14CAE-48F2-4F2D-B531-DBC93A4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18A3-ED3C-4C60-A4F1-61F459C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38AEF-1478-4162-9537-BC647AB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AC2-ACDE-4DA0-9EEE-1B4B5F6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FAF9-E7E2-47A9-9550-2B40813A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C168-129B-4A87-8142-F90D688A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CDD8F-3F26-41A6-BDB5-6A24C0A2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BF1-E614-40F8-90AE-494B3642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640-1AA1-4AED-A381-5B59452D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3720-D2AB-40BD-955F-EAE441E796E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236F-F7C6-479F-B9A2-CE916F8CCE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DCA7-9935-4096-901F-B95A9861C4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528C-3CF2-41D4-9506-62BD7747B0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2FB-0699-4D1A-AA4E-26EF7D5CA7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1DBB-AF6B-4F55-99A2-20F92660DF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3887640" y="981000"/>
            <a:ext cx="3937320" cy="1476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1390680" y="3141720"/>
            <a:ext cx="4381560" cy="33814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6576840" y="3716280"/>
            <a:ext cx="4419720" cy="27050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24"/>
          <p:cNvSpPr/>
          <p:nvPr/>
        </p:nvSpPr>
        <p:spPr>
          <a:xfrm>
            <a:off x="8313840" y="3701880"/>
            <a:ext cx="2701800" cy="31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5"/>
          <p:cNvSpPr/>
          <p:nvPr/>
        </p:nvSpPr>
        <p:spPr>
          <a:xfrm>
            <a:off x="6678720" y="4079880"/>
            <a:ext cx="3279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648480" y="4348080"/>
            <a:ext cx="4322880" cy="76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6545160" y="5251320"/>
            <a:ext cx="4321440" cy="120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239760" y="836640"/>
            <a:ext cx="10439280" cy="51530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>
            <a:off x="7169040" y="22305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9282240" y="2219400"/>
            <a:ext cx="6490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7169040" y="4394160"/>
            <a:ext cx="59076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9221760" y="4282920"/>
            <a:ext cx="1038240" cy="4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9855000" cy="1000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239760" y="2276640"/>
            <a:ext cx="10744200" cy="42004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865080" y="870120"/>
            <a:ext cx="996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954000" y="1484280"/>
            <a:ext cx="9960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954000" y="2944800"/>
            <a:ext cx="227196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682640" y="3479760"/>
            <a:ext cx="4205520" cy="30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82360" cy="53532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1757520" y="3344760"/>
            <a:ext cx="117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771560" y="3957480"/>
            <a:ext cx="117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785960" y="4559400"/>
            <a:ext cx="117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157480" y="5173560"/>
            <a:ext cx="117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4654440" y="5764320"/>
            <a:ext cx="6596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814320" y="981000"/>
            <a:ext cx="10020240" cy="35625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925560" y="958680"/>
            <a:ext cx="2732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1295280" y="3970440"/>
            <a:ext cx="120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495360" y="907920"/>
            <a:ext cx="11696760" cy="57340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11095200" y="1751040"/>
            <a:ext cx="753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08160" y="2174760"/>
            <a:ext cx="1229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807080" y="2174760"/>
            <a:ext cx="1230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053120" y="2174760"/>
            <a:ext cx="1229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993000" y="2610000"/>
            <a:ext cx="1230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1258640" y="2610000"/>
            <a:ext cx="888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792000" y="3067200"/>
            <a:ext cx="723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4449600" y="3067200"/>
            <a:ext cx="1227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6916680" y="3502080"/>
            <a:ext cx="1050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4316400" y="3936960"/>
            <a:ext cx="10494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8701200" y="526428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1760480" cy="43722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3"/>
          <p:cNvSpPr/>
          <p:nvPr/>
        </p:nvSpPr>
        <p:spPr>
          <a:xfrm>
            <a:off x="9326520" y="134928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1391840" y="33577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43080" y="836640"/>
            <a:ext cx="11849040" cy="48481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"/>
          <p:cNvSpPr/>
          <p:nvPr/>
        </p:nvSpPr>
        <p:spPr>
          <a:xfrm>
            <a:off x="9847440" y="170640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62240" y="5430960"/>
            <a:ext cx="812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983120" y="5442120"/>
            <a:ext cx="812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7942320" y="4327560"/>
            <a:ext cx="106668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8031240" y="5430960"/>
            <a:ext cx="812880" cy="26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693440" cy="38386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10082160" y="266544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820520" cy="40291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10024920" y="3211560"/>
            <a:ext cx="574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527040" y="836640"/>
            <a:ext cx="10667880" cy="47908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10229760" y="1395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7480440" y="370368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782360" cy="56674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3"/>
          <p:cNvSpPr/>
          <p:nvPr/>
        </p:nvSpPr>
        <p:spPr>
          <a:xfrm>
            <a:off x="9918720" y="15048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6767640" y="5530680"/>
            <a:ext cx="1036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1130400" y="609912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82360" cy="47530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3"/>
          <p:cNvSpPr/>
          <p:nvPr/>
        </p:nvSpPr>
        <p:spPr>
          <a:xfrm>
            <a:off x="1014480" y="1952640"/>
            <a:ext cx="686412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6:21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