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C13-D96C-4B17-983E-1A0FD82F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7D1-2B0F-4E36-AC73-0A442515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A23-23EC-476F-AFF4-E28F4491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CFC-B4CC-402E-8AB2-F295922C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A14F-46C4-40DE-BD38-DA03F9A0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25A3-C17B-495E-BD29-CD86424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534F-DB11-4C54-AE7A-314B53B4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1E93-43AF-4CAB-BF77-94720FD4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9906-B2FB-4517-9CCF-6D55CCE3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AA63-05FC-42D5-821C-C82D6BDA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DA64-7767-4F2C-9397-934100B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920-468F-482A-A925-97862DCF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710D-88DD-4DAC-8748-4BE63B87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4A7B-B947-4BA2-8A96-29B5EFE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72B6-209D-446C-AF85-3AA552F4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0EC8-909A-4B67-882D-6102B361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5CCD-4FE8-4D76-860C-A91DAF67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E308-1E45-44FF-B0BE-ABA28B97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5EA7-6E45-4F23-BF5C-F5DB3CD2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45DF-C54D-453E-9F0D-7E8AA87B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A728-52A5-45AC-89EA-4DC7F17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0C04-D815-4E29-A5C4-3B374CF2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E1D-327F-4B74-ABCA-D92FDC7B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1744-36BB-4DBF-A94F-761ED3E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CB79-02A2-4F01-A8F1-33B69A1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97C9-C3E3-48EF-97B0-3D5E794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5A00-186F-4452-9CD1-70D4EFD8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D1BF-9B7D-4D17-B64B-263898ED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F873-DBB8-44A5-A467-60732582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E70B-42ED-4F18-95A5-2F18E334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6843-5EB5-429E-8C84-79E43FED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2FCF5-5BFF-422C-9349-F1C8318C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5271-B479-457B-9A9A-139A9BD3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3A5-9931-4A7B-825D-D91E3CB2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749F-16C1-46DB-BCBF-8D42197A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3F12-E1CD-4883-9926-06640827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F3EA2-C925-4320-8D06-7651A4F6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203F-C4A3-42AA-879D-5F96703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52FA7-05CC-494F-84F5-870359A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9EDF-A189-43CC-93C1-285E02E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43A92-1978-4F19-8C27-1EF2D03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0D9B-F1B8-4837-AB61-F16FFBEB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AA6B-970E-4EB2-9CDB-E5D8468F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627C-00A3-4FAE-9D04-826084F1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C21-23A2-4ABA-AF0F-CCECF1D8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ACC37-E381-43E6-8699-54FC742F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2451-366F-4B09-AFC8-AC0EB95B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EEE24-8C78-4B99-B11D-B22CBB17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BF5F-5366-4975-81B4-04CBB506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1400-6D7D-42E3-9234-92447C5F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AE99-2B3A-4AAE-8F35-3213BCF1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715EF-2A50-40A2-9F85-1E1A7A69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C88A4-81BD-43CF-A410-AFC42D2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C8B2-D542-4C7B-B3BB-4C55C058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18158-2A67-4556-8BDC-B71C84B6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C89-5634-46B9-916A-B75F773E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E6E89-4F3A-4507-9A20-3BC9BD79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B185A-5C7C-459E-937F-D082282B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DF696-1691-435E-AE55-2BEFFE8B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CF8C6-6BCD-4D4A-A8AE-0EF603C4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F545-E981-4599-B8AA-FE9EA4D4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63460-EB2D-404A-9B91-6096DE2F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F030-670B-4096-B1E7-E72490F9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AD397-A5D3-46CB-9398-8711167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8705B-6095-4DBC-99EF-13E87A1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EAFD3-A5CA-426E-AD7E-88057A90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0B4-136C-4C9E-B669-4E512AA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D04C1-3BC0-4BE4-953F-12FB139E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F612-130C-4846-8CB2-FD67AC6D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9467-E9A5-4CFE-98ED-C2FEE2F4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904-0901-4073-94B3-BA406A3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5AE-3C86-4BFB-A6B0-E3C6CE45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197A-F87E-48FD-A0B8-0735B93D9A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EFFB-B1B2-42B1-A1D9-283806AC206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011F-CF65-4D0E-BD10-8812539E87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624-2FD6-4AED-94E5-03C41B428CF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6C45-0DB0-4CF0-B97B-2DA1A9CDB27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2D26-9976-451C-ADB7-EE186414449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350720" cy="1181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2735280" y="2781360"/>
            <a:ext cx="66549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667880" cy="3353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239760" y="4437000"/>
            <a:ext cx="10680480" cy="18763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"/>
          <p:cNvSpPr/>
          <p:nvPr/>
        </p:nvSpPr>
        <p:spPr>
          <a:xfrm>
            <a:off x="2639880" y="1989000"/>
            <a:ext cx="34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295280" y="2924280"/>
            <a:ext cx="220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8496360" y="335772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8496360" y="383688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9879120" y="548640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69760" cy="52866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10032840" y="23493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833120" cy="36673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6383160" y="141300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5240160" y="373392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34800" y="765000"/>
            <a:ext cx="10833120" cy="59151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1008000" y="1268280"/>
            <a:ext cx="1824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2820960" y="1324080"/>
            <a:ext cx="5079960" cy="25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008000" y="4869000"/>
            <a:ext cx="4415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1155600" y="5326200"/>
            <a:ext cx="4415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1335240" y="5827680"/>
            <a:ext cx="4416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1587600" y="6284880"/>
            <a:ext cx="441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623880" y="765000"/>
            <a:ext cx="10706040" cy="58485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10320480" y="191628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0261440" y="42591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185480" cy="48196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7632720" y="981000"/>
            <a:ext cx="1055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9588240" cy="51055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4368960" y="508464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993160" y="508464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4338720" y="556416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8948880" y="556416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23880" y="907920"/>
            <a:ext cx="10680840" cy="29052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1295280" y="3429000"/>
            <a:ext cx="700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0:46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