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7E6-1076-41AE-A6C3-B7B27A1A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687-9BC7-4B2F-87F6-E83C2C81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4CF-4017-47A9-8B0F-BCE0C6AB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B67-6F16-4568-B286-77D52245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40CF-9275-4FE0-8A17-B5A1FF1C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C844-DC9D-4B6F-8136-1F1565F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803E-6128-46EB-BE95-1305743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E968-7E26-46CF-B3B2-6BB1ABD0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B40-4C6D-42B2-BCD9-7B61DBE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340E-265C-4EAC-ADC4-47E033D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C834-B002-4755-9577-EB357B6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0E2-87D3-479F-881D-3C922460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AB8-B6BE-457D-9309-CD8320F9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C50-33F1-48F1-8CFD-E092EA16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3FA8-2549-45A0-8B9D-1B8FF8FA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D5A-6AC1-472F-AF19-181343D8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7874-C619-445E-86A2-C9E9ACC1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A777-F41D-45F1-AF88-539B9814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E607-D273-497B-A827-7F30981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92B92-56C3-444D-9242-0A62A339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40AA-6F1E-43C6-AC91-5580C6A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42D9-BA50-40C7-A432-5835695E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9A6-B16A-411E-87B7-1AB79C1D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6B16-4187-457C-9BD3-35873001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C00F-38F7-410B-87F2-481F5CB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E6C6-F2A2-4C1A-96A4-C8C1B70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477F-0B33-4D94-9399-CB274F93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196B-44FB-48AC-8C54-C3AF385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F03A-4DAD-4F82-9F33-36F6571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55DB-FB2E-41DE-9CA6-AF203A27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FF667-E1F7-447C-93DA-444607B3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E0BA7-34AA-4483-968E-946E914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7AFA-254D-4B46-A8F2-07B2A2F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53E-3256-448A-B325-7701686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5901-37CE-4D01-982F-F98F501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15358-8457-4DCF-821A-7BF2DEF5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D6EB-6D1D-4344-942B-09033E8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655B-5698-4EBD-AD22-816F3C60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C4C8-891A-4409-9545-E5DEDA2D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416F-A5CC-46E3-B8CA-1767B992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743CE-69C0-4367-9684-72FB48F7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110B-5DE2-4AB6-991F-AB2A2FB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A495-FE24-4642-9FD4-62C6F53D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7596-C133-4FE9-BFEC-ED388945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956-A811-407B-9F16-4E27B5B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C5C4-4C21-435D-90B9-D2B2585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61DA-7523-4495-91D2-B6B19315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D0AF-17EE-4B37-9C16-82B5E89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C4E5-A88C-4770-A63E-2C51571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1448-A2F4-4FFB-9AC1-089A13E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126DA-08B7-49AE-8F78-B4EF541B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D5F23-7BC6-4A61-9F99-C626D8C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976F-C90E-4C8F-9835-3267269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2742-3841-4812-8676-577CFA0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E744-1089-4D14-8E48-2D7C55C2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ECA-42F9-4F84-9906-18DDFF6B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2CBB2-A268-48BA-82B7-C7EB7669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51A8C-8ECB-46EF-B5F1-34C84FCF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F7B71-481D-4CDB-AFEA-CEB03190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25F4-A0C0-4006-9231-CD712899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AF8E-4DC7-4ACD-B26E-9347BB8E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3CEBF-2202-49AA-BF0C-224F8B75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5F553-421A-4DDF-84C1-EBCCCC1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0C7F4-BFD2-453C-9D7C-A4D13A0C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0999-DFA3-483E-80E4-205A4E49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1914-0CE2-41F8-A3AC-3E563AF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324-FE0B-462A-962F-768F20A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81D2-450F-47B4-8E5C-D30B0314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BCB6-9957-497C-B470-EF304607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CBA55-832D-48DC-A29B-573B6475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A28-3C08-43FA-8DB8-A75FD54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20C-DA36-4D7E-A656-F030F67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26B-F5C7-43F7-BCA6-A037E04BE5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D6B-4080-49D3-9A57-A936D41F97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4A67-92A6-490A-9623-386EF1A1EA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F96C-715F-4E31-84E6-99F63753D1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4353-51EE-426D-A128-E895915471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4C3-FE1A-4924-8B65-A0B81EEA3D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927520" y="1052640"/>
            <a:ext cx="5727600" cy="371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3695760" y="2349360"/>
            <a:ext cx="4381560" cy="33148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5232240" y="5373720"/>
            <a:ext cx="259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9220320" cy="1914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31640" y="2924280"/>
            <a:ext cx="10731600" cy="25621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4"/>
          <p:cNvSpPr/>
          <p:nvPr/>
        </p:nvSpPr>
        <p:spPr>
          <a:xfrm>
            <a:off x="1103400" y="836640"/>
            <a:ext cx="9217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1200240" y="1773360"/>
            <a:ext cx="547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244520" y="2287440"/>
            <a:ext cx="600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12960" y="981000"/>
            <a:ext cx="10007280" cy="44672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1008000" y="981000"/>
            <a:ext cx="61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87400" y="1495440"/>
            <a:ext cx="6143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843120" y="2052720"/>
            <a:ext cx="6143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15840" y="261000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66680" y="3122640"/>
            <a:ext cx="6145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112760" y="3692520"/>
            <a:ext cx="669600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068480" y="4618080"/>
            <a:ext cx="888048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6808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103400" y="981000"/>
            <a:ext cx="9905760" cy="45720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103400" y="105264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281240" y="156528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295280" y="2089080"/>
            <a:ext cx="5376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414440" y="265752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1414440" y="3170160"/>
            <a:ext cx="537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1535040" y="3705120"/>
            <a:ext cx="5375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1623960" y="4240080"/>
            <a:ext cx="7977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1741320" y="4775040"/>
            <a:ext cx="77709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9169560" cy="3086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1103400" y="1052640"/>
            <a:ext cx="91980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154160" y="1941480"/>
            <a:ext cx="91393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309680" y="3271680"/>
            <a:ext cx="54388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8102880" cy="1123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291960" y="2133720"/>
            <a:ext cx="11900160" cy="43336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176720" y="1700280"/>
            <a:ext cx="768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777000" y="1677960"/>
            <a:ext cx="1200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0223640" y="2133720"/>
            <a:ext cx="1249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832120" y="2492280"/>
            <a:ext cx="1455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8599320" y="2514600"/>
            <a:ext cx="1548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1423520" y="46530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11437920" y="5756400"/>
            <a:ext cx="434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330120" y="836640"/>
            <a:ext cx="11862000" cy="5219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11377440" y="836640"/>
            <a:ext cx="479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954000" y="1908000"/>
            <a:ext cx="76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1608120" y="3033720"/>
            <a:ext cx="76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8313840" y="5632560"/>
            <a:ext cx="765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79360" y="836640"/>
            <a:ext cx="11912760" cy="4390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623880" y="1989000"/>
            <a:ext cx="6432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263600" y="2367000"/>
            <a:ext cx="643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009800" y="2712960"/>
            <a:ext cx="643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1071720" y="3103560"/>
            <a:ext cx="643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009800" y="3505320"/>
            <a:ext cx="643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1039680" y="3817800"/>
            <a:ext cx="585180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1187280" y="4552920"/>
            <a:ext cx="64328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1231920" y="4965840"/>
            <a:ext cx="6432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334800" y="836640"/>
            <a:ext cx="10769760" cy="42861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9936000" y="292428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807560" cy="47530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9936000" y="479736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69400" cy="38484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9745560" y="2060640"/>
            <a:ext cx="768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8615520" y="4268880"/>
            <a:ext cx="1704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44200" cy="46767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7345440" y="4724280"/>
            <a:ext cx="10555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693440" cy="55720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1008000" y="407664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1424160" y="4589640"/>
            <a:ext cx="9889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528920" y="5113440"/>
            <a:ext cx="9888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557360" y="5626080"/>
            <a:ext cx="987408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2:11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