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7159-2CAE-4050-A509-E8EF1570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BA81-89CD-4037-AB0B-39C27A9C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84E-1C5F-45D3-BD6D-705C3582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D581-F62E-4FB0-883B-FF42B768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ED20-2E8C-4B44-B893-0FF226F3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9A4E-43BD-4669-8952-3495CB9E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3EB9-CA37-4EFF-ACBC-30F3740B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9EC8-C9F7-4AEE-84C0-4227BC86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42F9-80AE-4565-8198-AEBD8AA6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7734-4111-4688-B72D-6AD4C245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9CA9-EA88-45C7-ABA9-885BDE31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3E4-C304-47EB-920D-C98D501E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73C4-178C-48EF-A2F9-FFE60783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A65C-583A-48E1-8A81-743A2D9F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A1CF-FE4D-4A5A-B002-6B9E579A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C294-F32B-4579-85D9-DF849008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AEEC-086C-44B7-B180-028514A5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4346B-8B07-43B6-9FD9-F9F546B3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F834C-CD5B-461B-8F6B-B3FE435D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642CA-B922-4B74-B1E8-7392E728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734FD-8A89-4976-9947-DD495A8C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9CD85-DD17-4614-9F31-3712B56C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B98-1B60-42A2-8AA3-D1772F1F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DAB95-BA2E-4DB2-BFA0-3C9F081F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9592C-235D-4C93-8A50-ACC68947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BC8F4-A3F9-4973-B4D4-2668EED0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1FFAA-AD21-47A0-A50D-B4FD674D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BE4C6-133D-47D0-A2FD-F518C58E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1FD14-3907-4BF9-9C8B-F2342131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84937-A847-4DD5-A893-C53067C0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5F774-F676-4992-AFD9-7EE44152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36E27-ACDD-4F97-BF06-9030AEA8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978DB-E745-4707-BA38-1367B42C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7B2-441B-4600-BBA9-5C498375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2836B-7573-44CF-8E84-C22955A8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98721-2249-499A-931D-014E8C4F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5FB47-06DE-4955-B95D-61D81EAE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93CA1-5752-427C-92B5-942E0EF6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F7E18-91D1-47C8-8285-3FFFA5EF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38DF8-2478-477A-B338-9779CA1C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E756E-38E5-4FE4-9411-7E82AF79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72F13-2EDB-493B-A44F-B2DA5B97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76DE4-4C74-4DE5-9A4F-2F6CD6F8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BAA99-4568-45D3-9079-8080E2DB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F86B-FFA3-4DA4-A50F-86907089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6DD74-72CB-43E3-812A-02A6D811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DFC68-A0FA-42DB-A1FB-17B363A9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E539A-0738-4405-B391-130E7CAE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0FCA8-77FD-4CD0-A7F3-319FE13F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B2E64-3B06-4C5E-A8EF-2ACC8223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00FC9-1AC7-4BDD-8453-4E5AC511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314ED-CB13-4D7A-90A1-3F0AEEF3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9A428-C55A-4AD1-9122-2425B833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EFF72-869D-4C12-B64C-7F661A7D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40C81-042A-4D5C-B590-FB7A0E67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152-36DE-4BBB-910E-D79F73D7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97AEF-097F-4039-AC53-2955BA4D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7E5D6-4400-406B-977C-4EB553F9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70AF8-4A32-4EC3-98FC-561DBA2A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6A3F7-97F2-4FD7-9714-05DB26F6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D2936-C881-481A-AF14-7F928728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999F4-E44E-46A7-92F3-82CDEE34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3BBC8-16C2-400F-B49F-9118BF3E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593BE-F8A3-4109-AEA3-C714A64B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84CBA-D6E5-43D8-9CA3-4C6854F8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35CA1-67DC-4D27-9A4F-74D7BEE6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FD8A-A216-4E77-9D9D-00C5A668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C3394-6036-44DD-ACD4-13FBA79B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B2362-EA32-4401-8E9E-CDF77259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EE19F-7A01-4B7B-A085-3E1CF720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E48B-69F4-4ABC-AE24-8ED35DE8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E84C-FF02-47EA-A905-C777CE7B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E4BC-6809-4467-ADD4-11D0D477BE9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BCA7-ED15-4422-BA1C-21A1645BAA1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5FF2-C947-4176-A694-637D3E86618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F362-9F29-4C4C-8344-5E131D74454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03BE-E19D-4E64-94EC-65E10A30F17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53BF-5AC9-4F19-BB21-9BE960306CC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2351160" y="981000"/>
            <a:ext cx="7137360" cy="438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"/>
          <p:cNvPicPr/>
          <p:nvPr/>
        </p:nvPicPr>
        <p:blipFill>
          <a:blip r:embed="rId2"/>
          <a:stretch/>
        </p:blipFill>
        <p:spPr>
          <a:xfrm>
            <a:off x="3503520" y="1773360"/>
            <a:ext cx="4394160" cy="48672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3"/>
          <p:cNvSpPr/>
          <p:nvPr/>
        </p:nvSpPr>
        <p:spPr>
          <a:xfrm>
            <a:off x="5040360" y="630864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334800" y="907920"/>
            <a:ext cx="1074420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814320" y="981000"/>
            <a:ext cx="10083960" cy="477216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"/>
          <p:cNvSpPr/>
          <p:nvPr/>
        </p:nvSpPr>
        <p:spPr>
          <a:xfrm>
            <a:off x="1008000" y="981000"/>
            <a:ext cx="979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1111320" y="1495440"/>
            <a:ext cx="9793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1111320" y="2075040"/>
            <a:ext cx="9793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1528920" y="2597040"/>
            <a:ext cx="925812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1706400" y="3533760"/>
            <a:ext cx="925848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1424160" y="4448160"/>
            <a:ext cx="925812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1467000" y="5295960"/>
            <a:ext cx="9793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527040" y="836640"/>
            <a:ext cx="1074420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912960" y="907920"/>
            <a:ext cx="10096200" cy="53532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3"/>
          <p:cNvSpPr/>
          <p:nvPr/>
        </p:nvSpPr>
        <p:spPr>
          <a:xfrm>
            <a:off x="912960" y="981000"/>
            <a:ext cx="4991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852480" y="1482840"/>
            <a:ext cx="4991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957240" y="1996920"/>
            <a:ext cx="499104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1270080" y="2556000"/>
            <a:ext cx="4991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1239840" y="3079800"/>
            <a:ext cx="4991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1789200" y="3648240"/>
            <a:ext cx="3578040" cy="67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1878120" y="4540320"/>
            <a:ext cx="4084560" cy="7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1833480" y="5477040"/>
            <a:ext cx="9064800" cy="7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912960" y="907920"/>
            <a:ext cx="9169200" cy="21528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3"/>
          <p:cNvSpPr/>
          <p:nvPr/>
        </p:nvSpPr>
        <p:spPr>
          <a:xfrm>
            <a:off x="912960" y="981000"/>
            <a:ext cx="921528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814320" y="1989000"/>
            <a:ext cx="2498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992160" y="2568600"/>
            <a:ext cx="5591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203040" y="907920"/>
            <a:ext cx="11989080" cy="57438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1295280" y="2781360"/>
            <a:ext cx="76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3390840" y="280368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6157800" y="3170160"/>
            <a:ext cx="1289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7823160" y="393372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700200" y="4335480"/>
            <a:ext cx="1185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11279160" y="595008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266760" y="836640"/>
            <a:ext cx="11925360" cy="571500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3"/>
          <p:cNvSpPr/>
          <p:nvPr/>
        </p:nvSpPr>
        <p:spPr>
          <a:xfrm>
            <a:off x="11279160" y="321300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11339640" y="5811840"/>
            <a:ext cx="574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216000" y="836640"/>
            <a:ext cx="11976120" cy="522936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"/>
          <p:cNvSpPr/>
          <p:nvPr/>
        </p:nvSpPr>
        <p:spPr>
          <a:xfrm>
            <a:off x="3887640" y="2276640"/>
            <a:ext cx="1152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692280" y="3849840"/>
            <a:ext cx="7619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647640" y="4240080"/>
            <a:ext cx="7620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647640" y="4719600"/>
            <a:ext cx="7620120" cy="493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4440" y="5376960"/>
            <a:ext cx="7619760" cy="4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334800" y="836640"/>
            <a:ext cx="10782360" cy="526716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3"/>
          <p:cNvSpPr/>
          <p:nvPr/>
        </p:nvSpPr>
        <p:spPr>
          <a:xfrm>
            <a:off x="9936000" y="5734080"/>
            <a:ext cx="76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623880" y="836640"/>
            <a:ext cx="10731600" cy="56005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3"/>
          <p:cNvSpPr/>
          <p:nvPr/>
        </p:nvSpPr>
        <p:spPr>
          <a:xfrm>
            <a:off x="10223640" y="551664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431640" y="981000"/>
            <a:ext cx="10617480" cy="42483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3"/>
          <p:cNvSpPr/>
          <p:nvPr/>
        </p:nvSpPr>
        <p:spPr>
          <a:xfrm>
            <a:off x="1390680" y="4797360"/>
            <a:ext cx="960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431640" y="981000"/>
            <a:ext cx="107823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10261800" cy="375300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3"/>
          <p:cNvSpPr/>
          <p:nvPr/>
        </p:nvSpPr>
        <p:spPr>
          <a:xfrm>
            <a:off x="1008000" y="907920"/>
            <a:ext cx="103694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1765440" y="1855800"/>
            <a:ext cx="9269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1765440" y="2725560"/>
            <a:ext cx="9269280" cy="7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1776240" y="3645000"/>
            <a:ext cx="9407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1677960" y="4149720"/>
            <a:ext cx="6531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3:49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