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21.gif" ContentType="image/gif"/>
  <Override PartName="/ppt/media/image20.gif" ContentType="image/gif"/>
  <Override PartName="/ppt/media/image19.wmf" ContentType="image/x-wmf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C6CF-9AC2-416D-9695-07216C14B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7571-C7C9-4036-9E38-AA4F9B7FA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2FFD-5401-4D6C-B8B0-043112496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6E01-0DDE-43CE-8F5E-7F677C1AA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817-5C98-4F1F-9C59-79DFDBD0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E64-2093-4796-9627-0A767FD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1F9-D91A-465B-8B03-58A1DFC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178-97AE-47E2-930A-DF65957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506-3930-4A46-A6C7-0C3EFB98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C73-4CBF-498C-BDDB-EB36AB6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33C-894F-4F17-8A1A-B6E9E7E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E9ED-3F64-432D-A5AE-4CE13F885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8C6-3122-494C-9605-C2BF693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336-8CBA-4BF1-A21E-170AE19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DCD-74AA-4ED9-93BC-6987240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EDC-D0D2-4F0F-9310-887E187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B06-99CA-416C-8220-A0637EB2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10B18-F2AD-4697-8D1B-37E39B43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A7E73-152B-4FEB-A88B-5F8BC0A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C995F-DDA9-45B4-AB20-1CBD23AE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7781A-DD87-495E-98AE-654B46B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05A08-77A4-4AEF-8863-68360358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C0F4-D855-4170-97A0-D93A03CEAD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B497D-C369-4CFC-A1F1-0197535E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E40D0-A52C-4EE5-A637-AFFE8A3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4132B-9B37-408E-92CB-44F06DE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07B57-C32E-44B1-A6EE-4F09C8A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F991C-E902-4EE9-8458-A7FE779E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03CED-10A6-40FA-A20B-2EF8B30A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92891-EB0C-4B24-81D9-61BFAC95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15E3-F25D-40EC-80E2-237C5DB436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FD1A-9D78-4230-A678-19175DEBF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AB0C-C0EC-4F4B-ABBC-C322495AB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1C2C-7DB7-48A3-8575-A06A80F54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AB4A-E78F-4556-9B08-D7ACAC301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EDD7-68A4-487A-B5AD-7437CF87E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F8D3CD8-7995-4696-826C-56F9A31E61BC}" type="slidenum"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365-B02A-426E-82EB-079A38AC33E8}" type="datetime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A2E6-DDA7-4349-9E6B-BD1ACE5B51AF}" type="slidenum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16AA-460B-489C-AC32-FB87B439697D}" type="datetime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DDC-8D0C-4B5F-AFBB-6DC500830215}" type="slidenum"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8720" y="1917360"/>
            <a:ext cx="986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相似三角形的应用举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03280" y="242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</a:rPr>
              <a:t>27.2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ubRRectCallout"/>
          <p:cNvSpPr/>
          <p:nvPr/>
        </p:nvSpPr>
        <p:spPr>
          <a:xfrm>
            <a:off x="1332000" y="3500280"/>
            <a:ext cx="4032000" cy="1368720"/>
          </a:xfrm>
          <a:custGeom>
            <a:avLst/>
            <a:gdLst>
              <a:gd name="textAreaLeft" fmla="*/ 27000 w 4032000"/>
              <a:gd name="textAreaRight" fmla="*/ 3996360 w 4032000"/>
              <a:gd name="textAreaTop" fmla="*/ 9000 h 1368720"/>
              <a:gd name="textAreaBottom" fmla="*/ 1083960 h 1368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7164360" y="4221000"/>
            <a:ext cx="719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867280" y="53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>
            <a:off x="6300720" y="3789360"/>
            <a:ext cx="917640" cy="2562120"/>
          </a:xfrm>
          <a:custGeom>
            <a:avLst/>
            <a:gdLst>
              <a:gd name="textAreaLeft" fmla="*/ 0 w 917640"/>
              <a:gd name="textAreaRight" fmla="*/ 918000 w 9176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578" h="1614">
                <a:moveTo>
                  <a:pt x="98" y="1548"/>
                </a:moveTo>
                <a:cubicBezTo>
                  <a:pt x="77" y="1484"/>
                  <a:pt x="91" y="1510"/>
                  <a:pt x="62" y="1467"/>
                </a:cubicBezTo>
                <a:cubicBezTo>
                  <a:pt x="51" y="1362"/>
                  <a:pt x="20" y="1260"/>
                  <a:pt x="53" y="1152"/>
                </a:cubicBezTo>
                <a:cubicBezTo>
                  <a:pt x="58" y="1135"/>
                  <a:pt x="89" y="1146"/>
                  <a:pt x="107" y="1143"/>
                </a:cubicBezTo>
                <a:cubicBezTo>
                  <a:pt x="170" y="955"/>
                  <a:pt x="125" y="1108"/>
                  <a:pt x="134" y="666"/>
                </a:cubicBezTo>
                <a:cubicBezTo>
                  <a:pt x="131" y="651"/>
                  <a:pt x="117" y="634"/>
                  <a:pt x="125" y="621"/>
                </a:cubicBezTo>
                <a:cubicBezTo>
                  <a:pt x="139" y="600"/>
                  <a:pt x="231" y="624"/>
                  <a:pt x="125" y="603"/>
                </a:cubicBezTo>
                <a:cubicBezTo>
                  <a:pt x="122" y="546"/>
                  <a:pt x="123" y="489"/>
                  <a:pt x="116" y="432"/>
                </a:cubicBezTo>
                <a:cubicBezTo>
                  <a:pt x="114" y="413"/>
                  <a:pt x="98" y="378"/>
                  <a:pt x="98" y="378"/>
                </a:cubicBezTo>
                <a:cubicBezTo>
                  <a:pt x="89" y="312"/>
                  <a:pt x="93" y="307"/>
                  <a:pt x="35" y="288"/>
                </a:cubicBezTo>
                <a:cubicBezTo>
                  <a:pt x="27" y="276"/>
                  <a:pt x="0" y="251"/>
                  <a:pt x="26" y="234"/>
                </a:cubicBezTo>
                <a:cubicBezTo>
                  <a:pt x="49" y="219"/>
                  <a:pt x="81" y="224"/>
                  <a:pt x="107" y="216"/>
                </a:cubicBezTo>
                <a:cubicBezTo>
                  <a:pt x="162" y="199"/>
                  <a:pt x="203" y="173"/>
                  <a:pt x="260" y="162"/>
                </a:cubicBezTo>
                <a:cubicBezTo>
                  <a:pt x="289" y="143"/>
                  <a:pt x="319" y="133"/>
                  <a:pt x="350" y="117"/>
                </a:cubicBezTo>
                <a:cubicBezTo>
                  <a:pt x="356" y="108"/>
                  <a:pt x="360" y="97"/>
                  <a:pt x="368" y="90"/>
                </a:cubicBezTo>
                <a:cubicBezTo>
                  <a:pt x="375" y="84"/>
                  <a:pt x="387" y="85"/>
                  <a:pt x="395" y="81"/>
                </a:cubicBezTo>
                <a:cubicBezTo>
                  <a:pt x="455" y="51"/>
                  <a:pt x="403" y="64"/>
                  <a:pt x="368" y="72"/>
                </a:cubicBezTo>
                <a:cubicBezTo>
                  <a:pt x="359" y="74"/>
                  <a:pt x="350" y="78"/>
                  <a:pt x="341" y="81"/>
                </a:cubicBezTo>
                <a:cubicBezTo>
                  <a:pt x="325" y="97"/>
                  <a:pt x="289" y="140"/>
                  <a:pt x="260" y="153"/>
                </a:cubicBezTo>
                <a:cubicBezTo>
                  <a:pt x="218" y="172"/>
                  <a:pt x="164" y="167"/>
                  <a:pt x="125" y="189"/>
                </a:cubicBezTo>
                <a:cubicBezTo>
                  <a:pt x="106" y="200"/>
                  <a:pt x="89" y="213"/>
                  <a:pt x="71" y="225"/>
                </a:cubicBezTo>
                <a:cubicBezTo>
                  <a:pt x="62" y="231"/>
                  <a:pt x="44" y="243"/>
                  <a:pt x="44" y="243"/>
                </a:cubicBezTo>
                <a:cubicBezTo>
                  <a:pt x="53" y="237"/>
                  <a:pt x="61" y="229"/>
                  <a:pt x="71" y="225"/>
                </a:cubicBezTo>
                <a:cubicBezTo>
                  <a:pt x="88" y="217"/>
                  <a:pt x="125" y="207"/>
                  <a:pt x="125" y="207"/>
                </a:cubicBezTo>
                <a:cubicBezTo>
                  <a:pt x="194" y="138"/>
                  <a:pt x="309" y="105"/>
                  <a:pt x="404" y="81"/>
                </a:cubicBezTo>
                <a:cubicBezTo>
                  <a:pt x="413" y="75"/>
                  <a:pt x="421" y="68"/>
                  <a:pt x="431" y="63"/>
                </a:cubicBezTo>
                <a:cubicBezTo>
                  <a:pt x="439" y="59"/>
                  <a:pt x="458" y="63"/>
                  <a:pt x="458" y="54"/>
                </a:cubicBezTo>
                <a:cubicBezTo>
                  <a:pt x="458" y="43"/>
                  <a:pt x="440" y="42"/>
                  <a:pt x="431" y="36"/>
                </a:cubicBezTo>
                <a:cubicBezTo>
                  <a:pt x="467" y="27"/>
                  <a:pt x="490" y="20"/>
                  <a:pt x="521" y="0"/>
                </a:cubicBezTo>
                <a:cubicBezTo>
                  <a:pt x="495" y="78"/>
                  <a:pt x="507" y="162"/>
                  <a:pt x="494" y="243"/>
                </a:cubicBezTo>
                <a:cubicBezTo>
                  <a:pt x="497" y="498"/>
                  <a:pt x="503" y="753"/>
                  <a:pt x="503" y="1008"/>
                </a:cubicBezTo>
                <a:cubicBezTo>
                  <a:pt x="503" y="1464"/>
                  <a:pt x="578" y="1341"/>
                  <a:pt x="476" y="1494"/>
                </a:cubicBezTo>
                <a:cubicBezTo>
                  <a:pt x="467" y="1587"/>
                  <a:pt x="467" y="1614"/>
                  <a:pt x="467" y="1575"/>
                </a:cubicBezTo>
                <a:lnTo>
                  <a:pt x="498" y="1526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587280" y="4797360"/>
            <a:ext cx="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华文细黑"/>
              </a:rPr>
              <a:t>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ubOvalCallout"/>
          <p:cNvSpPr/>
          <p:nvPr/>
        </p:nvSpPr>
        <p:spPr>
          <a:xfrm rot="4830600">
            <a:off x="6541920" y="3806640"/>
            <a:ext cx="2608200" cy="2087280"/>
          </a:xfrm>
          <a:custGeom>
            <a:avLst/>
            <a:gdLst>
              <a:gd name="textAreaLeft" fmla="*/ 381960 w 2608200"/>
              <a:gd name="textAreaRight" fmla="*/ 2226240 w 2608200"/>
              <a:gd name="textAreaTop" fmla="*/ 229320 h 2087280"/>
              <a:gd name="textAreaBottom" fmla="*/ 1337040 h 20872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7451640" y="3716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细黑"/>
              </a:rPr>
              <a:t>盲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66764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细黑"/>
              </a:rPr>
              <a:t>观察者看不到的区   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75080" y="3573360"/>
            <a:ext cx="115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细黑"/>
              </a:rPr>
              <a:t>仰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050920" y="357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细黑"/>
              </a:rPr>
              <a:t>：视线与水平线的  夹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3492360" y="5589720"/>
            <a:ext cx="1368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细黑"/>
              </a:rPr>
              <a:t>水平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3276720" y="4581360"/>
            <a:ext cx="13665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细黑"/>
              </a:rPr>
              <a:t>视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1908000" y="5229360"/>
            <a:ext cx="1008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细黑"/>
              </a:rPr>
              <a:t>视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108000" y="5805360"/>
            <a:ext cx="31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华文细黑"/>
              </a:rPr>
              <a:t>观察者眼睛的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6" descr=""/>
          <p:cNvPicPr/>
          <p:nvPr/>
        </p:nvPicPr>
        <p:blipFill>
          <a:blip r:embed="rId1"/>
          <a:stretch/>
        </p:blipFill>
        <p:spPr>
          <a:xfrm>
            <a:off x="4714920" y="5157720"/>
            <a:ext cx="244440" cy="9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7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sp>
        <p:nvSpPr>
          <p:cNvPr id="364" name="Arc 18"/>
          <p:cNvSpPr/>
          <p:nvPr/>
        </p:nvSpPr>
        <p:spPr>
          <a:xfrm>
            <a:off x="4356000" y="5300640"/>
            <a:ext cx="71640" cy="360360"/>
          </a:xfrm>
          <a:custGeom>
            <a:avLst/>
            <a:gdLst>
              <a:gd name="textAreaLeft" fmla="*/ 0 w 71640"/>
              <a:gd name="textAreaRight" fmla="*/ 72000 w 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0641" h="21600">
                <a:moveTo>
                  <a:pt x="-1" y="0"/>
                </a:moveTo>
                <a:cubicBezTo>
                  <a:pt x="9477" y="0"/>
                  <a:pt x="17848" y="6178"/>
                  <a:pt x="20641" y="15235"/>
                </a:cubicBezTo>
              </a:path>
              <a:path stroke="0" w="20641" h="21600">
                <a:moveTo>
                  <a:pt x="-1" y="0"/>
                </a:moveTo>
                <a:cubicBezTo>
                  <a:pt x="9477" y="0"/>
                  <a:pt x="17848" y="6178"/>
                  <a:pt x="20641" y="152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9" descr="r238"/>
          <p:cNvPicPr/>
          <p:nvPr/>
        </p:nvPicPr>
        <p:blipFill>
          <a:blip r:embed="rId3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366" name="Line 20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V="1">
            <a:off x="3348000" y="3717720"/>
            <a:ext cx="388800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427640" y="558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8"/>
          <p:cNvSpPr/>
          <p:nvPr/>
        </p:nvSpPr>
        <p:spPr>
          <a:xfrm>
            <a:off x="7170480" y="61657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Verdana"/>
                <a:ea typeface="华文细黑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0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594036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3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" descr="r238"/>
          <p:cNvPicPr/>
          <p:nvPr/>
        </p:nvPicPr>
        <p:blipFill>
          <a:blip r:embed="rId5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381" name="Line 35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6"/>
          <p:cNvSpPr/>
          <p:nvPr/>
        </p:nvSpPr>
        <p:spPr>
          <a:xfrm flipV="1">
            <a:off x="3348000" y="3716280"/>
            <a:ext cx="3888000" cy="18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507672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3"/>
          <p:cNvSpPr/>
          <p:nvPr/>
        </p:nvSpPr>
        <p:spPr>
          <a:xfrm>
            <a:off x="7170480" y="61657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Verdana"/>
                <a:ea typeface="华文细黑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未知"/>
          <p:cNvSpPr/>
          <p:nvPr/>
        </p:nvSpPr>
        <p:spPr>
          <a:xfrm>
            <a:off x="4788000" y="4797360"/>
            <a:ext cx="1512720" cy="151128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78" h="961">
                <a:moveTo>
                  <a:pt x="4" y="197"/>
                </a:moveTo>
                <a:cubicBezTo>
                  <a:pt x="89" y="169"/>
                  <a:pt x="39" y="181"/>
                  <a:pt x="157" y="170"/>
                </a:cubicBezTo>
                <a:cubicBezTo>
                  <a:pt x="230" y="146"/>
                  <a:pt x="190" y="145"/>
                  <a:pt x="292" y="134"/>
                </a:cubicBezTo>
                <a:cubicBezTo>
                  <a:pt x="366" y="109"/>
                  <a:pt x="250" y="146"/>
                  <a:pt x="409" y="116"/>
                </a:cubicBezTo>
                <a:cubicBezTo>
                  <a:pt x="428" y="113"/>
                  <a:pt x="444" y="100"/>
                  <a:pt x="463" y="98"/>
                </a:cubicBezTo>
                <a:cubicBezTo>
                  <a:pt x="496" y="95"/>
                  <a:pt x="529" y="92"/>
                  <a:pt x="562" y="89"/>
                </a:cubicBezTo>
                <a:cubicBezTo>
                  <a:pt x="610" y="73"/>
                  <a:pt x="581" y="85"/>
                  <a:pt x="643" y="44"/>
                </a:cubicBezTo>
                <a:cubicBezTo>
                  <a:pt x="652" y="38"/>
                  <a:pt x="680" y="23"/>
                  <a:pt x="670" y="26"/>
                </a:cubicBezTo>
                <a:cubicBezTo>
                  <a:pt x="628" y="40"/>
                  <a:pt x="652" y="33"/>
                  <a:pt x="598" y="44"/>
                </a:cubicBezTo>
                <a:cubicBezTo>
                  <a:pt x="536" y="85"/>
                  <a:pt x="485" y="99"/>
                  <a:pt x="409" y="107"/>
                </a:cubicBezTo>
                <a:cubicBezTo>
                  <a:pt x="400" y="110"/>
                  <a:pt x="391" y="115"/>
                  <a:pt x="382" y="116"/>
                </a:cubicBezTo>
                <a:cubicBezTo>
                  <a:pt x="304" y="126"/>
                  <a:pt x="268" y="124"/>
                  <a:pt x="202" y="143"/>
                </a:cubicBezTo>
                <a:cubicBezTo>
                  <a:pt x="193" y="146"/>
                  <a:pt x="184" y="149"/>
                  <a:pt x="175" y="152"/>
                </a:cubicBezTo>
                <a:cubicBezTo>
                  <a:pt x="163" y="155"/>
                  <a:pt x="127" y="161"/>
                  <a:pt x="139" y="161"/>
                </a:cubicBezTo>
                <a:cubicBezTo>
                  <a:pt x="184" y="161"/>
                  <a:pt x="229" y="155"/>
                  <a:pt x="274" y="152"/>
                </a:cubicBezTo>
                <a:cubicBezTo>
                  <a:pt x="322" y="136"/>
                  <a:pt x="293" y="148"/>
                  <a:pt x="355" y="107"/>
                </a:cubicBezTo>
                <a:cubicBezTo>
                  <a:pt x="371" y="96"/>
                  <a:pt x="391" y="95"/>
                  <a:pt x="409" y="89"/>
                </a:cubicBezTo>
                <a:cubicBezTo>
                  <a:pt x="427" y="83"/>
                  <a:pt x="463" y="71"/>
                  <a:pt x="463" y="71"/>
                </a:cubicBezTo>
                <a:cubicBezTo>
                  <a:pt x="499" y="74"/>
                  <a:pt x="607" y="80"/>
                  <a:pt x="571" y="80"/>
                </a:cubicBezTo>
                <a:cubicBezTo>
                  <a:pt x="529" y="80"/>
                  <a:pt x="426" y="109"/>
                  <a:pt x="445" y="71"/>
                </a:cubicBezTo>
                <a:cubicBezTo>
                  <a:pt x="465" y="31"/>
                  <a:pt x="535" y="65"/>
                  <a:pt x="580" y="62"/>
                </a:cubicBezTo>
                <a:cubicBezTo>
                  <a:pt x="607" y="44"/>
                  <a:pt x="634" y="35"/>
                  <a:pt x="661" y="17"/>
                </a:cubicBezTo>
                <a:cubicBezTo>
                  <a:pt x="791" y="29"/>
                  <a:pt x="748" y="0"/>
                  <a:pt x="778" y="89"/>
                </a:cubicBezTo>
                <a:cubicBezTo>
                  <a:pt x="778" y="92"/>
                  <a:pt x="799" y="360"/>
                  <a:pt x="805" y="377"/>
                </a:cubicBezTo>
                <a:cubicBezTo>
                  <a:pt x="809" y="389"/>
                  <a:pt x="829" y="383"/>
                  <a:pt x="841" y="386"/>
                </a:cubicBezTo>
                <a:cubicBezTo>
                  <a:pt x="861" y="417"/>
                  <a:pt x="868" y="440"/>
                  <a:pt x="877" y="476"/>
                </a:cubicBezTo>
                <a:cubicBezTo>
                  <a:pt x="866" y="594"/>
                  <a:pt x="878" y="544"/>
                  <a:pt x="850" y="629"/>
                </a:cubicBezTo>
                <a:cubicBezTo>
                  <a:pt x="844" y="647"/>
                  <a:pt x="838" y="665"/>
                  <a:pt x="832" y="683"/>
                </a:cubicBezTo>
                <a:cubicBezTo>
                  <a:pt x="829" y="692"/>
                  <a:pt x="823" y="710"/>
                  <a:pt x="823" y="710"/>
                </a:cubicBezTo>
                <a:cubicBezTo>
                  <a:pt x="822" y="715"/>
                  <a:pt x="814" y="793"/>
                  <a:pt x="805" y="800"/>
                </a:cubicBezTo>
                <a:cubicBezTo>
                  <a:pt x="790" y="811"/>
                  <a:pt x="751" y="818"/>
                  <a:pt x="751" y="818"/>
                </a:cubicBezTo>
                <a:cubicBezTo>
                  <a:pt x="605" y="816"/>
                  <a:pt x="225" y="961"/>
                  <a:pt x="76" y="782"/>
                </a:cubicBezTo>
                <a:cubicBezTo>
                  <a:pt x="38" y="737"/>
                  <a:pt x="81" y="770"/>
                  <a:pt x="31" y="737"/>
                </a:cubicBezTo>
                <a:cubicBezTo>
                  <a:pt x="0" y="643"/>
                  <a:pt x="10" y="684"/>
                  <a:pt x="31" y="485"/>
                </a:cubicBezTo>
                <a:cubicBezTo>
                  <a:pt x="32" y="474"/>
                  <a:pt x="45" y="468"/>
                  <a:pt x="49" y="458"/>
                </a:cubicBezTo>
                <a:cubicBezTo>
                  <a:pt x="57" y="441"/>
                  <a:pt x="61" y="422"/>
                  <a:pt x="67" y="404"/>
                </a:cubicBezTo>
                <a:cubicBezTo>
                  <a:pt x="70" y="395"/>
                  <a:pt x="76" y="377"/>
                  <a:pt x="76" y="377"/>
                </a:cubicBezTo>
                <a:cubicBezTo>
                  <a:pt x="73" y="320"/>
                  <a:pt x="78" y="262"/>
                  <a:pt x="67" y="206"/>
                </a:cubicBezTo>
                <a:cubicBezTo>
                  <a:pt x="65" y="197"/>
                  <a:pt x="48" y="193"/>
                  <a:pt x="40" y="197"/>
                </a:cubicBezTo>
                <a:cubicBezTo>
                  <a:pt x="32" y="201"/>
                  <a:pt x="34" y="215"/>
                  <a:pt x="31" y="224"/>
                </a:cubicBezTo>
                <a:cubicBezTo>
                  <a:pt x="93" y="234"/>
                  <a:pt x="98" y="220"/>
                  <a:pt x="67" y="251"/>
                </a:cubicBezTo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6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7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5349960" y="50133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华文细黑"/>
              </a:rPr>
              <a:t>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586728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Verdana"/>
                <a:ea typeface="华文细黑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0"/>
          <p:cNvSpPr/>
          <p:nvPr/>
        </p:nvSpPr>
        <p:spPr>
          <a:xfrm>
            <a:off x="2916360" y="5516640"/>
            <a:ext cx="43164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396720" y="83664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分析：如图，说观察者眼睛的位置为点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F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，画出观察者的水平视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FG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，它交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AB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C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于点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H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K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．视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FA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FG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的夹角∠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AFH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是观察点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A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时的仰角．类似地，哪个角是观察点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时的仰角？由于树的遮挡，区域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1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和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1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都在观察者看不到的区域（盲区）之内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993F476-F347-4049-8023-9E646186372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AB=8m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CD=12m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BD=5m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，人的身高是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1.6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2360" y="1341000"/>
            <a:ext cx="784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假设观察者从左向右走到点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时，他的眼睛的位置点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与两颗树的顶端点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恰在一条直线上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当他继续往右走的时候，           他就看不到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点了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84360" y="2565360"/>
            <a:ext cx="82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题意可知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⊥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D⊥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FH∽ △CF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58800" y="3645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"/>
          <p:cNvGrpSpPr/>
          <p:nvPr/>
        </p:nvGrpSpPr>
        <p:grpSpPr>
          <a:xfrm>
            <a:off x="1330200" y="3502080"/>
            <a:ext cx="934920" cy="820080"/>
            <a:chOff x="1330200" y="3502080"/>
            <a:chExt cx="934920" cy="820080"/>
          </a:xfrm>
        </p:grpSpPr>
        <p:sp>
          <p:nvSpPr>
            <p:cNvPr id="404" name="Line 7"/>
            <p:cNvSpPr/>
            <p:nvPr/>
          </p:nvSpPr>
          <p:spPr>
            <a:xfrm>
              <a:off x="1444680" y="393372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330200" y="35020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F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1373040" y="3862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10"/>
          <p:cNvSpPr/>
          <p:nvPr/>
        </p:nvSpPr>
        <p:spPr>
          <a:xfrm>
            <a:off x="197964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2411280" y="3502080"/>
            <a:ext cx="949320" cy="807480"/>
            <a:chOff x="2411280" y="3502080"/>
            <a:chExt cx="949320" cy="807480"/>
          </a:xfrm>
        </p:grpSpPr>
        <p:sp>
          <p:nvSpPr>
            <p:cNvPr id="409" name="Line 12"/>
            <p:cNvSpPr/>
            <p:nvPr/>
          </p:nvSpPr>
          <p:spPr>
            <a:xfrm>
              <a:off x="2496960" y="393372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2411280" y="35020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2425680" y="384984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5"/>
          <p:cNvSpPr/>
          <p:nvPr/>
        </p:nvSpPr>
        <p:spPr>
          <a:xfrm>
            <a:off x="39672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6"/>
          <p:cNvGrpSpPr/>
          <p:nvPr/>
        </p:nvGrpSpPr>
        <p:grpSpPr>
          <a:xfrm>
            <a:off x="971640" y="4076640"/>
            <a:ext cx="1729800" cy="820080"/>
            <a:chOff x="971640" y="4076640"/>
            <a:chExt cx="1729800" cy="820080"/>
          </a:xfrm>
        </p:grpSpPr>
        <p:sp>
          <p:nvSpPr>
            <p:cNvPr id="414" name="Line 17"/>
            <p:cNvSpPr/>
            <p:nvPr/>
          </p:nvSpPr>
          <p:spPr>
            <a:xfrm>
              <a:off x="1042920" y="4508280"/>
              <a:ext cx="1009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8"/>
            <p:cNvSpPr/>
            <p:nvPr/>
          </p:nvSpPr>
          <p:spPr>
            <a:xfrm>
              <a:off x="1042920" y="407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F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971640" y="4437000"/>
              <a:ext cx="17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FH+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0"/>
          <p:cNvSpPr/>
          <p:nvPr/>
        </p:nvSpPr>
        <p:spPr>
          <a:xfrm>
            <a:off x="2340000" y="4365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1"/>
          <p:cNvGrpSpPr/>
          <p:nvPr/>
        </p:nvGrpSpPr>
        <p:grpSpPr>
          <a:xfrm>
            <a:off x="2916360" y="4149720"/>
            <a:ext cx="1582560" cy="891360"/>
            <a:chOff x="2916360" y="4149720"/>
            <a:chExt cx="1582560" cy="891360"/>
          </a:xfrm>
        </p:grpSpPr>
        <p:sp>
          <p:nvSpPr>
            <p:cNvPr id="419" name="Line 22"/>
            <p:cNvSpPr/>
            <p:nvPr/>
          </p:nvSpPr>
          <p:spPr>
            <a:xfrm>
              <a:off x="3059280" y="4581360"/>
              <a:ext cx="1081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3059280" y="41497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8-1.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4"/>
            <p:cNvSpPr/>
            <p:nvPr/>
          </p:nvSpPr>
          <p:spPr>
            <a:xfrm>
              <a:off x="2916360" y="4581360"/>
              <a:ext cx="15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2-1.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25"/>
          <p:cNvSpPr/>
          <p:nvPr/>
        </p:nvSpPr>
        <p:spPr>
          <a:xfrm>
            <a:off x="755640" y="4870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H=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395280" y="5445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他与左边的树的距离小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由于这棵树的遮挡，右边树的顶端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观察者的盲区之内，就不能看见右边较高的树的顶端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27"/>
          <p:cNvGrpSpPr/>
          <p:nvPr/>
        </p:nvGrpSpPr>
        <p:grpSpPr>
          <a:xfrm>
            <a:off x="4068720" y="1701720"/>
            <a:ext cx="5473800" cy="4117680"/>
            <a:chOff x="4068720" y="1701720"/>
            <a:chExt cx="5473800" cy="4117680"/>
          </a:xfrm>
        </p:grpSpPr>
        <p:pic>
          <p:nvPicPr>
            <p:cNvPr id="425" name="Picture 28" descr=""/>
            <p:cNvPicPr/>
            <p:nvPr/>
          </p:nvPicPr>
          <p:blipFill>
            <a:blip r:embed="rId1"/>
            <a:stretch/>
          </p:blipFill>
          <p:spPr>
            <a:xfrm>
              <a:off x="7453440" y="2349000"/>
              <a:ext cx="574560" cy="27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9" descr=""/>
            <p:cNvPicPr/>
            <p:nvPr/>
          </p:nvPicPr>
          <p:blipFill>
            <a:blip r:embed="rId2"/>
            <a:stretch/>
          </p:blipFill>
          <p:spPr>
            <a:xfrm>
              <a:off x="6157800" y="3356640"/>
              <a:ext cx="346320" cy="172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30" descr="r238"/>
            <p:cNvPicPr/>
            <p:nvPr/>
          </p:nvPicPr>
          <p:blipFill>
            <a:blip r:embed="rId3"/>
            <a:stretch/>
          </p:blipFill>
          <p:spPr>
            <a:xfrm>
              <a:off x="4716360" y="4077000"/>
              <a:ext cx="360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Line 31"/>
            <p:cNvSpPr/>
            <p:nvPr/>
          </p:nvSpPr>
          <p:spPr>
            <a:xfrm>
              <a:off x="4068720" y="5083200"/>
              <a:ext cx="525636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4716360" y="3717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3"/>
            <p:cNvSpPr/>
            <p:nvPr/>
          </p:nvSpPr>
          <p:spPr>
            <a:xfrm>
              <a:off x="6013440" y="2998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4"/>
            <p:cNvSpPr/>
            <p:nvPr/>
          </p:nvSpPr>
          <p:spPr>
            <a:xfrm>
              <a:off x="6157800" y="5085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5"/>
            <p:cNvSpPr/>
            <p:nvPr/>
          </p:nvSpPr>
          <p:spPr>
            <a:xfrm>
              <a:off x="7453440" y="19173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6"/>
            <p:cNvSpPr/>
            <p:nvPr/>
          </p:nvSpPr>
          <p:spPr>
            <a:xfrm>
              <a:off x="7597800" y="5085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7"/>
            <p:cNvSpPr/>
            <p:nvPr/>
          </p:nvSpPr>
          <p:spPr>
            <a:xfrm>
              <a:off x="5869080" y="386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8821800" y="400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6229440" y="2422080"/>
              <a:ext cx="1485720" cy="266112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2661120"/>
                <a:gd name="textAreaBottom" fmla="*/ 2661480 h 2661120"/>
              </a:gdLst>
              <a:ahLst/>
              <a:rect l="textAreaLeft" t="textAreaTop" r="textAreaRight" b="textAreaBottom"/>
              <a:pathLst>
                <a:path w="936" h="1677">
                  <a:moveTo>
                    <a:pt x="153" y="585"/>
                  </a:moveTo>
                  <a:cubicBezTo>
                    <a:pt x="141" y="588"/>
                    <a:pt x="129" y="594"/>
                    <a:pt x="117" y="594"/>
                  </a:cubicBezTo>
                  <a:cubicBezTo>
                    <a:pt x="81" y="594"/>
                    <a:pt x="44" y="593"/>
                    <a:pt x="9" y="585"/>
                  </a:cubicBezTo>
                  <a:cubicBezTo>
                    <a:pt x="0" y="583"/>
                    <a:pt x="28" y="581"/>
                    <a:pt x="36" y="576"/>
                  </a:cubicBezTo>
                  <a:cubicBezTo>
                    <a:pt x="55" y="565"/>
                    <a:pt x="72" y="552"/>
                    <a:pt x="90" y="540"/>
                  </a:cubicBezTo>
                  <a:cubicBezTo>
                    <a:pt x="134" y="511"/>
                    <a:pt x="175" y="476"/>
                    <a:pt x="225" y="459"/>
                  </a:cubicBezTo>
                  <a:cubicBezTo>
                    <a:pt x="254" y="416"/>
                    <a:pt x="233" y="435"/>
                    <a:pt x="297" y="414"/>
                  </a:cubicBezTo>
                  <a:cubicBezTo>
                    <a:pt x="306" y="411"/>
                    <a:pt x="324" y="405"/>
                    <a:pt x="324" y="405"/>
                  </a:cubicBezTo>
                  <a:cubicBezTo>
                    <a:pt x="354" y="360"/>
                    <a:pt x="405" y="336"/>
                    <a:pt x="450" y="306"/>
                  </a:cubicBezTo>
                  <a:cubicBezTo>
                    <a:pt x="522" y="258"/>
                    <a:pt x="594" y="210"/>
                    <a:pt x="666" y="162"/>
                  </a:cubicBezTo>
                  <a:cubicBezTo>
                    <a:pt x="693" y="144"/>
                    <a:pt x="719" y="132"/>
                    <a:pt x="747" y="117"/>
                  </a:cubicBezTo>
                  <a:cubicBezTo>
                    <a:pt x="766" y="106"/>
                    <a:pt x="783" y="93"/>
                    <a:pt x="801" y="81"/>
                  </a:cubicBezTo>
                  <a:cubicBezTo>
                    <a:pt x="810" y="75"/>
                    <a:pt x="828" y="63"/>
                    <a:pt x="828" y="63"/>
                  </a:cubicBezTo>
                  <a:cubicBezTo>
                    <a:pt x="869" y="1"/>
                    <a:pt x="843" y="16"/>
                    <a:pt x="891" y="0"/>
                  </a:cubicBezTo>
                  <a:cubicBezTo>
                    <a:pt x="897" y="9"/>
                    <a:pt x="912" y="17"/>
                    <a:pt x="909" y="27"/>
                  </a:cubicBezTo>
                  <a:cubicBezTo>
                    <a:pt x="907" y="36"/>
                    <a:pt x="889" y="29"/>
                    <a:pt x="882" y="36"/>
                  </a:cubicBezTo>
                  <a:cubicBezTo>
                    <a:pt x="867" y="51"/>
                    <a:pt x="858" y="72"/>
                    <a:pt x="846" y="90"/>
                  </a:cubicBezTo>
                  <a:cubicBezTo>
                    <a:pt x="840" y="99"/>
                    <a:pt x="828" y="117"/>
                    <a:pt x="828" y="117"/>
                  </a:cubicBezTo>
                  <a:cubicBezTo>
                    <a:pt x="829" y="160"/>
                    <a:pt x="759" y="455"/>
                    <a:pt x="873" y="531"/>
                  </a:cubicBezTo>
                  <a:cubicBezTo>
                    <a:pt x="856" y="581"/>
                    <a:pt x="823" y="576"/>
                    <a:pt x="783" y="603"/>
                  </a:cubicBezTo>
                  <a:cubicBezTo>
                    <a:pt x="759" y="674"/>
                    <a:pt x="733" y="768"/>
                    <a:pt x="828" y="792"/>
                  </a:cubicBezTo>
                  <a:cubicBezTo>
                    <a:pt x="840" y="850"/>
                    <a:pt x="857" y="916"/>
                    <a:pt x="801" y="954"/>
                  </a:cubicBezTo>
                  <a:cubicBezTo>
                    <a:pt x="794" y="964"/>
                    <a:pt x="751" y="1022"/>
                    <a:pt x="783" y="1035"/>
                  </a:cubicBezTo>
                  <a:cubicBezTo>
                    <a:pt x="808" y="1045"/>
                    <a:pt x="837" y="1041"/>
                    <a:pt x="864" y="1044"/>
                  </a:cubicBezTo>
                  <a:cubicBezTo>
                    <a:pt x="873" y="1071"/>
                    <a:pt x="886" y="1100"/>
                    <a:pt x="900" y="1125"/>
                  </a:cubicBezTo>
                  <a:cubicBezTo>
                    <a:pt x="911" y="1144"/>
                    <a:pt x="936" y="1179"/>
                    <a:pt x="936" y="1179"/>
                  </a:cubicBezTo>
                  <a:cubicBezTo>
                    <a:pt x="921" y="1286"/>
                    <a:pt x="917" y="1395"/>
                    <a:pt x="909" y="1503"/>
                  </a:cubicBezTo>
                  <a:cubicBezTo>
                    <a:pt x="903" y="1581"/>
                    <a:pt x="924" y="1634"/>
                    <a:pt x="864" y="1674"/>
                  </a:cubicBezTo>
                  <a:cubicBezTo>
                    <a:pt x="615" y="1671"/>
                    <a:pt x="366" y="1677"/>
                    <a:pt x="117" y="1665"/>
                  </a:cubicBezTo>
                  <a:cubicBezTo>
                    <a:pt x="108" y="1665"/>
                    <a:pt x="115" y="1645"/>
                    <a:pt x="108" y="1638"/>
                  </a:cubicBezTo>
                  <a:cubicBezTo>
                    <a:pt x="101" y="1631"/>
                    <a:pt x="90" y="1632"/>
                    <a:pt x="81" y="1629"/>
                  </a:cubicBezTo>
                  <a:cubicBezTo>
                    <a:pt x="26" y="1465"/>
                    <a:pt x="48" y="1552"/>
                    <a:pt x="72" y="1206"/>
                  </a:cubicBezTo>
                  <a:cubicBezTo>
                    <a:pt x="73" y="1195"/>
                    <a:pt x="86" y="1189"/>
                    <a:pt x="90" y="1179"/>
                  </a:cubicBezTo>
                  <a:cubicBezTo>
                    <a:pt x="98" y="1162"/>
                    <a:pt x="108" y="1125"/>
                    <a:pt x="108" y="1125"/>
                  </a:cubicBezTo>
                  <a:cubicBezTo>
                    <a:pt x="116" y="981"/>
                    <a:pt x="131" y="792"/>
                    <a:pt x="108" y="657"/>
                  </a:cubicBezTo>
                  <a:cubicBezTo>
                    <a:pt x="105" y="642"/>
                    <a:pt x="78" y="651"/>
                    <a:pt x="63" y="648"/>
                  </a:cubicBezTo>
                  <a:cubicBezTo>
                    <a:pt x="43" y="588"/>
                    <a:pt x="45" y="613"/>
                    <a:pt x="45" y="576"/>
                  </a:cubicBezTo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165800" y="3717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1"/>
            <p:cNvSpPr/>
            <p:nvPr/>
          </p:nvSpPr>
          <p:spPr>
            <a:xfrm>
              <a:off x="6775200" y="3501360"/>
              <a:ext cx="31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Verdana"/>
                </a:rPr>
                <a:t>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707240" y="1737720"/>
              <a:ext cx="1042920" cy="338184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3381840"/>
                <a:gd name="textAreaBottom" fmla="*/ 3382200 h 3381840"/>
              </a:gdLst>
              <a:ahLst/>
              <a:rect l="textAreaLeft" t="textAreaTop" r="textAreaRight" b="textAreaBottom"/>
              <a:pathLst>
                <a:path w="657" h="2131">
                  <a:moveTo>
                    <a:pt x="635" y="2077"/>
                  </a:moveTo>
                  <a:cubicBezTo>
                    <a:pt x="464" y="2074"/>
                    <a:pt x="292" y="2083"/>
                    <a:pt x="122" y="2068"/>
                  </a:cubicBezTo>
                  <a:cubicBezTo>
                    <a:pt x="110" y="2067"/>
                    <a:pt x="119" y="2043"/>
                    <a:pt x="113" y="2032"/>
                  </a:cubicBezTo>
                  <a:cubicBezTo>
                    <a:pt x="107" y="2021"/>
                    <a:pt x="96" y="2013"/>
                    <a:pt x="86" y="2005"/>
                  </a:cubicBezTo>
                  <a:cubicBezTo>
                    <a:pt x="78" y="1998"/>
                    <a:pt x="68" y="1993"/>
                    <a:pt x="59" y="1987"/>
                  </a:cubicBezTo>
                  <a:cubicBezTo>
                    <a:pt x="64" y="1879"/>
                    <a:pt x="51" y="1768"/>
                    <a:pt x="77" y="1663"/>
                  </a:cubicBezTo>
                  <a:cubicBezTo>
                    <a:pt x="80" y="1653"/>
                    <a:pt x="95" y="1651"/>
                    <a:pt x="104" y="1645"/>
                  </a:cubicBezTo>
                  <a:cubicBezTo>
                    <a:pt x="145" y="1584"/>
                    <a:pt x="102" y="1661"/>
                    <a:pt x="113" y="1564"/>
                  </a:cubicBezTo>
                  <a:cubicBezTo>
                    <a:pt x="115" y="1550"/>
                    <a:pt x="151" y="1517"/>
                    <a:pt x="158" y="1510"/>
                  </a:cubicBezTo>
                  <a:cubicBezTo>
                    <a:pt x="187" y="1424"/>
                    <a:pt x="127" y="1428"/>
                    <a:pt x="59" y="1420"/>
                  </a:cubicBezTo>
                  <a:cubicBezTo>
                    <a:pt x="89" y="1375"/>
                    <a:pt x="68" y="1399"/>
                    <a:pt x="131" y="1357"/>
                  </a:cubicBezTo>
                  <a:cubicBezTo>
                    <a:pt x="140" y="1351"/>
                    <a:pt x="158" y="1339"/>
                    <a:pt x="158" y="1339"/>
                  </a:cubicBezTo>
                  <a:cubicBezTo>
                    <a:pt x="203" y="1272"/>
                    <a:pt x="161" y="1344"/>
                    <a:pt x="185" y="1186"/>
                  </a:cubicBezTo>
                  <a:cubicBezTo>
                    <a:pt x="188" y="1167"/>
                    <a:pt x="203" y="1132"/>
                    <a:pt x="203" y="1132"/>
                  </a:cubicBezTo>
                  <a:cubicBezTo>
                    <a:pt x="200" y="1081"/>
                    <a:pt x="210" y="1027"/>
                    <a:pt x="194" y="979"/>
                  </a:cubicBezTo>
                  <a:cubicBezTo>
                    <a:pt x="187" y="958"/>
                    <a:pt x="140" y="943"/>
                    <a:pt x="140" y="943"/>
                  </a:cubicBezTo>
                  <a:cubicBezTo>
                    <a:pt x="143" y="916"/>
                    <a:pt x="142" y="888"/>
                    <a:pt x="149" y="862"/>
                  </a:cubicBezTo>
                  <a:cubicBezTo>
                    <a:pt x="152" y="852"/>
                    <a:pt x="164" y="845"/>
                    <a:pt x="167" y="835"/>
                  </a:cubicBezTo>
                  <a:cubicBezTo>
                    <a:pt x="173" y="818"/>
                    <a:pt x="173" y="799"/>
                    <a:pt x="176" y="781"/>
                  </a:cubicBezTo>
                  <a:cubicBezTo>
                    <a:pt x="173" y="745"/>
                    <a:pt x="175" y="708"/>
                    <a:pt x="167" y="673"/>
                  </a:cubicBezTo>
                  <a:cubicBezTo>
                    <a:pt x="165" y="664"/>
                    <a:pt x="167" y="700"/>
                    <a:pt x="158" y="700"/>
                  </a:cubicBezTo>
                  <a:cubicBezTo>
                    <a:pt x="149" y="700"/>
                    <a:pt x="152" y="682"/>
                    <a:pt x="149" y="673"/>
                  </a:cubicBezTo>
                  <a:cubicBezTo>
                    <a:pt x="146" y="613"/>
                    <a:pt x="151" y="552"/>
                    <a:pt x="140" y="493"/>
                  </a:cubicBezTo>
                  <a:cubicBezTo>
                    <a:pt x="138" y="484"/>
                    <a:pt x="121" y="489"/>
                    <a:pt x="113" y="484"/>
                  </a:cubicBezTo>
                  <a:cubicBezTo>
                    <a:pt x="94" y="473"/>
                    <a:pt x="59" y="448"/>
                    <a:pt x="59" y="448"/>
                  </a:cubicBezTo>
                  <a:cubicBezTo>
                    <a:pt x="56" y="439"/>
                    <a:pt x="57" y="427"/>
                    <a:pt x="50" y="421"/>
                  </a:cubicBezTo>
                  <a:cubicBezTo>
                    <a:pt x="40" y="413"/>
                    <a:pt x="21" y="422"/>
                    <a:pt x="14" y="412"/>
                  </a:cubicBezTo>
                  <a:cubicBezTo>
                    <a:pt x="0" y="393"/>
                    <a:pt x="46" y="370"/>
                    <a:pt x="50" y="367"/>
                  </a:cubicBezTo>
                  <a:cubicBezTo>
                    <a:pt x="53" y="358"/>
                    <a:pt x="52" y="347"/>
                    <a:pt x="59" y="340"/>
                  </a:cubicBezTo>
                  <a:cubicBezTo>
                    <a:pt x="105" y="294"/>
                    <a:pt x="192" y="272"/>
                    <a:pt x="248" y="241"/>
                  </a:cubicBezTo>
                  <a:cubicBezTo>
                    <a:pt x="267" y="230"/>
                    <a:pt x="281" y="212"/>
                    <a:pt x="302" y="205"/>
                  </a:cubicBezTo>
                  <a:cubicBezTo>
                    <a:pt x="331" y="195"/>
                    <a:pt x="354" y="170"/>
                    <a:pt x="383" y="160"/>
                  </a:cubicBezTo>
                  <a:cubicBezTo>
                    <a:pt x="401" y="154"/>
                    <a:pt x="437" y="142"/>
                    <a:pt x="437" y="142"/>
                  </a:cubicBezTo>
                  <a:cubicBezTo>
                    <a:pt x="506" y="73"/>
                    <a:pt x="397" y="127"/>
                    <a:pt x="365" y="133"/>
                  </a:cubicBezTo>
                  <a:cubicBezTo>
                    <a:pt x="328" y="158"/>
                    <a:pt x="293" y="172"/>
                    <a:pt x="257" y="196"/>
                  </a:cubicBezTo>
                  <a:cubicBezTo>
                    <a:pt x="260" y="205"/>
                    <a:pt x="257" y="219"/>
                    <a:pt x="266" y="223"/>
                  </a:cubicBezTo>
                  <a:cubicBezTo>
                    <a:pt x="297" y="235"/>
                    <a:pt x="356" y="178"/>
                    <a:pt x="356" y="178"/>
                  </a:cubicBezTo>
                  <a:cubicBezTo>
                    <a:pt x="389" y="128"/>
                    <a:pt x="355" y="168"/>
                    <a:pt x="401" y="142"/>
                  </a:cubicBezTo>
                  <a:cubicBezTo>
                    <a:pt x="420" y="131"/>
                    <a:pt x="455" y="106"/>
                    <a:pt x="455" y="106"/>
                  </a:cubicBezTo>
                  <a:cubicBezTo>
                    <a:pt x="461" y="97"/>
                    <a:pt x="465" y="86"/>
                    <a:pt x="473" y="79"/>
                  </a:cubicBezTo>
                  <a:cubicBezTo>
                    <a:pt x="494" y="62"/>
                    <a:pt x="524" y="78"/>
                    <a:pt x="473" y="61"/>
                  </a:cubicBezTo>
                  <a:cubicBezTo>
                    <a:pt x="657" y="0"/>
                    <a:pt x="552" y="336"/>
                    <a:pt x="554" y="430"/>
                  </a:cubicBezTo>
                  <a:cubicBezTo>
                    <a:pt x="546" y="758"/>
                    <a:pt x="547" y="1083"/>
                    <a:pt x="563" y="1411"/>
                  </a:cubicBezTo>
                  <a:cubicBezTo>
                    <a:pt x="569" y="1523"/>
                    <a:pt x="564" y="1656"/>
                    <a:pt x="599" y="1762"/>
                  </a:cubicBezTo>
                  <a:cubicBezTo>
                    <a:pt x="602" y="1846"/>
                    <a:pt x="601" y="1930"/>
                    <a:pt x="608" y="2014"/>
                  </a:cubicBezTo>
                  <a:cubicBezTo>
                    <a:pt x="609" y="2023"/>
                    <a:pt x="617" y="1978"/>
                    <a:pt x="617" y="1987"/>
                  </a:cubicBezTo>
                  <a:cubicBezTo>
                    <a:pt x="617" y="2117"/>
                    <a:pt x="639" y="2091"/>
                    <a:pt x="599" y="2131"/>
                  </a:cubicBezTo>
                  <a:lnTo>
                    <a:pt x="635" y="207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3"/>
            <p:cNvSpPr/>
            <p:nvPr/>
          </p:nvSpPr>
          <p:spPr>
            <a:xfrm flipV="1">
              <a:off x="5005440" y="4148640"/>
              <a:ext cx="3816360" cy="7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44"/>
            <p:cNvSpPr/>
            <p:nvPr/>
          </p:nvSpPr>
          <p:spPr>
            <a:xfrm flipV="1">
              <a:off x="4976640" y="1701720"/>
              <a:ext cx="3700440" cy="252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5"/>
            <p:cNvSpPr/>
            <p:nvPr/>
          </p:nvSpPr>
          <p:spPr>
            <a:xfrm>
              <a:off x="8083800" y="33566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Verdana"/>
                </a:rPr>
                <a:t>Ⅱ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6"/>
            <p:cNvSpPr/>
            <p:nvPr/>
          </p:nvSpPr>
          <p:spPr>
            <a:xfrm>
              <a:off x="8677080" y="508500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7"/>
            <p:cNvSpPr/>
            <p:nvPr/>
          </p:nvSpPr>
          <p:spPr>
            <a:xfrm>
              <a:off x="6589800" y="5300640"/>
              <a:ext cx="1296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8"/>
          <p:cNvSpPr/>
          <p:nvPr/>
        </p:nvSpPr>
        <p:spPr>
          <a:xfrm>
            <a:off x="4716360" y="501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8FB8D8-5654-440F-91C3-6B85A9A625F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随堂练习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2700360" y="117360"/>
            <a:ext cx="647640" cy="631800"/>
            <a:chOff x="2700360" y="117360"/>
            <a:chExt cx="647640" cy="631800"/>
          </a:xfrm>
        </p:grpSpPr>
        <p:sp>
          <p:nvSpPr>
            <p:cNvPr id="449" name="Rectangle 4"/>
            <p:cNvSpPr/>
            <p:nvPr/>
          </p:nvSpPr>
          <p:spPr>
            <a:xfrm>
              <a:off x="2700360" y="117360"/>
              <a:ext cx="647640" cy="631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5"/>
            <p:cNvGrpSpPr/>
            <p:nvPr/>
          </p:nvGrpSpPr>
          <p:grpSpPr>
            <a:xfrm>
              <a:off x="2760480" y="145080"/>
              <a:ext cx="530280" cy="548640"/>
              <a:chOff x="2760480" y="145080"/>
              <a:chExt cx="530280" cy="548640"/>
            </a:xfrm>
          </p:grpSpPr>
          <p:sp>
            <p:nvSpPr>
              <p:cNvPr id="451" name="未知"/>
              <p:cNvSpPr/>
              <p:nvPr/>
            </p:nvSpPr>
            <p:spPr>
              <a:xfrm>
                <a:off x="2778840" y="240480"/>
                <a:ext cx="455400" cy="37980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734" h="628">
                    <a:moveTo>
                      <a:pt x="205" y="477"/>
                    </a:moveTo>
                    <a:cubicBezTo>
                      <a:pt x="160" y="462"/>
                      <a:pt x="46" y="454"/>
                      <a:pt x="23" y="431"/>
                    </a:cubicBezTo>
                    <a:cubicBezTo>
                      <a:pt x="0" y="408"/>
                      <a:pt x="46" y="386"/>
                      <a:pt x="69" y="341"/>
                    </a:cubicBezTo>
                    <a:cubicBezTo>
                      <a:pt x="92" y="296"/>
                      <a:pt x="122" y="212"/>
                      <a:pt x="160" y="159"/>
                    </a:cubicBezTo>
                    <a:cubicBezTo>
                      <a:pt x="198" y="106"/>
                      <a:pt x="251" y="46"/>
                      <a:pt x="296" y="23"/>
                    </a:cubicBezTo>
                    <a:cubicBezTo>
                      <a:pt x="341" y="0"/>
                      <a:pt x="372" y="8"/>
                      <a:pt x="432" y="23"/>
                    </a:cubicBezTo>
                    <a:cubicBezTo>
                      <a:pt x="492" y="38"/>
                      <a:pt x="613" y="69"/>
                      <a:pt x="658" y="114"/>
                    </a:cubicBezTo>
                    <a:cubicBezTo>
                      <a:pt x="703" y="159"/>
                      <a:pt x="696" y="227"/>
                      <a:pt x="704" y="295"/>
                    </a:cubicBezTo>
                    <a:cubicBezTo>
                      <a:pt x="712" y="363"/>
                      <a:pt x="734" y="469"/>
                      <a:pt x="704" y="522"/>
                    </a:cubicBezTo>
                    <a:cubicBezTo>
                      <a:pt x="674" y="575"/>
                      <a:pt x="575" y="598"/>
                      <a:pt x="522" y="613"/>
                    </a:cubicBezTo>
                    <a:cubicBezTo>
                      <a:pt x="469" y="628"/>
                      <a:pt x="424" y="628"/>
                      <a:pt x="386" y="613"/>
                    </a:cubicBezTo>
                    <a:cubicBezTo>
                      <a:pt x="348" y="598"/>
                      <a:pt x="319" y="552"/>
                      <a:pt x="296" y="522"/>
                    </a:cubicBezTo>
                    <a:cubicBezTo>
                      <a:pt x="273" y="492"/>
                      <a:pt x="250" y="492"/>
                      <a:pt x="205" y="477"/>
                    </a:cubicBezTo>
                    <a:close/>
                  </a:path>
                </a:pathLst>
              </a:custGeom>
              <a:solidFill>
                <a:srgbClr val="a50021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745200">
                <a:off x="2905920" y="309240"/>
                <a:ext cx="61200" cy="23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99" h="393">
                    <a:moveTo>
                      <a:pt x="54" y="378"/>
                    </a:moveTo>
                    <a:cubicBezTo>
                      <a:pt x="69" y="363"/>
                      <a:pt x="99" y="257"/>
                      <a:pt x="99" y="197"/>
                    </a:cubicBezTo>
                    <a:cubicBezTo>
                      <a:pt x="99" y="137"/>
                      <a:pt x="69" y="30"/>
                      <a:pt x="54" y="15"/>
                    </a:cubicBezTo>
                    <a:cubicBezTo>
                      <a:pt x="39" y="0"/>
                      <a:pt x="16" y="61"/>
                      <a:pt x="8" y="106"/>
                    </a:cubicBezTo>
                    <a:cubicBezTo>
                      <a:pt x="0" y="151"/>
                      <a:pt x="0" y="242"/>
                      <a:pt x="8" y="287"/>
                    </a:cubicBezTo>
                    <a:cubicBezTo>
                      <a:pt x="16" y="332"/>
                      <a:pt x="39" y="393"/>
                      <a:pt x="54" y="378"/>
                    </a:cubicBezTo>
                    <a:close/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>
                <a:off x="2962800" y="145080"/>
                <a:ext cx="327960" cy="3016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529" h="499">
                    <a:moveTo>
                      <a:pt x="0" y="272"/>
                    </a:moveTo>
                    <a:cubicBezTo>
                      <a:pt x="11" y="298"/>
                      <a:pt x="22" y="325"/>
                      <a:pt x="45" y="363"/>
                    </a:cubicBezTo>
                    <a:cubicBezTo>
                      <a:pt x="68" y="401"/>
                      <a:pt x="106" y="499"/>
                      <a:pt x="136" y="499"/>
                    </a:cubicBezTo>
                    <a:cubicBezTo>
                      <a:pt x="166" y="499"/>
                      <a:pt x="166" y="423"/>
                      <a:pt x="226" y="363"/>
                    </a:cubicBezTo>
                    <a:cubicBezTo>
                      <a:pt x="286" y="303"/>
                      <a:pt x="469" y="196"/>
                      <a:pt x="499" y="136"/>
                    </a:cubicBezTo>
                    <a:cubicBezTo>
                      <a:pt x="529" y="76"/>
                      <a:pt x="438" y="0"/>
                      <a:pt x="408" y="0"/>
                    </a:cubicBezTo>
                    <a:cubicBezTo>
                      <a:pt x="378" y="0"/>
                      <a:pt x="362" y="83"/>
                      <a:pt x="317" y="136"/>
                    </a:cubicBezTo>
                    <a:cubicBezTo>
                      <a:pt x="272" y="189"/>
                      <a:pt x="181" y="272"/>
                      <a:pt x="136" y="317"/>
                    </a:cubicBezTo>
                    <a:cubicBezTo>
                      <a:pt x="91" y="362"/>
                      <a:pt x="68" y="385"/>
                      <a:pt x="45" y="408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>
                <a:off x="2760480" y="529200"/>
                <a:ext cx="173520" cy="164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80" h="272">
                    <a:moveTo>
                      <a:pt x="190" y="0"/>
                    </a:moveTo>
                    <a:cubicBezTo>
                      <a:pt x="156" y="30"/>
                      <a:pt x="122" y="60"/>
                      <a:pt x="99" y="90"/>
                    </a:cubicBezTo>
                    <a:cubicBezTo>
                      <a:pt x="76" y="120"/>
                      <a:pt x="68" y="151"/>
                      <a:pt x="53" y="181"/>
                    </a:cubicBezTo>
                    <a:cubicBezTo>
                      <a:pt x="38" y="211"/>
                      <a:pt x="0" y="272"/>
                      <a:pt x="8" y="272"/>
                    </a:cubicBezTo>
                    <a:cubicBezTo>
                      <a:pt x="16" y="272"/>
                      <a:pt x="54" y="211"/>
                      <a:pt x="99" y="181"/>
                    </a:cubicBezTo>
                    <a:cubicBezTo>
                      <a:pt x="144" y="151"/>
                      <a:pt x="242" y="113"/>
                      <a:pt x="280" y="90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0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某一时刻，测得一根高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8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竹竿的影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同时测得一栋高楼的影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栋高楼的高度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1295280" y="222264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ABC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∽ 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A'B'C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2"/>
          <p:cNvGraphicFramePr/>
          <p:nvPr/>
        </p:nvGraphicFramePr>
        <p:xfrm>
          <a:off x="1366920" y="2655720"/>
          <a:ext cx="172728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2655720"/>
                    <a:ext cx="1727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3"/>
          <p:cNvSpPr/>
          <p:nvPr/>
        </p:nvSpPr>
        <p:spPr>
          <a:xfrm>
            <a:off x="1366920" y="492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求得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A'C'=54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1580040" y="555300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答：这栋高楼的高度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54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755640" y="220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解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6"/>
          <p:cNvGrpSpPr/>
          <p:nvPr/>
        </p:nvGrpSpPr>
        <p:grpSpPr>
          <a:xfrm>
            <a:off x="5724360" y="2565360"/>
            <a:ext cx="2949480" cy="1695960"/>
            <a:chOff x="5724360" y="2565360"/>
            <a:chExt cx="2949480" cy="1695960"/>
          </a:xfrm>
        </p:grpSpPr>
        <p:sp>
          <p:nvSpPr>
            <p:cNvPr id="463" name="AutoShape 17"/>
            <p:cNvSpPr/>
            <p:nvPr/>
          </p:nvSpPr>
          <p:spPr>
            <a:xfrm flipH="1">
              <a:off x="6084720" y="2962080"/>
              <a:ext cx="1728720" cy="936720"/>
            </a:xfrm>
            <a:prstGeom prst="rtTriangl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8"/>
            <p:cNvSpPr/>
            <p:nvPr/>
          </p:nvSpPr>
          <p:spPr>
            <a:xfrm>
              <a:off x="7669080" y="25653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9"/>
            <p:cNvSpPr/>
            <p:nvPr/>
          </p:nvSpPr>
          <p:spPr>
            <a:xfrm>
              <a:off x="5724360" y="382752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0"/>
            <p:cNvSpPr/>
            <p:nvPr/>
          </p:nvSpPr>
          <p:spPr>
            <a:xfrm>
              <a:off x="7740360" y="386244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1"/>
            <p:cNvSpPr/>
            <p:nvPr/>
          </p:nvSpPr>
          <p:spPr>
            <a:xfrm>
              <a:off x="7594560" y="3703680"/>
              <a:ext cx="21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2"/>
            <p:cNvSpPr/>
            <p:nvPr/>
          </p:nvSpPr>
          <p:spPr>
            <a:xfrm>
              <a:off x="7594560" y="3703680"/>
              <a:ext cx="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3"/>
            <p:cNvSpPr/>
            <p:nvPr/>
          </p:nvSpPr>
          <p:spPr>
            <a:xfrm>
              <a:off x="7810200" y="3392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1.8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4"/>
            <p:cNvSpPr/>
            <p:nvPr/>
          </p:nvSpPr>
          <p:spPr>
            <a:xfrm>
              <a:off x="6802200" y="38624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3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5"/>
          <p:cNvGrpSpPr/>
          <p:nvPr/>
        </p:nvGrpSpPr>
        <p:grpSpPr>
          <a:xfrm>
            <a:off x="5365800" y="3933720"/>
            <a:ext cx="3456000" cy="2377080"/>
            <a:chOff x="5365800" y="3933720"/>
            <a:chExt cx="3456000" cy="2377080"/>
          </a:xfrm>
        </p:grpSpPr>
        <p:sp>
          <p:nvSpPr>
            <p:cNvPr id="472" name="AutoShape 26"/>
            <p:cNvSpPr/>
            <p:nvPr/>
          </p:nvSpPr>
          <p:spPr>
            <a:xfrm flipH="1">
              <a:off x="5797440" y="4365360"/>
              <a:ext cx="2376720" cy="1511640"/>
            </a:xfrm>
            <a:prstGeom prst="rtTriangl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7"/>
            <p:cNvSpPr/>
            <p:nvPr/>
          </p:nvSpPr>
          <p:spPr>
            <a:xfrm>
              <a:off x="8029800" y="39337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'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8"/>
            <p:cNvSpPr/>
            <p:nvPr/>
          </p:nvSpPr>
          <p:spPr>
            <a:xfrm>
              <a:off x="5365800" y="58053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B'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8101080" y="57672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'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0"/>
            <p:cNvSpPr/>
            <p:nvPr/>
          </p:nvSpPr>
          <p:spPr>
            <a:xfrm>
              <a:off x="7956720" y="5661000"/>
              <a:ext cx="21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1"/>
            <p:cNvSpPr/>
            <p:nvPr/>
          </p:nvSpPr>
          <p:spPr>
            <a:xfrm>
              <a:off x="7956720" y="5661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6732720" y="59119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90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3"/>
            <p:cNvSpPr/>
            <p:nvPr/>
          </p:nvSpPr>
          <p:spPr>
            <a:xfrm>
              <a:off x="8172360" y="480384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0" name="Object 34"/>
          <p:cNvGraphicFramePr/>
          <p:nvPr/>
        </p:nvGraphicFramePr>
        <p:xfrm>
          <a:off x="1403280" y="3502080"/>
          <a:ext cx="1656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502080"/>
                    <a:ext cx="1656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EC236B5-4E5E-45A2-B21D-133EEB8E138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随堂练习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3"/>
          <p:cNvGrpSpPr/>
          <p:nvPr/>
        </p:nvGrpSpPr>
        <p:grpSpPr>
          <a:xfrm>
            <a:off x="2629080" y="117360"/>
            <a:ext cx="647640" cy="631800"/>
            <a:chOff x="2629080" y="117360"/>
            <a:chExt cx="647640" cy="631800"/>
          </a:xfrm>
        </p:grpSpPr>
        <p:sp>
          <p:nvSpPr>
            <p:cNvPr id="485" name="Rectangle 4"/>
            <p:cNvSpPr/>
            <p:nvPr/>
          </p:nvSpPr>
          <p:spPr>
            <a:xfrm>
              <a:off x="2629080" y="117360"/>
              <a:ext cx="647640" cy="631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5"/>
            <p:cNvGrpSpPr/>
            <p:nvPr/>
          </p:nvGrpSpPr>
          <p:grpSpPr>
            <a:xfrm>
              <a:off x="2689200" y="145080"/>
              <a:ext cx="530280" cy="548640"/>
              <a:chOff x="2689200" y="145080"/>
              <a:chExt cx="530280" cy="548640"/>
            </a:xfrm>
          </p:grpSpPr>
          <p:sp>
            <p:nvSpPr>
              <p:cNvPr id="487" name="未知"/>
              <p:cNvSpPr/>
              <p:nvPr/>
            </p:nvSpPr>
            <p:spPr>
              <a:xfrm>
                <a:off x="2707560" y="240480"/>
                <a:ext cx="455400" cy="37980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734" h="628">
                    <a:moveTo>
                      <a:pt x="205" y="477"/>
                    </a:moveTo>
                    <a:cubicBezTo>
                      <a:pt x="160" y="462"/>
                      <a:pt x="46" y="454"/>
                      <a:pt x="23" y="431"/>
                    </a:cubicBezTo>
                    <a:cubicBezTo>
                      <a:pt x="0" y="408"/>
                      <a:pt x="46" y="386"/>
                      <a:pt x="69" y="341"/>
                    </a:cubicBezTo>
                    <a:cubicBezTo>
                      <a:pt x="92" y="296"/>
                      <a:pt x="122" y="212"/>
                      <a:pt x="160" y="159"/>
                    </a:cubicBezTo>
                    <a:cubicBezTo>
                      <a:pt x="198" y="106"/>
                      <a:pt x="251" y="46"/>
                      <a:pt x="296" y="23"/>
                    </a:cubicBezTo>
                    <a:cubicBezTo>
                      <a:pt x="341" y="0"/>
                      <a:pt x="372" y="8"/>
                      <a:pt x="432" y="23"/>
                    </a:cubicBezTo>
                    <a:cubicBezTo>
                      <a:pt x="492" y="38"/>
                      <a:pt x="613" y="69"/>
                      <a:pt x="658" y="114"/>
                    </a:cubicBezTo>
                    <a:cubicBezTo>
                      <a:pt x="703" y="159"/>
                      <a:pt x="696" y="227"/>
                      <a:pt x="704" y="295"/>
                    </a:cubicBezTo>
                    <a:cubicBezTo>
                      <a:pt x="712" y="363"/>
                      <a:pt x="734" y="469"/>
                      <a:pt x="704" y="522"/>
                    </a:cubicBezTo>
                    <a:cubicBezTo>
                      <a:pt x="674" y="575"/>
                      <a:pt x="575" y="598"/>
                      <a:pt x="522" y="613"/>
                    </a:cubicBezTo>
                    <a:cubicBezTo>
                      <a:pt x="469" y="628"/>
                      <a:pt x="424" y="628"/>
                      <a:pt x="386" y="613"/>
                    </a:cubicBezTo>
                    <a:cubicBezTo>
                      <a:pt x="348" y="598"/>
                      <a:pt x="319" y="552"/>
                      <a:pt x="296" y="522"/>
                    </a:cubicBezTo>
                    <a:cubicBezTo>
                      <a:pt x="273" y="492"/>
                      <a:pt x="250" y="492"/>
                      <a:pt x="205" y="477"/>
                    </a:cubicBezTo>
                    <a:close/>
                  </a:path>
                </a:pathLst>
              </a:custGeom>
              <a:solidFill>
                <a:srgbClr val="a50021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rot="745200">
                <a:off x="2834640" y="309240"/>
                <a:ext cx="61200" cy="23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99" h="393">
                    <a:moveTo>
                      <a:pt x="54" y="378"/>
                    </a:moveTo>
                    <a:cubicBezTo>
                      <a:pt x="69" y="363"/>
                      <a:pt x="99" y="257"/>
                      <a:pt x="99" y="197"/>
                    </a:cubicBezTo>
                    <a:cubicBezTo>
                      <a:pt x="99" y="137"/>
                      <a:pt x="69" y="30"/>
                      <a:pt x="54" y="15"/>
                    </a:cubicBezTo>
                    <a:cubicBezTo>
                      <a:pt x="39" y="0"/>
                      <a:pt x="16" y="61"/>
                      <a:pt x="8" y="106"/>
                    </a:cubicBezTo>
                    <a:cubicBezTo>
                      <a:pt x="0" y="151"/>
                      <a:pt x="0" y="242"/>
                      <a:pt x="8" y="287"/>
                    </a:cubicBezTo>
                    <a:cubicBezTo>
                      <a:pt x="16" y="332"/>
                      <a:pt x="39" y="393"/>
                      <a:pt x="54" y="378"/>
                    </a:cubicBezTo>
                    <a:close/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2891520" y="145080"/>
                <a:ext cx="327960" cy="3016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529" h="499">
                    <a:moveTo>
                      <a:pt x="0" y="272"/>
                    </a:moveTo>
                    <a:cubicBezTo>
                      <a:pt x="11" y="298"/>
                      <a:pt x="22" y="325"/>
                      <a:pt x="45" y="363"/>
                    </a:cubicBezTo>
                    <a:cubicBezTo>
                      <a:pt x="68" y="401"/>
                      <a:pt x="106" y="499"/>
                      <a:pt x="136" y="499"/>
                    </a:cubicBezTo>
                    <a:cubicBezTo>
                      <a:pt x="166" y="499"/>
                      <a:pt x="166" y="423"/>
                      <a:pt x="226" y="363"/>
                    </a:cubicBezTo>
                    <a:cubicBezTo>
                      <a:pt x="286" y="303"/>
                      <a:pt x="469" y="196"/>
                      <a:pt x="499" y="136"/>
                    </a:cubicBezTo>
                    <a:cubicBezTo>
                      <a:pt x="529" y="76"/>
                      <a:pt x="438" y="0"/>
                      <a:pt x="408" y="0"/>
                    </a:cubicBezTo>
                    <a:cubicBezTo>
                      <a:pt x="378" y="0"/>
                      <a:pt x="362" y="83"/>
                      <a:pt x="317" y="136"/>
                    </a:cubicBezTo>
                    <a:cubicBezTo>
                      <a:pt x="272" y="189"/>
                      <a:pt x="181" y="272"/>
                      <a:pt x="136" y="317"/>
                    </a:cubicBezTo>
                    <a:cubicBezTo>
                      <a:pt x="91" y="362"/>
                      <a:pt x="68" y="385"/>
                      <a:pt x="45" y="408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2689200" y="529200"/>
                <a:ext cx="173520" cy="164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80" h="272">
                    <a:moveTo>
                      <a:pt x="190" y="0"/>
                    </a:moveTo>
                    <a:cubicBezTo>
                      <a:pt x="156" y="30"/>
                      <a:pt x="122" y="60"/>
                      <a:pt x="99" y="90"/>
                    </a:cubicBezTo>
                    <a:cubicBezTo>
                      <a:pt x="76" y="120"/>
                      <a:pt x="68" y="151"/>
                      <a:pt x="53" y="181"/>
                    </a:cubicBezTo>
                    <a:cubicBezTo>
                      <a:pt x="38" y="211"/>
                      <a:pt x="0" y="272"/>
                      <a:pt x="8" y="272"/>
                    </a:cubicBezTo>
                    <a:cubicBezTo>
                      <a:pt x="16" y="272"/>
                      <a:pt x="54" y="211"/>
                      <a:pt x="99" y="181"/>
                    </a:cubicBezTo>
                    <a:cubicBezTo>
                      <a:pt x="144" y="151"/>
                      <a:pt x="242" y="113"/>
                      <a:pt x="280" y="90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Text Box 10"/>
          <p:cNvSpPr/>
          <p:nvPr/>
        </p:nvSpPr>
        <p:spPr>
          <a:xfrm>
            <a:off x="468360" y="12700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测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D=120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C=60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C=50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河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>
            <a:off x="5292720" y="2854440"/>
            <a:ext cx="2952720" cy="21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5292720" y="4294080"/>
            <a:ext cx="295272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5292720" y="3070080"/>
            <a:ext cx="2952720" cy="1224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5940360" y="46544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5"/>
          <p:cNvSpPr/>
          <p:nvPr/>
        </p:nvSpPr>
        <p:spPr>
          <a:xfrm>
            <a:off x="7913520" y="46404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6"/>
          <p:cNvSpPr/>
          <p:nvPr/>
        </p:nvSpPr>
        <p:spPr>
          <a:xfrm>
            <a:off x="5940360" y="2608200"/>
            <a:ext cx="0" cy="20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7"/>
          <p:cNvSpPr/>
          <p:nvPr/>
        </p:nvSpPr>
        <p:spPr>
          <a:xfrm>
            <a:off x="5940360" y="2608200"/>
            <a:ext cx="1511280" cy="20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8"/>
          <p:cNvSpPr/>
          <p:nvPr/>
        </p:nvSpPr>
        <p:spPr>
          <a:xfrm>
            <a:off x="7451640" y="4654440"/>
            <a:ext cx="50508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558000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7178760" y="4626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5508720" y="4654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7885080" y="5230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7956720" y="44388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4"/>
          <p:cNvSpPr/>
          <p:nvPr/>
        </p:nvSpPr>
        <p:spPr>
          <a:xfrm>
            <a:off x="5897520" y="2565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5"/>
          <p:cNvSpPr/>
          <p:nvPr/>
        </p:nvSpPr>
        <p:spPr>
          <a:xfrm>
            <a:off x="5911920" y="4626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6"/>
          <p:cNvSpPr/>
          <p:nvPr/>
        </p:nvSpPr>
        <p:spPr>
          <a:xfrm>
            <a:off x="7423200" y="4611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5940360" y="451008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8"/>
          <p:cNvSpPr/>
          <p:nvPr/>
        </p:nvSpPr>
        <p:spPr>
          <a:xfrm>
            <a:off x="7956720" y="4654440"/>
            <a:ext cx="0" cy="72072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7451640" y="4640400"/>
            <a:ext cx="505080" cy="71892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0"/>
          <p:cNvSpPr/>
          <p:nvPr/>
        </p:nvSpPr>
        <p:spPr>
          <a:xfrm>
            <a:off x="612720" y="1846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1"/>
          <p:cNvSpPr/>
          <p:nvPr/>
        </p:nvSpPr>
        <p:spPr>
          <a:xfrm>
            <a:off x="1619280" y="191772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∵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AB∥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未知"/>
          <p:cNvSpPr/>
          <p:nvPr/>
        </p:nvSpPr>
        <p:spPr>
          <a:xfrm rot="10800000">
            <a:off x="7812000" y="4654440"/>
            <a:ext cx="144720" cy="14472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3"/>
          <p:cNvSpPr/>
          <p:nvPr/>
        </p:nvSpPr>
        <p:spPr>
          <a:xfrm>
            <a:off x="1692360" y="249408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∴△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ABD∽△EC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4"/>
          <p:cNvSpPr/>
          <p:nvPr/>
        </p:nvSpPr>
        <p:spPr>
          <a:xfrm>
            <a:off x="1908000" y="576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AB=100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35"/>
          <p:cNvGraphicFramePr/>
          <p:nvPr/>
        </p:nvGraphicFramePr>
        <p:xfrm>
          <a:off x="1619280" y="3051000"/>
          <a:ext cx="2089080" cy="10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51000"/>
                    <a:ext cx="208908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36"/>
          <p:cNvGraphicFramePr/>
          <p:nvPr/>
        </p:nvGraphicFramePr>
        <p:xfrm>
          <a:off x="1619280" y="4437000"/>
          <a:ext cx="2016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437000"/>
                    <a:ext cx="2016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Text Box 37"/>
          <p:cNvSpPr/>
          <p:nvPr/>
        </p:nvSpPr>
        <p:spPr>
          <a:xfrm>
            <a:off x="4500720" y="58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答：河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00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67F60E7-10AF-4809-A212-71DE5F39DCB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84360" y="19177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华为了测量他所住楼房的高度，他请同学来帮忙，测量了同一时刻他自己的影长和楼房的影长分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。已知小华的身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那么他所住楼房的高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89000"/>
            <a:ext cx="8207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随堂练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2629080" y="117360"/>
            <a:ext cx="647640" cy="631800"/>
            <a:chOff x="2629080" y="117360"/>
            <a:chExt cx="647640" cy="631800"/>
          </a:xfrm>
        </p:grpSpPr>
        <p:sp>
          <p:nvSpPr>
            <p:cNvPr id="525" name="Rectangle 5"/>
            <p:cNvSpPr/>
            <p:nvPr/>
          </p:nvSpPr>
          <p:spPr>
            <a:xfrm>
              <a:off x="2629080" y="117360"/>
              <a:ext cx="647640" cy="631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6"/>
            <p:cNvGrpSpPr/>
            <p:nvPr/>
          </p:nvGrpSpPr>
          <p:grpSpPr>
            <a:xfrm>
              <a:off x="2689200" y="145080"/>
              <a:ext cx="530280" cy="548640"/>
              <a:chOff x="2689200" y="145080"/>
              <a:chExt cx="530280" cy="548640"/>
            </a:xfrm>
          </p:grpSpPr>
          <p:sp>
            <p:nvSpPr>
              <p:cNvPr id="527" name="未知"/>
              <p:cNvSpPr/>
              <p:nvPr/>
            </p:nvSpPr>
            <p:spPr>
              <a:xfrm>
                <a:off x="2707560" y="240480"/>
                <a:ext cx="455400" cy="37980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734" h="628">
                    <a:moveTo>
                      <a:pt x="205" y="477"/>
                    </a:moveTo>
                    <a:cubicBezTo>
                      <a:pt x="160" y="462"/>
                      <a:pt x="46" y="454"/>
                      <a:pt x="23" y="431"/>
                    </a:cubicBezTo>
                    <a:cubicBezTo>
                      <a:pt x="0" y="408"/>
                      <a:pt x="46" y="386"/>
                      <a:pt x="69" y="341"/>
                    </a:cubicBezTo>
                    <a:cubicBezTo>
                      <a:pt x="92" y="296"/>
                      <a:pt x="122" y="212"/>
                      <a:pt x="160" y="159"/>
                    </a:cubicBezTo>
                    <a:cubicBezTo>
                      <a:pt x="198" y="106"/>
                      <a:pt x="251" y="46"/>
                      <a:pt x="296" y="23"/>
                    </a:cubicBezTo>
                    <a:cubicBezTo>
                      <a:pt x="341" y="0"/>
                      <a:pt x="372" y="8"/>
                      <a:pt x="432" y="23"/>
                    </a:cubicBezTo>
                    <a:cubicBezTo>
                      <a:pt x="492" y="38"/>
                      <a:pt x="613" y="69"/>
                      <a:pt x="658" y="114"/>
                    </a:cubicBezTo>
                    <a:cubicBezTo>
                      <a:pt x="703" y="159"/>
                      <a:pt x="696" y="227"/>
                      <a:pt x="704" y="295"/>
                    </a:cubicBezTo>
                    <a:cubicBezTo>
                      <a:pt x="712" y="363"/>
                      <a:pt x="734" y="469"/>
                      <a:pt x="704" y="522"/>
                    </a:cubicBezTo>
                    <a:cubicBezTo>
                      <a:pt x="674" y="575"/>
                      <a:pt x="575" y="598"/>
                      <a:pt x="522" y="613"/>
                    </a:cubicBezTo>
                    <a:cubicBezTo>
                      <a:pt x="469" y="628"/>
                      <a:pt x="424" y="628"/>
                      <a:pt x="386" y="613"/>
                    </a:cubicBezTo>
                    <a:cubicBezTo>
                      <a:pt x="348" y="598"/>
                      <a:pt x="319" y="552"/>
                      <a:pt x="296" y="522"/>
                    </a:cubicBezTo>
                    <a:cubicBezTo>
                      <a:pt x="273" y="492"/>
                      <a:pt x="250" y="492"/>
                      <a:pt x="205" y="477"/>
                    </a:cubicBezTo>
                    <a:close/>
                  </a:path>
                </a:pathLst>
              </a:custGeom>
              <a:solidFill>
                <a:srgbClr val="a50021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 rot="745200">
                <a:off x="2834640" y="309240"/>
                <a:ext cx="61200" cy="23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99" h="393">
                    <a:moveTo>
                      <a:pt x="54" y="378"/>
                    </a:moveTo>
                    <a:cubicBezTo>
                      <a:pt x="69" y="363"/>
                      <a:pt x="99" y="257"/>
                      <a:pt x="99" y="197"/>
                    </a:cubicBezTo>
                    <a:cubicBezTo>
                      <a:pt x="99" y="137"/>
                      <a:pt x="69" y="30"/>
                      <a:pt x="54" y="15"/>
                    </a:cubicBezTo>
                    <a:cubicBezTo>
                      <a:pt x="39" y="0"/>
                      <a:pt x="16" y="61"/>
                      <a:pt x="8" y="106"/>
                    </a:cubicBezTo>
                    <a:cubicBezTo>
                      <a:pt x="0" y="151"/>
                      <a:pt x="0" y="242"/>
                      <a:pt x="8" y="287"/>
                    </a:cubicBezTo>
                    <a:cubicBezTo>
                      <a:pt x="16" y="332"/>
                      <a:pt x="39" y="393"/>
                      <a:pt x="54" y="378"/>
                    </a:cubicBezTo>
                    <a:close/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>
                <a:off x="2891520" y="145080"/>
                <a:ext cx="327960" cy="3016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529" h="499">
                    <a:moveTo>
                      <a:pt x="0" y="272"/>
                    </a:moveTo>
                    <a:cubicBezTo>
                      <a:pt x="11" y="298"/>
                      <a:pt x="22" y="325"/>
                      <a:pt x="45" y="363"/>
                    </a:cubicBezTo>
                    <a:cubicBezTo>
                      <a:pt x="68" y="401"/>
                      <a:pt x="106" y="499"/>
                      <a:pt x="136" y="499"/>
                    </a:cubicBezTo>
                    <a:cubicBezTo>
                      <a:pt x="166" y="499"/>
                      <a:pt x="166" y="423"/>
                      <a:pt x="226" y="363"/>
                    </a:cubicBezTo>
                    <a:cubicBezTo>
                      <a:pt x="286" y="303"/>
                      <a:pt x="469" y="196"/>
                      <a:pt x="499" y="136"/>
                    </a:cubicBezTo>
                    <a:cubicBezTo>
                      <a:pt x="529" y="76"/>
                      <a:pt x="438" y="0"/>
                      <a:pt x="408" y="0"/>
                    </a:cubicBezTo>
                    <a:cubicBezTo>
                      <a:pt x="378" y="0"/>
                      <a:pt x="362" y="83"/>
                      <a:pt x="317" y="136"/>
                    </a:cubicBezTo>
                    <a:cubicBezTo>
                      <a:pt x="272" y="189"/>
                      <a:pt x="181" y="272"/>
                      <a:pt x="136" y="317"/>
                    </a:cubicBezTo>
                    <a:cubicBezTo>
                      <a:pt x="91" y="362"/>
                      <a:pt x="68" y="385"/>
                      <a:pt x="45" y="408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2689200" y="529200"/>
                <a:ext cx="173520" cy="164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80" h="272">
                    <a:moveTo>
                      <a:pt x="190" y="0"/>
                    </a:moveTo>
                    <a:cubicBezTo>
                      <a:pt x="156" y="30"/>
                      <a:pt x="122" y="60"/>
                      <a:pt x="99" y="90"/>
                    </a:cubicBezTo>
                    <a:cubicBezTo>
                      <a:pt x="76" y="120"/>
                      <a:pt x="68" y="151"/>
                      <a:pt x="53" y="181"/>
                    </a:cubicBezTo>
                    <a:cubicBezTo>
                      <a:pt x="38" y="211"/>
                      <a:pt x="0" y="272"/>
                      <a:pt x="8" y="272"/>
                    </a:cubicBezTo>
                    <a:cubicBezTo>
                      <a:pt x="16" y="272"/>
                      <a:pt x="54" y="211"/>
                      <a:pt x="99" y="181"/>
                    </a:cubicBezTo>
                    <a:cubicBezTo>
                      <a:pt x="144" y="151"/>
                      <a:pt x="242" y="113"/>
                      <a:pt x="280" y="90"/>
                    </a:cubicBezTo>
                  </a:path>
                </a:pathLst>
              </a:custGeom>
              <a:solidFill>
                <a:srgbClr val="a50021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AD53A9C-5B6D-49A8-BBE7-A65A0ED91E2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这节课你有什么收获？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9640" y="1773360"/>
            <a:ext cx="73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这节课我们学到了哪些知识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612720" y="2852640"/>
            <a:ext cx="72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是利用什么方法获得这些知识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9640" y="4149720"/>
            <a:ext cx="86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通过这节课的学习，你有什么新的想法或发现？你觉得还有什么问题需要继续讨论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684360" y="2276640"/>
            <a:ext cx="5545080" cy="50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计算不能直接测量的物体的长度和高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1044720" y="3429000"/>
            <a:ext cx="3814560" cy="64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利用三角形相似的知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6A8C274-D9C4-4C04-958D-38F51356180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作业布置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1476360" y="1989000"/>
            <a:ext cx="3587400" cy="1332000"/>
            <a:chOff x="1476360" y="1989000"/>
            <a:chExt cx="3587400" cy="1332000"/>
          </a:xfrm>
        </p:grpSpPr>
        <p:pic>
          <p:nvPicPr>
            <p:cNvPr id="541" name="Picture 4" descr="booksandletters13[1]"/>
            <p:cNvPicPr/>
            <p:nvPr/>
          </p:nvPicPr>
          <p:blipFill>
            <a:blip r:embed="rId1"/>
            <a:stretch/>
          </p:blipFill>
          <p:spPr>
            <a:xfrm>
              <a:off x="1476360" y="1989000"/>
              <a:ext cx="1812600" cy="13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Group 5"/>
            <p:cNvGrpSpPr/>
            <p:nvPr/>
          </p:nvGrpSpPr>
          <p:grpSpPr>
            <a:xfrm>
              <a:off x="3255480" y="2251080"/>
              <a:ext cx="1808280" cy="879480"/>
              <a:chOff x="3255480" y="2251080"/>
              <a:chExt cx="1808280" cy="879480"/>
            </a:xfrm>
          </p:grpSpPr>
          <p:sp>
            <p:nvSpPr>
              <p:cNvPr id="543" name="Rectangle 6"/>
              <p:cNvSpPr/>
              <p:nvPr/>
            </p:nvSpPr>
            <p:spPr>
              <a:xfrm>
                <a:off x="3823200" y="2937960"/>
                <a:ext cx="11340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7"/>
              <p:cNvSpPr/>
              <p:nvPr/>
            </p:nvSpPr>
            <p:spPr>
              <a:xfrm>
                <a:off x="4011480" y="2937960"/>
                <a:ext cx="11232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8"/>
              <p:cNvSpPr/>
              <p:nvPr/>
            </p:nvSpPr>
            <p:spPr>
              <a:xfrm>
                <a:off x="4199040" y="2937960"/>
                <a:ext cx="11340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9"/>
              <p:cNvSpPr/>
              <p:nvPr/>
            </p:nvSpPr>
            <p:spPr>
              <a:xfrm>
                <a:off x="4386240" y="2937960"/>
                <a:ext cx="11376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0"/>
              <p:cNvSpPr/>
              <p:nvPr/>
            </p:nvSpPr>
            <p:spPr>
              <a:xfrm>
                <a:off x="4575240" y="2937960"/>
                <a:ext cx="11232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1"/>
              <p:cNvSpPr/>
              <p:nvPr/>
            </p:nvSpPr>
            <p:spPr>
              <a:xfrm>
                <a:off x="4762440" y="2937960"/>
                <a:ext cx="11376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2"/>
              <p:cNvSpPr/>
              <p:nvPr/>
            </p:nvSpPr>
            <p:spPr>
              <a:xfrm>
                <a:off x="4951440" y="2937960"/>
                <a:ext cx="11232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WordArt 13"/>
              <p:cNvSpPr txBox="1"/>
              <p:nvPr/>
            </p:nvSpPr>
            <p:spPr>
              <a:xfrm>
                <a:off x="3364920" y="2251080"/>
                <a:ext cx="1684800" cy="60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12600">
                      <a:solidFill>
                        <a:srgbClr val="ff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华文行楷"/>
                  </a:rPr>
                  <a:t>习 题</a:t>
                </a:r>
                <a:endPara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华文行楷"/>
                  <a:ea typeface="华文行楷"/>
                </a:endParaRPr>
              </a:p>
            </p:txBody>
          </p:sp>
          <p:sp>
            <p:nvSpPr>
              <p:cNvPr id="551" name="Rectangle 14"/>
              <p:cNvSpPr/>
              <p:nvPr/>
            </p:nvSpPr>
            <p:spPr>
              <a:xfrm>
                <a:off x="3255480" y="2943360"/>
                <a:ext cx="11376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5"/>
              <p:cNvSpPr/>
              <p:nvPr/>
            </p:nvSpPr>
            <p:spPr>
              <a:xfrm>
                <a:off x="3444120" y="2943360"/>
                <a:ext cx="11232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6"/>
              <p:cNvSpPr/>
              <p:nvPr/>
            </p:nvSpPr>
            <p:spPr>
              <a:xfrm>
                <a:off x="3631320" y="2943360"/>
                <a:ext cx="113760" cy="187200"/>
              </a:xfrm>
              <a:prstGeom prst="rect">
                <a:avLst/>
              </a:prstGeom>
              <a:solidFill>
                <a:srgbClr val="006666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Text Box 17"/>
          <p:cNvSpPr/>
          <p:nvPr/>
        </p:nvSpPr>
        <p:spPr>
          <a:xfrm>
            <a:off x="4788000" y="2349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Arial"/>
              </a:rPr>
              <a:t>27.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3348000" y="335664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第 </a:t>
            </a:r>
            <a:r>
              <a:rPr b="1" lang="zh-CN" sz="44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1" lang="zh-CN" sz="4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题、第</a:t>
            </a:r>
            <a:r>
              <a:rPr b="1" lang="zh-CN" sz="4400" spc="-1" strike="noStrike">
                <a:solidFill>
                  <a:srgbClr val="000099"/>
                </a:solidFill>
                <a:latin typeface="华文行楷"/>
                <a:ea typeface="华文行楷"/>
              </a:rPr>
              <a:t>11</a:t>
            </a:r>
            <a:r>
              <a:rPr b="1" lang="zh-CN" sz="4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3D4-3ED1-4B9D-9426-0E0BE10570A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781440" y="2246400"/>
            <a:ext cx="49687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感谢您的欣赏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59AF3CE-CE8D-4866-9326-C6F0405B48F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回顾与思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6720" y="1557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判断两个三角形相似的方法有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4000" y="21337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法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对应角相等，对应边的比相等的两个三角形相似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2709720"/>
            <a:ext cx="85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定理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平行与三角形一边的直线和其他两边相交，所构成的三角形与原三角形相似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5445000"/>
            <a:ext cx="85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角形相似的判定定理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如果一个三角形的两个角与另一个三角形的两个角对应相等，那么这两个三角形相似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24000" y="4437000"/>
            <a:ext cx="85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角形相似的判定定理二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如果两个三角形两组对应边的比相等，并且相应的夹角相等，那么这两个三角形相似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3573360"/>
            <a:ext cx="85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角形相似的判定定理一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如果两个三角形三组对应边的比相等，那么这两个三角形相似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645080" y="3141720"/>
            <a:ext cx="43927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判定三角形相似的预备定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4213080" y="328608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78832C3-8C2E-483B-A2D0-377B570BAB2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917360"/>
            <a:ext cx="8207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三角形的相似，如何解决一些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不能直接测量的物体的长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问题呢？我们来看下面这个故事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5F8-6D4B-458A-A7E6-C041D4A94E4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jinzita3"/>
          <p:cNvPicPr/>
          <p:nvPr/>
        </p:nvPicPr>
        <p:blipFill>
          <a:blip r:embed="rId1"/>
          <a:stretch/>
        </p:blipFill>
        <p:spPr>
          <a:xfrm>
            <a:off x="4716360" y="117360"/>
            <a:ext cx="3337200" cy="2505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0" name="Picture 4" descr="jinzita5"/>
          <p:cNvPicPr/>
          <p:nvPr/>
        </p:nvPicPr>
        <p:blipFill>
          <a:blip r:embed="rId2"/>
          <a:stretch/>
        </p:blipFill>
        <p:spPr>
          <a:xfrm>
            <a:off x="612720" y="117360"/>
            <a:ext cx="3336840" cy="250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1" name="Text Box 5"/>
          <p:cNvSpPr/>
          <p:nvPr/>
        </p:nvSpPr>
        <p:spPr>
          <a:xfrm>
            <a:off x="396720" y="2637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胡夫金字塔是埃及现存规模最大的金字塔，被喻为“世界古代七大奇观之一”。塔的４个斜面正对东南西北四个方向，塔基呈正方形，每边长约２３０多米。据考证，为建成大金字塔，共动用了１０万人花了２０年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原高１４６．５９米，但由于经过几千年的风吹雨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顶端被风化吹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所以高度有所降低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在古希腊，有一位伟大的科学家叫泰勒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一天，希腊国王阿马西斯对他说：“听说你什么都知道，那就请你测量一下埃及金字塔的高度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这在当时是个大难题，因为是很难爬到塔顶的，你知道泰勒斯是用什么方法测量出金字塔的高度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C8A8CF2-B203-48CF-BF90-D545C1717AA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例题讲解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68360" y="1270080"/>
            <a:ext cx="8424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1c1c1c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1c1c1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据史料记载，古希腊数学家、天文学家泰勒斯曾利用相似三角形的原理，在金字塔影子顶部立一根木杆，集中太阳光线构成两个相似三角形，来测量金字塔的高度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755640" y="35020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如图，如果木杆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2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它的影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F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3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测得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201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求金字塔的高度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BO</a:t>
            </a:r>
            <a:r>
              <a:rPr b="1" i="1" lang="zh-CN" sz="20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1260360" y="4076640"/>
            <a:ext cx="5112000" cy="2649600"/>
            <a:chOff x="1260360" y="4076640"/>
            <a:chExt cx="5112000" cy="2649600"/>
          </a:xfrm>
        </p:grpSpPr>
        <p:sp>
          <p:nvSpPr>
            <p:cNvPr id="187" name="AutoShape 6"/>
            <p:cNvSpPr/>
            <p:nvPr/>
          </p:nvSpPr>
          <p:spPr>
            <a:xfrm>
              <a:off x="1260360" y="4076640"/>
              <a:ext cx="511200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 flipH="1">
              <a:off x="1482120" y="5873760"/>
              <a:ext cx="630000" cy="61128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 flipH="1">
              <a:off x="2112120" y="5817960"/>
              <a:ext cx="1740600" cy="558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 flipH="1">
              <a:off x="3223080" y="5817960"/>
              <a:ext cx="629640" cy="61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 flipH="1">
              <a:off x="1518840" y="6429240"/>
              <a:ext cx="1704240" cy="38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 flipH="1">
              <a:off x="2648880" y="4595760"/>
              <a:ext cx="37440" cy="155592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 flipH="1">
              <a:off x="2648520" y="6095880"/>
              <a:ext cx="2167560" cy="558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853080" y="5817960"/>
              <a:ext cx="963360" cy="277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 flipH="1">
              <a:off x="3223080" y="6095880"/>
              <a:ext cx="1593000" cy="33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2686680" y="4595760"/>
              <a:ext cx="2129760" cy="150012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 flipH="1">
              <a:off x="1518840" y="4595760"/>
              <a:ext cx="1167840" cy="1871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 flipH="1">
              <a:off x="2112120" y="4595760"/>
              <a:ext cx="574200" cy="12780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4816800" y="5317920"/>
              <a:ext cx="0" cy="77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4816800" y="6095880"/>
              <a:ext cx="113004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4816800" y="5317920"/>
              <a:ext cx="1130040" cy="77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2686680" y="4595760"/>
              <a:ext cx="536400" cy="1833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2686680" y="4595760"/>
              <a:ext cx="1166400" cy="1222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3"/>
            <p:cNvSpPr/>
            <p:nvPr/>
          </p:nvSpPr>
          <p:spPr>
            <a:xfrm>
              <a:off x="2612160" y="6114960"/>
              <a:ext cx="918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"/>
            <p:cNvSpPr/>
            <p:nvPr/>
          </p:nvSpPr>
          <p:spPr>
            <a:xfrm>
              <a:off x="2426040" y="591012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5"/>
            <p:cNvSpPr/>
            <p:nvPr/>
          </p:nvSpPr>
          <p:spPr>
            <a:xfrm>
              <a:off x="3186720" y="6392880"/>
              <a:ext cx="918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6"/>
            <p:cNvSpPr/>
            <p:nvPr/>
          </p:nvSpPr>
          <p:spPr>
            <a:xfrm>
              <a:off x="2074320" y="5837040"/>
              <a:ext cx="9324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7"/>
            <p:cNvSpPr/>
            <p:nvPr/>
          </p:nvSpPr>
          <p:spPr>
            <a:xfrm>
              <a:off x="3816720" y="5781600"/>
              <a:ext cx="918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8"/>
            <p:cNvSpPr/>
            <p:nvPr/>
          </p:nvSpPr>
          <p:spPr>
            <a:xfrm>
              <a:off x="2648880" y="4557600"/>
              <a:ext cx="93240" cy="93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2520000" y="4224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0"/>
            <p:cNvSpPr/>
            <p:nvPr/>
          </p:nvSpPr>
          <p:spPr>
            <a:xfrm>
              <a:off x="4778640" y="6059520"/>
              <a:ext cx="936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4816080" y="61894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A(F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2"/>
            <p:cNvSpPr/>
            <p:nvPr/>
          </p:nvSpPr>
          <p:spPr>
            <a:xfrm>
              <a:off x="4778640" y="5281560"/>
              <a:ext cx="936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4741920" y="49654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4"/>
            <p:cNvSpPr/>
            <p:nvPr/>
          </p:nvSpPr>
          <p:spPr>
            <a:xfrm>
              <a:off x="5908680" y="6059520"/>
              <a:ext cx="9324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6019560" y="6114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6"/>
            <p:cNvSpPr/>
            <p:nvPr/>
          </p:nvSpPr>
          <p:spPr>
            <a:xfrm>
              <a:off x="1482120" y="6429240"/>
              <a:ext cx="91800" cy="93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F7161CD-6CC0-4841-9A7B-1230C0F7912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例题讲解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403280" y="5805360"/>
                <a:ext cx="2890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Group 4"/>
          <p:cNvGrpSpPr/>
          <p:nvPr/>
        </p:nvGrpSpPr>
        <p:grpSpPr>
          <a:xfrm>
            <a:off x="755640" y="1125360"/>
            <a:ext cx="5113440" cy="2649600"/>
            <a:chOff x="755640" y="1125360"/>
            <a:chExt cx="5113440" cy="2649600"/>
          </a:xfrm>
        </p:grpSpPr>
        <p:sp>
          <p:nvSpPr>
            <p:cNvPr id="222" name="AutoShape 5"/>
            <p:cNvSpPr/>
            <p:nvPr/>
          </p:nvSpPr>
          <p:spPr>
            <a:xfrm>
              <a:off x="755640" y="1125360"/>
              <a:ext cx="511344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 flipH="1">
              <a:off x="977400" y="2922480"/>
              <a:ext cx="630360" cy="61128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 flipH="1">
              <a:off x="1607760" y="2866680"/>
              <a:ext cx="1741320" cy="558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719440" y="2866680"/>
              <a:ext cx="630000" cy="61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 flipH="1">
              <a:off x="1014480" y="3477960"/>
              <a:ext cx="1704960" cy="38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 flipH="1">
              <a:off x="2144520" y="1644480"/>
              <a:ext cx="37800" cy="155592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 flipH="1">
              <a:off x="2144520" y="3144600"/>
              <a:ext cx="2168280" cy="558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>
              <a:off x="3349440" y="2866680"/>
              <a:ext cx="963720" cy="2779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 flipH="1">
              <a:off x="2719080" y="3144600"/>
              <a:ext cx="1593720" cy="33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2182680" y="1644480"/>
              <a:ext cx="2130480" cy="150012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 flipH="1">
              <a:off x="1014120" y="1644480"/>
              <a:ext cx="1168200" cy="1871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6"/>
            <p:cNvSpPr/>
            <p:nvPr/>
          </p:nvSpPr>
          <p:spPr>
            <a:xfrm flipH="1">
              <a:off x="1608120" y="1644480"/>
              <a:ext cx="574560" cy="127800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7"/>
            <p:cNvSpPr/>
            <p:nvPr/>
          </p:nvSpPr>
          <p:spPr>
            <a:xfrm>
              <a:off x="4313160" y="2366640"/>
              <a:ext cx="0" cy="77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>
              <a:off x="4313160" y="3144600"/>
              <a:ext cx="113040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>
              <a:off x="4313160" y="2366640"/>
              <a:ext cx="1130400" cy="77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2182680" y="1644480"/>
              <a:ext cx="536760" cy="1833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2182680" y="1644480"/>
              <a:ext cx="1166760" cy="1222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2"/>
            <p:cNvSpPr/>
            <p:nvPr/>
          </p:nvSpPr>
          <p:spPr>
            <a:xfrm>
              <a:off x="2108160" y="3163680"/>
              <a:ext cx="9216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1922040" y="29588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682720" y="3441600"/>
              <a:ext cx="9216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1569960" y="2885760"/>
              <a:ext cx="936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3313080" y="2830320"/>
              <a:ext cx="9216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2144880" y="1606320"/>
              <a:ext cx="93600" cy="93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2016000" y="1272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>
              <a:off x="4275000" y="3108240"/>
              <a:ext cx="9396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4312800" y="32382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A(F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1"/>
            <p:cNvSpPr/>
            <p:nvPr/>
          </p:nvSpPr>
          <p:spPr>
            <a:xfrm>
              <a:off x="4275000" y="2330280"/>
              <a:ext cx="9396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4238280" y="2014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5405400" y="3108240"/>
              <a:ext cx="93600" cy="92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5516640" y="3163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5"/>
            <p:cNvSpPr/>
            <p:nvPr/>
          </p:nvSpPr>
          <p:spPr>
            <a:xfrm>
              <a:off x="977760" y="3477960"/>
              <a:ext cx="92160" cy="93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36"/>
          <p:cNvSpPr/>
          <p:nvPr/>
        </p:nvSpPr>
        <p:spPr>
          <a:xfrm>
            <a:off x="108000" y="1413000"/>
            <a:ext cx="7559640" cy="23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1242720" y="1071360"/>
            <a:ext cx="6681960" cy="2935440"/>
            <a:chOff x="1242720" y="1071360"/>
            <a:chExt cx="6681960" cy="2935440"/>
          </a:xfrm>
        </p:grpSpPr>
        <p:sp>
          <p:nvSpPr>
            <p:cNvPr id="255" name="Line 38"/>
            <p:cNvSpPr/>
            <p:nvPr/>
          </p:nvSpPr>
          <p:spPr>
            <a:xfrm>
              <a:off x="1713240" y="1690920"/>
              <a:ext cx="83880" cy="1654200"/>
            </a:xfrm>
            <a:prstGeom prst="line">
              <a:avLst/>
            </a:prstGeom>
            <a:ln w="38160">
              <a:solidFill>
                <a:srgbClr val="0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9"/>
            <p:cNvSpPr/>
            <p:nvPr/>
          </p:nvSpPr>
          <p:spPr>
            <a:xfrm>
              <a:off x="1729080" y="1707120"/>
              <a:ext cx="4140720" cy="15631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40"/>
            <p:cNvSpPr/>
            <p:nvPr/>
          </p:nvSpPr>
          <p:spPr>
            <a:xfrm flipH="1">
              <a:off x="1796760" y="3270240"/>
              <a:ext cx="4072680" cy="74880"/>
            </a:xfrm>
            <a:prstGeom prst="line">
              <a:avLst/>
            </a:prstGeom>
            <a:ln w="38160">
              <a:solidFill>
                <a:srgbClr val="0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5851440" y="2491920"/>
              <a:ext cx="18360" cy="77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>
              <a:off x="5851440" y="2491920"/>
              <a:ext cx="1592280" cy="740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 flipH="1">
              <a:off x="5869800" y="3232440"/>
              <a:ext cx="1573920" cy="37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4"/>
            <p:cNvSpPr/>
            <p:nvPr/>
          </p:nvSpPr>
          <p:spPr>
            <a:xfrm rot="60000">
              <a:off x="7636320" y="304452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 rot="60000">
              <a:off x="5901480" y="209016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 rot="60000">
              <a:off x="5521320" y="3400560"/>
              <a:ext cx="765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100" spc="-1" strike="noStrike">
                  <a:solidFill>
                    <a:srgbClr val="000000"/>
                  </a:solidFill>
                  <a:latin typeface="Arial"/>
                </a:rPr>
                <a:t>A(F)</a:t>
              </a:r>
              <a:endParaRPr b="1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7"/>
            <p:cNvSpPr/>
            <p:nvPr/>
          </p:nvSpPr>
          <p:spPr>
            <a:xfrm rot="60000">
              <a:off x="1508400" y="107352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8"/>
            <p:cNvSpPr/>
            <p:nvPr/>
          </p:nvSpPr>
          <p:spPr>
            <a:xfrm rot="60000">
              <a:off x="1246680" y="3061800"/>
              <a:ext cx="3070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9"/>
            <p:cNvSpPr/>
            <p:nvPr/>
          </p:nvSpPr>
          <p:spPr>
            <a:xfrm rot="60000">
              <a:off x="1679760" y="1657080"/>
              <a:ext cx="8280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50"/>
            <p:cNvSpPr/>
            <p:nvPr/>
          </p:nvSpPr>
          <p:spPr>
            <a:xfrm rot="60000">
              <a:off x="1697040" y="1673280"/>
              <a:ext cx="8100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51"/>
            <p:cNvSpPr/>
            <p:nvPr/>
          </p:nvSpPr>
          <p:spPr>
            <a:xfrm rot="60000">
              <a:off x="1765440" y="3313080"/>
              <a:ext cx="8100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2"/>
            <p:cNvSpPr/>
            <p:nvPr/>
          </p:nvSpPr>
          <p:spPr>
            <a:xfrm rot="60000">
              <a:off x="5837760" y="3238200"/>
              <a:ext cx="8064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3"/>
            <p:cNvSpPr/>
            <p:nvPr/>
          </p:nvSpPr>
          <p:spPr>
            <a:xfrm rot="60000">
              <a:off x="5817960" y="2459880"/>
              <a:ext cx="8100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4"/>
            <p:cNvSpPr/>
            <p:nvPr/>
          </p:nvSpPr>
          <p:spPr>
            <a:xfrm rot="60000">
              <a:off x="7410240" y="3200760"/>
              <a:ext cx="81000" cy="8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5"/>
            <p:cNvSpPr/>
            <p:nvPr/>
          </p:nvSpPr>
          <p:spPr>
            <a:xfrm rot="60000">
              <a:off x="5179320" y="2357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56"/>
            <p:cNvSpPr/>
            <p:nvPr/>
          </p:nvSpPr>
          <p:spPr>
            <a:xfrm rot="60000">
              <a:off x="6386760" y="3314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</a:rPr>
                <a:t>3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7"/>
            <p:cNvSpPr/>
            <p:nvPr/>
          </p:nvSpPr>
          <p:spPr>
            <a:xfrm rot="60000">
              <a:off x="2638440" y="3472920"/>
              <a:ext cx="15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Arial"/>
                </a:rPr>
                <a:t>201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58"/>
            <p:cNvSpPr/>
            <p:nvPr/>
          </p:nvSpPr>
          <p:spPr>
            <a:xfrm rot="60000">
              <a:off x="1364760" y="21610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59"/>
          <p:cNvSpPr/>
          <p:nvPr/>
        </p:nvSpPr>
        <p:spPr>
          <a:xfrm>
            <a:off x="133200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0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＝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DFE</a:t>
            </a:r>
            <a:r>
              <a:rPr b="0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0"/>
              <p:cNvSpPr txBox="1"/>
              <p:nvPr/>
            </p:nvSpPr>
            <p:spPr>
              <a:xfrm>
                <a:off x="1763640" y="5661000"/>
                <a:ext cx="10335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1"/>
              <p:cNvSpPr txBox="1"/>
              <p:nvPr/>
            </p:nvSpPr>
            <p:spPr>
              <a:xfrm>
                <a:off x="5364000" y="4726080"/>
                <a:ext cx="2808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Text Box 62"/>
          <p:cNvSpPr/>
          <p:nvPr/>
        </p:nvSpPr>
        <p:spPr>
          <a:xfrm>
            <a:off x="984240" y="403236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太阳光是平行光线，由此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A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D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3"/>
          <p:cNvSpPr/>
          <p:nvPr/>
        </p:nvSpPr>
        <p:spPr>
          <a:xfrm>
            <a:off x="1332000" y="5157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∴ △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ABO∽△DEF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4"/>
          <p:cNvSpPr/>
          <p:nvPr/>
        </p:nvSpPr>
        <p:spPr>
          <a:xfrm>
            <a:off x="5240160" y="5702400"/>
            <a:ext cx="34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此金字塔的高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34m</a:t>
            </a:r>
            <a:r>
              <a:rPr b="1" i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C276EB3-9D63-4F6C-96AF-C4942EE8900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12720" y="12700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估算河的宽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可以在河对岸选定一个目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近岸取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线且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河垂直，接着在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直的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选择适当的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垂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交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测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S=45m,ST=90m,QR=60m,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河的宽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Q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0393"/>
          <p:cNvPicPr/>
          <p:nvPr/>
        </p:nvPicPr>
        <p:blipFill>
          <a:blip r:embed="rId1"/>
          <a:stretch/>
        </p:blipFill>
        <p:spPr>
          <a:xfrm>
            <a:off x="539640" y="4292640"/>
            <a:ext cx="7993080" cy="2376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5364000" y="3933720"/>
            <a:ext cx="295308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364000" y="5373720"/>
            <a:ext cx="295308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5364000" y="4149720"/>
            <a:ext cx="2953080" cy="1224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5796000" y="357336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5796000" y="3573360"/>
            <a:ext cx="136836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506920" y="631044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5508720" y="56037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35640" y="3328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64000" y="558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6516720" y="558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5608800" y="62514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948360" y="623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7380360" y="6180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6991200" y="54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5753160" y="3530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5753160" y="5575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1"/>
          <p:cNvSpPr/>
          <p:nvPr/>
        </p:nvSpPr>
        <p:spPr>
          <a:xfrm>
            <a:off x="5753160" y="62658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5796000" y="547380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未知"/>
          <p:cNvSpPr/>
          <p:nvPr/>
        </p:nvSpPr>
        <p:spPr>
          <a:xfrm>
            <a:off x="5796000" y="6165720"/>
            <a:ext cx="144360" cy="14472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FB48624-FAB8-4E19-AAC2-0B64CF198E7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0720" y="1270080"/>
            <a:ext cx="87850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95280" y="2349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∵ 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116000" y="3213000"/>
                <a:ext cx="1325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00000" y="4005360"/>
                <a:ext cx="2737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6"/>
          <p:cNvSpPr/>
          <p:nvPr/>
        </p:nvSpPr>
        <p:spPr>
          <a:xfrm>
            <a:off x="684360" y="4941720"/>
            <a:ext cx="59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×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044720" y="5518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364000" y="3213000"/>
            <a:ext cx="295308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5364000" y="4653000"/>
            <a:ext cx="295308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5364000" y="3429000"/>
            <a:ext cx="2953080" cy="1224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5796000" y="2852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796000" y="2852640"/>
            <a:ext cx="136836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5506920" y="5589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508720" y="48830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435640" y="2608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36400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6732720" y="4510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608800" y="55306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948360" y="551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7380360" y="5459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1"/>
          <p:cNvSpPr/>
          <p:nvPr/>
        </p:nvSpPr>
        <p:spPr>
          <a:xfrm>
            <a:off x="69912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753160" y="28098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3"/>
          <p:cNvSpPr/>
          <p:nvPr/>
        </p:nvSpPr>
        <p:spPr>
          <a:xfrm>
            <a:off x="5753160" y="4854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4"/>
          <p:cNvSpPr/>
          <p:nvPr/>
        </p:nvSpPr>
        <p:spPr>
          <a:xfrm>
            <a:off x="5753160" y="5545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未知"/>
          <p:cNvSpPr/>
          <p:nvPr/>
        </p:nvSpPr>
        <p:spPr>
          <a:xfrm>
            <a:off x="5796000" y="475308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5796000" y="5445000"/>
            <a:ext cx="144360" cy="14472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1138320" y="2781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 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QR∽△P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06600" y="60930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河宽大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395280" y="1270080"/>
            <a:ext cx="82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测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QS=45m,ST=90m,QR=60m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河的宽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Q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E6CCFAB-FAA5-4232-AAEF-5B6618AA8D6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872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pic_221062"/>
          <p:cNvPicPr/>
          <p:nvPr/>
        </p:nvPicPr>
        <p:blipFill>
          <a:blip r:embed="rId1"/>
          <a:stretch/>
        </p:blipFill>
        <p:spPr>
          <a:xfrm>
            <a:off x="-103320" y="2987640"/>
            <a:ext cx="9177480" cy="4041720"/>
          </a:xfrm>
          <a:prstGeom prst="rect">
            <a:avLst/>
          </a:prstGeom>
          <a:ln w="0">
            <a:noFill/>
          </a:ln>
        </p:spPr>
      </p:pic>
      <p:sp>
        <p:nvSpPr>
          <p:cNvPr id="337" name="Line 4"/>
          <p:cNvSpPr/>
          <p:nvPr/>
        </p:nvSpPr>
        <p:spPr>
          <a:xfrm>
            <a:off x="250920" y="5753160"/>
            <a:ext cx="371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547640" y="53928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556000" y="54072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755640" y="3429000"/>
            <a:ext cx="1008000" cy="647640"/>
          </a:xfrm>
          <a:prstGeom prst="wedgeRectCallout">
            <a:avLst>
              <a:gd name="adj1" fmla="val -52518"/>
              <a:gd name="adj2" fmla="val 2884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仰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2050920" y="3139920"/>
            <a:ext cx="790560" cy="576360"/>
          </a:xfrm>
          <a:prstGeom prst="wedgeRoundRectCallout">
            <a:avLst>
              <a:gd name="adj1" fmla="val 3013"/>
              <a:gd name="adj2" fmla="val 14366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</a:rPr>
              <a:t>视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4067280" y="4437000"/>
            <a:ext cx="1441440" cy="647640"/>
          </a:xfrm>
          <a:prstGeom prst="wedgeRectCallout">
            <a:avLst>
              <a:gd name="adj1" fmla="val -117180"/>
              <a:gd name="adj2" fmla="val 14852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水平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 flipV="1">
            <a:off x="250920" y="4437000"/>
            <a:ext cx="2449440" cy="13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"/>
          <p:cNvSpPr/>
          <p:nvPr/>
        </p:nvSpPr>
        <p:spPr>
          <a:xfrm flipV="1">
            <a:off x="250920" y="3212640"/>
            <a:ext cx="374472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1638360" y="4564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2657520" y="36385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66560" y="127008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已知左，右并排的两棵大树的高分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=8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D=12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两树的根部的距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D=5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一个身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6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人沿着正对着两棵树的一条水平直路从左向右前进，当他与左边较低的树的距离小于多少米时，就不能看见右边较高的树的顶端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55:09Z</dcterms:created>
  <dc:creator/>
  <dc:description/>
  <cp:keywords/>
  <dc:language>en-US</dc:language>
  <cp:lastModifiedBy/>
  <dcterms:modified xsi:type="dcterms:W3CDTF">2018-03-24T12:55:33Z</dcterms:modified>
  <cp:revision>1</cp:revision>
  <dc:subject/>
  <dc:title/>
</cp:coreProperties>
</file>