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D75-5B44-4296-BFBA-BA0AA314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120-9AC5-472D-B974-985BC0A1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51D-CF7D-42B0-888B-B4BD49B4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02E-A9F2-4435-86AD-17844237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A481-F0AB-4AF8-B535-6450B19A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8722-4B8A-48F6-A30E-C3141C7C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675E-2D83-4E10-BB4D-87F2F12F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FF78-2029-4C2A-BE10-48F52487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8A01-2E9D-4E69-B4B5-A134255B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71D9-3233-4D2A-93C9-ABE57E58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5D6A-C4C3-4B8F-9A25-E8136B6A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8CD-C5D1-467B-8FDF-B5C67216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CE5A-AD97-4522-9D5C-BF56580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1297-2AA1-494B-96E6-5F0A3058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6B7B-19B9-45DF-8B4F-46F38EB5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4BDC-023C-4BE0-ADE0-8C96BE03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3253-14E6-4DAB-A8E6-429C9A96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131F-B78C-47B6-972E-715024F3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0314-9302-40D8-9BDC-586F0FE8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2124-FC23-406C-983D-B2239BA4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0458-AF98-4FB2-A564-0603F71F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8633-9751-4943-97ED-273C9B95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E64-761F-4A7A-8AE6-5D2AEEE4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C091-E03E-4A32-9500-670F8C38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3E604-90D3-46E1-828B-CAE08DE6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653EB-7E6D-4B12-B619-D667E173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0546F-DD9E-4F3D-B2CD-50EF025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0DD8-F8C4-4372-82AD-EE6392F1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34F8-9CC2-4E7B-BFCC-DF450109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E51B-E587-4742-B5F8-5C696668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D81D2-D758-4D4E-B30E-22C0D30E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B064-2910-4D5C-8C43-ED38E6C3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858CB-8B2F-4201-AE81-30913892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C40-00E9-4848-9266-6618B825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310E8-CE7E-4F4A-B002-E53A4F13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1D34-6439-4B80-9CFD-9F6FD223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2063-93A6-4A5C-A5FA-583E3ACD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811EA-0136-46E1-920B-0B9A77B1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945AE-2C27-425B-B971-63F6243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0A072-22EC-414D-BA8A-165AC05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D49E5-C204-4E4B-AC7D-84FDFB01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94EDB-253F-4F85-A8C2-84B57920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15A4-CFB2-4280-BC47-B8E9C878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3C1B1-91E8-4B56-A2ED-3A950442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B59-C0D5-4205-ABB7-CB49D7A7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EFBC-61F0-4AD9-9864-D44573D1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3BC8-BC7D-4F44-87D1-1AB0C6DB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C3152-59EB-44E8-BE18-20F4BA24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9107F-4C1B-4E5B-8D35-64935C49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C50B8-59BE-40BA-B0AD-2881DE09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233EF-B173-442C-A9D5-99A6815B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6164-00D1-4BFE-81BC-A4F0764A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2B2AE-ADF1-42BE-9B43-B08532E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4CA31-7DCB-431A-9F43-6007D50F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F04A3-E27D-4852-9C1F-8D7A767A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1C0-FB72-4DA5-972A-4D2E89F5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E5870-0C7F-41A1-B1F7-F7DA048E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129D7-5E3F-4246-AE1C-11E9CC03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BB87-133A-4826-AF7E-0FA0760A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9754-7544-4593-9C14-AF5FD62A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30AC-2FC2-44C7-94A4-B80DF628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42B48-0A30-4F57-AC13-D80D279B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232F5-9061-465B-A671-E060D299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46971-D8B0-46AE-815D-CAE605F1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6C5E6-A753-45AE-AFCE-302FB95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6EAE2-13AC-4A4B-AD97-8933C7FE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D2B-88C5-46C4-AC08-DBA3986A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436DC-2CEE-4C49-8EE2-660653C6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0A197-1312-4DCB-B813-1299F2E5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64FB3-81C1-436A-B033-AA987C13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17F-8C1A-42CA-8072-B6F5C03B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EB2-AF22-4AE0-9727-4B588AF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0AF-B32B-4A53-B938-83029CD8EC8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4495-F470-4E19-8644-22A982B95C2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A886-16DF-4098-848D-BA2BBE9A410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FB95-1FB6-477A-B0D2-123213E652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4DC6-6AD4-4873-B647-B0669F5A711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761A-B697-492D-9814-3694B07B41C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255760" y="981000"/>
            <a:ext cx="7365960" cy="1343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623880" y="2565360"/>
            <a:ext cx="11087280" cy="695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431640" y="4149720"/>
            <a:ext cx="108205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912960" y="981000"/>
            <a:ext cx="10299600" cy="48387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912960" y="2565360"/>
            <a:ext cx="643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030320" y="3067200"/>
            <a:ext cx="643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957240" y="3535200"/>
            <a:ext cx="8559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090440" y="4048200"/>
            <a:ext cx="8560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971640" y="4483080"/>
            <a:ext cx="8559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001880" y="4951440"/>
            <a:ext cx="10269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1001880" y="5477040"/>
            <a:ext cx="10269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9182160" cy="2162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431640" y="3357720"/>
            <a:ext cx="10630080" cy="24764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"/>
          <p:cNvSpPr/>
          <p:nvPr/>
        </p:nvSpPr>
        <p:spPr>
          <a:xfrm>
            <a:off x="1008000" y="981000"/>
            <a:ext cx="8928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52640" y="1660680"/>
            <a:ext cx="90630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008000" y="2565360"/>
            <a:ext cx="2687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912960" y="981000"/>
            <a:ext cx="10185120" cy="56390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912960" y="1052640"/>
            <a:ext cx="5278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852480" y="1498680"/>
            <a:ext cx="5280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912960" y="1989000"/>
            <a:ext cx="5278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852480" y="2479680"/>
            <a:ext cx="5280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092240" y="2992320"/>
            <a:ext cx="51292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1077840" y="3906720"/>
            <a:ext cx="59454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1047600" y="4776840"/>
            <a:ext cx="5278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1017720" y="5300640"/>
            <a:ext cx="5279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928800" y="5746680"/>
            <a:ext cx="5279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988920" y="6270480"/>
            <a:ext cx="5278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82360" cy="2476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1103400" y="3284640"/>
            <a:ext cx="6845040" cy="742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3"/>
          <a:stretch/>
        </p:blipFill>
        <p:spPr>
          <a:xfrm>
            <a:off x="1103400" y="4095720"/>
            <a:ext cx="9918720" cy="27622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5"/>
          <p:cNvSpPr/>
          <p:nvPr/>
        </p:nvSpPr>
        <p:spPr>
          <a:xfrm>
            <a:off x="1008000" y="4149720"/>
            <a:ext cx="6143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947880" y="4630680"/>
            <a:ext cx="614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933480" y="5132520"/>
            <a:ext cx="614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977760" y="5622840"/>
            <a:ext cx="61452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725400" y="6437160"/>
            <a:ext cx="614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814320" y="907920"/>
            <a:ext cx="10058400" cy="53625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1008000" y="907920"/>
            <a:ext cx="98884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14320" y="1773360"/>
            <a:ext cx="9026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785880" y="2252520"/>
            <a:ext cx="9024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977760" y="2743200"/>
            <a:ext cx="26035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052640" y="3178080"/>
            <a:ext cx="77468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992160" y="3740040"/>
            <a:ext cx="9890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977760" y="4587840"/>
            <a:ext cx="73328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888840" y="5479920"/>
            <a:ext cx="73328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527040" y="907920"/>
            <a:ext cx="10731600" cy="539136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"/>
          <p:cNvSpPr/>
          <p:nvPr/>
        </p:nvSpPr>
        <p:spPr>
          <a:xfrm>
            <a:off x="1103400" y="4508640"/>
            <a:ext cx="662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087560" y="4965840"/>
            <a:ext cx="6626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2217600" y="5445000"/>
            <a:ext cx="8096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2381400" y="5970600"/>
            <a:ext cx="8853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103400" y="907920"/>
            <a:ext cx="8889840" cy="56484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3"/>
          <p:cNvSpPr/>
          <p:nvPr/>
        </p:nvSpPr>
        <p:spPr>
          <a:xfrm>
            <a:off x="1103400" y="907920"/>
            <a:ext cx="912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969840" y="1398600"/>
            <a:ext cx="912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954000" y="1901880"/>
            <a:ext cx="9122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060560" y="2414520"/>
            <a:ext cx="912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1181160" y="2916360"/>
            <a:ext cx="912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1255680" y="3373560"/>
            <a:ext cx="912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181160" y="3875040"/>
            <a:ext cx="912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1181160" y="4332240"/>
            <a:ext cx="912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1060560" y="4822920"/>
            <a:ext cx="8807400" cy="85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1046160" y="5670720"/>
            <a:ext cx="8807400" cy="85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4:06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