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BF7-DBFD-46A8-8461-C3FFBF11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2B8-60B7-49B7-9BE0-9E2C02D1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DEB-01F1-48DD-8FF3-3D182982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D04-A9BF-4F92-9C3C-66F8E84F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AA35-6542-4FB1-B703-D73E398F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9BA6-7885-4E50-ACBB-AC2100EA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5995-CEBA-40DA-93B0-46839533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36EA-252D-43DE-8205-1DFFE887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771C-1964-49C1-95B6-5ECEDB89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77F7-A19D-4F6B-AA37-0C51C72E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38AC-9B94-4761-8D09-5E3EE515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200-BB2E-447A-AEBF-0D5D3785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1561-A43F-47D0-BDB9-6E2C92FB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D39F-0F61-4AEE-9C1B-74CED04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E324-D393-4135-905A-DFF78DC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4E11-3149-4584-AEB5-3E3B967A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124D-CAC6-4DD6-AE86-9BDD1EEF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E921E-3E4D-464B-8C26-91CE1C4D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15B7-BFFB-4450-B4ED-5C2FFAC7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16C8-52A4-4806-9499-B0B4AA23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83A2-E572-421A-8A61-3F8B9FA1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0907-1330-4C3F-B46A-74DFFE40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436-D961-4260-B521-7C3F0844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67DC-1A59-478E-983C-DC305AD3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D728-FF96-43C4-A848-81F7F82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1A7F-CCE8-481B-9ED1-F6C3AEDD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A01E-C939-40D1-AF4A-4B77CD1A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A053-6F7A-4A2F-82A7-A028D72C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D31C-349F-4166-B247-128B655D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778F-D3AA-4F12-8621-A3A1A435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63F4-162A-45D4-8DD1-F73FC899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4028-9622-40B8-A2ED-DAA747DD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D46B-55CD-4E05-97C6-4A1B160B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A2E-3D8D-4984-A62C-3AC34E50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09256-1F03-4630-A046-F9BC5C78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9503B-E528-49DB-AAEA-090FBD3D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F9D19-2D6B-4C4D-B752-A6C56D7B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EF899-2186-495D-8B24-2E87EEF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C50B-1392-4D35-B64A-D4661E57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B488C-8FB8-4A0A-A2B8-5E7834C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BB7E7-1CF0-4BB7-9394-D3AD8A7F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B440-27C3-4F18-9AAA-39D09399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83C6-B064-4406-970D-32F86F0F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B816-C0BE-497B-BF19-87E76FEC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7EA-C18D-4229-ACCE-78BEFF5F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93BA7-5732-40E1-8C3D-47E2D686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772E8-1B14-4FA7-8B44-B7FCB4D9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1EDC5-9866-4ED7-B3AC-71709CF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EBF12-9980-4431-BE0B-595C4955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1AE8-DD22-4210-9650-3EE2479F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E7B8-0E3E-42CF-8C72-E15528C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44733-B474-4A76-BD3B-C6A5506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94E2-55BB-4552-B668-A81F514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5BF2E-AEBF-44AA-8EA4-3BB801E5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BC37-3D5E-4E44-BE75-296DB5AD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FA6-D2FF-4F57-98EE-85EAAD11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9FA0F-85B8-47EA-A988-19CF6E2A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E74E6-5085-4C1A-A88F-7853CFF2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6646-D909-4511-9ABB-0A6552A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33B73-DE05-4B8F-BB01-C0BE3C2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F67F2-2DA1-46DE-B21F-B03E4F29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D9C10-6C04-4950-B526-390DEE54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1D6A8-A5DC-410B-8A91-422FA794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39621-BC0E-4AB8-ACD5-0CFC9FDD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EE69-767F-47A5-98AE-1453A87E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05B92-CCF5-4279-A099-94CBB979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DF3-3068-4495-A5AE-71553486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A44DC-DCE4-4CE8-8297-FF26CAFC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6CFA-52AE-4B1F-BBC2-695E0EB2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155BE-6ACB-4B0D-A7DD-B94BED02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A1C-8B80-43B3-8D49-0DA204A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B18-A81E-4A80-BAF2-E6F79ED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600-1CFE-4CA8-8D9A-E90BA0B4917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F8CC-B2A3-466E-8205-F6E2152A22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A053-3ADA-436F-8B6F-15AD1851EC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C9D0-40AF-465B-9097-2D4C7A3FC5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73B0-E8E8-41B6-8869-EB2C725ECA6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9003-7AAF-43C6-B10B-E6E49B2945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255760" y="981000"/>
            <a:ext cx="7467840" cy="135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912960" y="2565360"/>
            <a:ext cx="10159920" cy="781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431640" y="3860640"/>
            <a:ext cx="10846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912960" y="1052640"/>
            <a:ext cx="10274040" cy="35049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1008000" y="1125360"/>
            <a:ext cx="4127400" cy="3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096920" y="1704960"/>
            <a:ext cx="4854600" cy="7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096920" y="2641680"/>
            <a:ext cx="476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052640" y="3187800"/>
            <a:ext cx="476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081080" y="3724200"/>
            <a:ext cx="3382920" cy="7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833120" cy="52102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1200240" y="5084640"/>
            <a:ext cx="5856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081080" y="5632560"/>
            <a:ext cx="5857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5283360" cy="53722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1103400" y="981000"/>
            <a:ext cx="3841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135080" y="1504800"/>
            <a:ext cx="384156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1162080" y="2454120"/>
            <a:ext cx="3841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1071720" y="2989440"/>
            <a:ext cx="531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087560" y="3589200"/>
            <a:ext cx="384156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1117440" y="4560840"/>
            <a:ext cx="50612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1163520" y="5464080"/>
            <a:ext cx="26226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623880" y="981000"/>
            <a:ext cx="10769760" cy="49816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"/>
          <p:cNvSpPr/>
          <p:nvPr/>
        </p:nvSpPr>
        <p:spPr>
          <a:xfrm>
            <a:off x="1200240" y="3357720"/>
            <a:ext cx="6527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155600" y="3914640"/>
            <a:ext cx="6527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096920" y="4449600"/>
            <a:ext cx="6527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111320" y="5029200"/>
            <a:ext cx="4430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1320840" y="5565600"/>
            <a:ext cx="6853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5016600" cy="1324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1033560" y="847800"/>
            <a:ext cx="50353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008000" y="1773360"/>
            <a:ext cx="4606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858680" cy="55818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1103400" y="3213000"/>
            <a:ext cx="67197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80920" y="4160880"/>
            <a:ext cx="67201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103400" y="5084640"/>
            <a:ext cx="30733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200240" y="6093000"/>
            <a:ext cx="393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431640" y="876240"/>
            <a:ext cx="10846080" cy="59817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"/>
          <p:cNvSpPr/>
          <p:nvPr/>
        </p:nvSpPr>
        <p:spPr>
          <a:xfrm>
            <a:off x="1008000" y="3213000"/>
            <a:ext cx="672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768240" y="3794040"/>
            <a:ext cx="672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738360" y="4351320"/>
            <a:ext cx="6721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723960" y="4897440"/>
            <a:ext cx="6719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09560" y="5454720"/>
            <a:ext cx="672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709560" y="6002280"/>
            <a:ext cx="672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709560" y="6481800"/>
            <a:ext cx="672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814320" y="907920"/>
            <a:ext cx="8902800" cy="1371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719280" y="1052640"/>
            <a:ext cx="8450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12960" y="1916280"/>
            <a:ext cx="892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4:15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