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2C18-FEC0-406B-BFDA-6212DCF9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8D5-93B6-46AA-BF2E-862917DB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D128-B28E-4955-A13F-B4CF698C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0DD4-1A40-448C-A90F-9D3DF464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05BF-AD31-44F3-BD67-24077FC8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6955-FC3C-430E-BAAC-A1885ADF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97AF-8ACD-492B-8895-21B65C6A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7C4B-5DBD-40EC-81C9-22C910D8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7B92-54A2-4664-A1F4-24C71611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54E2-08A3-4435-B372-FE68EC9A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10FC-1A4C-477A-B24D-1BAB7148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E0BB-B46D-45F3-BF41-EF71A137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2253-8149-4F6E-BA21-EC441E86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BB17-AAC6-4130-83DB-8BA0C955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A06F-9148-4A5A-BE0E-4F9178CC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FA32-C7F8-4078-8C32-DCB3F427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7D3F-6448-44AF-8500-A1365D9F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B9732-F6FD-4F0E-90FF-5C6E6927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6C122-8380-44E0-A04A-4815C84A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CFFB2-17E3-4E7B-9B92-6634A08D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36BB6-6829-45D3-ABF2-8A6C4626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5345C-8B13-4D37-81C8-BB77B3A5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1630-4860-4F88-B482-815C2077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A5BD2-9412-490F-838F-2EF5D6C8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1C0F7-4A21-4C96-9F45-0C3CB652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4F5B1-1F9C-4EC0-8385-14020E17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CC766-EF88-43BB-A41B-83BF52A6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668B0-9F75-4825-8F4A-C40A188B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22B9A-C14E-4F8D-8C4D-402A9488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E8F64-0B6B-447D-BB6A-BA050EDE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53F9F-E0C4-4756-8BDE-22A443A5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9BCC5-C71C-4E47-B147-E034B432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CD2CF-DBA0-4940-83E1-44365641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06DD-0428-4D4D-999D-049CE7D6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5B93D-5398-4046-A54C-6CDEC07B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CC26F-34CE-433A-825E-17FC8304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528B2-FA25-4937-9E4C-F355F6B0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89913-A094-4DC3-A0C5-E024A599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18A72-41AE-4713-808B-00F4CF8F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F227E-98EE-438F-B799-BC542AF8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81A7A-025C-4CC4-887E-FE5D8D8F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90BA8-823D-4BFC-BB1E-AF7DEF8B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BE053-A5EE-4D6D-81B1-98F5A661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440A8-6F59-4F73-B7E3-AF5998AE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80A6-EF85-44BF-B2EE-48B411E8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3E1AF-E0D6-41F5-9070-DFF5DDB5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2B275-B96A-44D2-85DF-D8F0DE11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E4987-E737-48C3-8E1F-59C0D77B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F22C5-9C89-4EA5-B4E8-C1D449A6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80C3A-50E7-41B5-B7EA-FE83B613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F9771-3791-42EA-BBC6-D6B13EF9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9CEA4-B473-4617-8CC8-4795EFA9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9070A-18D2-41E1-A150-FBC64E95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EED7F-2418-498B-AACE-B4F32224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B7E0E-84FA-414E-BE01-BEABB1FE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CDD8-7C0F-47B6-BADD-FF956558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6EA9B-BDEB-4787-A581-43A9D038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CE6EB-E7CD-4E5E-AE42-C0846909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1323D-A78D-4F5A-AC97-513F1AD8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A25AC-9774-4E94-ACAD-F6F497D7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44B2F-00C6-480F-82FB-B255687C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D4747-03D6-4982-935B-46FECFEF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3BA38-9C81-4DC8-858C-0A388C4A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CA404-9895-46C9-9D7A-51FA71CC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72813-F37B-428B-8CB3-5D6ED86B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25A11-73EE-4F8D-8E7A-A255E07D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B69E-9BB3-4421-909A-51AFA593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88014-488C-4268-BDAD-2EA2C78F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B21C9-A392-42BA-BE14-5F34F7E6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A5FB4-A7A2-4D85-A961-7499C4ED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4F10-B6C5-4E4D-A96C-FB7F4C20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23DA-0862-47A1-B1A4-83736759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F755-71C6-4AF2-A578-171738BDAB5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383C-802B-4EC9-BAB4-F3E94466B14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D47B-B9DC-41F9-AB3C-9DA15E879E6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B17C-E035-426C-B327-20D252F6E3E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B861-90F2-49CA-9F90-D409C4CAE5B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AA62-1D48-474C-9468-DC7CD26D519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1871640" y="907920"/>
            <a:ext cx="8458200" cy="12477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"/>
          <p:cNvPicPr/>
          <p:nvPr/>
        </p:nvPicPr>
        <p:blipFill>
          <a:blip r:embed="rId2"/>
          <a:stretch/>
        </p:blipFill>
        <p:spPr>
          <a:xfrm>
            <a:off x="1390680" y="2924280"/>
            <a:ext cx="4419720" cy="31338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3" descr=""/>
          <p:cNvPicPr/>
          <p:nvPr/>
        </p:nvPicPr>
        <p:blipFill>
          <a:blip r:embed="rId3"/>
          <a:stretch/>
        </p:blipFill>
        <p:spPr>
          <a:xfrm>
            <a:off x="6864480" y="3573360"/>
            <a:ext cx="3682800" cy="14004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24"/>
          <p:cNvSpPr/>
          <p:nvPr/>
        </p:nvSpPr>
        <p:spPr>
          <a:xfrm>
            <a:off x="8496360" y="465300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1008000" y="907920"/>
            <a:ext cx="9956880" cy="40579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"/>
          <p:cNvPicPr/>
          <p:nvPr/>
        </p:nvPicPr>
        <p:blipFill>
          <a:blip r:embed="rId2"/>
          <a:stretch/>
        </p:blipFill>
        <p:spPr>
          <a:xfrm>
            <a:off x="1103400" y="5084640"/>
            <a:ext cx="9664560" cy="12286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4"/>
          <p:cNvSpPr/>
          <p:nvPr/>
        </p:nvSpPr>
        <p:spPr>
          <a:xfrm>
            <a:off x="1008000" y="907920"/>
            <a:ext cx="518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036800" y="1498680"/>
            <a:ext cx="5184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1066680" y="2044800"/>
            <a:ext cx="518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1084320" y="2557440"/>
            <a:ext cx="518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965160" y="3092400"/>
            <a:ext cx="518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1160640" y="3651120"/>
            <a:ext cx="6402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1103400" y="4076640"/>
            <a:ext cx="278424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1174680" y="5045040"/>
            <a:ext cx="9615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1252440" y="5538960"/>
            <a:ext cx="663588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008000" y="907920"/>
            <a:ext cx="9893520" cy="9525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334800" y="2133720"/>
            <a:ext cx="10757160" cy="37144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4"/>
          <p:cNvSpPr/>
          <p:nvPr/>
        </p:nvSpPr>
        <p:spPr>
          <a:xfrm>
            <a:off x="1103400" y="907920"/>
            <a:ext cx="9888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1008000" y="1484280"/>
            <a:ext cx="5175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12960" y="981000"/>
            <a:ext cx="991872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1008000" y="981000"/>
            <a:ext cx="98298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1103400" y="836640"/>
            <a:ext cx="9982080" cy="556272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3"/>
          <p:cNvSpPr/>
          <p:nvPr/>
        </p:nvSpPr>
        <p:spPr>
          <a:xfrm>
            <a:off x="1200240" y="3645000"/>
            <a:ext cx="9983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1968480" y="4221000"/>
            <a:ext cx="480060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968480" y="5157720"/>
            <a:ext cx="802656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662120" y="6043680"/>
            <a:ext cx="9983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507960" y="981000"/>
            <a:ext cx="11684160" cy="453384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3"/>
          <p:cNvSpPr/>
          <p:nvPr/>
        </p:nvSpPr>
        <p:spPr>
          <a:xfrm>
            <a:off x="5327640" y="1700280"/>
            <a:ext cx="7682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6888240" y="1711440"/>
            <a:ext cx="7682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6858000" y="2346480"/>
            <a:ext cx="7682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8405640" y="2346480"/>
            <a:ext cx="7686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6381720" y="2970360"/>
            <a:ext cx="7682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7974000" y="2981160"/>
            <a:ext cx="76824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406440" y="981000"/>
            <a:ext cx="11785680" cy="48294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3"/>
          <p:cNvSpPr/>
          <p:nvPr/>
        </p:nvSpPr>
        <p:spPr>
          <a:xfrm>
            <a:off x="11377440" y="1989000"/>
            <a:ext cx="479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9504360" y="3595680"/>
            <a:ext cx="479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11391840" y="5224320"/>
            <a:ext cx="480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457200" y="981000"/>
            <a:ext cx="11734920" cy="41054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7246800" y="4149720"/>
            <a:ext cx="576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520560" y="907920"/>
            <a:ext cx="11671560" cy="248616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"/>
          <p:cNvSpPr/>
          <p:nvPr/>
        </p:nvSpPr>
        <p:spPr>
          <a:xfrm>
            <a:off x="3887640" y="836640"/>
            <a:ext cx="7686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973080" y="2152800"/>
            <a:ext cx="54831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1449360" y="2521080"/>
            <a:ext cx="528948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1465200" y="3100320"/>
            <a:ext cx="289584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527040" y="836640"/>
            <a:ext cx="10744200" cy="522936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3"/>
          <p:cNvSpPr/>
          <p:nvPr/>
        </p:nvSpPr>
        <p:spPr>
          <a:xfrm>
            <a:off x="10032840" y="5157720"/>
            <a:ext cx="768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334800" y="836640"/>
            <a:ext cx="10591920" cy="312408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4"/>
          <p:cNvSpPr/>
          <p:nvPr/>
        </p:nvSpPr>
        <p:spPr>
          <a:xfrm>
            <a:off x="3119400" y="3500280"/>
            <a:ext cx="1057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1390680" y="836640"/>
            <a:ext cx="9232920" cy="32097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527040" y="4229280"/>
            <a:ext cx="10578960" cy="262872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4"/>
          <p:cNvSpPr/>
          <p:nvPr/>
        </p:nvSpPr>
        <p:spPr>
          <a:xfrm>
            <a:off x="1487520" y="6381720"/>
            <a:ext cx="1184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334800" y="836640"/>
            <a:ext cx="106934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23:57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