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51A-6FEA-4991-B8DB-CDB217D3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78C-9931-4205-8B5F-5D73770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CA5-011C-42AC-996C-105BA41F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FFF-A704-4753-AE1B-2A9820DF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71BF-ABEC-4EF2-8B71-76827F7A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0E54-59BA-499A-974F-9FBE57B5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1245-50FF-47F9-8F78-9AC1BC5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D8B6-F1D7-4491-B1B9-30844E1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8D91-E6D0-4341-8783-CA55FA44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8AF-29E8-4AAD-A6D7-BA2670BB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99A3-1ECE-4FC6-84EB-364D154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8EF-FB65-4EC2-BFBE-75A90C0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146-8026-450D-981C-AD40865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BE2-431B-4B38-ADD4-1D9EC57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9361-7E15-4259-9FC9-9E7D7AF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8F3D-D1AB-47C7-9071-7AEE60FA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7D65-DAB8-4321-BC5B-82282A1B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8435-17C6-4BC7-AE03-9BBBAAC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78CF-2401-4C01-96B5-2874376E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96D4-DF96-4578-9687-5084960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0294-1C3F-4FD5-A240-88020749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4690-1E8E-4EC7-AC38-C82D62BD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4C5-39CE-44F7-BF41-238D50A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CB57-2CA5-473C-91E6-CD6CE8A8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1E6E-F4FC-408F-828C-51202F38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61B6-DB90-4395-8375-CEC26DD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A93D-B329-4230-BD80-4CE9188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2F06-CF4F-4795-B4FB-2FA2445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1608-8B7E-459F-B9AF-AA0AE74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3C03-41E9-411D-917B-BE1B5651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0591-10C4-4F2B-9FBB-BC1D7341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AB58-5ADE-4069-881C-D5EEF79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AEE4-18FB-47E8-926A-C02699CD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C11-932A-4FED-A78C-1C7E7224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E15A-1EDE-4957-99E0-ABABF5F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1095-233E-4CAE-8BB8-EB396851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0B83-8870-4B05-BC54-2E21A151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C332-0CCF-4F10-AAB5-9452230B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64AB-9DF0-4D4D-ABC7-A9CFCAF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9038-694C-47A4-981A-FE3B3B3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96DF-54CA-48E1-8229-D04BBC10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7468-4F95-4756-961B-A219992C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B22C-4499-4A35-AA17-7549769D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5828-D4D6-487A-B321-697DB983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166-77EB-4232-BC5B-CC20929D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3A9B-33D3-48BB-AC69-8B98AFE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B424F-DD8C-45B7-9CE6-4853BA7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920AE-9A65-4952-9CA9-1ACECD7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23136-7F3E-44F0-A35E-C4C8ABB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0F15-B69D-4BC0-B3E4-AF94084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FF0E-8E96-470D-8745-AE35B6E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D1DFF-7B9C-4A98-8403-B97D3E2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B7D70-FC05-4363-9AAB-52A9511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13B4-F61B-4589-9F0C-3B70A6F5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56C1-DD59-4225-B15F-4DB57939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0D6-6830-4208-8514-100E8D34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AC200-439D-487B-B5FC-7E607E19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C4BC-0D12-4D2F-90DF-4ED4DE9A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EFBB-793F-4EE6-A577-80E4714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007DC-05F8-45FF-86F0-6418127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1AC8-DED7-4F11-A9CE-5EB4FA4D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B5430-D9D5-40A8-BD05-B99033C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3617-C497-483A-ABCC-BC4783B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1BEE-A355-4A10-9490-CB8D878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CD2A-0F23-4D1E-B557-126BD69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5F74F-37FC-4232-972D-7A6A6FE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A56-F3DC-4BAB-945B-35B33E0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E4D16-D03F-49DC-B655-82E011F1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80D3-77E0-464A-92DE-131B73C7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A1CF-8606-4255-9F37-E6841EBF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9CF-C6C3-4909-984B-A4A25679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129-177D-40AE-BEAE-AAF7E94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E20-090D-4F19-8220-CEA4703F05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0E9C-45ED-4153-BFF3-B36D4482A2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AE1-9E67-46DD-9065-0E3A598D239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C27-6ABC-43F4-8B7B-0BD90B4794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129-4858-417F-86A7-2343A5F373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0903-38DE-4E60-9055-86743EB903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390680" y="1052640"/>
            <a:ext cx="802620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695760" y="1628640"/>
            <a:ext cx="8026200" cy="352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3790800" y="2421000"/>
            <a:ext cx="4330800" cy="37717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5327640" y="59500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39760" y="981000"/>
            <a:ext cx="10655280" cy="45147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912960" y="2060640"/>
            <a:ext cx="6046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988920" y="2584440"/>
            <a:ext cx="592632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927000" y="3510000"/>
            <a:ext cx="604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2720" y="4033800"/>
            <a:ext cx="6046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868320" y="4559400"/>
            <a:ext cx="604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868320" y="5105520"/>
            <a:ext cx="375912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706400" cy="51814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1103400" y="2997360"/>
            <a:ext cx="537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103400" y="3587760"/>
            <a:ext cx="537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117440" y="4191120"/>
            <a:ext cx="5376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176480" y="4770360"/>
            <a:ext cx="973296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206360" y="5640480"/>
            <a:ext cx="8037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969480" cy="1447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239760" y="2492280"/>
            <a:ext cx="10667880" cy="42004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1008000" y="836640"/>
            <a:ext cx="979344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977760" y="1450800"/>
            <a:ext cx="979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912960" y="1989000"/>
            <a:ext cx="6143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10020240" cy="4753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912960" y="981000"/>
            <a:ext cx="57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912960" y="1538280"/>
            <a:ext cx="57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868320" y="2073240"/>
            <a:ext cx="575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985680" y="2608200"/>
            <a:ext cx="575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1566720" y="3166920"/>
            <a:ext cx="564048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677960" y="4076640"/>
            <a:ext cx="564192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738440" y="4979880"/>
            <a:ext cx="919476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182160" cy="18860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1008000" y="981000"/>
            <a:ext cx="621036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008000" y="1916280"/>
            <a:ext cx="9506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08000" y="2421000"/>
            <a:ext cx="3360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8343720" cy="1542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216000" y="2492280"/>
            <a:ext cx="11976120" cy="367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4846680" y="1628640"/>
            <a:ext cx="768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709640" y="2019240"/>
            <a:ext cx="1111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792600" y="2019240"/>
            <a:ext cx="1484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19280" y="2852640"/>
            <a:ext cx="768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8793000" y="4557600"/>
            <a:ext cx="768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8807400" y="5840280"/>
            <a:ext cx="768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317520" y="836640"/>
            <a:ext cx="11874600" cy="52671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11377440" y="2492280"/>
            <a:ext cx="5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41200" y="836640"/>
            <a:ext cx="11950920" cy="3133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62120" y="4005360"/>
            <a:ext cx="11430000" cy="2628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11377440" y="76500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3659040" y="2170080"/>
            <a:ext cx="88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767640" y="2906640"/>
            <a:ext cx="879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907920" y="4857840"/>
            <a:ext cx="7601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671400" y="5326200"/>
            <a:ext cx="764568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700200" y="5916600"/>
            <a:ext cx="10887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566640" y="6262560"/>
            <a:ext cx="10887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642680" cy="31813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9936000" y="314172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912960" y="1197000"/>
            <a:ext cx="1065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846080" cy="4400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9936000" y="198900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4686480" y="4308480"/>
            <a:ext cx="10936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06400" cy="4505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1968480" y="2997360"/>
            <a:ext cx="16318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867960" cy="43149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912960" y="1052640"/>
            <a:ext cx="40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060560" y="1644480"/>
            <a:ext cx="4032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1046160" y="2246400"/>
            <a:ext cx="403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1224000" y="2814480"/>
            <a:ext cx="4032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506600" y="3427560"/>
            <a:ext cx="66927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1833480" y="3919680"/>
            <a:ext cx="4686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1817640" y="4834080"/>
            <a:ext cx="40323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2:30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