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AC1-A49E-4D64-A654-11465EB9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BFD-D988-4D9A-84FD-B5FF59EA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6A6-5AA1-478C-AA1D-11398E20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4A6E-C798-4D69-813B-8CC54951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57B8-B449-46F1-89CC-A3797BE3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62E1-3871-40E8-99CC-DC6D4A58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15CC-E0B1-4156-857D-AD8C1A80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22AE-B59D-4541-8432-503AD73F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008F-583F-42F7-AD1B-CC2DC3CD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D09D-3CB4-4933-A924-9C192305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3FBE-238D-4F4C-81B9-EE4EA519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567-3450-45C0-ADFC-09D3FA55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1B72-9473-41E2-96D6-A720808E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169C-BD76-4599-9C9C-7A3BFD7A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9D96-B737-43A7-A00E-4CF50D9E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9BFB-DAB2-4EFA-80DB-E0E2485A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F402-312D-4D47-AA20-F6EB4D9B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AB922-034B-4C1B-A2F4-04BE12C7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63A2D-93FD-4F2B-B516-30940899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7BE24-28B3-4849-91A8-1EC90AF9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19CB-D21F-45EF-89B6-5685C914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13B64-8BCC-4C1C-87EB-ACDF0CCD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CED-E81F-43F6-9610-32F58A85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F33AF-1BB0-4D83-AF31-700C930C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76DB8-1B18-459D-A903-51985C66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72FDE-4514-4523-A4EF-500F6145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F7552-4C0C-4DBE-8343-5FCDE468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9C28E-7835-4919-9410-8215A566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E5E49-F987-4B2A-A02C-0A8A6D55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5E682-794D-46B3-A108-F8FFC3E8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C22D4-FC2D-4356-BADA-E79E16A5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6C6BC-54CC-4F87-A507-FF268B73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C646B-FA56-4198-B2E9-B1E32FA3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B1F-7D56-4750-8F9A-8F336419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C7197-0118-4CE7-B60F-80ECCD32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37C2E-EB6E-455B-88E0-5747C737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33EDD-84D7-40C8-8A80-839F2ED6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DDE03-E4D4-4DCC-83F4-57C7941C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D541B-5AB5-4487-9FDA-8ADA8A53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87DF6-C442-4DEF-95C7-39EDA72E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2393D-D164-4778-B3AC-169B4938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8F992-1A7D-44F7-8B3F-08A016EE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F5D66-24CC-41F8-8BE6-7C7C3505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1C9ED-00F0-40AD-BECB-E41D5A6F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D1D-05B9-4BDC-8C0C-310C9226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A0898-2879-4138-874D-0DAB500B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D2E76-B9B4-46C3-B152-73572870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22911-3C2C-4E48-A268-2139DA58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2D2AD-C5A1-44BF-A8D5-B26A5C4D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62A4D-B5B5-4893-ACFA-E57D0570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B4E7F-179D-4DAB-9B77-16C07D8F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08DDC-D906-4918-87D6-5413DAE9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AAC5E-90AD-4948-814B-44136164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DBADB-A367-4829-B357-3928108E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8ACF2-7F5B-45B5-9CF9-63F24F40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57D-3B07-4AFE-A134-BA8CD3BB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CAB05-438A-49A0-B2DC-E3DFCDE4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41803-4909-4FA1-A38E-44EF81F3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94833-25C5-4D37-B3F8-D18FC5A5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52984-23F7-4D5F-8FD7-DF5ACFC1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8D580-FF06-44F7-8328-09AD2AA6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DC992-A974-4786-A935-217904D4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43267-EE30-4B11-8D76-4AD914C8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FA033-897D-4020-BD23-A7617A0D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236AC-9B67-4320-A3BF-13E9BD43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F1766-A9AD-4A7C-A3C5-6DE32DF0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B76-0E28-479C-B255-670F05FA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BBF18-0BEF-425F-961A-037B177C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5F8C4-C2B4-4C65-BBFC-2142F000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9C4D3-8159-44A9-8673-D7D270B3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D522-1D40-480B-AAB1-6189EDCC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F01-F797-4463-BB5F-40FB4655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A841-6A10-41D4-A11B-CD7326113AB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6A87-B9AF-4411-99A5-24F91E60092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810F-B3B1-43F7-A672-0103E12CED1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1EF0-733B-4E64-BB22-243251A0BFF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5F5E-7227-4B26-9FC0-1E3A4FBCA5D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245D-ED33-44C7-9A1F-8CCF371681D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3" descr=""/>
          <p:cNvPicPr/>
          <p:nvPr/>
        </p:nvPicPr>
        <p:blipFill>
          <a:blip r:embed="rId1"/>
          <a:stretch/>
        </p:blipFill>
        <p:spPr>
          <a:xfrm>
            <a:off x="203040" y="2238480"/>
            <a:ext cx="117856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247680" y="782640"/>
            <a:ext cx="11696760" cy="1838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2"/>
          <a:stretch/>
        </p:blipFill>
        <p:spPr>
          <a:xfrm>
            <a:off x="235080" y="2657520"/>
            <a:ext cx="11721960" cy="40384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0"/>
          <p:cNvSpPr/>
          <p:nvPr/>
        </p:nvSpPr>
        <p:spPr>
          <a:xfrm>
            <a:off x="5251320" y="2168640"/>
            <a:ext cx="6048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984240" y="3708360"/>
            <a:ext cx="7577280" cy="87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1550880" y="4700520"/>
            <a:ext cx="82044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1373040" y="5235480"/>
            <a:ext cx="82044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1373040" y="5681520"/>
            <a:ext cx="82044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1492200" y="6238800"/>
            <a:ext cx="82044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79360" y="762120"/>
            <a:ext cx="11633400" cy="533376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6"/>
          <p:cNvSpPr/>
          <p:nvPr/>
        </p:nvSpPr>
        <p:spPr>
          <a:xfrm>
            <a:off x="895320" y="4098960"/>
            <a:ext cx="708660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969840" y="4911840"/>
            <a:ext cx="348804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1030320" y="5448240"/>
            <a:ext cx="411336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074600" y="879480"/>
            <a:ext cx="5969160" cy="226692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7"/>
          <p:cNvSpPr/>
          <p:nvPr/>
        </p:nvSpPr>
        <p:spPr>
          <a:xfrm>
            <a:off x="1087560" y="907920"/>
            <a:ext cx="65386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1073160" y="1432080"/>
            <a:ext cx="653904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1087560" y="1900080"/>
            <a:ext cx="65386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1103400" y="2414520"/>
            <a:ext cx="592776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203040" y="768240"/>
            <a:ext cx="11785680" cy="42958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8"/>
          <p:cNvSpPr/>
          <p:nvPr/>
        </p:nvSpPr>
        <p:spPr>
          <a:xfrm>
            <a:off x="895320" y="2314440"/>
            <a:ext cx="61070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998640" y="2805120"/>
            <a:ext cx="61070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925560" y="3297240"/>
            <a:ext cx="61056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1"/>
          <p:cNvSpPr/>
          <p:nvPr/>
        </p:nvSpPr>
        <p:spPr>
          <a:xfrm>
            <a:off x="969840" y="3811680"/>
            <a:ext cx="61056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1147680" y="4324320"/>
            <a:ext cx="6194520" cy="6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54160" y="793800"/>
            <a:ext cx="11683800" cy="58291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6"/>
          <p:cNvSpPr/>
          <p:nvPr/>
        </p:nvSpPr>
        <p:spPr>
          <a:xfrm>
            <a:off x="762120" y="4722840"/>
            <a:ext cx="93168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1238400" y="5481720"/>
            <a:ext cx="58845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1490760" y="6205680"/>
            <a:ext cx="350496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814320" y="765000"/>
            <a:ext cx="7696440" cy="4934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"/>
          <p:cNvPicPr/>
          <p:nvPr/>
        </p:nvPicPr>
        <p:blipFill>
          <a:blip r:embed="rId2"/>
          <a:stretch/>
        </p:blipFill>
        <p:spPr>
          <a:xfrm>
            <a:off x="1066680" y="5772240"/>
            <a:ext cx="7709040" cy="866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"/>
          <p:cNvPicPr/>
          <p:nvPr/>
        </p:nvPicPr>
        <p:blipFill>
          <a:blip r:embed="rId3"/>
          <a:stretch/>
        </p:blipFill>
        <p:spPr>
          <a:xfrm>
            <a:off x="3651120" y="6307200"/>
            <a:ext cx="4622760" cy="35244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18"/>
          <p:cNvSpPr/>
          <p:nvPr/>
        </p:nvSpPr>
        <p:spPr>
          <a:xfrm>
            <a:off x="1073160" y="808200"/>
            <a:ext cx="42624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1073160" y="1287360"/>
            <a:ext cx="42624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0"/>
          <p:cNvSpPr/>
          <p:nvPr/>
        </p:nvSpPr>
        <p:spPr>
          <a:xfrm>
            <a:off x="1042920" y="1711440"/>
            <a:ext cx="42642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984240" y="2157480"/>
            <a:ext cx="77263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2"/>
          <p:cNvSpPr/>
          <p:nvPr/>
        </p:nvSpPr>
        <p:spPr>
          <a:xfrm>
            <a:off x="909720" y="2614680"/>
            <a:ext cx="77263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3"/>
          <p:cNvSpPr/>
          <p:nvPr/>
        </p:nvSpPr>
        <p:spPr>
          <a:xfrm>
            <a:off x="820800" y="3083040"/>
            <a:ext cx="6492960" cy="85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4"/>
          <p:cNvSpPr/>
          <p:nvPr/>
        </p:nvSpPr>
        <p:spPr>
          <a:xfrm>
            <a:off x="655560" y="3997440"/>
            <a:ext cx="772632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5"/>
          <p:cNvSpPr/>
          <p:nvPr/>
        </p:nvSpPr>
        <p:spPr>
          <a:xfrm>
            <a:off x="762120" y="4421160"/>
            <a:ext cx="77263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6"/>
          <p:cNvSpPr/>
          <p:nvPr/>
        </p:nvSpPr>
        <p:spPr>
          <a:xfrm>
            <a:off x="806400" y="4878360"/>
            <a:ext cx="77263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7"/>
          <p:cNvSpPr/>
          <p:nvPr/>
        </p:nvSpPr>
        <p:spPr>
          <a:xfrm>
            <a:off x="776160" y="5346720"/>
            <a:ext cx="77263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8"/>
          <p:cNvSpPr/>
          <p:nvPr/>
        </p:nvSpPr>
        <p:spPr>
          <a:xfrm>
            <a:off x="865080" y="5792760"/>
            <a:ext cx="77263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9"/>
          <p:cNvSpPr/>
          <p:nvPr/>
        </p:nvSpPr>
        <p:spPr>
          <a:xfrm>
            <a:off x="954000" y="6272280"/>
            <a:ext cx="77263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41200" y="544680"/>
            <a:ext cx="11620440" cy="5790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1504800" y="6407280"/>
            <a:ext cx="6743880" cy="44748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4"/>
          <p:cNvSpPr/>
          <p:nvPr/>
        </p:nvSpPr>
        <p:spPr>
          <a:xfrm>
            <a:off x="852480" y="3228840"/>
            <a:ext cx="82645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1046160" y="3730680"/>
            <a:ext cx="805500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1090440" y="4476600"/>
            <a:ext cx="805500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1506600" y="5170320"/>
            <a:ext cx="964548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1386000" y="5694480"/>
            <a:ext cx="8337600" cy="59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1447920" y="6396120"/>
            <a:ext cx="964548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247680" y="804960"/>
            <a:ext cx="11696760" cy="562932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3"/>
          <p:cNvSpPr/>
          <p:nvPr/>
        </p:nvSpPr>
        <p:spPr>
          <a:xfrm>
            <a:off x="939960" y="5280120"/>
            <a:ext cx="232884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1341360" y="5792760"/>
            <a:ext cx="8514000" cy="6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155600" y="1085760"/>
            <a:ext cx="9436320" cy="200988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3"/>
          <p:cNvSpPr/>
          <p:nvPr/>
        </p:nvSpPr>
        <p:spPr>
          <a:xfrm>
            <a:off x="1252440" y="1154160"/>
            <a:ext cx="97948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297080" y="1933560"/>
            <a:ext cx="97948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1252440" y="2625840"/>
            <a:ext cx="809964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228600" y="722160"/>
            <a:ext cx="11734920" cy="577224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3"/>
          <p:cNvSpPr/>
          <p:nvPr/>
        </p:nvSpPr>
        <p:spPr>
          <a:xfrm>
            <a:off x="806400" y="4265640"/>
            <a:ext cx="487224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895320" y="5079960"/>
            <a:ext cx="63612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865080" y="5815080"/>
            <a:ext cx="63612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291960" y="1128600"/>
            <a:ext cx="11607840" cy="46008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6"/>
          <p:cNvSpPr/>
          <p:nvPr/>
        </p:nvSpPr>
        <p:spPr>
          <a:xfrm>
            <a:off x="10991880" y="170028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11036160" y="433224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806400" y="841320"/>
            <a:ext cx="10579320" cy="397188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3"/>
          <p:cNvSpPr/>
          <p:nvPr/>
        </p:nvSpPr>
        <p:spPr>
          <a:xfrm>
            <a:off x="941400" y="874800"/>
            <a:ext cx="104490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808200" y="1376280"/>
            <a:ext cx="10077120" cy="63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79400" y="2077920"/>
            <a:ext cx="6315120" cy="63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880920" y="2860560"/>
            <a:ext cx="55119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792000" y="3362400"/>
            <a:ext cx="527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851040" y="4121280"/>
            <a:ext cx="5275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5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254160" y="693720"/>
            <a:ext cx="11683800" cy="55148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2"/>
          <a:stretch/>
        </p:blipFill>
        <p:spPr>
          <a:xfrm>
            <a:off x="857160" y="6153120"/>
            <a:ext cx="10211040" cy="7048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7"/>
          <p:cNvSpPr/>
          <p:nvPr/>
        </p:nvSpPr>
        <p:spPr>
          <a:xfrm>
            <a:off x="11050560" y="885960"/>
            <a:ext cx="6066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11036160" y="2602080"/>
            <a:ext cx="6048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11066400" y="5791320"/>
            <a:ext cx="6048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54160" y="692280"/>
            <a:ext cx="11683800" cy="46479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"/>
          <p:cNvPicPr/>
          <p:nvPr/>
        </p:nvPicPr>
        <p:blipFill>
          <a:blip r:embed="rId2"/>
          <a:stretch/>
        </p:blipFill>
        <p:spPr>
          <a:xfrm>
            <a:off x="801720" y="5475240"/>
            <a:ext cx="8089920" cy="9241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6"/>
          <p:cNvSpPr/>
          <p:nvPr/>
        </p:nvSpPr>
        <p:spPr>
          <a:xfrm>
            <a:off x="8032680" y="249228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10933200" y="494496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247680" y="995400"/>
            <a:ext cx="11696760" cy="48672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5"/>
          <p:cNvSpPr/>
          <p:nvPr/>
        </p:nvSpPr>
        <p:spPr>
          <a:xfrm>
            <a:off x="8020080" y="293832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0961640" y="5424480"/>
            <a:ext cx="6066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03040" y="746280"/>
            <a:ext cx="1178568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41200" y="766800"/>
            <a:ext cx="11709360" cy="37432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6"/>
          <p:cNvSpPr/>
          <p:nvPr/>
        </p:nvSpPr>
        <p:spPr>
          <a:xfrm>
            <a:off x="11006280" y="1298520"/>
            <a:ext cx="606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8553600" y="272556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7259760" y="4052880"/>
            <a:ext cx="19587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272880" y="736560"/>
            <a:ext cx="11646000" cy="3267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2"/>
          <a:stretch/>
        </p:blipFill>
        <p:spPr>
          <a:xfrm>
            <a:off x="960480" y="3789360"/>
            <a:ext cx="3695760" cy="800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"/>
          <p:cNvPicPr/>
          <p:nvPr/>
        </p:nvPicPr>
        <p:blipFill>
          <a:blip r:embed="rId3"/>
          <a:stretch/>
        </p:blipFill>
        <p:spPr>
          <a:xfrm>
            <a:off x="285840" y="4654440"/>
            <a:ext cx="11620440" cy="20764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8"/>
          <p:cNvSpPr/>
          <p:nvPr/>
        </p:nvSpPr>
        <p:spPr>
          <a:xfrm>
            <a:off x="3274920" y="2257560"/>
            <a:ext cx="96228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1697040" y="3863880"/>
            <a:ext cx="2241720" cy="58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2738520" y="6272280"/>
            <a:ext cx="60624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285840" y="744480"/>
            <a:ext cx="11620440" cy="59911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5"/>
          <p:cNvSpPr/>
          <p:nvPr/>
        </p:nvSpPr>
        <p:spPr>
          <a:xfrm>
            <a:off x="3348000" y="1590840"/>
            <a:ext cx="901800" cy="3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5875200" y="3151080"/>
            <a:ext cx="1660680" cy="61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9:29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