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BFF1-6653-4E8F-A4A4-51B3BCDA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4F6E-257C-421A-8EE0-11E94267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6C0-D53C-44DB-9DFB-A84C2C65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4C67-5F59-4D00-9BE5-58D9EE5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6C90-36DD-4617-A81E-C99CC056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6E44-1F81-498D-B989-D979EB17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A2C7-3506-4467-81C1-47C263B3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78E5-8990-40A5-9908-92DBC5F3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9E3C-E220-46AC-8F20-71884F4E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AA0A-41DE-44B4-8C5F-182AAF4D3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5C06-7D0B-4C10-B9D2-43BB1B45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FE2-BD84-4A72-AB90-50B992D7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645B-E72F-4A03-AE4F-5FB00D51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51DB-FEFD-4D56-8BC8-F280CC1C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250B-BE20-4DDE-ADC9-0C16B63C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84FD-002C-4B12-BCB6-2AA29126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5063-92F7-4A3E-9315-9FFA1DA9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487EF-6121-43CA-A5BA-E1A05BC7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8112-B0CD-45FB-AF8D-973A3F12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AB5E0-742D-498B-9E41-0F8B10B1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BA4D7-C331-4BCB-BF86-805A63D3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EAA0C-8AE6-4C9B-A433-23D5520E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EB6-157B-412B-8B98-3F08789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52B66-3995-4938-B6F4-23B953C1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F736-C465-4F01-B70B-2AE07FD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2A80E-02FA-423A-A96B-82935827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67E3C-7D98-4411-AA7D-33CA97DF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889DB-EF11-4E57-84B0-8941CC46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D86A0-61C7-479D-A85C-672C67FB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69727-8537-4424-9499-667A1238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969E-E23A-4C3C-BDF0-7B6F502E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B6612-ADB3-4962-A9AB-1B55DCAF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3A5CD-6DDF-4AAD-8AC6-9B3C5E22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B02-C1FD-4366-B571-A77585AB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8AEE7-6E32-46FD-9EC3-9177A861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A294-9C9D-4D0F-B005-ADB674E8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831A4-D252-4014-9697-AC5FAE45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2F621-4100-4923-B612-56C6EF6D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01B05-FBAA-4BA8-A8CC-D2E8F757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A689-2557-47A4-9F82-8A4A5497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32773-0BB5-4833-B395-51A26AA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0B2BA-C4C1-4FDE-9E23-0441143F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96C5-CF5D-4DA0-9C41-E3D0391C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A6433-CB9A-4E41-8765-3C40BC000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9C49-A9C3-4A9C-9B13-AACC0B4D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12AAF-7DCB-42EB-B4F5-343DB918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B1282-59D0-40DE-BC87-2F935865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9E74-9B6D-490B-A8D5-DFC5913B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332D1-3721-4ADD-9576-8E86B90C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33DB3-1928-47B0-873E-9881CE64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925A-38E5-4B9B-92C5-853AEEA2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89DE3-D6BC-4EBA-858B-DFFCF15C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10EFE-D99C-49D1-90FC-E1BA960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7034-3CB8-460A-92DC-B08B953B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C45A-3D92-4AD2-95CD-825F34C29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0B9-B0CC-4936-857B-FBFFFB7B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F410-22D8-469C-889C-61A883ED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E1D8-F992-42F6-8AB4-7C604A85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27BB9-6CC9-4B88-B70F-E095E2F6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D953B-DEE6-487D-937C-753C9B2C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C4EED-60B6-4135-98D9-9EBD1985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AAC64-EDDE-4A31-B402-D23DF47A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06080" y="457200"/>
            <a:ext cx="115822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49B85-F827-48C2-B071-423305DC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78FCA-533B-4773-950D-2890F2A4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7526F-0104-416F-B291-D11C1DFF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8E89-0D2B-4A2E-A1A1-EE39704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2B7-9F68-4ECE-A8D9-2EF0F975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EFA52-B366-46E0-B999-1F84CADF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7685E-A649-42C3-B560-77C877E1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2216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238240" y="155412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0608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32216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8238240" y="3918240"/>
            <a:ext cx="3729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F2089-6F55-45A2-9E7A-428E3ACB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341040" y="391824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D257-651E-45D8-8267-99E67B6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608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341040" y="1554120"/>
            <a:ext cx="5652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6080" y="3918240"/>
            <a:ext cx="1158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C7F-7BAA-4E9B-9915-C2722615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D6BE-57A1-425A-A8A6-961205D56BE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54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57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直接连接符 12"/>
          <p:cNvGrpSpPr/>
          <p:nvPr/>
        </p:nvGrpSpPr>
        <p:grpSpPr>
          <a:xfrm>
            <a:off x="682560" y="5340240"/>
            <a:ext cx="11515680" cy="23760"/>
            <a:chOff x="682560" y="5340240"/>
            <a:chExt cx="11515680" cy="23760"/>
          </a:xfrm>
        </p:grpSpPr>
        <p:pic>
          <p:nvPicPr>
            <p:cNvPr id="60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340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8580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7E63-58DE-42A2-971F-EAFD6DEA2CE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0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1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774680" y="76320"/>
            <a:ext cx="3861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10972440" y="6473880"/>
            <a:ext cx="101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4916-837B-4A84-8EE8-6E6FE0B1349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4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157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160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直接连接符 12"/>
          <p:cNvGrpSpPr/>
          <p:nvPr/>
        </p:nvGrpSpPr>
        <p:grpSpPr>
          <a:xfrm>
            <a:off x="682560" y="3432240"/>
            <a:ext cx="11515680" cy="23760"/>
            <a:chOff x="682560" y="3432240"/>
            <a:chExt cx="11515680" cy="23760"/>
          </a:xfrm>
        </p:grpSpPr>
        <p:pic>
          <p:nvPicPr>
            <p:cNvPr id="163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3432240"/>
              <a:ext cx="1151568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8580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C437-9792-430E-960E-5BE4D74EFAB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07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10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13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直接连接符 12"/>
          <p:cNvGrpSpPr/>
          <p:nvPr/>
        </p:nvGrpSpPr>
        <p:grpSpPr>
          <a:xfrm>
            <a:off x="682560" y="6010200"/>
            <a:ext cx="11515680" cy="25560"/>
            <a:chOff x="682560" y="6010200"/>
            <a:chExt cx="11515680" cy="25560"/>
          </a:xfrm>
        </p:grpSpPr>
        <p:pic>
          <p:nvPicPr>
            <p:cNvPr id="216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60102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68580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10972800" y="6477120"/>
            <a:ext cx="10159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D15C-4050-499A-ADAA-0AFA74E895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直接连接符 6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0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直接连接符 8"/>
          <p:cNvGrpSpPr/>
          <p:nvPr/>
        </p:nvGrpSpPr>
        <p:grpSpPr>
          <a:xfrm>
            <a:off x="682560" y="1036800"/>
            <a:ext cx="11515680" cy="29880"/>
            <a:chOff x="682560" y="1036800"/>
            <a:chExt cx="11515680" cy="29880"/>
          </a:xfrm>
        </p:grpSpPr>
        <p:pic>
          <p:nvPicPr>
            <p:cNvPr id="263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682560" y="1036800"/>
              <a:ext cx="1151568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8580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直接连接符 11"/>
          <p:cNvGrpSpPr/>
          <p:nvPr/>
        </p:nvGrpSpPr>
        <p:grpSpPr>
          <a:xfrm>
            <a:off x="682560" y="1047600"/>
            <a:ext cx="11515680" cy="25560"/>
            <a:chOff x="682560" y="1047600"/>
            <a:chExt cx="11515680" cy="25560"/>
          </a:xfrm>
        </p:grpSpPr>
        <p:pic>
          <p:nvPicPr>
            <p:cNvPr id="266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682560" y="1047600"/>
              <a:ext cx="1151568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8580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直接连接符 12"/>
          <p:cNvGrpSpPr/>
          <p:nvPr/>
        </p:nvGrpSpPr>
        <p:grpSpPr>
          <a:xfrm>
            <a:off x="682560" y="5840280"/>
            <a:ext cx="11515680" cy="24120"/>
            <a:chOff x="682560" y="5840280"/>
            <a:chExt cx="11515680" cy="24120"/>
          </a:xfrm>
        </p:grpSpPr>
        <p:pic>
          <p:nvPicPr>
            <p:cNvPr id="269" name="直接连接符 12" descr=""/>
            <p:cNvPicPr/>
            <p:nvPr/>
          </p:nvPicPr>
          <p:blipFill>
            <a:blip r:embed="rId6"/>
            <a:stretch/>
          </p:blipFill>
          <p:spPr>
            <a:xfrm>
              <a:off x="682560" y="5840280"/>
              <a:ext cx="1151568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68580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406080" y="1554120"/>
            <a:ext cx="1158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06080" y="457200"/>
            <a:ext cx="11582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8635680" y="76320"/>
            <a:ext cx="33526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4165560" y="76320"/>
            <a:ext cx="44704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10972800" y="6476760"/>
            <a:ext cx="1015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AB86-B3B1-409F-BA0B-AEF15F32549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1" descr=""/>
          <p:cNvPicPr/>
          <p:nvPr/>
        </p:nvPicPr>
        <p:blipFill>
          <a:blip r:embed="rId1"/>
          <a:stretch/>
        </p:blipFill>
        <p:spPr>
          <a:xfrm>
            <a:off x="527040" y="1052640"/>
            <a:ext cx="11175840" cy="6760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2" descr=""/>
          <p:cNvPicPr/>
          <p:nvPr/>
        </p:nvPicPr>
        <p:blipFill>
          <a:blip r:embed="rId2"/>
          <a:stretch/>
        </p:blipFill>
        <p:spPr>
          <a:xfrm>
            <a:off x="431640" y="3141720"/>
            <a:ext cx="10896840" cy="2124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3"/>
          <p:cNvSpPr/>
          <p:nvPr/>
        </p:nvSpPr>
        <p:spPr>
          <a:xfrm>
            <a:off x="10098000" y="42829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39760" y="981000"/>
            <a:ext cx="10807560" cy="52196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3"/>
          <p:cNvSpPr/>
          <p:nvPr/>
        </p:nvSpPr>
        <p:spPr>
          <a:xfrm>
            <a:off x="1473120" y="2063880"/>
            <a:ext cx="68112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239760" y="981000"/>
            <a:ext cx="10744200" cy="415296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3"/>
          <p:cNvSpPr/>
          <p:nvPr/>
        </p:nvSpPr>
        <p:spPr>
          <a:xfrm>
            <a:off x="1398600" y="2587680"/>
            <a:ext cx="118584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814320" y="981000"/>
            <a:ext cx="10274400" cy="3638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3"/>
          <p:cNvSpPr/>
          <p:nvPr/>
        </p:nvSpPr>
        <p:spPr>
          <a:xfrm>
            <a:off x="996840" y="982800"/>
            <a:ext cx="65214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1281240" y="1473120"/>
            <a:ext cx="65214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1309680" y="2041560"/>
            <a:ext cx="65214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1220760" y="2587680"/>
            <a:ext cx="6297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176480" y="3524400"/>
            <a:ext cx="65214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297080" y="4092480"/>
            <a:ext cx="652140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39760" y="907920"/>
            <a:ext cx="10655280" cy="5619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"/>
          <p:cNvSpPr/>
          <p:nvPr/>
        </p:nvSpPr>
        <p:spPr>
          <a:xfrm>
            <a:off x="863640" y="5564160"/>
            <a:ext cx="10406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174680" y="6099120"/>
            <a:ext cx="104061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9156600" cy="3467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239760" y="4653000"/>
            <a:ext cx="10845720" cy="14572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4"/>
          <p:cNvSpPr/>
          <p:nvPr/>
        </p:nvSpPr>
        <p:spPr>
          <a:xfrm>
            <a:off x="909720" y="914400"/>
            <a:ext cx="924552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895320" y="1828800"/>
            <a:ext cx="655308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865080" y="2352600"/>
            <a:ext cx="53643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747720" y="2832120"/>
            <a:ext cx="53625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8"/>
          <p:cNvSpPr/>
          <p:nvPr/>
        </p:nvSpPr>
        <p:spPr>
          <a:xfrm>
            <a:off x="792000" y="3344760"/>
            <a:ext cx="5362560" cy="42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792000" y="3890880"/>
            <a:ext cx="536256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6172200" y="2286000"/>
            <a:ext cx="4233960" cy="14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008000" y="907920"/>
            <a:ext cx="10033200" cy="574380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3"/>
          <p:cNvSpPr/>
          <p:nvPr/>
        </p:nvSpPr>
        <p:spPr>
          <a:xfrm>
            <a:off x="1042920" y="2509920"/>
            <a:ext cx="51991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1131840" y="3022560"/>
            <a:ext cx="51991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251000" y="3546360"/>
            <a:ext cx="5199120" cy="3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353960" y="4094280"/>
            <a:ext cx="51991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1370160" y="4586400"/>
            <a:ext cx="51973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1339920" y="5143680"/>
            <a:ext cx="5199120" cy="3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896840" cy="563904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1014480" y="2476440"/>
            <a:ext cx="5837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1028880" y="2967120"/>
            <a:ext cx="5837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1042920" y="3513240"/>
            <a:ext cx="583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087560" y="4025880"/>
            <a:ext cx="583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1103400" y="4573440"/>
            <a:ext cx="5837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1220760" y="5065560"/>
            <a:ext cx="583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1668600" y="5611680"/>
            <a:ext cx="5837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1830240" y="6135840"/>
            <a:ext cx="583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8420040" cy="139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"/>
          <p:cNvPicPr/>
          <p:nvPr/>
        </p:nvPicPr>
        <p:blipFill>
          <a:blip r:embed="rId2"/>
          <a:stretch/>
        </p:blipFill>
        <p:spPr>
          <a:xfrm>
            <a:off x="431640" y="2565360"/>
            <a:ext cx="10769760" cy="30574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4"/>
          <p:cNvSpPr/>
          <p:nvPr/>
        </p:nvSpPr>
        <p:spPr>
          <a:xfrm>
            <a:off x="1014480" y="847800"/>
            <a:ext cx="7994520" cy="7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041480" y="1806480"/>
            <a:ext cx="8515440" cy="382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912960" y="907920"/>
            <a:ext cx="10159920" cy="501012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"/>
          <p:cNvSpPr/>
          <p:nvPr/>
        </p:nvSpPr>
        <p:spPr>
          <a:xfrm>
            <a:off x="1087560" y="1027080"/>
            <a:ext cx="57942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954000" y="1528920"/>
            <a:ext cx="57945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836640" y="2119320"/>
            <a:ext cx="57927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954000" y="2532240"/>
            <a:ext cx="57945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1028880" y="3100320"/>
            <a:ext cx="579276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954000" y="3635280"/>
            <a:ext cx="10253880" cy="41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925560" y="4181400"/>
            <a:ext cx="10148760" cy="7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880920" y="5084640"/>
            <a:ext cx="10149120" cy="7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06400" cy="57340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10217160" y="57769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431640" y="836640"/>
            <a:ext cx="10807920" cy="5638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3"/>
          <p:cNvSpPr/>
          <p:nvPr/>
        </p:nvSpPr>
        <p:spPr>
          <a:xfrm>
            <a:off x="10199520" y="196380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31640" y="907920"/>
            <a:ext cx="10795320" cy="41436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4"/>
          <p:cNvSpPr/>
          <p:nvPr/>
        </p:nvSpPr>
        <p:spPr>
          <a:xfrm>
            <a:off x="10155240" y="250992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0126800" y="4092480"/>
            <a:ext cx="5745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31640" y="981000"/>
            <a:ext cx="10884240" cy="37720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1103400" y="4941720"/>
            <a:ext cx="10198080" cy="4762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10350360" y="43275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334800" y="981000"/>
            <a:ext cx="10871280" cy="487692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3"/>
          <p:cNvSpPr/>
          <p:nvPr/>
        </p:nvSpPr>
        <p:spPr>
          <a:xfrm>
            <a:off x="10083960" y="20750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527040" y="907920"/>
            <a:ext cx="10744200" cy="55627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3"/>
          <p:cNvSpPr/>
          <p:nvPr/>
        </p:nvSpPr>
        <p:spPr>
          <a:xfrm>
            <a:off x="10231560" y="235440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1563840" y="5978520"/>
            <a:ext cx="887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334800" y="847800"/>
            <a:ext cx="10909440" cy="60102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6796080" y="6423120"/>
            <a:ext cx="9050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334800" y="907920"/>
            <a:ext cx="10782360" cy="44960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8402760" y="1450800"/>
            <a:ext cx="1127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623960" y="4549680"/>
            <a:ext cx="76824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1T07:47:00Z</dcterms:created>
  <dc:creator/>
  <dc:description/>
  <dc:language>en-US</dc:language>
  <cp:lastModifiedBy>DELL-00</cp:lastModifiedBy>
  <dcterms:modified xsi:type="dcterms:W3CDTF">2018-03-25T13:30:16Z</dcterms:modified>
  <cp:revision>1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7</vt:lpwstr>
  </property>
</Properties>
</file>